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897-FD7C-4484-9624-D25D9597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41B-F1D2-4FF4-A2C3-85B0187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BBD-A154-4673-9AD7-1A2A4E74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B8C-1894-4442-9B30-A34D1460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8C0-2860-4E86-8E12-9769A78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CA0-A939-4EF3-A97F-FEFB75EF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9A9-86A2-4E73-8EB1-86D03777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2815-F8AE-4E58-BF4A-28768339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70D-43BD-4551-B14E-CA3432F9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B466-5F6B-4381-93AE-2C8B1855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CAC6-3BB5-494B-B676-DDE8A6B5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666-19BE-4B26-B54A-659FD641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B882-831E-4D05-8F21-674388F8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30040" y="17161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set up sweep pointer; begin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6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25880" y="171612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add unmarked blocks to fre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239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1616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4444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24080" y="1716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 retain &amp; unmark mark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813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1814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0101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 A survey of common garbage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(Appel 1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(Appel 1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 (Appel 1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er’s algorithm (Appel 1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collection (Appel 1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terface (1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4360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77188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77840" y="171612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GC complete when heap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ed; resu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763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59140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Mark 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llection returns H - R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allocated word, we have GC c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-sweep requires extra space like copying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dde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fty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-Schorr-Waite pointer re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using a recursive algorithm, reuse the components of the graph you are traversing to build an explicit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mplementation trick only demands a few extra bits/block rather than an entire activation record/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needed a few extra bits per block to hold the “mark”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07960" y="6019920"/>
            <a:ext cx="48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bits needed to keep track of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ields we have process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o-sp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rom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heny’s algorith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pointer: where to 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 pointer: what to copy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5320" y="4724280"/>
            <a:ext cx="136692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5320" y="570384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5320" y="550224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5320" y="4816440"/>
            <a:ext cx="137160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5320" y="458784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30880" y="5153040"/>
            <a:ext cx="380880" cy="181080"/>
          </a:xfrm>
          <a:prstGeom prst="rightArrow">
            <a:avLst>
              <a:gd name="adj1" fmla="val 50000"/>
              <a:gd name="adj2" fmla="val 52584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75200" y="4724280"/>
            <a:ext cx="136692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238520" y="615636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5610240"/>
            <a:ext cx="317160" cy="18108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5562720"/>
            <a:ext cx="798480" cy="45720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464832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6311880"/>
            <a:ext cx="1371600" cy="317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200400" y="5562720"/>
            <a:ext cx="28195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6172200"/>
            <a:ext cx="1371600" cy="1364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84880" y="6095880"/>
            <a:ext cx="635040" cy="45720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200400" y="4952880"/>
            <a:ext cx="281952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space required for swe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t/record to keep track of whether the record has been seen (the “mark bi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log 2 bits/record where f is the number of fields in the record to keep track of how many fields have been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 field of each record x: x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ts x’s mar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’s mark bit i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inter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 is a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elds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turns number of fields in the recor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424040" y="297180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next is object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11440" y="3565440"/>
            <a:ext cx="46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one[next] is field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133720" y="3200400"/>
            <a:ext cx="2133360" cy="6858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048120" y="3809880"/>
            <a:ext cx="1218960" cy="4572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412160" y="2286000"/>
            <a:ext cx="44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call dfs passing each root as next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1828440" y="1676160"/>
            <a:ext cx="2590920" cy="6858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31360" y="3124080"/>
            <a:ext cx="2210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66880" y="2819520"/>
            <a:ext cx="2210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97180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118200" y="5638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18200" y="6172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184880" y="626436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6705360" y="57913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051520" y="571500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48040" y="5638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18000" y="6172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23960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990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705720" y="6400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5889600" y="6400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203800" y="5943600"/>
            <a:ext cx="96840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499080" y="61722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118200" y="5638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18200" y="6172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184880" y="626436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66120" y="641664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5051520" y="571500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8040" y="5638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518000" y="6172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871400" y="63244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49908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6270480" y="5943600"/>
            <a:ext cx="45720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889600" y="64008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03800" y="6324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499080" y="6172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727680" y="6400800"/>
            <a:ext cx="45720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629400" y="41911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67000" y="4022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itializ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it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894360" y="48769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133040" y="4937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eld is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te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085880" y="23623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fs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7086240" y="28954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next.d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done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466760" y="50292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van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48006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rk-Sw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ollectors can benefit from the tricks used to implement malloc/fre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ree lists, one size of block/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an suffer from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not copied and compacted like in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doesn’t require 2x live data size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the ratio of live data to heap size is too large then performance s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ecise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d by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st 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arching for free block to allocate; just limit check and pointer b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ouch reachable data.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pying a block costs c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R reachable blocks ==&gt; R*c instructions p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heap has size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N of words allocated in between collections:  H/2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per word allocated:  R*c /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the cost look like as a function of R and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languages like C can benefit from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hm-Weiser-Demers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ervative G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s heuristics to determine which objects are pointers and which are integers without any langu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2 bits are non-zero =&gt; can’t be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is not in allocated heap range =&gt; can’t be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hase traverses all possible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rvative because it may retain data that isn’t reach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s an integer is actually a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it does not copy objects (thereby changing pointer values), mistaking integers for pointers does not hu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gc is conservative anyway so this is almost never an issue (despite what people s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if your program doesn’t manufacture pointers from integers by, say, using xor (using normal pointer arithmetic is f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 to the garbage collector involves two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can allocate up to approx 1 word/7 instr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code must b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lazing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inlined and optimized to avoid call-return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l gc code, the program must identify the 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averse data, heap layout must be specified some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73148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924680" y="434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6560" y="3565440"/>
            <a:ext cx="231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fu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t alloc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257440" y="3200400"/>
            <a:ext cx="2514600" cy="129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4114800" y="2362320"/>
            <a:ext cx="3657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85520" y="2193840"/>
            <a:ext cx="77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7391160" y="2895480"/>
            <a:ext cx="1066680" cy="1828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543800" y="2819520"/>
            <a:ext cx="45720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983720" y="219384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7772400" y="3505320"/>
            <a:ext cx="533520" cy="1676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324120" y="3276720"/>
            <a:ext cx="167652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984800" y="2438280"/>
            <a:ext cx="119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i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056600" y="600408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overhead for allocation on the order of 3 instructions/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oo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C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an control-flow point where the garbage collector may b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point; functi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GC-point, compiler generates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inter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ays which registers, stack locations in the current frame contain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bal table maps GC-points (code addresses) to pointe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gram calls the GC, to find all roo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scans down stack, one activation record at a time, looking up the current pointer map for tha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GC to determi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ta lay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bjects in the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L, Tiger, Pas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cord has a header with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ava, Modula-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n extra field that points to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uses class definition to determine object layout including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split into new and old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ollections (frequent) collect new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roots &amp; remembered set and do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py objects in old gener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llections collect all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32320" y="43434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32320" y="5181480"/>
            <a:ext cx="1676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27400" y="51814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5680" y="5699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94960" y="455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1920" y="51055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Size = 2*new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36880" y="4495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4080" y="44197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2680" y="61722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8120" y="47242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3688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7040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89520" y="5791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370040" y="49528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13200" y="47242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9895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42000" y="4952880"/>
            <a:ext cx="914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6160" y="502920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ed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99000" y="5257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14180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89160" y="55627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037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750920" y="6324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7800" y="6248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95320" y="4343400"/>
            <a:ext cx="903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9640" y="4114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572000"/>
            <a:ext cx="304920" cy="76212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cubicBezTo>
                  <a:pt x="72" y="56"/>
                  <a:pt x="144" y="112"/>
                  <a:pt x="144" y="192"/>
                </a:cubicBezTo>
                <a:cubicBezTo>
                  <a:pt x="144" y="272"/>
                  <a:pt x="72" y="376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s are a complex and fascinating part of any modern languag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lection algs have 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MM, reference counting, copying, generational, mark-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thods, including explicit MM hav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s make allocation fast, GC time, space and latency requirement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ppel Chapter 13 and be able to analyze, compare and contrast different GC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split into new and old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collections (frequent) collect new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roots &amp; remembered set and do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py objects in old gener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ollections collect all gen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copy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32320" y="4343400"/>
            <a:ext cx="1676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2320" y="5181480"/>
            <a:ext cx="16761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6880" y="449568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94080" y="44197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22680" y="617220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8120" y="47242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688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70400" y="53341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89520" y="57913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13200" y="472428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989520" y="44956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42000" y="4952880"/>
            <a:ext cx="914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99000" y="5257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41800" y="55627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989160" y="55627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750920" y="6324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7800" y="62485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9640" y="41148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572000"/>
            <a:ext cx="304920" cy="762120"/>
          </a:xfrm>
          <a:custGeom>
            <a:avLst/>
            <a:gdLst/>
            <a:ahLst/>
            <a:rect l="l" t="t" r="r" b="b"/>
            <a:pathLst>
              <a:path w="144" h="480">
                <a:moveTo>
                  <a:pt x="0" y="0"/>
                </a:moveTo>
                <a:cubicBezTo>
                  <a:pt x="72" y="56"/>
                  <a:pt x="144" y="112"/>
                  <a:pt x="144" y="192"/>
                </a:cubicBezTo>
                <a:cubicBezTo>
                  <a:pt x="144" y="272"/>
                  <a:pt x="72" y="376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51814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95680" y="5699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94960" y="455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1920" y="5105520"/>
            <a:ext cx="25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Size = 2*new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03720" y="43434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556272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867280"/>
            <a:ext cx="22860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571640" y="5486040"/>
            <a:ext cx="30492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486400"/>
            <a:ext cx="30492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952880" y="4495680"/>
            <a:ext cx="609840" cy="10670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324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:  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per word allocated:  R*c / N 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ing a block costs c instructions (say c =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reachable bloc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 has size 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= H/2 –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copying colle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 = 4R implies 75% wasted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= R*10 / (4*R/2 – R) = R*10/R = 10 instructions/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al G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young generation is 10% reachable; YH = 10 *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= R*10/(10*R/2 – R) = 2.5 instructions/al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0.1 MB young generation data is reachable, 1 MB wasted space in young gener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ulti-generation system has 50 MB total, 1 MB is not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larger R-H ratio in older gen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ing remembered set takes time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old generation is mark-swe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6324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-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th first traversal of object graph from the roots to mark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580716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7:42:40Z</dcterms:created>
  <dc:creator>CS</dc:creator>
  <dc:description/>
  <dc:language>en-US</dc:language>
  <cp:lastModifiedBy>CS</cp:lastModifiedBy>
  <dcterms:modified xsi:type="dcterms:W3CDTF">2004-04-27T18:15:10Z</dcterms:modified>
  <cp:revision>24</cp:revision>
  <dc:subject/>
  <dc:title>Garbage collection</dc:title>
</cp:coreProperties>
</file>