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2EC-1714-4BF4-BFD6-51121B3D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32F-B73A-42CE-8D6C-5C2D5E12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9A6-75E8-4D99-B7B7-305D8421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2AA-A902-4A74-9207-FEDCC130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F12-070F-4BAD-B7A2-A2478F5C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F21-E4F5-4972-94E3-285E0BB9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AAC-4C5B-45ED-AF82-6D47F243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B29-43F8-4CBE-8BDA-B00E8140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6A0-A855-477F-8324-6184BC4E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ED3-4473-471A-8595-871D4BF6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76B-C148-42A3-B038-C651D053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C8A-EBB1-4AF6-852A-D4C51FAC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8DD1-BDAA-4E22-BC2C-2CE10199D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30040" y="171612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set up sweep pointer; begin 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6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25880" y="171612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add unmarked blocks to fre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239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1616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4444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24080" y="171612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 retain &amp; unmark mark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1144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39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1144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39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526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813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1814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101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ime:  A survey of common garbage collect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mem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 (Appel 13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(Appel 13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 (Appel 13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ker’s algorithm (Appel 13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 collection (Appel 1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terface (13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436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7188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371600" y="3035160"/>
            <a:ext cx="3886200" cy="698760"/>
          </a:xfrm>
          <a:custGeom>
            <a:avLst/>
            <a:gdLst/>
            <a:ahLst/>
            <a:rect l="l" t="t" r="r" b="b"/>
            <a:pathLst>
              <a:path w="2448" h="440">
                <a:moveTo>
                  <a:pt x="2448" y="440"/>
                </a:moveTo>
                <a:cubicBezTo>
                  <a:pt x="2052" y="228"/>
                  <a:pt x="1656" y="16"/>
                  <a:pt x="1248" y="8"/>
                </a:cubicBezTo>
                <a:cubicBezTo>
                  <a:pt x="840" y="0"/>
                  <a:pt x="420" y="196"/>
                  <a:pt x="0" y="392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295280" y="3885840"/>
            <a:ext cx="3962520" cy="114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1295280" y="3885840"/>
            <a:ext cx="3962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77840" y="1716120"/>
            <a:ext cx="70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GC complete when heap bound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ed; resum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76312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59140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035160"/>
            <a:ext cx="3886200" cy="698760"/>
          </a:xfrm>
          <a:custGeom>
            <a:avLst/>
            <a:gdLst/>
            <a:ahLst/>
            <a:rect l="l" t="t" r="r" b="b"/>
            <a:pathLst>
              <a:path w="2448" h="440">
                <a:moveTo>
                  <a:pt x="2448" y="440"/>
                </a:moveTo>
                <a:cubicBezTo>
                  <a:pt x="2052" y="228"/>
                  <a:pt x="1656" y="16"/>
                  <a:pt x="1248" y="8"/>
                </a:cubicBezTo>
                <a:cubicBezTo>
                  <a:pt x="840" y="0"/>
                  <a:pt x="420" y="196"/>
                  <a:pt x="0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of Mark Sw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llection returns H - 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allocated word, we have GC c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-sweep requires extra space like copying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dden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ifty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-Schorr-Waite pointer re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using a recursive algorithm, reuse the components of the graph you are traversing to build an explicit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mplementation trick only demands a few extra bits/block rather than an entire activation record/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ready needed a few extra bits per block to hold the “mark”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53080" y="4419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553080" y="4952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391520" y="5486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777204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5486040" y="449568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182920" y="4419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2880" y="4952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07768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934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6705720" y="4723920"/>
            <a:ext cx="457200" cy="381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6324120" y="5181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638680" y="5105160"/>
            <a:ext cx="838440" cy="75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657600" y="4876920"/>
            <a:ext cx="380880" cy="304560"/>
          </a:xfrm>
          <a:custGeom>
            <a:avLst/>
            <a:gdLst>
              <a:gd name="textAreaLeft" fmla="*/ 47520 w 380880"/>
              <a:gd name="textAreaRight" fmla="*/ 33336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934320" y="4952880"/>
            <a:ext cx="3808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553080" y="4419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53080" y="4952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391520" y="5486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777204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5486040" y="449568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82920" y="4419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952880" y="4952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07768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934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6705720" y="4723920"/>
            <a:ext cx="457200" cy="381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324120" y="5181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638680" y="5105160"/>
            <a:ext cx="838440" cy="75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657600" y="4876920"/>
            <a:ext cx="380880" cy="304560"/>
          </a:xfrm>
          <a:custGeom>
            <a:avLst/>
            <a:gdLst>
              <a:gd name="textAreaLeft" fmla="*/ 47520 w 380880"/>
              <a:gd name="textAreaRight" fmla="*/ 33336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934320" y="4952880"/>
            <a:ext cx="3808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07960" y="6019920"/>
            <a:ext cx="48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bits needed to keep track of wh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fields we have processed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wit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o-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rom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eny’s algorith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pointer: where to 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pointer: what to copy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5320" y="4724280"/>
            <a:ext cx="1366920" cy="190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5320" y="570384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5320" y="5502240"/>
            <a:ext cx="1371600" cy="136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5320" y="4816440"/>
            <a:ext cx="137160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5320" y="4587840"/>
            <a:ext cx="1371600" cy="136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30880" y="5153040"/>
            <a:ext cx="380880" cy="181080"/>
          </a:xfrm>
          <a:prstGeom prst="rightArrow">
            <a:avLst>
              <a:gd name="adj1" fmla="val 50000"/>
              <a:gd name="adj2" fmla="val 52584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75200" y="4724280"/>
            <a:ext cx="1366920" cy="190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238520" y="61563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5610240"/>
            <a:ext cx="317160" cy="18108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5562720"/>
            <a:ext cx="798480" cy="45720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464832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6311880"/>
            <a:ext cx="1371600" cy="317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200400" y="5562720"/>
            <a:ext cx="28195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6172200"/>
            <a:ext cx="1371600" cy="136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84880" y="6095880"/>
            <a:ext cx="635040" cy="45720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200400" y="4952880"/>
            <a:ext cx="281952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space required for swe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t/record to keep track of whether the record has been seen (the “mark bi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log 2 bits/record where f is the number of fields in the record to keep track of how many fields have been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a field of each record x: x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rk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ets x’s mar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rked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ue if x’s mark bit is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inter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ue if x is a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elds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turns number of fields in the recor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424040" y="297180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next is object being processe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11440" y="3565440"/>
            <a:ext cx="46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one[next] is field being processe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133720" y="3200400"/>
            <a:ext cx="2133360" cy="6858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3048120" y="3809880"/>
            <a:ext cx="1218960" cy="457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412160" y="228600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call dfs passing each root as next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1828440" y="1676160"/>
            <a:ext cx="2590920" cy="6858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031360" y="3124080"/>
            <a:ext cx="2210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i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666880" y="2819520"/>
            <a:ext cx="22100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2971800"/>
            <a:ext cx="2210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29400" y="32767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864840" y="344016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use fiel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 back p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118200" y="5638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18200" y="6172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184880" y="626436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6705360" y="57913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051520" y="571500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748040" y="5638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518000" y="6172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23960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49908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705720" y="64008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5889600" y="6400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203800" y="5943600"/>
            <a:ext cx="968400" cy="4572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499080" y="61722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2767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64840" y="344016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use fiel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 back p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118200" y="5638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118200" y="6172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184880" y="626436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7566120" y="641664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5051520" y="571500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8040" y="5638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518000" y="6172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871400" y="63244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49908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6270480" y="5943600"/>
            <a:ext cx="45720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889600" y="6400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03800" y="6324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499080" y="6172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727680" y="6400800"/>
            <a:ext cx="45720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629400" y="4191120"/>
            <a:ext cx="228600" cy="506160"/>
          </a:xfrm>
          <a:custGeom>
            <a:avLst/>
            <a:gdLst>
              <a:gd name="textAreaLeft" fmla="*/ 0 w 228600"/>
              <a:gd name="textAreaRight" fmla="*/ 82440 w 22860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867000" y="402264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itializ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xt it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894360" y="4876920"/>
            <a:ext cx="228600" cy="506160"/>
          </a:xfrm>
          <a:custGeom>
            <a:avLst/>
            <a:gdLst>
              <a:gd name="textAreaLeft" fmla="*/ 0 w 228600"/>
              <a:gd name="textAreaRight" fmla="*/ 82440 w 22860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133040" y="493704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ield is 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73800" y="3200400"/>
            <a:ext cx="27745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b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xt = nil then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.i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te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3581280" y="6095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3581280" y="3276720"/>
            <a:ext cx="9144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085880" y="236232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fs compl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7086240" y="28954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573800" y="3200400"/>
            <a:ext cx="27745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b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xt = nil then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.i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581280" y="6095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581280" y="3276720"/>
            <a:ext cx="9144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466760" y="502920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vanc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xt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480060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Mark-Swee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collectors can benefit from the tricks used to implement malloc/free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free lists, one size of block/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can suffer from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not copied and compacted like in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doesn’t require 2x live data size to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f the ratio of live data to heap size is too large then performance s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ecise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d by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ast 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arching for free block to allocate; just limit check and pointer b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ouch reachable data.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pying a block costs c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R reachable blocks ==&gt; R*c instructions per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heap has size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N of words allocated in between collections:  H/2 –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per word allocated:  R*c /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cost look like as a function of R and 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rvativ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languages like C can benefit from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hm-Weiser-Demers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ervative G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s heuristics to determine which objects are pointers and which are integers without any languag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2 bits are non-zero =&gt; can’t be a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is not in allocated heap range =&gt; can’t be a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hase traverses all possible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rvative because it may retain data that isn’t reach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s an integer is actually a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it does not copy objects (thereby changing pointer values), mistaking integers for pointers does not hu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c is conservative anyway so this is almost never an issue (despite what people s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if your program doesn’t manufacture pointers from integers by, say, using xor (using normal pointer arithmetic is f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face to the garbage collector involves two main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 can allocate up to approx 1 word/7 instr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code must b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lazing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inlined and optimized to avoid call-return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l gc code, the program must identify the 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raverse data, heap layout must be specified some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llo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from allo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7314840" y="4343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7924680" y="434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6560" y="3565440"/>
            <a:ext cx="231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fu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ot alloc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257440" y="3200400"/>
            <a:ext cx="2514600" cy="1295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114800" y="2362320"/>
            <a:ext cx="3657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85520" y="2193840"/>
            <a:ext cx="77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7391160" y="2895480"/>
            <a:ext cx="1066680" cy="18288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543800" y="2819520"/>
            <a:ext cx="45720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983720" y="2193840"/>
            <a:ext cx="11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7772400" y="3505320"/>
            <a:ext cx="533520" cy="16761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324120" y="3276720"/>
            <a:ext cx="167652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984800" y="2438280"/>
            <a:ext cx="119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li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056600" y="6004080"/>
            <a:ext cx="72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tal overhead for allocation on the order of 3 instructions/all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G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l the GC, program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oo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C-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an control-flow point where the garbage collector may be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point; function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GC-point, compiler generates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inter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says which registers, stack locations in the current frame contain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bal table maps GC-points (code addresses) to pointer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ogram calls the GC, to find all roo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scans down stack, one activation record at a time, looking up the current pointer map for tha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G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l the GC, program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GC to determi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ata lay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bjects in the 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L, Tiger, Pas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record has a header with size and pointer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Java, Modula-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bject has an extra field that points to class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uses class definition to determine object layout including size and pointer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split into new and old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collections (frequent) collect new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from roots &amp; remembered set and do copy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py objects in old gener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ollections collect all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copy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32320" y="4343400"/>
            <a:ext cx="16761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32320" y="5181480"/>
            <a:ext cx="167616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27400" y="51814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95680" y="5699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94960" y="455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1920" y="510552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Size = 2*new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36880" y="44956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4080" y="44197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2680" y="61722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8120" y="47242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36880" y="53341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70400" y="53341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89520" y="57913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370040" y="4952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13200" y="4724280"/>
            <a:ext cx="76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989520" y="44956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42000" y="4952880"/>
            <a:ext cx="9144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6160" y="502920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ed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99000" y="525780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141800" y="5562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989160" y="55627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03720" y="43434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750920" y="63244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7800" y="6248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495320" y="4343400"/>
            <a:ext cx="903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9640" y="4114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4572000"/>
            <a:ext cx="304920" cy="762120"/>
          </a:xfrm>
          <a:custGeom>
            <a:avLst/>
            <a:gdLst/>
            <a:ahLst/>
            <a:rect l="l" t="t" r="r" b="b"/>
            <a:pathLst>
              <a:path w="144" h="480">
                <a:moveTo>
                  <a:pt x="0" y="0"/>
                </a:moveTo>
                <a:cubicBezTo>
                  <a:pt x="72" y="56"/>
                  <a:pt x="144" y="112"/>
                  <a:pt x="144" y="192"/>
                </a:cubicBezTo>
                <a:cubicBezTo>
                  <a:pt x="144" y="272"/>
                  <a:pt x="72" y="376"/>
                  <a:pt x="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ors are a complex and fascinating part of any modern languag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ollection algs have pros/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MM, reference counting, copying, generational, mark-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ethods, including explicit MM hav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s make allocation fast, GC time, space and latency requirements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ppel Chapter 13 and be able to analyze, compare and contrast different GC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split into new and old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collections (frequent) collect new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from roots &amp; remembered set and do copy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py objects in old gener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ollections collect all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copy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32320" y="4343400"/>
            <a:ext cx="16761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32320" y="5181480"/>
            <a:ext cx="167616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36880" y="44956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94080" y="44197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22680" y="61722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18120" y="47242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36880" y="53341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70400" y="53341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9520" y="57913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13200" y="4724280"/>
            <a:ext cx="76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989520" y="44956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42000" y="4952880"/>
            <a:ext cx="9144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99000" y="525780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41800" y="5562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989160" y="55627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750920" y="63244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7800" y="6248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9640" y="4114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572000"/>
            <a:ext cx="304920" cy="762120"/>
          </a:xfrm>
          <a:custGeom>
            <a:avLst/>
            <a:gdLst/>
            <a:ahLst/>
            <a:rect l="l" t="t" r="r" b="b"/>
            <a:pathLst>
              <a:path w="144" h="480">
                <a:moveTo>
                  <a:pt x="0" y="0"/>
                </a:moveTo>
                <a:cubicBezTo>
                  <a:pt x="72" y="56"/>
                  <a:pt x="144" y="112"/>
                  <a:pt x="144" y="192"/>
                </a:cubicBezTo>
                <a:cubicBezTo>
                  <a:pt x="144" y="272"/>
                  <a:pt x="72" y="376"/>
                  <a:pt x="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27400" y="51814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95680" y="5699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94960" y="455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1920" y="510552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Size = 2*new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03720" y="43434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55627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58672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571640" y="5486040"/>
            <a:ext cx="30492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486400"/>
            <a:ext cx="304920" cy="4572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952880" y="4495680"/>
            <a:ext cx="609840" cy="10670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592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6324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per word allocated:  R*c / N  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ing a block costs c instructions (say c =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reachable bloc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 has size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= H/2 –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copying colle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= 4R implies 75% wasted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= R*10 / (4*R/2 – R) = R*10/R = 10 instructions/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al G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young generation is 10% reachable; YH = 10 *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= R*10/(10*R/2 – R) = 2.5 instructions/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0.1 MB young generation data is reachable, 1 MB wasted space in young gen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ulti-generation system has 50 MB total, 1 MB is not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larger R-H ratio in older gen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ting remembered set takes time t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old generation is mark-sw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6324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-sw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pth first traversal of object graph from the roots to mark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580716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17:42:40Z</dcterms:created>
  <dc:creator>CS</dc:creator>
  <dc:description/>
  <dc:language>en-US</dc:language>
  <cp:lastModifiedBy>CS</cp:lastModifiedBy>
  <dcterms:modified xsi:type="dcterms:W3CDTF">2004-04-27T18:15:10Z</dcterms:modified>
  <cp:revision>24</cp:revision>
  <dc:subject/>
  <dc:title>Garbage collection</dc:title>
</cp:coreProperties>
</file>