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FFD-7319-4894-B779-3D3A13CB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550-805D-4D88-8EEC-66B99625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00E-08B9-413A-B5BF-18A60D25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61D-DC1E-48F6-A05F-96E80727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82C-CC89-4B92-A31D-08CEF8C6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848-E3D5-4B3C-A379-EA2E1A1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CC2-7C7B-415E-8450-A4B012E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B55-FCA6-4180-A9E5-178E0E7B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C30-444E-4E7E-8371-3B616A5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F74-583C-438D-904B-A59F3AB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296-7EEB-46D6-8538-7655684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F4D-B057-4335-B718-419F484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3CEC-8BCE-4303-8BEB-090539C8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se multiple free 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ly search to find adjacen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ded fo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gic bullet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emory management always has a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u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sive security proble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kers take advantage of dangling pointers to penetrat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web-based applications involv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(I hope)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y research is all about making this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5" idx="3"/>
            <a:endCxn id="14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deci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dumb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CS</cp:lastModifiedBy>
  <dcterms:modified xsi:type="dcterms:W3CDTF">2004-04-20T16:06:11Z</dcterms:modified>
  <cp:revision>18</cp:revision>
  <dc:subject/>
  <dc:title>Garbage collection</dc:title>
</cp:coreProperties>
</file>