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44E-5FDF-4348-8307-071B34DC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B1D-4079-43D3-BCBA-3C61C643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FB3-A5E0-4040-9B63-719A5427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878-E036-4915-89D5-CD529682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E03-00CE-4C0D-A2B3-CBE4525C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E2E-E41B-4A60-83FE-FEB0E820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5A3-06C2-4E30-9D7E-132DA333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16F-4C67-41CA-8D50-47E67AD3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B25-2CB7-4C65-891F-DA19AB6F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1CC-514B-43C2-AEF5-2E91EDA0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E629-3CC3-4BC9-9AF6-C141372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05A-3C1F-46BB-8F71-94AD99F0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FB28-4F92-4C96-84A2-A98149F18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se multiple free l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ly search to find adjacen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xternal frag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ded for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gic bullet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emory management always has a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u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sive security proble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kers take advantage of dangling pointers to penetrat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erging web-based applications involve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(I hope)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y research is all about making this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5" idx="3"/>
            <a:endCxn id="14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deci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dumb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CS</cp:lastModifiedBy>
  <dcterms:modified xsi:type="dcterms:W3CDTF">2004-04-20T16:06:11Z</dcterms:modified>
  <cp:revision>18</cp:revision>
  <dc:subject/>
  <dc:title>Garbage collection</dc:title>
</cp:coreProperties>
</file>