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7CF0-32D6-4C67-9152-792478CC6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90D8-875A-472A-B56A-377C0E635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D4C5-2147-41A5-8F94-34D7CFEC9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690D-DC23-4036-ACCA-F4EB182B5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BFD4-8280-46D6-B481-A5391B26F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D350-D099-4D15-8078-C2E0F2E7A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8AA5-8360-480C-A9ED-2DF783DD0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DC12-9FDC-46F4-95E0-866A9CB73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663C-6D27-480D-B702-181DF4DDA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8F8F-1183-44B0-BB60-56244E93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D1C8-4B50-4E96-8787-5C03DBE4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61F9-5576-4273-8916-9A4DA3FC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348B-55DF-4AC4-9967-557A29CF1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er Al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 3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vid Wal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ith thanks to Andrew Myers for many of these slid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erence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2590920"/>
            <a:ext cx="3444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e v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a +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b *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c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b *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943600" y="41911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08660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24280" y="52578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257440" y="4724280"/>
            <a:ext cx="7621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77120" y="47242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325200" y="26416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67320" y="2706840"/>
            <a:ext cx="5335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67320" y="3240000"/>
            <a:ext cx="533520" cy="381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341040" y="322884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92080" y="210816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34120" y="2173320"/>
            <a:ext cx="1981080" cy="15238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erence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90920"/>
            <a:ext cx="3444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e v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a +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b *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c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b *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943600" y="4191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86600" y="52578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724280" y="525780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5257440" y="4724280"/>
            <a:ext cx="7621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477120" y="47242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325200" y="26416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467320" y="2706840"/>
            <a:ext cx="5335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67320" y="3240000"/>
            <a:ext cx="533520" cy="381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341040" y="322884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2080" y="210816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173320"/>
            <a:ext cx="1981080" cy="15238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 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we efficiently find a coloring of the graph whenever possi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we efficiently find the optimum coloring of the grap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choose registers to avoid move instru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we do when there aren’t enough colors (registers) to color the grap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 a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mpe’s algorithm [1879] for finding a K-coloring of a 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K=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tep 1 (simplify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find a node with at most K-1 edges and cut it out of the graph.  (Remember this node on a stack for later stages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 a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a coloring is found for the simpler graph, we can always color the node we saved on the st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tep 2 (color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when the simplified subgraph has been colored, add back the node on the top of the stack and assign it a color not taken by one of the adjacent nod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462800" y="388620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462800" y="3886200"/>
            <a:ext cx="777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80808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462800" y="3886200"/>
            <a:ext cx="777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80808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462800" y="3886200"/>
            <a:ext cx="777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80808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462800" y="3886200"/>
            <a:ext cx="777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80808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id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t to replace temporary variables with some fixed set of regi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need to know which variables are live after each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simultaneously live variables cannot be allocated to the same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462800" y="3886200"/>
            <a:ext cx="77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80808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462800" y="3886200"/>
            <a:ext cx="77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80808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462800" y="3886200"/>
            <a:ext cx="77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80808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462800" y="3886200"/>
            <a:ext cx="77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80808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462800" y="3886200"/>
            <a:ext cx="77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80808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462800" y="3886200"/>
            <a:ext cx="77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il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graph cannot be colored, it will eventually be simplified to graph in which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every node has at least K neighb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, the graph is still K-colorabl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ing a K-coloring in all situations is an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NP-comple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have to approximate to make register allocators fast en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462800" y="3886200"/>
            <a:ext cx="77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462800" y="3886200"/>
            <a:ext cx="77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413320" y="5715000"/>
            <a:ext cx="171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nodes ha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neighbour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462800" y="3886200"/>
            <a:ext cx="77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er al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very node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CFG, we have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[n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of temporaries live out of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variables </a:t>
            </a:r>
            <a:r>
              <a:rPr b="0" i="1" lang="en-US" sz="3200" spc="-1" strike="noStrike">
                <a:solidFill>
                  <a:srgbClr val="cc0000"/>
                </a:solidFill>
                <a:latin typeface="Arial"/>
              </a:rPr>
              <a:t>interf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initially live (ie: function args),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ear in out[n] for any n,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is defined and the other is in out[n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 b - c    where x is dead &amp; b is live interf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assign registers to variab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462800" y="3886200"/>
            <a:ext cx="77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462800" y="3886200"/>
            <a:ext cx="77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462800" y="3886200"/>
            <a:ext cx="77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462800" y="3886200"/>
            <a:ext cx="77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462800" y="3886200"/>
            <a:ext cx="77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462800" y="3886200"/>
            <a:ext cx="77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319720" y="582768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got luck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462800" y="3886200"/>
            <a:ext cx="77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837880" y="1905120"/>
            <a:ext cx="32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graphs can’t be colo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K colo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505320" y="44956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462800" y="3886200"/>
            <a:ext cx="77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837880" y="1905120"/>
            <a:ext cx="32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graphs can’t be colo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K colo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505320" y="44956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462800" y="3886200"/>
            <a:ext cx="77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837880" y="1905120"/>
            <a:ext cx="32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graphs can’t be colo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K colo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505320" y="44956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462800" y="3886200"/>
            <a:ext cx="77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837880" y="1905120"/>
            <a:ext cx="32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graphs can’t be colo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K colo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505320" y="44956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202200" y="6172200"/>
            <a:ext cx="20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colors left for 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erence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Nod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graph =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Edg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nect variables that interfere with one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des will be assigned a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ol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rresponding to the register assigned to the var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lors can’t be next to one another in the 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tep 3 (spilling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once all nodes have K or more neighbors, pick a node for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pi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age on the 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many heuristics that can be used to pick a n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in an inner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lling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need to generate extra instructions to load variables from stack and store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tupid approach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ways keep extra registers handy for shuffling data in and out: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what a wast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Better approach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lling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need to generate extra instructions to load variables from stack and store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tupid approach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ways keep extra registers handy for shuffling data in and out: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what a wast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Better approach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write code introducing a new temporary; rerun liveness analysis and register al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writing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: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add t1 t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elected for spelling and assigned to stack location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[ebp-24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nted new temporary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3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just this instruction and rewri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ov t35, [ebp – 24]; add t1, t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3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s a very short live range and is much less likely to interf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run the algorithm; fewer variables will sp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colored No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variables are pre-assigned to regi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: mul on x86/pent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eax; defines eax, ed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: call on x86/pent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s (trashes) caller-save registers eax, ecx, ed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t these registers as special temporaries; before beginning,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add them to the graph with their col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colored No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’t simplify a graph by removing a precolored n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colored nodes are the starting point of the coloring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simplified down to colored nodes start adding back the other nodes as bef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mizing Mo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generation produces a lot of extra mov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 t1, t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we can assign t1 and t2 to the same register, we do not have to execute the m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: if t1 and t2 are not connected in the interference graph, w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oales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o a single vari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ales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: coalescing can increase the number of interference edges and make a graph uncolor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 1 (Briggs): avoid creation of high-degree (&gt;= K)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 2 (George): a can be coalesced with b if every neighbour t of 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ready interferes with b,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low-degree (&lt; 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371600" y="2743200"/>
            <a:ext cx="6858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514600" y="2743200"/>
            <a:ext cx="6858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761760" y="335268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H="1" flipV="1">
            <a:off x="685440" y="23619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048120" y="3352680"/>
            <a:ext cx="7617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3124080" y="23623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629400" y="2743200"/>
            <a:ext cx="6858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2743200"/>
            <a:ext cx="6858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1/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6019560" y="335268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H="1" flipV="1">
            <a:off x="5943240" y="23619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7162920" y="3352680"/>
            <a:ext cx="7617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7238880" y="23623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191120" y="2971800"/>
            <a:ext cx="1218960" cy="304920"/>
          </a:xfrm>
          <a:custGeom>
            <a:avLst/>
            <a:gdLst>
              <a:gd name="textAreaLeft" fmla="*/ 152280 w 1218960"/>
              <a:gd name="textAreaRight" fmla="*/ 1066680 w 12189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50880" y="260496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les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ify &amp; Coales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tep 1 (simplify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simplify as much as possible without removing nodes that are the source or destination of a move (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move-related nod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tep 2 (coalesce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coalesce move-related nodes provided low-degree nod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tep 3 (freeze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if neither steps 1 or 2 apply, freeze a move instruction:  registers involved are marked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not move-rela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try step 1 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all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981080" y="2590920"/>
            <a:ext cx="190512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y, free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coales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981080" y="4038480"/>
            <a:ext cx="190512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981080" y="5486400"/>
            <a:ext cx="190512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detect ac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334120" y="5486400"/>
            <a:ext cx="190476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write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imp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ual sp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9" name=""/>
          <p:cNvCxnSpPr>
            <a:stCxn id="568" idx="0"/>
            <a:endCxn id="565" idx="3"/>
          </p:cNvCxnSpPr>
          <p:nvPr/>
        </p:nvCxnSpPr>
        <p:spPr>
          <a:xfrm flipV="1" rot="16200000">
            <a:off x="3885840" y="3085200"/>
            <a:ext cx="2400840" cy="2401200"/>
          </a:xfrm>
          <a:prstGeom prst="bentConnector2">
            <a:avLst/>
          </a:prstGeom>
          <a:ln w="63360">
            <a:solidFill>
              <a:srgbClr val="99cc00"/>
            </a:solidFill>
            <a:miter/>
            <a:tailEnd len="med" type="triangle" w="med"/>
          </a:ln>
        </p:spPr>
      </p:cxnSp>
      <p:cxnSp>
        <p:nvCxnSpPr>
          <p:cNvPr id="570" name=""/>
          <p:cNvCxnSpPr>
            <a:stCxn id="566" idx="1"/>
            <a:endCxn id="565" idx="1"/>
          </p:cNvCxnSpPr>
          <p:nvPr/>
        </p:nvCxnSpPr>
        <p:spPr>
          <a:xfrm flipH="1" rot="10800000">
            <a:off x="1980000" y="3085560"/>
            <a:ext cx="2520" cy="1448280"/>
          </a:xfrm>
          <a:prstGeom prst="bentConnector3">
            <a:avLst>
              <a:gd name="adj1" fmla="val -26600000"/>
            </a:avLst>
          </a:prstGeom>
          <a:ln w="63360">
            <a:solidFill>
              <a:srgbClr val="99cc00"/>
            </a:solidFill>
            <a:miter/>
            <a:tailEnd len="med" type="triangle" w="med"/>
          </a:ln>
        </p:spPr>
      </p:cxnSp>
      <p:cxnSp>
        <p:nvCxnSpPr>
          <p:cNvPr id="571" name=""/>
          <p:cNvCxnSpPr>
            <a:stCxn id="567" idx="3"/>
            <a:endCxn id="568" idx="1"/>
          </p:cNvCxnSpPr>
          <p:nvPr/>
        </p:nvCxnSpPr>
        <p:spPr>
          <a:xfrm>
            <a:off x="3886200" y="5981400"/>
            <a:ext cx="1448640" cy="1080"/>
          </a:xfrm>
          <a:prstGeom prst="straightConnector1">
            <a:avLst/>
          </a:prstGeom>
          <a:ln w="63360">
            <a:solidFill>
              <a:srgbClr val="99cc00"/>
            </a:solidFill>
            <a:miter/>
            <a:tailEnd len="med" type="triangle" w="med"/>
          </a:ln>
        </p:spPr>
      </p:cxnSp>
      <p:cxnSp>
        <p:nvCxnSpPr>
          <p:cNvPr id="572" name=""/>
          <p:cNvCxnSpPr>
            <a:stCxn id="566" idx="2"/>
            <a:endCxn id="567" idx="0"/>
          </p:cNvCxnSpPr>
          <p:nvPr/>
        </p:nvCxnSpPr>
        <p:spPr>
          <a:xfrm>
            <a:off x="2933280" y="5029200"/>
            <a:ext cx="1080" cy="457920"/>
          </a:xfrm>
          <a:prstGeom prst="straightConnector1">
            <a:avLst/>
          </a:prstGeom>
          <a:ln w="63360">
            <a:solidFill>
              <a:srgbClr val="99cc00"/>
            </a:solidFill>
            <a:miter/>
            <a:tailEnd len="med" type="triangle" w="med"/>
          </a:ln>
        </p:spPr>
      </p:cxnSp>
      <p:cxnSp>
        <p:nvCxnSpPr>
          <p:cNvPr id="573" name=""/>
          <p:cNvCxnSpPr>
            <a:stCxn id="565" idx="2"/>
            <a:endCxn id="566" idx="0"/>
          </p:cNvCxnSpPr>
          <p:nvPr/>
        </p:nvCxnSpPr>
        <p:spPr>
          <a:xfrm>
            <a:off x="2933280" y="3581280"/>
            <a:ext cx="1080" cy="457920"/>
          </a:xfrm>
          <a:prstGeom prst="straightConnector1">
            <a:avLst/>
          </a:prstGeom>
          <a:ln w="63360">
            <a:solidFill>
              <a:srgbClr val="99cc00"/>
            </a:solidFill>
            <a:miter/>
            <a:tailEnd len="med" type="triangle" w="med"/>
          </a:ln>
        </p:spPr>
      </p:cxnSp>
      <p:sp>
        <p:nvSpPr>
          <p:cNvPr id="574" name=""/>
          <p:cNvSpPr/>
          <p:nvPr/>
        </p:nvSpPr>
        <p:spPr>
          <a:xfrm>
            <a:off x="5181480" y="2590920"/>
            <a:ext cx="190512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v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5" name=""/>
          <p:cNvCxnSpPr/>
          <p:nvPr/>
        </p:nvCxnSpPr>
        <p:spPr>
          <a:xfrm>
            <a:off x="6248160" y="2133720"/>
            <a:ext cx="1080" cy="457920"/>
          </a:xfrm>
          <a:prstGeom prst="straightConnector1">
            <a:avLst/>
          </a:prstGeom>
          <a:ln w="63360">
            <a:solidFill>
              <a:srgbClr val="99cc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erence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590920"/>
            <a:ext cx="3444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e v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a +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b *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c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b *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ster allocation has three major 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Liveness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Graph col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Program transfor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move coalescing and spill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chapter 11.1-11.3 in Ap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erence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2590920"/>
            <a:ext cx="3444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e v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a +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b *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c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,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b *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erence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2590920"/>
            <a:ext cx="3444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e v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a +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b *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c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,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b *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erence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2590920"/>
            <a:ext cx="3444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e v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a +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,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b *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c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,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b *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erence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2590920"/>
            <a:ext cx="3444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e v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a +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,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b *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c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,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b *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2T15:37:48Z</dcterms:created>
  <dc:creator>CS</dc:creator>
  <dc:description/>
  <dc:language>en-US</dc:language>
  <cp:lastModifiedBy>CS</cp:lastModifiedBy>
  <dcterms:modified xsi:type="dcterms:W3CDTF">2004-04-13T14:52:26Z</dcterms:modified>
  <cp:revision>14</cp:revision>
  <dc:subject/>
  <dc:title>Register Allocation</dc:title>
</cp:coreProperties>
</file>