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C4B6-A20C-40C1-B093-55CE5502A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897B-C395-4F9E-94AE-467B9A7E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26F1-C7D7-4255-8279-02DF88A4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3251-83D6-4591-B33A-790CA3A9D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1E41-2470-4179-80D3-10DBE0B8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8F9B-2FB0-4E38-A2D8-E279DF1C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D5DF-FA27-4328-A8F1-B731D149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A345-36B5-47EF-B8DD-2DCF9152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680B-21E6-4774-B673-C40CB630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643A-9013-4A3A-AB7B-44A502AE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923C-973E-416D-9773-820978A1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F345-0E40-413C-8573-75170C1F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1C24-354B-45EC-B862-CB44CBFBD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er Al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 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ith thanks to Andrew Myers for many of these sli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4191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8660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52578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25744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25200" y="26416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67320" y="2706840"/>
            <a:ext cx="533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67320" y="3240000"/>
            <a:ext cx="533520" cy="381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41040" y="322884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2080" y="210816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2173320"/>
            <a:ext cx="1981080" cy="1523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8660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525780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25744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25200" y="26416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67320" y="2706840"/>
            <a:ext cx="533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67320" y="3240000"/>
            <a:ext cx="533520" cy="381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41040" y="322884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2080" y="210816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173320"/>
            <a:ext cx="1981080" cy="1523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efficiently find a coloring of the graph whenever poss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efficiently find the optimum coloring of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choose registers to avoid move instru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we do when there aren’t enough colors (registers) to color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 a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mpe’s algorithm [1879] for finding a K-coloring of a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K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tep 1 (simplify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find a node with at most K-1 edges and cut it out of the graph.  (Remember this node on a stack for later stage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 a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a coloring is found for the simpler graph, we can always color the node we saved on the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tep 2 (color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when the simplified subgraph has been colored, add back the node on the top of the stack and assign it a color not taken by one of the adjacent no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462800" y="38862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62800" y="3886200"/>
            <a:ext cx="7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62800" y="3886200"/>
            <a:ext cx="7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462800" y="3886200"/>
            <a:ext cx="7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62800" y="3886200"/>
            <a:ext cx="7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 to replace temporary variables with some fixed set of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need to know which variables are live after each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imultaneously live variables cannot be allocated to the same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graph cannot be colored, it will eventually be simplified to graph in which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very node has at least K neighb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, the graph is still K-colorab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a K-coloring in all situations is an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P-compl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have to approximate to make register allocators fast en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462800" y="3886200"/>
            <a:ext cx="7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462800" y="3886200"/>
            <a:ext cx="77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413320" y="5715000"/>
            <a:ext cx="171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nodes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neighbou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er al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very nod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CFG, we hav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[n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temporaries live out of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variables </a:t>
            </a:r>
            <a:r>
              <a:rPr b="0" i="1" lang="en-US" sz="3200" spc="-1" strike="noStrike">
                <a:solidFill>
                  <a:srgbClr val="cc0000"/>
                </a:solidFill>
                <a:latin typeface="Arial"/>
              </a:rPr>
              <a:t>interf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initially live (ie: function args)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ar in out[n] for any n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is defined and the other is in out[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b - c    where x is dead &amp; b is live interf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assign registers to vari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319720" y="58276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got luck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837880" y="1905120"/>
            <a:ext cx="32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raphs can’t be colo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K col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505320" y="4495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837880" y="1905120"/>
            <a:ext cx="32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raphs can’t be colo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K col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505320" y="4495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837880" y="1905120"/>
            <a:ext cx="32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raphs can’t be colo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K col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505320" y="4495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837880" y="1905120"/>
            <a:ext cx="32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raphs can’t be colo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K col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505320" y="4495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202200" y="6172200"/>
            <a:ext cx="20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colors left for 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o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graph =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d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nect variables that interfere with one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s will be assigned a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ol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rresponding to the register assigned to the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lors can’t be next to one another in the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tep 3 (spilling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once all nodes have K or more neighbors, pick a node for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pi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age on the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heuristics that can be used to pick a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in an inner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lling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generate extra instructions to load variables from stack and stor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upid appro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ways keep extra registers handy for shuffling data in and out: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what a was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Better appro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lling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generate extra instructions to load variables from stack and stor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upid appro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ways keep extra registers handy for shuffling data in and out: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what a was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Better appro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write code introducing a new temporary; rerun liveness analysis and register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writing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: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dd t1 t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elected for spelling and assigned to stack location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[ebp-2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nted new temporary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3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just this instruction and rewri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ov t35, [ebp – 24]; add t1, t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3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a very short live range and is much less likely to interf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run the algorithm; fewer variables will sp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olored N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variables are pre-assigned to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: mul on x86/pent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eax; defines eax, e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: call on x86/pent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(trashes) caller-save registers eax, ecx, e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 these registers as special temporaries; before beginning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dd them to the graph with their 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olored N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 simplify a graph by removing a precolored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olored nodes are the starting point of the color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simplified down to colored nodes start adding back the other nodes as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zing Mo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generation produces a lot of extra mov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 t1, t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can assign t1 and t2 to the same register, we do not have to execute the m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: if t1 and t2 are not connected in the interference graph, w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oales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a single vari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ales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coalescing can increase the number of interference edges and make a graph uncolo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1 (Briggs): avoid creation of high-degree (&gt;= K)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2 (George): a can be coalesced with b if every neighbour t of 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ready interferes with b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low-degree (&lt; 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371600" y="27432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514600" y="27432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761760" y="335268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 flipV="1">
            <a:off x="685440" y="23619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048120" y="335268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3124080" y="23623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629400" y="27432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27432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/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6019560" y="335268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5943240" y="23619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162920" y="335268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238880" y="23623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191120" y="2971800"/>
            <a:ext cx="1218960" cy="30492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50880" y="260496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e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 &amp; Coales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ep 1 (simplify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simplify as much as possible without removing nodes that are the source or destination of a move (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ove-related no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ep 2 (coalesce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coalesce move-related nodes provided low-degree nod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ep 3 (freeze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f neither steps 1 or 2 apply, freeze a move instruction:  registers involved are marked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ot move-rel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ry step 1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all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981080" y="2590920"/>
            <a:ext cx="19051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, free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coale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981080" y="4038480"/>
            <a:ext cx="190512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981080" y="5486400"/>
            <a:ext cx="190512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detect a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334120" y="5486400"/>
            <a:ext cx="19047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rit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 sp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9" name=""/>
          <p:cNvCxnSpPr>
            <a:stCxn id="568" idx="0"/>
            <a:endCxn id="565" idx="3"/>
          </p:cNvCxnSpPr>
          <p:nvPr/>
        </p:nvCxnSpPr>
        <p:spPr>
          <a:xfrm flipV="1" rot="16200000">
            <a:off x="3885840" y="3085200"/>
            <a:ext cx="2400840" cy="2401200"/>
          </a:xfrm>
          <a:prstGeom prst="bentConnector2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570" name=""/>
          <p:cNvCxnSpPr>
            <a:stCxn id="566" idx="1"/>
            <a:endCxn id="565" idx="1"/>
          </p:cNvCxnSpPr>
          <p:nvPr/>
        </p:nvCxnSpPr>
        <p:spPr>
          <a:xfrm flipH="1" rot="10800000">
            <a:off x="1980000" y="3085560"/>
            <a:ext cx="2520" cy="1448280"/>
          </a:xfrm>
          <a:prstGeom prst="bentConnector3">
            <a:avLst>
              <a:gd name="adj1" fmla="val -26600000"/>
            </a:avLst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571" name=""/>
          <p:cNvCxnSpPr>
            <a:stCxn id="567" idx="3"/>
            <a:endCxn id="568" idx="1"/>
          </p:cNvCxnSpPr>
          <p:nvPr/>
        </p:nvCxnSpPr>
        <p:spPr>
          <a:xfrm>
            <a:off x="3886200" y="5981400"/>
            <a:ext cx="1448640" cy="1080"/>
          </a:xfrm>
          <a:prstGeom prst="straightConnector1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572" name=""/>
          <p:cNvCxnSpPr>
            <a:stCxn id="566" idx="2"/>
            <a:endCxn id="567" idx="0"/>
          </p:cNvCxnSpPr>
          <p:nvPr/>
        </p:nvCxnSpPr>
        <p:spPr>
          <a:xfrm>
            <a:off x="2933280" y="5029200"/>
            <a:ext cx="1080" cy="457920"/>
          </a:xfrm>
          <a:prstGeom prst="straightConnector1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65" idx="2"/>
            <a:endCxn id="566" idx="0"/>
          </p:cNvCxnSpPr>
          <p:nvPr/>
        </p:nvCxnSpPr>
        <p:spPr>
          <a:xfrm>
            <a:off x="2933280" y="3581280"/>
            <a:ext cx="1080" cy="457920"/>
          </a:xfrm>
          <a:prstGeom prst="straightConnector1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sp>
        <p:nvSpPr>
          <p:cNvPr id="574" name=""/>
          <p:cNvSpPr/>
          <p:nvPr/>
        </p:nvSpPr>
        <p:spPr>
          <a:xfrm>
            <a:off x="5181480" y="2590920"/>
            <a:ext cx="19051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5" name=""/>
          <p:cNvCxnSpPr/>
          <p:nvPr/>
        </p:nvCxnSpPr>
        <p:spPr>
          <a:xfrm>
            <a:off x="6248160" y="2133720"/>
            <a:ext cx="1080" cy="457920"/>
          </a:xfrm>
          <a:prstGeom prst="straightConnector1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er allocation has three major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Liveness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Graph col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rogram transfor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ove coalescing and spill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chapter 11.1-11.3 in Ap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15:37:48Z</dcterms:created>
  <dc:creator>CS</dc:creator>
  <dc:description/>
  <dc:language>en-US</dc:language>
  <cp:lastModifiedBy>CS</cp:lastModifiedBy>
  <dcterms:modified xsi:type="dcterms:W3CDTF">2004-04-13T14:52:26Z</dcterms:modified>
  <cp:revision>14</cp:revision>
  <dc:subject/>
  <dc:title>Register Allocation</dc:title>
</cp:coreProperties>
</file>