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20BB-2A34-4D02-A39F-E75BB4D0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C41-1073-47F8-A910-91FBE40D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053-2C33-486C-8C91-A31DE5D6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722-3282-4FE7-8F53-5929D930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F2A6-8EFA-4010-881D-E38DEEE2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6DC1-5393-4588-B0C4-345B67CC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DD29-3CB5-4F85-B542-298360E7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3851-E23B-445B-8131-F71C4B30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0EF9-9F64-4AE0-A7CF-C60BF505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8910-4BB7-482C-8D5D-13082D99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0771-9B63-446F-92B9-7CC66BCD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258-146F-4CE8-9B37-A301662B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F383-119C-4DC2-977C-AFA59D1E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7937-E359-4F37-9DEE-A356B4C9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8B07-3733-47FE-9AE4-88046E35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6E38-0D68-4A4B-ABBF-A95DA24C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17D6-7B0D-40FD-93B0-EE95AFD6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A50-B33A-4EAB-B60C-7AD2E3A1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80F-4034-4714-8331-BD86C495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B08-A179-4887-8DBC-EFEBED90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C10-7426-48A2-A540-D17E1BF0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BE5-8AFA-437B-ADE3-16CA9809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C09-26E6-4823-9A7E-F58EE606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8506-F934-461E-943D-79EC9010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B2B8-B321-489B-9193-061ED66448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8C57-0AE5-4CC9-A0FD-732A02882A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ing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 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 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domain: bool * bool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:         bool *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 :: 3 :: 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ctions over lists are usually defined by pattern matching on the structure of 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ahoma"/>
              </a:rPr>
              <a:t>Hint: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often, the structure of a function i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guided by the type of the argument (recall eva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989360" y="3429000"/>
            <a:ext cx="33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length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_ :: l =&gt; 1 + (length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98240" y="45720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What does it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48120" y="2133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5760" y="1905120"/>
            <a:ext cx="33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wo arguments f an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59640" y="4572000"/>
            <a:ext cx="709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pplies the function f to every element in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fun add1 x = x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map add1 [1,2,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val it = [2,3,4] : i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663560" y="2666880"/>
            <a:ext cx="340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fold f a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f (fold f a l)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54320" y="4876920"/>
            <a:ext cx="53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other incredibly usefu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does it do? use it to write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is all about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different ways to define function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almost always use “fun f x = ..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 am only going to use a function once and it is not recursive, I write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onymous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913040" y="2362320"/>
            <a:ext cx="270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t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428640" y="2209680"/>
            <a:ext cx="2438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97160" y="190512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a value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3434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419360" y="3548160"/>
            <a:ext cx="144756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72680" y="3048120"/>
            <a:ext cx="24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s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6680" y="48006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the anonym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60020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6240" y="5105520"/>
            <a:ext cx="18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330200" y="2057400"/>
            <a:ext cx="358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list x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y =&gt; y + 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34680" y="54100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3657240" y="5409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81760" y="49528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pair of 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32280" y="20574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definition (very conven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419360" y="25909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572000" y="548640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data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(f,g)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x =&gt; f (g 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9548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10720" y="52578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ult is a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343040" y="4114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85920" y="41911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ment is pair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2781000" y="392436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143000" y="43430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5560" y="4545000"/>
            <a:ext cx="10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gai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270440" y="2730600"/>
            <a:ext cx="28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f = (fn x =&gt; ..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3962520" y="5029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38040" y="556272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vided the function is not recursi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 does not appear in 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1196640" y="2959200"/>
            <a:ext cx="598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ways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rec f = (fn x =&gt; ...f can be used here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8288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57040" y="590076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eyword rec declares a recursive 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508040" y="251460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Num n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Bool b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_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1840" y="39625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just an abbrevi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48360" y="4648320"/>
            <a:ext cx="26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create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508040" y="190512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0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Bool b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_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1600" y="3352680"/>
            <a:ext cx="840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9.1-11.29 Error: parameter or result constrain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us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lause:      term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clauses:      int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Val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0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90560" y="518148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+ 1) (fn x =&gt;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68880" y="52578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&lt; 17)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812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A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866920" y="60958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5181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08320" y="609588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e:  type variables are written with 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933960" y="4724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64480" y="3308400"/>
            <a:ext cx="227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nd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int -&gt; ‘b) -&gt; (‘c -&gt; int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(int * int) -&gt; ‘b) -&gt; (‘c -&gt; (int * int)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:: nil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295280" y="45720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123720" y="457164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unit -&gt; int) -&gt; (int -&gt; unit) -&gt; (int -&gt; 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2057040" y="51811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78000" y="5410080"/>
            <a:ext cx="59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ype of compose’s argument must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type of n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-&gt; bool == (‘a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7432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41120" y="5410080"/>
            <a:ext cx="357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must be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must be bool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n this use of compo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14440" y="5410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400440" y="1371240"/>
            <a:ext cx="304920" cy="335268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562360" y="3276720"/>
            <a:ext cx="99036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 rot="16200000">
            <a:off x="5333760" y="2742120"/>
            <a:ext cx="304920" cy="335304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18240" y="3462480"/>
            <a:ext cx="13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bool -&gt; 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:: (5 :: nil)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2952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971440" y="4952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856960" y="42289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5400000">
            <a:off x="2514240" y="4495680"/>
            <a:ext cx="152280" cy="3048120"/>
          </a:xfrm>
          <a:custGeom>
            <a:avLst/>
            <a:gdLst>
              <a:gd name="textAreaLeft" fmla="*/ 0 w 152280"/>
              <a:gd name="textAreaRight" fmla="*/ 5508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24280" y="213372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3200400"/>
            <a:ext cx="3556080" cy="3124080"/>
          </a:xfrm>
          <a:custGeom>
            <a:avLst/>
            <a:gdLst/>
            <a:ahLst/>
            <a:rect l="l" t="t" r="r" b="b"/>
            <a:pathLst>
              <a:path w="1808" h="1872">
                <a:moveTo>
                  <a:pt x="1344" y="0"/>
                </a:moveTo>
                <a:cubicBezTo>
                  <a:pt x="1576" y="372"/>
                  <a:pt x="1808" y="744"/>
                  <a:pt x="1584" y="1056"/>
                </a:cubicBezTo>
                <a:cubicBezTo>
                  <a:pt x="1360" y="1368"/>
                  <a:pt x="680" y="1620"/>
                  <a:pt x="0" y="1872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1080" y="60958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‘c -&gt; ‘d) -&gt; (‘c -&gt; ‘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2320560" y="274320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320560" y="2743200"/>
            <a:ext cx="358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nt: top-level shap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. -&gt; ... -&gt;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2339640" y="2743200"/>
            <a:ext cx="358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(‘a -&gt; ‘b) -&gt; ‘a list -&gt; ‘b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from structures to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 (x, q)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remove q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ueue.insert (y, Queue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 =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.insert (y, Q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6248160" y="289548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ven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br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6486480" y="2228760"/>
            <a:ext cx="24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y defaul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l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f the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-- we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4 :: (5 :: nil)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2952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200400" y="4952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3237840" y="3848040"/>
            <a:ext cx="152640" cy="190476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insert : ‘a * ‘a queue -&gt;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remove : ‘a queue -&gt; ‘a *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343400" y="25909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51800" y="1981080"/>
            <a:ext cx="315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we don’t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 hi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2703600"/>
            <a:ext cx="38466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4764240" y="2170080"/>
            <a:ext cx="3846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71040" y="2590920"/>
            <a:ext cx="450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e Queue :&gt; QUE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 empty = (nil,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6520" y="5640480"/>
            <a:ext cx="49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333760" y="5181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89000" y="480060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aque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trac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:&gt;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al case of opaque a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fields but does not make types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_E :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, chapters 18-22 for more on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 (functions from structures to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nces (mutable data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 e; !e; e1 := e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loops, for lo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* comments (* can be *) nested *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unch of other stuff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:: (4 :: (5 :: nil))   :  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:: 4 :: 5 :: nil        :  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rue, 1) :: (false, 2) :: nil   :   (bool * int)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 :: nil) :: (2 :: nil) :: nil    :    (int list)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] : int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4, 5] :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] : bool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209320" y="3428640"/>
            <a:ext cx="3962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5800" y="39196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“ni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361960" y="4401720"/>
            <a:ext cx="3886200" cy="7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1640" y="49528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4]::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4]::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n:1.1-2.2 Error: operator and operand don't agree [literal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domain: int list * int lis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:         int list *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 :: nil) ::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CS</cp:lastModifiedBy>
  <dcterms:modified xsi:type="dcterms:W3CDTF">2004-02-05T19:27:45Z</dcterms:modified>
  <cp:revision>36</cp:revision>
  <dc:subject/>
  <dc:title>Introduction to ML</dc:title>
</cp:coreProperties>
</file>