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FD6-D74E-4F16-84FE-B02A9A4C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4AF1-66B5-4070-95B4-C6EFF7FE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3ED4-604A-491B-BF44-2BE4D9DE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4981-5E38-48E3-8A9B-CC27422C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4BAD-1FC1-452D-9421-0D394468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F675-73CA-4F02-BCC5-A42C1FDC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58FB-DE58-4515-83FF-59F63AD1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FB8B-51C7-48C8-9E29-649F98D5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267C-1BEE-4F8B-8D7D-122EFDED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2C0B-16AB-48B3-851E-58F4B495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4128-B63A-4759-81B0-90B4422D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2FD1-742E-41B3-BB83-18676E4F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8DFC-55F2-45AF-9960-82FBC75D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45C3-EA08-4396-B370-E5D81915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6BF8-1B23-4F37-874C-A3DCD082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617B-B57B-432F-8FF7-0C24DAAC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41A6-A494-435F-B28E-27F587F2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FCF-E0F7-4B2E-9380-CDE2D1F3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78E-25C5-490E-A190-CE96AF37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7F1-8961-4B39-8229-623B7CBF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9A3-D781-42F2-A07C-34C1C344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A4B4-026B-4B41-95CB-3F639C30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06AE-0107-46CA-A48E-4BF1D8D8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7593-45C9-4D7C-86F7-CEE51786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A35D-E30F-47AF-8CB4-56F36F9FD8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CB24-D48C-4C29-B818-41AFD8C07A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dpw@cs.princeton.edu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princeton.edu/courses/archive/spring04/cos320/index.htm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S 320:  Compiling Techniqu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40080" y="2486160"/>
            <a:ext cx="16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98400" y="4924440"/>
            <a:ext cx="9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274320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92800" y="5334120"/>
            <a:ext cx="27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virt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hin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83560" y="2486160"/>
            <a:ext cx="24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newcommand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03000" y="492444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sfd\sf\fa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96840" y="274320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38160" y="533412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83560" y="2486160"/>
            <a:ext cx="24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newcommand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03000" y="492444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sfd\sf\fa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14120" y="274320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84160" y="5334120"/>
            <a:ext cx="29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scrip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plac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cripts are compiled into 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language is compiled into machin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are description language is compiled into a hardware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ers are co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4647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 file to 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; par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intermediate form (I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sis; optimizations; data lay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 to machin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eneration; register 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9810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0800" y="22096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3581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24840" y="38098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5181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59480" y="53341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30481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46483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er Sourc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imperativ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ction Trees as intermediate form (I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checking; data layout on the st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ion selection algorithms; register allocation via graph colo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9810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90800" y="22096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581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4840" y="38098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5181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59480" y="53341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30481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46483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ML is a domain-specific language for building compil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data structures (abstract syntax, compiler intermediate for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management like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projects with many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d type system for 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will be responsible for learning ML on your ow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 I will cover some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ffrey Ullman “Elements of ML Programming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ert Harper’s “an introduction to ML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ourse webpage for pointers and info about how to get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 Structur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mpil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type defin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rongly-typ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xpression has a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errors cannot occ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morphic types provide flex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lexible Modu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er-order modules (functo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teractiv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e in expres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aluate and print type and res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 as we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igh-level programming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yp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table data discourag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id Walker (Professo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12 Computer Science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dpw@cs.princeton.e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fice hours: after each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n Dantas (T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17 Computer Science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dantas@cs.princeton.ed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fice hours: Mondays 2-3 P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–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9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4 +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dIn:17.1-17.9 Error: operator and operand don't agree [literal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domain: int *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nd:             int *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+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449568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div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lure : Di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- run-time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505320" y="251460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() : un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like “void” in C (sort o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the uninteresting value/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tru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if it then 3+2 else 7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“else” clause is always necess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7 :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 andalso loop_Forev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d also, or else short-circuit e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4533840"/>
            <a:ext cx="1003320" cy="266760"/>
          </a:xfrm>
          <a:custGeom>
            <a:avLst/>
            <a:gdLst/>
            <a:ahLst/>
            <a:rect l="l" t="t" r="r" b="b"/>
            <a:pathLst>
              <a:path w="632" h="168">
                <a:moveTo>
                  <a:pt x="0" y="24"/>
                </a:moveTo>
                <a:cubicBezTo>
                  <a:pt x="212" y="12"/>
                  <a:pt x="424" y="0"/>
                  <a:pt x="528" y="24"/>
                </a:cubicBezTo>
                <a:cubicBezTo>
                  <a:pt x="632" y="48"/>
                  <a:pt x="628" y="108"/>
                  <a:pt x="624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teg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(if not true then 5 else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0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 division between expre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d stat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“Dave” ^ “ “ ^ “Walker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“Dave Walker” : st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print “foo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.1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.14 : re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190760" y="28951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SML/N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 mode is a good way to start learning and to debug programs, bu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in a series of declarations into a “.sml”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use “foo.s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opening foo.sml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5321160" y="512136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st of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th thei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971800" y="5562720"/>
            <a:ext cx="23623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rger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L has its own built in interactive “mak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utomatically does the dependency analysis for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razy makefile syntax to le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difficult to interact with other languages or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ation Man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21337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24382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24382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57800" y="24382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3352680"/>
            <a:ext cx="792504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% s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S.FileSys.chDir “~/courses/510/a2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M.make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looks for “sources.cm”, analyzes 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compiling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compiles files i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wrote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aves binaries in ./C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CM.make’ “myproj/”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pecify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1932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s.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57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2209680"/>
            <a:ext cx="1371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04776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2767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74284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419720" y="632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i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princeton.edu/courses/archive/spring04/cos320/index.h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nex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L has a rich set of structured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s: (17, true, “stuff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rds: {name = “Dave”, ssn = 332177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 3::4::5::nil or [3,4]@[5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than list all the details, we will write a couple of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rs are usually implemented as a series of transform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41292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512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8948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480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0908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559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9420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34400" y="3733920"/>
            <a:ext cx="126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53880" y="3886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736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7724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6080" y="38862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3796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little language (LL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dd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985680" y="2362320"/>
            <a:ext cx="38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ter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of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 of 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Num of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of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49080" y="2381400"/>
            <a:ext cx="280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capital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ake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ument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 ty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4191120" y="36576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65480" y="5748480"/>
            <a:ext cx="37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a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eg: string *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9907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360" y="5824440"/>
            <a:ext cx="33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524880" y="31240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the expression “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24382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63200" y="251460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37339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16360" y="38098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67480" y="37339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83400" y="38098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51055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76600" y="5181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848720" y="51055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58040" y="5181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4771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0773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086240" y="30481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225000" y="3276720"/>
            <a:ext cx="366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tru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rue then 0 else 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086600" y="3581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5160" y="36385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29400" y="4667400"/>
            <a:ext cx="8161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294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19960" y="4667400"/>
            <a:ext cx="961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5438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26200" y="5867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9920" y="592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00840" y="5791320"/>
            <a:ext cx="685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54920" y="5848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59088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8500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162920" y="4114800"/>
            <a:ext cx="11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092480" y="45720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88520" y="462924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64080" y="3581280"/>
            <a:ext cx="708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78400" y="365760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3581280"/>
            <a:ext cx="94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35480" y="365760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715000" y="48006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68720" y="4857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079680" y="411480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800240" y="4114800"/>
            <a:ext cx="777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10080" y="23050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73520" y="23623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30840" y="2819520"/>
            <a:ext cx="60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2503800" y="3309840"/>
            <a:ext cx="26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419360" y="274320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514600" y="5257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2503800" y="3309840"/>
            <a:ext cx="26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343040" y="274320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590920" y="52578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1817280" y="2514600"/>
            <a:ext cx="403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t:term) : bo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48800" y="487692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Value 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53280" y="5791320"/>
            <a:ext cx="72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does type inference =&gt; you need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notate functions yourself (but it can be helpfu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1731600" y="2286000"/>
            <a:ext cx="25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160" y="4800600"/>
            <a:ext cx="839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4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 Compiler Implementation in 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rew App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s of ML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ffrey D. Ullm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: online references; see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380160" y="2133720"/>
            <a:ext cx="839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ly, ML will give you several errors in a r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1865160" y="2514600"/>
            <a:ext cx="226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06400" y="4724280"/>
            <a:ext cx="756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1855440" y="2514600"/>
            <a:ext cx="50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0 =&gt;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(Num t1,Num t2)  =&gt; t1 +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9440" y="4724280"/>
            <a:ext cx="81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num is not capitalized (and has no argu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ML treats it like a variable pattern (matches anyth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1789560" y="251460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1789560" y="2514600"/>
            <a:ext cx="494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99640" y="4711680"/>
            <a:ext cx="44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ebug "hello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aught excep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d at: ex.sml:15.28-15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64200" y="4071960"/>
            <a:ext cx="286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ML interpr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1888200" y="2514600"/>
            <a:ext cx="322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1708560" y="2133720"/>
            <a:ext cx="671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t1,t2,t3)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t val v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al t1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v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b =&gt; if b then (eval t2) else (eval 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05520" y="380988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290640" y="2743200"/>
            <a:ext cx="265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rememb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1928520" y="1905120"/>
            <a:ext cx="6064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eval v1, eval v2)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um n1, Num n2) =&gt; Num (n1 +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(_,_)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1897920" y="1905120"/>
            <a:ext cx="274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571640" y="3854520"/>
            <a:ext cx="2057400" cy="3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678360" y="3200400"/>
            <a:ext cx="19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sure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1897920" y="1905120"/>
            <a:ext cx="274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4800600" y="36576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ignment 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your name and other information on the sheet circula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, skim and bookmark the course web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to course e-mail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gin assignment 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chapter 1 App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gure out how to run &amp; use S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next Thursday 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601920" y="4572000"/>
            <a:ext cx="722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5.2-35.12 Warning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tch non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ool _ | Zero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t1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97920" y="1905120"/>
            <a:ext cx="274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3504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nward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mpil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program that translates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anguage into an equivalent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arg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12440" y="2486160"/>
            <a:ext cx="198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i &gt; 3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i] = b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2000" y="4924440"/>
            <a:ext cx="20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 eax, e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eax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p eax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cc eax, e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44880" y="27432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32000" y="5257800"/>
            <a:ext cx="152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40080" y="2486160"/>
            <a:ext cx="16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28560" y="4924440"/>
            <a:ext cx="175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59640" y="274320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21200" y="54864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CS</cp:lastModifiedBy>
  <dcterms:modified xsi:type="dcterms:W3CDTF">2004-02-05T19:52:20Z</dcterms:modified>
  <cp:revision>33</cp:revision>
  <dc:subject/>
  <dc:title>Introduction to ML</dc:title>
</cp:coreProperties>
</file>