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64E-4C8D-4154-B989-0B9B171C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D83-D238-4779-B2C6-B25D38F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004-2367-4EF7-A2E5-D55C2BEA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E24-3CDA-42A7-A523-078D0A3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5414-0D38-4828-BF08-00986F07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662-B342-4415-A1EF-38ACA21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EB68-54B3-4CEF-85F1-3837609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FBB-D797-4F8B-8A6A-81CB0B7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941C-5CDF-4E0F-A873-4A7F8B3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E9E6-A617-4722-A426-028682B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7C01-0164-47D2-8808-27EDFD8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7B5-6E6D-47D8-B9CF-402792B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B37C-28E0-4FC2-A678-24FD44D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40E6-F4F7-42A0-B7D2-F1EA0EE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754-F615-4AE2-9EDE-3FB1D84F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A3F-7ACF-4E8B-B332-858EE327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4F3-B59E-4514-B899-C3B7FD9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069-6294-4C79-BD5B-D7F52F61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13A-ED67-44F3-96B6-27A766F8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EA7-A3C4-493B-B687-3FECF4A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183-615A-42FF-A791-EC383D6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BC5-C2C8-4EAB-8280-54FC1BE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792-3F07-4BEC-9196-6F911DB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ED9-8D02-4C93-880D-BA2977E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5AF-7881-4E81-AF52-B135CECEE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5FED-1ED0-4AE5-86D8-1F5BC2F769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4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er Sourc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 Trees as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data layout on th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ffrey Ullman “Elements of ML Programm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“an introduction to M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 Dantas (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antas@cs.princeton.ed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Mondays 2-3 P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51460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4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731600" y="2286000"/>
            <a:ext cx="25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App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ML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ffrey D. Ull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: online references; see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855440" y="2514600"/>
            <a:ext cx="50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 =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(Num t1,Num t2)  =&gt; t1 +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chapter 1 App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52:20Z</dcterms:modified>
  <cp:revision>33</cp:revision>
  <dc:subject/>
  <dc:title>Introduction to ML</dc:title>
</cp:coreProperties>
</file>