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A97-5981-4E30-A95B-9502B7E4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A43-DC06-4E3A-9D4E-27CCC100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0C3-2F1A-4D65-9A70-D90E8A8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8E9-A47C-4326-B5D3-11FDD93F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779-AAA1-46BA-85ED-CDE8784D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552-014D-498B-8670-F33E49B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1B7-0156-4B68-81CE-330D6016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7E0-3D2F-449A-9DB2-7EB71719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5B5-5414-48D7-9FA5-30B1675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78B3-FE18-4E8A-BA6B-F1226EB5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A2E-296C-4718-8EE2-9666348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148-E6FF-4A51-BE9F-43DF692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F101-7C50-4956-BF78-ABF29C4B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ost of the content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stic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lled node may be colorable; when assigning colors (step 2), try to color it and only still if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, revised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colorable, color it.  If not, assign it a stack location and keep col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e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onservative coalescing aviods creation of high-degree (&gt;= K)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61760" y="3962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8544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39625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124080" y="2971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35268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019560" y="39625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943240" y="29718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9625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238880" y="2971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58128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50880" y="3214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 not move-related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752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00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6483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648320"/>
            <a:ext cx="19047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7" idx="0"/>
            <a:endCxn id="104" idx="3"/>
          </p:cNvCxnSpPr>
          <p:nvPr/>
        </p:nvCxnSpPr>
        <p:spPr>
          <a:xfrm flipV="1" rot="16200000">
            <a:off x="3885840" y="2247120"/>
            <a:ext cx="240120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5" idx="1"/>
            <a:endCxn id="104" idx="1"/>
          </p:cNvCxnSpPr>
          <p:nvPr/>
        </p:nvCxnSpPr>
        <p:spPr>
          <a:xfrm flipH="1" rot="10800000">
            <a:off x="1980000" y="2247120"/>
            <a:ext cx="2520" cy="144864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6" idx="3"/>
            <a:endCxn id="107" idx="1"/>
          </p:cNvCxnSpPr>
          <p:nvPr/>
        </p:nvCxnSpPr>
        <p:spPr>
          <a:xfrm>
            <a:off x="3886200" y="514332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5" idx="2"/>
            <a:endCxn id="106" idx="0"/>
          </p:cNvCxnSpPr>
          <p:nvPr/>
        </p:nvCxnSpPr>
        <p:spPr>
          <a:xfrm>
            <a:off x="2933280" y="41911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0"/>
          </p:cNvCxnSpPr>
          <p:nvPr/>
        </p:nvCxnSpPr>
        <p:spPr>
          <a:xfrm>
            <a:off x="2933280" y="2743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imultaneously live variables cannot be allocated to the same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ransformation (move coalescing and spi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wo variables appear in out[n] for any n, they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at most K-1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 and add it back into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tes in the interferenc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every not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NP-complet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CS</cp:lastModifiedBy>
  <dcterms:modified xsi:type="dcterms:W3CDTF">2003-04-22T18:40:19Z</dcterms:modified>
  <cp:revision>6</cp:revision>
  <dc:subject/>
  <dc:title>Register Allocation</dc:title>
</cp:coreProperties>
</file>