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1257-1B68-4BF3-A55C-AFE63951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D492-5795-47D8-938A-0433BC34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3707-40C9-4D2E-8A6A-F4571AAE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BD7D-A76A-4F7A-B00D-38959C2B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F1D3-97D6-40E7-B06F-B11F2FCA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2C8C-433F-43F1-BA4E-4D9BB9E5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D341-EFA4-45C7-8149-8FEB812F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F5BB-BC31-4B32-93BA-15A7BEAC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9BE7-8765-4A10-B9A2-22457DDA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9A7F-A469-42A3-B5CB-5AF50D13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92EC-B4FA-459F-AD25-73B26B95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3D0E-F0A2-41AE-AAD7-515D1E11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2A94-D676-4FF4-BB69-ACA743A54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 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ith thanks to Andrew Myers for most of the content of these sli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3 (spilling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once all nodes have K or more neighbors, pick a node for sp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on th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heuristics that can be used to pick a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 an inne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stic 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lled node may be colorable; when assigning colors (step 2), try to color it and only still if 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2 (color, revised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colorable, color it.  If not, assign it a stack location and keep col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generate extra instructions to load variables from stack and st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upid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ways keep extra registers handy for shuffling data in and out: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what a was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etter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write code introducing a new temporary; rerun liveness analysis and register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writ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dd t1 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lected for spelling and assigned to stack location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[ebp-2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ed new temporary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just this instruction and rewri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v t35, [ebp – 24]; add t1, t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a very short live range and is much less likely to interf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run the algorithm; fewer variables will sp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olored N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variables are pre-assigned to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: mul on x86/pen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eax; defines eax, e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: call on x86/pen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(trashes) caller-save registers eax, ecx, e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 these registers as special temporaries; before beginning, add them to the graph with their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olored N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simplify a graph by removing a precolored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lored nodes are the starting point of the color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simplified down to colored nodes start adding back the other nodes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ing Mo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generation produces a lot of extra mov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 t1, 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can assign t1 and t2 to the same register, we do not have to execute the m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if t1 and t2 are not connected in the interference graph, w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ales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a single vari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les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coalescing can increase the number of interference edges and make a graph uncolo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conservative coalescing aviods creation of high-degree (&gt;= K)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335268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335268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761760" y="39625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685440" y="29718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39625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124080" y="29718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29400" y="335268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335268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/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019560" y="39625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943240" y="29718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39625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238880" y="29718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3581280"/>
            <a:ext cx="1218960" cy="30492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50880" y="32148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 &amp; Coales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1 (simplify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implify as much as possible without removing nodes that are the source or destination of a move (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ove-related no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2 (coalesce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coalesce move-related nodes provided low-degree nod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3 (freeze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f neither steps 1 or 2 apply, freeze a move instruction:  registers involved are mark not move-related and try step 1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1752480"/>
            <a:ext cx="19051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, fre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oal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3200400"/>
            <a:ext cx="19051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4648320"/>
            <a:ext cx="19051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4648320"/>
            <a:ext cx="190476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rit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107" idx="0"/>
            <a:endCxn id="104" idx="3"/>
          </p:cNvCxnSpPr>
          <p:nvPr/>
        </p:nvCxnSpPr>
        <p:spPr>
          <a:xfrm flipV="1" rot="16200000">
            <a:off x="3885840" y="2247120"/>
            <a:ext cx="2401200" cy="2401200"/>
          </a:xfrm>
          <a:prstGeom prst="bentConnector2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5" idx="1"/>
            <a:endCxn id="104" idx="1"/>
          </p:cNvCxnSpPr>
          <p:nvPr/>
        </p:nvCxnSpPr>
        <p:spPr>
          <a:xfrm flipH="1" rot="10800000">
            <a:off x="1980000" y="2247120"/>
            <a:ext cx="2520" cy="1448640"/>
          </a:xfrm>
          <a:prstGeom prst="bentConnector3">
            <a:avLst>
              <a:gd name="adj1" fmla="val -26600000"/>
            </a:avLst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6" idx="3"/>
            <a:endCxn id="107" idx="1"/>
          </p:cNvCxnSpPr>
          <p:nvPr/>
        </p:nvCxnSpPr>
        <p:spPr>
          <a:xfrm>
            <a:off x="3886200" y="5143320"/>
            <a:ext cx="1448640" cy="108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5" idx="2"/>
            <a:endCxn id="106" idx="0"/>
          </p:cNvCxnSpPr>
          <p:nvPr/>
        </p:nvCxnSpPr>
        <p:spPr>
          <a:xfrm>
            <a:off x="2933280" y="419112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5" idx="0"/>
          </p:cNvCxnSpPr>
          <p:nvPr/>
        </p:nvCxnSpPr>
        <p:spPr>
          <a:xfrm>
            <a:off x="2933280" y="274320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to replace temporary variables with some fixed set of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: need to know which variables are live after each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imultaneously live variables cannot be allocated to the same reg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allocation has three major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ness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col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transformation (move coalescing and spil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chapter 11.1-11.3 in A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very nod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CFG, we hav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[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temporaries live out of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wo variables appear in out[n] for any n, they </a:t>
            </a: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interf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assign registers to vari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o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graph =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d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nect variables that interfere with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s will be assigned a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rresponding to the register assigned to the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lors can’t be next to one another in th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52578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25744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7712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25200" y="2641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67320" y="270684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67320" y="3240000"/>
            <a:ext cx="53352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41040" y="3228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2080" y="210816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2173320"/>
            <a:ext cx="198108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efficiently find a coloring of the graph whenever 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efficiently find the optimum coloring of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choose registers to avoid move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we do when there aren’t enough colors (registers) to color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mpe’s algorithm [1879] for finding a K-coloring of a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K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1 (simplify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find a node with at most K-1 edges and cut it out of the graph.  (Remember this node on a stack for later stage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a coloring is found for the simpler graph, we can always color the node we saved on the stack and add it back into th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2 (color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hen the simplified subgraph has been colored, add back the node on the top of the stack and assign it a color not taken by one of the adjacent notes in the interferenc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graph cannot be colored, it will eventually be simplified to graph in which every note has at least K neighb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, the graph is still K-colorab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a K-coloring in all situations is an NP-complet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have to approx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5:37:48Z</dcterms:created>
  <dc:creator>CS</dc:creator>
  <dc:description/>
  <dc:language>en-US</dc:language>
  <cp:lastModifiedBy>CS</cp:lastModifiedBy>
  <dcterms:modified xsi:type="dcterms:W3CDTF">2003-04-22T18:40:19Z</dcterms:modified>
  <cp:revision>6</cp:revision>
  <dc:subject/>
  <dc:title>Register Allocation</dc:title>
</cp:coreProperties>
</file>