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A2E3-2D1F-4589-96D0-6C24126A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5325-DF5A-4235-9F23-3E181C6C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8992-976A-42E6-ACE3-3778D0037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DA2A-23E7-43C1-BD92-77584CAEF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22DB-E2F1-4CC3-AF2F-0E3A1968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D6AE-2C3A-414B-8CFC-82FB8001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6699-DDCD-4C74-B9AE-BCB45EB5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087C-36CB-446C-B1F7-AE533777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DB4D-8865-4D33-8F3C-7F1F1CDA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172E-A498-44FB-838A-385268ED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1D38-A48E-4D55-BD26-FCB0762A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22DB-BA40-43EA-8436-410D9A7D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2758-6D5D-4A8D-A786-B44F26A88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er Al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 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ith thanks to Andrew Myers for most of the content of these sli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tep 3 (spilling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once all nodes have K or more neighbors, pick a node for spi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age on th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heuristics that can be used to pick a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in an inner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stic 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lled node may be colorable; when assigning colors (step 2), try to color it and only still if necess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tep 2 (color, revised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colorable, color it.  If not, assign it a stack location and keep col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lling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generate extra instructions to load variables from stack and stor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upid appro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ways keep extra registers handy for shuffling data in and out: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what a was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Better appro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write code introducing a new temporary; rerun liveness analysis and register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writing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: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dd t1 t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elected for spelling and assigned to stack location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[ebp-2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nted new temporary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just this instruction and rewri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ov t35, [ebp – 24]; add t1, t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a very short live range and is much less likely to interf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run the algorithm; fewer variables will sp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olored N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variables are pre-assigned to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: mul on x86/pent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eax; defines eax, e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: call on x86/pent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(trashes) caller-save registers eax, ecx, e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 these registers as special temporaries; before beginning, add them to the graph with their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olored N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 simplify a graph by removing a precolored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olored nodes are the starting point of the color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simplified down to colored nodes start adding back the other nodes as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zing Mo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generation produces a lot of extra mov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 t1, t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can assign t1 and t2 to the same register, we do not have to execute the m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 if t1 and t2 are not connected in the interference graph, w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ales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a single vari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les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coalescing can increase the number of interference edges and make a graph uncolo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conservative coalescing aviods creation of high-degree (&gt;= K)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335268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335268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761760" y="39625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685440" y="29718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8120" y="39625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124080" y="29718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29400" y="335268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335268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/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019560" y="39625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943240" y="29718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39625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238880" y="29718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3581280"/>
            <a:ext cx="1218960" cy="30492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50880" y="32148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e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 &amp; Coales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ep 1 (simplify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simplify as much as possible without removing nodes that are the source or destination of a move (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ove-related no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ep 2 (coalesce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coalesce move-related nodes provided low-degree nod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ep 3 (freeze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f neither steps 1 or 2 apply, freeze a move instruction:  registers involved are mark not move-related and try step 1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all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1752480"/>
            <a:ext cx="19051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, free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coale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3200400"/>
            <a:ext cx="19051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4648320"/>
            <a:ext cx="19051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4648320"/>
            <a:ext cx="190476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rit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 sp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>
            <a:stCxn id="107" idx="0"/>
            <a:endCxn id="104" idx="3"/>
          </p:cNvCxnSpPr>
          <p:nvPr/>
        </p:nvCxnSpPr>
        <p:spPr>
          <a:xfrm flipV="1" rot="16200000">
            <a:off x="3885840" y="2247120"/>
            <a:ext cx="2401200" cy="2401200"/>
          </a:xfrm>
          <a:prstGeom prst="bentConnector2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105" idx="1"/>
            <a:endCxn id="104" idx="1"/>
          </p:cNvCxnSpPr>
          <p:nvPr/>
        </p:nvCxnSpPr>
        <p:spPr>
          <a:xfrm flipH="1" rot="10800000">
            <a:off x="1980000" y="2247120"/>
            <a:ext cx="2520" cy="1448640"/>
          </a:xfrm>
          <a:prstGeom prst="bentConnector3">
            <a:avLst>
              <a:gd name="adj1" fmla="val -26600000"/>
            </a:avLst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6" idx="3"/>
            <a:endCxn id="107" idx="1"/>
          </p:cNvCxnSpPr>
          <p:nvPr/>
        </p:nvCxnSpPr>
        <p:spPr>
          <a:xfrm>
            <a:off x="3886200" y="5143320"/>
            <a:ext cx="1448640" cy="108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5" idx="2"/>
            <a:endCxn id="106" idx="0"/>
          </p:cNvCxnSpPr>
          <p:nvPr/>
        </p:nvCxnSpPr>
        <p:spPr>
          <a:xfrm>
            <a:off x="2933280" y="4191120"/>
            <a:ext cx="1080" cy="45792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5" idx="0"/>
          </p:cNvCxnSpPr>
          <p:nvPr/>
        </p:nvCxnSpPr>
        <p:spPr>
          <a:xfrm>
            <a:off x="2933280" y="2743200"/>
            <a:ext cx="1080" cy="45792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 to replace temporary variables with some fixed set of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: need to know which variables are live after each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imultaneously live variables cannot be allocated to the same reg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er allocation has three major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ness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col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transformation (move coalescing and spill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chapter 11.1-11.3 in Ap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er al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very nod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CFG, we hav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[n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temporaries live out of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wo variables appear in out[n] for any n, they </a:t>
            </a:r>
            <a:r>
              <a:rPr b="0" i="1" lang="en-US" sz="3200" spc="-1" strike="noStrike">
                <a:solidFill>
                  <a:srgbClr val="cc0000"/>
                </a:solidFill>
                <a:latin typeface="Arial"/>
              </a:rPr>
              <a:t>interf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assign registers to vari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o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graph =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d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nect variables that interfere with on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s will be assigned a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l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rresponding to the register assigned to the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lors can’t be next to one another in th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525780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25744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7712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25200" y="26416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67320" y="2706840"/>
            <a:ext cx="533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67320" y="3240000"/>
            <a:ext cx="533520" cy="381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41040" y="322884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2080" y="210816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4120" y="2173320"/>
            <a:ext cx="1981080" cy="1523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efficiently find a coloring of the graph whenever pos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efficiently find the optimum coloring of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choose registers to avoid move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we do when there aren’t enough colors (registers) to color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 a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mpe’s algorithm [1879] for finding a K-coloring of a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K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tep 1 (simplify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find a node with at most K-1 edges and cut it out of the graph.  (Remember this node on a stack for later stage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 a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a coloring is found for the simpler graph, we can always color the node we saved on the stack and add it back into th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tep 2 (color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when the simplified subgraph has been colored, add back the node on the top of the stack and assign it a color not taken by one of the adjacent notes in the interferenc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graph cannot be colored, it will eventually be simplified to graph in which every note has at least K neighb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, the graph is still K-colorab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a K-coloring in all situations is an NP-complet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have to approx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15:37:48Z</dcterms:created>
  <dc:creator>CS</dc:creator>
  <dc:description/>
  <dc:language>en-US</dc:language>
  <cp:lastModifiedBy>CS</cp:lastModifiedBy>
  <dcterms:modified xsi:type="dcterms:W3CDTF">2003-04-22T18:40:19Z</dcterms:modified>
  <cp:revision>6</cp:revision>
  <dc:subject/>
  <dc:title>Register Allocation</dc:title>
</cp:coreProperties>
</file>