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6BE-F1BF-45B8-B329-6D81A7E9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252-2A62-45D6-B41C-321DB32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7E1-95B7-43F8-B123-66C24EAD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180-5609-4786-9AC7-7BA61EFE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C07-20FD-464E-8368-4AE4981C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BDA-21E8-47C4-981D-A7A52F2C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F1B-D6BC-4EF7-B907-A784A68B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BCB-D4D6-4509-B7EC-46FAB393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E58-35AA-4AAE-9665-C92C985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30D-1565-4BC8-BD11-EFB60FE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22B-786B-4FCB-94B5-8AEB6B1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DF0-4C2F-435D-B373-C82EFF4D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A053-0347-4B7E-A26A-F1412FF43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Ti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CS</cp:lastModifiedBy>
  <dcterms:modified xsi:type="dcterms:W3CDTF">2003-05-01T03:17:01Z</dcterms:modified>
  <cp:revision>9</cp:revision>
  <dc:subject/>
  <dc:title>Objects and Classes</dc:title>
</cp:coreProperties>
</file>