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8B1-80BD-4137-8764-0012E391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CA5-12E1-43B3-A221-D3BA8FED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EAC-0DDA-4E41-8E8F-F58037F8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461-DD58-479D-8A2F-03A278C5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FC8-2232-4EDF-AAF5-098EEB41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A6B-C2BE-4FB8-BBA2-C8BB912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8DA-ACDD-448A-9CAE-6E73AD71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BD0D-71D4-4A1F-91EB-B16D7A57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704-515D-4631-ABD4-B7821427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4A3-CB54-47B8-AA02-7145A13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FA7-E159-4B0B-A53F-E1B8055C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539-FA85-4BD4-8D52-E920C4F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07F8-ADAD-4351-8F38-43A77886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Ti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CS</cp:lastModifiedBy>
  <dcterms:modified xsi:type="dcterms:W3CDTF">2003-05-01T03:17:01Z</dcterms:modified>
  <cp:revision>9</cp:revision>
  <dc:subject/>
  <dc:title>Objects and Classes</dc:title>
</cp:coreProperties>
</file>