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C0F4-D455-4001-B8C0-1D5669E9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391-1D5F-42F3-910B-B7519160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07BF-319F-4ACA-A520-F8398D2D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C804-69D8-439F-B811-62B2FCCD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C5B-36D0-44A5-BF5B-FB45C137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156-2339-43AE-9075-9A8273A0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DF3B-8F7B-455A-A705-95C21945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5097-F4C5-4364-9957-2D8A9626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19B-C80C-49D0-9381-B28A2CEC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439F-F23B-402F-B598-7C5D7E2A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0201-2DB8-441F-A072-1FA642C6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703A-671C-4B8A-A7B0-850AEB5F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7FF2-5CDD-4956-BA41-0D499FE04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s and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are laid out somewhat like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variable has a slot in the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implement field lookup we need to have a systematic way to find a given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 v.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may be a generic vehicle or it may be a car or a t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put “position” in the same place in the record that implements vehicles, cars and tru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extension on the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out the inherited fields first in the same order as in the parent (SI =&gt; only 1 par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out the newly declared to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102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61722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&amp; Dynam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compiling a method is some machine code located at a particula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ethod invocation point, we need to figure out what code location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static &amp; dynam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static method calls, we look at the static type of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dynamic method calls, we need the dynamic type of the call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semantic analysis, the compiler kn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type (class) of the object calling th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st of methods in each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determ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sest method (up the class hierarchy) with the give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s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pass object as self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call to the know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4040" y="1584360"/>
            <a:ext cx="4168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bar (x:int)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 : A = n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b : A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 B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bar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bar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B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called depends on object’s dynamic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semantic analysis,  may be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-time, we determine which code to jump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stores a pointer to its method table (v-table) as well as its object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compile-time, we generate cod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up v-table in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 method from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 to method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5480" y="1584360"/>
            <a:ext cx="3873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bar (x:int)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 : A = n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b : A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 A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ong-and-tricky-compu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foo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ced Lang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programming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 data types, exceptions, modules, objects, concurrency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 to use, but require special techniques to compile and opt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will be looking at how to compile objects and classes similar to those found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chapter 14.1-1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102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72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48520" y="380988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528" y="0"/>
                </a:moveTo>
                <a:cubicBezTo>
                  <a:pt x="356" y="84"/>
                  <a:pt x="184" y="168"/>
                  <a:pt x="96" y="336"/>
                </a:cubicBezTo>
                <a:cubicBezTo>
                  <a:pt x="8" y="504"/>
                  <a:pt x="4" y="756"/>
                  <a:pt x="0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72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380988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528" y="0"/>
                </a:moveTo>
                <a:cubicBezTo>
                  <a:pt x="356" y="84"/>
                  <a:pt x="184" y="168"/>
                  <a:pt x="96" y="336"/>
                </a:cubicBezTo>
                <a:cubicBezTo>
                  <a:pt x="8" y="504"/>
                  <a:pt x="4" y="756"/>
                  <a:pt x="0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05920" y="48006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05920" y="53341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05920" y="5867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05720" y="4876920"/>
            <a:ext cx="1676160" cy="1257120"/>
          </a:xfrm>
          <a:custGeom>
            <a:avLst/>
            <a:gdLst/>
            <a:ahLst/>
            <a:rect l="l" t="t" r="r" b="b"/>
            <a:pathLst>
              <a:path w="1056" h="792">
                <a:moveTo>
                  <a:pt x="1056" y="144"/>
                </a:moveTo>
                <a:cubicBezTo>
                  <a:pt x="1008" y="72"/>
                  <a:pt x="960" y="0"/>
                  <a:pt x="912" y="96"/>
                </a:cubicBezTo>
                <a:cubicBezTo>
                  <a:pt x="864" y="192"/>
                  <a:pt x="920" y="648"/>
                  <a:pt x="768" y="720"/>
                </a:cubicBezTo>
                <a:cubicBezTo>
                  <a:pt x="616" y="792"/>
                  <a:pt x="308" y="660"/>
                  <a:pt x="0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Inheri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heritence is trickier to implement than single inheritence because creating objects of a subclass from their subclass by “extension on the right” does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 inherits from both A and B, we can’t put A’s variables at the front and put B’s variables at the front of the object in the same pla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do a global analysis to determine object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343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238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01560" y="3962520"/>
            <a:ext cx="370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object layout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graph color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for each field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ference edge bet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that coexist in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(via inheritence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526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343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657600" y="54100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30600" y="4267080"/>
            <a:ext cx="546120" cy="1524240"/>
          </a:xfrm>
          <a:custGeom>
            <a:avLst/>
            <a:gdLst/>
            <a:ahLst/>
            <a:rect l="l" t="t" r="r" b="b"/>
            <a:pathLst>
              <a:path w="344" h="960">
                <a:moveTo>
                  <a:pt x="344" y="96"/>
                </a:moveTo>
                <a:cubicBezTo>
                  <a:pt x="228" y="48"/>
                  <a:pt x="112" y="0"/>
                  <a:pt x="56" y="144"/>
                </a:cubicBezTo>
                <a:cubicBezTo>
                  <a:pt x="0" y="288"/>
                  <a:pt x="4" y="624"/>
                  <a:pt x="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51320" y="587844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d spac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T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lass declarations to Tig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are a collec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(variable)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lass declaration gives a new name to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may </a:t>
            </a:r>
            <a:r>
              <a:rPr b="0" lang="ug-CN" sz="2800" spc="-1" strike="noStrike">
                <a:solidFill>
                  <a:srgbClr val="000000"/>
                </a:solidFill>
                <a:latin typeface="Arial"/>
              </a:rPr>
              <a:t>in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g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and fields from the class it ext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“object” sits at the top of the class hierarchy; it has no fields and no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866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866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866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08660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86600" y="6248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866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65320" y="5410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90800" y="540864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35320" y="38098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14680" y="4419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4954680"/>
            <a:ext cx="5331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14680" y="548496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60199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724280" y="3556080"/>
            <a:ext cx="533520" cy="863640"/>
          </a:xfrm>
          <a:custGeom>
            <a:avLst/>
            <a:gdLst/>
            <a:ahLst/>
            <a:rect l="l" t="t" r="r" b="b"/>
            <a:pathLst>
              <a:path w="336" h="544">
                <a:moveTo>
                  <a:pt x="336" y="160"/>
                </a:moveTo>
                <a:cubicBezTo>
                  <a:pt x="244" y="80"/>
                  <a:pt x="152" y="0"/>
                  <a:pt x="96" y="64"/>
                </a:cubicBezTo>
                <a:cubicBezTo>
                  <a:pt x="40" y="128"/>
                  <a:pt x="20" y="336"/>
                  <a:pt x="0" y="5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4582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4582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45820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458200" y="6248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4582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467480" y="3530520"/>
            <a:ext cx="1067040" cy="584280"/>
          </a:xfrm>
          <a:custGeom>
            <a:avLst/>
            <a:gdLst/>
            <a:ahLst/>
            <a:rect l="l" t="t" r="r" b="b"/>
            <a:pathLst>
              <a:path w="672" h="368">
                <a:moveTo>
                  <a:pt x="0" y="176"/>
                </a:moveTo>
                <a:cubicBezTo>
                  <a:pt x="40" y="88"/>
                  <a:pt x="80" y="0"/>
                  <a:pt x="192" y="32"/>
                </a:cubicBezTo>
                <a:cubicBezTo>
                  <a:pt x="304" y="64"/>
                  <a:pt x="488" y="216"/>
                  <a:pt x="672" y="3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0040" y="594360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5105160" y="56383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356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2252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16400" y="603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040280" y="4495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40280" y="6110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008920" y="4191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002800" y="4738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008920" y="5257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002800" y="58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02800" y="6338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65320" y="5410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90800" y="540864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35320" y="38098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89548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356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2252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16400" y="603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99880" y="3581280"/>
            <a:ext cx="3716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etch a field using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, w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the first field of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et the class descript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M [c + fieldOffse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fieldOffset can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omputed using glob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 coloring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analyses are the bane of modern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pplications use dynamically linked libraries, mobile code, get patches to fix bug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don’t have the whole program at compile-time, we can’t do global analys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(most of the tim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mart custom lin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tricky when new code is linked dynamically to code that is already r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, Java has single inheri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O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-casts and type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has casting mechanism “(C) x” to cast variable x to clas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 time we look up x’s dynamic type and determine whether it is a subtype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ype casts are currently pervasive and a source of both inefficiency and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n, Java and C# will be adding parametric polymorphism, a la ML, to make many of these unnecessary casts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O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capsulate local state within an object, Java has “private” “protected” and “public”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thods/fields can’t be called/used outside of the class in which they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semantic analysis (type checking), the compiler maintains this information in the symbol table for each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languages provide new challenges for compiler wr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find field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ake field and method access just as efficient as ordinary function call and variabl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ongoing research in OO language implementation tackles these and other interes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bject Tige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3200400"/>
            <a:ext cx="6400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 : int) = (position := position +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2438280"/>
            <a:ext cx="1218960" cy="10670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040" y="20574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2520" y="2209680"/>
            <a:ext cx="248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perclass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Vehicle inherit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181120" y="2666880"/>
            <a:ext cx="762120" cy="8384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440388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990720" y="4038480"/>
            <a:ext cx="1143000" cy="5335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510552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81280" y="4495320"/>
            <a:ext cx="609840" cy="6858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Object Tige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1600200"/>
            <a:ext cx="56833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(position := position +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assengers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await(v:vehicle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v.position  &lt; position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move(position – v.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.move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34840" y="569916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v’s “position”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791320" y="5409720"/>
            <a:ext cx="380880" cy="3812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31560" y="615636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urrent object’s “position”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343040" y="5409720"/>
            <a:ext cx="685800" cy="7621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7200" y="5622840"/>
            <a:ext cx="189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all to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057400" y="5790960"/>
            <a:ext cx="457200" cy="759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295596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3581280"/>
            <a:ext cx="609840" cy="3812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120" y="3413160"/>
            <a:ext cx="163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meth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14640" y="4114800"/>
            <a:ext cx="685800" cy="4572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t Another Object Tige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1600200"/>
            <a:ext cx="568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position := position +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ruck extends Vehic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 &lt;= 55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:= position *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33720" y="6156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 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343040" y="5409720"/>
            <a:ext cx="685800" cy="7621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1600200"/>
            <a:ext cx="568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 ...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ruck extends Vehicle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t := new 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new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v : Vehicle :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passengers :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move(6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move(7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wait(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2743200"/>
            <a:ext cx="139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266720" y="3048120"/>
            <a:ext cx="2210040" cy="3045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5120" y="3794040"/>
            <a:ext cx="253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sed as a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266720" y="3962160"/>
            <a:ext cx="160020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6320" y="5318280"/>
            <a:ext cx="27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sed as a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428640" y="5486040"/>
            <a:ext cx="160020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4800600"/>
            <a:ext cx="380880" cy="763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4098960"/>
            <a:ext cx="15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car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n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4952880"/>
            <a:ext cx="457200" cy="1526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Object T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ey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ccess object fiel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inherited fields and fields for the current ob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ccess method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urrent class does not define a particular method, where do we go to get the inherited method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handle method overr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class hier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graph of inheritence relationships in a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ingle-inheri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) language, the graph is 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ultiple-inheri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I) language, the graph is a 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-inheritence languages are much trickier to implement than single-inheritence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4400" y="25909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1320" y="3565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840" y="4479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44798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581280" y="4038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724280" y="40381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3434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23:13:28Z</dcterms:created>
  <dc:creator>CS</dc:creator>
  <dc:description/>
  <dc:language>en-US</dc:language>
  <cp:lastModifiedBy>CS</cp:lastModifiedBy>
  <dcterms:modified xsi:type="dcterms:W3CDTF">2003-05-01T03:17:01Z</dcterms:modified>
  <cp:revision>9</cp:revision>
  <dc:subject/>
  <dc:title>Objects and Classes</dc:title>
</cp:coreProperties>
</file>