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4094-D5DF-4BA1-B5ED-4B4D50B2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C3C-8103-4645-8181-C565E188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862-7DA9-47E1-B8DE-2D5A3AA9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1E6-4DFC-4D8E-A479-0E4B6E9A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7D4F-1238-462B-A229-2DCF4892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6E66-D233-431D-ADDC-C3226696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D1B-C9F1-4B8F-B8DD-26549C3F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045-F2BE-42EA-BCF5-C222FBA0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07C-5665-43A8-A204-F9482A33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FADF-B28A-436B-B83C-EC974B0C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392-053F-4D95-8B78-7C931A88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BF8-85E6-4046-9F44-C4A8FD63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157D-B512-4784-9C01-F51B0C04A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 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1616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4444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24080" y="1716120"/>
            <a:ext cx="65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 retain &amp; unmark mark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1144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39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83808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36640" y="171612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1144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439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295280" y="3885840"/>
            <a:ext cx="3962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1716120"/>
            <a:ext cx="70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GC complete when heap bound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ntered; resum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9140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3429000"/>
            <a:ext cx="380880" cy="30492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cubicBezTo>
                  <a:pt x="212" y="96"/>
                  <a:pt x="184" y="0"/>
                  <a:pt x="144" y="0"/>
                </a:cubicBezTo>
                <a:cubicBezTo>
                  <a:pt x="104" y="0"/>
                  <a:pt x="52" y="9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3035160"/>
            <a:ext cx="3886200" cy="698760"/>
          </a:xfrm>
          <a:custGeom>
            <a:avLst/>
            <a:gdLst/>
            <a:ahLst/>
            <a:rect l="l" t="t" r="r" b="b"/>
            <a:pathLst>
              <a:path w="2448" h="440">
                <a:moveTo>
                  <a:pt x="2448" y="440"/>
                </a:moveTo>
                <a:cubicBezTo>
                  <a:pt x="2052" y="228"/>
                  <a:pt x="1656" y="16"/>
                  <a:pt x="1248" y="8"/>
                </a:cubicBezTo>
                <a:cubicBezTo>
                  <a:pt x="840" y="0"/>
                  <a:pt x="420" y="196"/>
                  <a:pt x="0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 of Mark Sw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mark pha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R) where R is the # of reachabl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cost is c1 * R (c1 may be 10 instr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sweep ph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H) where H is the # of words in entire 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cost is c2 * H (c2 may be 3 instr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rtize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llection returns H - 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allocated word, we have GC c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c1 * R) + (c2 * H)) / (H -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/ H must be sufficiently small or GC cost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if R / H is larger than .5, increase hea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idden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th-first search is usually implemented as a recursiv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stack space proportional to the longest path in the graph of reachable ob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ctivation record/node in the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ion records are b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heap is one long linked list, the stack space used in the algorithm will be greater than the heap siz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we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ifty t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-Schorr-Waite pointer rever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using a recursive algorithm, reuse the components of the graph you are traversing to build an explicit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mplementation trick only demands a few extra bits/block rather than an entire activation record/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ready needed a few extra bits per block to hold the “mark” any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ime:  A survey of common garbage collection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memor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unting (Appel 13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ing collection (Appel 13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al collection (Appel 13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ker’s algorithm (Appel 13.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 collection (Appel 13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interface (13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4419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553080" y="4952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391520" y="5486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7772040" y="5638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5486040" y="449568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182920" y="4419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4952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07768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6705720" y="4723920"/>
            <a:ext cx="457200" cy="381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6324120" y="51814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638680" y="5105160"/>
            <a:ext cx="838440" cy="759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4876920"/>
            <a:ext cx="380880" cy="304560"/>
          </a:xfrm>
          <a:custGeom>
            <a:avLst/>
            <a:gdLst>
              <a:gd name="textAreaLeft" fmla="*/ 47520 w 380880"/>
              <a:gd name="textAreaRight" fmla="*/ 33336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34320" y="4952880"/>
            <a:ext cx="38088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676520" y="2209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676520" y="27432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21932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514600" y="3276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523520" y="29718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609120" y="1981080"/>
            <a:ext cx="228600" cy="304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06000" y="2209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3520" y="1600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828800" y="19810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36584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657600" y="228600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72200" y="2133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72200" y="2666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15000" y="3200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010280" y="3200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6019920" y="28954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7816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38680" y="1905120"/>
            <a:ext cx="53352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5105520" y="2209680"/>
            <a:ext cx="121896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802040" y="2133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1523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6477120" y="1981080"/>
            <a:ext cx="1095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414200" y="16002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5530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81080" y="4495680"/>
            <a:ext cx="45720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98108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523880" y="556272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19520" y="5562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52578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143000" y="5181480"/>
            <a:ext cx="83808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914040" y="457200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10920" y="449568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85920" y="502920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2896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362320" y="5029200"/>
            <a:ext cx="0" cy="304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229600" y="2209680"/>
            <a:ext cx="380880" cy="304920"/>
          </a:xfrm>
          <a:custGeom>
            <a:avLst/>
            <a:gdLst>
              <a:gd name="textAreaLeft" fmla="*/ 4752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90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133720" y="4800600"/>
            <a:ext cx="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4419720"/>
            <a:ext cx="457200" cy="3045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952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95880" y="54864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91520" y="54864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7772040" y="5638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5486040" y="4495680"/>
            <a:ext cx="1219320" cy="763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182920" y="4419720"/>
            <a:ext cx="4352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52880" y="495288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077680" y="55468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93432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6705720" y="4723920"/>
            <a:ext cx="457200" cy="381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6324120" y="51814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5638680" y="5105160"/>
            <a:ext cx="838440" cy="759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57600" y="4876920"/>
            <a:ext cx="380880" cy="304560"/>
          </a:xfrm>
          <a:custGeom>
            <a:avLst/>
            <a:gdLst>
              <a:gd name="textAreaLeft" fmla="*/ 47520 w 380880"/>
              <a:gd name="textAreaRight" fmla="*/ 333360 w 380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81080" y="5029200"/>
            <a:ext cx="38124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934320" y="4952880"/>
            <a:ext cx="380880" cy="304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107960" y="6019920"/>
            <a:ext cx="482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bits needed to keep track of wh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fields we have processed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space required for swee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t/record to keep track of whether the record has been seen (the “mark bi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log 2 bits/record where f is the number of fields in the record to keep track of how many fields have been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a vector: done[x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rk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ets x’s mar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rked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ue if x’s mark bit is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inter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rue if x is a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elds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eturns number of fields in the record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424040" y="2971800"/>
            <a:ext cx="41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next is object being processe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411440" y="3565440"/>
            <a:ext cx="46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one[next] is field being processe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904760" y="3200400"/>
            <a:ext cx="2361960" cy="6094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133720" y="3809880"/>
            <a:ext cx="2133360" cy="2286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31360" y="3124080"/>
            <a:ext cx="22104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i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66880" y="2819520"/>
            <a:ext cx="22100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666880" y="2971800"/>
            <a:ext cx="221004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629400" y="327672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64840" y="3440160"/>
            <a:ext cx="179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use fiel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ore back pt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4191120"/>
            <a:ext cx="228600" cy="506160"/>
          </a:xfrm>
          <a:custGeom>
            <a:avLst/>
            <a:gdLst>
              <a:gd name="textAreaLeft" fmla="*/ 0 w 228600"/>
              <a:gd name="textAreaRight" fmla="*/ 82440 w 22860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67000" y="402264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itializ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ext it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264560" y="2565360"/>
            <a:ext cx="44629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.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y) &amp; not (marked y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back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94360" y="4876920"/>
            <a:ext cx="228600" cy="506160"/>
          </a:xfrm>
          <a:custGeom>
            <a:avLst/>
            <a:gdLst>
              <a:gd name="textAreaLeft" fmla="*/ 0 w 228600"/>
              <a:gd name="textAreaRight" fmla="*/ 82440 w 228600"/>
              <a:gd name="textAreaTop" fmla="*/ 12960 h 506160"/>
              <a:gd name="textAreaBottom" fmla="*/ 493200 h 50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133040" y="493704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ield is d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971800" y="266652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3047760" y="502920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73800" y="3200400"/>
            <a:ext cx="27745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b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xt = nil then 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.i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i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581280" y="60958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581280" y="3276720"/>
            <a:ext cx="9144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085880" y="236232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fs compl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086240" y="2895480"/>
            <a:ext cx="685800" cy="12956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SW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2720" y="1371600"/>
            <a:ext cx="342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 dfs(next)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pointer next)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(marked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initialization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&lt; (fields next)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process ith fiel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back-track to previ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573800" y="3200400"/>
            <a:ext cx="27745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nex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= ba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xt = nil then 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= done[next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 = next.i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.i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e[next] = i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15400" y="1355760"/>
            <a:ext cx="274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* depth-first search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nstant space 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581280" y="6095880"/>
            <a:ext cx="838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3581280" y="3276720"/>
            <a:ext cx="9144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466760" y="5029200"/>
            <a:ext cx="14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vanc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ext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480060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-sw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wo-phas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ark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pth first traversal of object graph from the roots to mark l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weep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terate over entire heap, adding the unmarked data back onto the fre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Mark-Swee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collectors can benefit from the tricks used to implement malloc/free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free lists, one size of block/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can suffer from 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not copied and compacted like in copying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-sweep doesn’t require 2x live data size to op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f the ratio of live data to heap size is too large then performance s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ervative Col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languages like C can benefit from G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ehm-Weiser-Demers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nservative 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s heuristics to determine which objects are pointers and which are integers without any languag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2 bits are non-zero =&gt; can’t be a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is not in allocated heap range =&gt; can’t be a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 phase traverses all possible po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ve because it may retain data that isn’t reach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s an integer is actually a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gc is conservative anyway so this is almost never an issue (despite what people s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 if your program doesn’t manufacture pointers from integers by, say, using xor (using normal pointer arithmetic is f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face to the garbage collector involves two main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s can allocated up to approx 1 word/7 instr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code must b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lazing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inlined and optimized to avoid call-return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l gc code, the program must identify the ro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raverse data, heap layout must be specified some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314840" y="4343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924680" y="43434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856560" y="3565440"/>
            <a:ext cx="231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seful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not alloc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functio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sul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5257440" y="3200400"/>
            <a:ext cx="2514600" cy="1295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114800" y="2362320"/>
            <a:ext cx="3657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985520" y="2193840"/>
            <a:ext cx="77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7391160" y="2895480"/>
            <a:ext cx="1066680" cy="18288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7543800" y="2819520"/>
            <a:ext cx="45720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983720" y="2193840"/>
            <a:ext cx="11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m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7772400" y="3505320"/>
            <a:ext cx="533520" cy="16761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6324120" y="3276720"/>
            <a:ext cx="167652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984800" y="2438280"/>
            <a:ext cx="119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li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s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ocation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ize of record allocated is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all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next + N &lt; limit   (call gc on fail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lear M[next], ..., M[next + N –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= next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Return from allo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ove next into computationally useful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useful values into M[next],....,M[next + N -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056600" y="6004080"/>
            <a:ext cx="726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otal overhead for allocation on the order of 3 instructions/all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ing G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l the GC, program mu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oo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C-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an control-flow point where the garbage collector may be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ion point; function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GC-point, compiler generates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ointer 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says which registers, stack locations in the current frame contain po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lobal table maps GC-points (code addresses) to pointer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rogram calls the GC, to find all roo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scans down stack, one activation record at a time, looking up the current pointer map for tha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580716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ing GC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l the GC, program mu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GC to determi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ata lay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bjects in the he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L, Tiger, Pas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record has a header with size and pointer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Java, Modula-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bject has an extra field that points to class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uses class definition to determine object layout including size and pointer 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rbage collectors are a complex and fascinating part of any modern languag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ollection algs have pros/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MM, reference counting, copying, generational, mark-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ethods, including explicit MM hav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s make allocation fast, GC time, space and latency requirements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ppel Chapter 13 and be able to analyze, compare and contrast different GC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9440" y="2068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43828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55400" y="1716120"/>
            <a:ext cx="64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Phase: mark nodes reachable from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30040" y="171612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set up sweep pointer; begin s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67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3657600"/>
            <a:ext cx="7848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365760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3657600"/>
            <a:ext cx="76212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3809880"/>
            <a:ext cx="441936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80988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0" y="0"/>
                </a:moveTo>
                <a:cubicBezTo>
                  <a:pt x="156" y="164"/>
                  <a:pt x="312" y="328"/>
                  <a:pt x="432" y="336"/>
                </a:cubicBezTo>
                <a:cubicBezTo>
                  <a:pt x="552" y="344"/>
                  <a:pt x="636" y="196"/>
                  <a:pt x="72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14880" y="3809880"/>
            <a:ext cx="5244840" cy="1257480"/>
          </a:xfrm>
          <a:custGeom>
            <a:avLst/>
            <a:gdLst/>
            <a:ahLst/>
            <a:rect l="l" t="t" r="r" b="b"/>
            <a:pathLst>
              <a:path w="3304" h="792">
                <a:moveTo>
                  <a:pt x="3192" y="0"/>
                </a:moveTo>
                <a:cubicBezTo>
                  <a:pt x="3248" y="224"/>
                  <a:pt x="3304" y="448"/>
                  <a:pt x="3048" y="576"/>
                </a:cubicBezTo>
                <a:cubicBezTo>
                  <a:pt x="2792" y="704"/>
                  <a:pt x="2120" y="792"/>
                  <a:pt x="1656" y="768"/>
                </a:cubicBezTo>
                <a:cubicBezTo>
                  <a:pt x="1192" y="744"/>
                  <a:pt x="528" y="552"/>
                  <a:pt x="264" y="432"/>
                </a:cubicBezTo>
                <a:cubicBezTo>
                  <a:pt x="0" y="312"/>
                  <a:pt x="36" y="180"/>
                  <a:pt x="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38080" y="38862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" y="496404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111480"/>
            <a:ext cx="4800600" cy="622440"/>
          </a:xfrm>
          <a:custGeom>
            <a:avLst/>
            <a:gdLst/>
            <a:ahLst/>
            <a:rect l="l" t="t" r="r" b="b"/>
            <a:pathLst>
              <a:path w="3024" h="392">
                <a:moveTo>
                  <a:pt x="0" y="392"/>
                </a:moveTo>
                <a:cubicBezTo>
                  <a:pt x="612" y="204"/>
                  <a:pt x="1224" y="16"/>
                  <a:pt x="1728" y="8"/>
                </a:cubicBezTo>
                <a:cubicBezTo>
                  <a:pt x="2232" y="0"/>
                  <a:pt x="2628" y="172"/>
                  <a:pt x="3024" y="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42280" y="31240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160" y="384"/>
                </a:moveTo>
                <a:cubicBezTo>
                  <a:pt x="208" y="296"/>
                  <a:pt x="256" y="208"/>
                  <a:pt x="256" y="144"/>
                </a:cubicBezTo>
                <a:cubicBezTo>
                  <a:pt x="256" y="80"/>
                  <a:pt x="200" y="0"/>
                  <a:pt x="160" y="0"/>
                </a:cubicBezTo>
                <a:cubicBezTo>
                  <a:pt x="120" y="0"/>
                  <a:pt x="32" y="88"/>
                  <a:pt x="16" y="144"/>
                </a:cubicBezTo>
                <a:cubicBezTo>
                  <a:pt x="0" y="200"/>
                  <a:pt x="32" y="268"/>
                  <a:pt x="64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527200"/>
            <a:ext cx="2349360" cy="120672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1248" y="760"/>
                </a:moveTo>
                <a:cubicBezTo>
                  <a:pt x="1364" y="676"/>
                  <a:pt x="1480" y="592"/>
                  <a:pt x="1440" y="472"/>
                </a:cubicBezTo>
                <a:cubicBezTo>
                  <a:pt x="1400" y="352"/>
                  <a:pt x="1248" y="0"/>
                  <a:pt x="1008" y="40"/>
                </a:cubicBezTo>
                <a:cubicBezTo>
                  <a:pt x="768" y="80"/>
                  <a:pt x="384" y="396"/>
                  <a:pt x="0" y="7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3035160"/>
            <a:ext cx="3733560" cy="69876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440"/>
                </a:moveTo>
                <a:cubicBezTo>
                  <a:pt x="260" y="228"/>
                  <a:pt x="520" y="16"/>
                  <a:pt x="912" y="8"/>
                </a:cubicBezTo>
                <a:cubicBezTo>
                  <a:pt x="1304" y="0"/>
                  <a:pt x="1828" y="196"/>
                  <a:pt x="2352" y="3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5840" y="50133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09680" y="388584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5349960"/>
            <a:ext cx="761760" cy="228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5791320"/>
            <a:ext cx="7617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67440" y="52578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28920" y="57150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fre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6248520"/>
            <a:ext cx="761760" cy="2286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27120" y="618336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25880" y="1716120"/>
            <a:ext cx="65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ep Phase: add unmarked blocks to free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23920" y="22971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17:42:40Z</dcterms:created>
  <dc:creator>CS</dc:creator>
  <dc:description/>
  <dc:language>en-US</dc:language>
  <cp:lastModifiedBy>CS</cp:lastModifiedBy>
  <dcterms:modified xsi:type="dcterms:W3CDTF">2003-04-29T20:33:29Z</dcterms:modified>
  <cp:revision>15</cp:revision>
  <dc:subject/>
  <dc:title>Garbage collection</dc:title>
</cp:coreProperties>
</file>