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090-AD36-45B4-8522-D7712AA1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843-C062-40A5-A7E7-D52AE4CF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83C-89EE-45D9-9052-5AD9A77E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1B7-25C1-445C-A4ED-C75A0D3C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084-05BF-44BE-859E-E8E62A32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BFB-BE2E-434B-919B-AE663BE6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663-B2FD-4A64-9E2E-7AE434AB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FC4-9159-4E24-8053-34CDFB38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91C-4BFE-416A-B63E-46FB0321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F3B-8B0C-4860-B079-2C9F3FFC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F2B-7363-4E89-B2CC-1768497A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125-9591-4A05-B7C6-98D0D430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5576-46BC-438E-8040-10C487AD3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1616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444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24080" y="171612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 retain &amp; unmark mark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1144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39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1144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39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295280" y="3885840"/>
            <a:ext cx="3962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1716120"/>
            <a:ext cx="70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GC complete when heap bound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ed; resum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9140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3035160"/>
            <a:ext cx="3886200" cy="698760"/>
          </a:xfrm>
          <a:custGeom>
            <a:avLst/>
            <a:gdLst/>
            <a:ahLst/>
            <a:rect l="l" t="t" r="r" b="b"/>
            <a:pathLst>
              <a:path w="2448" h="440">
                <a:moveTo>
                  <a:pt x="2448" y="440"/>
                </a:moveTo>
                <a:cubicBezTo>
                  <a:pt x="2052" y="228"/>
                  <a:pt x="1656" y="16"/>
                  <a:pt x="1248" y="8"/>
                </a:cubicBezTo>
                <a:cubicBezTo>
                  <a:pt x="840" y="0"/>
                  <a:pt x="420" y="196"/>
                  <a:pt x="0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of Mark Sw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rtiz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llection returns H - 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allocated word, we have GC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/ H must be sufficiently small or GC cost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if R / H is larger than .5, increase hea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dden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ifty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-Schorr-Waite pointer re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using a recursive algorithm, reuse the components of the graph you are traversing to build an explicit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mplementation trick only demands a few extra bits/block rather than an entire activation record/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ready needed a few extra bits per block to hold the “mark”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ime:  A survey of common garbage collect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mem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 (Appel 13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(Appel 13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 (Appel 13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ker’s algorithm (Appel 13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 collection (Appel 1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terface (13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4419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553080" y="4952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91520" y="5486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77204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5486040" y="449568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182920" y="4419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4952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7768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6705720" y="4723920"/>
            <a:ext cx="457200" cy="381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24120" y="5181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638680" y="5105160"/>
            <a:ext cx="838440" cy="75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4876920"/>
            <a:ext cx="380880" cy="304560"/>
          </a:xfrm>
          <a:custGeom>
            <a:avLst/>
            <a:gdLst>
              <a:gd name="textAreaLeft" fmla="*/ 47520 w 380880"/>
              <a:gd name="textAreaRight" fmla="*/ 33336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4952880"/>
            <a:ext cx="3808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4419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952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91520" y="5486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777204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5486040" y="449568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82920" y="4419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52880" y="4952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07768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34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6705720" y="4723920"/>
            <a:ext cx="457200" cy="381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6324120" y="5181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5638680" y="5105160"/>
            <a:ext cx="838440" cy="75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57600" y="4876920"/>
            <a:ext cx="380880" cy="304560"/>
          </a:xfrm>
          <a:custGeom>
            <a:avLst/>
            <a:gdLst>
              <a:gd name="textAreaLeft" fmla="*/ 47520 w 380880"/>
              <a:gd name="textAreaRight" fmla="*/ 33336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34320" y="4952880"/>
            <a:ext cx="3808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07960" y="6019920"/>
            <a:ext cx="48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bits needed to keep track of wh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fields we have processed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space required for swe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t/record to keep track of whether the record has been seen (the “mark bi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log 2 bits/record where f is the number of fields in the record to keep track of how many fields have been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a vector: done[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rk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ets x’s mar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rked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ue if x’s mark bit is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inter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ue if x is a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elds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turns number of fields in the recor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24040" y="297180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next is object being processe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411440" y="3565440"/>
            <a:ext cx="46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one[next] is field being processe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904760" y="3200400"/>
            <a:ext cx="2361960" cy="6094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133720" y="3809880"/>
            <a:ext cx="2133360" cy="2286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31360" y="3124080"/>
            <a:ext cx="2210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i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66880" y="2819520"/>
            <a:ext cx="22100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666880" y="2971800"/>
            <a:ext cx="2210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29400" y="32767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64840" y="344016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use fiel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 back p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4191120"/>
            <a:ext cx="228600" cy="506160"/>
          </a:xfrm>
          <a:custGeom>
            <a:avLst/>
            <a:gdLst>
              <a:gd name="textAreaLeft" fmla="*/ 0 w 228600"/>
              <a:gd name="textAreaRight" fmla="*/ 82440 w 22860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67000" y="402264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itializ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xt it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94360" y="4876920"/>
            <a:ext cx="228600" cy="506160"/>
          </a:xfrm>
          <a:custGeom>
            <a:avLst/>
            <a:gdLst>
              <a:gd name="textAreaLeft" fmla="*/ 0 w 228600"/>
              <a:gd name="textAreaRight" fmla="*/ 82440 w 22860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133040" y="493704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ield is 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73800" y="3200400"/>
            <a:ext cx="27745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b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xt = nil then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.i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581280" y="6095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581280" y="3276720"/>
            <a:ext cx="9144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085880" y="236232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fs compl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086240" y="28954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3800" y="3200400"/>
            <a:ext cx="27745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b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xt = nil then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.i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581280" y="6095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581280" y="3276720"/>
            <a:ext cx="9144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6760" y="502920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vanc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xt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480060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-sw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pth first traversal of object graph from the roots to mark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Mark-Swee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collectors can benefit from the tricks used to implement malloc/free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free lists, one size of block/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can suffer from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not copied and compacted like in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doesn’t require 2x live data size to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f the ratio of live data to heap size is too large then performance s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rvativ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languages like C can benefit from 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ehm-Weiser-Demers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servative 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s heuristics to determine which objects are pointers and which are integers without any languag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2 bits are non-zero =&gt; can’t be a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is not in allocated heap range =&gt; can’t be a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phase traverses all possible 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ve because it may retain data that isn’t re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s an integer is actually a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gc is conservative anyway so this is almost never an issue (despite what people s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if your program doesn’t manufacture pointers from integers by, say, using xor (using normal pointer arithmetic is f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face to the garbage collector involves two main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 can allocated up to approx 1 word/7 instr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code must b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lazing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inlined and optimized to avoid call-return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l gc code, the program must identify the 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raverse data, heap layout must be specified some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314840" y="4343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924680" y="434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856560" y="3565440"/>
            <a:ext cx="231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fu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ot alloc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257440" y="3200400"/>
            <a:ext cx="2514600" cy="1295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114800" y="2362320"/>
            <a:ext cx="3657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985520" y="2193840"/>
            <a:ext cx="77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7391160" y="2895480"/>
            <a:ext cx="1066680" cy="18288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7543800" y="2819520"/>
            <a:ext cx="45720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983720" y="2193840"/>
            <a:ext cx="11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7772400" y="3505320"/>
            <a:ext cx="533520" cy="16761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324120" y="3276720"/>
            <a:ext cx="167652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984800" y="2438280"/>
            <a:ext cx="119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li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56600" y="6004080"/>
            <a:ext cx="72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tal overhead for allocation on the order of 3 instructions/all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G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l the GC, program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oo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C-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an control-flow point where the garbage collector may be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point; function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GC-point, compiler generates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inter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says which registers, stack locations in the current frame contain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bal table maps GC-points (code addresses) to pointer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ogram calls the GC, to find all roo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scans down stack, one activation record at a time, looking up the current pointer map for tha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80716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G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l the GC, program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GC to determi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ata lay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bjects in the 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L, Tiger, Pas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record has a header with size and pointer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Java, Modula-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bject has an extra field that points to class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uses class definition to determine object layout including size and pointer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ors are a complex and fascinating part of any modern languag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ollection algs have pros/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MM, reference counting, copying, generational, mark-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ethods, including explicit MM hav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s make allocation fast, GC time, space and latency requirements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ppel Chapter 13 and be able to analyze, compare and contrast different GC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30040" y="171612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set up sweep pointer; begin 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6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5880" y="171612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add unmarked blocks to fre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239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17:42:40Z</dcterms:created>
  <dc:creator>CS</dc:creator>
  <dc:description/>
  <dc:language>en-US</dc:language>
  <cp:lastModifiedBy>CS</cp:lastModifiedBy>
  <dcterms:modified xsi:type="dcterms:W3CDTF">2003-04-29T20:33:29Z</dcterms:modified>
  <cp:revision>15</cp:revision>
  <dc:subject/>
  <dc:title>Garbage collection</dc:title>
</cp:coreProperties>
</file>