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FA9-0329-40C1-B210-6629C66C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0E9-36DD-40C1-9BAE-2437ACA8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ADD-01FC-43C2-A611-ED87D8B9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FFC-6621-4910-814B-E115769F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BEF-2214-4BB0-86F5-481E9DCA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566-AE16-4D4C-B265-07B31400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306-AF00-4A16-A805-E87C3DE7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0F9-331C-4A0E-840B-CA78FBBB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3EE-1F87-4CA2-855B-8B7A7BED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6E6-6454-45A1-965F-9A3FCEE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BDC-A336-4EC4-86E8-A0B1E81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69A-79DE-467F-84F2-6360158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955-767B-428D-9D69-351F12F14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rnal frag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ded fo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gic bullet:  memory management always has a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5" idx="3"/>
            <a:endCxn id="14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dumb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CS</cp:lastModifiedBy>
  <dcterms:modified xsi:type="dcterms:W3CDTF">2003-04-24T18:20:42Z</dcterms:modified>
  <cp:revision>16</cp:revision>
  <dc:subject/>
  <dc:title>Garbage collection</dc:title>
</cp:coreProperties>
</file>