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4A9-ABC6-4B87-AEBE-69D04ED2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574-3DC5-4EB9-B123-17713AD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D00-AED7-467D-A015-B12FAE61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D7F-D816-401B-A224-9A37DA7A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BEB-4FCD-44CA-A895-3C9AA5C9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2DE-7E57-48DA-B9D9-2DA074C7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25C-4B66-44E9-BC91-E65D6BE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72D-68D1-4404-B504-5C2EDD64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A4A-479D-48A1-8DA2-4A3D146A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490-4080-4695-AAD8-BEFB6299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581-8C75-4F70-81FC-006BDFAB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CFC-6BCC-41D8-9A4D-CB81701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A0A3-65E1-40F6-8F17-4FD4515A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3-04-24T18:20:42Z</dcterms:modified>
  <cp:revision>16</cp:revision>
  <dc:subject/>
  <dc:title>Garbage collection</dc:title>
</cp:coreProperties>
</file>