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699-FACC-4DD3-8F43-C67B68D9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394-F7A4-4726-A9F0-D32C3C0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45B-4124-46D0-9A63-CCBE6174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F02-7605-4C28-AD2B-2A4CCF7F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FCA-D362-4365-A0C6-6A1A3C89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D86-BB93-4472-BD48-3C6825E2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856-7539-46EF-B396-6D13089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A61-BC0D-4AF0-B514-2422363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C2E-7B57-4B16-B801-23324102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9BE-D16D-4EE9-A279-B261D0B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9D3-8105-47B4-B1E5-CB960DC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550-4593-4A69-85C4-7B55E7A9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55C5-30EB-4D0C-938E-A9F9DF31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3-04-24T18:20:42Z</dcterms:modified>
  <cp:revision>16</cp:revision>
  <dc:subject/>
  <dc:title>Garbage collection</dc:title>
</cp:coreProperties>
</file>