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DF2-52B2-4AA4-A710-67E524F6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2A4-3550-4AD1-8520-E897485D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D80-B754-48CC-B321-E80E5DC3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239-B57F-4174-BF42-7F235A74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E48-E8B1-4442-BEF0-422D42F2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150-145D-416D-8006-8E51853B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1A3-65B4-4870-8036-B8F0564C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5B9-B5E6-45F1-A2CD-5E84DD21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443-9891-4204-9557-85711C5C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CFD-0E17-4D36-9988-A61C3E6D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442-3A1F-48E0-83BA-99E6AC5F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4CD-77AA-49FD-ABB5-613A05B6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EFEE-6EB9-4A05-90F9-9A22B098E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 320 Final Exam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:  1:30 PM, May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:  CS 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:  3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:  Closed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: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p 1-10, 11.1-11.4 (The Tiger Compi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p 1-4 (covered by the midterm) will be deemphas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p 13, not 13.5 (GC), 14.1-14.5 (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p 17.1-17.3, 18.1-18.3, 19.1 (Dataflow Analys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discussed in class or in the clas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elements of any of the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6:44:54Z</dcterms:created>
  <dc:creator>CS</dc:creator>
  <dc:description/>
  <dc:language>en-US</dc:language>
  <cp:lastModifiedBy>CS</cp:lastModifiedBy>
  <dcterms:modified xsi:type="dcterms:W3CDTF">2003-05-01T16:47:37Z</dcterms:modified>
  <cp:revision>2</cp:revision>
  <dc:subject/>
  <dc:title>CS 320 Final Exam Details</dc:title>
</cp:coreProperties>
</file>