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669-E01A-488F-AFB9-45D8997D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105-3032-4D25-A221-91D150E2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9B1-94EA-49A5-85D4-FF0E99CC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732-C760-419D-B3AF-EE4971D3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EE2-23C5-47AC-8D47-5A72422A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582-478C-4EC8-83AF-6276BEEE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668-485C-4E2A-819B-691119C3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AEB-F923-4C08-AD83-A4FFB85D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DCB-CB94-493E-BE53-425E0D9A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532-915B-4F6E-9A75-4887CD61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363-8D09-4714-9D0D-5EC78F8B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01B-F4E4-4A00-8E6E-BF201B7E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7569-DA79-43BE-A6DA-E03B7A9A4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 320 Final Exam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Log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:  1:30 PM, May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:  CS 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:  3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:  Closed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book: Ap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 1-10, 11.1-11.4 (The Tiger Compi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p 1-4 (covered by the midterm) will be deemphas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 13, not 13.5 (GC), 14.1-14.5 (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p 17.1-17.3, 18.1-18.3, 19.1 (Dataflow Analys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discussed in class or in the class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elements of any of the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6:44:54Z</dcterms:created>
  <dc:creator>CS</dc:creator>
  <dc:description/>
  <dc:language>en-US</dc:language>
  <cp:lastModifiedBy>CS</cp:lastModifiedBy>
  <dcterms:modified xsi:type="dcterms:W3CDTF">2003-05-01T16:47:37Z</dcterms:modified>
  <cp:revision>2</cp:revision>
  <dc:subject/>
  <dc:title>CS 320 Final Exam Details</dc:title>
</cp:coreProperties>
</file>