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B27-DF66-48FA-8DCF-91564B1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637-717B-4935-84BE-4B32960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43A-FBDD-45B9-9700-4F1075E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B23-0B30-42C4-8676-F799D691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5A7-F2DD-478F-8905-32D71D46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62C-B85F-43B7-A25F-9578DDD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AA6-7C43-40FB-849C-A9FF4A1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F2B-3CDA-4B00-AEDA-72780A9D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7C0-83E1-413D-9CCC-674471A3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84E-1CF4-4333-8F6F-83369FA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DB7-B77B-4985-B774-208725E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709-7A28-45A7-9FEE-0BE3A40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A50-7D75-4EC1-A729-47378029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320 Final Exam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 1:30 PM, May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:  CS 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:  3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:  Close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-10, 11.1-11.4 (The Tiger Compi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p 1-4 (covered by the midterm) will be deemphas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3, not 13.5 (GC), 14.1-14.5 (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7.1-17.3, 18.1-18.3, 19.1 (Dataflow Analy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discussed in class or in the clas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lements of any of th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6:44:54Z</dcterms:created>
  <dc:creator>CS</dc:creator>
  <dc:description/>
  <dc:language>en-US</dc:language>
  <cp:lastModifiedBy>CS</cp:lastModifiedBy>
  <dcterms:modified xsi:type="dcterms:W3CDTF">2003-05-01T16:47:37Z</dcterms:modified>
  <cp:revision>2</cp:revision>
  <dc:subject/>
  <dc:title>CS 320 Final Exam Details</dc:title>
</cp:coreProperties>
</file>