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84CE-F534-4CD2-8A56-FF5B649F3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structure that can be mapped directly to IS of other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additional tags (language pair 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Removes determiners &amp; rearranges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61C4-0430-45FD-9064-73C7D5E21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EA89-C5E5-46B0-8DF2-7780368CE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based M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rules and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intermediate steps 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A57-BC2D-4EB6-B265-C6D75D0C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2C9-DD13-47C1-8DE3-2D0DF2F1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CD4-AAED-4095-9007-EBBBB714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28F-6FA8-4FBE-9B75-24613561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F98-2036-4FDE-AA0D-A5E8C3F4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E0C-8820-4AF3-9BCD-4CB42D04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5A9-66DE-4F1E-AFE1-0136BCB3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77E-F40A-45C0-BD13-69BEAEE4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212-BE87-4A8E-B1E0-58C62D47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CFEA-1106-424D-A560-15C336A9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3C9-E22D-4003-8271-EFBF9133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653-3E1A-4ECA-97A5-6EBF3664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23E1-1902-4064-A31E-C1455DE9A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ortal.acm.org/citation.cfm?id=974264" TargetMode="External"/><Relationship Id="rId2" Type="http://schemas.openxmlformats.org/officeDocument/2006/relationships/hyperlink" Target="http://www.hutchinsweb.me.uk/IntroMT-TOC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rcRect l="0" t="2476" r="0" b="1086"/>
          <a:stretch/>
        </p:blipFill>
        <p:spPr>
          <a:xfrm>
            <a:off x="-76320" y="609480"/>
            <a:ext cx="931572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Kozuka Gothic Pro H"/>
                <a:ea typeface="Kozuka Gothic Pro H"/>
              </a:rPr>
              <a:t>Eurotr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5791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itlin Rena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tina Burg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1"/>
          <p:cNvGrpSpPr/>
          <p:nvPr/>
        </p:nvGrpSpPr>
        <p:grpSpPr>
          <a:xfrm>
            <a:off x="914400" y="1371600"/>
            <a:ext cx="7315200" cy="5333760"/>
            <a:chOff x="914400" y="1371600"/>
            <a:chExt cx="7315200" cy="5333760"/>
          </a:xfrm>
        </p:grpSpPr>
        <p:pic>
          <p:nvPicPr>
            <p:cNvPr id="163" name="Picture 4" descr="Picture 4"/>
            <p:cNvPicPr/>
            <p:nvPr/>
          </p:nvPicPr>
          <p:blipFill>
            <a:blip r:embed="rId1"/>
            <a:stretch/>
          </p:blipFill>
          <p:spPr>
            <a:xfrm>
              <a:off x="990720" y="1562040"/>
              <a:ext cx="685800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5"/>
            <p:cNvSpPr/>
            <p:nvPr/>
          </p:nvSpPr>
          <p:spPr>
            <a:xfrm>
              <a:off x="7391520" y="1371600"/>
              <a:ext cx="838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914400" y="1600200"/>
              <a:ext cx="838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Constituen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2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>
            <a:off x="1905120" y="990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Reorganizes tree into syntactic constitu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7391520" y="9907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914400" y="12193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Picture 5"/>
          <p:cNvPicPr/>
          <p:nvPr/>
        </p:nvPicPr>
        <p:blipFill>
          <a:blip r:embed="rId1"/>
          <a:stretch/>
        </p:blipFill>
        <p:spPr>
          <a:xfrm>
            <a:off x="1143000" y="1447920"/>
            <a:ext cx="7238880" cy="55148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7"/>
          <p:cNvSpPr/>
          <p:nvPr/>
        </p:nvSpPr>
        <p:spPr>
          <a:xfrm>
            <a:off x="1066680" y="1371600"/>
            <a:ext cx="838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828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Relational Structu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"/>
          <p:cNvPicPr/>
          <p:nvPr/>
        </p:nvPicPr>
        <p:blipFill>
          <a:blip r:embed="rId2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"/>
          <p:cNvSpPr/>
          <p:nvPr/>
        </p:nvSpPr>
        <p:spPr>
          <a:xfrm>
            <a:off x="1905120" y="990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Incorporates grammatical relations into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0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7391520" y="11430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14400" y="12193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066680" y="1371600"/>
            <a:ext cx="838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Picture 6"/>
          <p:cNvPicPr/>
          <p:nvPr/>
        </p:nvPicPr>
        <p:blipFill>
          <a:blip r:embed="rId1"/>
          <a:stretch/>
        </p:blipFill>
        <p:spPr>
          <a:xfrm>
            <a:off x="1447920" y="1353960"/>
            <a:ext cx="7005600" cy="56563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8"/>
          <p:cNvSpPr/>
          <p:nvPr/>
        </p:nvSpPr>
        <p:spPr>
          <a:xfrm>
            <a:off x="1447920" y="13716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828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Interface Structure (Germa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"/>
          <p:cNvPicPr/>
          <p:nvPr/>
        </p:nvPicPr>
        <p:blipFill>
          <a:blip r:embed="rId2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3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5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7391520" y="129528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914400" y="12193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1066680" y="1371600"/>
            <a:ext cx="838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1295280" y="1143000"/>
            <a:ext cx="838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Picture 7"/>
          <p:cNvPicPr/>
          <p:nvPr/>
        </p:nvPicPr>
        <p:blipFill>
          <a:blip r:embed="rId1"/>
          <a:stretch/>
        </p:blipFill>
        <p:spPr>
          <a:xfrm>
            <a:off x="1866960" y="1219320"/>
            <a:ext cx="6210360" cy="55594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9"/>
          <p:cNvSpPr/>
          <p:nvPr/>
        </p:nvSpPr>
        <p:spPr>
          <a:xfrm>
            <a:off x="1981080" y="1219320"/>
            <a:ext cx="6858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182880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Interface Structure (English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3"/>
          <p:cNvSpPr/>
          <p:nvPr/>
        </p:nvSpPr>
        <p:spPr>
          <a:xfrm>
            <a:off x="1905120" y="9144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Lexical items translated to target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1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2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The project was shut down in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Didn’t produce a function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828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End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753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Too ambit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Problems of management and lack of cent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Insufficient computation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828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Why it failed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Proposed in 1978 by the European Commission to make proceedings accessible in all offici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Project began in 1982 with teams in each member country working with different language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Languages: Danish, Dutch, English, French, German, Italian, Greek, Portuguese,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Progress in the specification of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Promoted computational linguistic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1828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"/>
          <p:cNvPicPr/>
          <p:nvPr/>
        </p:nvPicPr>
        <p:blipFill>
          <a:blip r:embed="rId1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Eurotra: practical experience with a multilingual machine translation system under development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Kozuka Gothic Pro M"/>
                <a:ea typeface="Kozuka Gothic Pro M"/>
                <a:hlinkClick r:id="rId1"/>
              </a:rPr>
              <a:t>http://portal.acm.org/citation.cfm?id=974264</a:t>
            </a: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Kozuka Gothic Pro M"/>
                <a:ea typeface="Kozuka Gothic Pro M"/>
                <a:hlinkClick r:id="rId2"/>
              </a:rPr>
              <a:t>An introduction to machine translation</a:t>
            </a: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, W. John Hutchins and Harold L. Somers, London: Academic Press, 199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8288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Sour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3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Die Industrie kennt dieses Problem seit einiger Z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Industry has known about this problem for so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495680" y="3124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8288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4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6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28600" y="2066760"/>
            <a:ext cx="8610480" cy="4105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Morphologic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2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0"/>
          <p:cNvSpPr/>
          <p:nvPr/>
        </p:nvSpPr>
        <p:spPr>
          <a:xfrm>
            <a:off x="1577880" y="1066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Represents sentence as a tree of morp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5:58:25Z</dcterms:created>
  <dc:creator>Administrator</dc:creator>
  <dc:description/>
  <dc:language>en-US</dc:language>
  <cp:lastModifiedBy>Kaitlin Renaud</cp:lastModifiedBy>
  <dcterms:modified xsi:type="dcterms:W3CDTF">2009-04-30T17:42:16Z</dcterms:modified>
  <cp:revision>7</cp:revision>
  <dc:subject/>
  <dc:title>Eurotra</dc:title>
</cp:coreProperties>
</file>