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0734-729E-41A0-BCE3-9F0828C0C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MET1 - meteorological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(C) = condition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&gt; expressed by adjectival or nominal group (ADJ or GN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+ optional complement (Cmo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(T) = optional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(L) = optional 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MET2 - maximum and minimum te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introductory GN (nominal grou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optional T (time) and L (place) before or after the te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temp or pair of temper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MET3 - weather outl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similar to MET1 - but + a nominal group (GN) before metheorological 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what ambiguiti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    </a:t>
            </a: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Word Sense Disambig. (heavy rain, wind, fo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    </a:t>
            </a: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Target Language altern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    </a:t>
            </a: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coordination ambig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they tried the approach for translating Aviation manuals - also highly technical langu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more morphological and syntactic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lexical prolif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it is described as a direct MT system with a distinctive charac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the archetypal direct MT system h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more primitive software desig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    </a:t>
            </a: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morphological analysis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    </a:t>
            </a: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uninflected forms - input into a large bilingual 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look-up program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    </a:t>
            </a: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no analysis of syntactic structure or of seman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relationshi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    </a:t>
            </a: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some local reordering rules to give more acceptable target language output, perhaps moving some adjectives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verb particles, and then the target language text would be produc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Meteo - starts with short pre-processing and look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small-scale syntactic analysis used for disambig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7A7-7D71-4AF2-B34A-A3A5DF07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15A7-7013-42D6-B962-66C4D207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2767-2D3B-4E31-AF10-C0E5A5B8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853E-A05B-41EC-A2E2-140E456D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0ACC-1320-4443-A658-3B97E413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6883-718C-412D-A1FF-A0DA0CF3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FA1D-B50D-4EA1-8C64-A9C31863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77DE-1C4C-4766-B8B2-699D0732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43D6-AA3C-460C-8448-4ECCA9E2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9DFC-49DC-488D-BE47-D5E3CED1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2F98-8FB1-424D-812A-E5C7B0CC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998F-3A23-4E41-98DC-FB2C9F5B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13E1-CE32-4BEE-A207-91316C2D7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2139480"/>
            <a:ext cx="84441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Mété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83920" y="5497560"/>
            <a:ext cx="661356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edede"/>
                </a:solidFill>
                <a:latin typeface="Trebuchet MS"/>
              </a:rPr>
              <a:t>周巧慧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, Anca Chereche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edede"/>
                </a:solidFill>
                <a:latin typeface="Trebuchet MS"/>
              </a:rPr>
              <a:t>04.30.200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4.3 Syntactic Analysis - Phrase typ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1480" y="1157040"/>
            <a:ext cx="9658440" cy="58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5 phrase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MET0 - a list of plac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-------------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MET1 - meteorologic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MET2 - maximum and minimum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MET3 - weather outl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------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ORG - the bulleting header - invariant, stereoptyp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(8) FORECAST FOR MANITOBA ISSUED BY ENVIRONMENT CANADA AT 6A CST APRIL 8TH 1976 FOR TODAY AND FRI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4.3 Syntactic Analysis - MET1 and MET2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57840" y="1890720"/>
            <a:ext cx="4968720" cy="4413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73160" y="1889280"/>
            <a:ext cx="4589280" cy="44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4.3 Syntactic Analysis - MET3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54320" y="1812960"/>
            <a:ext cx="518004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4.3 Syntactic Analysis - Procedur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1880" y="1196640"/>
            <a:ext cx="9659880" cy="57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3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fairly traditional bottom-up pa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creates all possible partial solu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prunes solutions as they are comb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Stage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dates, hours and degrees of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Stage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 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remaining noun phrases (meteorological condi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 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matches syntactic categories and semantic features of lexical items (treats ambiguit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Stage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 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conjoining phrase types into larger units =&gt; single S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4.4 Syntactic and Morphological Gener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2800" y="2295000"/>
            <a:ext cx="9659880" cy="54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- syntactic gener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- rules about French word or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- selection of correct preposi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- morphological gener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- adjective endin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- contextual adjustments (contractions etc.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rcRect l="4067" t="0" r="0" b="0"/>
          <a:stretch/>
        </p:blipFill>
        <p:spPr>
          <a:xfrm>
            <a:off x="4546440" y="228600"/>
            <a:ext cx="5435640" cy="31258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4.5 Data Structur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1015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Chart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  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one arc for each reading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  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of each lexical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As each rule is applie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 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pattern matcher loo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for sequence of arcs that fits the 'pattern-match' part,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and builds a new arc labeled with the rule's 'action' p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dedede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Arcs are not consumed, so alternative partial structures can participate in alternate r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Chart is cleaned up and passed to generation (same pro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971800" y="5791320"/>
            <a:ext cx="604692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4.6 Rule Formalism and Applic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9160" y="1179360"/>
            <a:ext cx="9647280" cy="622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Rule formalis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Left hand side is a sequence of ar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Right hand side is the new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          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WORSE == ADJ(BAD,/) + *(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         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ADJ(A*,/,U*) + *(ER) == ADJ(A*,/,U*,INV(MORE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Rule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Chart controls the rule applic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When more than one rule can be applied, th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should theoretically all be tried in parall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In practice, this generates a large number of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                 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with only very small vari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Instead, alternative rules are tested in sequen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and backtracked if inapplicable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5. Evalu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2400" y="1138320"/>
            <a:ext cx="9658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Météo: a success! - still in use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good accuracy - 9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errors due to faulty inp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perfectly tailored to the characteristics of the translation task - a unique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idiosyncratic nature of meteorological bullet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ENG to FRE translation (in one dire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the Météo approach: lim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the one and only successful sublanguage M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other sublanguages - much more complica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=&gt; require a more transfer-based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=&gt; require greater modu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6. Sunny Prospec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05040" y="1195560"/>
            <a:ext cx="8565840" cy="60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Outlin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1. Overvie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2. Histo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3. MT paradig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4. Translation proc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4.1 Preprocess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4.2  Lexical data extra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4.3 Syntactic analysi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4.4 Syntactic and morphological gener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4.5 Data Struc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4.6 Rule Formalism and Applic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5. Evalu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6. Conclus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1. Overvi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080" y="1426680"/>
            <a:ext cx="9658080" cy="54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Language pair: English -&gt; Fre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Task: translation of weather forec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direct MT system - with a distinctive ch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linguistic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3 bilingual dictionaries for "idioms", place names, general (meteorological) voc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3 processing mod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syntactic analysis of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syntactic generation of Fre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morphological generation of Fre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computational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single unified system (production syst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data structure - 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2. Histo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TAUM (Traduction Automatique de l'Université de Montréa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1975 received a contract to develop a weather forecast translat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1976 Prototype demonstrated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1977 Météo began full-time operation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1984 Météo-2, a faster, more reliable, and more cost-effective version replaced the previou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Météo has been used to translate weather bulletins in Montreal and Quebec ever si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Currently translates ~37,000 words/day (8M+/year) at an accuracy of over 9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3. MT Paradig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5000" y="1197000"/>
            <a:ext cx="97171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'direct translation', with a twist - Why?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particular, telegraphic style -&gt; analysis procedures based on semantic features =&gt; no need for a transfer module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structural similarity between English reports and French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restricted syntactic 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limited range of vocabulary, very few homo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restricted morphological var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system aimed exclusively at English-French trans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regular ambiguity problems mostly ab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=&gt; morphological information encoded lexically, in the diction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4. Translation proces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4. Input - Weather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2920" y="4383000"/>
            <a:ext cx="954900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- Weather reports are received in standard format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- Coded hea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- Statement of the origin of the bullet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- List of regions to which bulletin appl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- Forecast itsel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- Terminator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96920" y="1244520"/>
            <a:ext cx="740556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4.1 Preprocessing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4600" y="1018800"/>
            <a:ext cx="95187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Unknown vocab sent to human ed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Words are separated by '+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Phrases are marked at beginning with '-01-'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  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and at the end with '-02-'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dedede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Phrases are marked with an identifier (source + running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number) for easy location of original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Regularisation: 11.30 -&gt; 11 + H +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Expansion of abbreviations: kmh -&gt; kilometres per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65240" y="4691160"/>
            <a:ext cx="730404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4.2 Lexical data extrac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9629640" cy="61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Idioms dic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Sequences of more than one word to be treated as one word 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(</a:t>
            </a:r>
            <a:r>
              <a:rPr b="0" i="1" lang="en-US" sz="2400" spc="-1" strike="noStrike">
                <a:solidFill>
                  <a:srgbClr val="dedede"/>
                </a:solidFill>
                <a:latin typeface="Trebuchet MS"/>
              </a:rPr>
              <a:t>blowing snow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 -&gt; </a:t>
            </a:r>
            <a:r>
              <a:rPr b="0" i="1" lang="en-US" sz="2400" spc="-1" strike="noStrike">
                <a:solidFill>
                  <a:srgbClr val="dedede"/>
                </a:solidFill>
                <a:latin typeface="Trebuchet MS"/>
              </a:rPr>
              <a:t>poudrerie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Place-names dic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Names that are different between English and Fre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(</a:t>
            </a:r>
            <a:r>
              <a:rPr b="0" i="1" lang="en-US" sz="2400" spc="-1" strike="noStrike">
                <a:solidFill>
                  <a:srgbClr val="dedede"/>
                </a:solidFill>
                <a:latin typeface="Trebuchet MS"/>
              </a:rPr>
              <a:t>Newfoundland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 -&gt; </a:t>
            </a:r>
            <a:r>
              <a:rPr b="0" i="1" lang="en-US" sz="2400" spc="-1" strike="noStrike">
                <a:solidFill>
                  <a:srgbClr val="dedede"/>
                </a:solidFill>
                <a:latin typeface="Trebuchet MS"/>
              </a:rPr>
              <a:t>Terre Neuve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Phrasal names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             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(</a:t>
            </a:r>
            <a:r>
              <a:rPr b="0" i="1" lang="en-US" sz="2400" spc="-1" strike="noStrike">
                <a:solidFill>
                  <a:srgbClr val="dedede"/>
                </a:solidFill>
                <a:latin typeface="Trebuchet MS"/>
              </a:rPr>
              <a:t>Greater Vancouver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 -&gt; </a:t>
            </a:r>
            <a:r>
              <a:rPr b="0" i="1" lang="en-US" sz="2400" spc="-1" strike="noStrike">
                <a:solidFill>
                  <a:srgbClr val="dedede"/>
                </a:solidFill>
                <a:latin typeface="Trebuchet MS"/>
              </a:rPr>
              <a:t>Vancouver et banlieue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Phrases with linguistic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             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(plural, gendered, or containing definite artic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Main dictionary: ENG word -&gt; FRE 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Grammatical category, semantic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Morphological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N: gender/plu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Adj: precede or follow N? Modifications for plural/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                    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V: transitive/intransitiv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Adv: modifies Adj, V, or Ad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AMOUNT = N((F,MSR), QUANT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illian Zhou</cp:lastModifiedBy>
  <dcterms:modified xsi:type="dcterms:W3CDTF">2009-04-30T17:34:33Z</dcterms:modified>
  <cp:revision>2</cp:revision>
  <dc:subject/>
  <dc:title>PowerPoint Presentation</dc:title>
</cp:coreProperties>
</file>