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A34-6AAA-41BF-BAA2-20F2EF2B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CFA-92BA-40D9-A943-1C676C37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F75-2F74-4CEF-8271-7E9D1D00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A72-15EE-4AB1-93A6-28D4D5F8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99E-B0FF-46F5-A986-E1DAA233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6AD-AACE-489D-BAB0-5623069B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EE1-51A9-412D-B246-8D683D8F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A7A-D26E-4F30-BA4D-38EA00A5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F14-50CB-4E35-825E-DD4FDC5C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D49-7732-4451-899B-FC8D27EA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CE1-2BC3-4090-B80B-CEE34ACC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3B1-152F-4D3E-AC79-335498C1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364-A204-40D5-AE13-3D28B692C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784-C7E1-4928-BE56-745491964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Nicholas Persaud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Minh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s &amp; Adap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s have been modularized to facilitate the creation of new sys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first 25 years, about 15 systems were develop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nks to European Union funded initiatives, 10 years later, 35 systems are now avail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s are being reworked to make better use of Finite State Mach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rder to improve their systems, Systran recognizes a need to focus on building/fixing the dictionaries to better express each langu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eator: Peter 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d in Russian-English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RNA implementation of the Georgetown University GAT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tran (atomic energy domai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tran (medicine doma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68, Latsec Inc. (later called Systran) develops a Russian-English system for the United States Air Force. (US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F has been using Systran since July 19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ran’s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76, work began on Eng-French, Fr-English, and Eng-Italian by the Commission of the European Communities.  (CE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variety of companies develop their own versions of system for various language pai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86 Gachot (France) acquires all US and European ver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itel Network (France) is the first translation system available to the public and uses Systra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ran’s Foun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752480" y="0"/>
            <a:ext cx="521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formatting (indenting, etc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ok up idio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nently marked, so “kicked the bucket” wil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 translated as “died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in look-up and morphological analy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romance language dictionaries contain only stems so  analysis is required.  English is stored in full fo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“Limited Semantics” dictionary is used to find special cases like compound nouns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sequence of words that matches one in the dictionary, it will be permanently marked, like for idi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homograph dictionary is used to resolve ambiguity using adjacent word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e. “states” can be a singular verb or plural noun, but after “many”, it must be the lat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tences are segmented into clauses using punctuation marks, conjuction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umerations are identified by semantic/syntact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Smog and pollution control) are important fac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Smog and pollution) control is under conside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&amp;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ject/predicate, and other relations are fou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ditional Sematics finds “conditional idiom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ioms that require some con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xical routine trans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late words whose transfer is more context 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late everything else using the default from the main dictiona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phological gen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rrange wor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ran’s 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ssified as “direct translation” due to heavy use of bilingual dictionaries and lack of linguistically motivated translation ru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system only provides one-directional trans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mantic markers are defined in an ad-hoc manner to facilitate language-to-language specific trans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ssian preposition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s markers “+increase” and “+decrease” to disambiguate it’s meaning 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up t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own 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0:10:54Z</dcterms:created>
  <dc:creator>User</dc:creator>
  <dc:description/>
  <dc:language>en-US</dc:language>
  <cp:lastModifiedBy>Minh Do</cp:lastModifiedBy>
  <dcterms:modified xsi:type="dcterms:W3CDTF">2009-04-30T17:48:27Z</dcterms:modified>
  <cp:revision>9</cp:revision>
  <dc:subject/>
  <dc:title>Systran</dc:title>
</cp:coreProperties>
</file>