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510-B9FF-4D3C-9929-DA7C18EA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CE4-CE6A-49E3-8C5C-2E282B31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2CF-2A6A-4786-97B3-7E7FC527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A08-58ED-463D-A435-202CA266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179-0955-4DCC-9082-212AC3B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0BA-D152-4B8A-AF24-36E962F0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76F-CF4D-452C-B5DB-4BF6370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3CB-8F87-473C-8105-DC7E674D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AE3-430F-4CDF-8F0B-D8F62233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6C4-700B-40FD-9AA9-E3C2C5D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995-61E7-4CEC-BE63-66EEBEF6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3F3-279D-489E-8688-15D35553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712-4D19-4433-8357-986456F081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ed in 199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er Based approa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iginally developed by computational linguists from Herzen University (St. Petersburg), who remain stakehold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of the leading web-based translation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4 Language Direc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 Langu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to most widely spoken European langu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xample transla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ba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ims to be using “Multi-dimensional cybernetic dictionary paradigms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tree structure (but not linguisti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orm</a:t>
            </a:r>
            <a:r>
              <a:rPr b="0" lang="en-GB" sz="3200" spc="-1" strike="noStrike">
                <a:solidFill>
                  <a:srgbClr val="000000"/>
                </a:solidFill>
                <a:latin typeface="ヒラギノ角ゴ Pro W3"/>
              </a:rPr>
              <a:t>_x0005_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Source Tree- Target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es from target tree to target language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“Dictionary Volum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translation of words, semantic morphologic and syntactic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lation Modules (describe morphological and grammatical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umber of additional softwar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for extendi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- BLEU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86040" y="624852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 &amp; Won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104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0:14:36Z</dcterms:created>
  <dc:creator>Princeton University</dc:creator>
  <dc:description/>
  <dc:language>en-US</dc:language>
  <cp:lastModifiedBy>Princeton University</cp:lastModifiedBy>
  <dcterms:modified xsi:type="dcterms:W3CDTF">2009-04-29T01:59:47Z</dcterms:modified>
  <cp:revision>3</cp:revision>
  <dc:subject/>
  <dc:title>ProMT</dc:title>
</cp:coreProperties>
</file>