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495C-5DD1-4362-91C7-635990F12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53E8-7989-4EAA-B409-F2D654704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C76E-3085-4AD0-A717-752A485EC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FE76-C008-4370-BB03-5A28763676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46CD-E8A8-4FF4-ABF8-B9BCBD3FC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F115-1659-4E46-B21B-E72F3DAD3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1911-C96F-4038-B8BA-BBAD913C3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440F-8497-45DA-A60B-0C877FAF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7475-E633-4B56-AD0D-D18A055C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7F1-AB9E-482B-9973-F623E981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5255-900C-4C8E-A4EB-C596E1C1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ECDB-A677-4C76-9B0A-CE492318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C3C6-B341-4F08-B730-F9F539FD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252B-E262-4822-961C-77AA54BB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97E0-7259-4C1C-A622-66A4949D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46B4-75EE-4382-9E57-8E24EE5B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31EC-8348-4D7A-83DA-CDB531BB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8EC4-78DE-4236-9395-438A7120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AF76-40D1-400B-8ED7-C9E0C86F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B428-CE3C-4807-8AC2-306664FF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52F5-A304-444A-B631-AC24A843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F0BB-7DE2-4791-BFBF-40E6E374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9BCF-E7C1-49FE-914D-0C2F1E9B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03E5-E7D1-4DD8-982E-E85CA9A3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1E98F-57AB-4FEA-BA93-9A19B728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0B8E2-ECB1-46DB-8A95-339C6897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58D7D-D348-4E09-8D7C-6219F9DF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5E05B-19B7-4A9B-9995-C6E43137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B65CC-E4D9-4325-B3F0-709147D9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04EA-1A90-437A-BD56-F1376C7B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83508-2A94-4065-96BB-656CDFE0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B2978-F8C5-44C5-AD99-B131617E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8186E-ACE8-4101-BBC4-63DE00E2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F7874-9DE0-4B5D-9FED-E0C174E9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F9CDA-BCEE-4BC0-A65F-4167DE98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3DD01-4053-4085-89F4-7CE0A1A4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09B6E-505D-48F0-A107-1ADC3541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5100C-6743-462B-8420-877004A9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BA85A-2E8E-4FD8-9C05-FD579F8A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BC2CD-40F5-4605-BA7A-80E3745C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DE3B-7529-41D7-86EE-1701EB6E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8797D-1F2C-4ECD-B4BC-81740955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90641-B672-43CF-89C5-A540DB1D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BFBFA-43DE-432B-982A-ADBB0B29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94F38-3B2D-48D2-A6F1-B08163D8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9321D-25ED-406A-BB09-990BDB1E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09EDA-CC7E-4CDB-B699-067D416C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A50EF-6C02-474C-8585-9A19DC69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4BC44-404F-4990-A943-C73F21D9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FFED3-BF51-4C3E-A194-8FAA47EB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30A82-5953-4E04-8184-A71CA32E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A4C-F9F8-4615-89EB-2AE3D805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A29DB-DB24-4C3A-A76B-0000EC9A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79025-206A-42C7-9257-2D5A401B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F71F9-51FC-42EE-AB03-994BD830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F7D96-6C7C-4655-BE87-2ACF6664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CCF26-4E6F-4766-AF17-91B0F757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00B46-0927-4BC6-8B22-8A126E8E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D967A-8EF2-405F-9643-04ADC29C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68230-4601-42DC-B7DE-00816FBD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80A38-2C57-4E5A-B54F-E5DD2F3E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11037-54FF-4F5A-964F-A58D4C53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C3EE-17A2-4CD6-AE53-CB719BD7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34A95-1E55-4B8A-8EE4-9488F4FE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BE83E-FBEF-41A0-AA69-66B2E3F1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591E1-8E71-4DB1-91DF-4229B871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3723A-1475-45EB-9271-75E33C34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AFB7C-A400-46FA-9C03-AC5F558B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85433-A907-4919-A10C-B186C1B4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61215-6E80-477E-AAF9-32829D8A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31997-D457-4542-93EE-9A02F0F7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10686-FF22-4F6A-9A59-9EA38AA5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BFA29-0CCD-4415-A903-8D84536B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DD91-0D05-4D36-B0F0-1FE7ECE6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6C0BD-0324-4174-937A-0E4325D3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835E6-4BAC-4C48-BC22-1DE774FF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351AB-9DA9-4909-BE6D-84991ECA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A71AC-09F6-4888-B74A-2D597440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6A0C1-92D3-4EB7-AAF1-E606C034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890ED-584F-4310-8353-0FBED8A9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495A4-247D-4AD4-9A77-651BE13F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A6FE5-ECC0-4454-9FDC-AD1C764A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A9D09-A511-4084-A21A-BF952E2A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0073C-29C1-4D09-8E03-FB3279BA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232-6224-4737-9622-A853F7EB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27977-6D69-4961-952D-F7D28FB9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70CCC-E219-42D4-9759-F116BE07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55C72-67FD-4FDB-B5E3-971B1BD9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1912A-3FF3-4245-BCB0-E02C0F5D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705A2-05F6-4FE2-992D-14E7DE81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3773B-DD9D-4B85-A93C-96AF0D9E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0EC4A-A071-4C2D-BC2C-EF221156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1356E-4234-4581-8D48-7C94C4C7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98A2A-F482-46DC-A1FE-34065C9F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649C3-C1E8-4673-AB83-9D7F013B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51C-3E51-46C7-95D7-B1698449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A8979-B4B0-4C53-964A-5C2CA677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42220-AD46-4CD7-A8C0-92714746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6461B-6DC5-4579-8092-CE96DE05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38FB6-9951-4745-A042-292ACC1B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1043C-6693-44E9-A20E-FFD7B6D9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7B809-E86E-4579-AA48-4721FA42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E5B41-A649-4845-A002-4A4A166C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130A-BA23-4CAA-A024-117AAB96E5D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2519-A338-460E-B07E-FA2CF232FD4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F488-2C54-4761-B232-5993C386155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822C-B2F4-41A4-9837-9988D3B328E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4036-26A2-4BF0-8CBE-C8C187CE9CA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C2DD-1478-4B3A-A183-79A4A29BBF0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2501-5563-4AC6-97A0-FE02C64F8FC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DCD6-2B37-47B1-98BB-904A54A0247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SzPct val="127532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I: A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lign the hatched parts of source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ntence to corresponding target sent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 algn="ctr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dezain/ga/ki/ni/iri/masen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X/ga/ki/ni/iri/mase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 algn="ctr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I do not like the design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I do not like the X , X=”iro”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 algn="ctr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SzPct val="127532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II: Pattern selection – three criteria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SzPct val="127532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Maximize frequency of patter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SzPct val="127532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Maximize sum of frequency of words in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generated patter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SzPct val="127532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Pick one randoml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2" descr=""/>
          <p:cNvPicPr/>
          <p:nvPr/>
        </p:nvPicPr>
        <p:blipFill>
          <a:blip r:embed="rId6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1" descr=""/>
          <p:cNvPicPr/>
          <p:nvPr/>
        </p:nvPicPr>
        <p:blipFill>
          <a:blip r:embed="rId1"/>
          <a:stretch/>
        </p:blipFill>
        <p:spPr>
          <a:xfrm>
            <a:off x="603360" y="646200"/>
            <a:ext cx="8559720" cy="3382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2"/>
          <a:stretch/>
        </p:blipFill>
        <p:spPr>
          <a:xfrm>
            <a:off x="257040" y="4151160"/>
            <a:ext cx="4086360" cy="23623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3"/>
          <a:stretch/>
        </p:blipFill>
        <p:spPr>
          <a:xfrm>
            <a:off x="4343400" y="4114800"/>
            <a:ext cx="46483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1" descr=""/>
          <p:cNvPicPr/>
          <p:nvPr/>
        </p:nvPicPr>
        <p:blipFill>
          <a:blip r:embed="rId1"/>
          <a:stretch/>
        </p:blipFill>
        <p:spPr>
          <a:xfrm>
            <a:off x="450720" y="706320"/>
            <a:ext cx="8242560" cy="2043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5029200" y="3038400"/>
            <a:ext cx="3657600" cy="2219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457200" y="3164040"/>
            <a:ext cx="445932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tashi wa ongaku wo kiku no ga suki na hito des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na hito desu -&gt; I am a X pers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ki na hito desu -&gt; It's a person that I li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nger sentences means more difficulty in aligning phra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068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400"/>
              </a:spcBef>
              <a:buSzPct val="12741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thod-T – partial trans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buSzPct val="127417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thod-N -preprocessing N-gram ba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buSzPct val="127417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thod 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sou desu ka ee kekkou desu jaa tsuin de o negai shimasu2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sou desu ka | ee | kekkou desu | jaa | tsuin de onegai shi masu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i see | yes | that's fine | then | a twin pleas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buSzPct val="127417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Criteria: fault-length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buSzPct val="127417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ial translation cou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buSzPct val="127417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bined reliability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4/30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Rectangle 1" descr=""/>
          <p:cNvPicPr/>
          <p:nvPr/>
        </p:nvPicPr>
        <p:blipFill>
          <a:blip r:embed="rId7"/>
          <a:stretch/>
        </p:blipFill>
        <p:spPr>
          <a:xfrm>
            <a:off x="152280" y="311040"/>
            <a:ext cx="875376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22824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hai wakari mashi ta =&gt; yes i see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sore to ne cyoushoku na n desu kedomo dou nat teru n deshou ka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=&gt; and what about breakfast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Lucida Sans Unicode"/>
                <a:ea typeface="TimesNewRoman,Italic"/>
              </a:rPr>
              <a:t>fault-length 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= 0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Lucida Sans Unicode"/>
                <a:ea typeface="TimesNewRoman,Italic"/>
              </a:rPr>
              <a:t>Partial-translation-count 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= 2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hai wakari mashi ta sore to ne choushoku na n desu kedomo =&gt; FAIL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dou nat teru n deshou ka =&gt; what happened to it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Lucida Sans Unicode"/>
                <a:ea typeface="TimesNewRoman,Italic"/>
              </a:rPr>
              <a:t>fault-length 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= 12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Lucida Sans Unicode"/>
                <a:ea typeface="TimesNewRoman,Italic"/>
              </a:rPr>
              <a:t>Partial-translation-count 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= 1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hai wakari mashi ta =&gt; yes i see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sore to ne choushoku na n desu kedomo =&gt; and i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breakfast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dou nat teru n deshou ka =&gt; what happened to it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Lucida Sans Unicode"/>
                <a:ea typeface="TimesNewRoman,Italic"/>
              </a:rPr>
              <a:t>fault-length 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= 0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Lucida Sans Unicode"/>
                <a:ea typeface="TimesNewRoman,Italic"/>
              </a:rPr>
              <a:t>partial-translation-count 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= 3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4/30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50804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400"/>
              </a:spcBef>
              <a:spcAft>
                <a:spcPts val="1426"/>
              </a:spcAft>
              <a:buSzPct val="12741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thod-T and D</a:t>
            </a:r>
            <a:r>
              <a:rPr b="0" lang="en-US" sz="2700" spc="-1" strike="noStrike" baseline="33000">
                <a:solidFill>
                  <a:srgbClr val="000000"/>
                </a:solidFill>
                <a:latin typeface="Lucida Sans Unicode"/>
              </a:rPr>
              <a:t>3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spcAft>
                <a:spcPts val="1426"/>
              </a:spcAft>
              <a:buSzPct val="127417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ighted” dist function – combined reliability to help with long sentence probl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4/30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423864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228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400"/>
              </a:spcBef>
              <a:spcAft>
                <a:spcPts val="1426"/>
              </a:spcAft>
              <a:buSzPct val="12741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thod-N (Takezawa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spcAft>
                <a:spcPts val="1426"/>
              </a:spcAft>
              <a:buSzPct val="127417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er splitting positions – where we can put perio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spcAft>
                <a:spcPts val="1426"/>
              </a:spcAft>
              <a:buSzPct val="127417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ick a threshold value and calculate plausibility 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spcAft>
                <a:spcPts val="1426"/>
              </a:spcAft>
              <a:buSzPct val="127417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can also use additional heuristics - like part-of-speech and conjugation type, which work particularly well for Japane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lnSpc>
                <a:spcPct val="95000"/>
              </a:lnSpc>
              <a:spcBef>
                <a:spcPts val="4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124000"/>
              <a:buFont typeface="Times New Roman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4/30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5"/>
          <a:stretch/>
        </p:blipFill>
        <p:spPr>
          <a:xfrm>
            <a:off x="2333520" y="4343400"/>
            <a:ext cx="4067280" cy="9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456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400"/>
              </a:spcBef>
              <a:spcAft>
                <a:spcPts val="1426"/>
              </a:spcAft>
              <a:buSzPct val="12741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mmary of experi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spcAft>
                <a:spcPts val="1426"/>
              </a:spcAft>
              <a:buSzPct val="127417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ust for splitting, Method-N does much better, both with respect to recall and precision, but for Split-and-Translate combination, Method-T is much bett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4/30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515304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 Ba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nslate piece by piece by using phrases with known transl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tch phra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mbine into target langu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rst developed by Nagao for English &lt;-&gt; Japanese, 198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del based on fundamental function of language processing in the human brain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apanese and English are really differ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distinction between present and future ten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gnificantly more verb forms – i.e. “didn’t want to study” -&gt; benkyoushitagatteimasendeshi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rd order differences – OVS -&gt; SOV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apanese noun phrases stay the same regardless of where they are used –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The handsome bo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entered the room -&gt;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suteki shoune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wa heya ni kimasu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 saw the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handsome bo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-&gt; watashi wa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suteki shoune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wo mimashit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rb phrases also 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isten to music -&gt; ongaku wo kiku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 like to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listen to music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&gt;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ongaku wo kiku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 ga suki desu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kes recombination much easi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600200"/>
            <a:ext cx="822960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400"/>
              </a:spcBef>
              <a:buSzPct val="156296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Reduction of redundant expressions and getting an essential sentence structur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buSzPct val="156296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Analysis of sentence structure by case grammar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buSzPct val="156296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Retrieval of example phrases and words from dictionary (equipped with examples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buSzPct val="156296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Recognition of similarity between example phrases and input sentenc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buSzPct val="156296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Choice of global sentential form for transla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buSzPct val="156296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Choice of local structure in accordance with chosen global structur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4/30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Rectangle 1" descr=""/>
          <p:cNvPicPr/>
          <p:nvPr/>
        </p:nvPicPr>
        <p:blipFill>
          <a:blip r:embed="rId7"/>
          <a:stretch/>
        </p:blipFill>
        <p:spPr>
          <a:xfrm>
            <a:off x="103320" y="268200"/>
            <a:ext cx="85899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eech translation system – Japanese -&gt; Englis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veloped by ATR Interpreting Telecommunications Research Laboratories, Kyoto, ~199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iichiro Sumi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eech recognition system interesting, but we focus on trans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ies to find “semantically close” examp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rd-based edit distance using insertion, deletion, and a variable substitution cost depending on “semantic distance” (Sumita 1999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3276720" y="3657600"/>
            <a:ext cx="336204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ter finding closest example – input pairing, try to match pieces of the input that differ from the exampl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テニスをする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. Look for closest examp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Example sentence X</a:t>
            </a:r>
            <a:r>
              <a:rPr b="0" lang="ja-JP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をする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-&gt; To play X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テニス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and X are different, so try to find an example for </a:t>
            </a:r>
            <a:r>
              <a:rPr b="0" lang="ja-JP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テニス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テニス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-&gt; Tenni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combine, so </a:t>
            </a:r>
            <a:r>
              <a:rPr b="0" lang="ja-JP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テニスをする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-&gt; To play tenni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mita 199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京都に来て下さい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X</a:t>
            </a: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て下さい　－＞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Please 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X</a:t>
            </a: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に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Y</a:t>
            </a: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　－＞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Y to 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Recombine to get “Please Y to X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京都　－＞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Kyo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来　－＞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C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京都に来て下さい　－＞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Please come to Kyo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8:43:17Z</dcterms:created>
  <dc:creator>Val</dc:creator>
  <dc:description/>
  <dc:language>en-US</dc:language>
  <cp:lastModifiedBy>srini</cp:lastModifiedBy>
  <dcterms:modified xsi:type="dcterms:W3CDTF">2009-04-30T20:54:44Z</dcterms:modified>
  <cp:revision>2</cp:revision>
  <dc:subject/>
  <dc:title>EBMT in Japan</dc:title>
</cp:coreProperties>
</file>