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564E-519E-47FB-9537-C5F9170662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FC60-9132-4B7F-AFCA-8A26FDDDF8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790B-235F-4AC6-BA00-09448C252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AB8A-9DDA-4F86-AF54-2E14BB04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F46D-2E11-4804-B65E-A4C09650E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5F2F-2C56-4366-A80A-AA416058F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2B43-A26E-490D-AB2D-85B900B8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29E0-593E-498D-B600-06E2D1A7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E64F-01C5-483A-8D62-1F56B35F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AA9B-D949-4C38-A238-487A0DC8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C0B2-3DC4-4120-A752-67AA722E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BAE2-CFB6-4D49-AA59-62C44E51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DE0B-4842-4C87-9EFC-A82C95FD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6449-4DA5-43B9-A21B-C4634BA8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489C-F913-498A-BD18-1C1523E16B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L: MEchanical Translation and Analysis of Langu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yse Gursoy and Erik An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OS 401 Pres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talsh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Metalshop screen.jpg"/>
          <p:cNvPicPr/>
          <p:nvPr/>
        </p:nvPicPr>
        <p:blipFill>
          <a:blip r:embed="rId1"/>
          <a:stretch/>
        </p:blipFill>
        <p:spPr>
          <a:xfrm>
            <a:off x="512640" y="969840"/>
            <a:ext cx="796608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lu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orld War II and the Cold W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itial grant from US Arm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by Dic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rles Sanders Peirce and C.V. Polla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b-languag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ree grou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inguistics Research Cen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966 Academy report by John Pier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uman strengths and shortcoming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ors in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itial grant from US Ar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by Di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-langu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guistics Research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man strengths and shortcom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Ruw\Documents\COS 401\fig 15-1.jpg"/>
          <p:cNvPicPr/>
          <p:nvPr/>
        </p:nvPicPr>
        <p:blipFill>
          <a:blip r:embed="rId1"/>
          <a:stretch/>
        </p:blipFill>
        <p:spPr>
          <a:xfrm>
            <a:off x="2724120" y="133200"/>
            <a:ext cx="3365640" cy="641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ification and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-direction transfer-based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man-aided post-proc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onal human-aided pre-proces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u-based user inter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olingual and bilingual lexical datab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e frames with lexical and semantic constrai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ft corner, bottom up chart pars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FG extended by additional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yntactic / morphological information about constitu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-occurrence ru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ccessful rules produce new nodes with complex proper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rsing rules separated into levels by prior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unes unlikely parses, limited parsing attemp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f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ursive function c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-directional transfer of feature-valu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sing rules include transfer protoc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 transfer rules with preference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s for alteration of constituents as part of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sitive to left-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META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514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k between transfer and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coder and Metalsh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rasal analys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Intercoder screen.jpg"/>
          <p:cNvPicPr/>
          <p:nvPr/>
        </p:nvPicPr>
        <p:blipFill>
          <a:blip r:embed="rId1"/>
          <a:stretch/>
        </p:blipFill>
        <p:spPr>
          <a:xfrm>
            <a:off x="669960" y="817560"/>
            <a:ext cx="7578720" cy="566244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1752480" y="22860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ercod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05:01:25Z</dcterms:created>
  <dc:creator>Ruw</dc:creator>
  <dc:description/>
  <dc:language>en-US</dc:language>
  <cp:lastModifiedBy>Ruw</cp:lastModifiedBy>
  <dcterms:modified xsi:type="dcterms:W3CDTF">2009-04-30T06:21:24Z</dcterms:modified>
  <cp:revision>11</cp:revision>
  <dc:subject/>
  <dc:title>METAL: MEchanical Translation and Analysis of Languages</dc:title>
</cp:coreProperties>
</file>