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484-9413-4907-B3AD-D875523F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4A5A-6597-4D7A-A1B1-32D9E1A6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B45-952F-4458-BBDA-73E92E31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171-D124-4A1D-955A-7B8E3B5B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8AD4-0CA4-48C5-BB14-AFFE23A7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9843-93F2-4CA4-9C5F-9CCFF8DD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BAD6-5C4A-4FC1-A291-E751A17D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25F6-8FA2-4A8A-BC08-4B5B30F5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4B3B-0E6B-4C19-83F6-4543FBBF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202E-F05F-4809-AED4-32B485A4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5799-77FF-4B63-822E-FA9912E5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214-1FF4-4175-A88F-0317D7B2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0A82-E67C-4F99-8736-D9F57480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A24A-CA12-4C10-884C-D5695EA5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BCE6-BF43-47DF-804C-ADDCA8FE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60F8-6B30-4229-9245-4759C03F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57A0-1FB1-4FD9-8036-909EDB44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4C8-3EDB-4F4B-8AE3-B9DE7D64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91F-06DA-45D2-85CC-44B0F46B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839-7A17-47DE-89F8-F0913E31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069-5832-49C7-8C2A-37D728BF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CE0-9711-45F1-8BE9-2F8E46B3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DD5-CD23-4FF9-B5FB-88FB1327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4CC-9B09-44C7-8FEA-5A606EC0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7F4C-5894-4C52-A37E-9A28A28953CB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5852-E8E8-4EE1-B25D-4346A634C9C5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03560" y="320040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            since nil is some kind of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01520" y="617220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ince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hd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tl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 are functions that take list argume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19160" y="3733920"/>
            <a:ext cx="212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a -&gt;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a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b list =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For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odules &amp; abstract types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constraints q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yntax-directed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gramming notation:  tc(G, u) = (e, t, 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ath notation:  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00880" y="628164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npu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41760" y="624852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outpu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048120" y="6172200"/>
            <a:ext cx="914400" cy="3808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5714640" y="6095520"/>
            <a:ext cx="685800" cy="3812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3924360" y="552420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5600520" y="552384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eneration of type constraints from unannotated simply-typed progra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un has subtyping and still needed some annotation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here is an algorithm for complete type inference for MinML without subtyping (and of course for full ML, including parametric polymorphism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olving type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1, q1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, q1 U {t1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6960" y="2362320"/>
            <a:ext cx="833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 t1, q1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 q2 U {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t1 = int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9680" y="220968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5320" y="23623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 t1, q1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&lt; e2 : bool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5320" y="23623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 t1, q1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&lt; e2 : bool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2240" y="22096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+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31760" y="2362320"/>
            <a:ext cx="642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3480" y="2362320"/>
            <a:ext cx="735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type scheme contains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variable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, b,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term scheme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1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) :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2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= 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56400" y="2362320"/>
            <a:ext cx="693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is u end ==&gt; fun f (x : a) : b is e 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10920" y="2362320"/>
            <a:ext cx="642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= u ==&gt; fun f (x : a) : b = 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solution to a system of type constraints is a 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 schemes, eg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a -&gt;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-152640" y="198108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pplying a substitution 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bstitute(S,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bstitute(S,s1 -&gt; s2) = substitute(s1) -&gt; substitute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bstitute(S,a) = s     (if S(a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bstitute(S,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nification systematically simplifies a set of constraints, yielding a substitu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d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rewriting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(S, q), systematically pick a constraint from q and simplify it, possibly adding to the substitu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se inductive definitions to specify rewriting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Judgment form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96120" y="3200400"/>
            <a:ext cx="281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??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40680" y="3200400"/>
            <a:ext cx="292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015560" y="3200400"/>
            <a:ext cx="3143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??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553720" y="365760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??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10800" y="320040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545080" y="365760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54640" y="3200400"/>
            <a:ext cx="518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s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S[a=s]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25920" y="4419720"/>
            <a:ext cx="51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s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S[a=s]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041200" y="2590920"/>
            <a:ext cx="4156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{s11 = s21, s12 = s22} U q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ccurs check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73640" y="4724280"/>
            <a:ext cx="51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s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S[a=s]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2760" y="59436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Unification Machine Gets Stuck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lexi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an prove (by contradiction) that 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Examine each case of the definition of the reduction relation &amp; show that our metric goes dow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[a=s]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ny set of constraints q, our unification machine reduces (Id, q) to (S, { }) such tha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q) is a set of true equations (eg, int = int, bool -&gt; a = bool -&gt; a, etc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to the constraint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t generates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ore general types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han any other substitution T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e: a -&gt; a is more general than int -&gt; in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e: T replaces more type variables with more specific typ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487880" indent="-2124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way to type check the ter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487880" indent="-2124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possible typings of 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Compare with Subtyping Algorithm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mple type inference algorithm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Given a context G (mapping variables to type schemes), and untyped term u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ype equations collected on the sid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algorith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given a context G (mapping variables to full types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Find t such that G |-- e :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Subtyping equations solved when they are generated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Lots of current research on type inference that combines subtyping and polymorphic type reconstruction for advanced type system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69920" y="2003400"/>
            <a:ext cx="257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or each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expression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perform typ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inference 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ub expressions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ssigning the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nd generat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hat mu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e solv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ull (l)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733560" y="2438280"/>
            <a:ext cx="289548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549840" y="2057400"/>
            <a:ext cx="24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egin with th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if expression &amp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recursivel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perform typ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inference on i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ubexpress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7240" y="3429000"/>
            <a:ext cx="52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   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ince argument to nul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must be a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5-03-08T21:23:14Z</dcterms:modified>
  <cp:revision>34</cp:revision>
  <dc:subject/>
  <dc:title>Type Inference</dc:title>
</cp:coreProperties>
</file>