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11B8-6E42-4997-8FC2-8A403BED4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879E-C642-4EE2-8F80-5D833918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717E-8250-4948-967A-143A16F5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7F3A-41B4-4EA6-A8F6-2A65F1242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401E-5E8C-4908-9C39-5528FB30C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2DE5-27E8-4E1F-A5A5-F47CB769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5F9B-4A5B-4DC7-813B-494D4435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AFB3-E803-456D-B352-538E5E2B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8C60-79FD-4155-BFBD-6AF413EC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CE49-60D3-4D42-9BB9-CBC574CD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85D0-9D64-4D17-9DE5-6EDA4FCF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2194-42C9-4603-B86D-1F0F35E9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DD17-C9F2-45F9-A7A2-0DEBF2E3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B45F-395A-412F-9E60-3D708EF3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18CB-22E8-4443-B346-C4C8F595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541E-2F9A-4108-8488-1B58BEFAA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61F4-456D-4A74-8592-4391ABF0F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FC5E-4FBF-4C32-98C6-592D70B3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90CB-42D1-4BF5-B9BC-45EEA8BF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49C8-F998-4B93-80AA-EF054422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78FF-801A-4084-9630-36792B80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6FF9-6E35-4666-8D27-89B89CCA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FBC0-24A3-4DAE-BDC8-182240B1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D7CD-4685-47FA-AD25-1B4B1A67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E565-66B2-4229-9CE4-6C424FA8B75F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12D1-0B1D-4811-8B0B-F8323213C507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S 320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203560" y="3200400"/>
            <a:ext cx="58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            since nil is some kind of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020720" y="1600200"/>
            <a:ext cx="177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733920" y="2209680"/>
            <a:ext cx="32004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020720" y="1600200"/>
            <a:ext cx="177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3733920" y="2209680"/>
            <a:ext cx="32004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615040" y="55022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241960" y="548640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3352680" y="4876560"/>
            <a:ext cx="228600" cy="5331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 flipV="1">
            <a:off x="5790960" y="4876560"/>
            <a:ext cx="228600" cy="5331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001520" y="6172200"/>
            <a:ext cx="77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since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hd</a:t>
            </a: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tl</a:t>
            </a: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 are functions that take list argume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, map (f, tl l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b’’’ list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020720" y="1600200"/>
            <a:ext cx="177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3733920" y="2209680"/>
            <a:ext cx="32004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419360" y="2590920"/>
            <a:ext cx="2514600" cy="1828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7086240" y="3200400"/>
            <a:ext cx="762120" cy="11430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559560" y="556272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365440" y="556272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5791320" y="4952880"/>
            <a:ext cx="0" cy="457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7010280" y="4952880"/>
            <a:ext cx="152640" cy="457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020720" y="1600200"/>
            <a:ext cx="1778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134880" y="556272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 flipV="1">
            <a:off x="2971440" y="4876560"/>
            <a:ext cx="304920" cy="6094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c’ li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099920" y="1600200"/>
            <a:ext cx="1778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080520" y="5562720"/>
            <a:ext cx="135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 flipV="1">
            <a:off x="2590920" y="4876560"/>
            <a:ext cx="4572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c’ li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099920" y="1600200"/>
            <a:ext cx="1778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72320" y="579132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447920" y="4952880"/>
            <a:ext cx="304560" cy="9144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91960" y="3429000"/>
            <a:ext cx="1231920" cy="2362320"/>
          </a:xfrm>
          <a:custGeom>
            <a:avLst/>
            <a:gdLst/>
            <a:ahLst/>
            <a:rect l="l" t="t" r="r" b="b"/>
            <a:pathLst>
              <a:path w="776" h="1488">
                <a:moveTo>
                  <a:pt x="200" y="1488"/>
                </a:moveTo>
                <a:cubicBezTo>
                  <a:pt x="100" y="1236"/>
                  <a:pt x="0" y="984"/>
                  <a:pt x="8" y="768"/>
                </a:cubicBezTo>
                <a:cubicBezTo>
                  <a:pt x="16" y="552"/>
                  <a:pt x="120" y="320"/>
                  <a:pt x="248" y="192"/>
                </a:cubicBezTo>
                <a:cubicBezTo>
                  <a:pt x="376" y="64"/>
                  <a:pt x="576" y="32"/>
                  <a:pt x="776" y="0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c’ li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d li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101720" y="1600200"/>
            <a:ext cx="1887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373840" y="6019920"/>
            <a:ext cx="13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 flipV="1">
            <a:off x="1599840" y="5257800"/>
            <a:ext cx="609480" cy="5335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886200" y="2590920"/>
            <a:ext cx="1879560" cy="3657600"/>
          </a:xfrm>
          <a:custGeom>
            <a:avLst/>
            <a:gdLst/>
            <a:ahLst/>
            <a:rect l="l" t="t" r="r" b="b"/>
            <a:pathLst>
              <a:path w="1232" h="2160">
                <a:moveTo>
                  <a:pt x="0" y="2160"/>
                </a:moveTo>
                <a:cubicBezTo>
                  <a:pt x="308" y="2096"/>
                  <a:pt x="616" y="2032"/>
                  <a:pt x="816" y="1824"/>
                </a:cubicBezTo>
                <a:cubicBezTo>
                  <a:pt x="1016" y="1616"/>
                  <a:pt x="1232" y="1216"/>
                  <a:pt x="1200" y="912"/>
                </a:cubicBezTo>
                <a:cubicBezTo>
                  <a:pt x="1168" y="608"/>
                  <a:pt x="896" y="304"/>
                  <a:pt x="624" y="0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101720" y="1606680"/>
            <a:ext cx="1887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fin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3:  Solv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48520" y="3581280"/>
            <a:ext cx="1778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fin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traint solution provides all possible solutions to type scheme annotations on term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795120" y="4114800"/>
            <a:ext cx="155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solu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 -&gt;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743200" y="4724280"/>
            <a:ext cx="838080" cy="457200"/>
          </a:xfrm>
          <a:custGeom>
            <a:avLst/>
            <a:gdLst>
              <a:gd name="textAreaLeft" fmla="*/ 130680 w 838080"/>
              <a:gd name="textAreaRight" fmla="*/ 733320 w 8380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abe9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419160" y="3733920"/>
            <a:ext cx="212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map (f : a -&gt; b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x : a list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b list =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486400" y="4724280"/>
            <a:ext cx="838080" cy="457200"/>
          </a:xfrm>
          <a:custGeom>
            <a:avLst/>
            <a:gdLst>
              <a:gd name="textAreaLeft" fmla="*/ 130680 w 838080"/>
              <a:gd name="textAreaRight" fmla="*/ 733320 w 8380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abe9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4:  Generate typ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Generate types from type schem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ption 1: pick an instance of the most general type when we have completed type inference on the entire program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map : (int -&gt; int) -&gt; int list -&gt; int list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ption 2: generate polymorphic types for program parts and continue (polymorphic) type infere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map : ForAll (a,b,c) (a -&gt; b) -&gt; a list -&gt; b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riticisms of Typed Languag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s overly constrain functions &amp; data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olymorphism makes typed constructs useful in more context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universal polymorphism =&gt; code reus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modules &amp; abstract types =&gt; code reus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ubtyping =&gt; code reus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s clutter programs and slow down programmer productivit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ype infere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uninformative annotations may be omitte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 Detail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 constraints q are sets of equations between type schem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::= {s11 = s12, ..., sn1 = sn2}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g: {b = b’ list, a = b -&gt; c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straint Gene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yntax-directed constraint generat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ur algorithm crawls over abstract syntax of untyped expressions and generat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 term schem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 set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lgorithm defined as set of inference rules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ogramming notation:  tc(G, u) = (e, t, q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math notation:  G |-- u =&gt; e : t, q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000880" y="6281640"/>
            <a:ext cx="10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inpu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341760" y="624852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outpu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3048120" y="6172200"/>
            <a:ext cx="914400" cy="3808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 flipV="1">
            <a:off x="5714640" y="6095520"/>
            <a:ext cx="685800" cy="38124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rot="16200000">
            <a:off x="3924360" y="5524200"/>
            <a:ext cx="152280" cy="99036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16200000">
            <a:off x="5600520" y="5523840"/>
            <a:ext cx="152280" cy="99072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straint Gene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x ==&gt; x 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3 ==&gt; 3 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true ==&gt; true 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false ==&gt; false 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straint Gene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x ==&gt; x : s,  { }      (if G(x) = 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3 ==&gt; 3 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true ==&gt; true 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false ==&gt; false 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straint Gene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x ==&gt; x : s,  { }      (if G(x) = 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3 ==&gt; 3 : int, { 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true ==&gt; true 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false ==&gt; false 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straint Gene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x ==&gt; x : s,  { }      (if G(x) = 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3 ==&gt; 3 : int, { 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true ==&gt; true : bool, { 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false ==&gt; false : bool, { 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perato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19640" y="2362320"/>
            <a:ext cx="720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+ u2 ==&gt;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perato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19640" y="2362320"/>
            <a:ext cx="720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+ u2 ==&gt;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perato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19640" y="2362320"/>
            <a:ext cx="720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+ u2 ==&gt;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perato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19640" y="2362320"/>
            <a:ext cx="720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+ u2 ==&gt; e1 + e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ype Infere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overview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generation of type constraints from unannotated simply-typed program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un has subtyping and still needed some annotation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There is an algorithm for complete type inference for MinML without subtyping (and of course for full ML, including parametric polymorphism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olving type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perato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19640" y="2362320"/>
            <a:ext cx="720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+ u2 ==&gt; e1 + e2 </a:t>
            </a: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in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perato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19640" y="2362320"/>
            <a:ext cx="720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 </a:t>
            </a: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t1, q1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: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+ u2 ==&gt; e1 + e2 : int</a:t>
            </a: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, q1 U {t1 = int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perato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26960" y="2362320"/>
            <a:ext cx="833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 t1, q1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: </a:t>
            </a: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+ u2 ==&gt; e1 + e2 : int, q1 U</a:t>
            </a: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 q2 U {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t1 = int</a:t>
            </a: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, t2 = int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perato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79680" y="2209680"/>
            <a:ext cx="720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&lt; u2 ==&gt;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perato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55320" y="2362320"/>
            <a:ext cx="793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 t1, q1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&lt; u2 ==&gt; e1 &lt; e2 : bool,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perato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55320" y="2362320"/>
            <a:ext cx="793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 t1, q1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&lt; u2 ==&gt; e1 &lt; e2 : bool,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perato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72240" y="2209680"/>
            <a:ext cx="858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             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&lt; u2 ==&gt; e1 + e2 : bool, q1 U q2 U {t1 = int, t2 = int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If stateme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031760" y="2362320"/>
            <a:ext cx="642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if u1 then u2 else u3 ==&gt;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If stateme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73480" y="2362320"/>
            <a:ext cx="7351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3 ==&gt; e3 : t3, q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if u1 then u2 else u3 ==&gt; if e1 then e2 else e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If stateme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30520" y="2362320"/>
            <a:ext cx="7468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3 ==&gt; e3 : t3, q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if u1 then u2 else u3 ==&gt; if e1 then e2 else e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, q1 U q2 U q3 U {t1 = bool, a = t2, a = t3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Schem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type scheme contains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ype variables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a, b,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that may be filled in during type inferenc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 ::=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| int | bool | s1 -&gt; s2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term scheme is a term that contains type schemes rather than proper typ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 ::= ... | fun f (x: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1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) :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2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= 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unction Appl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510920" y="2362320"/>
            <a:ext cx="642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u2==&gt; e1 e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, q1 U q2 U {t1 = t2 -&gt; a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unction Appl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510920" y="2362320"/>
            <a:ext cx="642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u2==&gt; e1 e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,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unction Decla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256400" y="2362320"/>
            <a:ext cx="693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, f : a -&gt; b, x : a |-- u ==&gt; e : t,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fun f(x) is u end ==&gt; fun f (x : a) : b is e en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 -&gt; b, q U {t = b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unction Decla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510920" y="2362320"/>
            <a:ext cx="642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, f : a -&gt; b, x : a |-- u ==&gt; e : t,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fun f(x) = u ==&gt; fun f (x : a) : b = e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olving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solution to a system of type constraints is a substitution 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function from type variables to type schemes, eg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b) = in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c) = a -&gt;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bstit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-152640" y="1981080"/>
            <a:ext cx="929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pplying a substitution 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ubstitute(S,int) = in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ubstitute(S,s1 -&gt; s2) = substitute(s1) -&gt; substitute(s2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ubstitute(S,a) = s     (if S(a) = 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ue to laziness, I will write S(s) instead of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ubstitute(S, 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Unifica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An algorithm that provides the principal solution to a set of constraints (if one exists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Unification systematically simplifies a set of constraints, yielding a substitu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tarting state of unification process: (Id,q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al state of unification process: (S, { }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can specify unification as a rewriting syste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iven (S, q), systematically pick a constraint from q and simplify it, possibly adding to the substitu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Use inductive definitions to specify rewriting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Judgment form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(S,q) -&gt; (S’,q’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ase types &amp; simple variab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996120" y="3200400"/>
            <a:ext cx="281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</a:t>
            </a:r>
            <a:r>
              <a:rPr b="0" lang="en-US" sz="2000" spc="-1" strike="noStrike">
                <a:solidFill>
                  <a:srgbClr val="ff9933"/>
                </a:solidFill>
                <a:latin typeface="Tahoma"/>
              </a:rPr>
              <a:t>???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ase types &amp; simple variab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940680" y="3200400"/>
            <a:ext cx="292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</a:t>
            </a:r>
            <a:r>
              <a:rPr b="0" lang="en-US" sz="2000" spc="-1" strike="noStrike">
                <a:solidFill>
                  <a:srgbClr val="ff9933"/>
                </a:solidFill>
                <a:latin typeface="Tahoma"/>
              </a:rPr>
              <a:t>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, l)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ase types &amp; simple variab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015560" y="3200400"/>
            <a:ext cx="3143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bool=bool} U q) -&gt; </a:t>
            </a:r>
            <a:r>
              <a:rPr b="0" lang="en-US" sz="2000" spc="-1" strike="noStrike">
                <a:solidFill>
                  <a:srgbClr val="ff9933"/>
                </a:solidFill>
                <a:latin typeface="Tahoma"/>
              </a:rPr>
              <a:t>???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553720" y="3657600"/>
            <a:ext cx="256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a} U q) -&gt; </a:t>
            </a:r>
            <a:r>
              <a:rPr b="0" lang="en-US" sz="2000" spc="-1" strike="noStrike">
                <a:solidFill>
                  <a:srgbClr val="ff9933"/>
                </a:solidFill>
                <a:latin typeface="Tahoma"/>
              </a:rPr>
              <a:t>???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ase types &amp; simple variab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910800" y="3200400"/>
            <a:ext cx="3358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bool=bool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545080" y="3657600"/>
            <a:ext cx="258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a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Variable defini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754640" y="3200400"/>
            <a:ext cx="518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 (a not in s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s} U q) -&gt; (S[a=s]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25920" y="4419720"/>
            <a:ext cx="510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 (a not in s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=a} U q) -&gt; (S[a=s]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ction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041200" y="2590920"/>
            <a:ext cx="4156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11 -&gt; s12= s21 -&gt; s22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???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ction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041200" y="2590920"/>
            <a:ext cx="415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11 -&gt; s12= s21 -&gt; s22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 </a:t>
            </a:r>
            <a:r>
              <a:rPr b="0" lang="en-US" sz="2000" spc="-1" strike="noStrike">
                <a:solidFill>
                  <a:srgbClr val="ff9933"/>
                </a:solidFill>
                <a:latin typeface="Tahoma"/>
              </a:rPr>
              <a:t>{s11 = s21, s12 = s22} U q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ccurs Check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hat is the solution to {a = a -&gt; a}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ccurs Check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hat is the solution to {a = a -&gt; a}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re is none!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occurs check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detects this situa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673640" y="4724280"/>
            <a:ext cx="510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 (a not in s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=a} U q) -&gt; (S[a=s]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 flipV="1">
            <a:off x="6781320" y="5181120"/>
            <a:ext cx="685800" cy="7621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692760" y="594360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occurs check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176"/>
                </a:solidFill>
                <a:latin typeface="Arial"/>
              </a:rPr>
              <a:t>Unification Machine Gets Stuck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Recall: final states have the form (S, { }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uck states (S,q) are such that every equation in q has the for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nt = boo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1 -&gt; s2 = s   (s not function type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= s              (s contains a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r is symmetric to one of the abov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uck states arise when constraints are unsolvabl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want unification to terminate (to give us a type reconstruction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algorithm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n other words, we want to show that there is no infinite sequence of stat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S1,q1) -&gt; (S2,q2) -&gt; ..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associate an ordering with constraint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&lt; q’ if and only if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contains fewer variables than q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contains the same number of variables as q’ but fewer type constructors (ie: fewer occurrences of int, bool, or “-&gt;”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is is a lexicographic ordering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we can prove (by contradiction) that there is no infinite decreasing sequence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1:  Add Type Schem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4799160" y="2585520"/>
            <a:ext cx="534960" cy="538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 flipV="1">
            <a:off x="4038480" y="2590560"/>
            <a:ext cx="1292400" cy="8413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274360" y="3040200"/>
            <a:ext cx="214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type schem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on function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: Every step reduces the size of q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oof:  Examine each case of the definition of the reduction relation &amp; show that our metric goes down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05880" y="3581280"/>
            <a:ext cx="3358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bool=bool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68520" y="5470560"/>
            <a:ext cx="258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a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479480" y="3581280"/>
            <a:ext cx="415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11 -&gt; s12= s21 -&gt; s22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 {s11 = s21, s12 = s22} U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566960" y="5181480"/>
            <a:ext cx="389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s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[a=s]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iven any set of constraints q, our unification machine reduces (Id, q) to (S, { }) such tha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q) is a set of true equations (eg, int = int, bool -&gt; a = bool -&gt; a, etc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is a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rincipal solution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 to the constraints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t generates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more general types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 than any other substitution T: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e: a -&gt; a is more general than int -&gt; in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e: T replaces more type variables with more specific type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 inference algorithm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iven a context G, and untyped term u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d e, t, q such that G |- u ==&gt; e : t,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d principal solution S of q via unifica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487880" indent="-2124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f no solution exists, there is no way to type check the term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pply S to e, ie our solution is S(e)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487880" indent="-2124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(e) contains schematic type variables a,b,c, etc that may be instantiated with any typ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ince S is principal, S(e) characterizes all possible typings of 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62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176"/>
                </a:solidFill>
                <a:latin typeface="Arial"/>
              </a:rPr>
              <a:t>Compare with Subtyping Algorithm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imple type inference algorithm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Given a context G (mapping variables to type schemes), and untyped term u: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Find e, t, q such that G |- u ==&gt; e : t, q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Type equations collected on the side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ubtyping algorithm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given a context G (mapping variables to full types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Find t such that G |-- e : 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Subtyping equations solved when they are generated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Lots of current research on type inference that combines subtyping and polymorphic type reconstruction for advanced type systems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469920" y="2003400"/>
            <a:ext cx="2576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for each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expression,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perform type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inference 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sub expressions,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ssigning them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type schem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nd generating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that mu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e solve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if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ull (l)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3733560" y="2438280"/>
            <a:ext cx="2895480" cy="457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549840" y="2057400"/>
            <a:ext cx="241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egin with th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if expression &amp;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recursivel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perform type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inference on i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subexpression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2514600" y="3162240"/>
            <a:ext cx="1371600" cy="5335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927240" y="3429000"/>
            <a:ext cx="524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    </a:t>
            </a: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since argument to nul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must be a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11:06:27Z</dcterms:created>
  <dc:creator>David Walker</dc:creator>
  <dc:description/>
  <dc:language>en-US</dc:language>
  <cp:lastModifiedBy>dpw</cp:lastModifiedBy>
  <dcterms:modified xsi:type="dcterms:W3CDTF">2005-03-08T21:23:14Z</dcterms:modified>
  <cp:revision>34</cp:revision>
  <dc:subject/>
  <dc:title>Type Inference</dc:title>
</cp:coreProperties>
</file>