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C31-0B60-4261-8327-CEEEC55F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A86-F023-4DE3-A57D-75B093AE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91D-488C-4FA7-B7E8-A1313842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2F3-DEAE-41EE-B5E5-D7925EA9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9CEF-1D0A-4B18-BD34-5F532F1D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3195-A016-4BD9-821A-E9B906AF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279E-F81D-468E-8B8E-D4587EEA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7CA9-1045-4A0E-B153-65AF37F6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151A-D8C0-435A-8BC9-75A30E72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F500-BEF8-4D7B-B110-7EFFEEE3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E279-6193-47C3-A33F-DC666E33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17B-FA72-4284-842B-18AE5062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DBF-0EA2-4BB9-8EFA-A8A5526A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228D-B6F2-43A9-A17E-CF951C32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89FE-FB46-4DF7-83DE-1460280E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E7DC-D500-4974-8BA8-C43BF29A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4D67-712D-4C73-91BF-2C61A9A1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ED1-53A1-4BD0-BE71-162D1AFE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9EF-483F-4491-9B8E-F9416F16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124-22AF-43F2-8FCD-12993926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247-8F17-4BFB-80E4-330FBCEE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421-BE8D-4867-B53F-33CB8345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839-EE74-4516-8B68-95C61CF7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660-8AFF-45D2-A833-47DBE85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B92A-FCE6-4BDE-B382-EA58608B73D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496B-69A5-4EA6-939C-8A20678116F4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03560" y="32004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            since nil is some kind of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01520" y="61722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ince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hd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tl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are functions that take list argume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19160" y="3733920"/>
            <a:ext cx="212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 =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For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odules &amp; abstract types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constraints q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yntax-directed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gramming notation:  tc(G, u) = (e, t, 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ath notation:  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00880" y="628164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npu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41760" y="624852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outpu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048120" y="6172200"/>
            <a:ext cx="914400" cy="3808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5714640" y="6095520"/>
            <a:ext cx="685800" cy="3812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3924360" y="552420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5600520" y="552384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neration of type constraints from unannotated simply-typed progra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un has subtyping and still needed some annotation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here is an algorithm for complete type inference for MinML without subtyping (and of course for full ML, including parametric polymorphism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olving type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, q1 U {t1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6960" y="2362320"/>
            <a:ext cx="83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q2 U {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t1 = int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9680" y="220968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5320" y="23623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5320" y="23623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2240" y="22096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31760" y="2362320"/>
            <a:ext cx="642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3480" y="2362320"/>
            <a:ext cx="735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ype scheme contains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variable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, b,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erm scheme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1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) :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2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= 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56400" y="2362320"/>
            <a:ext cx="693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10920" y="2362320"/>
            <a:ext cx="642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= u ==&gt; fun f (x : a) : b = 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solution to a system of type constraints is a 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 schemes, eg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a -&gt;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152640" y="198108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pplying a substitution 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s1 -&gt; s2) = substitute(s1) -&gt; substitute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a) = s     (if S(a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fication systematically simplifies a set of constraints, yielding a substitu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d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rewriting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(S, q), systematically pick a constraint from q and simplify it, possibly adding to the substitu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se inductive definitions to specify rewriting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Judgment form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96120" y="3200400"/>
            <a:ext cx="281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40680" y="3200400"/>
            <a:ext cx="292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015560" y="3200400"/>
            <a:ext cx="3143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53720" y="365760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10800" y="320040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45080" y="365760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54640" y="3200400"/>
            <a:ext cx="518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25920" y="4419720"/>
            <a:ext cx="51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41200" y="2590920"/>
            <a:ext cx="4156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{s11 = s21, s12 = s22} U q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ccurs check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73640" y="4724280"/>
            <a:ext cx="51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2760" y="59436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Unification Machine Gets Stuck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lexi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prove (by contradiction) that 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Examine each case of the definition of the reduction relation &amp; show that our metric goes dow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ny set of constraints q, our unification machine reduces (Id, q) to (S, { }) such tha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q) is a set of true equations (eg, int = int, bool -&gt; a = bool -&gt; a, etc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to the constraint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t generates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ore general types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han any other substitution T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e: a -&gt; a is more general than int -&gt; in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e: T replaces more type variables with more specific typ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way to type check the ter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possible typings of 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Compare with Subtyping Algorithm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mple type inference algorithm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Given a context G (mapping variables to type schemes), and untyped term u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ype equations collected on the sid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algorith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given a context G (mapping variables to full type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nd t such that G |-- e :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Subtyping equations solved when they are generated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Lots of current research on type inference that combines subtyping and polymorphic type reconstruction for advanced type system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69920" y="2003400"/>
            <a:ext cx="257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or each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expression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perform typ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nference 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ub expressions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ssigning the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nd genera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hat mu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e solv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ull (l)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733560" y="2438280"/>
            <a:ext cx="289548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49840" y="2057400"/>
            <a:ext cx="24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egin with th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f expression &amp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recursivel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perform typ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nference on i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ubexpress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7240" y="3429000"/>
            <a:ext cx="52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   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ince argument to nul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must be a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5-03-08T21:23:14Z</dcterms:modified>
  <cp:revision>34</cp:revision>
  <dc:subject/>
  <dc:title>Type Inference</dc:title>
</cp:coreProperties>
</file>