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A88-A2A6-4899-8018-4B40E0A3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7D8-710F-4B2D-9920-7BA7DD73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257-750F-4F61-97EF-6FE488C1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3E1-0B94-48A0-B5BE-C1313DED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6AF-DDD8-4A72-8284-4C963045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592-E552-4D97-8E2D-5F8CC447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079-E368-4E9E-A4FF-1DD7FE8E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545-6C33-4DC3-8A60-9C7DECA0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648-BA7B-424C-B094-DC64DC47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B78-0D9D-4E71-9E79-757C63FB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73C-4D7E-4974-98D7-18BB08B8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072-E83B-4BC8-AF0A-B41B934D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6D2F-4FA9-4838-88B5-D9EEF458C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s and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re laid out somewhat lik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variable has a slot in the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implement field lookup we need to have a systematic way to find a given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 v.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ard part is that v may be a generic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ehic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it may be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lookup code must work when we know the </a:t>
            </a: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static 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ay Vehicle) but we do not know the </a:t>
            </a: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dynamic 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object (say Vehicle, Car or Tru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put “position” in the same place in the record that implements vehicles, cars and tru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371600"/>
            <a:ext cx="5683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Vehicle extends Object { ...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Car extends Vehic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 passengers :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await(v:Vehicle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v.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&lt; position) then ...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Truck extends Vehicle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 = new T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c = new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v : Vehicle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c.await(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c.await(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c.await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1550880"/>
            <a:ext cx="32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pointer in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v.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or SI) gets compiled in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ad rtemp const(r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onst do we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the same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ardless of whether v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r, truck or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lay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ield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that implement cars, trucks and vehicles must be simi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1447920"/>
            <a:ext cx="457200" cy="4647960"/>
          </a:xfrm>
          <a:custGeom>
            <a:avLst/>
            <a:gdLst>
              <a:gd name="textAreaLeft" fmla="*/ 0 w 457200"/>
              <a:gd name="textAreaRight" fmla="*/ 164880 w 45720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extension on th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inherited fields first in the same order as in the parent (SI =&gt; only 1 pa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newly declared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914400" y="43434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" y="5181480"/>
            <a:ext cx="288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identifi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cas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ield in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the class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438280" y="487692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12200" y="5675400"/>
            <a:ext cx="24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ield named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bjects extendin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have first fiel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6172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&amp; 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semantic analysis, the compiler kn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type (class) of the object calling th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methods in ea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eter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sest method (up the class hierarchy) with the give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pass object as self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call to the know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4040" y="1584360"/>
            <a:ext cx="416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B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bar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bar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B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programming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 data types, exceptions, modules, objects, concurrenc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 to use, but require special techniques to compile and opt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will be looking at how to compile objects and classes similar to those found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chapter 14.1-1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called depends on object’s dynam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semantic analysis,  may b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-time, we determine which code to jump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stores a pointer to its method table (v-table) as well as its object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mpile-time, we generate cod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up v-table i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method fro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method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5480" y="1584360"/>
            <a:ext cx="3873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A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ng-and-tricky-comp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48006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05920" y="5334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05920" y="5867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4876920"/>
            <a:ext cx="1676160" cy="1257120"/>
          </a:xfrm>
          <a:custGeom>
            <a:avLst/>
            <a:gdLst/>
            <a:ahLst/>
            <a:rect l="l" t="t" r="r" b="b"/>
            <a:pathLst>
              <a:path w="1056" h="792">
                <a:moveTo>
                  <a:pt x="1056" y="144"/>
                </a:moveTo>
                <a:cubicBezTo>
                  <a:pt x="1008" y="72"/>
                  <a:pt x="960" y="0"/>
                  <a:pt x="912" y="96"/>
                </a:cubicBezTo>
                <a:cubicBezTo>
                  <a:pt x="864" y="192"/>
                  <a:pt x="920" y="648"/>
                  <a:pt x="768" y="720"/>
                </a:cubicBezTo>
                <a:cubicBezTo>
                  <a:pt x="616" y="792"/>
                  <a:pt x="308" y="660"/>
                  <a:pt x="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nheri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heritence is trickier to implement than single inheritence because creating objects of a subclass from their subclass by “extension on the right” does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 inherits from both A and B, we can’t put A’s variables at the front and put B’s variables at the front of the object in the same pla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do a global analysis to determine object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62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01560" y="3962520"/>
            <a:ext cx="37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object layout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graph color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for each field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erence edge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that coexist in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(via inheritence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lass declarations to Fu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are a collec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(variable)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lass declaration gives a new name to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may 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in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and fields from the class it ext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“object” sits at the top of the class hierarchy; it has no fields and n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657600" y="54100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30600" y="4267080"/>
            <a:ext cx="546120" cy="1524240"/>
          </a:xfrm>
          <a:custGeom>
            <a:avLst/>
            <a:gdLst/>
            <a:ahLst/>
            <a:rect l="l" t="t" r="r" b="b"/>
            <a:pathLst>
              <a:path w="344" h="960">
                <a:moveTo>
                  <a:pt x="344" y="96"/>
                </a:moveTo>
                <a:cubicBezTo>
                  <a:pt x="228" y="48"/>
                  <a:pt x="112" y="0"/>
                  <a:pt x="56" y="144"/>
                </a:cubicBezTo>
                <a:cubicBezTo>
                  <a:pt x="0" y="288"/>
                  <a:pt x="4" y="624"/>
                  <a:pt x="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51320" y="587844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866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866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866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14680" y="4419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954680"/>
            <a:ext cx="5331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14680" y="548496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60199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3556080"/>
            <a:ext cx="533520" cy="863640"/>
          </a:xfrm>
          <a:custGeom>
            <a:avLst/>
            <a:gdLst/>
            <a:ahLst/>
            <a:rect l="l" t="t" r="r" b="b"/>
            <a:pathLst>
              <a:path w="336" h="544">
                <a:moveTo>
                  <a:pt x="336" y="160"/>
                </a:moveTo>
                <a:cubicBezTo>
                  <a:pt x="244" y="80"/>
                  <a:pt x="152" y="0"/>
                  <a:pt x="96" y="64"/>
                </a:cubicBezTo>
                <a:cubicBezTo>
                  <a:pt x="40" y="128"/>
                  <a:pt x="20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58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4582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4582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458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67480" y="3530520"/>
            <a:ext cx="1067040" cy="584280"/>
          </a:xfrm>
          <a:custGeom>
            <a:avLst/>
            <a:gdLst/>
            <a:ahLst/>
            <a:rect l="l" t="t" r="r" b="b"/>
            <a:pathLst>
              <a:path w="672" h="368">
                <a:moveTo>
                  <a:pt x="0" y="176"/>
                </a:moveTo>
                <a:cubicBezTo>
                  <a:pt x="40" y="88"/>
                  <a:pt x="80" y="0"/>
                  <a:pt x="192" y="32"/>
                </a:cubicBezTo>
                <a:cubicBezTo>
                  <a:pt x="304" y="64"/>
                  <a:pt x="488" y="216"/>
                  <a:pt x="672" y="3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80040" y="594360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5105160" y="56383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40280" y="4495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040280" y="611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08920" y="4191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002800" y="4738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08920" y="525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0280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99880" y="3581280"/>
            <a:ext cx="3716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etch a field using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, 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the first field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the class descript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M [c + fieldOffse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fieldOffset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mputed using glob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coloring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nalyses are the bane of modern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pplications use dynamically linked libraries, mobile code, get patches to fix bu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don’t have the whole program at compile-time, we can’t do global analys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(most of the tim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art custom lin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tricky when new code is linked dynamically to code that is already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Java has single inheri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-casts and typ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casting mechanism “(C) x” to cast variable x to clas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we look up x’s dynamic type and determine whether it is a subtype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ype casts are currently pervasive and a source of both inefficiency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Java and C# will be adding parametric polymorphism, a la ML, to make many of these unnecessary casts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semantic analysis (type checking), the compiler maintains this information in the symbol table for each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languages provide new challenges for compiler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find field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ke field and method access just as efficient as ordinary function call and variabl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ongoing research in OO language implementation tackles these and other interes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200400"/>
            <a:ext cx="64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 : 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438280"/>
            <a:ext cx="1218960" cy="10670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040" y="20574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2520" y="2209680"/>
            <a:ext cx="24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perclas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ehicle inherit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181120" y="2666880"/>
            <a:ext cx="762120" cy="8384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40388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90720" y="4038480"/>
            <a:ext cx="1143000" cy="5335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51055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81280" y="4495320"/>
            <a:ext cx="609840" cy="685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600200"/>
            <a:ext cx="5683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assengers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await(v:Vehicle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v.position  &lt; position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position – v.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.move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4840" y="569916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91320" y="5409720"/>
            <a:ext cx="38088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31560" y="6156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urrent object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7200" y="562284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all to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057400" y="5790960"/>
            <a:ext cx="45720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295596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581280"/>
            <a:ext cx="60984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120" y="3413160"/>
            <a:ext cx="16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14640" y="4114800"/>
            <a:ext cx="68580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t Another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position := position +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&lt;= 55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:= position *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33720" y="6156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 ...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 t = new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 c = 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 v : Vehicle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passengers :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move(6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7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wait(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274320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3048120"/>
            <a:ext cx="2210040" cy="3045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5120" y="3794040"/>
            <a:ext cx="253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266720" y="396216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6320" y="5318280"/>
            <a:ext cx="27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428640" y="548604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800600"/>
            <a:ext cx="380880" cy="763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098960"/>
            <a:ext cx="15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car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952880"/>
            <a:ext cx="457200" cy="1526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Object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object fie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inherited fields and fields for the current 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method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class does not define a particular method, where do we go to get the inherited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andle method overr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lass 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graph of inheritence relationships in a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ing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) language, the graph is 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ultip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) language, the graph is a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-inheritence languages are much trickier to implement than single-inheritence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4400" y="25909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1320" y="356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840" y="4479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44798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81280" y="4038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724280" y="4038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434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23:13:28Z</dcterms:created>
  <dc:creator>CS</dc:creator>
  <dc:description/>
  <dc:language>en-US</dc:language>
  <cp:lastModifiedBy>dpw</cp:lastModifiedBy>
  <dcterms:modified xsi:type="dcterms:W3CDTF">2005-04-25T22:12:15Z</dcterms:modified>
  <cp:revision>10</cp:revision>
  <dc:subject/>
  <dc:title>Objects and Classes</dc:title>
</cp:coreProperties>
</file>