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1DC3-B105-421A-B0C5-4934D2A61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CC59-04C6-4C76-B4C4-20C84AB6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620E-D04E-4181-9956-D048593B7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A689-FF74-44FD-A993-FE7E41D8E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E38D-C30C-45B8-B763-08A7239D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3479-058C-4029-BD75-5B962126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F2C6-A21B-46C9-B10D-FE91D688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2ED5-E679-4661-A0BB-3DD770C8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D447-FA7F-4AF2-BFB3-C3FAF25A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8ADE-735F-47E2-B941-2682E8F5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B2DB-348F-479A-874F-22DF56EF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A232-2EC7-4508-B44D-81CC5873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CAC1-1D6C-4519-A293-18B5E8DF3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s and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 3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are laid out somewhat lik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variable has a slot in the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implement field lookup we need to have a systematic way to find a given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:  v.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ard part is that v may be a generic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ehic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it may be a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a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r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ame lookup code must work when we know the </a:t>
            </a: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static 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ay Vehicle) but we do not know the </a:t>
            </a: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dynamic 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object (say Vehicle, Car or Tru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need to put “position” in the same place in the record that implements vehicles, cars and truc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he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1371600"/>
            <a:ext cx="56833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Vehicle extends Object { ...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Car extends Vehic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 passengers :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await(v:Vehicle)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v.pos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&lt; position) then ...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Truck extends Vehicle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 t = new Tru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 c = new 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 v : Vehicle 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c.await(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c.await(c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c.await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1550880"/>
            <a:ext cx="327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pointer in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r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v.pos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for SI) gets compiled in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oad rtemp const(r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onst do we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the same con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ardless of whether v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ar, truck or veh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lay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field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s that implement cars, trucks and vehicles must be simi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52880" y="1447920"/>
            <a:ext cx="457200" cy="4647960"/>
          </a:xfrm>
          <a:custGeom>
            <a:avLst/>
            <a:gdLst>
              <a:gd name="textAreaLeft" fmla="*/ 0 w 457200"/>
              <a:gd name="textAreaRight" fmla="*/ 164880 w 457200"/>
              <a:gd name="textAreaTop" fmla="*/ 120960 h 4647960"/>
              <a:gd name="textAreaBottom" fmla="*/ 4527000 h 464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extension on the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 out the inherited fields first in the same order as in the parent (SI =&gt; only 1 par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 out the newly declared to th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914400" y="434340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" y="5181480"/>
            <a:ext cx="2882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identifi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to i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cast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field in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the class ident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2438280" y="4876920"/>
            <a:ext cx="9907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12200" y="5675400"/>
            <a:ext cx="246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field named 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bjects extending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have first field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290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5638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524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578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578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578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290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290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290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29000" y="5638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102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102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1028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10280" y="5638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10280" y="61722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2578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290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29000" y="5638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524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524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c &amp; Dynamic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 of compiling a method is some machine code located at a particular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 method invocation point, we need to figure out what code location to jump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has static &amp; dynamic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solve static method calls, we look at the static type of the calling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solve dynamic method calls, we need the dynamic type of the calling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c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191120" y="16002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semantic analysis, the compiler kn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type (class) of the object calling the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st of methods in each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determ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losest method (up the class hierarchy) with the give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ns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 to pass object as self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rect call to the known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4040" y="1584360"/>
            <a:ext cx="4168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method foo (x:int) =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method bar (x:int)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method foo (x:int) =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a : A = new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b : A = new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 B = new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foo(3);   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* calls foo in class A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foo(3);   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* calls foo in class A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bar(3);   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* calls bar in class A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foo(3);   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* calls foo in class B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ced Langu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programming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 data types, exceptions, modules, objects, concurrency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 to use, but require special techniques to compile and optim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 will be looking at how to compile objects and classes similar to those found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l chapter 14.1-14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91120" y="16002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called depends on object’s dynamic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semantic analysis,  may be un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run-time, we determine which code to jump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 stores a pointer to its method table (v-table) as well as its object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compile-time, we generate cod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up v-table in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ct method from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mp to method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5480" y="1584360"/>
            <a:ext cx="3873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foo (x:int) =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bar (x:int)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foo (x:int) =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a : A = new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b : A = new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 A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long-and-tricky-compu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foo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43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43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6161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36"/>
                  <a:pt x="160" y="272"/>
                  <a:pt x="80" y="432"/>
                </a:cubicBezTo>
                <a:cubicBezTo>
                  <a:pt x="0" y="592"/>
                  <a:pt x="40" y="776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78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578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43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6161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36"/>
                  <a:pt x="160" y="272"/>
                  <a:pt x="80" y="432"/>
                </a:cubicBezTo>
                <a:cubicBezTo>
                  <a:pt x="0" y="592"/>
                  <a:pt x="40" y="776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4449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60"/>
                  <a:pt x="160" y="320"/>
                  <a:pt x="80" y="480"/>
                </a:cubicBezTo>
                <a:cubicBezTo>
                  <a:pt x="0" y="640"/>
                  <a:pt x="40" y="800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102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102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102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578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578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290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743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6161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36"/>
                  <a:pt x="160" y="272"/>
                  <a:pt x="80" y="432"/>
                </a:cubicBezTo>
                <a:cubicBezTo>
                  <a:pt x="0" y="592"/>
                  <a:pt x="40" y="776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4449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60"/>
                  <a:pt x="160" y="320"/>
                  <a:pt x="80" y="480"/>
                </a:cubicBezTo>
                <a:cubicBezTo>
                  <a:pt x="0" y="640"/>
                  <a:pt x="40" y="800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72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248520" y="3809880"/>
            <a:ext cx="838080" cy="1600200"/>
          </a:xfrm>
          <a:custGeom>
            <a:avLst/>
            <a:gdLst/>
            <a:ahLst/>
            <a:rect l="l" t="t" r="r" b="b"/>
            <a:pathLst>
              <a:path w="528" h="1008">
                <a:moveTo>
                  <a:pt x="528" y="0"/>
                </a:moveTo>
                <a:cubicBezTo>
                  <a:pt x="356" y="84"/>
                  <a:pt x="184" y="168"/>
                  <a:pt x="96" y="336"/>
                </a:cubicBezTo>
                <a:cubicBezTo>
                  <a:pt x="8" y="504"/>
                  <a:pt x="4" y="756"/>
                  <a:pt x="0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102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102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0102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578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2578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290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290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743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6161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36"/>
                  <a:pt x="160" y="272"/>
                  <a:pt x="80" y="432"/>
                </a:cubicBezTo>
                <a:cubicBezTo>
                  <a:pt x="0" y="592"/>
                  <a:pt x="40" y="776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4449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60"/>
                  <a:pt x="160" y="320"/>
                  <a:pt x="80" y="480"/>
                </a:cubicBezTo>
                <a:cubicBezTo>
                  <a:pt x="0" y="640"/>
                  <a:pt x="40" y="800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72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248520" y="3809880"/>
            <a:ext cx="838080" cy="1600200"/>
          </a:xfrm>
          <a:custGeom>
            <a:avLst/>
            <a:gdLst/>
            <a:ahLst/>
            <a:rect l="l" t="t" r="r" b="b"/>
            <a:pathLst>
              <a:path w="528" h="1008">
                <a:moveTo>
                  <a:pt x="528" y="0"/>
                </a:moveTo>
                <a:cubicBezTo>
                  <a:pt x="356" y="84"/>
                  <a:pt x="184" y="168"/>
                  <a:pt x="96" y="336"/>
                </a:cubicBezTo>
                <a:cubicBezTo>
                  <a:pt x="8" y="504"/>
                  <a:pt x="4" y="756"/>
                  <a:pt x="0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05920" y="48006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305920" y="53341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305920" y="5867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705720" y="4876920"/>
            <a:ext cx="1676160" cy="1257120"/>
          </a:xfrm>
          <a:custGeom>
            <a:avLst/>
            <a:gdLst/>
            <a:ahLst/>
            <a:rect l="l" t="t" r="r" b="b"/>
            <a:pathLst>
              <a:path w="1056" h="792">
                <a:moveTo>
                  <a:pt x="1056" y="144"/>
                </a:moveTo>
                <a:cubicBezTo>
                  <a:pt x="1008" y="72"/>
                  <a:pt x="960" y="0"/>
                  <a:pt x="912" y="96"/>
                </a:cubicBezTo>
                <a:cubicBezTo>
                  <a:pt x="864" y="192"/>
                  <a:pt x="920" y="648"/>
                  <a:pt x="768" y="720"/>
                </a:cubicBezTo>
                <a:cubicBezTo>
                  <a:pt x="616" y="792"/>
                  <a:pt x="308" y="660"/>
                  <a:pt x="0" y="5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Inherit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heritence is trickier to implement than single inheritence because creating objects of a subclass from their subclass by “extension on the right” doesn’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 inherits from both A and B, we can’t put A’s variables at the front and put B’s variables at the front of the object in the same plac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do a global analysis to determine object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9343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9343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934320" y="46483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34320" y="51814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34320" y="62485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81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81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3526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411480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3526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35268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676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676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181480" y="518148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181480" y="4648320"/>
            <a:ext cx="5335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34320" y="57150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962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62520" y="46483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62520" y="51814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962520" y="62485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7432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5238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23880" y="411480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5238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52388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49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518148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43200" y="4648320"/>
            <a:ext cx="5335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62520" y="57150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01560" y="3962520"/>
            <a:ext cx="3708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object layout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graph color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de for each field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terference edge betw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s that coexist in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(via inheritence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F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class declarations to Fu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es are a collection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 (variable) decla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decla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class declaration gives a new name to a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lass may </a:t>
            </a:r>
            <a:r>
              <a:rPr b="0" lang="ug-CN" sz="2800" spc="-1" strike="noStrike">
                <a:solidFill>
                  <a:srgbClr val="000000"/>
                </a:solidFill>
                <a:latin typeface="Arial"/>
              </a:rPr>
              <a:t>in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ug-CN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s and fields from the class it ext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ass “object” sits at the top of the class hierarchy; it has no fields and no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9343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9343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934320" y="46483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34320" y="51814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934320" y="62485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181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181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8148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526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352680" y="411480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3526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35268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676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676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81480" y="518148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181480" y="4648320"/>
            <a:ext cx="5335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934320" y="57150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3657600" y="541008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730600" y="4267080"/>
            <a:ext cx="546120" cy="1524240"/>
          </a:xfrm>
          <a:custGeom>
            <a:avLst/>
            <a:gdLst/>
            <a:ahLst/>
            <a:rect l="l" t="t" r="r" b="b"/>
            <a:pathLst>
              <a:path w="344" h="960">
                <a:moveTo>
                  <a:pt x="344" y="96"/>
                </a:moveTo>
                <a:cubicBezTo>
                  <a:pt x="228" y="48"/>
                  <a:pt x="112" y="0"/>
                  <a:pt x="56" y="144"/>
                </a:cubicBezTo>
                <a:cubicBezTo>
                  <a:pt x="0" y="288"/>
                  <a:pt x="4" y="624"/>
                  <a:pt x="8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651320" y="5878440"/>
            <a:ext cx="200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ted space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866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0866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08660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8660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86600" y="6248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181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181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814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3526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676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08660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165320" y="54100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0948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890800" y="540864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35320" y="38098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89548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414680" y="44197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419720" y="4954680"/>
            <a:ext cx="53316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414680" y="5484960"/>
            <a:ext cx="5335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60199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724280" y="3556080"/>
            <a:ext cx="533520" cy="863640"/>
          </a:xfrm>
          <a:custGeom>
            <a:avLst/>
            <a:gdLst/>
            <a:ahLst/>
            <a:rect l="l" t="t" r="r" b="b"/>
            <a:pathLst>
              <a:path w="336" h="544">
                <a:moveTo>
                  <a:pt x="336" y="160"/>
                </a:moveTo>
                <a:cubicBezTo>
                  <a:pt x="244" y="80"/>
                  <a:pt x="152" y="0"/>
                  <a:pt x="96" y="64"/>
                </a:cubicBezTo>
                <a:cubicBezTo>
                  <a:pt x="40" y="128"/>
                  <a:pt x="20" y="336"/>
                  <a:pt x="0" y="5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4582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45820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45820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458200" y="6248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45820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467480" y="3530520"/>
            <a:ext cx="1067040" cy="584280"/>
          </a:xfrm>
          <a:custGeom>
            <a:avLst/>
            <a:gdLst/>
            <a:ahLst/>
            <a:rect l="l" t="t" r="r" b="b"/>
            <a:pathLst>
              <a:path w="672" h="368">
                <a:moveTo>
                  <a:pt x="0" y="176"/>
                </a:moveTo>
                <a:cubicBezTo>
                  <a:pt x="40" y="88"/>
                  <a:pt x="80" y="0"/>
                  <a:pt x="192" y="32"/>
                </a:cubicBezTo>
                <a:cubicBezTo>
                  <a:pt x="304" y="64"/>
                  <a:pt x="488" y="216"/>
                  <a:pt x="672" y="3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180040" y="5943600"/>
            <a:ext cx="173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ted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5105160" y="563832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3560" y="5486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22520" y="5486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516400" y="60339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040280" y="44956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040280" y="6110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008920" y="41911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002800" y="47386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008920" y="5257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002800" y="5805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002800" y="6338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3526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3526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3526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676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676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165320" y="54100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0948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890800" y="540864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335320" y="38098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89548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63560" y="5486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522520" y="5486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516400" y="60339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799880" y="3581280"/>
            <a:ext cx="3716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fetch a field using th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, w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the first field of the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get the class descript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M [c + fieldOffse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fieldOffset can 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omputed using glob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 coloring as 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analyses are the bane of modern comp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pplications use dynamically linked libraries, mobile code, get patches to fix bug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e don’t have the whole program at compile-time, we can’t do global analys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(most of the time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mart custom lin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tricky when new code is linked dynamically to code that is already ru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, Java has single inheri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OO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-casts and type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has casting mechanism “(C) x” to cast variable x to class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run time we look up x’s dynamic type and determine whether it is a subtype of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type casts are currently pervasive and a source of both inefficiency and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n, Java and C# will be adding parametric polymorphism, a la ML, to make many of these unnecessary casts go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OO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ion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capsulate local state within an object, Java has “private” “protected” and “public” qual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methods/fields can’t be called/used outside of the class in which they are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semantic analysis (type checking), the compiler maintains this information in the symbol table for each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languages provide new challenges for compiler wri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find fields and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make field and method access just as efficient as ordinary function call and variable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ts of ongoing research in OO language implementation tackles these and other interesting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Object Fun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3200400"/>
            <a:ext cx="6400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Vehicle extends Objec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position :=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move (x : int) = (position := position + 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...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2438280"/>
            <a:ext cx="1218960" cy="10670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040" y="205740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2520" y="2209680"/>
            <a:ext cx="248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superclass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Vehicle inherit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181120" y="2666880"/>
            <a:ext cx="762120" cy="8384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4403880"/>
            <a:ext cx="14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990720" y="4038480"/>
            <a:ext cx="1143000" cy="53352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8280" y="5105520"/>
            <a:ext cx="23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ethod 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581280" y="4495320"/>
            <a:ext cx="609840" cy="6858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Object Fun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1600200"/>
            <a:ext cx="56833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Vehicle extends Objec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position :=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move (x:int) = (position := position + 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ar extends Vehicl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passengers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await(v:Vehicle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v.position  &lt; position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.move(position – v.pos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.move(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...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34840" y="5699160"/>
            <a:ext cx="21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v’s “position”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5791320" y="5409720"/>
            <a:ext cx="380880" cy="3812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31560" y="615636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current object’s “position”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4343040" y="5409720"/>
            <a:ext cx="685800" cy="76212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7200" y="5622840"/>
            <a:ext cx="189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call to inher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057400" y="5790960"/>
            <a:ext cx="457200" cy="7596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2955960"/>
            <a:ext cx="14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new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3581280"/>
            <a:ext cx="609840" cy="3812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24120" y="3413160"/>
            <a:ext cx="163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new meth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14640" y="4114800"/>
            <a:ext cx="685800" cy="4572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t Another Object Fun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1600200"/>
            <a:ext cx="5683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Vehicle extends Objec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position :=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move (x:int) = position := position +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ar extends Vehicle { ...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Truck extends Vehicl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move (x:int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x &lt;= 55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 := position *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...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33720" y="615636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ethod over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4343040" y="5409720"/>
            <a:ext cx="685800" cy="76212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he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1600200"/>
            <a:ext cx="5683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Vehicle extends Object { ...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ar extends Vehicle { ...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Truck extends Vehicle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 t = new Tr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 c = new 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 v : Vehicle =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passengers := 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move(6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.move(7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await(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53080" y="2743200"/>
            <a:ext cx="139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new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cr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266720" y="3048120"/>
            <a:ext cx="2210040" cy="30456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65120" y="3794040"/>
            <a:ext cx="2530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subtyping allow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to be viewed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used as a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266720" y="3962160"/>
            <a:ext cx="1600200" cy="2286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26320" y="5318280"/>
            <a:ext cx="27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subtyping allow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ck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to be viewed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used as a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3428640" y="5486040"/>
            <a:ext cx="1600200" cy="2286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4800600"/>
            <a:ext cx="380880" cy="7632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4098960"/>
            <a:ext cx="151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a car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an inher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4952880"/>
            <a:ext cx="457200" cy="1526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Object Ti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ey 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access object fiel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inherited fields and fields for the current obj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access method co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current class does not define a particular method, where do we go to get the inherited method co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handle method overr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class hierarch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graph of inheritence relationships in a 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single-inherit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I) language, the graph is a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ultiple-inherit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MI) language, the graph is a d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-inheritence languages are much trickier to implement than single-inheritence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94400" y="259092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11320" y="356544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840" y="447984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44798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581280" y="4038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4724280" y="403812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34340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30T23:13:28Z</dcterms:created>
  <dc:creator>CS</dc:creator>
  <dc:description/>
  <dc:language>en-US</dc:language>
  <cp:lastModifiedBy>dpw</cp:lastModifiedBy>
  <dcterms:modified xsi:type="dcterms:W3CDTF">2005-04-25T22:12:15Z</dcterms:modified>
  <cp:revision>10</cp:revision>
  <dc:subject/>
  <dc:title>Objects and Classes</dc:title>
</cp:coreProperties>
</file>