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935-FDF6-41AA-9422-E60E455D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3AC-C23F-4633-96BA-4F8C3E7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649-A5EA-4972-A465-9D369D18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47E-C796-4DD4-9B69-5122CCCE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181-3360-4797-82FB-F454C35A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3F2-DA7D-4048-B6CA-D9E1B1E9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791-E7F7-4C2A-8DEB-21A4EFF2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307-94F3-4A3B-8C5F-E537E87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49A-F2FA-48B8-8954-555CDBDC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35C-CA2B-4E72-91E6-837C3F7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AE3-E97B-4D33-BA5A-8BAA6094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7E8-115A-49C4-91FC-7F51D23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FFC1-4FC4-4BCA-B7CB-6FDC0A67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Midterm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um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y 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point: there is no magic bullet.  Memory management always has a cost.  We want to minimize costs and, these days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ximiz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Microsoft is pouring $$$ into developing safe language technology, including a new research project on dependable operating system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o it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4" idx="3"/>
            <a:endCxn id="127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-term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term is in class Tuesday March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, you may be asked question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discussed in class before today (thursday march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you did on assignments 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 in the corresponding chapters in the textbooks (Appel) and online notes (Harp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each chapter in Appel there are a series of questions and exercises – midterm questions may be similar.  I suggest practicing for the midterm by doing some of thes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ll range of topics appears on the course “schedule” web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be away next week sunday-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n appointment Friday or Monday if you need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an appointment with Guilherme (he will also be a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5" idx="3"/>
            <a:endCxn id="158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8" idx="3"/>
            <a:endCxn id="191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: compiler &amp; interpreter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main phases in a compil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ng, parsing, type checking, back-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implement an interpr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long pauses ==&gt; better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Lex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use ML-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l Chap 2, 2.1, 2.2, 2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lationships between REs and DFAs or NDF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&amp; deri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kinds of grammars: ambiguous, LL(k), LR(k), SLR, LA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ntic actions &amp; generating abstract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#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l Chapters 3,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 Type 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rules &amp; typing der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types &amp; Fu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hecking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ferenc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per chapter 9, 26 (not lemmas or proo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ck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&amp; next time: garbage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dpw</cp:lastModifiedBy>
  <dcterms:modified xsi:type="dcterms:W3CDTF">2005-03-10T19:58:39Z</dcterms:modified>
  <cp:revision>21</cp:revision>
  <dc:subject/>
  <dc:title>Garbage collection</dc:title>
</cp:coreProperties>
</file>