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338-E914-4626-8034-6240ED9E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468-3F13-4694-9DCF-0F6653B8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C17-3551-4A1C-ADBD-F337802B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C3D-D314-4C60-94B9-7B2FA12D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E28-BB67-4D48-9F15-06F829D9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AD6-A969-4EF0-B5CF-8D6E4F8E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3F2-2BA8-4B03-8E4D-3CCE700E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C9A-B56E-419A-8D49-2C97D5CE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197-92A7-4F6C-8429-F4CE0D10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4AD-B23E-4F98-83AA-530A291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72B-B333-4DB6-9715-B57E641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995-E322-4B48-8910-2E76DAB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2530-3398-4666-94C3-2181DE1AC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Midterm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um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y 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point: there is no magic bullet.  Memory management always has a cost.  We want to minimize costs and, these days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ximize 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Microsoft is pouring $$$ into developing safe language technology, including a new research project on dependable operating system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o it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4" idx="3"/>
            <a:endCxn id="127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term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is in class Tuesday March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you may be asked question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discussed in class before today (thursday march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you did on assignments 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in the corresponding chapters in the textbooks (Appel) and online notes (Har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each chapter in Appel there are a series of questions and exercises – midterm questions may be similar.  I suggest practicing for the midterm by doing some of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ll range of topics appears on the course “schedule”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be away next week sunday-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n appointment Friday or Monday if you need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n appointment with Guilherme (he will also be a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5" idx="3"/>
            <a:endCxn id="15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8" idx="3"/>
            <a:endCxn id="191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: compiler &amp; interprete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phases in a compi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ng, parsing, type checking, back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implement an interpr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long pauses ==&gt; better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use ML-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l Chap 2, 2.1, 2.2, 2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lationships between REs and DFAs or ND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&amp; der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kinds of grammars: ambiguous, LL(k), LR(k), SLR, LA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actions &amp; generating abstract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l Chapters 3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Type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rules &amp; typing der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types &amp; Fu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heck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ferenc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per chapter 9, 26 (not lemmas or proo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ck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&amp; next time: 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dpw</cp:lastModifiedBy>
  <dcterms:modified xsi:type="dcterms:W3CDTF">2005-03-10T19:58:39Z</dcterms:modified>
  <cp:revision>21</cp:revision>
  <dc:subject/>
  <dc:title>Garbage collection</dc:title>
</cp:coreProperties>
</file>