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0DE-3AC0-4B69-968A-7BFB4EBA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EAE-AB19-4C11-8131-81471EF2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82C-9B56-4911-B397-8B5464BF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118-1BED-447C-9FA2-1C2519C6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54B-54F9-4598-B577-3D4C9CB2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E31-6E56-47C3-9F36-AB0F6D78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7FB-7E5D-47BF-9CC6-B8E252B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936-A38F-4455-AB99-91F60A56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3F1-3BDC-4A19-9AEF-750DA82C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09F-DE55-49D9-A850-3275BF0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226-544B-443F-873B-EFC7A90B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E5F-6C7A-45F7-AEE0-DE12288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D25-EB1F-42C8-830E-9F5079C1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Midterm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um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y 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point: there is no magic bullet.  Memory management always has a cost.  We want to minimize costs and, these days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ximiz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Microsoft is pouring $$$ into developing safe language technology, including a new research project on dependable operating system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o it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4" idx="3"/>
            <a:endCxn id="127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term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is in class Tuesday March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you may be asked question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discussed in class before today (thursday march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you did on assignments 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in the corresponding chapters in the textbooks (Appel) and online notes (Har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each chapter in Appel there are a series of questions and exercises – midterm questions may be similar.  I suggest practicing for the midterm by doing some of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ll range of topics appears on the course “schedule”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be away next week sunday-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n appointment Friday or Monday if you need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n appointment with Guilherme (he will also be a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5" idx="3"/>
            <a:endCxn id="15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8" idx="3"/>
            <a:endCxn id="191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: compiler &amp; interprete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phases in a compi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ng, parsing, type checking, bac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implement an interpr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long pauses ==&gt; better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use ML-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l Chap 2, 2.1, 2.2, 2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lationships between REs and DFAs or ND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&amp; der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kinds of grammars: ambiguous, LL(k), LR(k), SLR, LA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actions &amp; generating abstract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l Chapters 3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Type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rules &amp; typing der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types &amp; Fu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heck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ferenc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per chapter 9, 26 (not lemmas or proo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&amp; next time: 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dpw</cp:lastModifiedBy>
  <dcterms:modified xsi:type="dcterms:W3CDTF">2005-03-10T19:58:39Z</dcterms:modified>
  <cp:revision>21</cp:revision>
  <dc:subject/>
  <dc:title>Garbage collection</dc:title>
</cp:coreProperties>
</file>