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1C3-7112-49D5-B4BD-75C0F497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6D4-889D-4BD2-AFF4-24FD623F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378C-8CEB-4B45-AFA1-CF2E7AA8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400-4A1D-41E6-83E7-1082B5AA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5D1-050B-4962-B83B-CFA8B01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365-2949-4B04-982A-1BB7C867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4B8-E36B-4A63-AF24-E6CD2E6B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0BA-0E9F-4251-9633-763E1C4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DB1-5693-44C4-BBB5-70456EF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DC29-64D6-4602-BACC-42E680E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DB2-A54C-472F-9F6D-3BB60073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8E6-06C9-4D08-9C66-AC7B0C13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47ED-5672-4B6D-AB85-90505F68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 is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5-04-14T17:55:30Z</dcterms:modified>
  <cp:revision>15</cp:revision>
  <dc:subject/>
  <dc:title>Register Allocation</dc:title>
</cp:coreProperties>
</file>