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8E8-C7C2-46DA-A2AF-F094082E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367-57C3-47AB-9EC4-E62F6D7F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096-C98E-40B7-9313-C553E0C0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717F-9556-4B69-8AA1-C476F1DF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6D3-2E16-459A-B823-0F544700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C0A-D3A6-4B96-A735-BE5468DE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35A-E9C9-480C-922A-5611126C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9F3-4476-4E17-B139-2BFD0A9D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4E8-746B-40C2-8421-A2C75AE9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647E-5C4A-4968-897C-9296BBDD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782-7F36-4B2D-AB7A-B59C67DA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AFB-C4EE-4D22-92C7-D8DF7366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673F-82B9-4E78-84BD-CCE4EB00E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thanks to Andrew Myers for many of these sl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a coloring of the graph whenever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the optimum coloring of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choose registers to avoid move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do when there aren’t enough colors (registers) to color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mpe’s algorithm [1879] for finding a K-coloring of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K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ind a node with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t most 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ges and cut it out of the graph.  (Remember this node on a stack for later stag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 coloring is found for the simpler graph, we can always color the node we saved on the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2 (color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the simplified subgraph has been colored, add back the node on the top of the stack and assign it a color not taken by one of the adjacent no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62800" y="3886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replace temporary variables with some fixed set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eed to know which variables are live after each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imultaneously live variables cannot be allocated to the same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graph cannot be colored, it will eventually be simplified to graph in which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very node has at least K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he graph is still K-colora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 K-coloring in all situations is an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P-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have to approximate to make register allocators fas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62800" y="38862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62800" y="388620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13320" y="571500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node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neighbou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nod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FG, we hav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[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temporaries live out of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variables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interf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initially live (ie: function args)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ppear in out[n] for any n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s defined and the other is in out[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b - c    where x is dead &amp; b is live interf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ssign registers to vari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319720" y="58276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ot luck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02200" y="61722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lors left for 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graph =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d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nect variables that interfere with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s will be assigned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rresponding to the register assigned to th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lors can’t be next to one another in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3 (spilling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once all nodes have K or more neighbors, pick a node for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p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on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heuristics that can be used to pick a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 an inne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instructions use registers themselves.  What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instructions use registers themselves.  What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write code introducing a new temporary; rerun liveness analysis and register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rit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dd t1 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lected for spilling and assigned to stack locatio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[ebp-2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ed new temporary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just this instruction and rewr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v t35, [ebp – 24]; add t1, t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very short live range and is much less likely to interf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run the algorithm; fewer variables will sp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ariables are pre-assigned to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mu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ax; defines ea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cal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(trashes) caller-save registers eax, ec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 these registers as special temporaries; before beginning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dd them to the graph with their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simplify a graph by removing a precolored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lored nodes are the starting point of the color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implified down to colored nodes start adding back the other node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ing Mo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generation produces a lot of extra mov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t1,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an assign t1 and t2 to the same register, we do not have to execute the m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if t1 and t2 are not connected in the interference graph, w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ales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a single vari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coalescing can increase the number of interference edges and make a graph uncol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1 (Briggs): avoid creation of high-degree (&gt;= K)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2 (George): a can be coalesced with b if every neighbour t of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interferes with b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low-degree (&lt;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716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146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61760" y="3352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685440" y="2361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048120" y="3352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12408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6294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/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6019560" y="3352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5943240" y="2361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62920" y="3352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23888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2971800"/>
            <a:ext cx="1218960" cy="30492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50880" y="26049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 &amp; Coales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implify as much as possible without removing nodes that are the source or destination of a move (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ove-related n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2 (coalesc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alesce move-related nodes provided low-degree nod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3 (freez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neither steps 1 or 2 apply, freeze a move instruction:  registers involved are marke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t move-rel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ry step 1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5909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, fre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981080" y="403848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81080" y="548640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detect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34120" y="54864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9" name=""/>
          <p:cNvCxnSpPr>
            <a:stCxn id="568" idx="0"/>
            <a:endCxn id="565" idx="3"/>
          </p:cNvCxnSpPr>
          <p:nvPr/>
        </p:nvCxnSpPr>
        <p:spPr>
          <a:xfrm flipV="1" rot="16200000">
            <a:off x="3885840" y="3085200"/>
            <a:ext cx="2400840" cy="2401200"/>
          </a:xfrm>
          <a:prstGeom prst="bentConnector2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6" idx="1"/>
            <a:endCxn id="565" idx="1"/>
          </p:cNvCxnSpPr>
          <p:nvPr/>
        </p:nvCxnSpPr>
        <p:spPr>
          <a:xfrm flipH="1" rot="10800000">
            <a:off x="1980000" y="3085560"/>
            <a:ext cx="2520" cy="1448280"/>
          </a:xfrm>
          <a:prstGeom prst="bentConnector3">
            <a:avLst>
              <a:gd name="adj1" fmla="val -26600000"/>
            </a:avLst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1" name=""/>
          <p:cNvCxnSpPr>
            <a:stCxn id="567" idx="3"/>
            <a:endCxn id="568" idx="1"/>
          </p:cNvCxnSpPr>
          <p:nvPr/>
        </p:nvCxnSpPr>
        <p:spPr>
          <a:xfrm>
            <a:off x="3886200" y="5981400"/>
            <a:ext cx="1448640" cy="108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66" idx="2"/>
            <a:endCxn id="567" idx="0"/>
          </p:cNvCxnSpPr>
          <p:nvPr/>
        </p:nvCxnSpPr>
        <p:spPr>
          <a:xfrm>
            <a:off x="2933280" y="502920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5" idx="2"/>
            <a:endCxn id="566" idx="0"/>
          </p:cNvCxnSpPr>
          <p:nvPr/>
        </p:nvCxnSpPr>
        <p:spPr>
          <a:xfrm>
            <a:off x="2933280" y="358128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574" name=""/>
          <p:cNvSpPr/>
          <p:nvPr/>
        </p:nvSpPr>
        <p:spPr>
          <a:xfrm>
            <a:off x="5181480" y="25909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"/>
          <p:cNvCxnSpPr/>
          <p:nvPr/>
        </p:nvCxnSpPr>
        <p:spPr>
          <a:xfrm>
            <a:off x="6248160" y="213372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allocation has three major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ivenes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raph col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rogram trans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ove coalescing and spil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chapter 11.1-11.3 in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eek:  liveness analysis + interference graph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week:  graph coloring + register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5:37:48Z</dcterms:created>
  <dc:creator>CS</dc:creator>
  <dc:description/>
  <dc:language>en-US</dc:language>
  <cp:lastModifiedBy>dpw</cp:lastModifiedBy>
  <dcterms:modified xsi:type="dcterms:W3CDTF">2005-04-14T17:55:30Z</dcterms:modified>
  <cp:revision>15</cp:revision>
  <dc:subject/>
  <dc:title>Register Allocation</dc:title>
</cp:coreProperties>
</file>