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342-2AAF-45E4-B276-A69B39E6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4AA2-1A23-4FD5-854C-324D18CC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EB00-1C05-4D20-9956-AD454D5C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F21-E503-45DB-9433-98F6A0CC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CF7A-C7DA-4108-BD2C-893E8F4A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6CE7-3543-4253-AF75-7F958D80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3C8B-090E-4389-A4F8-C0C4C381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D124-D875-4BFD-96AC-31F569E3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C4FD-808A-4DD8-B2D8-84AEF2A3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86CE-8915-48ED-B438-F7003EFF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3936-7C71-497A-A1CC-31E6FE68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FDE1-0555-4A82-9283-2884317F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D8C0-93C1-4E7B-9501-B615658F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36C9-8ED8-490E-B2BA-5C1960B7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F28A-7320-4FF8-B87B-8A013F8B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971D-4336-4E48-BC37-586969C7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B01C-BB41-4A47-B525-9B0183A6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3217-5303-4C09-B594-5A98F5BA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70B1-D17A-48B2-844F-0188A916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293B-93A9-4F69-9889-5A0F545A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F0F7-4600-4234-B32B-17D35658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3739-2345-450C-870A-9ECD5C2B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F8D-E3A0-4DBE-BAA7-58A5E824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5DA-FB74-4302-BF21-D27BBA8E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7F27-126D-4B05-B4FF-09DF9C6CC3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E8C4-8A75-4599-A273-AD47C56C6B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ing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, 5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, 5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dIn:17.1-17.9 Error: operator and operand don't agree [literal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 domain: bool * bool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nd:         bool *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 :: 3 :: n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ctions over lists are usually defined by pattern matching on the structure of 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ahoma"/>
              </a:rPr>
              <a:t>Hint: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often, the structure of a function i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guided by the type of the argument (recall eva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989360" y="3429000"/>
            <a:ext cx="33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length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_ :: l =&gt; 1 + (length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711080" y="243828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98240" y="45720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What does it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48120" y="21337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5760" y="1905120"/>
            <a:ext cx="33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wo arguments f and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711080" y="243828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59640" y="4572000"/>
            <a:ext cx="709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pplies the function f to every element in th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fun add1 x = x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map add1 [1,2,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val it = [2,3,4] : i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663560" y="2666880"/>
            <a:ext cx="340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fold f a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f (fold f a l)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54320" y="4876920"/>
            <a:ext cx="53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other incredibly useful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does it do? use it to write m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is all about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different ways to define function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almost always use “fun f x = ..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I am only going to use a function once and it is not recursive, I write a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nonymous fun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n x =&gt;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913040" y="2362320"/>
            <a:ext cx="270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Val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t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t =&gt;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428640" y="2209680"/>
            <a:ext cx="2438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97160" y="190512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 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a value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43434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419360" y="3548160"/>
            <a:ext cx="1447560" cy="26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72680" y="3048120"/>
            <a:ext cx="244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s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6680" y="480060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the anonym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600200" y="4648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6240" y="5105520"/>
            <a:ext cx="18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n 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330200" y="2057400"/>
            <a:ext cx="358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list x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n y =&gt; y + 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34680" y="541008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onymou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3657240" y="54097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81760" y="495288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pair of anonymou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32280" y="205740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definition (very conven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419360" y="25909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572000" y="548640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6292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data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(f,g)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x =&gt; f (g 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89548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10720" y="52578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sult is a 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4343040" y="41144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85920" y="41911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rgument is pair of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2781000" y="3924360"/>
            <a:ext cx="152280" cy="2057400"/>
          </a:xfrm>
          <a:custGeom>
            <a:avLst/>
            <a:gdLst>
              <a:gd name="textAreaLeft" fmla="*/ 0 w 152280"/>
              <a:gd name="textAreaRight" fmla="*/ 5508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143000" y="43430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5560" y="4545000"/>
            <a:ext cx="10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gai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270440" y="2730600"/>
            <a:ext cx="2820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.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f = (fn x =&gt; ..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3962520" y="5029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38040" y="5562720"/>
            <a:ext cx="56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vided the function is not recursi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 does not appear in 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1196640" y="2959200"/>
            <a:ext cx="598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always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rec f = (fn x =&gt; ...f can be used here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8288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57040" y="5900760"/>
            <a:ext cx="69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eyword rec declares a recursive 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1508040" y="2514600"/>
            <a:ext cx="378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Num n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Bool b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_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61840" y="39625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just an abbrevi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48360" y="4648320"/>
            <a:ext cx="268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create a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508040" y="1905120"/>
            <a:ext cx="378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0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Bool b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_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1600" y="3352680"/>
            <a:ext cx="840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9.1-11.29 Error: parameter or result constrain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us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lause:      term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clauses:      int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decla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Val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0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90560" y="518148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+ 1) (fn x =&gt; x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68880" y="52578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&lt; 17)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812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A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866920" y="60958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5181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08320" y="6095880"/>
            <a:ext cx="55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te:  type variables are written with 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933960" y="47242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64480" y="3308400"/>
            <a:ext cx="227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nd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int -&gt; ‘b) -&gt; (‘c -&gt; int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(int * int) -&gt; ‘b) -&gt; (‘c -&gt; (int * int)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:: nil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295280" y="457200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123720" y="457164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unit -&gt; int) -&gt; (int -&gt; unit) -&gt; (int -&gt; 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2057040" y="51811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78000" y="5410080"/>
            <a:ext cx="595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ype of compose’s argument must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type of n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-&gt; bool == (‘a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74320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41120" y="5410080"/>
            <a:ext cx="357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must be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must be bool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n this use of compo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14440" y="5410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ref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400440" y="1371240"/>
            <a:ext cx="304920" cy="3352680"/>
          </a:xfrm>
          <a:custGeom>
            <a:avLst/>
            <a:gdLst>
              <a:gd name="textAreaLeft" fmla="*/ 0 w 304920"/>
              <a:gd name="textAreaRight" fmla="*/ 110160 w 30492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562360" y="3276720"/>
            <a:ext cx="99036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 rot="16200000">
            <a:off x="5333760" y="2742120"/>
            <a:ext cx="304920" cy="3353040"/>
          </a:xfrm>
          <a:custGeom>
            <a:avLst/>
            <a:gdLst>
              <a:gd name="textAreaLeft" fmla="*/ 0 w 304920"/>
              <a:gd name="textAreaRight" fmla="*/ 110160 w 30492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18240" y="3462480"/>
            <a:ext cx="13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ose not) not : bool -&gt; b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ose not)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:: (5 :: nil)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295280" y="46483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971440" y="49528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2856960" y="42289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5400000">
            <a:off x="2514240" y="4495680"/>
            <a:ext cx="152280" cy="3048120"/>
          </a:xfrm>
          <a:custGeom>
            <a:avLst/>
            <a:gdLst>
              <a:gd name="textAreaLeft" fmla="*/ 0 w 152280"/>
              <a:gd name="textAreaRight" fmla="*/ 55080 w 1522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24280" y="2133720"/>
            <a:ext cx="396252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3200400"/>
            <a:ext cx="3556080" cy="3124080"/>
          </a:xfrm>
          <a:custGeom>
            <a:avLst/>
            <a:gdLst/>
            <a:ahLst/>
            <a:rect l="l" t="t" r="r" b="b"/>
            <a:pathLst>
              <a:path w="1808" h="1872">
                <a:moveTo>
                  <a:pt x="1344" y="0"/>
                </a:moveTo>
                <a:cubicBezTo>
                  <a:pt x="1576" y="372"/>
                  <a:pt x="1808" y="744"/>
                  <a:pt x="1584" y="1056"/>
                </a:cubicBezTo>
                <a:cubicBezTo>
                  <a:pt x="1360" y="1368"/>
                  <a:pt x="680" y="1620"/>
                  <a:pt x="0" y="1872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61080" y="609588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‘c -&gt; ‘d) -&gt; (‘c -&gt; ‘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2320560" y="274320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2320560" y="2743200"/>
            <a:ext cx="358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nt: top-level shap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. -&gt; ... -&gt;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2339640" y="2743200"/>
            <a:ext cx="358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(‘a -&gt; ‘b) -&gt; ‘a list -&gt; ‘b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Mod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ized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from structures to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= (nil, ni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 (x, q)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remove q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ueue.insert (y, Queue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 =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.insert (y, Q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6248160" y="289548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ven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br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1911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6486480" y="2228760"/>
            <a:ext cx="249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y defaul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ll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of the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ay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-- we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4 :: (5 :: nil)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295280" y="46483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200400" y="4952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3237840" y="3848040"/>
            <a:ext cx="152640" cy="190476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: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insert : ‘a * ‘a queue -&gt;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remove : ‘a queue -&gt; ‘a *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4343400" y="25909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51800" y="1981080"/>
            <a:ext cx="315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- we don’t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 hi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440" y="2703600"/>
            <a:ext cx="384660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4764240" y="2170080"/>
            <a:ext cx="384624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71040" y="2590920"/>
            <a:ext cx="450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ure Queue :&gt; QUE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 empty = (nil,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6520" y="5640480"/>
            <a:ext cx="498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333760" y="51814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89000" y="4800600"/>
            <a:ext cx="17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 A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aque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bstract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:&gt;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ecial case of opaque a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fields but does not make types abs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_E :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Harper, chapters 18-22 for more on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 (functions from structures to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ences (mutable data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 e; !e; e1 := e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loops, for lo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* comments (* can be *) nested *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unch of other stuff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to program in SML can be tricky at 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once you get used to it, you will never want to go back to imperative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out the reference materials listed on the course home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:: (4 :: (5 :: nil))   :  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:: 4 :: 5 :: nil        :  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rue, 1) :: (false, 2) :: nil   :   (bool * int)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 :: nil) :: (2 :: nil) :: nil    :    (int list)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[] : int 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[4, 5] :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] : bool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209320" y="3428640"/>
            <a:ext cx="3962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5800" y="391968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fferent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writing “ni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361960" y="4401720"/>
            <a:ext cx="3886200" cy="77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1640" y="495288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fferent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writing a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4]::3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4]::3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dIn:1.1-2.2 Error: operator and operand don't agree [literal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 domain: int list * int lis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nd:         int list * 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 :: nil) ::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CS</cp:lastModifiedBy>
  <dcterms:modified xsi:type="dcterms:W3CDTF">2004-02-05T19:27:45Z</dcterms:modified>
  <cp:revision>36</cp:revision>
  <dc:subject/>
  <dc:title>Introduction to ML</dc:title>
</cp:coreProperties>
</file>