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81A5-76A0-4A15-AEE4-AF277E6B9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679E-E928-4288-804E-FD7F8FD9C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CC14-D4A2-4589-A218-889B1AD50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1DDC-2681-43A4-9186-8976C74C9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2C7B5-F850-49F4-A950-6D5E401BC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62F54-53BE-4746-B470-FF5C9CBE2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CC148-26BE-4CE9-94CE-3881E9F33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3882B-99EF-40B0-857E-29F916EB5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C0023-DE61-4C01-ADBE-DB5A8E48E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14044-E7CD-46E0-8E53-C3881730E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1B554-803E-4CE0-AB7C-AFBFCE55D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ECCA-F162-47F2-BFE8-B9861E11E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0F9D9-5FB3-48E0-A516-4743ABA18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6D77F-155D-4D48-9054-4AA91C8F6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33659-1D22-4D25-A320-8ADD8CE2C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EEA43-8866-4394-B6FB-68E7E3AF4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07EA6-44C3-4C9F-9699-B3885692A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6B0C-A1A2-4BF4-A9D4-DBFE11119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5109-526D-42A7-8D36-5BF64EDF1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1176-879C-42A1-8B5F-C7AE91968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73A3-11F9-4680-B6C8-E27B35F02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6EEB-FE24-4438-932D-244E9AEA8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BD51-B106-47D3-B523-6E9B56ED0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4E6D-AD40-4291-87F6-D6F03A2C0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1DB0A-76A8-45E8-8807-36FBEA9B419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AA83B-994C-417E-9D47-125598D164D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re 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ing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id Walk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d Li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true, 5]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??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d Li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true, 5]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dIn:17.1-17.9 Error: operator and operand don't agree [literal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or domain: bool * bool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nd:         bool * int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express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ue :: 3 :: n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 Process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Functions over lists are usually defined by pattern matching on the structure of a list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Tahoma"/>
              </a:rPr>
              <a:t>Hint: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  often, the structure of a function is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guided by the type of the argument (recall eval)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1989360" y="3429000"/>
            <a:ext cx="3315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 length l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se l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il =&gt;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 _ :: l =&gt; 1 + (length 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 Process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1711080" y="2438280"/>
            <a:ext cx="3588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 map f l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se l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il =&gt; [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 x :: l =&gt; (f x) :: (map f 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398240" y="4572000"/>
            <a:ext cx="25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What does it 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48120" y="2133720"/>
            <a:ext cx="8380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785760" y="1905120"/>
            <a:ext cx="339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Two arguments f and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 Process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1711080" y="2438280"/>
            <a:ext cx="3588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 map f l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se l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il =&gt; [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 x :: l =&gt; (f x) :: (map f 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59640" y="4572000"/>
            <a:ext cx="709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pplies the function f to every element in the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- fun add1 x = x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- map add1 [1,2,3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&gt; val it = [2,3,4] : int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 Process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1663560" y="2666880"/>
            <a:ext cx="340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 fold f a l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se l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il =&gt;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 x :: l =&gt; f (fold f a l) 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54320" y="4876920"/>
            <a:ext cx="534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other incredibly useful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does it do? use it to write ma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L is all about fun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many different ways to define functions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 almost always use “fun f x = ..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I am only going to use a function once and it is not recursive, I write a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anonymous functi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fn x =&gt; ..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onymous fun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1913040" y="2362320"/>
            <a:ext cx="2700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n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isValue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fn t 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 _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t =&gt; fal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3428640" y="2209680"/>
            <a:ext cx="24382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897160" y="1905120"/>
            <a:ext cx="289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inds a variable (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o a value 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0" y="4343400"/>
            <a:ext cx="380880" cy="1828800"/>
          </a:xfrm>
          <a:custGeom>
            <a:avLst/>
            <a:gdLst>
              <a:gd name="textAreaLeft" fmla="*/ 0 w 380880"/>
              <a:gd name="textAreaRight" fmla="*/ 137520 w 38088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4419360" y="3548160"/>
            <a:ext cx="1447560" cy="261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872680" y="3048120"/>
            <a:ext cx="244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inds a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(isVal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026680" y="4800600"/>
            <a:ext cx="287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o the anonymo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unction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1600200" y="464832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56240" y="5105520"/>
            <a:ext cx="187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n key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nonym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onymous fun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1330200" y="2057400"/>
            <a:ext cx="3588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map f l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l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il =&gt; [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 x :: l =&gt; (f x) :: (map f 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addlist x l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n y =&gt; y + 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134680" y="5410080"/>
            <a:ext cx="32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nonymous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 flipV="1">
            <a:off x="3657240" y="5409720"/>
            <a:ext cx="1523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onymous fun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1362240" y="2819520"/>
            <a:ext cx="65037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ifun = int -&gt; i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intCompose : ifun * ifun -&gt; ifun =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add3 x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Compose ((fn x =&gt; x + 2), (fn y =&gt; y + 1))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181760" y="4952880"/>
            <a:ext cx="455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 pair of anonymous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932280" y="2057400"/>
            <a:ext cx="50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 type definition (very conven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4419360" y="2590920"/>
            <a:ext cx="11430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4572000" y="5486400"/>
            <a:ext cx="22096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16292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oda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data struc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onymous fun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1362240" y="2819520"/>
            <a:ext cx="65037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ifun = int -&gt; i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intCompose : ifun * ifun -&gt; ifun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(f,g) 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fn x =&gt; f (g x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add3 x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Compose ((fn x =&gt; x + 2), (fn y =&gt; y + 1))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2895480" y="518112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510720" y="5257800"/>
            <a:ext cx="291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result is a func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4343040" y="411444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85920" y="4191120"/>
            <a:ext cx="434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rgument is pair of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rot="5400000">
            <a:off x="2781000" y="3924360"/>
            <a:ext cx="152280" cy="2057400"/>
          </a:xfrm>
          <a:custGeom>
            <a:avLst/>
            <a:gdLst>
              <a:gd name="textAreaLeft" fmla="*/ 0 w 152280"/>
              <a:gd name="textAreaRight" fmla="*/ 55080 w 15228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143000" y="4343040"/>
            <a:ext cx="6094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15560" y="4545000"/>
            <a:ext cx="106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patte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ma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again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a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other way to write a fun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1270440" y="2730600"/>
            <a:ext cx="2820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f x = .....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written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f = (fn x =&gt; ...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 flipV="1">
            <a:off x="3962520" y="502920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38040" y="5562720"/>
            <a:ext cx="562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provided the function is not recursiv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 does not appear in .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other way to write a fun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"/>
          <p:cNvSpPr/>
          <p:nvPr/>
        </p:nvSpPr>
        <p:spPr>
          <a:xfrm>
            <a:off x="1196640" y="2959200"/>
            <a:ext cx="5987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f x = 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always be written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rec f = (fn x =&gt; ...f can be used here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1828800" y="50288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57040" y="5900760"/>
            <a:ext cx="69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keyword rec declares a recursive function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Yet another way to write a fun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"/>
          <p:cNvSpPr/>
          <p:nvPr/>
        </p:nvSpPr>
        <p:spPr>
          <a:xfrm>
            <a:off x="1508040" y="2514600"/>
            <a:ext cx="378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Value Num n =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isValue (Bool b) =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isValue (_) =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61840" y="3962520"/>
            <a:ext cx="449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is just an abbreviation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48360" y="4648320"/>
            <a:ext cx="268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Value 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 n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Bool b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Yet another way to create a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ype err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"/>
          <p:cNvSpPr/>
          <p:nvPr/>
        </p:nvSpPr>
        <p:spPr>
          <a:xfrm>
            <a:off x="1508040" y="1905120"/>
            <a:ext cx="378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Value 0 =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isValue (Bool b) =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isValue (_) =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71600" y="3352680"/>
            <a:ext cx="8405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.sml:9.1-11.29 Error: parameter or result constraint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uses don't agree [literal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clause:      term -&gt; '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ious clauses:      int -&gt; '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decla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Value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fn 0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Bool b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fal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s like compose work on objects of many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"/>
          <p:cNvSpPr/>
          <p:nvPr/>
        </p:nvSpPr>
        <p:spPr>
          <a:xfrm>
            <a:off x="2257920" y="3276720"/>
            <a:ext cx="2492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compose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f 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g 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x =&gt; f (g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90560" y="5181480"/>
            <a:ext cx="54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e (fn x =&gt; x + 1) (fn x =&gt; x +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68880" y="5943600"/>
            <a:ext cx="419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e not (fn x =&gt; x &lt; 1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s like compose work on objects of many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"/>
          <p:cNvSpPr/>
          <p:nvPr/>
        </p:nvSpPr>
        <p:spPr>
          <a:xfrm>
            <a:off x="2257920" y="3276720"/>
            <a:ext cx="2492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compose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f 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g 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x =&gt; f (g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568880" y="5257800"/>
            <a:ext cx="419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e not (fn x =&gt; x &lt; 1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68880" y="5943600"/>
            <a:ext cx="419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e (fn x =&gt; x &lt; 17) 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38120" y="579132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AD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5866920" y="6095880"/>
            <a:ext cx="83844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s like compose work on objects of many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2257920" y="3276720"/>
            <a:ext cx="2492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compose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f 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g 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x =&gt; f (g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90720" y="51814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e: (‘a -&gt; ‘b) -&gt; (‘c -&gt; ‘a) -&gt; (‘c -&gt; ‘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408320" y="6095880"/>
            <a:ext cx="55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Note:  type variables are written with 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6933960" y="47242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864480" y="3308400"/>
            <a:ext cx="227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 typ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tands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ny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s like compose work on objects of many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990720" y="36576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e: (‘a -&gt; ‘b) -&gt; (‘c -&gt; ‘a) -&gt; (‘c -&gt; ‘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0880" y="53341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e: (int -&gt; ‘b) -&gt; (‘c -&gt; int) -&gt; (‘c -&gt; ‘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" y="44956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as if it had the ty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s like compose work on objects of many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"/>
          <p:cNvSpPr/>
          <p:nvPr/>
        </p:nvSpPr>
        <p:spPr>
          <a:xfrm>
            <a:off x="990720" y="36576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e: (‘a -&gt; ‘b) -&gt; (‘c -&gt; ‘a) -&gt; (‘c -&gt; ‘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53341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e: ((int * int) -&gt; ‘b) -&gt; (‘c -&gt; (int * int)) -&gt; (‘c -&gt; ‘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8600" y="44956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as if it had the ty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sts are created wi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il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makes empty li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 :: tai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makes a longer li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:: nil   :   int l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1295280" y="4572000"/>
            <a:ext cx="838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79640" y="510552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3123720" y="457164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87200" y="5410080"/>
            <a:ext cx="236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s like compose work on objects of many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"/>
          <p:cNvSpPr/>
          <p:nvPr/>
        </p:nvSpPr>
        <p:spPr>
          <a:xfrm>
            <a:off x="990720" y="36576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e: (‘a -&gt; ‘b) -&gt; (‘c -&gt; ‘a) -&gt; (‘c -&gt; ‘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0880" y="53341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e: (unit -&gt; int) -&gt; (int -&gt; unit) -&gt; (int -&gt; 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28600" y="44956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as if it had the ty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not : ?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a -&gt; ‘b) -&gt; (‘c -&gt; ‘a) -&gt; (‘c -&gt; ‘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90720" y="30481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: bool -&gt; b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not : ?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a -&gt; ‘b) -&gt; (‘c -&gt; ‘a) -&gt; (‘c -&gt; ‘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90720" y="30481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: bool -&gt; b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2057040" y="518112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178000" y="5410080"/>
            <a:ext cx="595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ype of compose’s argument must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he type of n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 -&gt; bool == (‘a -&gt; ‘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2743200" y="5181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not : ?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a -&gt; ‘b) -&gt; (‘c -&gt; ‘a) -&gt; (‘c -&gt; ‘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990720" y="30481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: bool -&gt; b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741120" y="5410080"/>
            <a:ext cx="357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 must be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 must be bool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(in this use of compo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314440" y="541008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heref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not : (‘c -&gt; bool) -&gt; (c’ -&gt; boo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a -&gt; ‘b) -&gt; (‘c -&gt; ‘a) -&gt; (‘c -&gt; ‘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990720" y="30481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: bool -&gt; b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6400440" y="1371240"/>
            <a:ext cx="304920" cy="3352680"/>
          </a:xfrm>
          <a:custGeom>
            <a:avLst/>
            <a:gdLst>
              <a:gd name="textAreaLeft" fmla="*/ 0 w 304920"/>
              <a:gd name="textAreaRight" fmla="*/ 110160 w 304920"/>
              <a:gd name="textAreaTop" fmla="*/ 87120 h 3352680"/>
              <a:gd name="textAreaBottom" fmla="*/ 3265560 h 3352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5562360" y="3276720"/>
            <a:ext cx="990360" cy="914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 rot="16200000">
            <a:off x="5333760" y="2742120"/>
            <a:ext cx="304920" cy="3353040"/>
          </a:xfrm>
          <a:custGeom>
            <a:avLst/>
            <a:gdLst>
              <a:gd name="textAreaLeft" fmla="*/ 0 w 304920"/>
              <a:gd name="textAreaRight" fmla="*/ 110160 w 304920"/>
              <a:gd name="textAreaTop" fmla="*/ 87120 h 3353040"/>
              <a:gd name="textAreaBottom" fmla="*/ 3265920 h 335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618240" y="3462480"/>
            <a:ext cx="138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 =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 =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not : (‘c -&gt; bool) -&gt; (c’ -&gt; boo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compose not) not : bool -&gt; b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a -&gt; ‘b) -&gt; (‘c -&gt; ‘a) -&gt; (‘c -&gt; ‘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990720" y="30481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: bool -&gt; b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not : (‘c -&gt; bool) -&gt; (c’ -&gt; boo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compose not) not : ?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a -&gt; ‘b) -&gt; (‘c -&gt; ‘a) -&gt; (‘c -&gt; ‘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990720" y="30481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: bool -&gt; b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(fn x =&gt; x) :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a -&gt; ‘b) -&gt; (‘c -&gt; ‘a) -&gt; (‘c -&gt; ‘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(fn x =&gt; x) :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a -&gt; ‘b) -&gt; (‘c -&gt; ‘a) -&gt; (‘c -&gt; ‘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rot="5400000">
            <a:off x="3390480" y="4533840"/>
            <a:ext cx="152280" cy="1600200"/>
          </a:xfrm>
          <a:custGeom>
            <a:avLst/>
            <a:gdLst>
              <a:gd name="textAreaLeft" fmla="*/ 0 w 152280"/>
              <a:gd name="textAreaRight" fmla="*/ 55080 w 15228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860920" y="5486400"/>
            <a:ext cx="109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-&gt; ‘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(fn x =&gt; x) :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a -&gt; ‘b) -&gt; (‘c -&gt; ‘a) -&gt; (‘c -&gt; ‘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rot="5400000">
            <a:off x="3390480" y="4533840"/>
            <a:ext cx="152280" cy="1600200"/>
          </a:xfrm>
          <a:custGeom>
            <a:avLst/>
            <a:gdLst>
              <a:gd name="textAreaLeft" fmla="*/ 0 w 152280"/>
              <a:gd name="textAreaRight" fmla="*/ 55080 w 15228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860920" y="5486400"/>
            <a:ext cx="109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-&gt; ‘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114800" y="2895480"/>
            <a:ext cx="1803240" cy="2819520"/>
          </a:xfrm>
          <a:custGeom>
            <a:avLst/>
            <a:gdLst/>
            <a:ahLst/>
            <a:rect l="l" t="t" r="r" b="b"/>
            <a:pathLst>
              <a:path w="1136" h="1776">
                <a:moveTo>
                  <a:pt x="0" y="1776"/>
                </a:moveTo>
                <a:cubicBezTo>
                  <a:pt x="396" y="1684"/>
                  <a:pt x="792" y="1592"/>
                  <a:pt x="960" y="1392"/>
                </a:cubicBezTo>
                <a:cubicBezTo>
                  <a:pt x="1128" y="1192"/>
                  <a:pt x="1136" y="808"/>
                  <a:pt x="1008" y="576"/>
                </a:cubicBezTo>
                <a:cubicBezTo>
                  <a:pt x="880" y="344"/>
                  <a:pt x="536" y="172"/>
                  <a:pt x="192" y="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743200" y="2133720"/>
            <a:ext cx="1600200" cy="914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514600" y="5257800"/>
            <a:ext cx="1600200" cy="914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979240" y="3962520"/>
            <a:ext cx="1505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must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he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 = ‘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 = ‘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sts are created wi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il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makes empty li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 :: tai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makes a longer li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:: (5 :: nil)   :   int l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295280" y="464832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9640" y="510552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2971440" y="49528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87200" y="5410080"/>
            <a:ext cx="236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5400000">
            <a:off x="2856960" y="4228920"/>
            <a:ext cx="152640" cy="1143000"/>
          </a:xfrm>
          <a:custGeom>
            <a:avLst/>
            <a:gdLst>
              <a:gd name="textAreaLeft" fmla="*/ 0 w 152640"/>
              <a:gd name="textAreaRight" fmla="*/ 55080 w 15264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(fn x =&gt; x) :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d -&gt; ‘d) -&gt; (‘c -&gt; ‘d) -&gt; (‘c -&gt; ‘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5400000">
            <a:off x="3390480" y="4533840"/>
            <a:ext cx="152280" cy="1600200"/>
          </a:xfrm>
          <a:custGeom>
            <a:avLst/>
            <a:gdLst>
              <a:gd name="textAreaLeft" fmla="*/ 0 w 152280"/>
              <a:gd name="textAreaRight" fmla="*/ 55080 w 15228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860920" y="5486400"/>
            <a:ext cx="109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-&gt; ‘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114800" y="2895480"/>
            <a:ext cx="1803240" cy="2819520"/>
          </a:xfrm>
          <a:custGeom>
            <a:avLst/>
            <a:gdLst/>
            <a:ahLst/>
            <a:rect l="l" t="t" r="r" b="b"/>
            <a:pathLst>
              <a:path w="1136" h="1776">
                <a:moveTo>
                  <a:pt x="0" y="1776"/>
                </a:moveTo>
                <a:cubicBezTo>
                  <a:pt x="396" y="1684"/>
                  <a:pt x="792" y="1592"/>
                  <a:pt x="960" y="1392"/>
                </a:cubicBezTo>
                <a:cubicBezTo>
                  <a:pt x="1128" y="1192"/>
                  <a:pt x="1136" y="808"/>
                  <a:pt x="1008" y="576"/>
                </a:cubicBezTo>
                <a:cubicBezTo>
                  <a:pt x="880" y="344"/>
                  <a:pt x="536" y="172"/>
                  <a:pt x="192" y="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743200" y="2133720"/>
            <a:ext cx="1600200" cy="914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514600" y="5257800"/>
            <a:ext cx="1600200" cy="914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979240" y="3962520"/>
            <a:ext cx="1505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must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he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 = ‘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 = ‘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(fn x =&gt; x) :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d -&gt; ‘d) -&gt; (‘c -&gt; ‘d) -&gt; (‘c -&gt; ‘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rot="5400000">
            <a:off x="3390480" y="4533840"/>
            <a:ext cx="152280" cy="1600200"/>
          </a:xfrm>
          <a:custGeom>
            <a:avLst/>
            <a:gdLst>
              <a:gd name="textAreaLeft" fmla="*/ 0 w 152280"/>
              <a:gd name="textAreaRight" fmla="*/ 55080 w 15228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860920" y="5486400"/>
            <a:ext cx="109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-&gt; ‘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rot="5400000">
            <a:off x="2514240" y="4495680"/>
            <a:ext cx="152280" cy="3048120"/>
          </a:xfrm>
          <a:custGeom>
            <a:avLst/>
            <a:gdLst>
              <a:gd name="textAreaLeft" fmla="*/ 0 w 152280"/>
              <a:gd name="textAreaRight" fmla="*/ 55080 w 152280"/>
              <a:gd name="textAreaTop" fmla="*/ 79200 h 3048120"/>
              <a:gd name="textAreaBottom" fmla="*/ 2968920 h 3048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724280" y="2133720"/>
            <a:ext cx="3962520" cy="914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267080" y="3200400"/>
            <a:ext cx="3556080" cy="3124080"/>
          </a:xfrm>
          <a:custGeom>
            <a:avLst/>
            <a:gdLst/>
            <a:ahLst/>
            <a:rect l="l" t="t" r="r" b="b"/>
            <a:pathLst>
              <a:path w="1808" h="1872">
                <a:moveTo>
                  <a:pt x="1344" y="0"/>
                </a:moveTo>
                <a:cubicBezTo>
                  <a:pt x="1576" y="372"/>
                  <a:pt x="1808" y="744"/>
                  <a:pt x="1584" y="1056"/>
                </a:cubicBezTo>
                <a:cubicBezTo>
                  <a:pt x="1360" y="1368"/>
                  <a:pt x="680" y="1620"/>
                  <a:pt x="0" y="1872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261080" y="6095880"/>
            <a:ext cx="271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(‘c -&gt; ‘d) -&gt; (‘c -&gt; ‘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the type of map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3" name=""/>
          <p:cNvSpPr/>
          <p:nvPr/>
        </p:nvSpPr>
        <p:spPr>
          <a:xfrm>
            <a:off x="2320560" y="2743200"/>
            <a:ext cx="3588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 map f l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se l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il =&gt; [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 x :: l =&gt; (f x) :: (map f 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the type of map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5" name=""/>
          <p:cNvSpPr/>
          <p:nvPr/>
        </p:nvSpPr>
        <p:spPr>
          <a:xfrm>
            <a:off x="2320560" y="2743200"/>
            <a:ext cx="3588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 map f l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se l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il =&gt; [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 x :: l =&gt; (f x) :: (map f 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nt: top-level shape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... -&gt; ... -&gt; 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the type of map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7" name=""/>
          <p:cNvSpPr/>
          <p:nvPr/>
        </p:nvSpPr>
        <p:spPr>
          <a:xfrm>
            <a:off x="2339640" y="2743200"/>
            <a:ext cx="3588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 map f l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se l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il =&gt; [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 x :: l =&gt; (f x) :: (map f 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(‘a -&gt; ‘b) -&gt; ‘a list -&gt; ‘b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L Modu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gn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uc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ized stru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s from structures to stru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ctu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430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tructure Queue = 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truct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type ‘a queue = ‘a list * ‘a list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exception Empty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val empty = (nil, nil)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fun insert (x, q) = …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fun remove q = …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end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ctu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430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tructure Queue = 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truct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type ‘a queue = ‘a list * ‘a list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exception Empty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end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fun insert2 q x y =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Queue.insert (y, Queue.insert (q, x))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ctu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1430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tructure Queue = 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truct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end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tructure Q = Queue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fun insert2 q x y =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Q.insert (y, Q.insert (q, x))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"/>
          <p:cNvSpPr/>
          <p:nvPr/>
        </p:nvSpPr>
        <p:spPr>
          <a:xfrm>
            <a:off x="6248160" y="2895480"/>
            <a:ext cx="199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ven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brev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4191120" y="3505320"/>
            <a:ext cx="167616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ctu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430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Queue =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‘a queue = ‘a list * ‘a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nsert2 (q1,q2) x y : ‘a queue =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x::y::q1,q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"/>
          <p:cNvSpPr/>
          <p:nvPr/>
        </p:nvSpPr>
        <p:spPr>
          <a:xfrm>
            <a:off x="6486480" y="2228760"/>
            <a:ext cx="2494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by defaul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all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of the struct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may be 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-- we know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type ‘a que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sts are created wi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il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makes empty li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 :: tai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makes a longer li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:: 4 :: (5 :: nil)   :   int l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1295280" y="464832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9640" y="510552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3200400" y="495288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87200" y="5410080"/>
            <a:ext cx="236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5400000">
            <a:off x="3237840" y="3848040"/>
            <a:ext cx="152640" cy="1904760"/>
          </a:xfrm>
          <a:custGeom>
            <a:avLst/>
            <a:gdLst>
              <a:gd name="textAreaLeft" fmla="*/ 0 w 152640"/>
              <a:gd name="textAreaRight" fmla="*/ 55080 w 152640"/>
              <a:gd name="textAreaTop" fmla="*/ 49680 h 1904760"/>
              <a:gd name="textAreaBottom" fmla="*/ 185508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gnatu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1826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ignature QUEUE =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ig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type ‘a queue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exception Empty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val empty : ‘a queue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val insert : ‘a * ‘a queue -&gt; ‘a queue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val remove : ‘a queue -&gt; ‘a * ‘a queue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end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4343400" y="2590920"/>
            <a:ext cx="13716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851800" y="1981080"/>
            <a:ext cx="3153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stract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-- we don’t know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‘a que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ormation hid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440" y="2703600"/>
            <a:ext cx="3846600" cy="22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ture QUEUE =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‘a que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"/>
          <p:cNvSpPr/>
          <p:nvPr/>
        </p:nvSpPr>
        <p:spPr>
          <a:xfrm>
            <a:off x="4764240" y="2170080"/>
            <a:ext cx="3846240" cy="22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271040" y="2590920"/>
            <a:ext cx="450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ructure Queue :&gt; QUEUE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r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‘a queue = ‘a list * ‘a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al empty = (nil, ni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76520" y="5640480"/>
            <a:ext cx="498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 insert2 (q1,q2) x y : ‘a queue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x::y::q1,q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5333760" y="518148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489000" y="4800600"/>
            <a:ext cx="170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does 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type ch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gnature Ascrip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aque ascri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abstract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Queue :&gt; QUEUE =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ascri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pecial case of opaque a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fields but does not make types abstra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Queue_E : QUEUE =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 Harper, chapters 18-22 for more on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thin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ors (functions from structures to structur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ences (mutable data structur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 e; !e; e1 := e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le loops, for loo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ray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* comments (* can be *) nested *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unch of other stuff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st Thin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arning to program in SML can be tricky at fir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t once you get used to it, you will never want to go back to imperative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eck out the reference materials listed on the course homep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s are created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:: (4 :: (5 :: nil))   :   int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:: 4 :: 5 :: nil        :   int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true, 1) :: (false, 2) :: nil   :   (bool * int)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3 :: nil) :: (2 :: nil) :: nil    :    (int list)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:: [] : int lis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:: [4, 5] : int l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true] : bool l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2209320" y="3428640"/>
            <a:ext cx="3962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175800" y="3919680"/>
            <a:ext cx="23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different 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writing “nil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2361960" y="4401720"/>
            <a:ext cx="3886200" cy="779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91640" y="4952880"/>
            <a:ext cx="23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different 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writing a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d Li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4]::3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??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d Li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4]::3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dIn:1.1-2.2 Error: operator and operand don't agree [literal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or domain: int list * int list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nd:         int list * 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express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4 :: nil) :: 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8:39:45Z</dcterms:created>
  <dc:creator>Student Computing Services</dc:creator>
  <dc:description/>
  <dc:language>en-US</dc:language>
  <cp:lastModifiedBy>CS</cp:lastModifiedBy>
  <dcterms:modified xsi:type="dcterms:W3CDTF">2004-02-05T19:27:45Z</dcterms:modified>
  <cp:revision>36</cp:revision>
  <dc:subject/>
  <dc:title>Introduction to ML</dc:title>
</cp:coreProperties>
</file>