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87BC-9358-453B-86BA-49F2E734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CB4C-DDDC-45A2-8B5C-05476C17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50EF-B40D-41B7-8224-7D484B20D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F7D0-24C7-40DA-AC0D-54835BAAC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85DC-C6E4-47DE-80B6-C52FFC192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2E9F-CC3A-42F6-BB93-A272AF80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3ECE-82ED-491A-BA49-94C9FABE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6DF9-8570-4583-BE23-1A207732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E749-9458-45F8-9EC4-24CA8915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70DD-32AD-4242-85EB-7BACA128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1916-280F-4497-B46D-BFE423C2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FE7B-EF7D-47D3-B0D4-0C65095A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A2E9-BABD-4EAB-B7ED-56712A6C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0AA6-A477-4790-992E-1ED7000B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DE10-3DCB-41CD-84A1-3FE1197B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2CAE-51E5-4D0F-B8F7-BB715A900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80A9-B6D1-4ECE-9BCF-583D85399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E397-40DA-464B-8553-77EE578B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63CD-69FC-4258-B016-2B754779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AC37-8724-47CA-95DA-38CEF4C6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9FC7-6DB1-46CF-9AF8-CE85D037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BD00-EF63-4B25-8FD6-AD715E66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538E-DAC1-453F-B92E-A5CC4BBC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EE0E-F2D3-46A5-8BB4-80B2333F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B9B2-6BB2-44E9-9055-523765FD00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53FC-678F-49B4-9E32-95A2FF4024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ing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d Li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true, 5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d Li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true, 5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dIn:17.1-17.9 Error: operator and operand don't agree [literal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or domain: bool * bool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nd:         bool * int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expres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 :: 3 :: n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ctions over lists are usually defined by pattern matching on the structure of 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ahoma"/>
              </a:rPr>
              <a:t>Hint: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often, the structure of a function i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guided by the type of the argument (recall eval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1989360" y="3429000"/>
            <a:ext cx="331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length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_ :: l =&gt; 1 + (length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711080" y="2438280"/>
            <a:ext cx="358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98240" y="457200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What does it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48120" y="21337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85760" y="1905120"/>
            <a:ext cx="33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wo arguments f and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1711080" y="2438280"/>
            <a:ext cx="358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59640" y="4572000"/>
            <a:ext cx="709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pplies the function f to every element in th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fun add1 x = x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map add1 [1,2,3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gt; val it = [2,3,4] : int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663560" y="2666880"/>
            <a:ext cx="340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fold f a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f (fold f a l) 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54320" y="4876920"/>
            <a:ext cx="534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other incredibly useful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does it do? use it to write m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L is all about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many different ways to define function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almost always use “fun f x = ..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I am only going to use a function once and it is not recursive, I write a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nonymous fun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fn x =&gt; .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913040" y="2362320"/>
            <a:ext cx="270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n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sValu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t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t =&gt; fa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428640" y="2209680"/>
            <a:ext cx="2438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97160" y="1905120"/>
            <a:ext cx="289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inds a variable 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o a value 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43434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419360" y="3548160"/>
            <a:ext cx="1447560" cy="26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72680" y="3048120"/>
            <a:ext cx="244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inds 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is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6680" y="4800600"/>
            <a:ext cx="28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o the anonym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unctio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600200" y="46483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6240" y="5105520"/>
            <a:ext cx="187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n 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onym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1330200" y="2057400"/>
            <a:ext cx="358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addlist x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n y =&gt; y + 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34680" y="5410080"/>
            <a:ext cx="32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onymous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3657240" y="540972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362240" y="2819520"/>
            <a:ext cx="6503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ifun = int -&gt; 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ntCompose : ifun * ifun -&gt; ifun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add3 x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Compose ((fn x =&gt; x + 2), (fn y =&gt; y + 1))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81760" y="4952880"/>
            <a:ext cx="45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pair of anonymous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32280" y="2057400"/>
            <a:ext cx="50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type definition (very conven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419360" y="259092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572000" y="5486400"/>
            <a:ext cx="2209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6292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da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data 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1362240" y="2819520"/>
            <a:ext cx="6503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ifun = int -&gt; 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ntCompose : ifun * ifun -&gt; ifu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(f,g)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x =&gt; f (g x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add3 x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Compose ((fn x =&gt; x + 2), (fn y =&gt; y + 1))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895480" y="5181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10720" y="5257800"/>
            <a:ext cx="29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sult is a 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4343040" y="41144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85920" y="4191120"/>
            <a:ext cx="43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rgument is pair of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2781000" y="3924360"/>
            <a:ext cx="152280" cy="2057400"/>
          </a:xfrm>
          <a:custGeom>
            <a:avLst/>
            <a:gdLst>
              <a:gd name="textAreaLeft" fmla="*/ 0 w 152280"/>
              <a:gd name="textAreaRight" fmla="*/ 5508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143000" y="434304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5560" y="4545000"/>
            <a:ext cx="106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at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m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gai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1270440" y="2730600"/>
            <a:ext cx="2820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f x = .....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writte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f = (fn x =&gt; ..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3962520" y="50292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38040" y="5562720"/>
            <a:ext cx="56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rovided the function is not recursiv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 does not appear in 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1196640" y="2959200"/>
            <a:ext cx="5987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f x =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always be writte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rec f = (fn x =&gt; ...f can be used here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8288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57040" y="5900760"/>
            <a:ext cx="69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keyword rec declares a recursive functio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et 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1508040" y="2514600"/>
            <a:ext cx="378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Num n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Value (Bool b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Value (_) =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61840" y="396252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just an abbreviation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48360" y="4648320"/>
            <a:ext cx="268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et another way to create a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1508040" y="1905120"/>
            <a:ext cx="378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0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Value (Bool b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Value (_) =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1600" y="3352680"/>
            <a:ext cx="8405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9.1-11.29 Error: parameter or result constraint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us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clause:      term -&gt; '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ious clauses:      int -&gt; '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decla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Valu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0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90560" y="518148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(fn x =&gt; x + 1) (fn x =&gt; x +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68880" y="594360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not (fn x =&gt; x &lt;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68880" y="525780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not (fn x =&gt; x &lt;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68880" y="594360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(fn x =&gt; x &lt; 17)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8120" y="57913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AD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866920" y="6095880"/>
            <a:ext cx="8384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90720" y="51814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08320" y="6095880"/>
            <a:ext cx="55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ote:  type variables are written with 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933960" y="47242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64480" y="3308400"/>
            <a:ext cx="227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typ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nd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y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int -&gt; ‘b) -&gt; (‘c -&gt; int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4495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as if it had the ty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(int * int) -&gt; ‘b) -&gt; (‘c -&gt; (int * int)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4495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as if it had the ty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s are created wi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l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empty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 :: tai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a longer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:: nil   :  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295280" y="4572000"/>
            <a:ext cx="838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9640" y="51055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3123720" y="457164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7200" y="5410080"/>
            <a:ext cx="23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unit -&gt; int) -&gt; (int -&gt; unit) -&gt; (int -&gt; 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4495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as if it had the ty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2057040" y="51811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78000" y="5410080"/>
            <a:ext cx="595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ype of compose’s argument must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type of n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-&gt; bool == (‘a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743200" y="5181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41120" y="5410080"/>
            <a:ext cx="357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must be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must be bool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in this use of compo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14440" y="54100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ref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(‘c -&gt; bool) -&gt; (c’ -&gt; bo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400440" y="1371240"/>
            <a:ext cx="304920" cy="3352680"/>
          </a:xfrm>
          <a:custGeom>
            <a:avLst/>
            <a:gdLst>
              <a:gd name="textAreaLeft" fmla="*/ 0 w 304920"/>
              <a:gd name="textAreaRight" fmla="*/ 110160 w 30492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562360" y="3276720"/>
            <a:ext cx="99036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 rot="16200000">
            <a:off x="5333760" y="2742120"/>
            <a:ext cx="304920" cy="3353040"/>
          </a:xfrm>
          <a:custGeom>
            <a:avLst/>
            <a:gdLst>
              <a:gd name="textAreaLeft" fmla="*/ 0 w 304920"/>
              <a:gd name="textAreaRight" fmla="*/ 110160 w 30492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18240" y="3462480"/>
            <a:ext cx="138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=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=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(‘c -&gt; bool) -&gt; (c’ -&gt; bo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compose not) not : bool -&gt; b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(‘c -&gt; bool) -&gt; (c’ -&gt; bo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compose not)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2895480"/>
            <a:ext cx="1803240" cy="2819520"/>
          </a:xfrm>
          <a:custGeom>
            <a:avLst/>
            <a:gdLst/>
            <a:ahLst/>
            <a:rect l="l" t="t" r="r" b="b"/>
            <a:pathLst>
              <a:path w="1136" h="1776">
                <a:moveTo>
                  <a:pt x="0" y="1776"/>
                </a:moveTo>
                <a:cubicBezTo>
                  <a:pt x="396" y="1684"/>
                  <a:pt x="792" y="1592"/>
                  <a:pt x="960" y="1392"/>
                </a:cubicBezTo>
                <a:cubicBezTo>
                  <a:pt x="1128" y="1192"/>
                  <a:pt x="1136" y="808"/>
                  <a:pt x="1008" y="576"/>
                </a:cubicBezTo>
                <a:cubicBezTo>
                  <a:pt x="880" y="344"/>
                  <a:pt x="536" y="172"/>
                  <a:pt x="192" y="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213372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14600" y="525780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979240" y="3962520"/>
            <a:ext cx="150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ust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s are created wi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l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empty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 :: tai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a longer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:: (5 :: nil)   :  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295280" y="46483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9640" y="51055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971440" y="49528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87200" y="5410080"/>
            <a:ext cx="23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2856960" y="422892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d -&gt; ‘d) -&gt; (‘c -&gt; ‘d) -&gt; (‘c -&gt; ‘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14800" y="2895480"/>
            <a:ext cx="1803240" cy="2819520"/>
          </a:xfrm>
          <a:custGeom>
            <a:avLst/>
            <a:gdLst/>
            <a:ahLst/>
            <a:rect l="l" t="t" r="r" b="b"/>
            <a:pathLst>
              <a:path w="1136" h="1776">
                <a:moveTo>
                  <a:pt x="0" y="1776"/>
                </a:moveTo>
                <a:cubicBezTo>
                  <a:pt x="396" y="1684"/>
                  <a:pt x="792" y="1592"/>
                  <a:pt x="960" y="1392"/>
                </a:cubicBezTo>
                <a:cubicBezTo>
                  <a:pt x="1128" y="1192"/>
                  <a:pt x="1136" y="808"/>
                  <a:pt x="1008" y="576"/>
                </a:cubicBezTo>
                <a:cubicBezTo>
                  <a:pt x="880" y="344"/>
                  <a:pt x="536" y="172"/>
                  <a:pt x="192" y="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743200" y="213372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14600" y="525780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79240" y="3962520"/>
            <a:ext cx="150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ust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d -&gt; ‘d) -&gt; (‘c -&gt; ‘d) -&gt; (‘c -&gt; ‘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5400000">
            <a:off x="2514240" y="4495680"/>
            <a:ext cx="152280" cy="3048120"/>
          </a:xfrm>
          <a:custGeom>
            <a:avLst/>
            <a:gdLst>
              <a:gd name="textAreaLeft" fmla="*/ 0 w 152280"/>
              <a:gd name="textAreaRight" fmla="*/ 55080 w 15228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724280" y="2133720"/>
            <a:ext cx="396252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67080" y="3200400"/>
            <a:ext cx="3556080" cy="3124080"/>
          </a:xfrm>
          <a:custGeom>
            <a:avLst/>
            <a:gdLst/>
            <a:ahLst/>
            <a:rect l="l" t="t" r="r" b="b"/>
            <a:pathLst>
              <a:path w="1808" h="1872">
                <a:moveTo>
                  <a:pt x="1344" y="0"/>
                </a:moveTo>
                <a:cubicBezTo>
                  <a:pt x="1576" y="372"/>
                  <a:pt x="1808" y="744"/>
                  <a:pt x="1584" y="1056"/>
                </a:cubicBezTo>
                <a:cubicBezTo>
                  <a:pt x="1360" y="1368"/>
                  <a:pt x="680" y="1620"/>
                  <a:pt x="0" y="1872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61080" y="609588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‘c -&gt; ‘d) -&gt; (‘c -&gt; ‘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map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2320560" y="2743200"/>
            <a:ext cx="358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map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2320560" y="2743200"/>
            <a:ext cx="3588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nt: top-level shape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. -&gt; ... -&gt;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map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2339640" y="2743200"/>
            <a:ext cx="3588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(‘a -&gt; ‘b) -&gt; ‘a list -&gt; ‘b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L Modu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gn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ized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from structures to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empty = (nil, nil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 (x, q) = …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remove q = …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2 q x y =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Queue.insert (y, Queue.insert (q, x)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 =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2 q x y =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Q.insert (y, Q.insert (q, x)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6248160" y="2895480"/>
            <a:ext cx="19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ven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br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191120" y="3505320"/>
            <a:ext cx="167616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nsert2 (q1,q2) x y : ‘a queue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x::y::q1,q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6486480" y="2228760"/>
            <a:ext cx="249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by defaul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all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of the stru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may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-- we know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s are created wi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l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empty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 :: tai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a longer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:: 4 :: (5 :: nil)   :  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295280" y="46483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640" y="51055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200400" y="49528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7200" y="5410080"/>
            <a:ext cx="23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3237840" y="3848040"/>
            <a:ext cx="152640" cy="1904760"/>
          </a:xfrm>
          <a:custGeom>
            <a:avLst/>
            <a:gdLst>
              <a:gd name="textAreaLeft" fmla="*/ 0 w 152640"/>
              <a:gd name="textAreaRight" fmla="*/ 55080 w 15264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826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ignature QUEUE =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ig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empty :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insert : ‘a * ‘a queue -&gt;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remove : ‘a queue -&gt; ‘a *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4343400" y="25909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851800" y="1981080"/>
            <a:ext cx="315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- we don’t know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ation hi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440" y="2703600"/>
            <a:ext cx="3846600" cy="22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ture QUEUE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4764240" y="2170080"/>
            <a:ext cx="3846240" cy="22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71040" y="2590920"/>
            <a:ext cx="450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cture Queue :&gt; QUEU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‘a queue = ‘a list * ‘a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 empty = (nil, n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76520" y="5640480"/>
            <a:ext cx="498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insert2 (q1,q2) x y : ‘a queu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x::y::q1,q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5333760" y="51814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489000" y="4800600"/>
            <a:ext cx="17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does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ype 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ture A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aque a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abstract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 :&gt; QUEUE =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a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pecial case of opaque a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fields but does not make types abstr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_E : QUEUE =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 Harper, chapters 18-22 for more on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th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ors (functions from structures to structur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ences (mutable data structur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 e; !e; e1 := e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le loops, for loo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r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* comments (* can be *) nested *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unch of other stuff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st Th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ing to program in SML can be tricky at fir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once you get used to it, you will never want to go back to imperative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ck out the reference materials listed on the course homep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 are created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:: (4 :: (5 :: nil))   :   int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:: 4 :: 5 :: nil        :   int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rue, 1) :: (false, 2) :: nil   :   (bool * int)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3 :: nil) :: (2 :: nil) :: nil    :    (int list)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:: [] : int li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:: [4, 5] :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true] : bool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2209320" y="3428640"/>
            <a:ext cx="3962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5800" y="391968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ifferent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writing “ni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361960" y="4401720"/>
            <a:ext cx="3886200" cy="77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1640" y="495288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ifferent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writing a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d Li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4]::3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d Li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4]::3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dIn:1.1-2.2 Error: operator and operand don't agree [literal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or domain: int list * int list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nd:         int list * 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expres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4 :: nil) ::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8:39:45Z</dcterms:created>
  <dc:creator>Student Computing Services</dc:creator>
  <dc:description/>
  <dc:language>en-US</dc:language>
  <cp:lastModifiedBy>CS</cp:lastModifiedBy>
  <dcterms:modified xsi:type="dcterms:W3CDTF">2004-02-05T19:27:45Z</dcterms:modified>
  <cp:revision>36</cp:revision>
  <dc:subject/>
  <dc:title>Introduction to ML</dc:title>
</cp:coreProperties>
</file>