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14B-0FBB-4BE1-AFA3-F6B00618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8D7-1B81-4246-A6F8-8D04C75B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3E4-B746-48C4-A224-6014E23C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89D-B0B9-473E-8464-5A288D95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2C40-8B52-4ABC-8E07-D92C3EBD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6937-44E4-4E99-B4B8-7863CF9E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640B-1561-4A3C-96AE-9F16C108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FFCB-0526-46D7-B6A1-6970C20C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9D34-69ED-4D6A-ACE5-1149C767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FD30-283A-4C6B-B036-E7F48C99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249E-1FE4-4ECC-87C2-DD1D3D0D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0CA-C722-4516-8803-E283EDFB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08C8-3428-4BD2-B30A-2CF72595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98FB-3065-4EFC-BB81-AB125AB9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9E67-52BC-4D77-A7C9-A061F179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2B86-C70C-4D02-974B-97AA9725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8E75-F220-4BA0-A155-F4F347CD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EE4-4318-4142-A34E-4E08D7A2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90F-7837-49BF-A318-EF657AB6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7FF-339D-4FD4-95C3-EB39A764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36A-CC0F-45F5-8DA5-3FEC0D33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E82-EB07-4EDD-9A51-AC75FE66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BE9-594A-486D-8256-1494D9F0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FEA-1DC6-45D0-8E8D-55BD7DCF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3BD9-6FA4-4291-A885-338583AC35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8B38-050D-4D15-A671-60027432BC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pw@cs.princeton.edu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spring05/cos320/index.htm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 320:  Compiling Techniqu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98400" y="4924440"/>
            <a:ext cx="9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92800" y="53341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vir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6840" y="27432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38160" y="53341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4120" y="274320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84160" y="5334120"/>
            <a:ext cx="29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scrip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pla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cripts are compiled into 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language is compiled into machin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description language is compiled into a hardware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ers are co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file to 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; par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intermediate form (I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; optimizations; data l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 to machin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; register 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Sourc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imperativ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1 IR (the initial abstract syntax generated by the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checking; high-level optimiz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 selection algorithms; register allocation via graph colo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ML is a domain-specific language for building comp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data structures (abstract syntax, compiler intermediate fo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type system for 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ert Harper’s Online book “an introduction to ML” is a good place to st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Structur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mpi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type defin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as we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Walker (Profess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2 Computer Science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pw@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: after each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lherme Ottoni (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7 Computer Science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toni@cs.princeton.ed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s 2-2:30 P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idays 2-3 P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l in Unix by typing sml at a prom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x% s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 ML of New Jersey, Version 110.0.7, September 28, 2000 [CM; autoload enabled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* quit SML by pressing ctrl-D *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* just so you know, comments can be (* nested *) *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domain: int *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nd:             int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+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971800"/>
            <a:ext cx="1904760" cy="152280"/>
          </a:xfrm>
          <a:prstGeom prst="rightArrow">
            <a:avLst>
              <a:gd name="adj1" fmla="val 50000"/>
              <a:gd name="adj2" fmla="val 3127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princeton.edu/courses/archive/spring05/cos320/index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ubscri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320-request@lists.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ost to this list, send your email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320@lists.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33600" y="2381400"/>
            <a:ext cx="293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by conven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65480" y="5748480"/>
            <a:ext cx="37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24880" y="31240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63200" y="25146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1636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8340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7660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5804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25000" y="3276720"/>
            <a:ext cx="36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85160" y="3638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29400" y="4667400"/>
            <a:ext cx="816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1996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9920" y="592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954920" y="584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88520" y="46292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78400" y="3657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3581280"/>
            <a:ext cx="94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35480" y="36576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872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73520" y="2362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9360" y="27432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590920" y="495252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343040" y="274320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1817280" y="2514600"/>
            <a:ext cx="403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48800" y="487692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3280" y="57913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Compiler Implementation in ML, Andrew App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manual for S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choice: Online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hardcopy boo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ML Programming, Jeffrey D. Ull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706040" y="2286000"/>
            <a:ext cx="220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1888200" y="2514600"/>
            <a:ext cx="322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1708560" y="2133720"/>
            <a:ext cx="671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90640" y="2743200"/>
            <a:ext cx="26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1928520" y="1905120"/>
            <a:ext cx="606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1897920" y="1905120"/>
            <a:ext cx="274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name and other information on the sheet circul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, skim and bookmark the course web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cribe to course e-mail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assignment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e out how to run &amp; use S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e next Thursday February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601920" y="4572000"/>
            <a:ext cx="72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504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ward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il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program that translate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 into an equivalen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2440" y="2486160"/>
            <a:ext cx="198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i &gt; 3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] =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2000" y="4924440"/>
            <a:ext cx="20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 eax, e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eax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p eax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cc eax, 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44880" y="27432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32000" y="5257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560" y="4924440"/>
            <a:ext cx="175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21200" y="5486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dpw</cp:lastModifiedBy>
  <dcterms:modified xsi:type="dcterms:W3CDTF">2005-01-30T20:25:39Z</dcterms:modified>
  <cp:revision>35</cp:revision>
  <dc:subject/>
  <dc:title>Introduction to ML</dc:title>
</cp:coreProperties>
</file>