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7F8-601D-4B1A-A3F3-E4E896C8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195-9D3E-4E1E-BB47-067C394C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FBE-FAAF-4950-BA65-9EE8B6C0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233-3231-4075-93CD-676B1DD9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3EAD-A84C-4D28-99B0-EC2FF50A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AB14-BB35-4831-82A8-029A9F6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B093-39ED-43DE-9EDF-76E9E54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C8A-3E3E-441E-B6B5-E6F4397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1CE-D8CF-43CB-A9FD-8A6C7FB1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BE4-B9F8-488F-BBC3-5894942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3A0C-0966-45AD-9651-65E940E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CCA-9A09-48A6-9C3F-16841DA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1F8-2F0B-4DF9-BD16-009FC13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B19-EAD8-4213-9CF6-8B0A921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BDFF-1DEA-4CD1-AC55-27F01677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8B6-AC1D-42EB-A7C6-4F2844A3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7A0F-3656-4F79-97B4-3545F9F6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326-806F-4046-B880-954AFD2A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736-2703-4133-9B5A-D2DAD53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764-F3E2-421D-9EF0-3244469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657-0A47-4BE3-9AEB-BA2FDE2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726-CF34-41FF-9548-3318ACB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F4C-5FD9-4DD1-B891-6C9D61D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039-9A0D-49C8-9000-20FF883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2F02-41B6-428C-B44C-74567C082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F5E-CBF4-439E-81B7-5F9BA43157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lherme Ottoni (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ton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2-2:30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idays 2-3 P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495252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next Thursday February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5-01-30T20:25:39Z</dcterms:modified>
  <cp:revision>35</cp:revision>
  <dc:subject/>
  <dc:title>Introduction to ML</dc:title>
</cp:coreProperties>
</file>