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C08-10DD-4C0E-911D-3AB8A6BD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FBE-B82D-4F71-9D2E-20C94275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F20-AA72-46CD-859B-69760F56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C11-E141-4296-942C-158E5F9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B09-14B2-4CC7-9DA5-250BF92E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13A6-10B8-45BD-84F5-4327ECFC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A57A-96DE-4B65-91DE-C5E5EE45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F97B-8AD1-4F47-A38B-AF87550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445C-C3D6-4867-B63A-E7611DA9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12CE-D1E5-4B09-91F7-2C1E9561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2FDB-237B-4C7B-B6BB-42EBC23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1D1-255F-4DFB-98DE-36A752D8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4CF3-0AD4-498B-8278-11A2916F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4CCB-4D8E-4180-B0D2-EC36E1E2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F8FC-BD39-425C-A8E5-3A3A9D02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0B83-312A-493D-8DEE-E704F09A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4472-39A5-42D8-83B9-0F47F4FB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5C8-0004-4666-BB7B-2956DD51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5BB-2F22-47EA-9D47-4E1AB94B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733-AF10-49A7-8895-862009C5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838-481C-4C43-B2BF-BC60F544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6B97-3E00-408D-BBB6-90256F4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AD8-AFE6-457B-853C-B83F294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63F-C494-4943-AE78-F3E7F596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6DC5-02EB-485B-A120-2F0CFD762D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858-73FA-45D5-8D0A-8902466E9E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5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; optimizations; data l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register 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ourc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 IR (the initial abstract syntax generated by the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hecking; high-level optim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ata structures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Online book “an introduction to ML” is a good place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Structur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mp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type defin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lherme Ottoni (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7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toni@cs.princeton.e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s 2-2:30 P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idays 2-3 P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l in Unix by typing sml at a prom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x% s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ML of New Jersey, Version 110.0.7, September 28, 2000 [CM; autoload enabled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quit SML by pressing ctrl-D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just so you know, comments can be (* nested *)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29718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5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bscri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-request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ost to this list, send your email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33600" y="2381400"/>
            <a:ext cx="293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by conven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24880" y="31240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5160" y="363852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590920" y="495252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817280" y="2514600"/>
            <a:ext cx="403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48800" y="487692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, Andrew 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manual for S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choice: Online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hardcopy boo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ML Programming, Jeffrey D. Ull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706040" y="228600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, skim and bookmark the course web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cribe to course e-mail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gure out how to run &amp; use S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e next Thursday February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5-01-30T20:25:39Z</dcterms:modified>
  <cp:revision>35</cp:revision>
  <dc:subject/>
  <dc:title>Introduction to ML</dc:title>
</cp:coreProperties>
</file>