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A51-E65C-491D-9F13-33DD5707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3F7-1AFC-45C2-A888-3D4A95C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E4B-2495-48BF-863B-0F9909AF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D40-EE46-4804-939D-6A5846C8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C4F0-CEC6-469F-A5BE-2C529C24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2D9-61E6-49B3-B9D8-DA56497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16D6-2228-440D-B368-A7263E8D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52A-A2AA-4723-BB40-1A7AA150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0FB-6A1C-49AF-93B3-07AF2C6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FAF-40E5-4665-B904-D03B6CC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C62-FC2F-4BCD-AB4E-1339B125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F22-A2B1-4473-9D38-E0C23AC6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57E6-25FD-4016-B347-7083FDEF8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&amp;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4516560"/>
            <a:ext cx="14479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5800" y="579132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ard input until we can leg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or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760" y="502920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 rot="16200000">
            <a:off x="7554240" y="374400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57913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2200" y="57913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 using  exp ::= ( err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7120" y="50292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4516560"/>
            <a:ext cx="121932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6200000">
            <a:off x="7629840" y="381996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3640" y="5791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inue parsing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-down Loc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ossible to use synchronizing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a synchronizing token for non terminal X is a member of Follow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X and an error is found; eat input stream until you get to a member of Follow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12360" y="3470400"/>
            <a:ext cx="51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0280" y="3470400"/>
            <a:ext cx="5178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17760" y="3470400"/>
            <a:ext cx="5525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=&gt; ... | BEGIN =&gt; ... | PRINT =&gt;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   =&gt;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ELSE, 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&gt;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_       =&gt;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kipto [THEN,ELSE,END,SEM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13372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99880" y="2017800"/>
            <a:ext cx="311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 skipto tok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member(!tok, toks) th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at(!tok); skipto t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5627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lobal error reco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s the smallest set of insertions, deletions or replacements that will allow a correct parse, even if those insertions, etc. occur before an error would have been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us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urke-Fisher error rep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very po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ngle-token inse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letion or replacement at every point in the input up to K tokens before the error i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K = 20; parser gets stuck at token 500; all possible repairs between token 480-500 t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repair = longest successful pa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happen when your parser finds an error in the user’s in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immediately and signal a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the error but try to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case, the user must recompile from scratch after possibly a trivial f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econd case, the user might be overwhelmed by a whole series of error messages, all caused by essentially the sam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talk about how to do error recovery in a principle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Burke-Fisher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ifferent toke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number of repairs = K + 2K*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ions (K)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s (K + 1)*N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s (K)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ordable in the uncommon case when there is 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2240" y="594360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stack lags the new stack by K=6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81080" y="60955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600" y="6361200"/>
            <a:ext cx="75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s (E ::= NUM) and (S ::= ID := NUM) applied to old stack in 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505320" y="58669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571640" y="5562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5400" y="42451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must be able to back up K tokens and repa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maintains old stack and new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05360" y="52354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              ; ID := E +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129760" y="47023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NUM ; ID := ID + ( ID := NUM +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4778280"/>
            <a:ext cx="3352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6200000">
            <a:off x="6334920" y="303624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93120" y="4245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2880" y="4756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2520" y="5235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ew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10760" y="57070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D 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2520" y="57070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ol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778280"/>
            <a:ext cx="1371600" cy="304920"/>
          </a:xfrm>
          <a:prstGeom prst="rect">
            <a:avLst/>
          </a:prstGeom>
          <a:solidFill>
            <a:srgbClr val="99cc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16200000">
            <a:off x="3921120" y="3953520"/>
            <a:ext cx="82440" cy="1371600"/>
          </a:xfrm>
          <a:custGeom>
            <a:avLst/>
            <a:gdLst>
              <a:gd name="textAreaLeft" fmla="*/ 0 w 82440"/>
              <a:gd name="textAreaRight" fmla="*/ 29880 w 824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920" y="342900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toke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ed in que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38862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040" y="6248520"/>
            <a:ext cx="83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actions performed once when reduction is “committed” on the ol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ke-Fisher in 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Yacc  provides additional support  for Burke-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tinue parsing, we need semantics values for inserted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ultiple-token insertions &amp; deletions  are common, but  it is too expensive for ML-Yacc to try every 2,3,4- token insertion,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23840" y="304812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D {make_id “bogus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INT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value STRING {“”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58720" y="534996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change EQ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EL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IN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257800" y="51814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4680" y="4913280"/>
            <a:ext cx="170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do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way but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ries it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rror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of adjusting input stream so that the parser can continue after unexpecte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ssible adjus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 tok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es of reco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oc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djust input at the point where error was detected (and also possibly immediately af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obal reco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djust input before point where error was det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recovery is possible in both top-down and bottom-up 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4680" y="2514600"/>
            <a:ext cx="54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4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6840" y="2514600"/>
            <a:ext cx="73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strategy for both bottom-up and top-dow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a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ynchronizing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mplished in bottom-up parsers by adding error rules to 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LPA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3080" y="4648320"/>
            <a:ext cx="767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follow error with a synchronizing token.  Recovery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op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f necessary) until a state is reached in whic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for the error token is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rror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isc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mbols (if necessary) until a state is reached that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error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rmal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6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7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17120" y="502920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2600" y="57913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@#$ is an unexpected to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5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6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8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3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1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1905120" y="57150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6400" y="502920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7160" y="579132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p stack until shifting “error” can result in correct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ottom-up Error Re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( exp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438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(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rr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952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s :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s ;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6760" y="5029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41880" y="4495680"/>
            <a:ext cx="592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PLUS @#$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516560"/>
            <a:ext cx="3200400" cy="28404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6639840" y="282960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7680" y="4038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7440" y="45496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6720" y="5029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2760" y="57913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“err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5-02-21T01:53:03Z</dcterms:modified>
  <cp:revision>10</cp:revision>
  <dc:subject/>
  <dc:title>Parsing &amp; Error Recovery</dc:title>
</cp:coreProperties>
</file>