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CD4-11BA-4E4E-9FFF-23C5F489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DAD-1711-4288-9646-D6B7B98C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270-043A-49DC-9E81-95B8BBF0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810-0D88-4927-BEF6-0AE44642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1EC-0BE6-4C40-A046-93F2210D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5A0-FFFB-4033-BEAA-01C25311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A27-58C6-46D4-9B77-ABDCFE5D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5CA-1816-4C54-B086-0B3B4967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22E-A120-40CC-9C5D-CA50B5BE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009-140F-422D-ADC0-B3524851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CF9-9A82-4944-963B-BE13A036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EAC-7495-428E-B6C4-0279992E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7435-D04B-4492-9D6D-07ED3069A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ing &amp;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6760" y="5029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4516560"/>
            <a:ext cx="144792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 rot="16200000">
            <a:off x="7554240" y="3744000"/>
            <a:ext cx="131760" cy="1371600"/>
          </a:xfrm>
          <a:custGeom>
            <a:avLst/>
            <a:gdLst>
              <a:gd name="textAreaLeft" fmla="*/ 0 w 131760"/>
              <a:gd name="textAreaRight" fmla="*/ 47520 w 131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5800" y="5791320"/>
            <a:ext cx="34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card input until we can leg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or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760" y="502920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rr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4516560"/>
            <a:ext cx="121932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 rot="16200000">
            <a:off x="7554240" y="3744000"/>
            <a:ext cx="131760" cy="1371600"/>
          </a:xfrm>
          <a:custGeom>
            <a:avLst/>
            <a:gdLst>
              <a:gd name="textAreaLeft" fmla="*/ 0 w 131760"/>
              <a:gd name="textAreaRight" fmla="*/ 47520 w 131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1120" y="57913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7120" y="50292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4516560"/>
            <a:ext cx="121932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6200000">
            <a:off x="7629840" y="3819960"/>
            <a:ext cx="131760" cy="1219320"/>
          </a:xfrm>
          <a:custGeom>
            <a:avLst/>
            <a:gdLst>
              <a:gd name="textAreaLeft" fmla="*/ 0 w 131760"/>
              <a:gd name="textAreaRight" fmla="*/ 47520 w 13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2200" y="579132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 using  exp ::= ( err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7120" y="50292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4516560"/>
            <a:ext cx="121932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6200000">
            <a:off x="7629840" y="3819960"/>
            <a:ext cx="131760" cy="1219320"/>
          </a:xfrm>
          <a:custGeom>
            <a:avLst/>
            <a:gdLst>
              <a:gd name="textAreaLeft" fmla="*/ 0 w 131760"/>
              <a:gd name="textAreaRight" fmla="*/ 47520 w 13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5791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inue parsing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-down Loc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ossible to use synchronizing to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a synchronizing token for non terminal X is a member of Follow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rsing X and an error is found; eat input stream until you get to a member of Follow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13372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99880" y="2017800"/>
            <a:ext cx="31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 skipto tok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member(!tok, toks) th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at(!tok); skipto t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5627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12360" y="3470400"/>
            <a:ext cx="51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=&gt; ... | BEGIN =&gt; ... | PRINT =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&gt;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12360" y="3470400"/>
            <a:ext cx="51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=&gt; ... | BEGIN =&gt; ... | PRINT =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=&gt;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   =&gt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&gt;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3372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99880" y="2017800"/>
            <a:ext cx="31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 skipto tok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member(!tok, toks) th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at(!tok); skipto t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5627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0280" y="3470400"/>
            <a:ext cx="5178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=&gt; ... | BEGIN =&gt; ... | PRINT =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=&gt;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   =&gt;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 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&gt;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13372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99880" y="2017800"/>
            <a:ext cx="31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 skipto tok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member(!tok, toks) th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at(!tok); skipto t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5627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17760" y="3470400"/>
            <a:ext cx="552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=&gt; ... | BEGIN =&gt; ... | PRINT =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=&gt;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   =&gt;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 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&gt;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=&gt;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THEN,ELSE,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13372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99880" y="2017800"/>
            <a:ext cx="31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 skipto tok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member(!tok, toks) th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at(!tok); skipto t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5627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lobal error reco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s the smallest set of insertions, deletions or replacements that will allow a correct parse, even if those insertions, etc. occur before an error would have been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Yacc us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urke-Fisher error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very pos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ngle-token inser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letion or replacement at every point in the input up to K tokens before the error i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K = 20; parser gets stuck at token 500; all possible repairs between token 480-500 tr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repair = longest successful p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happen when your parser finds an error in the user’s inp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immediately and signal a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error but try to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case, the user must recompile from scratch after possibly a trivial 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econd case, the user might be overwhelmed by a whole series of error messages, all caused by essentially the sam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talk about how to do error recovery in a principled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Burke-Fisher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token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different toke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number of repairs = K + 2K*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ions (K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s (K + 1)*N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s (K)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ordable in the uncommon case when there is an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975400" y="42451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must be able to back up K tokens and repa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maintains old stack and new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5360" y="52354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              ; ID := E +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9760" y="4702320"/>
            <a:ext cx="41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NUM ; ID := ID + ( ID := NUM +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4778280"/>
            <a:ext cx="3352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 rot="16200000">
            <a:off x="6334920" y="303624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3120" y="4245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2880" y="4756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2520" y="5235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ew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10760" y="5707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 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2520" y="57070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l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778280"/>
            <a:ext cx="1371600" cy="3049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 rot="16200000">
            <a:off x="3921120" y="3953520"/>
            <a:ext cx="82440" cy="1371600"/>
          </a:xfrm>
          <a:custGeom>
            <a:avLst/>
            <a:gdLst>
              <a:gd name="textAreaLeft" fmla="*/ 0 w 82440"/>
              <a:gd name="textAreaRight" fmla="*/ 29880 w 824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2920" y="342900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d in que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3886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975400" y="42451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must be able to back up K tokens and repa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maintains old stack and new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5360" y="52354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              ; ID := E +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9760" y="4702320"/>
            <a:ext cx="41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NUM ; ID := ID + ( ID := NUM +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4778280"/>
            <a:ext cx="3352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 rot="16200000">
            <a:off x="6334920" y="303624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3120" y="4245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880" y="4756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2520" y="5235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ew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10760" y="5707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 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92520" y="57070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l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4778280"/>
            <a:ext cx="1371600" cy="3049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 rot="16200000">
            <a:off x="3921120" y="3953520"/>
            <a:ext cx="82440" cy="1371600"/>
          </a:xfrm>
          <a:custGeom>
            <a:avLst/>
            <a:gdLst>
              <a:gd name="textAreaLeft" fmla="*/ 0 w 82440"/>
              <a:gd name="textAreaRight" fmla="*/ 29880 w 824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2240" y="5943600"/>
            <a:ext cx="45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stack lags the new stack by K=6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2920" y="342900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d in que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3886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81080" y="60955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8600" y="6361200"/>
            <a:ext cx="75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s (E ::= NUM) and (S ::= ID := NUM) applied to old stack in 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505320" y="58669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571640" y="5562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975400" y="42451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must be able to back up K tokens and repa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maintains old stack and new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05360" y="52354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              ; ID := E +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29760" y="4702320"/>
            <a:ext cx="41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NUM ; ID := ID + ( ID := NUM +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4778280"/>
            <a:ext cx="3352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6200000">
            <a:off x="6334920" y="303624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3120" y="4245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2880" y="4756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2520" y="5235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ew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10760" y="5707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 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2520" y="57070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l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778280"/>
            <a:ext cx="1371600" cy="3049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16200000">
            <a:off x="3921120" y="3953520"/>
            <a:ext cx="82440" cy="1371600"/>
          </a:xfrm>
          <a:custGeom>
            <a:avLst/>
            <a:gdLst>
              <a:gd name="textAreaLeft" fmla="*/ 0 w 82440"/>
              <a:gd name="textAreaRight" fmla="*/ 29880 w 824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920" y="342900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d in que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3886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040" y="6248520"/>
            <a:ext cx="83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actions performed once when reduction is “committed” on the ol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ke-Fisher in ML-Ya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Yacc  provides additional support  for Burke-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tinue parsing, we need semantics values for inserted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ultiple-token insertions &amp; deletions  are common, but  it is too expensive for ML-Yacc to try every 2,3,4- token insertion, 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23840" y="304812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value ID {make_id “bogus”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value INT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value STRING {“”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58720" y="534996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change EQ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EL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IN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257800" y="51814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4680" y="4913280"/>
            <a:ext cx="170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Y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do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way but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ries it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very point in the parse, the LR parser table tells us what to do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, reduce, error or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so, the LR parser keeps track of the parse “state” ==&gt; a state in a finite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560" y="6324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49920" y="6324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50280" y="63244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PLU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rror reco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of adjusting input stream so that the parser can continue after unexpected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ssible adjus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tok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tok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e tok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asses of reco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cal reco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djust input at the point where error was detected (and also possibly immediately af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lobal reco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djust input before point where error was detec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recovery is possible in both top-down and bottom-up 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6019920"/>
            <a:ext cx="77724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50640" y="63244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PLUS 3 ( 1 exp 2 PLU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781680" y="624852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835040" y="5591160"/>
            <a:ext cx="132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u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6400800"/>
            <a:ext cx="381240" cy="228600"/>
          </a:xfrm>
          <a:prstGeom prst="ellipse">
            <a:avLst/>
          </a:prstGeom>
          <a:solidFill>
            <a:srgbClr val="cc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very point in the parse, the LR parser table tells us what to do next according to the automaton state at the top of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, reduce, error or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33520" y="4286160"/>
          <a:ext cx="54864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y rule k is broken into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stack according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H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out state on top of stack (ie: got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33520" y="4286160"/>
          <a:ext cx="82296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y rule k is broken into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stack according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H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out state on top of stack (ie: got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4286160"/>
          <a:ext cx="82296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in the automaton represents a collection of LR(0)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from the grammar combined with “@” to indicate where the parser currently is in th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’ ::= @ S 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dicates that the parser is just beginning to parse this rule and it expects to be able to parse S then $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hole automaton state looks like th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49760" y="453564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548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606760" y="47642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92880" y="53341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181120" y="4992840"/>
            <a:ext cx="1311480" cy="18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71800" y="46116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46400" y="6361200"/>
            <a:ext cx="86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 states look very similar, it is just that the items contain some look-ahead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62920" y="51055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07160" y="52182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LR(0) automat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start rule &amp; compute initial state with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of the items from the state and move “@” to the right one symbol (as if you have just parsed the symb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reates a new item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and a new state when you compute the closure of the new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edge between the two states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erminal T, if you moved “@” ove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n-terminal X, if you moved “@” over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until there are no further ways to move “@” across items and generate new states or new edges in the automa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4680" y="2514600"/>
            <a:ext cx="54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strategy for both bottom-up and top-dow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a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ynchronizing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6840" y="2514600"/>
            <a:ext cx="732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strategy for both bottom-up and top-dow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a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ynchronizing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plished in bottom-up parsers by adding error rules to 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LPAR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2438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5483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362320" y="2590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2880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6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257800" y="2438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3483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92520" y="51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3548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354840" y="55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6788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740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39648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250320" y="1066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5483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127320" y="31896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ing numbers to st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362320" y="2590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2880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352680" y="3784680"/>
            <a:ext cx="38124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17880" y="38098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41200" y="89676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 contain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:= s @ 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$]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 contains rule k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:= s @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T] = 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ll terminals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i to j marked with T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T] =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i to j marked with X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X] = g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152280" y="3886200"/>
          <a:ext cx="8839080" cy="2469960"/>
        </p:xfrm>
        <a:graphic>
          <a:graphicData uri="http://schemas.openxmlformats.org/drawingml/2006/table">
            <a:tbl>
              <a:tblPr/>
              <a:tblGrid>
                <a:gridCol w="1951560"/>
                <a:gridCol w="3941280"/>
                <a:gridCol w="2946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5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0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6840" y="2514600"/>
            <a:ext cx="732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strategy for both bottom-up and top-dow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a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ynchronizing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plished in bottom-up parsers by adding error rules to 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LPAR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3080" y="4648320"/>
            <a:ext cx="767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follow error with a synchronizing token.  Recovery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p 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f necessary) until a state is reached in whic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for the error token is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rror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iscard 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mbols (if necessary) until a state is reached that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n-erro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su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rmal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7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6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7" name=""/>
          <p:cNvSpPr/>
          <p:nvPr/>
        </p:nvSpPr>
        <p:spPr>
          <a:xfrm>
            <a:off x="167832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905120" y="4648320"/>
            <a:ext cx="13716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 rot="16200000">
            <a:off x="2525040" y="3896640"/>
            <a:ext cx="131760" cy="1371600"/>
          </a:xfrm>
          <a:custGeom>
            <a:avLst/>
            <a:gdLst>
              <a:gd name="textAreaLeft" fmla="*/ 0 w 131760"/>
              <a:gd name="textAreaRight" fmla="*/ 47520 w 131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090880" y="4191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057400" y="4648320"/>
            <a:ext cx="121932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 rot="16200000">
            <a:off x="2600640" y="3972600"/>
            <a:ext cx="131760" cy="1219320"/>
          </a:xfrm>
          <a:custGeom>
            <a:avLst/>
            <a:gdLst>
              <a:gd name="textAreaLeft" fmla="*/ 0 w 131760"/>
              <a:gd name="textAreaRight" fmla="*/ 47520 w 13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090880" y="4191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677960" y="5181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677600" y="51814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x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956200" y="363600"/>
            <a:ext cx="15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677600" y="5181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677600" y="518148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S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677960" y="5181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677960" y="5181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7120" y="502920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4516560"/>
            <a:ext cx="320040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 rot="16200000">
            <a:off x="6639840" y="282960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32600" y="579132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@#$ is an unexpected tok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514600" y="4648320"/>
            <a:ext cx="76212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77240" y="51814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677240" y="51814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x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677240" y="5181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677240" y="518148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S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677960" y="5181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677960" y="5181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556160" y="51814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 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1523880" y="2819520"/>
          <a:ext cx="6324480" cy="1790640"/>
        </p:xfrm>
        <a:graphic>
          <a:graphicData uri="http://schemas.openxmlformats.org/drawingml/2006/table">
            <a:tbl>
              <a:tblPr/>
              <a:tblGrid>
                <a:gridCol w="1158840"/>
                <a:gridCol w="738000"/>
                <a:gridCol w="738360"/>
                <a:gridCol w="738000"/>
                <a:gridCol w="738360"/>
                <a:gridCol w="736560"/>
                <a:gridCol w="738000"/>
                <a:gridCol w="738360"/>
              </a:tblGrid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1" name=""/>
          <p:cNvGraphicFramePr/>
          <p:nvPr/>
        </p:nvGraphicFramePr>
        <p:xfrm>
          <a:off x="2209680" y="3200400"/>
          <a:ext cx="5333760" cy="1477800"/>
        </p:xfrm>
        <a:graphic>
          <a:graphicData uri="http://schemas.openxmlformats.org/drawingml/2006/table">
            <a:tbl>
              <a:tblPr/>
              <a:tblGrid>
                <a:gridCol w="977760"/>
                <a:gridCol w="622440"/>
                <a:gridCol w="622080"/>
                <a:gridCol w="622440"/>
                <a:gridCol w="622080"/>
                <a:gridCol w="622440"/>
                <a:gridCol w="622440"/>
                <a:gridCol w="62208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2" name=""/>
          <p:cNvGraphicFramePr/>
          <p:nvPr/>
        </p:nvGraphicFramePr>
        <p:xfrm>
          <a:off x="2209680" y="5181480"/>
          <a:ext cx="5333760" cy="1473120"/>
        </p:xfrm>
        <a:graphic>
          <a:graphicData uri="http://schemas.openxmlformats.org/drawingml/2006/table">
            <a:tbl>
              <a:tblPr/>
              <a:tblGrid>
                <a:gridCol w="976320"/>
                <a:gridCol w="3111480"/>
                <a:gridCol w="623880"/>
                <a:gridCol w="62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ok-a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3" name=""/>
          <p:cNvSpPr/>
          <p:nvPr/>
        </p:nvSpPr>
        <p:spPr>
          <a:xfrm>
            <a:off x="4800600" y="4800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988160" y="47386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e next automat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e row contains both shift and reduce, we will have a conflict ==&gt; the grammar is not LR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wise if the same row contains reduce by two differen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1828800" y="4724280"/>
          <a:ext cx="5333760" cy="1473120"/>
        </p:xfrm>
        <a:graphic>
          <a:graphicData uri="http://schemas.openxmlformats.org/drawingml/2006/table">
            <a:tbl>
              <a:tblPr/>
              <a:tblGrid>
                <a:gridCol w="976320"/>
                <a:gridCol w="3111480"/>
                <a:gridCol w="623880"/>
                <a:gridCol w="62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ok-a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hift, reduce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educe 2, reduce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67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R (simple LR) is a variant of LR(0) that reduces the number of conflicts in LR(0) tables by using a tiny bit of look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when to reduce, 1 symbol of look ahead is us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ut reduce by rule (X ::= RHS) in column T if T is in Follow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990720" y="4343400"/>
          <a:ext cx="6781680" cy="1477800"/>
        </p:xfrm>
        <a:graphic>
          <a:graphicData uri="http://schemas.openxmlformats.org/drawingml/2006/table">
            <a:tbl>
              <a:tblPr/>
              <a:tblGrid>
                <a:gridCol w="880920"/>
                <a:gridCol w="969840"/>
                <a:gridCol w="970200"/>
                <a:gridCol w="988920"/>
                <a:gridCol w="762120"/>
                <a:gridCol w="761760"/>
                <a:gridCol w="762120"/>
                <a:gridCol w="68580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1" name=""/>
          <p:cNvSpPr/>
          <p:nvPr/>
        </p:nvSpPr>
        <p:spPr>
          <a:xfrm>
            <a:off x="613080" y="624852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s down the number of rk slots &amp; therefore cuts down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1905120" y="5715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1828800" y="54097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6400" y="502920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4516560"/>
            <a:ext cx="320040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 rot="16200000">
            <a:off x="6639840" y="282960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7160" y="579132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p stack until shifting “error” can result in correct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1) &amp; LA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automata are identical to LR(0) except for the “items” that make up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0)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 s1 @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 s1 @ s2, 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  sequenc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 stack; input stream i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2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losure with respect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1 @ Y s2, 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dding all item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s3,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s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(s2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ates are different if they contain the same rules but the rules have different look-ahea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many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LR(1) = LR(1) where states that are identical aside from look-ahead symbols have been 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-Yacc &amp; most parser generators use LA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  Appel 3.3 (and also all of the rest of chapter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2590920" y="30481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67560" y="274320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-ahead symbol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0" y="1219320"/>
            <a:ext cx="632448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960" y="83808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mbiguous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248520" y="1219320"/>
            <a:ext cx="289548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251400" y="8380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2133720"/>
            <a:ext cx="5105520" cy="41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295280" y="2590920"/>
            <a:ext cx="39625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286000" y="3352680"/>
            <a:ext cx="243828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440800" y="39625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526040" y="3962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52280" y="1676520"/>
            <a:ext cx="6096240" cy="5181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200400" y="1905120"/>
            <a:ext cx="22860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12000" y="3976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520" y="3976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657600" y="380988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041000" y="1981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 parsing is more powerful than LL parsing, given the same look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struct an LR parser, it is necessary to compute an LR parse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R parser table represents a finite automaton that walks over the parser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Yacc uses LALR, a compact variant of LR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6760" y="5029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516560"/>
            <a:ext cx="320040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6200000">
            <a:off x="6639840" y="282960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2760" y="57913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“err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2:31:46Z</dcterms:created>
  <dc:creator>dpw</dc:creator>
  <dc:description/>
  <dc:language>en-US</dc:language>
  <cp:lastModifiedBy>dpw</cp:lastModifiedBy>
  <dcterms:modified xsi:type="dcterms:W3CDTF">2005-02-21T01:53:03Z</dcterms:modified>
  <cp:revision>10</cp:revision>
  <dc:subject/>
  <dc:title>Parsing &amp; Error Recovery</dc:title>
</cp:coreProperties>
</file>