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73CF-7BC7-4EAD-8FD7-B94D5E21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9286-CEEC-4312-A4FD-57D5D220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DAB2-088C-48A2-9D24-5B3E2DA8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26C0-0002-40D7-ABD8-41990744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1D84-7413-4175-9F65-0BE600D2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AB42-EDBA-44A4-944D-95817884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5FE3-E35D-4231-BF8F-6F45A147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55B5-DBC4-44B3-8058-1DD81C10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D55B-E164-465E-9EC1-0A8DC839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70D6-4981-47E9-A381-E9F334E3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244B-6F75-4654-959A-4FE3EEB4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EFD0-DE79-425D-B4D0-81EFC095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35AD-3479-4758-BB72-746E43BDF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YA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ribute-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-Yacc uses an attribute-grammar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nonterminal may have an associated semantic value associated wit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parser reduces the parsing stack using rule (X ::= s), a semantic action that uses the semantic values from s will be exec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arsing is completed successfully, the parser returns the value associated with the start 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ribute-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 actions typically build the abstract syntax for the internal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se semantic values during parsing, we must declare symbol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terminal NUM of int | PLUS | MUL |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nonterminal exp of int | fact of int | ba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semantic action must match type declared for LHS nonterminal in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Yacc with Semantic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39000" y="1295280"/>
            <a:ext cx="5040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term NUM of int | PLUS | MUL | LPAR | R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nonterm exp of int | fact of int | base of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pos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start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eop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fact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fact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ct + 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 : b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base MUL 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ase1 * base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: N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477120" y="41911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4114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96252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1480" y="3276720"/>
            <a:ext cx="165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rammar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man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600" y="1027080"/>
            <a:ext cx="1409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17524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5040" y="2932200"/>
            <a:ext cx="149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ger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ia seman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Yacc with Semantic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4760" y="1752480"/>
            <a:ext cx="4809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| Add of exp * exp | Mul of exp *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fact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fact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fact, exp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 : b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base MUL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base, exp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: N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562720" y="3468600"/>
            <a:ext cx="914400" cy="49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86760" y="2209680"/>
            <a:ext cx="171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ia seman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r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7280" y="1752480"/>
            <a:ext cx="4813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| Add of exp * exp | Mul of exp *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562720" y="3468600"/>
            <a:ext cx="914400" cy="49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04040" y="281952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hy don’t we just 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is simpler gramma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r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7280" y="1752480"/>
            <a:ext cx="4813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| Add of exp * exp | Mul of exp *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562720" y="3468600"/>
            <a:ext cx="914400" cy="49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3320" y="281952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is gramma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mbiguou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4400" y="57913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583092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7916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6476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89000" y="5692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73520" y="5754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55120" y="51451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21944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0104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00680" y="493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81920" y="493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58400" y="51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04320" y="5145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62800" y="54500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24720" y="552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3928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05600" y="491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9624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7420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2468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629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944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5504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97880" y="57834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64520" y="57546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6600" y="5235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40972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952520" y="5021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5021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48320" y="51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50120" y="5235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648320" y="5562720"/>
            <a:ext cx="133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552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91120" y="4662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500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8652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6448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496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5320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r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7280" y="1752480"/>
            <a:ext cx="4813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| Add of exp * exp | Mul of exp *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562360" y="35053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28080" y="1752480"/>
            <a:ext cx="2590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ut it is so c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at it would be n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o use.  Moreover, 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now which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ee we want.  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ust need a mech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o specify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4400" y="57913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58309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7916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6476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89000" y="5692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73520" y="5754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55120" y="51451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21944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0104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7600680" y="493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981920" y="493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58400" y="51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104320" y="5145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62800" y="54500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24720" y="552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73928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905600" y="491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9624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77420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92468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629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944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5504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97880" y="57834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64520" y="57546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06600" y="5235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40972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132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952520" y="5021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4120" y="5021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48320" y="51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50120" y="5235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648320" y="5562720"/>
            <a:ext cx="133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552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91120" y="4662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500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8652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6448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496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5320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376236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0760" y="44197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121840" y="537048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hould we do to get the right pa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3762360"/>
            <a:ext cx="133020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0760" y="44197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21840" y="5370480"/>
            <a:ext cx="44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hould we do to get the right pa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257800" y="3762360"/>
            <a:ext cx="7207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00760" y="441972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* NU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 rot="16200000">
            <a:off x="5576400" y="3290760"/>
            <a:ext cx="123840" cy="762120"/>
          </a:xfrm>
          <a:custGeom>
            <a:avLst/>
            <a:gdLst>
              <a:gd name="textAreaLeft" fmla="*/ 0 w 123840"/>
              <a:gd name="textAreaRight" fmla="*/ 44640 w 1238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327672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70160" y="529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118240" y="5370480"/>
            <a:ext cx="15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IFT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Lexing, CFGs, and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ar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parser generation via ML-Y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: Chapter 3 of Ap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57800" y="3762360"/>
            <a:ext cx="7207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441972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*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 rot="16200000">
            <a:off x="5576400" y="3290760"/>
            <a:ext cx="123840" cy="762120"/>
          </a:xfrm>
          <a:custGeom>
            <a:avLst/>
            <a:gdLst>
              <a:gd name="textAreaLeft" fmla="*/ 0 w 123840"/>
              <a:gd name="textAreaRight" fmla="*/ 44640 w 1238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327672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120400" y="53704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57800" y="3762360"/>
            <a:ext cx="7207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00760" y="441972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 rot="16200000">
            <a:off x="5576400" y="3290760"/>
            <a:ext cx="123840" cy="762120"/>
          </a:xfrm>
          <a:custGeom>
            <a:avLst/>
            <a:gdLst>
              <a:gd name="textAreaLeft" fmla="*/ 0 w 123840"/>
              <a:gd name="textAreaRight" fmla="*/ 44640 w 1238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0" y="327672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120400" y="53704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57800" y="3762360"/>
            <a:ext cx="7207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201480" y="441972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 rot="16200000">
            <a:off x="5576400" y="3290760"/>
            <a:ext cx="123840" cy="762120"/>
          </a:xfrm>
          <a:custGeom>
            <a:avLst/>
            <a:gdLst>
              <a:gd name="textAreaLeft" fmla="*/ 0 w 123840"/>
              <a:gd name="textAreaRight" fmla="*/ 44640 w 1238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0" y="327672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120400" y="53704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ternative p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0" y="3762360"/>
            <a:ext cx="14065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00760" y="441972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120760" y="5370480"/>
            <a:ext cx="33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ppose we REDUCE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164000" y="2554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ternative p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3762360"/>
            <a:ext cx="14065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201480" y="441972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20400" y="53704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164000" y="2554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ternative p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334120" y="3762360"/>
            <a:ext cx="64440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01480" y="44197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*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 rot="16200000">
            <a:off x="5576760" y="3366360"/>
            <a:ext cx="199800" cy="685800"/>
          </a:xfrm>
          <a:custGeom>
            <a:avLst/>
            <a:gdLst>
              <a:gd name="textAreaLeft" fmla="*/ 0 w 199800"/>
              <a:gd name="textAreaRight" fmla="*/ 72000 w 1998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98672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18960" y="5370480"/>
            <a:ext cx="32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w:  SHIFT SHIFT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164000" y="2554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894800" y="1944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153280" y="2249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079480" y="2492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545600" y="19447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ternative p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334120" y="3762360"/>
            <a:ext cx="64440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201840" y="4419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 rot="16200000">
            <a:off x="5614560" y="332892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8672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20400" y="53704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079480" y="2492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164000" y="2554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545600" y="19447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739116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77240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894800" y="1944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153280" y="2249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529760" y="1371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696080" y="1716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495680" y="376236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200760" y="44197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121840" y="5370480"/>
            <a:ext cx="45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E + E on stack, we see *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shift. W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LWA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nt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since * has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igher preced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n 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16200" y="1752480"/>
            <a:ext cx="292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6240" y="37339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- NUM -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495680" y="376236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201120" y="44197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-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118960" y="5370480"/>
            <a:ext cx="362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E - E on stack, we see -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we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164360" y="2554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916200" y="1752480"/>
            <a:ext cx="292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126240" y="37339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- NUM -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495680" y="376236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201840" y="4419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118960" y="5370480"/>
            <a:ext cx="362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E - E on stack, we see -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we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164360" y="2554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ont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exical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quence of tokens from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yntax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bstract syntax tree from sequence of to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pe Chec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heck program for well-formedness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057400"/>
            <a:ext cx="1143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2057400"/>
            <a:ext cx="1143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2000" y="167652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22800" y="16765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90040" y="16765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2057400"/>
            <a:ext cx="1143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916200" y="1752480"/>
            <a:ext cx="292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126240" y="37339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- NUM -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181480" y="3762360"/>
            <a:ext cx="7970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201120" y="44197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-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 rot="16200000">
            <a:off x="5538240" y="3252600"/>
            <a:ext cx="123840" cy="838440"/>
          </a:xfrm>
          <a:custGeom>
            <a:avLst/>
            <a:gdLst>
              <a:gd name="textAreaLeft" fmla="*/ 0 w 123840"/>
              <a:gd name="textAreaRight" fmla="*/ 44640 w 12384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98672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118960" y="537048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SHIFT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079480" y="2492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164360" y="2554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545240" y="1944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894800" y="1944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153280" y="2249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916200" y="1752480"/>
            <a:ext cx="292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6240" y="37339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- NUM -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495680" y="376236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201840" y="4419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120400" y="53704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8079480" y="2492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164360" y="2554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545240" y="1944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739116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77240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894800" y="1944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8153280" y="2249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529760" y="1371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696080" y="1716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: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916200" y="1752480"/>
            <a:ext cx="292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126240" y="37339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- NUM -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495680" y="376236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01840" y="4419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117880" y="5370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79480" y="2492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164360" y="2554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545240" y="1944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739116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77240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894800" y="1944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153280" y="2249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529760" y="1371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696080" y="1716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120400" y="5370480"/>
            <a:ext cx="44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E - E on stack, we see -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we do? REDUCE.  W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 to reduce since – is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ft-associa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olutions to dealing with operator precedence and associa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let Yacc complai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default choice is to shift when it encounters a shift-reduce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er intentions unclear; harder to debug other parts of your grammar; generally ineleg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rewrite the grammar to eliminate ambig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complicated and less 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use Yacc precedence dir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left, %right %nonass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directives, ML-Yacc assigns precedence to each terminal and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edence of terminal based on order in which associativity is spec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edence of rule is the precedence of the right-most 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: precedence of (E ::= E + E) ==&gt; prec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ift-reduced conflict is resolved as fol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(terminal) &gt; prec(rule) ==&gt; sh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(terminal) &lt; prec(rule) ==&gt; re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(terminal) = prec(rule) =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(terminal) = left ==&gt;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(terminal) = right ==&gt;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(terminal) = nonassoc ==&gt; report as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276000" y="634680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.....E %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272760" y="580536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T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648320" y="5834160"/>
            <a:ext cx="148248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 rot="16200000">
            <a:off x="5347800" y="4981320"/>
            <a:ext cx="123840" cy="152388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726080" y="53481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992880" y="5867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 terminal T 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916560" y="634680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HS of rule on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4920" y="1752480"/>
            <a:ext cx="845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| Add of exp * exp | Sub of exp * exp | Mul of exp * exp | Div of exp *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DIV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v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743920" y="374796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E PL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740320" y="32068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114800" y="323532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V="1" rot="16200000">
            <a:off x="4814280" y="2382840"/>
            <a:ext cx="123840" cy="152388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192920" y="27496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9360" y="3268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 terminal T 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83040" y="374796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HS of rule on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895480" y="99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edence dir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098760" y="316692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(MUL) &gt; prec(PL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743920" y="374796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 E PL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740320" y="32068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14800" y="323532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V="1" rot="16200000">
            <a:off x="4814280" y="2382840"/>
            <a:ext cx="123840" cy="152388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192920" y="27496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59360" y="3268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 terminal T 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83040" y="374796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HS of rule on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895480" y="99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edence dir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098760" y="316692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(MUL) &gt; prec(PL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185720" y="53704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743920" y="374796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E PL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739960" y="32068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SUB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23532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 rot="16200000">
            <a:off x="4814280" y="2382840"/>
            <a:ext cx="123840" cy="152388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192920" y="27496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59360" y="3268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 terminal T 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83040" y="374796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HS of rule on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895480" y="99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edence dir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098400" y="3166920"/>
            <a:ext cx="27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(PLUS) = prec(SU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743920" y="374796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E PL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739960" y="32068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SUB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114800" y="323532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 rot="16200000">
            <a:off x="4814280" y="2382840"/>
            <a:ext cx="123840" cy="152388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192920" y="27496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59360" y="3268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 terminal T 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83040" y="374796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HS of rule on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895480" y="99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edence dir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98400" y="3166920"/>
            <a:ext cx="27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(PLUS) = prec(SU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187520" y="53704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Pars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boring as writing a lexer, but not exactly a weekend in the Bah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Pars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general &amp; robust.  sometimes not quite as efficient as hand-written parsers.  Nevertheless,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mor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7800" y="1066680"/>
            <a:ext cx="481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Add of exp * exp | Sub of exp *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Mul of exp * exp | Div of exp *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Uminus of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MINUS exp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Uminus 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DIV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v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639760" y="27511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MIN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635800" y="22096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010280" y="223848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 rot="16200000">
            <a:off x="7710480" y="138564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088400" y="1752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5257800" y="990720"/>
            <a:ext cx="0" cy="586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702760" y="346536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mor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07800" y="1066680"/>
            <a:ext cx="481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Add of exp * exp | Sub of exp *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Mul of exp * exp | Div of exp *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Uminus of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MINUS exp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Uminus 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DIV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v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639760" y="27511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MIN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635800" y="22096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010280" y="223848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 rot="16200000">
            <a:off x="7710480" y="138564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088400" y="1752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257800" y="990720"/>
            <a:ext cx="0" cy="586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699160" y="3465360"/>
            <a:ext cx="334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ec(*) &gt; prec(-) ==&gt; we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55880" y="914400"/>
            <a:ext cx="5104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Add of exp * exp | Sub of exp *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Mul of exp * exp | Div of exp *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Uminus of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U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MINUS exp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%prec UMINUS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(Uminus 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DIV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v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639760" y="27511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MIN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635800" y="22096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010280" y="223848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 rot="16200000">
            <a:off x="7710480" y="138564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088400" y="1752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5257800" y="990720"/>
            <a:ext cx="0" cy="586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55880" y="914400"/>
            <a:ext cx="5104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Add of exp * exp | Sub of exp *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Mul of exp * exp | Div of exp *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Uminus of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U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MINUS exp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%prec UMINUS  (Uminus 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DIV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v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639400" y="275112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E MIN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635800" y="22096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010280" y="223848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V="1" rot="16200000">
            <a:off x="7710480" y="138564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088400" y="1752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5257800" y="990720"/>
            <a:ext cx="0" cy="586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704200" y="3465360"/>
            <a:ext cx="305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ing precedence of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s deci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ec(-) &gt; prec(*) =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e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angling else probl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::= if E then S els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::= if E then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::=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  if a then if b then S else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 1:  if a then (if b then S else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 2: if a then (if b then S) els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er reports shift-reduc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efault behavior: shift (what we w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angling else probl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::= if E then S else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::= if E then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::=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solution is to rewrite gramm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::=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::=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::= if E then M else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::=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::= if E then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::= if E then M else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ault behavior of ML-Yac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-Reduc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-Reduc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by first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considered un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ssignment 3, your job is to write a grammar for Fun such that there are no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use precedence directives tast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:  To enter ML-Yacc hell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a parser to catch type err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ing assignment 3, your job is to catch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arse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lots of programming errors that will slip by the pars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3 +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ing these sorts of errors is the job of the type che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as catching program structure errors was the job of the parser, not the 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mpting to do type checking in the parser is impossible (in gene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?  Hint: what does “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ontext-f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ammar” imp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Pars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boring as writing a lexer, but not exactly a weekend in the Bah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Pars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general &amp; robust.  sometimes not quite as efficient as hand-written parsers.  Nevertheless,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54864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9600" y="575928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Pars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boring as writing a lexer, but not exactly a weekend in the Bah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Pars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general &amp; robust.  sometimes not quite as efficient as hand-written parsers.  Nevertheless,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54864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9600" y="575928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85040" y="626256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rot="10800000">
            <a:off x="5713920" y="6140520"/>
            <a:ext cx="762120" cy="488880"/>
          </a:xfrm>
          <a:custGeom>
            <a:avLst/>
            <a:gdLst>
              <a:gd name="textAreaLeft" fmla="*/ -360 w 762120"/>
              <a:gd name="textAreaRight" fmla="*/ 762120 w 76212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10" stAng="10800000" swAng="5400000"/>
                <a:lnTo>
                  <a:pt x="16245" y="3550"/>
                </a:lnTo>
                <a:lnTo>
                  <a:pt x="16245" y="0"/>
                </a:lnTo>
                <a:lnTo>
                  <a:pt x="21600" y="6079"/>
                </a:lnTo>
                <a:lnTo>
                  <a:pt x="16245" y="12158"/>
                </a:lnTo>
                <a:lnTo>
                  <a:pt x="16245" y="8608"/>
                </a:lnTo>
                <a:lnTo>
                  <a:pt x="12427" y="8608"/>
                </a:lnTo>
                <a:arcTo wR="7369" hR="3552" stAng="16200000" swAng="-5400000"/>
                <a:lnTo>
                  <a:pt x="5058" y="216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78560" y="461628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rot="16200000">
            <a:off x="5786640" y="4727520"/>
            <a:ext cx="387360" cy="685800"/>
          </a:xfrm>
          <a:custGeom>
            <a:avLst/>
            <a:gdLst>
              <a:gd name="textAreaLeft" fmla="*/ 360 w 387360"/>
              <a:gd name="textAreaRight" fmla="*/ 388080 w 387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10" stAng="10800000" swAng="5400000"/>
                <a:lnTo>
                  <a:pt x="16245" y="3550"/>
                </a:lnTo>
                <a:lnTo>
                  <a:pt x="16245" y="0"/>
                </a:lnTo>
                <a:lnTo>
                  <a:pt x="21600" y="6079"/>
                </a:lnTo>
                <a:lnTo>
                  <a:pt x="16245" y="12158"/>
                </a:lnTo>
                <a:lnTo>
                  <a:pt x="16245" y="8608"/>
                </a:lnTo>
                <a:lnTo>
                  <a:pt x="12427" y="8608"/>
                </a:lnTo>
                <a:arcTo wR="7369" hR="3552" stAng="16200000" swAng="-5400000"/>
                <a:lnTo>
                  <a:pt x="5058" y="216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Yacc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39480" y="2525760"/>
            <a:ext cx="6760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Declarations:  declare values available in the rul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L-Yacc Definitions:  declare terminals and non-terminal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declarations to resolve confli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:  parser specified by CFG rule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ed semantic action that generate abstract synta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L-Yacc declarations (preliminari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ype of 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pos int *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erminal and nonterminal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term IF | THEN | ELSE | PLUS | MINU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nonterm prog | exp |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end-of-parse t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op E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start symbol (by default, non terminal in LHS of first r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start p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ML-Yacc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9000" y="1295280"/>
            <a:ext cx="4481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term NUM | PLUS | MUL | LPAR | R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nonterm exp | fact |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pos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start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eop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fact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fact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 : b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base MUL fa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: N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86400" y="3505320"/>
            <a:ext cx="1828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4114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3581280"/>
            <a:ext cx="12952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1480" y="32767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rammar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78560" y="2703600"/>
            <a:ext cx="132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man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o noth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3520" y="10270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17524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pw</cp:lastModifiedBy>
  <dcterms:modified xsi:type="dcterms:W3CDTF">2005-02-18T22:27:05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