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41F-CBD4-4399-A35C-72814682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5C0-D254-4BB5-AED0-04976925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6C7-9A7A-465E-94F3-E2053256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2651-C661-4937-97D8-ED84C918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4A1-E2CB-4AE2-97CB-19C2AC98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7572-DF97-44B7-B258-1D64C6FD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9EE-D0B0-4F7B-9230-A458363E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519-3254-411C-AF88-5AF722CC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8FF-C4B3-4F57-8FDA-D8C74F49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FCB-52BC-4598-ADC1-3C5102A3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F5D-6EE0-4B49-B191-81F823B1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5D34-CFB0-4D1C-8A1D-E467225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A3BF-5D82-472C-B230-4AE14E9A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an attribute-gramma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nterminal may have an associated semantic value associated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arser reduces the parsing stack using rule (X ::= s), a semantic action that uses the semantic values from s will be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rsing is completed successfully, the parser returns the value associated with the start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actions typically build the abstract syntax for the interna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se semantic values during parsing, we must declare symbol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terminal NUM of int | PLUS | MUL |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nonterminal exp of int | fact of int | ba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semantic action must match type declared for LHS nonterminal in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9000" y="1295280"/>
            <a:ext cx="50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of int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of int | fact of int | base of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 +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1 * bas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7712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9625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1480" y="3276720"/>
            <a:ext cx="16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600" y="1027080"/>
            <a:ext cx="140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5040" y="293220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ger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4760" y="1752480"/>
            <a:ext cx="4809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fact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base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86760" y="2209680"/>
            <a:ext cx="17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4040" y="28195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y don’t we just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simpler gramm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3320" y="281952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gramma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mbiguou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58309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62360" y="3505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8080" y="1752480"/>
            <a:ext cx="259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it is so 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at it would be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use.  Moreover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w which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ee we want. 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need a mech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specify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58309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21840" y="537048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3762360"/>
            <a:ext cx="13302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0760" y="44197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21840" y="537048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0760" y="44197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N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701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18240" y="53704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Lexing, CFGs, and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ar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parser generation via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3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44197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20760" y="53704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ppose we REDUCE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01480" y="4419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V="1" rot="16200000">
            <a:off x="5576760" y="3366360"/>
            <a:ext cx="199800" cy="685800"/>
          </a:xfrm>
          <a:custGeom>
            <a:avLst/>
            <a:gdLst>
              <a:gd name="textAreaLeft" fmla="*/ 0 w 199800"/>
              <a:gd name="textAreaRight" fmla="*/ 72000 w 1998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18960" y="537048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w:  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 rot="16200000">
            <a:off x="5614560" y="332892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21840" y="5370480"/>
            <a:ext cx="45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+ E on stack, we see 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shift.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ince * ha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gher prece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n 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118960" y="5370480"/>
            <a:ext cx="362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18960" y="5370480"/>
            <a:ext cx="36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181480" y="3762360"/>
            <a:ext cx="7970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 rot="16200000">
            <a:off x="5538240" y="3252600"/>
            <a:ext cx="123840" cy="838440"/>
          </a:xfrm>
          <a:custGeom>
            <a:avLst/>
            <a:gdLst>
              <a:gd name="textAreaLeft" fmla="*/ 0 w 123840"/>
              <a:gd name="textAreaRight" fmla="*/ 44640 w 1238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18960" y="537048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2040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1178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120400" y="537048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 REDUCE. 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reduce since – i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ft-associ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olutions to dealing with operator precedence and associa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let Yacc compl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default choice is to shift when it encounters a shift-reduc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 intentions unclear; harder to debug other parts of your grammar; generally ineleg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rewrite the grammar to eliminate 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licated and less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use Yacc precedence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left, %right %nonass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directives, ML-Yacc assigns precedence to each terminal and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terminal based on order in which associativity is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rule is the precedence of the right-most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precedence of (E ::= E + E) ==&gt; prec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-reduced conflict is resolved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gt; prec(rule) ==&gt;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lt; prec(rule) ==&gt;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= prec(rule) =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left ==&gt;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right ==&gt;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nonassoc ==&gt; report as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000" y="63468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.....E %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272760" y="58053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48320" y="5834160"/>
            <a:ext cx="148248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 rot="16200000">
            <a:off x="5347800" y="498132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726080" y="53481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92880" y="5867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6560" y="63468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4920" y="1752480"/>
            <a:ext cx="84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Sub of exp * exp | Mul of exp * exp | Div of exp *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43920" y="374796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 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85720" y="53704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8752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702760" y="34653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699160" y="3465360"/>
            <a:ext cx="33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*) &gt; prec(-) ==&gt; we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%prec UMINUS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%prec UMINUS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639400" y="275112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704200" y="3465360"/>
            <a:ext cx="305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ing precedence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s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-) &gt; prec(*) =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if E the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if a then if b then S else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1:  if a then (if b then S el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2: if a then (if b then S)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reports 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fault behavior: shift (what we w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olution is to rewrite 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::= if E then M els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::=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::=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::= if E then M else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behavior of ML-Yac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by first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considered un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ssignment 3, your job is to write a grammar for Fun such that there are no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precedence directives tast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:  To enter ML-Yacc hell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parser to catch type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ing assignment 3, your job is to catc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ars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ots of programming errors that will slip by the par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3 +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ing these sorts of errors is the job of the type ch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catching program structure errors was the job of the parser, not the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ing to do type checking in the parser is impossible (in gen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 Hint: what does “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ntext-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mmar” imp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62625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0800000">
            <a:off x="5713920" y="6140520"/>
            <a:ext cx="762120" cy="48888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8560" y="46162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6200000">
            <a:off x="5786640" y="4727520"/>
            <a:ext cx="387360" cy="685800"/>
          </a:xfrm>
          <a:custGeom>
            <a:avLst/>
            <a:gdLst>
              <a:gd name="textAreaLeft" fmla="*/ 360 w 387360"/>
              <a:gd name="textAreaRight" fmla="*/ 388080 w 387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39480" y="2525760"/>
            <a:ext cx="6760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:  declare values available in the rul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Yacc Definitions:  declare terminals and non-terminal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declarations to resolve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:  parser specified by CFG rul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semantic action that generate abstract syn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-Yacc declarations (preliminari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ype of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pos int *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erminal and nonterminal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term IF | THEN | ELSE | PLUS | MINU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nonterm prog | exp |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end-of-parse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start symbol (by default, non terminal in LHS of first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start 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L-Yacc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9000" y="1295280"/>
            <a:ext cx="448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| fact |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f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86400" y="3505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35812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480" y="3276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8560" y="2703600"/>
            <a:ext cx="13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 not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3520" y="10270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5-02-18T22:27:0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