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013-3EFD-4CBA-AD77-7AEC1B42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35B-D4DE-4289-A578-BBE1724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508-83E5-40A9-9FFD-4E87ECB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DB6-464C-43EF-8A4F-3D889A9F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3CB-1F29-457A-A485-561D8AE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6D9-1CDB-4C92-B8F8-85928775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503-A81E-4D9E-B6C1-B0B6729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DA3-A842-4ACC-92D4-8437FF6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0B2-C04C-4E38-A0EC-67BB3670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391-F53B-47CB-BCA0-1367A6C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9B8-33E5-4DB0-871D-9558722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C13-51AC-4E0F-A624-4E15D83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454-B114-4D8F-9E47-D75D5A76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a 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Reduce errors: can’t decide whether to 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-Reduce errors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105520" y="21333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17520" y="2017800"/>
            <a:ext cx="21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n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s can’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d by 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5T20:30:5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