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102-8493-4E4A-8B5A-997D9FBB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261-DE9D-48DA-AA17-0AFBC165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E4AD-BBC5-4A99-B79E-3861CCFD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9074-97EF-470B-8EAF-31758DE3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EAA-FFA5-4A57-AF63-3406EE28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4E5-AF15-494F-A209-7ECB8C82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B31-798F-4233-B417-A77A94BF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8BD-E558-411D-BA77-EB0B03B6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F8B-94F9-441A-9BE2-027894A6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1D8-DB3C-40D1-84BC-03118FF4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40C-00C9-45C2-AD88-6A9F66F8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638-0D33-49B5-B0C3-731DBCAC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F3B6-8753-49D3-8217-C50D00813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531440" y="6284880"/>
            <a:ext cx="72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we realize we have reached a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73644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856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7840" y="6284880"/>
            <a:ext cx="65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no more changes ==&gt;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5397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477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7340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4480" y="5987880"/>
            <a:ext cx="83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fixed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notice, computing Follow(X) before Follow (Y) would have required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 free grammars (Appel 3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s, non-terminal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ations &amp; parse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descent parsers (Appel 3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LL(k)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write as M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for automatic construction from a CF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0080" y="3733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9360" y="3733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  --&gt; syntax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7880" y="72216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80880" y="4648320"/>
          <a:ext cx="8382240" cy="2124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7160"/>
                <a:gridCol w="1396800"/>
                <a:gridCol w="13971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redictive parsing table constructed this way contains no duplicate entries, the grammar is called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to-right parse, Left-most derivation, 1 symbol look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of the grammar is not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L(k) parsing table, columns include every k-length sequence of termin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981080" y="5565600"/>
          <a:ext cx="5333760" cy="9558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ere i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ft-fac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37560" y="556272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73800" y="58356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91600" y="5835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38840" y="583560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74280" y="3809880"/>
            <a:ext cx="689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     =&gt;   eat IF; E (); eat THEN; S (); eat ELSE; S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EGIN =&gt;   eat BEGIN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92680" y="22096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1200" y="22096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D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r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D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r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...such as using a bottom-up pars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(Shift-Reduce)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bottom-up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LR(k) Left-to-right parse, Rightmost derivation, k-token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owerful than LL(k) par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R vari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s for parsers for most modern programming langu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in tools such as ML-Yac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95480" y="4143240"/>
            <a:ext cx="2778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482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6200000">
            <a:off x="4243320" y="2643120"/>
            <a:ext cx="123840" cy="2819520"/>
          </a:xfrm>
          <a:custGeom>
            <a:avLst/>
            <a:gdLst>
              <a:gd name="textAreaLeft" fmla="*/ 0 w 123840"/>
              <a:gd name="textAreaRight" fmla="*/ 44640 w 123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4143240"/>
            <a:ext cx="26254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20960" y="4829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 rot="16200000">
            <a:off x="4319640" y="2719440"/>
            <a:ext cx="123840" cy="2666880"/>
          </a:xfrm>
          <a:custGeom>
            <a:avLst/>
            <a:gdLst>
              <a:gd name="textAreaLeft" fmla="*/ 0 w 123840"/>
              <a:gd name="textAreaRight" fmla="*/ 44640 w 12384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4143240"/>
            <a:ext cx="23968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21320" y="48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 rot="16200000">
            <a:off x="4433400" y="2833560"/>
            <a:ext cx="123840" cy="2438280"/>
          </a:xfrm>
          <a:custGeom>
            <a:avLst/>
            <a:gdLst>
              <a:gd name="textAreaLeft" fmla="*/ 0 w 123840"/>
              <a:gd name="textAreaRight" fmla="*/ 44640 w 1238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4143240"/>
            <a:ext cx="21682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20240" y="48290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 rot="16200000">
            <a:off x="4548240" y="2948040"/>
            <a:ext cx="123840" cy="2209680"/>
          </a:xfrm>
          <a:custGeom>
            <a:avLst/>
            <a:gdLst>
              <a:gd name="textAreaLeft" fmla="*/ 0 w 123840"/>
              <a:gd name="textAreaRight" fmla="*/ 44640 w 1238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20600" y="48290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ly rule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::=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 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generated by str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es to the empty string (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symbol in any string tha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20600" y="48290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080480" y="43038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20600" y="48290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083000" y="43038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114800" y="4143240"/>
            <a:ext cx="15588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20240" y="48290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 rot="16200000">
            <a:off x="4852440" y="3252600"/>
            <a:ext cx="123840" cy="1600200"/>
          </a:xfrm>
          <a:custGeom>
            <a:avLst/>
            <a:gdLst>
              <a:gd name="textAreaLeft" fmla="*/ 0 w 123840"/>
              <a:gd name="textAreaRight" fmla="*/ 44640 w 1238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820240" y="48290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id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1200" y="4303800"/>
            <a:ext cx="8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20240" y="4829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80480" y="4303800"/>
            <a:ext cx="16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20600" y="48290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080120" y="430380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181480" y="4143240"/>
            <a:ext cx="492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20600" y="4829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081200" y="430380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4143240"/>
            <a:ext cx="492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083000" y="4303800"/>
            <a:ext cx="11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79760" y="4303800"/>
            <a:ext cx="14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96520" y="5904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ccessful parse!  Is this grammar LL(1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if the following constraints are satisfied (computed using iterative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X is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ABC...) and A, B, C, ... are all Nullable then X is Nullabl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 keeps track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in current input (what input to read n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ck of terminal &amp; non-terminal symbols representing the “parse so f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next input symbol &amp; stack, parser table in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: push next input on to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(we shift EOF &amp; can reduce what remains on stack to start symb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 (a detai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ser summarizes the current “parse state” using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ger is actually a state in a finite automa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parse state can be computed by running the automaton over the current pars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vised algorith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ased on next input symbol &amp; the parse state (as opposed to the entire stack), parser table in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hift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next input on to top of stack and move automaton into stat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duce R &amp; goto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automaton into stat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880" y="5334120"/>
            <a:ext cx="91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LL parsing, shift-reduce parsing does not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at sort of grammar rules make shift-reduce parsing im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2000" y="1905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00" y="533412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LL parsing, shift-reduce parsing does not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-Reduce errors: can’t decide whether to Shift or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-Reduce errors: can’t decide whether to Reduce by R1 or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2000" y="1905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19520" y="482904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58128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84320" y="19051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id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580920" y="19051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39320" y="40813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; 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20240" y="48290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 ;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4114800"/>
            <a:ext cx="12952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133360" y="1905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E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E ;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734800" y="40528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; id ; 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72200" y="4086360"/>
            <a:ext cx="129528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6400800" y="45720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540120" y="56754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ight be th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shif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5105520" y="213336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617520" y="2017800"/>
            <a:ext cx="216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unamb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s can’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d by 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s 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839320" y="408132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e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20760" y="194940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19880" y="48290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 E )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2900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 S ::= ( E ) 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 E ::= ( E 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77800" y="194940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to understand and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de it yourself using nullable, first, follow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for quick &amp; dirty parsing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-up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: uses stack &amp;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: tools do the work for you ==&gt; ML-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need to understand how shift-reduce &amp; reduce-reduce errors can a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is a non-terminal and (X:= ABC...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= First (X) U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First (B), if A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First (C), if A is Nullable &amp; B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ollow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llow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we assume nothing in particular follow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llow (X) is initially { 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irst (s2) U Follow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ollow(Y) U Follow (X),  if s2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968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5-02-15T20:30:5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