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472B-759D-4642-B02B-B5BCE1D6D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159D-FAEA-42F8-81AC-8F3FA7D2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DC3C-771D-4DDC-B70C-CC8AD720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CCAA-3523-491A-BC03-561D2447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A791-C4D8-41AA-A16F-1D8A8A7F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7B2B-A9EE-4AF0-BC9D-8D8AF1E7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73A3-830D-480F-9409-0E29D3EF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48BA-8C22-4A4B-9979-B703CC4E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2385-7606-4DA0-A38D-68C45FEF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2B06-3E01-4603-BFE7-542D7161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4AA8-6B18-458F-864C-F356A2B2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6691-47C0-4E82-AA96-2C73C920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A0E5-4A5C-42A8-B261-F2AF2F34A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 32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209680" y="43434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21480" y="449568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p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’t m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:= E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lis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560" y="350532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lis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41400" y="4038480"/>
            <a:ext cx="170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way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15160" y="3505320"/>
            <a:ext cx="293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PRINT ( Elis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PRINT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10280" y="3429000"/>
            <a:ext cx="228600" cy="2057400"/>
          </a:xfrm>
          <a:custGeom>
            <a:avLst/>
            <a:gdLst>
              <a:gd name="textAreaLeft" fmla="*/ 0 w 228600"/>
              <a:gd name="textAreaRight" fmla="*/ 8244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523880" y="56386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6400" y="617220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-most 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5257440" y="5562360"/>
            <a:ext cx="260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30960" y="617220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most 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e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ing derivations as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in compilers:  Parse trees correspond quite closely (but not exactly) with abstract syntax trees we’re trying to 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: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bstra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ntax vs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ncre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arse)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internal node is labeled with a non-term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leaf note is labeled with a term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use of a rule in a derivation explains how to generate children in the parse tree from the par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e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05720" y="2590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6580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0100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03680" y="4357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03880" y="4343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65080" y="434340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51960" y="5181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76080" y="59580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60040" y="5119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91720" y="4343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580240" y="43434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34160" y="43434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23200" y="43578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60720" y="3352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768560" y="289548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911560" y="297180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40520" y="28954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006800" y="36576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16280" y="3733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44880" y="35812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5472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978240" y="37339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359480" y="373392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435800" y="365760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88080" y="365760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19792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197920" y="548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5280" y="236232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lis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e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2 derivations, but 1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805720" y="2590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6580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0100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03680" y="4357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03880" y="4343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65080" y="434340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51960" y="5181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876080" y="59580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060040" y="5119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091720" y="4343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580240" y="43434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34160" y="43434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23200" y="43578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60720" y="3352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768560" y="289548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911560" y="297180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40520" y="28954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006800" y="36576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16280" y="3733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44880" y="35812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5472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6978240" y="37339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359480" y="373392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435800" y="365760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588080" y="365760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19792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197920" y="548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5280" y="236232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lis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5280" y="4572000"/>
            <a:ext cx="293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PRINT ( Elis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PRINT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e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se trees have mea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of children, nesting of subtrees is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45040" y="3381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05120" y="4143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78200" y="3990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3000" y="4767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14600" y="4753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04400" y="475308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43600" y="5438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04080" y="59580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88040" y="5286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19720" y="4676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08240" y="467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62160" y="467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24080" y="46911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47760" y="41432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307880" y="368604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298600" y="376236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603520" y="36860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22440" y="444816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55600" y="4524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84200" y="437184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65440" y="513396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831760" y="437184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137040" y="4371840"/>
            <a:ext cx="759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13000" y="4295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65640" y="42958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25920" y="5057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25920" y="5653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28120" y="3305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850520" y="4052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88200" y="3962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088400" y="4676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460000" y="4662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849800" y="466236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89000" y="53481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806080" y="59580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89680" y="5286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21720" y="4676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10240" y="467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564160" y="467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26080" y="46911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630840" y="4067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5790960" y="361008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6781680" y="3686040"/>
            <a:ext cx="1526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86600" y="3610080"/>
            <a:ext cx="762120" cy="42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7467120" y="435780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001000" y="4433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229600" y="428148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610480" y="50436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5333760" y="437184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638680" y="4371840"/>
            <a:ext cx="76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15000" y="4295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42958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27920" y="5057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27920" y="5653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ront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xical 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quence of tokens from characters (Chap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yntax 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bstract syntax tree from sequence of tokens (Chap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ype Check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heck program for well-formedness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2057400"/>
            <a:ext cx="11430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2286000"/>
            <a:ext cx="1371600" cy="228600"/>
          </a:xfrm>
          <a:prstGeom prst="rightArrow">
            <a:avLst>
              <a:gd name="adj1" fmla="val 50000"/>
              <a:gd name="adj2" fmla="val 1055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2057400"/>
            <a:ext cx="11430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2286000"/>
            <a:ext cx="1371600" cy="228600"/>
          </a:xfrm>
          <a:prstGeom prst="rightArrow">
            <a:avLst>
              <a:gd name="adj1" fmla="val 50000"/>
              <a:gd name="adj2" fmla="val 1055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2000" y="167652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22800" y="167652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2286000"/>
            <a:ext cx="1371600" cy="228600"/>
          </a:xfrm>
          <a:prstGeom prst="rightArrow">
            <a:avLst>
              <a:gd name="adj1" fmla="val 50000"/>
              <a:gd name="adj2" fmla="val 1055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90040" y="16765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91520" y="2057400"/>
            <a:ext cx="11430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ammar is ambiguous if the same sequence of tokens can give rise to two or more parse 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6760" y="2057400"/>
            <a:ext cx="1625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rmin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 *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71800" y="1295280"/>
            <a:ext cx="58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s:  4 + 5 *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:        NUM(4)   PLUS   NUM(5)   MULT   NUM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8020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040280" y="2743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675480" y="2743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42560" y="35053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469280" y="320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07520" y="34290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875560" y="320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0" y="2743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4343040" y="22860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486400" y="23623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715000" y="22860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19112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617220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012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165440" y="38862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571360" y="39006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2604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102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762120" y="5791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16720" y="6208560"/>
            <a:ext cx="32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 like using this notation 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 avoid repeating E ::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6760" y="2057400"/>
            <a:ext cx="1625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rmin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 *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971800" y="1295280"/>
            <a:ext cx="58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s:  4 + 5 *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:        NUM(4)   PLUS   NUM(5)   MULT   NUM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8020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040280" y="2743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675480" y="2743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742560" y="35053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469280" y="320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707520" y="34290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875560" y="320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0" y="2743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343040" y="22860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5486400" y="23623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715000" y="22860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19112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617220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62012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165440" y="38862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571360" y="39006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02604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0102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532480" y="4419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77360" y="5195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307040" y="5181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479640" y="5958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NUM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100840" y="5638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338000" y="5867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507120" y="5638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88200" y="518148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95680" y="472428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5638680" y="48006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867280" y="4724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927840" y="55767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3803760" y="54864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48956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251320" y="6019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796640" y="63244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NUM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02920" y="63388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NUM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657600" y="6019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641840" y="54864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compilers use parse trees to interpret the meaning of parsed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arse trees have different mea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:  (4 + 5) * 6  is not 4 + (5 *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s with ambiguous grammars are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ISASTR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 The meaning of programs isn’t well-defined!  You can’t tell what your program might d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rewrite grammar to eliminate ambig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d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ece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ules into grammar to disambig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d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ssocia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ules into grammar to disambig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tricks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ory classes, you might have learned about general mechanisms for parsing all CF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s for parsing all CFGs are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ile 1/10/100 million-line applications, compilers must be fas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for 10 thousand-line apps, speed is 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1/3 of compilation time is spent in par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r writers have developed specialized algorithms for parsing the kinds of CFGs that you need to build effective programming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L(k), LR(k) grammars can be par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ursive Descent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rsive Descent Parsing (Appel Chap 3.2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a: predictive parsing; top-down 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, 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coded by hand in ML quick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es many, but not all CF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es LL(1) gramm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ft-to-right parse; Leftmost-derivation; 1 symbol looka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recursive function for each non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duction becomes one clause in th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554480" y="106524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   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    | PRINT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136840" y="1065240"/>
            <a:ext cx="24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 | ;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7320" y="228600"/>
            <a:ext cx="70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n-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E,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, IF, THEN, ELSE, BEGIN, END, PRINT, ;,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554480" y="106524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   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    | PRINT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136840" y="1065240"/>
            <a:ext cx="24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 | ;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7320" y="228600"/>
            <a:ext cx="70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n-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E,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, IF, THEN, ELSE, BEGIN, END, PRINT, ;,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07680" y="2706840"/>
            <a:ext cx="60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token = NUM | IF | THEN | ELSE | BEGIN |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| SEMI | 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5640" y="2133720"/>
            <a:ext cx="31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tep 1: Represent the 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6760" y="3697200"/>
            <a:ext cx="66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tep 2: build infrastructure for reading tokens from lexing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92280" y="4343400"/>
            <a:ext cx="5250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tok = ref (getToken 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advance () = tok := getToken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at t = if (! tok = t) then advance () else error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554480" y="106524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   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    | PRINT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136840" y="1065240"/>
            <a:ext cx="24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 | ;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07320" y="228600"/>
            <a:ext cx="70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n-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E,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, IF, THEN, ELSE, BEGIN, END, PRINT, ;,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7680" y="2706840"/>
            <a:ext cx="60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token = NUM | IF | THEN | ELSE | BEGIN |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| SEMI | 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5640" y="2133720"/>
            <a:ext cx="31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tep 1: Represent the 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6760" y="3697200"/>
            <a:ext cx="66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tep 2: build infrastructure for reading tokens from lexing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92280" y="4343400"/>
            <a:ext cx="5250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tok = ref (getToken 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advance () = tok := getToken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at t = if (! tok = t) then advance () else error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554480" y="106524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   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    | PRINT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136840" y="1065240"/>
            <a:ext cx="24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 | ;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7320" y="228600"/>
            <a:ext cx="70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n-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E,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, IF, THEN, ELSE, BEGIN, END, PRINT, ;,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574280" y="3809880"/>
            <a:ext cx="68907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S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        =&gt;   eat IF; E (); eat THEN; S (); eat ELSE; S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BEGIN =&gt;   eat BEGIN; S (); L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=&gt;   eat PRINT; E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   =&gt;   eat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SEMI    =&gt;   eat SEMI; S (); L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 () = eat NUM; eat EQ; eat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18880" y="3400560"/>
            <a:ext cx="75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tep 3: write parser =&gt; one function per non-terminal; one clause per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92680" y="2209680"/>
            <a:ext cx="525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tok = ref (getToken 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advance () = tok := getToken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at t = if (! tok = t) then advance () else error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51200" y="2209680"/>
            <a:ext cx="339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token = NUM |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THEN | ELSE | BEGIN |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| SEMI | 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ing with CF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xt-free grammars are (often) given by BNF expressions (Backus-Naur F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l Chap 3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powerful than regular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ing par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sted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, we could do nested comments with ML-LEX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FGs are good for describing the overall syntactic structure of pro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554120" y="762120"/>
            <a:ext cx="229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   |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    | PRINT ( L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793400" y="762120"/>
            <a:ext cx="227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 |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L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      | L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9840" y="228600"/>
            <a:ext cx="297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n-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 S, E,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913320" y="2819520"/>
            <a:ext cx="6976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A () = S (); eat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S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        =&gt;   eat ID; eat ASSIGN; E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=&gt;   eat PRINT; eat LPAREN; L (); eat R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        =&gt;   eat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NUM    =&gt;   eat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        =&gt;  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NUM    =&gt;  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ive parsing only works for grammars where the first terminal symbol of each self-expression provides enough information to choose which production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!tok = ID, the parser cannot determine which production to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07600" y="5943600"/>
            <a:ext cx="544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L ::= E                (E could be 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      | L , E          (L could be E could be 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liminate left-recu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the grammar so it parses the same language but the rules are differ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68800" y="5607000"/>
            <a:ext cx="190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L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L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219280" y="5334120"/>
            <a:ext cx="198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L ::= E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M ::= , E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14400" y="373392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562720" y="342900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505320" y="4724280"/>
            <a:ext cx="1218960" cy="5335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iminating left-recursion in gene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grammar fo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ed gramm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384920" y="2558880"/>
            <a:ext cx="15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X 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386360" y="4191120"/>
            <a:ext cx="242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ase X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new ::= repeat X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new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244120" y="2703600"/>
            <a:ext cx="32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s:  base repeat repeat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83640" y="4724280"/>
            <a:ext cx="32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s:  base repeat repeat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ursive Descent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fortunately, left factoring doesn’t always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know when we can parse grammars using recursive desc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an algorithm for generating such parsers automatical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RD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struct an RD parser, we need to know what rule to apply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a non terminal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ee the next terminal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apply rule  X ::= s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is the first symbol that can be generated by string s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reduces to the empty string (is nullable) and a is the first symbol in any string that can follow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RD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struct an RD parser, we need to know what rule to apply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a non terminal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ee the next terminal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pply rule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X ::=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irst symb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can be generated by string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duces to the empty string (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s null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first symbol in any string that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n fol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Predictive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86000" y="1684440"/>
            <a:ext cx="11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Y :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| 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097520" y="172080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X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      |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54680" y="168444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2895480" y="3809880"/>
          <a:ext cx="3733920" cy="220968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  <a:gridCol w="124488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"/>
          <p:cNvSpPr/>
          <p:nvPr/>
        </p:nvSpPr>
        <p:spPr>
          <a:xfrm>
            <a:off x="2822760" y="3016080"/>
            <a:ext cx="14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269960" y="2979720"/>
            <a:ext cx="9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04920" y="29797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Predictive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286000" y="1684440"/>
            <a:ext cx="11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Y :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| 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097520" y="172080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X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      |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854680" y="168444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2895480" y="3809880"/>
          <a:ext cx="3733920" cy="220968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  <a:gridCol w="124488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4" name=""/>
          <p:cNvSpPr/>
          <p:nvPr/>
        </p:nvSpPr>
        <p:spPr>
          <a:xfrm>
            <a:off x="2822760" y="3016080"/>
            <a:ext cx="14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269960" y="2979720"/>
            <a:ext cx="9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704920" y="29797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Predictive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1684440"/>
            <a:ext cx="11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Y :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| 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097520" y="172080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X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      |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854680" y="168444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2895480" y="3809880"/>
          <a:ext cx="3733920" cy="220968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  <a:gridCol w="124488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2" name=""/>
          <p:cNvSpPr/>
          <p:nvPr/>
        </p:nvSpPr>
        <p:spPr>
          <a:xfrm>
            <a:off x="2822760" y="3016080"/>
            <a:ext cx="14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269960" y="2979720"/>
            <a:ext cx="9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704920" y="29797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xt-Free 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xt-free grammars consist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symb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ermin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denotes token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non-termin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denotes a set of st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sym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ft-hand side: non-ter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-hand side: terminals and/or non-ter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explain how to rewrite non-terminals (beginning with start symbol) into ter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30880" y="4281480"/>
            <a:ext cx="38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 ::= symbol symbol ...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Predictive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286000" y="1684440"/>
            <a:ext cx="11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Y :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| 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097520" y="172080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X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      |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854680" y="168444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2895480" y="3809880"/>
          <a:ext cx="3733920" cy="220968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  <a:gridCol w="124488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"/>
          <p:cNvSpPr/>
          <p:nvPr/>
        </p:nvSpPr>
        <p:spPr>
          <a:xfrm>
            <a:off x="2822760" y="3016080"/>
            <a:ext cx="14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269960" y="2979720"/>
            <a:ext cx="9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704920" y="29797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icting Predictive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, must compu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production X ::= s, must determine if s can derive the empty st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es,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ul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production X := s, must determine the set of all first terminals Q derivable from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rst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non terminal X, determine all terminals symbols Q that immediately follow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v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compilers algorithms are iterative techniq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tive analysis applies 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compute a set of objects with some property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 is defined inductiv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ie, there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ase c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bjects o1, o2 “obviously” have property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ductive c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if certain objects (o3, o4) have property P, this implies other objects (f o3; f o4) have property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objects in the set i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n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we can represent infinite collections using some finite notation &amp; we can find effective termination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v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set S with ba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inductive rules over and over until you reach 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ixed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ixed point is a set that does not change when you apply an inductive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llable, First and Follow sets can be determined through it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rogram optimizations use it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t-case complexity is 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-case complexity is good:  iteration “usually” terminates in a couple of 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ing Nullable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terminal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X is Null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ly if the following constraints are satisfied (computed using iterative analy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X :=  )  then X is Nul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tiv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X := ABC...) and A, B, C, ... are all Nullable then X is Nullable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ing First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irst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omputed itera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 is a terminal symbol then First (T) = {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tiv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X is a non-terminal and (X:= ABC...)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(X) = First (X) U First (ABC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First(ABC...) = F1 U F2 U F3 U ...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1 = First 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2 = First (B), if A is Nul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3 = First (C), if A is Nullable &amp; B is Nul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ing Follow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ollow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omputed itera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ly, we assume nothing in particular follow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ollow (X) is initially { }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tiv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Y := s1 X s2) for any strings s1, s2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(X) = First (s2) U Follow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Y := s1 X s2) for any strings s1, s2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(X) = Follow(Y) U Follow (X),  if s2 is Nul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5" name=""/>
          <p:cNvSpPr/>
          <p:nvPr/>
        </p:nvSpPr>
        <p:spPr>
          <a:xfrm>
            <a:off x="1968120" y="62848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304812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"/>
          <p:cNvSpPr/>
          <p:nvPr/>
        </p:nvSpPr>
        <p:spPr>
          <a:xfrm>
            <a:off x="1531440" y="6284880"/>
            <a:ext cx="72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ne round of induction, we realize we have reached a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304812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xt-Free 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ing is in the language of the CFG if only if it is possible to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r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string using the following non-deterministic proced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with the start 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any non-terminals exist, pick a non-terminal and rewrite it using a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when all you have left are terminals (and check you arrived at the string your were hoping 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ocess of checking that a string is in the CFG for your programming language.  It is usually coupled with creating an abstract syntax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9" name=""/>
          <p:cNvSpPr/>
          <p:nvPr/>
        </p:nvSpPr>
        <p:spPr>
          <a:xfrm>
            <a:off x="3736440" y="62848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4816440" y="5867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"/>
          <p:cNvSpPr/>
          <p:nvPr/>
        </p:nvSpPr>
        <p:spPr>
          <a:xfrm flipV="1">
            <a:off x="4816440" y="5867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528560" y="6284880"/>
            <a:ext cx="44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ne round of induction, no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3" name=""/>
          <p:cNvSpPr/>
          <p:nvPr/>
        </p:nvSpPr>
        <p:spPr>
          <a:xfrm flipV="1">
            <a:off x="4816440" y="5867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527840" y="6284880"/>
            <a:ext cx="65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wo rounds of induction, no more changes ==&gt;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0" name=""/>
          <p:cNvSpPr/>
          <p:nvPr/>
        </p:nvSpPr>
        <p:spPr>
          <a:xfrm>
            <a:off x="5397120" y="62848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647712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1447920" y="3048120"/>
          <a:ext cx="640080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7" name=""/>
          <p:cNvSpPr/>
          <p:nvPr/>
        </p:nvSpPr>
        <p:spPr>
          <a:xfrm flipV="1">
            <a:off x="646128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173400" y="6284880"/>
            <a:ext cx="44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ne round of induction, no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1447920" y="3048120"/>
          <a:ext cx="640080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4" name=""/>
          <p:cNvSpPr/>
          <p:nvPr/>
        </p:nvSpPr>
        <p:spPr>
          <a:xfrm flipV="1">
            <a:off x="646128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74480" y="5987880"/>
            <a:ext cx="83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wo rounds of induction, fixed po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ut notice, computing Follow(X) before Follow (Y) would have required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u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0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4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1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2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6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3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7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7080" y="1447920"/>
            <a:ext cx="224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48840" y="1430280"/>
            <a:ext cx="1843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99280" y="14158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4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8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5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9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6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60080" y="373392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blan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0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6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59360" y="3733920"/>
            <a:ext cx="41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blanks?  --&gt; syntax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6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61160" y="37339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t possible to put 2 grammar rules in the same bo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0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227880" y="72216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6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61160" y="37339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t possible to put 2 grammar rules in the same bo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380880" y="4648320"/>
          <a:ext cx="8382240" cy="212400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7160"/>
                <a:gridCol w="1397160"/>
                <a:gridCol w="1396800"/>
                <a:gridCol w="139716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Z ::= d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0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ve parsing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predictive parsing table constructed this way contains no duplicate entries, the grammar is called LL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-to-right parse, Left-most derivation, 1 symbol looka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, of the grammar is not LL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LL(k) parsing table, columns include every k-length sequence of termin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1981080" y="5565600"/>
          <a:ext cx="5333760" cy="9558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tr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ly, we saw that grammars with left-recursion were problematic, but could be transformed into LL(1) in som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ample non-LL(1) grammar we just s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fix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399760" y="388620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25880" y="40384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143680" y="40384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tr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ly, we saw that grammars with left-recursion were problematic, but could be transformed into LL(1) in som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ample non-LL(1) grammar we just s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here is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left-facto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399760" y="388620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025880" y="40384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143680" y="40384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437560" y="556272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473800" y="58356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591600" y="58356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038840" y="5835600"/>
            <a:ext cx="91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Gs are good at specifying programming languag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ing general CFGs is expensive so we define parsers for simple classes of CF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L(k), LR(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build a recursive descent parser for LL(k) grammars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ing nullable, first and follow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ng a parse table from the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ing for duplicate entries, which indicates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 ML program from the pars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arser construction fails we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the grammar (left factoring, eliminating left recursion) and try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to build a parser using some other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pw</cp:lastModifiedBy>
  <dcterms:modified xsi:type="dcterms:W3CDTF">2005-02-14T22:32:03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