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FF38-5385-4B04-B747-3E36EA11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7E5-3D5B-485A-A25B-68F4E9ED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C65-D88F-4B7F-ACAD-B791EEFC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79D-53BC-4799-94B4-9249E9B4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3FE-70CF-458B-B064-B5B7F310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54D-F994-41F4-A62F-0B3ED886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3E6-D666-45E6-AD20-FAD4347A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FEC-22C6-45A3-8210-7A1F5E53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36F3-E1AD-48A6-AA78-BF849357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EEC-CE1D-4B2C-B60F-7F06C342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49C-FBB3-4ACB-91C2-3F75CE08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298-1BBC-41F3-9449-330B8DF1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DA13-64F0-4B4D-9C6D-B20D02353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209680" y="43434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21480" y="449568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p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: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560" y="3505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41400" y="4038480"/>
            <a:ext cx="170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way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15160" y="3505320"/>
            <a:ext cx="293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3429000"/>
            <a:ext cx="228600" cy="2057400"/>
          </a:xfrm>
          <a:custGeom>
            <a:avLst/>
            <a:gdLst>
              <a:gd name="textAreaLeft" fmla="*/ 0 w 228600"/>
              <a:gd name="textAreaRight" fmla="*/ 8244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523880" y="56386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" y="61722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5257440" y="5562360"/>
            <a:ext cx="260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30960" y="617220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ing derivations as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in compilers:  Parse trees correspond quite closely (but not exactly) with abstract syntax trees we’re trying to 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ntax v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r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arse)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ternal node is labeled with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eaf note is labeled with a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se of a rule in a derivation explains how to generate children in the parse tree from the par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0572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658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010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3680" y="43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0388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65080" y="43434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51960" y="518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7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60040" y="5119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9172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58024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3416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2320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60720" y="3352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768560" y="2895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911560" y="29718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40520" y="2895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006800" y="3657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162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44880" y="3581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547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978240" y="37339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59480" y="37339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35800" y="3657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88080" y="36576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1979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19792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280" y="2362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2 derivations, but 1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0572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658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010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3680" y="43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0388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65080" y="43434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51960" y="518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7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60040" y="5119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9172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58024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416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2320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60720" y="3352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768560" y="2895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911560" y="29718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40520" y="2895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006800" y="3657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162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44880" y="3581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547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978240" y="37339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59480" y="37339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35800" y="3657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88080" y="36576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979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9792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280" y="2362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5280" y="4572000"/>
            <a:ext cx="293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 trees have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of children, nesting of subtrees is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45040" y="33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5120" y="4143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78200" y="3990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3000" y="4767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14600" y="4753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04400" y="47530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3600" y="5438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04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88040" y="5286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720" y="46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0824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6216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24080" y="4691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47760" y="41432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307880" y="368604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298600" y="376236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03520" y="36860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22440" y="444816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55600" y="4524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84200" y="437184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5440" y="513396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831760" y="437184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37040" y="4371840"/>
            <a:ext cx="75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13000" y="4295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65640" y="4295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25920" y="5057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25920" y="565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2812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50520" y="4052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820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88400" y="4676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46000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849800" y="466236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89000" y="5348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80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89680" y="5286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21720" y="46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1024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6416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26080" y="4691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30840" y="406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790960" y="36100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781680" y="368604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3610080"/>
            <a:ext cx="76212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467120" y="435780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4433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229600" y="4281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610480" y="50436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333760" y="437184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38680" y="437184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4295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42958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27920" y="5057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27920" y="565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xic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quence of tokens from characters (Chap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yntax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bstract syntax tree from sequence of tokens (Chap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ype Che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eck program for well-formed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000" y="16765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22800" y="1676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90040" y="1676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mmar is ambiguous if the same sequence of tokens can give rise to two or more parse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6760" y="2057400"/>
            <a:ext cx="1625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29528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4 + 5 *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:        NUM(4)   PLUS   NUM(5)   MULT   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8020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402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754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42560" y="3505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4692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07520" y="342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7556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343040" y="2286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486400" y="2362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15000" y="2286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17220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65440" y="3886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71360" y="39006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2604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62120" y="5791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6720" y="620856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like using this notation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avoid repeating E 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6760" y="2057400"/>
            <a:ext cx="1625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71800" y="129528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4 + 5 *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:        NUM(4)   PLUS   NUM(5)   MULT   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8020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402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754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42560" y="3505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4692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7520" y="342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7556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343040" y="2286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486400" y="2362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15000" y="2286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911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17220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5440" y="3886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71360" y="39006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2604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3248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77360" y="519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0704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79640" y="5958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00840" y="563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38000" y="5867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07120" y="563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8200" y="51814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95680" y="472428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638680" y="4800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4724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27840" y="55767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803760" y="5486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8956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513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96640" y="63244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02920" y="63388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41840" y="5486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compilers use parse trees to interpret the meaning of parsed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arse trees have different mea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 (4 + 5) * 6  is not 4 + (5 *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s with ambiguous grammars ar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STR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 The meaning of programs isn’t well-defined!  You can’t tell what your program might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rewrite grammar to eliminate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ece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 into grammar to disambig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socia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 into grammar to disambig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rick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ory classes, you might have learned about general mechanisms for parsing all CF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s for parsing all CFGs are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ile 1/10/100 million-line applications, compilers must be fas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for 10 thousand-line apps, speed is 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1/3 of compilation time is spent in pa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writers have developed specialized algorithms for parsing the kinds of CFGs that you need to build effective programming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(k), LR(k) grammars can be par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Descent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Descent Parsing (Appel Chap 3.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predictive parsing; top-down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ded by hand in ML quick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s many, but not all CF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s LL(1) gramm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-to-right parse; Leftmost-derivation; 1 symbol look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cursive function for each non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duction becomes one clause in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7680" y="2706840"/>
            <a:ext cx="60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 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5640" y="213372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1: Represent the 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760" y="3697200"/>
            <a:ext cx="66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2: build infrastructure for reading tokens from lexing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2280" y="4343400"/>
            <a:ext cx="525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7680" y="2706840"/>
            <a:ext cx="60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 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5640" y="213372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1: Represent the 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6760" y="3697200"/>
            <a:ext cx="66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2: build infrastructure for reading tokens from lexing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2280" y="4343400"/>
            <a:ext cx="525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74280" y="3809880"/>
            <a:ext cx="6890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     =&gt;   eat IF; E (); eat THEN; S (); eat ELSE; S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EGIN =&gt;   eat BEGIN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8880" y="3400560"/>
            <a:ext cx="75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3: write parser =&gt; one function per non-terminal; one clause per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92680" y="22096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1200" y="220968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ing with CF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-free grammars are (often) given by BNF expressions (Backus-Naur F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l Chap 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owerful than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par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, we could do nested comments with ML-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FGs are good for describing the overall syntactic structure of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54120" y="762120"/>
            <a:ext cx="229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( L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93400" y="762120"/>
            <a:ext cx="227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L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      | L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840" y="228600"/>
            <a:ext cx="297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 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913320" y="2819520"/>
            <a:ext cx="6976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 () = S (); eat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eat ID; eat ASSIGN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at LPAREN; L (); eat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ea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   =&gt;  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   =&gt;  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ve parsing only works for grammars where the first terminal symbol of each self-expression provides enough information to choose which production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!tok = ID, the parser cannot determine which production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7600" y="5943600"/>
            <a:ext cx="54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L ::= E                (E could be 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      | L , E          (L could be E could be 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liminate left-recu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grammar so it parses the same language but the rules are differ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8800" y="5607000"/>
            <a:ext cx="19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L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219280" y="5334120"/>
            <a:ext cx="19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 ::= E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 ::= , E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373392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62720" y="34290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05320" y="4724280"/>
            <a:ext cx="1218960" cy="5335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iminating left-recursion in gen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grammar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ed gramm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84920" y="255888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X 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86360" y="4191120"/>
            <a:ext cx="24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ase X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new ::= repeat X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new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44120" y="270360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s:  base repeat repea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83640" y="47242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s:  base repeat repea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Descent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left factoring doesn’t alway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when we can parse grammars using recursive desc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n algorithm for generating such parsers automatic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pply rule  X ::= s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is the first symbol that can be generated by string 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reduces to the empty string (is nullable) and a is the first symbol in any string that can follow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ly rule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 ::=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 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n be generated by string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es to the empty string (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nu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symbol in any string tha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n 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-Free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-free grammars consis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symb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ermi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enotes toke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n-termi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enotes a set of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-hand side: non-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hand side: terminals and/or non-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explain how to rewrite non-terminals (beginning with start symbol) into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30880" y="42814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::= symbol symbol ...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i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must comp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X ::= s, must determine if s can derive the empty st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es,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X := s, must determine the set of all first terminals Q derivable from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rs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non terminal X, determine all terminals symbols Q that immediately follow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pilers algorithms are iterative techniq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 analysis applie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mpute a set of objects with some property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 is defined inductiv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e, there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s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bjects o1, o2 “obviously” have property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ductiv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if certain objects (o3, o4) have property P, this implies other objects (f o3; f o4) have property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bjects in the set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e can represent infinite collections using some finite notation &amp; we can find effective termination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set S with ba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inductive rules over and over until you reach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xe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xed point is a set that does not change when you apply an inductive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able, First and Follow sets can be determined through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rogram optimizations use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-case complexity is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-case complexity is good:  iteration “usually” terminates in a couple of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Nullab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erminal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 is Nul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if the following constraints are satisfied (computed using iterative analy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 )  then X is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ABC...) and A, B, C, ... are all Nullable then X is Nullable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irs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a terminal symbol then First (T) = {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X is a non-terminal and (X:= ABC...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(X) = First (X) U First (ABC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irst(ABC...) = F1 U F2 U F3 U ...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First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First (B), if A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First (C), if A is Nullable &amp; B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ollow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llow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we assume nothing in particular follow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llow (X) is initially { 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irst (s2) U Follow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ollow(Y) U Follow (X),  if s2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>
            <a:off x="1968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>
            <a:off x="1531440" y="6284880"/>
            <a:ext cx="72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we realize we have reached a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-Free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ing is in the language of the CFG if only if it is possible to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r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tring using the following non-deterministic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with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any non-terminals exist, pick a non-terminal and rewrite it using a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when all you have left are terminals (and check you arrived at the string your were hoping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checking that a string is in the CFG for your programming language.  It is usually coupled with creating an abstract syntax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373644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52856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3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27840" y="6284880"/>
            <a:ext cx="65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 of induction, no more changes ==&gt;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5397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477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7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7340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4480" y="5987880"/>
            <a:ext cx="83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 of induction, fixed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notice, computing Follow(X) before Follow (Y) would have required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7080" y="1447920"/>
            <a:ext cx="224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48840" y="1430280"/>
            <a:ext cx="184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99280" y="14158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8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5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9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0080" y="37339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59360" y="37339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  --&gt; syntax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27880" y="72216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380880" y="4648320"/>
          <a:ext cx="8382240" cy="212400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  <a:gridCol w="1397160"/>
                <a:gridCol w="1396800"/>
                <a:gridCol w="13971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parsing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redictive parsing table constructed this way contains no duplicate entries, the grammar is called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to-right parse, Left-most derivation, 1 symbol look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of the grammar is not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L(k) parsing table, columns include every k-length sequence of termin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1981080" y="5565600"/>
          <a:ext cx="5333760" cy="9558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x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here i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eft-fac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37560" y="556272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73800" y="58356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591600" y="58356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038840" y="5835600"/>
            <a:ext cx="9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5-02-14T22:32:0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