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2D0-630E-4499-9DC5-0816B2E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0FB-D2B5-4039-A1A6-EF63CB8D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802-9E33-49EC-A615-4E4F05E3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E95-25DA-4F46-BABC-770FA70D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82C-5460-4717-8111-EFEF2ED3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D1F-CC71-46E1-ADD3-B5032843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CA8-F8FD-4C01-B689-1E12491E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180-BCF0-4E1D-A72D-D70CA2D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782-A49B-4E87-82E5-3DE058F9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FC5-0FC4-4C1D-B916-1C91460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9A1-F4D4-4D29-9371-17CC069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513-E6A2-4217-9243-05F6DF5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7BD-0778-4E81-80A1-26C6913C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t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ile 1/10/100 million-line applications, compilers must be fa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for 10 thousand-line apps, speed is 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to-right parse; Leftmost-derivation; 1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54120" y="762120"/>
            <a:ext cx="22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 () = S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of each self-expression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8800" y="56070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733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472428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ng left-recursion in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84920" y="25588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left factoring doesn’t alway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xed point is a set that does not change when you apply an inductiv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, First and Follow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is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4T22:32:0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