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1D4-25DB-40A6-AE71-0349C43F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422-0479-4AC4-90EE-5895EBFD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2E5-2C4D-4EBB-AD2F-937E112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9E4-1DB7-481F-ADC3-DECB9585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F09-4A96-4A7A-AD6E-8FF0E82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C6E-8193-46AC-AAA7-F130C805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631-7C91-45FE-A463-4E493CF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BF8-6DBB-407F-8A7C-171AC30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2AA-3C2D-45F9-96A8-45C416F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AF3-90BE-41FE-BE94-9238A11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926-810B-4A06-BB95-6E21A2E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9E1-C49F-4E86-AA4E-991E752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6B7-0B1D-4A92-8221-0EC93BF98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use the word “language” to mean more general 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expression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when we put together a set of regular expressions to specify all of the tokens in a language, ambiguitie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two regular expression match the sam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6280" y="2617920"/>
            <a:ext cx="213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used to recursively called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new lexer using command YY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lexer is called 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d everything but possibly the last step in your favorite algorithm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start position in charact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ading characters and moving from state to state until no transitions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xiliary table maps final states to the token type identified;  yystring = input from start to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00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23880" y="3200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002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47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9880" y="342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2680" y="3160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080" y="31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267080" y="2514600"/>
          <a:ext cx="4038840" cy="21193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335840" y="20574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2              3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57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5360" y="33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5000" y="38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5000" y="4281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ading “iffy” should recognize “iffy” as ID, not “if” as keyword and then “fy” as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most recent final state seen and position in character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more transition can be made, revert to last saved legal 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ppel 2.4 for mor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win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Analysis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5-02-09T23:03:43Z</dcterms:modified>
  <cp:revision>28</cp:revision>
  <dc:subject/>
  <dc:title>COS 320 Compilers</dc:title>
</cp:coreProperties>
</file>