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83E2-E0E0-4FA1-BFD8-D345B321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C875-0E26-4769-AF38-CCE313FE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3AF1-F6E8-47AB-92CA-87A514A0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DAD1-0C9F-4EB6-B6AC-CEA63DC9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386-6B56-4370-B577-C6E3DEBF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2C9-A3AE-4261-9AB5-7264D5DA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F743-D9FB-40A3-B0C1-96D7849F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F02-B26D-425B-A4A0-3A60742B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C00-1385-480D-B5A2-5F6369E7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09E0-8E36-4093-865E-D2A59EE1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B99E-4EE5-4E44-98F9-D1EDF33C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D2D-6E0D-408D-9FAB-147B69AB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3C3D-7F75-458E-AF9E-4400A2310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 3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ex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, error-prone and too much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Lex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and easy. 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029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9600" y="530208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ex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, error-prone and too much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Lex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and easy. 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5029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9600" y="530208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00240" y="37782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rot="16200000">
            <a:off x="5637600" y="4038480"/>
            <a:ext cx="761760" cy="685800"/>
          </a:xfrm>
          <a:custGeom>
            <a:avLst/>
            <a:gdLst>
              <a:gd name="textAreaLeft" fmla="*/ 360 w 761760"/>
              <a:gd name="textAreaRight" fmla="*/ 762480 w 761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10" stAng="10800000" swAng="5400000"/>
                <a:lnTo>
                  <a:pt x="16245" y="3550"/>
                </a:lnTo>
                <a:lnTo>
                  <a:pt x="16245" y="0"/>
                </a:lnTo>
                <a:lnTo>
                  <a:pt x="21600" y="6079"/>
                </a:lnTo>
                <a:lnTo>
                  <a:pt x="16245" y="12158"/>
                </a:lnTo>
                <a:lnTo>
                  <a:pt x="16245" y="8608"/>
                </a:lnTo>
                <a:lnTo>
                  <a:pt x="12427" y="8608"/>
                </a:lnTo>
                <a:arcTo wR="7369" hR="3552" stAng="16200000" swAng="-5400000"/>
                <a:lnTo>
                  <a:pt x="50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61000" y="57913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rot="10800000">
            <a:off x="5791320" y="5714640"/>
            <a:ext cx="761760" cy="685800"/>
          </a:xfrm>
          <a:custGeom>
            <a:avLst/>
            <a:gdLst>
              <a:gd name="textAreaLeft" fmla="*/ 360 w 761760"/>
              <a:gd name="textAreaRight" fmla="*/ 762480 w 761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10" stAng="10800000" swAng="5400000"/>
                <a:lnTo>
                  <a:pt x="16245" y="3550"/>
                </a:lnTo>
                <a:lnTo>
                  <a:pt x="16245" y="0"/>
                </a:lnTo>
                <a:lnTo>
                  <a:pt x="21600" y="6079"/>
                </a:lnTo>
                <a:lnTo>
                  <a:pt x="16245" y="12158"/>
                </a:lnTo>
                <a:lnTo>
                  <a:pt x="16245" y="8608"/>
                </a:lnTo>
                <a:lnTo>
                  <a:pt x="12427" y="8608"/>
                </a:lnTo>
                <a:arcTo wR="7369" hR="3552" stAng="16200000" swAng="-5400000"/>
                <a:lnTo>
                  <a:pt x="50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specify the lex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nother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use a language involv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gular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pecify to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lexer genera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compiler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want to define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anguage of legal toke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r lexer can recogn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phab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 collection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mb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SCII is an alphab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 finite sequence of symbols taken from ou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pha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anguage of legal tok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 set of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of ML keywords – set of all strings which are ML keywords (FIN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of ML tokens – set of all strings which map to ML tokens (INFIN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eople use the word “language” to mean more general 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:  ML Language – set of all strings representing correct ML programs (INFINI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ular Expressions: Co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mb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lphabet, a is a RE denoting the set {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psil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) denotes {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s (M and N are 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ter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 | N) denotes strings in M or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| b) == {a, b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 N) denotes strings in M concatenated with strings in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| b) (a | c) == { aa, ac, ba, bc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lee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*) denotes strings formed by any number of repetitions of strings in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| b )* == {e, a, b, aa, ab, ba, bb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s begin with an optional minus sign, continue with a sequence of dig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 | e) (0 | 1 | 2 | 3 | 4 | 5 | 6 | 7 | 8 | 9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s begin with an optional minus sign, continue with a sequence of dig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 | e) (0 | 1 | 2 | 3 | 4 | 5 | 6 | 7 | 8 | 9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riting (0 | 1 | 2 | 3 | 4 | 5 | 6 | 7 | 8 | 9) and even worse (a | b | c | ...) gets tediou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abbrevia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-c]    ==  (a | b |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 ==  any character except \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n        == new line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       == one or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?       == zero or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bbreviations can be defined in terms of the “standard” regular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ngle expression is a completely unambiguous specification of a to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when we put together a set of regular expressions to specify all of the tokens in a language, ambiguities ar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two regular expression match the same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tokens:  a-z* (a-z | 0-9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keyword tokens:  if, then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tokeni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oba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   ID(foobar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or   ID(foo)  ID(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   ID(if)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or   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: Chapter 2 of A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resolve ambiguities using two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ng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regular expression that matches the longest string takes prece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io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regular expressions identifying tokens are written down in sequence.  If two regular expressions match the same (longest) string, the first regular expression in the sequence takes prece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tokens:  a-z (a-z | 0-9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keyword tokens:  if, then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tokeni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oba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 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ID(foobar)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or   ID(foo)  ID(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   ID(if)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or 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I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tokens:  a-z* (a-z | 0-9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keyword tokens:  if, then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tokeni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oba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 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ID(foobar)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or   ID(foo)  ID(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   ID(if)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or 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I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Lexer from scr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ing and error-p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exical Analyzer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and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-lex is a lexical analyzer generator for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 and flex are lexical analyzer generators for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Lex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xical specification consists of 3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6280" y="2617920"/>
            <a:ext cx="2133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L-LEX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Decla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Declar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can define various values that are available to the action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alues must be defined in this s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lex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the value returned by each rul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 eof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by lexer when end of input stream is reac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LEX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-LEX Defin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can define regular expression abbrevi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multiple lexers to work together.  Each is given a uniqu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342900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S = [0-9] 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ER = [a-zA-Z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8880" y="583560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 LEX1 LEX2 LEX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ule consists of a pattern and an 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in a regular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is a fragment of ordinary ML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may be prefixed with the list of lexers that are allowed to use this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071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7160" y="2452680"/>
            <a:ext cx="51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exer_list&gt; regular_expression =&gt; (action.cod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ule consists of a pattern and an a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in a regular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is a fragment of ordinary ML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est match &amp; rule priority used for disambig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may be prefixed with the list of lexers that are allowed to use this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5120" y="2071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7160" y="2452680"/>
            <a:ext cx="51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exer_list&gt; regular_expression =&gt; (action.cod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 actions can use any value defined in the User Declarations section, inclu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lex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value returned by each rul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 eof : unit -&gt; lex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by lexer when end of input stream re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ytext:  input substring matched by regular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ypos:  file position of the beginning of matched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():  used to recursively called 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2071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ont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xical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quence of tokens from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yntax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bstract syntax tree from sequence of to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pe Chec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heck program for well-formedness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2000" y="16765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22800" y="16765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90040" y="16765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 Lex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4520" y="1371600"/>
            <a:ext cx="7226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of int |  Id of string | IF | THEN | ELSE |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lexresult = token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of () = EOF        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itos s = case Int.fromString s of SOME x =&gt; x | NONE =&gt; raise 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= [1-9][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[a-zA-Z] ([a-zA-Z] | NUM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IF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THE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EL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NUM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Num (itos yytext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ID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Id yy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ultiple Lex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prefixed with a lexer name are matched only when that lexer is exec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new lexer using command YY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lexer is called INI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ultiple Lex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73160" y="2093760"/>
            <a:ext cx="700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lexresult = unit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of () = ()     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if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[a-z]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“(*”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YYBEGIN COMMENT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 “*)”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YYBEGIN INITIAL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 “\n” | 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(Marginally) More Exciting Lex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371600"/>
            <a:ext cx="700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lexresult = string                                  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of () = (print “End of file\n”;   “EOF”)    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= [1-9] [0-9]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if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“IF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t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“THE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{INT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  “INT(“   ^   yytext   ^   “)” 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“(*”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YYBEGIN COMMENT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 “*)”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YYBEGIN INITIAL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 “\n” | 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Lex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ompiling, of cour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non-deterministic finite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non-deterministic finite autom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terministic finite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terministic finite autom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a blazingly fast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table-driven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id everything but possibly the last step in your favorite algorithms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-drive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A:                          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start position in character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ading characters and moving from state to state until no transitions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uxiliary table maps final states to the token type identified;  yystring = input from start to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3733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2004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523880" y="3200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6002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3200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4400" y="323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1476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29880" y="3429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2680" y="3160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7080" y="31240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267080" y="2514600"/>
          <a:ext cx="4038840" cy="2119320"/>
        </p:xfrm>
        <a:graphic>
          <a:graphicData uri="http://schemas.openxmlformats.org/drawingml/2006/table">
            <a:tbl>
              <a:tblPr/>
              <a:tblGrid>
                <a:gridCol w="1009800"/>
                <a:gridCol w="1009800"/>
                <a:gridCol w="1009440"/>
                <a:gridCol w="100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4335840" y="2057400"/>
            <a:ext cx="33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       2              3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3572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35360" y="336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35000" y="3824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5000" y="4281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FA: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:  how to deal with longest mat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reading “iffy” should recognize “iffy” as ID, not “if” as keyword and then “fy” as 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2000" y="2895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-drive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320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11560" y="2489040"/>
            <a:ext cx="749160" cy="559080"/>
          </a:xfrm>
          <a:custGeom>
            <a:avLst/>
            <a:gdLst/>
            <a:ahLst/>
            <a:rect l="l" t="t" r="r" b="b"/>
            <a:pathLst>
              <a:path w="472" h="352">
                <a:moveTo>
                  <a:pt x="80" y="304"/>
                </a:moveTo>
                <a:cubicBezTo>
                  <a:pt x="40" y="232"/>
                  <a:pt x="0" y="160"/>
                  <a:pt x="32" y="112"/>
                </a:cubicBezTo>
                <a:cubicBezTo>
                  <a:pt x="64" y="64"/>
                  <a:pt x="200" y="0"/>
                  <a:pt x="272" y="16"/>
                </a:cubicBezTo>
                <a:cubicBezTo>
                  <a:pt x="344" y="32"/>
                  <a:pt x="472" y="152"/>
                  <a:pt x="464" y="208"/>
                </a:cubicBezTo>
                <a:cubicBezTo>
                  <a:pt x="456" y="264"/>
                  <a:pt x="340" y="308"/>
                  <a:pt x="224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40080" y="2209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7086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FA: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:  how to deal with longest mat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most recent final state seen and position in character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no more transition can be made, revert to last saved legal fin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Appel 2.4 for more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2000" y="2895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-drive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0968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320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11560" y="2489040"/>
            <a:ext cx="749160" cy="559080"/>
          </a:xfrm>
          <a:custGeom>
            <a:avLst/>
            <a:gdLst/>
            <a:ahLst/>
            <a:rect l="l" t="t" r="r" b="b"/>
            <a:pathLst>
              <a:path w="472" h="352">
                <a:moveTo>
                  <a:pt x="80" y="304"/>
                </a:moveTo>
                <a:cubicBezTo>
                  <a:pt x="40" y="232"/>
                  <a:pt x="0" y="160"/>
                  <a:pt x="32" y="112"/>
                </a:cubicBezTo>
                <a:cubicBezTo>
                  <a:pt x="64" y="64"/>
                  <a:pt x="200" y="0"/>
                  <a:pt x="272" y="16"/>
                </a:cubicBezTo>
                <a:cubicBezTo>
                  <a:pt x="344" y="32"/>
                  <a:pt x="472" y="152"/>
                  <a:pt x="464" y="208"/>
                </a:cubicBezTo>
                <a:cubicBezTo>
                  <a:pt x="456" y="264"/>
                  <a:pt x="340" y="308"/>
                  <a:pt x="224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40080" y="2209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ex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: stream of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: stream of to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lexers by hand is boring, so we use a lexer generator:  ml-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er generators work by converting REs through automata theory to efficient table-driven algorith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y wins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xical Analysis: Breaks stream of ASCII characters (source) into tok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ken: An atomic unit of program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a word as opposed to a 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kens and their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15440" y="4462560"/>
            <a:ext cx="1093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y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91720" y="4462560"/>
            <a:ext cx="279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aracters Recogniz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, x, list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45, 3.14, -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9920" y="4462560"/>
            <a:ext cx="3138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k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(foo),  ID(x)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(10.45), REAL(3.14)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(50), NUM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36520" y="1560600"/>
            <a:ext cx="306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=     (    y    +    4.0    )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36520" y="1560600"/>
            <a:ext cx="306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=     (    y    +    4.0    )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133720"/>
            <a:ext cx="457200" cy="990360"/>
          </a:xfrm>
          <a:prstGeom prst="downArrow">
            <a:avLst>
              <a:gd name="adj1" fmla="val 50000"/>
              <a:gd name="adj2" fmla="val 541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92880" y="23986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36520" y="1560600"/>
            <a:ext cx="306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=     (    y    +    4.0    )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(x)  AS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2133720"/>
            <a:ext cx="457200" cy="990360"/>
          </a:xfrm>
          <a:prstGeom prst="downArrow">
            <a:avLst>
              <a:gd name="adj1" fmla="val 50000"/>
              <a:gd name="adj2" fmla="val 541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92880" y="23986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360" y="1560600"/>
            <a:ext cx="7016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=     (    y    +    4.0    )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(x)  ASSIGN  LPAREN  ID(y)  PLUS  REAL(4.0)  RPAREN  S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133720"/>
            <a:ext cx="457200" cy="990360"/>
          </a:xfrm>
          <a:prstGeom prst="downArrow">
            <a:avLst>
              <a:gd name="adj1" fmla="val 50000"/>
              <a:gd name="adj2" fmla="val 541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92880" y="23986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ex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, error-prone and too much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Lex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and easy. 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2:16:47Z</dcterms:created>
  <dc:creator>dpw</dc:creator>
  <dc:description/>
  <dc:language>en-US</dc:language>
  <cp:lastModifiedBy>dpw</cp:lastModifiedBy>
  <dcterms:modified xsi:type="dcterms:W3CDTF">2005-02-09T23:03:43Z</dcterms:modified>
  <cp:revision>28</cp:revision>
  <dc:subject/>
  <dc:title>COS 320 Compilers</dc:title>
</cp:coreProperties>
</file>