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4A6-0962-4A49-B9BC-A4FBB44A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BEA-45E3-4798-BEBB-A9D796F8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751-C725-4B93-883C-45372FAE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15A-7624-4648-9A97-23C53BAB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3B5-7151-4EFA-A42D-20A173E1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E07-02EB-4DE1-9F39-36B23B9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646-B56A-4B5C-87D3-7F2D7071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488-F616-433A-AD3E-D14C6B03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8F2-EEAA-44F3-8281-97E0264D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5D5-A78F-47C3-B8E4-10DF1251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585-2365-4EE6-A4A9-F1AE0F6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FFF-19BE-46AA-87B7-80DBA81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D83E-FF78-4421-8EC4-8BB5C1AD7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eople use the word “language” to mean more general 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gular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expression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when we put together a set of regular expressions to specify all of the tokens in a language, ambiguities ar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two regular expression match the sam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a-z* (a-z | 0-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6280" y="2617920"/>
            <a:ext cx="2133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used to recursively called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new lexer using command YY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lexer is called 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id everything but possibly the last step in your favorite algorithm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start position in character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ading characters and moving from state to state until no transitions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uxiliary table maps final states to the token type identified;  yystring = input from start to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432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00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523880" y="3200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002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200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0" y="323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476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9880" y="3429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2680" y="3160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080" y="31240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267080" y="2514600"/>
          <a:ext cx="4038840" cy="21193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4335840" y="20574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2              3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572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35360" y="33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5000" y="382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5000" y="4281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ading “iffy” should recognize “iffy” as ID, not “if” as keyword and then “fy” as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086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A: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:  how to deal with longest mat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most recent final state seen and position in character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more transition can be made, revert to last saved legal 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ppel 2.4 for more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20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2971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11560" y="2489040"/>
            <a:ext cx="749160" cy="559080"/>
          </a:xfrm>
          <a:custGeom>
            <a:avLst/>
            <a:gdLst/>
            <a:ahLst/>
            <a:rect l="l" t="t" r="r" b="b"/>
            <a:pathLst>
              <a:path w="472" h="352">
                <a:moveTo>
                  <a:pt x="80" y="304"/>
                </a:moveTo>
                <a:cubicBezTo>
                  <a:pt x="40" y="232"/>
                  <a:pt x="0" y="160"/>
                  <a:pt x="32" y="112"/>
                </a:cubicBezTo>
                <a:cubicBezTo>
                  <a:pt x="64" y="64"/>
                  <a:pt x="200" y="0"/>
                  <a:pt x="272" y="16"/>
                </a:cubicBezTo>
                <a:cubicBezTo>
                  <a:pt x="344" y="32"/>
                  <a:pt x="472" y="152"/>
                  <a:pt x="464" y="208"/>
                </a:cubicBezTo>
                <a:cubicBezTo>
                  <a:pt x="456" y="264"/>
                  <a:pt x="340" y="308"/>
                  <a:pt x="224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40080" y="2209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y win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Analysis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5-02-09T23:03:43Z</dcterms:modified>
  <cp:revision>28</cp:revision>
  <dc:subject/>
  <dc:title>COS 320 Compilers</dc:title>
</cp:coreProperties>
</file>