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FD5-D910-41D7-844A-E2FDC47A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AA4C-4FB5-4CF4-9C50-C54DB388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122E-B1A5-4FBA-90BB-9E0EBB83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004-FDDD-48F3-AA91-2028A81E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D8EE-2BB4-455A-BF45-9E42B029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3A75-068C-467C-BD08-56A9068F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FB1-9612-44E2-A5C9-C2C10EBA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141-3083-4B36-9905-A1B2940D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69B-3FFB-4BDB-8AF8-427960BD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8A26-2252-4B8B-82D2-17A47DEA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46B9-606F-490B-B6BC-06AEB4C53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B007-C791-45E7-AA78-C1B11550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167-8CA8-4EA8-9143-DF4AE70B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11D-F4A8-44C6-91F7-211311C5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6D7-C142-44C7-8196-BC01296D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E115-D093-41D6-BE91-66B5F393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D8B-D0C4-4FD8-B935-C0F635D5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F78-87A6-40CD-954A-BAE34AF8F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B11-D48B-4560-9C46-FD294707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014-C5EF-4C76-B5B2-972F57F6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66D-794B-4AB3-B5B0-D5EF7F41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47A-0C61-4834-B1B7-CCFB7A60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55A-BC78-42BD-B675-C73D8576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615E-E346-45EF-AD94-792DAE14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48F-AB71-4671-9C39-52572F38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53FE-BCC5-45BE-9E94-793FBC66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41D-5954-46DC-987A-9F0789D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FCD-CD0F-4FB5-895D-11C1D64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1920" y="471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39F3-8370-48FF-A0EC-1799D9E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F4E9-DDD4-4A06-B05F-4E1FAC8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5ED-8373-44D1-B1B3-4F2B072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D0A-E6DD-497B-BA75-688BA9E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1D37-2457-4BDF-AB83-AAD22DC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301-171E-4F18-BC15-FC28E84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7841-A303-4FC5-913E-0E1D5F12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827A-135C-4E3E-973A-FC5E4638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7B5-E5CC-4727-9360-F848EBD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CA4-3FD9-4419-87C1-FA8DDECC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7A4-29F9-427C-8BE6-F726D5F4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471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67E-B137-4CEC-A456-B7F079F0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BAC-6942-4ABD-8EE6-93D143B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DFB-03B8-41B0-8DEB-369C1EA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98B-7005-447C-BB1A-4B5235B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99080"/>
            <a:ext cx="6543720" cy="35892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661000" y="6610320"/>
            <a:ext cx="348300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66200" y="65718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33440" y="65718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62800" y="657180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361-A482-4BE0-8116-E2E3C124E66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8763120" cy="822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486240" y="0"/>
            <a:ext cx="5657760" cy="15228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172200"/>
            <a:ext cx="5657760" cy="68580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724280" y="6400800"/>
            <a:ext cx="4419720" cy="4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4952880" cy="1447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pulogo"/>
          <p:cNvPicPr/>
          <p:nvPr/>
        </p:nvPicPr>
        <p:blipFill>
          <a:blip r:embed="rId2"/>
          <a:stretch/>
        </p:blipFill>
        <p:spPr>
          <a:xfrm>
            <a:off x="8028000" y="33336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486240" y="0"/>
            <a:ext cx="5657760" cy="29844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92ED-3D9C-4E26-A525-436B2AEF4D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824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evisiting Ethernet:</a:t>
            </a: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Plug-and-play made scalable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and efficien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BF72-E0D3-4190-85F1-036CD16AC1DD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Backwards Compatibilit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5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 not modify end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nd-hosts’ view, network must work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hosts sh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me protocol stack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be forced to run an addition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31" descr="pucampus"/>
          <p:cNvPicPr/>
          <p:nvPr/>
        </p:nvPicPr>
        <p:blipFill>
          <a:blip r:embed="rId1"/>
          <a:stretch/>
        </p:blipFill>
        <p:spPr>
          <a:xfrm>
            <a:off x="2743200" y="1952640"/>
            <a:ext cx="4800600" cy="3305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40"/>
          <p:cNvSpPr/>
          <p:nvPr/>
        </p:nvSpPr>
        <p:spPr>
          <a:xfrm>
            <a:off x="3343320" y="435276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41"/>
          <p:cNvSpPr/>
          <p:nvPr/>
        </p:nvSpPr>
        <p:spPr>
          <a:xfrm>
            <a:off x="3143160" y="48290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42"/>
          <p:cNvSpPr/>
          <p:nvPr/>
        </p:nvSpPr>
        <p:spPr>
          <a:xfrm>
            <a:off x="2867040" y="41432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46"/>
          <p:cNvGrpSpPr/>
          <p:nvPr/>
        </p:nvGrpSpPr>
        <p:grpSpPr>
          <a:xfrm>
            <a:off x="533520" y="2971800"/>
            <a:ext cx="2809800" cy="2057040"/>
            <a:chOff x="533520" y="2971800"/>
            <a:chExt cx="2809800" cy="2057040"/>
          </a:xfrm>
        </p:grpSpPr>
        <p:pic>
          <p:nvPicPr>
            <p:cNvPr id="174" name="Picture 1037" descr="DO%20NOT%20TOUCH"/>
            <p:cNvPicPr/>
            <p:nvPr/>
          </p:nvPicPr>
          <p:blipFill>
            <a:blip r:embed="rId2"/>
            <a:stretch/>
          </p:blipFill>
          <p:spPr>
            <a:xfrm>
              <a:off x="533520" y="2971800"/>
              <a:ext cx="1824480" cy="82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5" name="AutoShape 1043"/>
            <p:cNvCxnSpPr>
              <a:stCxn id="174" idx="2"/>
              <a:endCxn id="172" idx="1"/>
            </p:cNvCxnSpPr>
            <p:nvPr/>
          </p:nvCxnSpPr>
          <p:spPr>
            <a:xfrm flipH="1" rot="16200000">
              <a:off x="1932120" y="3308400"/>
              <a:ext cx="406800" cy="13795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76" name="AutoShape 1044"/>
            <p:cNvCxnSpPr>
              <a:stCxn id="174" idx="2"/>
              <a:endCxn id="170" idx="1"/>
            </p:cNvCxnSpPr>
            <p:nvPr/>
          </p:nvCxnSpPr>
          <p:spPr>
            <a:xfrm flipH="1" rot="16200000">
              <a:off x="2064960" y="3175560"/>
              <a:ext cx="659520" cy="18979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77" name="AutoShape 1045"/>
            <p:cNvCxnSpPr>
              <a:stCxn id="174" idx="2"/>
              <a:endCxn id="171" idx="1"/>
            </p:cNvCxnSpPr>
            <p:nvPr/>
          </p:nvCxnSpPr>
          <p:spPr>
            <a:xfrm flipH="1" rot="16200000">
              <a:off x="1667880" y="3571920"/>
              <a:ext cx="1234080" cy="16801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7F3-3398-458F-9F4F-2926529DCD2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EATTLE in a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572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lat addressing of end-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use ho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C addresses fo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zero-configuration and backwards-compati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tomated host discovery at the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detect the arrival/departure of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viates flooding and ensures scala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1,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sh-based on-dem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deterministically maps a host to a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resolve end-ho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cation and address via h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scala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1, 2,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rtest-path forwarding between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run link-state routing with only their own connectivity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data-plane efficienc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3605-76CB-4608-80A2-86C98C9438E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6"/>
          <p:cNvSpPr/>
          <p:nvPr/>
        </p:nvSpPr>
        <p:spPr>
          <a:xfrm>
            <a:off x="152280" y="990720"/>
            <a:ext cx="9017280" cy="5473440"/>
          </a:xfrm>
          <a:custGeom>
            <a:avLst/>
            <a:gdLst/>
            <a:ahLst/>
            <a:rect l="l" t="t" r="r" b="b"/>
            <a:pathLst>
              <a:path w="5680" h="3448">
                <a:moveTo>
                  <a:pt x="200" y="616"/>
                </a:moveTo>
                <a:cubicBezTo>
                  <a:pt x="0" y="744"/>
                  <a:pt x="0" y="872"/>
                  <a:pt x="8" y="1096"/>
                </a:cubicBezTo>
                <a:cubicBezTo>
                  <a:pt x="16" y="1320"/>
                  <a:pt x="8" y="1608"/>
                  <a:pt x="248" y="1960"/>
                </a:cubicBezTo>
                <a:cubicBezTo>
                  <a:pt x="488" y="2312"/>
                  <a:pt x="880" y="2968"/>
                  <a:pt x="1448" y="3208"/>
                </a:cubicBezTo>
                <a:cubicBezTo>
                  <a:pt x="2016" y="3448"/>
                  <a:pt x="3080" y="3408"/>
                  <a:pt x="3656" y="3400"/>
                </a:cubicBezTo>
                <a:cubicBezTo>
                  <a:pt x="4232" y="3392"/>
                  <a:pt x="4608" y="3440"/>
                  <a:pt x="4904" y="3160"/>
                </a:cubicBezTo>
                <a:cubicBezTo>
                  <a:pt x="5200" y="2880"/>
                  <a:pt x="5352" y="2152"/>
                  <a:pt x="5432" y="1720"/>
                </a:cubicBezTo>
                <a:cubicBezTo>
                  <a:pt x="5512" y="1288"/>
                  <a:pt x="5680" y="848"/>
                  <a:pt x="5384" y="568"/>
                </a:cubicBezTo>
                <a:cubicBezTo>
                  <a:pt x="5088" y="288"/>
                  <a:pt x="4352" y="80"/>
                  <a:pt x="3656" y="40"/>
                </a:cubicBezTo>
                <a:cubicBezTo>
                  <a:pt x="2960" y="0"/>
                  <a:pt x="1784" y="232"/>
                  <a:pt x="1208" y="328"/>
                </a:cubicBezTo>
                <a:cubicBezTo>
                  <a:pt x="632" y="424"/>
                  <a:pt x="400" y="488"/>
                  <a:pt x="200" y="616"/>
                </a:cubicBezTo>
                <a:close/>
              </a:path>
            </a:pathLst>
          </a:custGeom>
          <a:solidFill>
            <a:srgbClr val="9999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7"/>
          <p:cNvSpPr/>
          <p:nvPr/>
        </p:nvSpPr>
        <p:spPr>
          <a:xfrm>
            <a:off x="2340000" y="2036880"/>
            <a:ext cx="5359320" cy="3622680"/>
          </a:xfrm>
          <a:custGeom>
            <a:avLst/>
            <a:gdLst/>
            <a:ahLst/>
            <a:rect l="l" t="t" r="r" b="b"/>
            <a:pathLst>
              <a:path w="3376" h="2392">
                <a:moveTo>
                  <a:pt x="0" y="440"/>
                </a:moveTo>
                <a:cubicBezTo>
                  <a:pt x="0" y="608"/>
                  <a:pt x="176" y="968"/>
                  <a:pt x="336" y="1208"/>
                </a:cubicBezTo>
                <a:cubicBezTo>
                  <a:pt x="496" y="1448"/>
                  <a:pt x="576" y="1712"/>
                  <a:pt x="960" y="1880"/>
                </a:cubicBezTo>
                <a:cubicBezTo>
                  <a:pt x="1344" y="2048"/>
                  <a:pt x="2272" y="2392"/>
                  <a:pt x="2640" y="2216"/>
                </a:cubicBezTo>
                <a:cubicBezTo>
                  <a:pt x="3008" y="2040"/>
                  <a:pt x="3376" y="1176"/>
                  <a:pt x="3168" y="824"/>
                </a:cubicBezTo>
                <a:cubicBezTo>
                  <a:pt x="2960" y="472"/>
                  <a:pt x="1864" y="208"/>
                  <a:pt x="1392" y="104"/>
                </a:cubicBezTo>
                <a:cubicBezTo>
                  <a:pt x="920" y="0"/>
                  <a:pt x="568" y="144"/>
                  <a:pt x="336" y="200"/>
                </a:cubicBezTo>
                <a:cubicBezTo>
                  <a:pt x="104" y="256"/>
                  <a:pt x="0" y="272"/>
                  <a:pt x="0" y="44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9"/>
          <p:cNvSpPr/>
          <p:nvPr/>
        </p:nvSpPr>
        <p:spPr>
          <a:xfrm>
            <a:off x="6858000" y="1447920"/>
            <a:ext cx="2095560" cy="222228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4"/>
          <p:cNvSpPr/>
          <p:nvPr/>
        </p:nvSpPr>
        <p:spPr>
          <a:xfrm>
            <a:off x="2133720" y="4724280"/>
            <a:ext cx="2133360" cy="130824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228600" y="175248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ow does it work?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Line 4"/>
          <p:cNvSpPr/>
          <p:nvPr/>
        </p:nvSpPr>
        <p:spPr>
          <a:xfrm flipH="1" flipV="1">
            <a:off x="4724280" y="2361960"/>
            <a:ext cx="190512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914400" y="2286000"/>
            <a:ext cx="1295280" cy="4064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1"/>
          <p:cNvCxnSpPr>
            <a:stCxn id="191" idx="2"/>
            <a:endCxn id="192" idx="0"/>
          </p:cNvCxnSpPr>
          <p:nvPr/>
        </p:nvCxnSpPr>
        <p:spPr>
          <a:xfrm flipH="1">
            <a:off x="6697080" y="3365640"/>
            <a:ext cx="549720" cy="1730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Line 12"/>
          <p:cNvSpPr/>
          <p:nvPr/>
        </p:nvSpPr>
        <p:spPr>
          <a:xfrm>
            <a:off x="2514600" y="2743200"/>
            <a:ext cx="138744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724280" y="2209680"/>
            <a:ext cx="24386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V="1">
            <a:off x="4038480" y="2361960"/>
            <a:ext cx="533520" cy="24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038480" y="4900680"/>
            <a:ext cx="25146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49400" y="2417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Host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       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or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3733920" y="4672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7026120" y="29955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3"/>
          <p:cNvSpPr/>
          <p:nvPr/>
        </p:nvSpPr>
        <p:spPr>
          <a:xfrm>
            <a:off x="685800" y="205740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8153280" y="19810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2476440" y="2895480"/>
            <a:ext cx="1246320" cy="178128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1752840" y="2808360"/>
            <a:ext cx="950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Hash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(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) =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2905200" y="4800600"/>
            <a:ext cx="106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Stor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lt;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,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gt; at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 flipH="1">
            <a:off x="7259760" y="2233440"/>
            <a:ext cx="914400" cy="75096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 flipH="1" flipV="1">
            <a:off x="990720" y="2209320"/>
            <a:ext cx="1218960" cy="37620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7840080" y="24382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raffic to 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7467840" y="2879640"/>
            <a:ext cx="915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(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(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) =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 flipH="1" flipV="1">
            <a:off x="2676600" y="2800080"/>
            <a:ext cx="1249200" cy="183348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5"/>
          <p:cNvSpPr/>
          <p:nvPr/>
        </p:nvSpPr>
        <p:spPr>
          <a:xfrm>
            <a:off x="2724480" y="2735280"/>
            <a:ext cx="155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unnel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  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egress node,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1219320" y="1995480"/>
            <a:ext cx="137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Deliver to 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374760" y="5165640"/>
            <a:ext cx="304560" cy="252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26960" y="5486400"/>
            <a:ext cx="211320" cy="21276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825480" y="5129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wi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3"/>
          <p:cNvSpPr/>
          <p:nvPr/>
        </p:nvSpPr>
        <p:spPr>
          <a:xfrm>
            <a:off x="831600" y="543888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nd-h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289080" y="5883120"/>
            <a:ext cx="50472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822240" y="57024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ntro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6"/>
          <p:cNvSpPr/>
          <p:nvPr/>
        </p:nvSpPr>
        <p:spPr>
          <a:xfrm flipV="1">
            <a:off x="306360" y="6082920"/>
            <a:ext cx="477720" cy="32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7"/>
          <p:cNvSpPr/>
          <p:nvPr/>
        </p:nvSpPr>
        <p:spPr>
          <a:xfrm>
            <a:off x="832320" y="59436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ata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8"/>
          <p:cNvSpPr/>
          <p:nvPr/>
        </p:nvSpPr>
        <p:spPr>
          <a:xfrm>
            <a:off x="4175280" y="3362400"/>
            <a:ext cx="2970000" cy="1485720"/>
          </a:xfrm>
          <a:custGeom>
            <a:avLst/>
            <a:gdLst/>
            <a:ahLst/>
            <a:rect l="l" t="t" r="r" b="b"/>
            <a:pathLst>
              <a:path w="1552" h="948">
                <a:moveTo>
                  <a:pt x="0" y="948"/>
                </a:moveTo>
                <a:cubicBezTo>
                  <a:pt x="324" y="936"/>
                  <a:pt x="648" y="924"/>
                  <a:pt x="864" y="852"/>
                </a:cubicBezTo>
                <a:cubicBezTo>
                  <a:pt x="1080" y="780"/>
                  <a:pt x="1181" y="658"/>
                  <a:pt x="1296" y="516"/>
                </a:cubicBezTo>
                <a:cubicBezTo>
                  <a:pt x="1411" y="374"/>
                  <a:pt x="1481" y="187"/>
                  <a:pt x="1552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4738320" y="4191120"/>
            <a:ext cx="1124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Notifying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lt;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,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gt; to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226440" y="3809880"/>
            <a:ext cx="232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ntire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A large single IP sub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701136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2"/>
          <p:cNvSpPr/>
          <p:nvPr/>
        </p:nvSpPr>
        <p:spPr>
          <a:xfrm>
            <a:off x="5702400" y="5105520"/>
            <a:ext cx="2374920" cy="1218960"/>
          </a:xfrm>
          <a:custGeom>
            <a:avLst/>
            <a:gdLst/>
            <a:ahLst/>
            <a:rect l="l" t="t" r="r" b="b"/>
            <a:pathLst>
              <a:path w="1496" h="768">
                <a:moveTo>
                  <a:pt x="344" y="192"/>
                </a:moveTo>
                <a:cubicBezTo>
                  <a:pt x="168" y="248"/>
                  <a:pt x="152" y="264"/>
                  <a:pt x="104" y="336"/>
                </a:cubicBezTo>
                <a:cubicBezTo>
                  <a:pt x="56" y="408"/>
                  <a:pt x="0" y="552"/>
                  <a:pt x="56" y="624"/>
                </a:cubicBezTo>
                <a:cubicBezTo>
                  <a:pt x="112" y="696"/>
                  <a:pt x="256" y="768"/>
                  <a:pt x="440" y="768"/>
                </a:cubicBezTo>
                <a:cubicBezTo>
                  <a:pt x="624" y="768"/>
                  <a:pt x="984" y="720"/>
                  <a:pt x="1160" y="624"/>
                </a:cubicBezTo>
                <a:cubicBezTo>
                  <a:pt x="1336" y="528"/>
                  <a:pt x="1496" y="296"/>
                  <a:pt x="1496" y="192"/>
                </a:cubicBezTo>
                <a:cubicBezTo>
                  <a:pt x="1496" y="88"/>
                  <a:pt x="1352" y="0"/>
                  <a:pt x="1160" y="0"/>
                </a:cubicBezTo>
                <a:cubicBezTo>
                  <a:pt x="968" y="0"/>
                  <a:pt x="520" y="136"/>
                  <a:pt x="344" y="19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6477120" y="51055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73"/>
          <p:cNvSpPr/>
          <p:nvPr/>
        </p:nvSpPr>
        <p:spPr>
          <a:xfrm>
            <a:off x="3441600" y="1066680"/>
            <a:ext cx="2451240" cy="1155960"/>
          </a:xfrm>
          <a:custGeom>
            <a:avLst/>
            <a:gdLst/>
            <a:ahLst/>
            <a:rect l="l" t="t" r="r" b="b"/>
            <a:pathLst>
              <a:path w="1544" h="728">
                <a:moveTo>
                  <a:pt x="136" y="240"/>
                </a:moveTo>
                <a:cubicBezTo>
                  <a:pt x="24" y="312"/>
                  <a:pt x="0" y="408"/>
                  <a:pt x="40" y="480"/>
                </a:cubicBezTo>
                <a:cubicBezTo>
                  <a:pt x="80" y="552"/>
                  <a:pt x="240" y="632"/>
                  <a:pt x="376" y="672"/>
                </a:cubicBezTo>
                <a:cubicBezTo>
                  <a:pt x="512" y="712"/>
                  <a:pt x="688" y="728"/>
                  <a:pt x="856" y="720"/>
                </a:cubicBezTo>
                <a:cubicBezTo>
                  <a:pt x="1024" y="712"/>
                  <a:pt x="1272" y="688"/>
                  <a:pt x="1384" y="624"/>
                </a:cubicBezTo>
                <a:cubicBezTo>
                  <a:pt x="1496" y="560"/>
                  <a:pt x="1544" y="432"/>
                  <a:pt x="1528" y="336"/>
                </a:cubicBezTo>
                <a:cubicBezTo>
                  <a:pt x="1512" y="240"/>
                  <a:pt x="1424" y="96"/>
                  <a:pt x="1288" y="48"/>
                </a:cubicBezTo>
                <a:cubicBezTo>
                  <a:pt x="1152" y="0"/>
                  <a:pt x="904" y="16"/>
                  <a:pt x="712" y="48"/>
                </a:cubicBezTo>
                <a:cubicBezTo>
                  <a:pt x="520" y="80"/>
                  <a:pt x="248" y="168"/>
                  <a:pt x="136" y="24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5007240" y="192240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Optimized forwar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      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directly from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to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2"/>
          <p:cNvSpPr/>
          <p:nvPr/>
        </p:nvSpPr>
        <p:spPr>
          <a:xfrm>
            <a:off x="4151160" y="2354400"/>
            <a:ext cx="2872080" cy="2332080"/>
          </a:xfrm>
          <a:custGeom>
            <a:avLst/>
            <a:gdLst/>
            <a:ahLst/>
            <a:rect l="l" t="t" r="r" b="b"/>
            <a:pathLst>
              <a:path w="1791" h="1469">
                <a:moveTo>
                  <a:pt x="1791" y="558"/>
                </a:moveTo>
                <a:lnTo>
                  <a:pt x="334" y="0"/>
                </a:lnTo>
                <a:lnTo>
                  <a:pt x="0" y="1469"/>
                </a:lnTo>
              </a:path>
            </a:pathLst>
          </a:custGeom>
          <a:noFill/>
          <a:ln w="25560">
            <a:solidFill>
              <a:srgbClr val="00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1"/>
          <p:cNvSpPr/>
          <p:nvPr/>
        </p:nvSpPr>
        <p:spPr>
          <a:xfrm>
            <a:off x="2633760" y="2108160"/>
            <a:ext cx="4397400" cy="960480"/>
          </a:xfrm>
          <a:custGeom>
            <a:avLst/>
            <a:gdLst/>
            <a:ahLst/>
            <a:rect l="l" t="t" r="r" b="b"/>
            <a:pathLst>
              <a:path w="2770" h="622">
                <a:moveTo>
                  <a:pt x="2770" y="622"/>
                </a:moveTo>
                <a:lnTo>
                  <a:pt x="1261" y="0"/>
                </a:lnTo>
                <a:lnTo>
                  <a:pt x="0" y="265"/>
                </a:lnTo>
              </a:path>
            </a:pathLst>
          </a:custGeom>
          <a:noFill/>
          <a:ln w="25560">
            <a:solidFill>
              <a:srgbClr val="00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V="1">
            <a:off x="2666880" y="2209320"/>
            <a:ext cx="190512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4419720" y="20574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2209680" y="24717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5322600" y="2851200"/>
            <a:ext cx="137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unn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relay switch,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5D96-D298-4D61-868B-B93FE65F3CE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8"/>
          <p:cNvSpPr/>
          <p:nvPr/>
        </p:nvSpPr>
        <p:spPr>
          <a:xfrm>
            <a:off x="304920" y="174132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9"/>
          <p:cNvSpPr/>
          <p:nvPr/>
        </p:nvSpPr>
        <p:spPr>
          <a:xfrm>
            <a:off x="6477120" y="1512720"/>
            <a:ext cx="2286000" cy="222264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erminolog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368040" y="25797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940920" y="4343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lay (fo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814400" y="28195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1066680" y="2274840"/>
            <a:ext cx="1231920" cy="3081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774720" y="20494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7943760" y="220176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2755800" y="2424240"/>
            <a:ext cx="3733920" cy="609480"/>
          </a:xfrm>
          <a:custGeom>
            <a:avLst/>
            <a:gdLst/>
            <a:ahLst/>
            <a:rect l="l" t="t" r="r" b="b"/>
            <a:pathLst>
              <a:path w="2736" h="456">
                <a:moveTo>
                  <a:pt x="0" y="120"/>
                </a:moveTo>
                <a:cubicBezTo>
                  <a:pt x="120" y="60"/>
                  <a:pt x="240" y="0"/>
                  <a:pt x="384" y="24"/>
                </a:cubicBezTo>
                <a:cubicBezTo>
                  <a:pt x="528" y="48"/>
                  <a:pt x="696" y="256"/>
                  <a:pt x="864" y="264"/>
                </a:cubicBezTo>
                <a:cubicBezTo>
                  <a:pt x="1032" y="272"/>
                  <a:pt x="1232" y="56"/>
                  <a:pt x="1392" y="72"/>
                </a:cubicBezTo>
                <a:cubicBezTo>
                  <a:pt x="1552" y="88"/>
                  <a:pt x="1664" y="344"/>
                  <a:pt x="1824" y="360"/>
                </a:cubicBezTo>
                <a:cubicBezTo>
                  <a:pt x="1984" y="376"/>
                  <a:pt x="2200" y="152"/>
                  <a:pt x="2352" y="168"/>
                </a:cubicBezTo>
                <a:cubicBezTo>
                  <a:pt x="2504" y="184"/>
                  <a:pt x="2620" y="320"/>
                  <a:pt x="2736" y="45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2603520" y="2798640"/>
            <a:ext cx="1371600" cy="1828800"/>
          </a:xfrm>
          <a:custGeom>
            <a:avLst/>
            <a:gdLst/>
            <a:ahLst/>
            <a:rect l="l" t="t" r="r" b="b"/>
            <a:pathLst>
              <a:path w="864" h="1152">
                <a:moveTo>
                  <a:pt x="0" y="0"/>
                </a:moveTo>
                <a:cubicBezTo>
                  <a:pt x="0" y="140"/>
                  <a:pt x="0" y="280"/>
                  <a:pt x="96" y="384"/>
                </a:cubicBezTo>
                <a:cubicBezTo>
                  <a:pt x="192" y="488"/>
                  <a:pt x="448" y="496"/>
                  <a:pt x="576" y="624"/>
                </a:cubicBezTo>
                <a:cubicBezTo>
                  <a:pt x="704" y="752"/>
                  <a:pt x="784" y="952"/>
                  <a:pt x="864" y="115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4267080" y="3341520"/>
            <a:ext cx="2438640" cy="1562400"/>
          </a:xfrm>
          <a:custGeom>
            <a:avLst/>
            <a:gdLst/>
            <a:ahLst/>
            <a:rect l="l" t="t" r="r" b="b"/>
            <a:pathLst>
              <a:path w="1920" h="984">
                <a:moveTo>
                  <a:pt x="0" y="960"/>
                </a:moveTo>
                <a:cubicBezTo>
                  <a:pt x="188" y="972"/>
                  <a:pt x="376" y="984"/>
                  <a:pt x="528" y="912"/>
                </a:cubicBezTo>
                <a:cubicBezTo>
                  <a:pt x="680" y="840"/>
                  <a:pt x="744" y="624"/>
                  <a:pt x="912" y="528"/>
                </a:cubicBezTo>
                <a:cubicBezTo>
                  <a:pt x="1080" y="432"/>
                  <a:pt x="1368" y="424"/>
                  <a:pt x="1536" y="336"/>
                </a:cubicBezTo>
                <a:cubicBezTo>
                  <a:pt x="1704" y="248"/>
                  <a:pt x="1812" y="124"/>
                  <a:pt x="192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822840" y="46641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2298600" y="2463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V="1">
            <a:off x="6934320" y="2427120"/>
            <a:ext cx="990360" cy="6098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07080" y="19051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8192880" y="2019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126880" y="20415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3582360" y="5013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528960" y="33415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6489720" y="2963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6429240" y="3746520"/>
            <a:ext cx="2440080" cy="82404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gress applies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 cache eviction policy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this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3352680" y="2057400"/>
            <a:ext cx="2514600" cy="3373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ut-through forw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B975-CD5B-4990-8CE0-BCE38ECD8D32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ponding to Topology Change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572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H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rger et al.,STOC’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miz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45"/>
          <p:cNvSpPr/>
          <p:nvPr/>
        </p:nvSpPr>
        <p:spPr>
          <a:xfrm>
            <a:off x="2930400" y="1500120"/>
            <a:ext cx="4800600" cy="46483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46"/>
          <p:cNvSpPr/>
          <p:nvPr/>
        </p:nvSpPr>
        <p:spPr>
          <a:xfrm>
            <a:off x="3502080" y="20224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47"/>
          <p:cNvSpPr/>
          <p:nvPr/>
        </p:nvSpPr>
        <p:spPr>
          <a:xfrm>
            <a:off x="7645320" y="36082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48"/>
          <p:cNvSpPr/>
          <p:nvPr/>
        </p:nvSpPr>
        <p:spPr>
          <a:xfrm>
            <a:off x="5589720" y="598176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049"/>
          <p:cNvSpPr/>
          <p:nvPr/>
        </p:nvSpPr>
        <p:spPr>
          <a:xfrm>
            <a:off x="4065480" y="576252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55"/>
          <p:cNvSpPr/>
          <p:nvPr/>
        </p:nvSpPr>
        <p:spPr>
          <a:xfrm>
            <a:off x="6908760" y="206064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59"/>
          <p:cNvSpPr/>
          <p:nvPr/>
        </p:nvSpPr>
        <p:spPr>
          <a:xfrm>
            <a:off x="3003480" y="281160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66"/>
          <p:cNvSpPr/>
          <p:nvPr/>
        </p:nvSpPr>
        <p:spPr>
          <a:xfrm>
            <a:off x="3540240" y="2174760"/>
            <a:ext cx="15228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68"/>
          <p:cNvSpPr/>
          <p:nvPr/>
        </p:nvSpPr>
        <p:spPr>
          <a:xfrm>
            <a:off x="4073400" y="5791320"/>
            <a:ext cx="15264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88"/>
          <p:cNvGrpSpPr/>
          <p:nvPr/>
        </p:nvGrpSpPr>
        <p:grpSpPr>
          <a:xfrm>
            <a:off x="1997640" y="2254320"/>
            <a:ext cx="2102040" cy="4025160"/>
            <a:chOff x="1997640" y="2254320"/>
            <a:chExt cx="2102040" cy="4025160"/>
          </a:xfrm>
        </p:grpSpPr>
        <p:cxnSp>
          <p:nvCxnSpPr>
            <p:cNvPr id="269" name="AutoShape 1070"/>
            <p:cNvCxnSpPr>
              <a:stCxn id="270" idx="1"/>
              <a:endCxn id="263" idx="3"/>
            </p:cNvCxnSpPr>
            <p:nvPr/>
          </p:nvCxnSpPr>
          <p:spPr>
            <a:xfrm flipH="1" flipV="1" rot="10800000">
              <a:off x="2615040" y="4059720"/>
              <a:ext cx="1485000" cy="1917000"/>
            </a:xfrm>
            <a:prstGeom prst="curvedConnector5">
              <a:avLst>
                <a:gd name="adj1" fmla="val -41585"/>
                <a:gd name="adj2" fmla="val 57907"/>
                <a:gd name="adj3" fmla="val -41585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70" name="AutoShape 1073"/>
            <p:cNvSpPr/>
            <p:nvPr/>
          </p:nvSpPr>
          <p:spPr>
            <a:xfrm>
              <a:off x="2625840" y="2254320"/>
              <a:ext cx="380880" cy="36129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6800 h 3612960"/>
                <a:gd name="textAreaBottom" fmla="*/ 3566160 h 36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5400" y="10800"/>
                    <a:pt x="0" y="10800"/>
                  </a:cubicBezTo>
                  <a:cubicBezTo>
                    <a:pt x="54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74"/>
          <p:cNvSpPr/>
          <p:nvPr/>
        </p:nvSpPr>
        <p:spPr>
          <a:xfrm>
            <a:off x="45327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75"/>
          <p:cNvSpPr/>
          <p:nvPr/>
        </p:nvSpPr>
        <p:spPr>
          <a:xfrm>
            <a:off x="643140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76"/>
          <p:cNvSpPr/>
          <p:nvPr/>
        </p:nvSpPr>
        <p:spPr>
          <a:xfrm>
            <a:off x="7421760" y="44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77"/>
          <p:cNvSpPr/>
          <p:nvPr/>
        </p:nvSpPr>
        <p:spPr>
          <a:xfrm>
            <a:off x="742176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78"/>
          <p:cNvSpPr/>
          <p:nvPr/>
        </p:nvSpPr>
        <p:spPr>
          <a:xfrm>
            <a:off x="590436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79"/>
          <p:cNvSpPr/>
          <p:nvPr/>
        </p:nvSpPr>
        <p:spPr>
          <a:xfrm>
            <a:off x="41454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0"/>
          <p:cNvSpPr/>
          <p:nvPr/>
        </p:nvSpPr>
        <p:spPr>
          <a:xfrm>
            <a:off x="323100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81"/>
          <p:cNvSpPr/>
          <p:nvPr/>
        </p:nvSpPr>
        <p:spPr>
          <a:xfrm>
            <a:off x="2773800" y="36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82"/>
          <p:cNvSpPr/>
          <p:nvPr/>
        </p:nvSpPr>
        <p:spPr>
          <a:xfrm>
            <a:off x="2856240" y="42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83"/>
          <p:cNvSpPr/>
          <p:nvPr/>
        </p:nvSpPr>
        <p:spPr>
          <a:xfrm>
            <a:off x="353556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092"/>
          <p:cNvGrpSpPr/>
          <p:nvPr/>
        </p:nvGrpSpPr>
        <p:grpSpPr>
          <a:xfrm>
            <a:off x="2727000" y="2209680"/>
            <a:ext cx="432000" cy="720000"/>
            <a:chOff x="2727000" y="2209680"/>
            <a:chExt cx="432000" cy="720000"/>
          </a:xfrm>
        </p:grpSpPr>
        <p:sp>
          <p:nvSpPr>
            <p:cNvPr id="282" name="AutoShape 1084"/>
            <p:cNvSpPr/>
            <p:nvPr/>
          </p:nvSpPr>
          <p:spPr>
            <a:xfrm>
              <a:off x="2959200" y="2209680"/>
              <a:ext cx="199800" cy="58104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7560 h 581040"/>
                <a:gd name="textAreaBottom" fmla="*/ 57348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10320"/>
                  </a:lnTo>
                  <a:cubicBezTo>
                    <a:pt x="10800" y="10770"/>
                    <a:pt x="5400" y="11220"/>
                    <a:pt x="0" y="11220"/>
                  </a:cubicBezTo>
                  <a:cubicBezTo>
                    <a:pt x="5400" y="11220"/>
                    <a:pt x="10800" y="11670"/>
                    <a:pt x="10800" y="1212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AutoShape 1085"/>
            <p:cNvCxnSpPr>
              <a:stCxn id="282" idx="1"/>
              <a:endCxn id="265" idx="2"/>
            </p:cNvCxnSpPr>
            <p:nvPr/>
          </p:nvCxnSpPr>
          <p:spPr>
            <a:xfrm flipH="1" flipV="1" rot="10800000">
              <a:off x="2948040" y="2499120"/>
              <a:ext cx="41760" cy="430920"/>
            </a:xfrm>
            <a:prstGeom prst="curvedConnector5">
              <a:avLst>
                <a:gd name="adj1" fmla="val -534782"/>
                <a:gd name="adj2" fmla="val 50000"/>
                <a:gd name="adj3" fmla="val -534782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</p:grpSp>
      <p:grpSp>
        <p:nvGrpSpPr>
          <p:cNvPr id="284" name="Group 1093"/>
          <p:cNvGrpSpPr/>
          <p:nvPr/>
        </p:nvGrpSpPr>
        <p:grpSpPr>
          <a:xfrm>
            <a:off x="2062080" y="2209680"/>
            <a:ext cx="2038320" cy="4015800"/>
            <a:chOff x="2062080" y="2209680"/>
            <a:chExt cx="2038320" cy="4015800"/>
          </a:xfrm>
        </p:grpSpPr>
        <p:cxnSp>
          <p:nvCxnSpPr>
            <p:cNvPr id="285" name="AutoShape 1086"/>
            <p:cNvCxnSpPr>
              <a:stCxn id="286" idx="1"/>
              <a:endCxn id="263" idx="3"/>
            </p:cNvCxnSpPr>
            <p:nvPr/>
          </p:nvCxnSpPr>
          <p:spPr>
            <a:xfrm flipH="1" flipV="1" rot="10800000">
              <a:off x="2952720" y="2508840"/>
              <a:ext cx="1148040" cy="3467880"/>
            </a:xfrm>
            <a:prstGeom prst="curvedConnector5">
              <a:avLst>
                <a:gd name="adj1" fmla="val -77603"/>
                <a:gd name="adj2" fmla="val 53592"/>
                <a:gd name="adj3" fmla="val -77603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86" name="AutoShape 1090"/>
            <p:cNvSpPr/>
            <p:nvPr/>
          </p:nvSpPr>
          <p:spPr>
            <a:xfrm>
              <a:off x="2962440" y="2209680"/>
              <a:ext cx="199800" cy="60012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7560 h 600120"/>
                <a:gd name="textAreaBottom" fmla="*/ 59256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10320"/>
                  </a:lnTo>
                  <a:cubicBezTo>
                    <a:pt x="10800" y="10770"/>
                    <a:pt x="5400" y="11220"/>
                    <a:pt x="0" y="11220"/>
                  </a:cubicBezTo>
                  <a:cubicBezTo>
                    <a:pt x="5400" y="11220"/>
                    <a:pt x="10800" y="11670"/>
                    <a:pt x="10800" y="1212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B83-A5A2-481A-9E05-971BEC7EAA52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ngle Hop Look-up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2209680" y="1500120"/>
            <a:ext cx="4800600" cy="46483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2781360" y="20224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6924600" y="36082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4869000" y="5981760"/>
            <a:ext cx="23940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344760" y="576252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13516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1829880" y="17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072200" y="14842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51"/>
          <p:cNvCxnSpPr>
            <a:stCxn id="296" idx="1"/>
            <a:endCxn id="298" idx="7"/>
          </p:cNvCxnSpPr>
          <p:nvPr/>
        </p:nvCxnSpPr>
        <p:spPr>
          <a:xfrm flipH="1">
            <a:off x="6392160" y="1682640"/>
            <a:ext cx="680040" cy="401040"/>
          </a:xfrm>
          <a:prstGeom prst="straightConnector1">
            <a:avLst/>
          </a:prstGeom>
          <a:ln w="28440">
            <a:solidFill>
              <a:srgbClr val="969696"/>
            </a:solidFill>
            <a:prstDash val="dash"/>
            <a:miter/>
          </a:ln>
        </p:spPr>
      </p:cxnSp>
      <p:cxnSp>
        <p:nvCxnSpPr>
          <p:cNvPr id="299" name="AutoShape 52"/>
          <p:cNvCxnSpPr>
            <a:stCxn id="295" idx="3"/>
            <a:endCxn id="290" idx="2"/>
          </p:cNvCxnSpPr>
          <p:nvPr/>
        </p:nvCxnSpPr>
        <p:spPr>
          <a:xfrm>
            <a:off x="2139480" y="1990440"/>
            <a:ext cx="629640" cy="151560"/>
          </a:xfrm>
          <a:prstGeom prst="straightConnector1">
            <a:avLst/>
          </a:prstGeom>
          <a:ln w="28440">
            <a:solidFill>
              <a:srgbClr val="969696"/>
            </a:solidFill>
            <a:prstDash val="dash"/>
            <a:miter/>
          </a:ln>
        </p:spPr>
      </p:cxnSp>
      <p:sp>
        <p:nvSpPr>
          <p:cNvPr id="300" name="Text Box 54"/>
          <p:cNvSpPr/>
          <p:nvPr/>
        </p:nvSpPr>
        <p:spPr>
          <a:xfrm>
            <a:off x="3526200" y="958680"/>
            <a:ext cx="20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ds traffic t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6188040" y="206064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56"/>
          <p:cNvCxnSpPr>
            <a:stCxn id="298" idx="3"/>
            <a:endCxn id="293" idx="7"/>
          </p:cNvCxnSpPr>
          <p:nvPr/>
        </p:nvCxnSpPr>
        <p:spPr>
          <a:xfrm flipH="1">
            <a:off x="3549240" y="2274840"/>
            <a:ext cx="2674080" cy="351072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02" name="AutoShape 57"/>
          <p:cNvCxnSpPr>
            <a:stCxn id="293" idx="0"/>
            <a:endCxn id="290" idx="4"/>
          </p:cNvCxnSpPr>
          <p:nvPr/>
        </p:nvCxnSpPr>
        <p:spPr>
          <a:xfrm flipH="1" flipV="1">
            <a:off x="2901240" y="2271240"/>
            <a:ext cx="564120" cy="34790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03" name="AutoShape 58"/>
          <p:cNvCxnSpPr>
            <a:stCxn id="298" idx="2"/>
            <a:endCxn id="290" idx="6"/>
          </p:cNvCxnSpPr>
          <p:nvPr/>
        </p:nvCxnSpPr>
        <p:spPr>
          <a:xfrm flipH="1" flipV="1">
            <a:off x="3033000" y="2141280"/>
            <a:ext cx="3142440" cy="388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304" name="Text Box 55"/>
          <p:cNvSpPr/>
          <p:nvPr/>
        </p:nvSpPr>
        <p:spPr>
          <a:xfrm>
            <a:off x="3276720" y="3500280"/>
            <a:ext cx="2881080" cy="58068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very switch on a ring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ogically one hop 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27BB-285F-405C-8164-9E1AD678308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80880" y="3886200"/>
            <a:ext cx="2133720" cy="130824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ponding to Host Mobilit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Freeform 4"/>
          <p:cNvSpPr/>
          <p:nvPr/>
        </p:nvSpPr>
        <p:spPr>
          <a:xfrm>
            <a:off x="304920" y="174132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6477120" y="1512720"/>
            <a:ext cx="2286000" cy="222264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940920" y="4343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lay (fo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774720" y="20494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943760" y="220176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3822840" y="46641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6"/>
          <p:cNvSpPr/>
          <p:nvPr/>
        </p:nvSpPr>
        <p:spPr>
          <a:xfrm>
            <a:off x="2298600" y="2463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8192880" y="2019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126880" y="20415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3582360" y="5013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6265440" y="33415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3"/>
          <p:cNvSpPr/>
          <p:nvPr/>
        </p:nvSpPr>
        <p:spPr>
          <a:xfrm>
            <a:off x="6489720" y="2963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029200" y="2286000"/>
            <a:ext cx="2514600" cy="58068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en cut-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warding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2209680" y="45720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1906200" y="49528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AutoShape 34"/>
          <p:cNvCxnSpPr>
            <a:stCxn id="321" idx="3"/>
            <a:endCxn id="313" idx="1"/>
          </p:cNvCxnSpPr>
          <p:nvPr/>
        </p:nvCxnSpPr>
        <p:spPr>
          <a:xfrm>
            <a:off x="2660400" y="4752720"/>
            <a:ext cx="1152720" cy="9252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324" name="AutoShape 36"/>
          <p:cNvCxnSpPr>
            <a:stCxn id="313" idx="0"/>
            <a:endCxn id="314" idx="2"/>
          </p:cNvCxnSpPr>
          <p:nvPr/>
        </p:nvCxnSpPr>
        <p:spPr>
          <a:xfrm flipH="1" flipV="1">
            <a:off x="2518920" y="2833200"/>
            <a:ext cx="1524960" cy="182160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325" name="AutoShape 38"/>
          <p:cNvCxnSpPr>
            <a:stCxn id="314" idx="3"/>
            <a:endCxn id="319" idx="1"/>
          </p:cNvCxnSpPr>
          <p:nvPr/>
        </p:nvCxnSpPr>
        <p:spPr>
          <a:xfrm>
            <a:off x="2749680" y="2644560"/>
            <a:ext cx="3731040" cy="50076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326" name="Text Box 41"/>
          <p:cNvSpPr/>
          <p:nvPr/>
        </p:nvSpPr>
        <p:spPr>
          <a:xfrm>
            <a:off x="384120" y="1752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Old 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08160" y="47242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w 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5"/>
          <p:cNvGrpSpPr/>
          <p:nvPr/>
        </p:nvGrpSpPr>
        <p:grpSpPr>
          <a:xfrm>
            <a:off x="3581280" y="5203800"/>
            <a:ext cx="930600" cy="452880"/>
            <a:chOff x="3581280" y="5203800"/>
            <a:chExt cx="930600" cy="452880"/>
          </a:xfrm>
        </p:grpSpPr>
        <p:sp>
          <p:nvSpPr>
            <p:cNvPr id="329" name="Text Box 35"/>
            <p:cNvSpPr/>
            <p:nvPr/>
          </p:nvSpPr>
          <p:spPr>
            <a:xfrm>
              <a:off x="3582720" y="52578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H="1">
              <a:off x="3581280" y="525924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H="1">
              <a:off x="3581280" y="520380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4"/>
          <p:cNvGrpSpPr/>
          <p:nvPr/>
        </p:nvGrpSpPr>
        <p:grpSpPr>
          <a:xfrm>
            <a:off x="2122200" y="1855800"/>
            <a:ext cx="929160" cy="446040"/>
            <a:chOff x="2122200" y="1855800"/>
            <a:chExt cx="929160" cy="446040"/>
          </a:xfrm>
        </p:grpSpPr>
        <p:sp>
          <p:nvSpPr>
            <p:cNvPr id="333" name="Text Box 47"/>
            <p:cNvSpPr/>
            <p:nvPr/>
          </p:nvSpPr>
          <p:spPr>
            <a:xfrm>
              <a:off x="2122200" y="18558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8"/>
            <p:cNvSpPr/>
            <p:nvPr/>
          </p:nvSpPr>
          <p:spPr>
            <a:xfrm flipH="1">
              <a:off x="2133720" y="230184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9"/>
            <p:cNvSpPr/>
            <p:nvPr/>
          </p:nvSpPr>
          <p:spPr>
            <a:xfrm flipH="1">
              <a:off x="2133720" y="224640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0"/>
          <p:cNvGrpSpPr/>
          <p:nvPr/>
        </p:nvGrpSpPr>
        <p:grpSpPr>
          <a:xfrm>
            <a:off x="6248160" y="3535200"/>
            <a:ext cx="930600" cy="452880"/>
            <a:chOff x="6248160" y="3535200"/>
            <a:chExt cx="930600" cy="452880"/>
          </a:xfrm>
        </p:grpSpPr>
        <p:sp>
          <p:nvSpPr>
            <p:cNvPr id="337" name="Text Box 51"/>
            <p:cNvSpPr/>
            <p:nvPr/>
          </p:nvSpPr>
          <p:spPr>
            <a:xfrm>
              <a:off x="6249600" y="35892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2"/>
            <p:cNvSpPr/>
            <p:nvPr/>
          </p:nvSpPr>
          <p:spPr>
            <a:xfrm flipH="1">
              <a:off x="6248160" y="3590640"/>
              <a:ext cx="914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3"/>
            <p:cNvSpPr/>
            <p:nvPr/>
          </p:nvSpPr>
          <p:spPr>
            <a:xfrm flipH="1">
              <a:off x="6248160" y="3535200"/>
              <a:ext cx="914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00694 0.34561 E">
                                      <p:cBhvr>
                                        <p:cTn id="536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373-4D18-40B0-95D8-112B71FDE1F4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nicast-based Bootstrapp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:  Broadcast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ATTLE: Hash-based on-demand address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 the same mechanism as loca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xy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gress switch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a un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: Broadcast requests and re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ATTLE: Utilize DHCP relay age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FC 21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xy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gress switch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a un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5DB8-E2DA-4F05-A6BC-BF65BAB7950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TLE 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lug-and-play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erprise architecture ensuring bot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design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-based loc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location resolution and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st-path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 little data-plane efficiency for huge control-plane scalability makes a qualitatively diffe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patterns (small static COIs, and short flow interarrival times) are our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8F14-C16C-4337-B116-0B192BC56195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n-US" sz="3200" spc="-1" strike="noStrike">
                <a:solidFill>
                  <a:srgbClr val="ff3300"/>
                </a:solidFill>
                <a:latin typeface="Trebuchet MS"/>
              </a:rPr>
              <a:t>“All Ethernet”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Enterprise Network?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ll Ethernet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akes network management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nfiguration of end-hosts and network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independent and perman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lso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-contro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051017104310_network_management"/>
          <p:cNvPicPr/>
          <p:nvPr/>
        </p:nvPicPr>
        <p:blipFill>
          <a:blip r:embed="rId1"/>
          <a:srcRect l="41903" t="6725" r="0" b="23850"/>
          <a:stretch/>
        </p:blipFill>
        <p:spPr>
          <a:xfrm>
            <a:off x="4800600" y="3019320"/>
            <a:ext cx="3657600" cy="3457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nterprise_diagram"/>
          <p:cNvPicPr/>
          <p:nvPr/>
        </p:nvPicPr>
        <p:blipFill>
          <a:blip r:embed="rId2"/>
          <a:stretch/>
        </p:blipFill>
        <p:spPr>
          <a:xfrm>
            <a:off x="6781680" y="2876400"/>
            <a:ext cx="2190960" cy="1443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8988480" y="31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9716-7465-4E5A-A741-2C2E3211BA5B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But, Ethernet bridging </a:t>
            </a:r>
            <a:r>
              <a:rPr b="1" lang="en-US" sz="3600" spc="-1" strike="noStrike">
                <a:solidFill>
                  <a:srgbClr val="ff3300"/>
                </a:solidFill>
                <a:latin typeface="Trebuchet MS"/>
              </a:rPr>
              <a:t>does not scal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ooding-bas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to unknown destinations are flo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adcasting for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ping relies on broa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nerable to resource exhaustion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efficient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re fatal due to broadcast storms; use the 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along a single tree lead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No image for noisy? Refresh the page"/>
          <p:cNvPicPr/>
          <p:nvPr/>
        </p:nvPicPr>
        <p:blipFill>
          <a:blip r:embed="rId1"/>
          <a:stretch/>
        </p:blipFill>
        <p:spPr>
          <a:xfrm>
            <a:off x="304920" y="234144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pe23.jpg (36741 bytes)"/>
          <p:cNvPicPr/>
          <p:nvPr/>
        </p:nvPicPr>
        <p:blipFill>
          <a:blip r:embed="rId2"/>
          <a:stretch/>
        </p:blipFill>
        <p:spPr>
          <a:xfrm>
            <a:off x="7277040" y="5114880"/>
            <a:ext cx="1866960" cy="14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7272360" y="91440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3797280" y="-67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8EA3-DA75-4496-BDE3-6B357C59B97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8"/>
          <p:cNvSpPr/>
          <p:nvPr/>
        </p:nvSpPr>
        <p:spPr>
          <a:xfrm>
            <a:off x="3200400" y="3124080"/>
            <a:ext cx="4343400" cy="2590920"/>
          </a:xfrm>
          <a:custGeom>
            <a:avLst/>
            <a:gdLst/>
            <a:ahLst/>
            <a:rect l="l" t="t" r="r" b="b"/>
            <a:pathLst>
              <a:path w="3376" h="2392">
                <a:moveTo>
                  <a:pt x="0" y="440"/>
                </a:moveTo>
                <a:cubicBezTo>
                  <a:pt x="0" y="608"/>
                  <a:pt x="176" y="968"/>
                  <a:pt x="336" y="1208"/>
                </a:cubicBezTo>
                <a:cubicBezTo>
                  <a:pt x="496" y="1448"/>
                  <a:pt x="576" y="1712"/>
                  <a:pt x="960" y="1880"/>
                </a:cubicBezTo>
                <a:cubicBezTo>
                  <a:pt x="1344" y="2048"/>
                  <a:pt x="2272" y="2392"/>
                  <a:pt x="2640" y="2216"/>
                </a:cubicBezTo>
                <a:cubicBezTo>
                  <a:pt x="3008" y="2040"/>
                  <a:pt x="3376" y="1176"/>
                  <a:pt x="3168" y="824"/>
                </a:cubicBezTo>
                <a:cubicBezTo>
                  <a:pt x="2960" y="472"/>
                  <a:pt x="1864" y="208"/>
                  <a:pt x="1392" y="104"/>
                </a:cubicBezTo>
                <a:cubicBezTo>
                  <a:pt x="920" y="0"/>
                  <a:pt x="568" y="144"/>
                  <a:pt x="336" y="200"/>
                </a:cubicBezTo>
                <a:cubicBezTo>
                  <a:pt x="104" y="256"/>
                  <a:pt x="0" y="272"/>
                  <a:pt x="0" y="44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471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e of the Practice: A Hybrid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networks comprised o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thernet-based IP subn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connected b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7"/>
          <p:cNvSpPr/>
          <p:nvPr/>
        </p:nvSpPr>
        <p:spPr>
          <a:xfrm>
            <a:off x="7250040" y="3089160"/>
            <a:ext cx="1524240" cy="157500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28"/>
          <p:cNvSpPr/>
          <p:nvPr/>
        </p:nvSpPr>
        <p:spPr>
          <a:xfrm>
            <a:off x="2743200" y="4876920"/>
            <a:ext cx="1676520" cy="106668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9"/>
          <p:cNvSpPr/>
          <p:nvPr/>
        </p:nvSpPr>
        <p:spPr>
          <a:xfrm>
            <a:off x="533520" y="2438280"/>
            <a:ext cx="2781360" cy="205740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0"/>
          <p:cNvSpPr/>
          <p:nvPr/>
        </p:nvSpPr>
        <p:spPr>
          <a:xfrm flipH="1" flipV="1">
            <a:off x="4800240" y="3200040"/>
            <a:ext cx="1981080" cy="2057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3"/>
          <p:cNvSpPr/>
          <p:nvPr/>
        </p:nvSpPr>
        <p:spPr>
          <a:xfrm>
            <a:off x="3352680" y="3860640"/>
            <a:ext cx="609840" cy="914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4"/>
          <p:cNvSpPr/>
          <p:nvPr/>
        </p:nvSpPr>
        <p:spPr>
          <a:xfrm>
            <a:off x="4800600" y="3200400"/>
            <a:ext cx="2666880" cy="1031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5"/>
          <p:cNvSpPr/>
          <p:nvPr/>
        </p:nvSpPr>
        <p:spPr>
          <a:xfrm flipV="1">
            <a:off x="4191120" y="3250800"/>
            <a:ext cx="533160" cy="1600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6"/>
          <p:cNvSpPr/>
          <p:nvPr/>
        </p:nvSpPr>
        <p:spPr>
          <a:xfrm>
            <a:off x="4191120" y="4951440"/>
            <a:ext cx="2514600" cy="433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8"/>
          <p:cNvSpPr/>
          <p:nvPr/>
        </p:nvSpPr>
        <p:spPr>
          <a:xfrm>
            <a:off x="3809880" y="47750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5"/>
          <p:cNvSpPr/>
          <p:nvPr/>
        </p:nvSpPr>
        <p:spPr>
          <a:xfrm>
            <a:off x="6029280" y="5257800"/>
            <a:ext cx="1689120" cy="965160"/>
          </a:xfrm>
          <a:custGeom>
            <a:avLst/>
            <a:gdLst/>
            <a:ahLst/>
            <a:rect l="l" t="t" r="r" b="b"/>
            <a:pathLst>
              <a:path w="1496" h="768">
                <a:moveTo>
                  <a:pt x="344" y="192"/>
                </a:moveTo>
                <a:cubicBezTo>
                  <a:pt x="168" y="248"/>
                  <a:pt x="152" y="264"/>
                  <a:pt x="104" y="336"/>
                </a:cubicBezTo>
                <a:cubicBezTo>
                  <a:pt x="56" y="408"/>
                  <a:pt x="0" y="552"/>
                  <a:pt x="56" y="624"/>
                </a:cubicBezTo>
                <a:cubicBezTo>
                  <a:pt x="112" y="696"/>
                  <a:pt x="256" y="768"/>
                  <a:pt x="440" y="768"/>
                </a:cubicBezTo>
                <a:cubicBezTo>
                  <a:pt x="624" y="768"/>
                  <a:pt x="984" y="720"/>
                  <a:pt x="1160" y="624"/>
                </a:cubicBezTo>
                <a:cubicBezTo>
                  <a:pt x="1336" y="528"/>
                  <a:pt x="1496" y="296"/>
                  <a:pt x="1496" y="192"/>
                </a:cubicBezTo>
                <a:cubicBezTo>
                  <a:pt x="1496" y="88"/>
                  <a:pt x="1352" y="0"/>
                  <a:pt x="1160" y="0"/>
                </a:cubicBezTo>
                <a:cubicBezTo>
                  <a:pt x="968" y="0"/>
                  <a:pt x="520" y="136"/>
                  <a:pt x="344" y="19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7"/>
          <p:cNvSpPr/>
          <p:nvPr/>
        </p:nvSpPr>
        <p:spPr>
          <a:xfrm>
            <a:off x="3665520" y="2209680"/>
            <a:ext cx="1981080" cy="1003320"/>
          </a:xfrm>
          <a:custGeom>
            <a:avLst/>
            <a:gdLst/>
            <a:ahLst/>
            <a:rect l="l" t="t" r="r" b="b"/>
            <a:pathLst>
              <a:path w="1544" h="728">
                <a:moveTo>
                  <a:pt x="136" y="240"/>
                </a:moveTo>
                <a:cubicBezTo>
                  <a:pt x="24" y="312"/>
                  <a:pt x="0" y="408"/>
                  <a:pt x="40" y="480"/>
                </a:cubicBezTo>
                <a:cubicBezTo>
                  <a:pt x="80" y="552"/>
                  <a:pt x="240" y="632"/>
                  <a:pt x="376" y="672"/>
                </a:cubicBezTo>
                <a:cubicBezTo>
                  <a:pt x="512" y="712"/>
                  <a:pt x="688" y="728"/>
                  <a:pt x="856" y="720"/>
                </a:cubicBezTo>
                <a:cubicBezTo>
                  <a:pt x="1024" y="712"/>
                  <a:pt x="1272" y="688"/>
                  <a:pt x="1384" y="624"/>
                </a:cubicBezTo>
                <a:cubicBezTo>
                  <a:pt x="1496" y="560"/>
                  <a:pt x="1544" y="432"/>
                  <a:pt x="1528" y="336"/>
                </a:cubicBezTo>
                <a:cubicBezTo>
                  <a:pt x="1512" y="240"/>
                  <a:pt x="1424" y="96"/>
                  <a:pt x="1288" y="48"/>
                </a:cubicBezTo>
                <a:cubicBezTo>
                  <a:pt x="1152" y="0"/>
                  <a:pt x="904" y="16"/>
                  <a:pt x="712" y="48"/>
                </a:cubicBezTo>
                <a:cubicBezTo>
                  <a:pt x="520" y="80"/>
                  <a:pt x="248" y="168"/>
                  <a:pt x="136" y="24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1"/>
          <p:cNvSpPr/>
          <p:nvPr/>
        </p:nvSpPr>
        <p:spPr>
          <a:xfrm flipV="1">
            <a:off x="3352680" y="3241800"/>
            <a:ext cx="1447920" cy="380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3"/>
          <p:cNvSpPr/>
          <p:nvPr/>
        </p:nvSpPr>
        <p:spPr>
          <a:xfrm>
            <a:off x="3063960" y="35370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5"/>
          <p:cNvSpPr/>
          <p:nvPr/>
        </p:nvSpPr>
        <p:spPr>
          <a:xfrm flipH="1">
            <a:off x="6858000" y="4267080"/>
            <a:ext cx="533520" cy="990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6"/>
          <p:cNvSpPr/>
          <p:nvPr/>
        </p:nvSpPr>
        <p:spPr>
          <a:xfrm>
            <a:off x="6629400" y="51562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7178760" y="40622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6"/>
          <p:cNvSpPr/>
          <p:nvPr/>
        </p:nvSpPr>
        <p:spPr>
          <a:xfrm>
            <a:off x="720720" y="2971800"/>
            <a:ext cx="2343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thernet Bri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lat addr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Self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lood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- Forwarding along 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7"/>
          <p:cNvSpPr/>
          <p:nvPr/>
        </p:nvSpPr>
        <p:spPr>
          <a:xfrm>
            <a:off x="4075920" y="3646440"/>
            <a:ext cx="3063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P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Hierarchical addr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Subnet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Host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orwarding along shortest pa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2"/>
          <p:cNvSpPr/>
          <p:nvPr/>
        </p:nvSpPr>
        <p:spPr>
          <a:xfrm>
            <a:off x="4572000" y="3124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7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FB5-164A-4CC4-994F-BB9E499CEED3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bridging nor routing is satis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n’t we take only the best of 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92200" y="2133720"/>
          <a:ext cx="6019920" cy="3693960"/>
        </p:xfrm>
        <a:graphic>
          <a:graphicData uri="http://schemas.openxmlformats.org/drawingml/2006/table">
            <a:tbl>
              <a:tblPr/>
              <a:tblGrid>
                <a:gridCol w="2895480"/>
                <a:gridCol w="1555920"/>
                <a:gridCol w="1568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ity in addr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obility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gence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ance to 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858000" y="2133720"/>
          <a:ext cx="1371600" cy="36939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4.44444E-006 L -0.07239 0.00023 E">
                                      <p:cBhvr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2876-11FC-40B8-98CE-AD8AA1D85B60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voiding Flood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uses flooding as a rout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frames to unknown destinations are flo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cale to a larg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icast unica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ntrol-plane mechanism to discover and disseminate hosts’ loc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Cj03710760000[1]"/>
          <p:cNvPicPr/>
          <p:nvPr/>
        </p:nvPicPr>
        <p:blipFill>
          <a:blip r:embed="rId1"/>
          <a:stretch/>
        </p:blipFill>
        <p:spPr>
          <a:xfrm>
            <a:off x="2193840" y="2166840"/>
            <a:ext cx="668520" cy="8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Cj03125100000[1]"/>
          <p:cNvPicPr/>
          <p:nvPr/>
        </p:nvPicPr>
        <p:blipFill>
          <a:blip r:embed="rId2"/>
          <a:stretch/>
        </p:blipFill>
        <p:spPr>
          <a:xfrm>
            <a:off x="1763640" y="2697120"/>
            <a:ext cx="663480" cy="67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3125100000[1]"/>
          <p:cNvPicPr/>
          <p:nvPr/>
        </p:nvPicPr>
        <p:blipFill>
          <a:blip r:embed="rId3"/>
          <a:stretch/>
        </p:blipFill>
        <p:spPr>
          <a:xfrm>
            <a:off x="5126040" y="1989000"/>
            <a:ext cx="663480" cy="67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Cj03125100000[1]"/>
          <p:cNvPicPr/>
          <p:nvPr/>
        </p:nvPicPr>
        <p:blipFill>
          <a:blip r:embed="rId4"/>
          <a:stretch/>
        </p:blipFill>
        <p:spPr>
          <a:xfrm>
            <a:off x="5921280" y="2492280"/>
            <a:ext cx="663840" cy="67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MCj03125100000[1]"/>
          <p:cNvPicPr/>
          <p:nvPr/>
        </p:nvPicPr>
        <p:blipFill>
          <a:blip r:embed="rId5"/>
          <a:stretch/>
        </p:blipFill>
        <p:spPr>
          <a:xfrm>
            <a:off x="5200560" y="3141720"/>
            <a:ext cx="663840" cy="679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6156360" y="3251160"/>
            <a:ext cx="27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d it 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 least, they’ll learn where the source 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84360" y="3463920"/>
            <a:ext cx="34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n’t know where destination 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3203640" y="2311560"/>
            <a:ext cx="1873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276720" y="2814480"/>
            <a:ext cx="251928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3203640" y="3032280"/>
            <a:ext cx="194472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864-1217-43ED-A780-8E7B54254252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training Broadcast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 use of broadcasting for bootstrapp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HCP and 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ing is a vestig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-medium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rious overhea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2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pport unicast-based bootstr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directo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objective #2.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pport general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andling broadcast should be more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No image for noisy? Refresh the page"/>
          <p:cNvPicPr/>
          <p:nvPr/>
        </p:nvPicPr>
        <p:blipFill>
          <a:blip r:embed="rId1"/>
          <a:stretch/>
        </p:blipFill>
        <p:spPr>
          <a:xfrm>
            <a:off x="5791320" y="1828800"/>
            <a:ext cx="25146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7BB-D0C1-42B7-B9D3-2D966F9B267B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Keeping Forwarding Tables Small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 and self-learning lead to unnecessarily large forward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ables are not only inefficient, but also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3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stall hosts’ location inform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only when and where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reactive resolu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traffic patterns are better-suited to reactiv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8A08-2115-4F1B-A83F-19CA8E739C4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nsuring Optimal Forwarding Path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avoids broadcast stor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forwarding along a single tree 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load balancing and long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panning trees are insuffic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4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tilize shortest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objective #4.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event broadca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n alternative measure to prevent broadcast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33" descr="detour"/>
          <p:cNvPicPr/>
          <p:nvPr/>
        </p:nvPicPr>
        <p:blipFill>
          <a:blip r:embed="rId1"/>
          <a:stretch/>
        </p:blipFill>
        <p:spPr>
          <a:xfrm>
            <a:off x="6732720" y="1916280"/>
            <a:ext cx="1008000" cy="83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31" descr="detour"/>
          <p:cNvPicPr/>
          <p:nvPr/>
        </p:nvPicPr>
        <p:blipFill>
          <a:blip r:embed="rId2"/>
          <a:srcRect l="2026" t="2734" r="1756" b="2560"/>
          <a:stretch/>
        </p:blipFill>
        <p:spPr>
          <a:xfrm>
            <a:off x="6659640" y="1916280"/>
            <a:ext cx="1950840" cy="14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21:07:50Z</dcterms:created>
  <dc:creator>Princeton University</dc:creator>
  <dc:description/>
  <dc:language>en-US</dc:language>
  <cp:lastModifiedBy>Microsoft Office User</cp:lastModifiedBy>
  <dcterms:modified xsi:type="dcterms:W3CDTF">2016-11-17T04:17:59Z</dcterms:modified>
  <cp:revision>663</cp:revision>
  <dc:subject/>
  <dc:title>Reconciling Zero-conf with Efficiency in Enterprises</dc:title>
</cp:coreProperties>
</file>