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87E1-1329-40F1-A6DA-D5FCBED1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3558-43E3-43F6-90D3-F0D42D8CF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50A7-9AB1-4696-99BC-AD707D4C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6F5D-8EF2-4A08-A6FA-1D2393AB3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36D-39C3-4589-A01C-1361DC2A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EFCA-AEF1-46D0-82FC-03DB59185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5F55-B416-49CF-8E2D-46E959CB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D74D-DAF3-40F7-AA8C-445A30AC9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469C-4D27-46C2-9656-B40D1638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4576-F931-47D0-A8E6-4D60B657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6DFF-0B1B-44CC-9A8E-63A4952CF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7C2D-18BF-4209-AA19-063C2896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DAA0-1862-4AF1-B2D3-4A98F6C4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23F-9FCF-40E8-A861-8E2F8B7C6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9730-F6F5-4F81-A68F-696F8CA0C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CA71-F666-4360-B3CB-10309D08D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551-6EE9-42D0-B74F-40633470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D5B0-5842-41B3-9057-E40032CD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8A18-346A-43E0-AF2D-8E6331898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036-7675-4683-8A4A-D4601605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8B1-5489-4D09-8E1E-AC525FFA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E1D-1943-4938-9686-FDB09E8A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F8C-1E08-465B-A2E0-FAE8F74C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B620-627A-434F-8619-2560C6BC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991-10FD-4FCA-BF3C-6CA61647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420-26EF-412C-8425-E3DA4FF9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3383-624D-4C60-93E6-46366B39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268F-1462-401A-A999-DF381365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1920" y="471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4CCA-7316-43CD-BC90-7450DD5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F171-0227-4BBC-96BF-E108D27E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1F2-1883-484E-A568-88A459C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4C91-4080-4A38-B27E-7FE90CC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DA67-26B6-4924-82D9-9C191E7F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58F5-DB26-478F-A537-0485160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A6B1-C918-4F7E-96AF-D64C1007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AC6B-8F29-483F-B0D7-52AF73CD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DAA-F769-4BCC-B7F7-95234725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392-98C0-4299-A151-A2926867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CC1-D07E-4D4A-9DD3-78759CF3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4716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7E4-5CE4-4160-B1A7-A224AD8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697-D596-46C7-81BB-79BAA3E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146-E3AB-4946-B710-514D6406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4FD-7002-4292-AE68-1CFA0D63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99080"/>
            <a:ext cx="6543720" cy="35892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5661000" y="6610320"/>
            <a:ext cx="348300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66200" y="65718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33440" y="65718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62800" y="657180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rebuchet MS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C21A-B26A-41F8-99C7-66B48FD1D536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8763120" cy="822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486240" y="0"/>
            <a:ext cx="5657760" cy="15228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6172200"/>
            <a:ext cx="5657760" cy="68580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724280" y="6400800"/>
            <a:ext cx="4419720" cy="45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4952880" cy="1447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pulogo"/>
          <p:cNvPicPr/>
          <p:nvPr/>
        </p:nvPicPr>
        <p:blipFill>
          <a:blip r:embed="rId2"/>
          <a:stretch/>
        </p:blipFill>
        <p:spPr>
          <a:xfrm>
            <a:off x="8028000" y="33336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486240" y="0"/>
            <a:ext cx="5657760" cy="298440"/>
          </a:xfrm>
          <a:prstGeom prst="rect">
            <a:avLst/>
          </a:prstGeom>
          <a:solidFill>
            <a:srgbClr val="f95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6763-4E37-4A70-B3D7-CB4C3932D9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824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evisiting Ethernet:</a:t>
            </a:r>
            <a:br>
              <a:rPr sz="4000"/>
            </a:b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Plug-and-play made scalable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and efficien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5CF8-89AF-4FAF-839C-D9B3CDEF7113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Backwards Compatibility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5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o not modify end-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nd-hosts’ view, network must work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hosts shou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ame protocol stack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be forced to run an additiona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31" descr="pucampus"/>
          <p:cNvPicPr/>
          <p:nvPr/>
        </p:nvPicPr>
        <p:blipFill>
          <a:blip r:embed="rId1"/>
          <a:stretch/>
        </p:blipFill>
        <p:spPr>
          <a:xfrm>
            <a:off x="2743200" y="1952640"/>
            <a:ext cx="4800600" cy="33051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40"/>
          <p:cNvSpPr/>
          <p:nvPr/>
        </p:nvSpPr>
        <p:spPr>
          <a:xfrm>
            <a:off x="3343320" y="435276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41"/>
          <p:cNvSpPr/>
          <p:nvPr/>
        </p:nvSpPr>
        <p:spPr>
          <a:xfrm>
            <a:off x="3143160" y="4829040"/>
            <a:ext cx="15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42"/>
          <p:cNvSpPr/>
          <p:nvPr/>
        </p:nvSpPr>
        <p:spPr>
          <a:xfrm>
            <a:off x="2867040" y="414324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046"/>
          <p:cNvGrpSpPr/>
          <p:nvPr/>
        </p:nvGrpSpPr>
        <p:grpSpPr>
          <a:xfrm>
            <a:off x="533520" y="2971800"/>
            <a:ext cx="2809800" cy="2057040"/>
            <a:chOff x="533520" y="2971800"/>
            <a:chExt cx="2809800" cy="2057040"/>
          </a:xfrm>
        </p:grpSpPr>
        <p:pic>
          <p:nvPicPr>
            <p:cNvPr id="174" name="Picture 1037" descr="DO%20NOT%20TOUCH"/>
            <p:cNvPicPr/>
            <p:nvPr/>
          </p:nvPicPr>
          <p:blipFill>
            <a:blip r:embed="rId2"/>
            <a:stretch/>
          </p:blipFill>
          <p:spPr>
            <a:xfrm>
              <a:off x="533520" y="2971800"/>
              <a:ext cx="1824480" cy="823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5" name="AutoShape 1043"/>
            <p:cNvCxnSpPr>
              <a:stCxn id="174" idx="2"/>
              <a:endCxn id="172" idx="1"/>
            </p:cNvCxnSpPr>
            <p:nvPr/>
          </p:nvCxnSpPr>
          <p:spPr>
            <a:xfrm flipH="1" rot="16200000">
              <a:off x="1932120" y="3308400"/>
              <a:ext cx="406800" cy="1379520"/>
            </a:xfrm>
            <a:prstGeom prst="bentConnector2">
              <a:avLst/>
            </a:prstGeom>
            <a:ln w="1908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176" name="AutoShape 1044"/>
            <p:cNvCxnSpPr>
              <a:stCxn id="174" idx="2"/>
              <a:endCxn id="170" idx="1"/>
            </p:cNvCxnSpPr>
            <p:nvPr/>
          </p:nvCxnSpPr>
          <p:spPr>
            <a:xfrm flipH="1" rot="16200000">
              <a:off x="2064960" y="3175560"/>
              <a:ext cx="659520" cy="1897920"/>
            </a:xfrm>
            <a:prstGeom prst="bentConnector2">
              <a:avLst/>
            </a:prstGeom>
            <a:ln w="19080">
              <a:solidFill>
                <a:srgbClr val="5f5f5f"/>
              </a:solidFill>
              <a:miter/>
              <a:tailEnd len="med" type="triangle" w="med"/>
            </a:ln>
          </p:spPr>
        </p:cxnSp>
        <p:cxnSp>
          <p:nvCxnSpPr>
            <p:cNvPr id="177" name="AutoShape 1045"/>
            <p:cNvCxnSpPr>
              <a:stCxn id="174" idx="2"/>
              <a:endCxn id="171" idx="1"/>
            </p:cNvCxnSpPr>
            <p:nvPr/>
          </p:nvCxnSpPr>
          <p:spPr>
            <a:xfrm flipH="1" rot="16200000">
              <a:off x="1667880" y="3571920"/>
              <a:ext cx="1234080" cy="1680120"/>
            </a:xfrm>
            <a:prstGeom prst="bentConnector2">
              <a:avLst/>
            </a:prstGeom>
            <a:ln w="19080">
              <a:solidFill>
                <a:srgbClr val="5f5f5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59E6-C362-4211-9C3D-2F0DC3FDD39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EATTLE in a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3080" y="914040"/>
            <a:ext cx="8572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lat addressing of end-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use hos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C addresses fo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zero-configuration and backwards-compatibilit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utomated host discovery at the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detect the arrival/departure of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viates flooding and ensures scalabilit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1,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ash-based on-deman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 deterministically maps a host to a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resolve end-hos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cation and address via h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scalabilit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1, 2,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ortest-path forwarding between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run link-state routing with only their own connectivity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data-plane efficiency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bj #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1AF2-F216-48E4-87FB-B10F01C954C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6"/>
          <p:cNvSpPr/>
          <p:nvPr/>
        </p:nvSpPr>
        <p:spPr>
          <a:xfrm>
            <a:off x="152280" y="990720"/>
            <a:ext cx="9017280" cy="5473440"/>
          </a:xfrm>
          <a:custGeom>
            <a:avLst/>
            <a:gdLst/>
            <a:ahLst/>
            <a:rect l="l" t="t" r="r" b="b"/>
            <a:pathLst>
              <a:path w="5680" h="3448">
                <a:moveTo>
                  <a:pt x="200" y="616"/>
                </a:moveTo>
                <a:cubicBezTo>
                  <a:pt x="0" y="744"/>
                  <a:pt x="0" y="872"/>
                  <a:pt x="8" y="1096"/>
                </a:cubicBezTo>
                <a:cubicBezTo>
                  <a:pt x="16" y="1320"/>
                  <a:pt x="8" y="1608"/>
                  <a:pt x="248" y="1960"/>
                </a:cubicBezTo>
                <a:cubicBezTo>
                  <a:pt x="488" y="2312"/>
                  <a:pt x="880" y="2968"/>
                  <a:pt x="1448" y="3208"/>
                </a:cubicBezTo>
                <a:cubicBezTo>
                  <a:pt x="2016" y="3448"/>
                  <a:pt x="3080" y="3408"/>
                  <a:pt x="3656" y="3400"/>
                </a:cubicBezTo>
                <a:cubicBezTo>
                  <a:pt x="4232" y="3392"/>
                  <a:pt x="4608" y="3440"/>
                  <a:pt x="4904" y="3160"/>
                </a:cubicBezTo>
                <a:cubicBezTo>
                  <a:pt x="5200" y="2880"/>
                  <a:pt x="5352" y="2152"/>
                  <a:pt x="5432" y="1720"/>
                </a:cubicBezTo>
                <a:cubicBezTo>
                  <a:pt x="5512" y="1288"/>
                  <a:pt x="5680" y="848"/>
                  <a:pt x="5384" y="568"/>
                </a:cubicBezTo>
                <a:cubicBezTo>
                  <a:pt x="5088" y="288"/>
                  <a:pt x="4352" y="80"/>
                  <a:pt x="3656" y="40"/>
                </a:cubicBezTo>
                <a:cubicBezTo>
                  <a:pt x="2960" y="0"/>
                  <a:pt x="1784" y="232"/>
                  <a:pt x="1208" y="328"/>
                </a:cubicBezTo>
                <a:cubicBezTo>
                  <a:pt x="632" y="424"/>
                  <a:pt x="400" y="488"/>
                  <a:pt x="200" y="616"/>
                </a:cubicBezTo>
                <a:close/>
              </a:path>
            </a:pathLst>
          </a:custGeom>
          <a:solidFill>
            <a:srgbClr val="9999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7"/>
          <p:cNvSpPr/>
          <p:nvPr/>
        </p:nvSpPr>
        <p:spPr>
          <a:xfrm>
            <a:off x="2340000" y="2036880"/>
            <a:ext cx="5359320" cy="3622680"/>
          </a:xfrm>
          <a:custGeom>
            <a:avLst/>
            <a:gdLst/>
            <a:ahLst/>
            <a:rect l="l" t="t" r="r" b="b"/>
            <a:pathLst>
              <a:path w="3376" h="2392">
                <a:moveTo>
                  <a:pt x="0" y="440"/>
                </a:moveTo>
                <a:cubicBezTo>
                  <a:pt x="0" y="608"/>
                  <a:pt x="176" y="968"/>
                  <a:pt x="336" y="1208"/>
                </a:cubicBezTo>
                <a:cubicBezTo>
                  <a:pt x="496" y="1448"/>
                  <a:pt x="576" y="1712"/>
                  <a:pt x="960" y="1880"/>
                </a:cubicBezTo>
                <a:cubicBezTo>
                  <a:pt x="1344" y="2048"/>
                  <a:pt x="2272" y="2392"/>
                  <a:pt x="2640" y="2216"/>
                </a:cubicBezTo>
                <a:cubicBezTo>
                  <a:pt x="3008" y="2040"/>
                  <a:pt x="3376" y="1176"/>
                  <a:pt x="3168" y="824"/>
                </a:cubicBezTo>
                <a:cubicBezTo>
                  <a:pt x="2960" y="472"/>
                  <a:pt x="1864" y="208"/>
                  <a:pt x="1392" y="104"/>
                </a:cubicBezTo>
                <a:cubicBezTo>
                  <a:pt x="920" y="0"/>
                  <a:pt x="568" y="144"/>
                  <a:pt x="336" y="200"/>
                </a:cubicBezTo>
                <a:cubicBezTo>
                  <a:pt x="104" y="256"/>
                  <a:pt x="0" y="272"/>
                  <a:pt x="0" y="44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69"/>
          <p:cNvSpPr/>
          <p:nvPr/>
        </p:nvSpPr>
        <p:spPr>
          <a:xfrm>
            <a:off x="6858000" y="1447920"/>
            <a:ext cx="2095560" cy="222228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64"/>
          <p:cNvSpPr/>
          <p:nvPr/>
        </p:nvSpPr>
        <p:spPr>
          <a:xfrm>
            <a:off x="2133720" y="4724280"/>
            <a:ext cx="2133360" cy="1308240"/>
          </a:xfrm>
          <a:custGeom>
            <a:avLst/>
            <a:gdLst/>
            <a:ahLst/>
            <a:rect l="l" t="t" r="r" b="b"/>
            <a:pathLst>
              <a:path w="1344" h="904">
                <a:moveTo>
                  <a:pt x="768" y="8"/>
                </a:moveTo>
                <a:cubicBezTo>
                  <a:pt x="624" y="0"/>
                  <a:pt x="400" y="8"/>
                  <a:pt x="288" y="56"/>
                </a:cubicBezTo>
                <a:cubicBezTo>
                  <a:pt x="176" y="104"/>
                  <a:pt x="136" y="208"/>
                  <a:pt x="96" y="296"/>
                </a:cubicBezTo>
                <a:cubicBezTo>
                  <a:pt x="56" y="384"/>
                  <a:pt x="0" y="488"/>
                  <a:pt x="48" y="584"/>
                </a:cubicBezTo>
                <a:cubicBezTo>
                  <a:pt x="96" y="680"/>
                  <a:pt x="200" y="840"/>
                  <a:pt x="384" y="872"/>
                </a:cubicBezTo>
                <a:cubicBezTo>
                  <a:pt x="568" y="904"/>
                  <a:pt x="992" y="864"/>
                  <a:pt x="1152" y="776"/>
                </a:cubicBezTo>
                <a:cubicBezTo>
                  <a:pt x="1312" y="688"/>
                  <a:pt x="1344" y="456"/>
                  <a:pt x="1344" y="344"/>
                </a:cubicBezTo>
                <a:cubicBezTo>
                  <a:pt x="1344" y="232"/>
                  <a:pt x="1248" y="160"/>
                  <a:pt x="1152" y="104"/>
                </a:cubicBezTo>
                <a:cubicBezTo>
                  <a:pt x="1056" y="48"/>
                  <a:pt x="912" y="16"/>
                  <a:pt x="768" y="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2"/>
          <p:cNvSpPr/>
          <p:nvPr/>
        </p:nvSpPr>
        <p:spPr>
          <a:xfrm>
            <a:off x="228600" y="1752480"/>
            <a:ext cx="2324160" cy="143532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ow does it work?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Line 4"/>
          <p:cNvSpPr/>
          <p:nvPr/>
        </p:nvSpPr>
        <p:spPr>
          <a:xfrm flipH="1" flipV="1">
            <a:off x="4724280" y="2361960"/>
            <a:ext cx="190512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914400" y="2286000"/>
            <a:ext cx="1295280" cy="4064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1"/>
          <p:cNvCxnSpPr>
            <a:stCxn id="191" idx="2"/>
            <a:endCxn id="192" idx="0"/>
          </p:cNvCxnSpPr>
          <p:nvPr/>
        </p:nvCxnSpPr>
        <p:spPr>
          <a:xfrm flipH="1">
            <a:off x="6697080" y="3365640"/>
            <a:ext cx="549720" cy="1730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3" name="Line 12"/>
          <p:cNvSpPr/>
          <p:nvPr/>
        </p:nvSpPr>
        <p:spPr>
          <a:xfrm>
            <a:off x="2514600" y="2743200"/>
            <a:ext cx="1387440" cy="2019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724280" y="2209680"/>
            <a:ext cx="24386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V="1">
            <a:off x="4038480" y="2361960"/>
            <a:ext cx="533520" cy="243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4038480" y="4900680"/>
            <a:ext cx="251460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149400" y="2417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Host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       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or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3733920" y="46720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2"/>
          <p:cNvSpPr/>
          <p:nvPr/>
        </p:nvSpPr>
        <p:spPr>
          <a:xfrm>
            <a:off x="7026120" y="29955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3"/>
          <p:cNvSpPr/>
          <p:nvPr/>
        </p:nvSpPr>
        <p:spPr>
          <a:xfrm>
            <a:off x="685800" y="205740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8153280" y="198108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2476440" y="2895480"/>
            <a:ext cx="1246320" cy="178128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1752840" y="2808360"/>
            <a:ext cx="9500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Hash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(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(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) =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2905200" y="4800600"/>
            <a:ext cx="106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Stor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lt;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,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gt; at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 flipH="1">
            <a:off x="7259760" y="2233440"/>
            <a:ext cx="914400" cy="750960"/>
          </a:xfrm>
          <a:prstGeom prst="line">
            <a:avLst/>
          </a:prstGeom>
          <a:ln w="25560">
            <a:solidFill>
              <a:srgbClr val="0033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9"/>
          <p:cNvSpPr/>
          <p:nvPr/>
        </p:nvSpPr>
        <p:spPr>
          <a:xfrm flipH="1" flipV="1">
            <a:off x="990720" y="2209320"/>
            <a:ext cx="1218960" cy="376200"/>
          </a:xfrm>
          <a:prstGeom prst="line">
            <a:avLst/>
          </a:prstGeom>
          <a:ln w="25560">
            <a:solidFill>
              <a:srgbClr val="0033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7840080" y="243828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Traffic to </a:t>
            </a:r>
            <a:r>
              <a:rPr b="0" i="1" lang="en-US" sz="1600" spc="-1" strike="noStrike">
                <a:solidFill>
                  <a:srgbClr val="0033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7467840" y="2879640"/>
            <a:ext cx="915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H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(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(</a:t>
            </a:r>
            <a:r>
              <a:rPr b="0" i="1" lang="en-US" sz="1600" spc="-1" strike="noStrike">
                <a:solidFill>
                  <a:srgbClr val="0033ff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) =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B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4"/>
          <p:cNvSpPr/>
          <p:nvPr/>
        </p:nvSpPr>
        <p:spPr>
          <a:xfrm flipH="1" flipV="1">
            <a:off x="2676600" y="2800080"/>
            <a:ext cx="1249200" cy="1833480"/>
          </a:xfrm>
          <a:prstGeom prst="line">
            <a:avLst/>
          </a:prstGeom>
          <a:ln w="25560">
            <a:solidFill>
              <a:srgbClr val="0033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5"/>
          <p:cNvSpPr/>
          <p:nvPr/>
        </p:nvSpPr>
        <p:spPr>
          <a:xfrm>
            <a:off x="2724480" y="2735280"/>
            <a:ext cx="155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Tunnel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  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egress node,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6"/>
          <p:cNvSpPr/>
          <p:nvPr/>
        </p:nvSpPr>
        <p:spPr>
          <a:xfrm>
            <a:off x="1219320" y="1995480"/>
            <a:ext cx="13716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Deliver to </a:t>
            </a:r>
            <a:r>
              <a:rPr b="0" i="1" lang="en-US" sz="1600" spc="-1" strike="noStrike">
                <a:solidFill>
                  <a:srgbClr val="0033ff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374760" y="5165640"/>
            <a:ext cx="304560" cy="252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26960" y="5486400"/>
            <a:ext cx="211320" cy="21276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2"/>
          <p:cNvSpPr/>
          <p:nvPr/>
        </p:nvSpPr>
        <p:spPr>
          <a:xfrm>
            <a:off x="825480" y="5129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wi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3"/>
          <p:cNvSpPr/>
          <p:nvPr/>
        </p:nvSpPr>
        <p:spPr>
          <a:xfrm>
            <a:off x="831600" y="543888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nd-ho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4"/>
          <p:cNvSpPr/>
          <p:nvPr/>
        </p:nvSpPr>
        <p:spPr>
          <a:xfrm>
            <a:off x="289080" y="5883120"/>
            <a:ext cx="50472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5"/>
          <p:cNvSpPr/>
          <p:nvPr/>
        </p:nvSpPr>
        <p:spPr>
          <a:xfrm>
            <a:off x="822240" y="57024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ntrol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6"/>
          <p:cNvSpPr/>
          <p:nvPr/>
        </p:nvSpPr>
        <p:spPr>
          <a:xfrm flipV="1">
            <a:off x="306360" y="6082920"/>
            <a:ext cx="477720" cy="32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7"/>
          <p:cNvSpPr/>
          <p:nvPr/>
        </p:nvSpPr>
        <p:spPr>
          <a:xfrm>
            <a:off x="832320" y="59436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Data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48"/>
          <p:cNvSpPr/>
          <p:nvPr/>
        </p:nvSpPr>
        <p:spPr>
          <a:xfrm>
            <a:off x="4175280" y="3362400"/>
            <a:ext cx="2970000" cy="1485720"/>
          </a:xfrm>
          <a:custGeom>
            <a:avLst/>
            <a:gdLst/>
            <a:ahLst/>
            <a:rect l="l" t="t" r="r" b="b"/>
            <a:pathLst>
              <a:path w="1552" h="948">
                <a:moveTo>
                  <a:pt x="0" y="948"/>
                </a:moveTo>
                <a:cubicBezTo>
                  <a:pt x="324" y="936"/>
                  <a:pt x="648" y="924"/>
                  <a:pt x="864" y="852"/>
                </a:cubicBezTo>
                <a:cubicBezTo>
                  <a:pt x="1080" y="780"/>
                  <a:pt x="1181" y="658"/>
                  <a:pt x="1296" y="516"/>
                </a:cubicBezTo>
                <a:cubicBezTo>
                  <a:pt x="1411" y="374"/>
                  <a:pt x="1481" y="187"/>
                  <a:pt x="1552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4738320" y="4191120"/>
            <a:ext cx="1124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Notifying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lt;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,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&gt; to </a:t>
            </a:r>
            <a:r>
              <a:rPr b="1" i="1" lang="en-US" sz="1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0"/>
          <p:cNvSpPr/>
          <p:nvPr/>
        </p:nvSpPr>
        <p:spPr>
          <a:xfrm>
            <a:off x="226440" y="3809880"/>
            <a:ext cx="232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ntire 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A large single IP sub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1"/>
          <p:cNvSpPr/>
          <p:nvPr/>
        </p:nvSpPr>
        <p:spPr>
          <a:xfrm>
            <a:off x="7011360" y="403848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S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2"/>
          <p:cNvSpPr/>
          <p:nvPr/>
        </p:nvSpPr>
        <p:spPr>
          <a:xfrm>
            <a:off x="5702400" y="5105520"/>
            <a:ext cx="2374920" cy="1218960"/>
          </a:xfrm>
          <a:custGeom>
            <a:avLst/>
            <a:gdLst/>
            <a:ahLst/>
            <a:rect l="l" t="t" r="r" b="b"/>
            <a:pathLst>
              <a:path w="1496" h="768">
                <a:moveTo>
                  <a:pt x="344" y="192"/>
                </a:moveTo>
                <a:cubicBezTo>
                  <a:pt x="168" y="248"/>
                  <a:pt x="152" y="264"/>
                  <a:pt x="104" y="336"/>
                </a:cubicBezTo>
                <a:cubicBezTo>
                  <a:pt x="56" y="408"/>
                  <a:pt x="0" y="552"/>
                  <a:pt x="56" y="624"/>
                </a:cubicBezTo>
                <a:cubicBezTo>
                  <a:pt x="112" y="696"/>
                  <a:pt x="256" y="768"/>
                  <a:pt x="440" y="768"/>
                </a:cubicBezTo>
                <a:cubicBezTo>
                  <a:pt x="624" y="768"/>
                  <a:pt x="984" y="720"/>
                  <a:pt x="1160" y="624"/>
                </a:cubicBezTo>
                <a:cubicBezTo>
                  <a:pt x="1336" y="528"/>
                  <a:pt x="1496" y="296"/>
                  <a:pt x="1496" y="192"/>
                </a:cubicBezTo>
                <a:cubicBezTo>
                  <a:pt x="1496" y="88"/>
                  <a:pt x="1352" y="0"/>
                  <a:pt x="1160" y="0"/>
                </a:cubicBezTo>
                <a:cubicBezTo>
                  <a:pt x="968" y="0"/>
                  <a:pt x="520" y="136"/>
                  <a:pt x="344" y="19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6477120" y="510552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73"/>
          <p:cNvSpPr/>
          <p:nvPr/>
        </p:nvSpPr>
        <p:spPr>
          <a:xfrm>
            <a:off x="3441600" y="1066680"/>
            <a:ext cx="2451240" cy="1155960"/>
          </a:xfrm>
          <a:custGeom>
            <a:avLst/>
            <a:gdLst/>
            <a:ahLst/>
            <a:rect l="l" t="t" r="r" b="b"/>
            <a:pathLst>
              <a:path w="1544" h="728">
                <a:moveTo>
                  <a:pt x="136" y="240"/>
                </a:moveTo>
                <a:cubicBezTo>
                  <a:pt x="24" y="312"/>
                  <a:pt x="0" y="408"/>
                  <a:pt x="40" y="480"/>
                </a:cubicBezTo>
                <a:cubicBezTo>
                  <a:pt x="80" y="552"/>
                  <a:pt x="240" y="632"/>
                  <a:pt x="376" y="672"/>
                </a:cubicBezTo>
                <a:cubicBezTo>
                  <a:pt x="512" y="712"/>
                  <a:pt x="688" y="728"/>
                  <a:pt x="856" y="720"/>
                </a:cubicBezTo>
                <a:cubicBezTo>
                  <a:pt x="1024" y="712"/>
                  <a:pt x="1272" y="688"/>
                  <a:pt x="1384" y="624"/>
                </a:cubicBezTo>
                <a:cubicBezTo>
                  <a:pt x="1496" y="560"/>
                  <a:pt x="1544" y="432"/>
                  <a:pt x="1528" y="336"/>
                </a:cubicBezTo>
                <a:cubicBezTo>
                  <a:pt x="1512" y="240"/>
                  <a:pt x="1424" y="96"/>
                  <a:pt x="1288" y="48"/>
                </a:cubicBezTo>
                <a:cubicBezTo>
                  <a:pt x="1152" y="0"/>
                  <a:pt x="904" y="16"/>
                  <a:pt x="712" y="48"/>
                </a:cubicBezTo>
                <a:cubicBezTo>
                  <a:pt x="520" y="80"/>
                  <a:pt x="248" y="168"/>
                  <a:pt x="136" y="24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5007240" y="1922400"/>
            <a:ext cx="212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Optimized forwar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      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directly from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to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52"/>
          <p:cNvSpPr/>
          <p:nvPr/>
        </p:nvSpPr>
        <p:spPr>
          <a:xfrm>
            <a:off x="4151160" y="2354400"/>
            <a:ext cx="2872080" cy="2332080"/>
          </a:xfrm>
          <a:custGeom>
            <a:avLst/>
            <a:gdLst/>
            <a:ahLst/>
            <a:rect l="l" t="t" r="r" b="b"/>
            <a:pathLst>
              <a:path w="1791" h="1469">
                <a:moveTo>
                  <a:pt x="1791" y="558"/>
                </a:moveTo>
                <a:lnTo>
                  <a:pt x="334" y="0"/>
                </a:lnTo>
                <a:lnTo>
                  <a:pt x="0" y="1469"/>
                </a:lnTo>
              </a:path>
            </a:pathLst>
          </a:custGeom>
          <a:noFill/>
          <a:ln w="25560">
            <a:solidFill>
              <a:srgbClr val="00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51"/>
          <p:cNvSpPr/>
          <p:nvPr/>
        </p:nvSpPr>
        <p:spPr>
          <a:xfrm>
            <a:off x="2633760" y="2108160"/>
            <a:ext cx="4397400" cy="960480"/>
          </a:xfrm>
          <a:custGeom>
            <a:avLst/>
            <a:gdLst/>
            <a:ahLst/>
            <a:rect l="l" t="t" r="r" b="b"/>
            <a:pathLst>
              <a:path w="2770" h="622">
                <a:moveTo>
                  <a:pt x="2770" y="622"/>
                </a:moveTo>
                <a:lnTo>
                  <a:pt x="1261" y="0"/>
                </a:lnTo>
                <a:lnTo>
                  <a:pt x="0" y="265"/>
                </a:lnTo>
              </a:path>
            </a:pathLst>
          </a:custGeom>
          <a:noFill/>
          <a:ln w="25560">
            <a:solidFill>
              <a:srgbClr val="00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"/>
          <p:cNvSpPr/>
          <p:nvPr/>
        </p:nvSpPr>
        <p:spPr>
          <a:xfrm flipV="1">
            <a:off x="2666880" y="2209320"/>
            <a:ext cx="190512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0"/>
          <p:cNvSpPr/>
          <p:nvPr/>
        </p:nvSpPr>
        <p:spPr>
          <a:xfrm>
            <a:off x="4419720" y="20574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4"/>
          <p:cNvSpPr/>
          <p:nvPr/>
        </p:nvSpPr>
        <p:spPr>
          <a:xfrm>
            <a:off x="2209680" y="24717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5322600" y="2851200"/>
            <a:ext cx="137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Tunn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relay switch, </a:t>
            </a:r>
            <a:r>
              <a:rPr b="1" i="1" lang="en-US" sz="1400" spc="-1" strike="noStrike">
                <a:solidFill>
                  <a:srgbClr val="0033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ff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67B5-43B5-4FC3-B014-44A4E7F52EA9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28"/>
          <p:cNvSpPr/>
          <p:nvPr/>
        </p:nvSpPr>
        <p:spPr>
          <a:xfrm>
            <a:off x="304920" y="1741320"/>
            <a:ext cx="2324160" cy="143532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9"/>
          <p:cNvSpPr/>
          <p:nvPr/>
        </p:nvSpPr>
        <p:spPr>
          <a:xfrm>
            <a:off x="6477120" y="1512720"/>
            <a:ext cx="2286000" cy="222264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erminology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368040" y="25797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I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3940920" y="43434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lay (fo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814400" y="281952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1066680" y="2274840"/>
            <a:ext cx="1231920" cy="30816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774720" y="204948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7943760" y="220176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2755800" y="2424240"/>
            <a:ext cx="3733920" cy="609480"/>
          </a:xfrm>
          <a:custGeom>
            <a:avLst/>
            <a:gdLst/>
            <a:ahLst/>
            <a:rect l="l" t="t" r="r" b="b"/>
            <a:pathLst>
              <a:path w="2736" h="456">
                <a:moveTo>
                  <a:pt x="0" y="120"/>
                </a:moveTo>
                <a:cubicBezTo>
                  <a:pt x="120" y="60"/>
                  <a:pt x="240" y="0"/>
                  <a:pt x="384" y="24"/>
                </a:cubicBezTo>
                <a:cubicBezTo>
                  <a:pt x="528" y="48"/>
                  <a:pt x="696" y="256"/>
                  <a:pt x="864" y="264"/>
                </a:cubicBezTo>
                <a:cubicBezTo>
                  <a:pt x="1032" y="272"/>
                  <a:pt x="1232" y="56"/>
                  <a:pt x="1392" y="72"/>
                </a:cubicBezTo>
                <a:cubicBezTo>
                  <a:pt x="1552" y="88"/>
                  <a:pt x="1664" y="344"/>
                  <a:pt x="1824" y="360"/>
                </a:cubicBezTo>
                <a:cubicBezTo>
                  <a:pt x="1984" y="376"/>
                  <a:pt x="2200" y="152"/>
                  <a:pt x="2352" y="168"/>
                </a:cubicBezTo>
                <a:cubicBezTo>
                  <a:pt x="2504" y="184"/>
                  <a:pt x="2620" y="320"/>
                  <a:pt x="2736" y="45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5"/>
          <p:cNvSpPr/>
          <p:nvPr/>
        </p:nvSpPr>
        <p:spPr>
          <a:xfrm>
            <a:off x="2603520" y="2798640"/>
            <a:ext cx="1371600" cy="1828800"/>
          </a:xfrm>
          <a:custGeom>
            <a:avLst/>
            <a:gdLst/>
            <a:ahLst/>
            <a:rect l="l" t="t" r="r" b="b"/>
            <a:pathLst>
              <a:path w="864" h="1152">
                <a:moveTo>
                  <a:pt x="0" y="0"/>
                </a:moveTo>
                <a:cubicBezTo>
                  <a:pt x="0" y="140"/>
                  <a:pt x="0" y="280"/>
                  <a:pt x="96" y="384"/>
                </a:cubicBezTo>
                <a:cubicBezTo>
                  <a:pt x="192" y="488"/>
                  <a:pt x="448" y="496"/>
                  <a:pt x="576" y="624"/>
                </a:cubicBezTo>
                <a:cubicBezTo>
                  <a:pt x="704" y="752"/>
                  <a:pt x="784" y="952"/>
                  <a:pt x="864" y="115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"/>
          <p:cNvSpPr/>
          <p:nvPr/>
        </p:nvSpPr>
        <p:spPr>
          <a:xfrm>
            <a:off x="4267080" y="3341520"/>
            <a:ext cx="2438640" cy="1562400"/>
          </a:xfrm>
          <a:custGeom>
            <a:avLst/>
            <a:gdLst/>
            <a:ahLst/>
            <a:rect l="l" t="t" r="r" b="b"/>
            <a:pathLst>
              <a:path w="1920" h="984">
                <a:moveTo>
                  <a:pt x="0" y="960"/>
                </a:moveTo>
                <a:cubicBezTo>
                  <a:pt x="188" y="972"/>
                  <a:pt x="376" y="984"/>
                  <a:pt x="528" y="912"/>
                </a:cubicBezTo>
                <a:cubicBezTo>
                  <a:pt x="680" y="840"/>
                  <a:pt x="744" y="624"/>
                  <a:pt x="912" y="528"/>
                </a:cubicBezTo>
                <a:cubicBezTo>
                  <a:pt x="1080" y="432"/>
                  <a:pt x="1368" y="424"/>
                  <a:pt x="1536" y="336"/>
                </a:cubicBezTo>
                <a:cubicBezTo>
                  <a:pt x="1704" y="248"/>
                  <a:pt x="1812" y="124"/>
                  <a:pt x="1920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822840" y="46641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2298600" y="24638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V="1">
            <a:off x="6934320" y="2427120"/>
            <a:ext cx="990360" cy="60984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07080" y="19051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8192880" y="20192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2126880" y="20415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3582360" y="50133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6528960" y="33415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6489720" y="2963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6429240" y="3746520"/>
            <a:ext cx="2440080" cy="82404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gress applies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 cache eviction policy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this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6"/>
          <p:cNvSpPr/>
          <p:nvPr/>
        </p:nvSpPr>
        <p:spPr>
          <a:xfrm>
            <a:off x="3352680" y="2057400"/>
            <a:ext cx="2514600" cy="3373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ut-through forw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9DB5-5252-4B41-BDA9-9C4E8AA567B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Responding to Topology Change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3080" y="914040"/>
            <a:ext cx="8572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Has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arger et al.,STOC’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nimiz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045"/>
          <p:cNvSpPr/>
          <p:nvPr/>
        </p:nvSpPr>
        <p:spPr>
          <a:xfrm>
            <a:off x="2930400" y="1500120"/>
            <a:ext cx="4800600" cy="464832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46"/>
          <p:cNvSpPr/>
          <p:nvPr/>
        </p:nvSpPr>
        <p:spPr>
          <a:xfrm>
            <a:off x="3502080" y="20224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047"/>
          <p:cNvSpPr/>
          <p:nvPr/>
        </p:nvSpPr>
        <p:spPr>
          <a:xfrm>
            <a:off x="7645320" y="36082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48"/>
          <p:cNvSpPr/>
          <p:nvPr/>
        </p:nvSpPr>
        <p:spPr>
          <a:xfrm>
            <a:off x="5589720" y="598176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049"/>
          <p:cNvSpPr/>
          <p:nvPr/>
        </p:nvSpPr>
        <p:spPr>
          <a:xfrm>
            <a:off x="4065480" y="576252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055"/>
          <p:cNvSpPr/>
          <p:nvPr/>
        </p:nvSpPr>
        <p:spPr>
          <a:xfrm>
            <a:off x="6908760" y="206064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059"/>
          <p:cNvSpPr/>
          <p:nvPr/>
        </p:nvSpPr>
        <p:spPr>
          <a:xfrm>
            <a:off x="3003480" y="281160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066"/>
          <p:cNvSpPr/>
          <p:nvPr/>
        </p:nvSpPr>
        <p:spPr>
          <a:xfrm>
            <a:off x="3540240" y="2174760"/>
            <a:ext cx="152280" cy="1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068"/>
          <p:cNvSpPr/>
          <p:nvPr/>
        </p:nvSpPr>
        <p:spPr>
          <a:xfrm>
            <a:off x="4073400" y="5791320"/>
            <a:ext cx="152640" cy="152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088"/>
          <p:cNvGrpSpPr/>
          <p:nvPr/>
        </p:nvGrpSpPr>
        <p:grpSpPr>
          <a:xfrm>
            <a:off x="1997640" y="2254320"/>
            <a:ext cx="2102040" cy="4025160"/>
            <a:chOff x="1997640" y="2254320"/>
            <a:chExt cx="2102040" cy="4025160"/>
          </a:xfrm>
        </p:grpSpPr>
        <p:cxnSp>
          <p:nvCxnSpPr>
            <p:cNvPr id="269" name="AutoShape 1070"/>
            <p:cNvCxnSpPr>
              <a:stCxn id="270" idx="1"/>
              <a:endCxn id="263" idx="3"/>
            </p:cNvCxnSpPr>
            <p:nvPr/>
          </p:nvCxnSpPr>
          <p:spPr>
            <a:xfrm flipH="1" flipV="1" rot="10800000">
              <a:off x="2615040" y="4059720"/>
              <a:ext cx="1485000" cy="1917000"/>
            </a:xfrm>
            <a:prstGeom prst="curvedConnector5">
              <a:avLst>
                <a:gd name="adj1" fmla="val -41585"/>
                <a:gd name="adj2" fmla="val 57907"/>
                <a:gd name="adj3" fmla="val -41585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70" name="AutoShape 1073"/>
            <p:cNvSpPr/>
            <p:nvPr/>
          </p:nvSpPr>
          <p:spPr>
            <a:xfrm>
              <a:off x="2625840" y="2254320"/>
              <a:ext cx="380880" cy="361296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6800 h 3612960"/>
                <a:gd name="textAreaBottom" fmla="*/ 3566160 h 36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5400" y="10800"/>
                    <a:pt x="0" y="10800"/>
                  </a:cubicBezTo>
                  <a:cubicBezTo>
                    <a:pt x="54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74"/>
          <p:cNvSpPr/>
          <p:nvPr/>
        </p:nvSpPr>
        <p:spPr>
          <a:xfrm>
            <a:off x="453276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75"/>
          <p:cNvSpPr/>
          <p:nvPr/>
        </p:nvSpPr>
        <p:spPr>
          <a:xfrm>
            <a:off x="6431400" y="5638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76"/>
          <p:cNvSpPr/>
          <p:nvPr/>
        </p:nvSpPr>
        <p:spPr>
          <a:xfrm>
            <a:off x="7421760" y="4495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77"/>
          <p:cNvSpPr/>
          <p:nvPr/>
        </p:nvSpPr>
        <p:spPr>
          <a:xfrm>
            <a:off x="742176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78"/>
          <p:cNvSpPr/>
          <p:nvPr/>
        </p:nvSpPr>
        <p:spPr>
          <a:xfrm>
            <a:off x="590436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79"/>
          <p:cNvSpPr/>
          <p:nvPr/>
        </p:nvSpPr>
        <p:spPr>
          <a:xfrm>
            <a:off x="4145400" y="1523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0"/>
          <p:cNvSpPr/>
          <p:nvPr/>
        </p:nvSpPr>
        <p:spPr>
          <a:xfrm>
            <a:off x="3231000" y="23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81"/>
          <p:cNvSpPr/>
          <p:nvPr/>
        </p:nvSpPr>
        <p:spPr>
          <a:xfrm>
            <a:off x="2773800" y="36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82"/>
          <p:cNvSpPr/>
          <p:nvPr/>
        </p:nvSpPr>
        <p:spPr>
          <a:xfrm>
            <a:off x="2856240" y="42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83"/>
          <p:cNvSpPr/>
          <p:nvPr/>
        </p:nvSpPr>
        <p:spPr>
          <a:xfrm>
            <a:off x="3535560" y="534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092"/>
          <p:cNvGrpSpPr/>
          <p:nvPr/>
        </p:nvGrpSpPr>
        <p:grpSpPr>
          <a:xfrm>
            <a:off x="2727000" y="2209680"/>
            <a:ext cx="432000" cy="720000"/>
            <a:chOff x="2727000" y="2209680"/>
            <a:chExt cx="432000" cy="720000"/>
          </a:xfrm>
        </p:grpSpPr>
        <p:sp>
          <p:nvSpPr>
            <p:cNvPr id="282" name="AutoShape 1084"/>
            <p:cNvSpPr/>
            <p:nvPr/>
          </p:nvSpPr>
          <p:spPr>
            <a:xfrm>
              <a:off x="2959200" y="2209680"/>
              <a:ext cx="199800" cy="58104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7560 h 581040"/>
                <a:gd name="textAreaBottom" fmla="*/ 573480 h 5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50"/>
                    <a:pt x="10800" y="900"/>
                  </a:cubicBezTo>
                  <a:lnTo>
                    <a:pt x="10800" y="10320"/>
                  </a:lnTo>
                  <a:cubicBezTo>
                    <a:pt x="10800" y="10770"/>
                    <a:pt x="5400" y="11220"/>
                    <a:pt x="0" y="11220"/>
                  </a:cubicBezTo>
                  <a:cubicBezTo>
                    <a:pt x="5400" y="11220"/>
                    <a:pt x="10800" y="11670"/>
                    <a:pt x="10800" y="12120"/>
                  </a:cubicBezTo>
                  <a:lnTo>
                    <a:pt x="10800" y="20700"/>
                  </a:lnTo>
                  <a:cubicBezTo>
                    <a:pt x="10800" y="2115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AutoShape 1085"/>
            <p:cNvCxnSpPr>
              <a:stCxn id="282" idx="1"/>
              <a:endCxn id="265" idx="2"/>
            </p:cNvCxnSpPr>
            <p:nvPr/>
          </p:nvCxnSpPr>
          <p:spPr>
            <a:xfrm flipH="1" flipV="1" rot="10800000">
              <a:off x="2948040" y="2499120"/>
              <a:ext cx="41760" cy="430920"/>
            </a:xfrm>
            <a:prstGeom prst="curvedConnector5">
              <a:avLst>
                <a:gd name="adj1" fmla="val -534782"/>
                <a:gd name="adj2" fmla="val 50000"/>
                <a:gd name="adj3" fmla="val -534782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</p:grpSp>
      <p:grpSp>
        <p:nvGrpSpPr>
          <p:cNvPr id="284" name="Group 1093"/>
          <p:cNvGrpSpPr/>
          <p:nvPr/>
        </p:nvGrpSpPr>
        <p:grpSpPr>
          <a:xfrm>
            <a:off x="2062080" y="2209680"/>
            <a:ext cx="2038320" cy="4015800"/>
            <a:chOff x="2062080" y="2209680"/>
            <a:chExt cx="2038320" cy="4015800"/>
          </a:xfrm>
        </p:grpSpPr>
        <p:cxnSp>
          <p:nvCxnSpPr>
            <p:cNvPr id="285" name="AutoShape 1086"/>
            <p:cNvCxnSpPr>
              <a:stCxn id="286" idx="1"/>
              <a:endCxn id="263" idx="3"/>
            </p:cNvCxnSpPr>
            <p:nvPr/>
          </p:nvCxnSpPr>
          <p:spPr>
            <a:xfrm flipH="1" flipV="1" rot="10800000">
              <a:off x="2952720" y="2508840"/>
              <a:ext cx="1148040" cy="3467880"/>
            </a:xfrm>
            <a:prstGeom prst="curvedConnector5">
              <a:avLst>
                <a:gd name="adj1" fmla="val -77603"/>
                <a:gd name="adj2" fmla="val 53592"/>
                <a:gd name="adj3" fmla="val -77603"/>
              </a:avLst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86" name="AutoShape 1090"/>
            <p:cNvSpPr/>
            <p:nvPr/>
          </p:nvSpPr>
          <p:spPr>
            <a:xfrm>
              <a:off x="2962440" y="2209680"/>
              <a:ext cx="199800" cy="600120"/>
            </a:xfrm>
            <a:custGeom>
              <a:avLst/>
              <a:gdLst>
                <a:gd name="textAreaLeft" fmla="*/ 127800 w 199800"/>
                <a:gd name="textAreaRight" fmla="*/ 200160 w 199800"/>
                <a:gd name="textAreaTop" fmla="*/ 7560 h 600120"/>
                <a:gd name="textAreaBottom" fmla="*/ 59256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50"/>
                    <a:pt x="10800" y="900"/>
                  </a:cubicBezTo>
                  <a:lnTo>
                    <a:pt x="10800" y="10320"/>
                  </a:lnTo>
                  <a:cubicBezTo>
                    <a:pt x="10800" y="10770"/>
                    <a:pt x="5400" y="11220"/>
                    <a:pt x="0" y="11220"/>
                  </a:cubicBezTo>
                  <a:cubicBezTo>
                    <a:pt x="5400" y="11220"/>
                    <a:pt x="10800" y="11670"/>
                    <a:pt x="10800" y="12120"/>
                  </a:cubicBezTo>
                  <a:lnTo>
                    <a:pt x="10800" y="20700"/>
                  </a:lnTo>
                  <a:cubicBezTo>
                    <a:pt x="10800" y="2115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6EB0-0749-4630-800B-996DCD1B9A2A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ingle Hop Look-up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2209680" y="1500120"/>
            <a:ext cx="4800600" cy="4648320"/>
          </a:xfrm>
          <a:prstGeom prst="ellipse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2781360" y="20224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6924600" y="360828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4869000" y="5981760"/>
            <a:ext cx="23940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344760" y="576252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2135160" y="472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1829880" y="179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072200" y="1484280"/>
            <a:ext cx="3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51"/>
          <p:cNvCxnSpPr>
            <a:stCxn id="296" idx="1"/>
            <a:endCxn id="298" idx="7"/>
          </p:cNvCxnSpPr>
          <p:nvPr/>
        </p:nvCxnSpPr>
        <p:spPr>
          <a:xfrm flipH="1">
            <a:off x="6392160" y="1682640"/>
            <a:ext cx="680040" cy="401040"/>
          </a:xfrm>
          <a:prstGeom prst="straightConnector1">
            <a:avLst/>
          </a:prstGeom>
          <a:ln w="28440">
            <a:solidFill>
              <a:srgbClr val="969696"/>
            </a:solidFill>
            <a:prstDash val="dash"/>
            <a:miter/>
          </a:ln>
        </p:spPr>
      </p:cxnSp>
      <p:cxnSp>
        <p:nvCxnSpPr>
          <p:cNvPr id="299" name="AutoShape 52"/>
          <p:cNvCxnSpPr>
            <a:stCxn id="295" idx="3"/>
            <a:endCxn id="290" idx="2"/>
          </p:cNvCxnSpPr>
          <p:nvPr/>
        </p:nvCxnSpPr>
        <p:spPr>
          <a:xfrm>
            <a:off x="2139480" y="1990440"/>
            <a:ext cx="629640" cy="151560"/>
          </a:xfrm>
          <a:prstGeom prst="straightConnector1">
            <a:avLst/>
          </a:prstGeom>
          <a:ln w="28440">
            <a:solidFill>
              <a:srgbClr val="969696"/>
            </a:solidFill>
            <a:prstDash val="dash"/>
            <a:miter/>
          </a:ln>
        </p:spPr>
      </p:cxnSp>
      <p:sp>
        <p:nvSpPr>
          <p:cNvPr id="300" name="Text Box 54"/>
          <p:cNvSpPr/>
          <p:nvPr/>
        </p:nvSpPr>
        <p:spPr>
          <a:xfrm>
            <a:off x="3526200" y="958680"/>
            <a:ext cx="20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nds traffic t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6188040" y="2060640"/>
            <a:ext cx="239760" cy="23652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AutoShape 56"/>
          <p:cNvCxnSpPr>
            <a:stCxn id="298" idx="3"/>
            <a:endCxn id="293" idx="7"/>
          </p:cNvCxnSpPr>
          <p:nvPr/>
        </p:nvCxnSpPr>
        <p:spPr>
          <a:xfrm flipH="1">
            <a:off x="3549240" y="2274840"/>
            <a:ext cx="2674080" cy="351072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302" name="AutoShape 57"/>
          <p:cNvCxnSpPr>
            <a:stCxn id="293" idx="0"/>
            <a:endCxn id="290" idx="4"/>
          </p:cNvCxnSpPr>
          <p:nvPr/>
        </p:nvCxnSpPr>
        <p:spPr>
          <a:xfrm flipH="1" flipV="1">
            <a:off x="2901240" y="2271240"/>
            <a:ext cx="564120" cy="34790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303" name="AutoShape 58"/>
          <p:cNvCxnSpPr>
            <a:stCxn id="298" idx="2"/>
            <a:endCxn id="290" idx="6"/>
          </p:cNvCxnSpPr>
          <p:nvPr/>
        </p:nvCxnSpPr>
        <p:spPr>
          <a:xfrm flipH="1" flipV="1">
            <a:off x="3033000" y="2141280"/>
            <a:ext cx="3142440" cy="388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304" name="Text Box 55"/>
          <p:cNvSpPr/>
          <p:nvPr/>
        </p:nvSpPr>
        <p:spPr>
          <a:xfrm>
            <a:off x="3276720" y="3500280"/>
            <a:ext cx="2881080" cy="58068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very switch on a ring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logically one hop 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6E7F-2DCC-414A-A0E9-B25E61807338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2"/>
          <p:cNvSpPr/>
          <p:nvPr/>
        </p:nvSpPr>
        <p:spPr>
          <a:xfrm>
            <a:off x="380880" y="3886200"/>
            <a:ext cx="2133720" cy="1308240"/>
          </a:xfrm>
          <a:custGeom>
            <a:avLst/>
            <a:gdLst/>
            <a:ahLst/>
            <a:rect l="l" t="t" r="r" b="b"/>
            <a:pathLst>
              <a:path w="1344" h="904">
                <a:moveTo>
                  <a:pt x="768" y="8"/>
                </a:moveTo>
                <a:cubicBezTo>
                  <a:pt x="624" y="0"/>
                  <a:pt x="400" y="8"/>
                  <a:pt x="288" y="56"/>
                </a:cubicBezTo>
                <a:cubicBezTo>
                  <a:pt x="176" y="104"/>
                  <a:pt x="136" y="208"/>
                  <a:pt x="96" y="296"/>
                </a:cubicBezTo>
                <a:cubicBezTo>
                  <a:pt x="56" y="384"/>
                  <a:pt x="0" y="488"/>
                  <a:pt x="48" y="584"/>
                </a:cubicBezTo>
                <a:cubicBezTo>
                  <a:pt x="96" y="680"/>
                  <a:pt x="200" y="840"/>
                  <a:pt x="384" y="872"/>
                </a:cubicBezTo>
                <a:cubicBezTo>
                  <a:pt x="568" y="904"/>
                  <a:pt x="992" y="864"/>
                  <a:pt x="1152" y="776"/>
                </a:cubicBezTo>
                <a:cubicBezTo>
                  <a:pt x="1312" y="688"/>
                  <a:pt x="1344" y="456"/>
                  <a:pt x="1344" y="344"/>
                </a:cubicBezTo>
                <a:cubicBezTo>
                  <a:pt x="1344" y="232"/>
                  <a:pt x="1248" y="160"/>
                  <a:pt x="1152" y="104"/>
                </a:cubicBezTo>
                <a:cubicBezTo>
                  <a:pt x="1056" y="48"/>
                  <a:pt x="912" y="16"/>
                  <a:pt x="768" y="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Responding to Host Mobility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Freeform 4"/>
          <p:cNvSpPr/>
          <p:nvPr/>
        </p:nvSpPr>
        <p:spPr>
          <a:xfrm>
            <a:off x="304920" y="1741320"/>
            <a:ext cx="2324160" cy="143532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6477120" y="1512720"/>
            <a:ext cx="2286000" cy="222264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3940920" y="43434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elay (fo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774720" y="204948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943760" y="2201760"/>
            <a:ext cx="304920" cy="3049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5"/>
          <p:cNvSpPr/>
          <p:nvPr/>
        </p:nvSpPr>
        <p:spPr>
          <a:xfrm>
            <a:off x="3822840" y="466416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6"/>
          <p:cNvSpPr/>
          <p:nvPr/>
        </p:nvSpPr>
        <p:spPr>
          <a:xfrm>
            <a:off x="2298600" y="24638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8192880" y="20192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2126880" y="20415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3582360" y="50133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6265440" y="33415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3"/>
          <p:cNvSpPr/>
          <p:nvPr/>
        </p:nvSpPr>
        <p:spPr>
          <a:xfrm>
            <a:off x="6489720" y="2963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029200" y="2286000"/>
            <a:ext cx="2514600" cy="58068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hen cut-thr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rwarding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9"/>
          <p:cNvSpPr/>
          <p:nvPr/>
        </p:nvSpPr>
        <p:spPr>
          <a:xfrm>
            <a:off x="2209680" y="45720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1"/>
          <p:cNvSpPr/>
          <p:nvPr/>
        </p:nvSpPr>
        <p:spPr>
          <a:xfrm>
            <a:off x="1906200" y="495288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lt;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G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AutoShape 34"/>
          <p:cNvCxnSpPr>
            <a:stCxn id="321" idx="3"/>
            <a:endCxn id="313" idx="1"/>
          </p:cNvCxnSpPr>
          <p:nvPr/>
        </p:nvCxnSpPr>
        <p:spPr>
          <a:xfrm>
            <a:off x="2660400" y="4752720"/>
            <a:ext cx="1152720" cy="92520"/>
          </a:xfrm>
          <a:prstGeom prst="straightConnector1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324" name="AutoShape 36"/>
          <p:cNvCxnSpPr>
            <a:stCxn id="313" idx="0"/>
            <a:endCxn id="314" idx="2"/>
          </p:cNvCxnSpPr>
          <p:nvPr/>
        </p:nvCxnSpPr>
        <p:spPr>
          <a:xfrm flipH="1" flipV="1">
            <a:off x="2518920" y="2833200"/>
            <a:ext cx="1524960" cy="1821600"/>
          </a:xfrm>
          <a:prstGeom prst="straightConnector1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cxnSp>
        <p:nvCxnSpPr>
          <p:cNvPr id="325" name="AutoShape 38"/>
          <p:cNvCxnSpPr>
            <a:stCxn id="314" idx="3"/>
            <a:endCxn id="319" idx="1"/>
          </p:cNvCxnSpPr>
          <p:nvPr/>
        </p:nvCxnSpPr>
        <p:spPr>
          <a:xfrm>
            <a:off x="2749680" y="2644560"/>
            <a:ext cx="3731040" cy="500760"/>
          </a:xfrm>
          <a:prstGeom prst="straightConnector1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</p:cxnSp>
      <p:sp>
        <p:nvSpPr>
          <p:cNvPr id="326" name="Text Box 41"/>
          <p:cNvSpPr/>
          <p:nvPr/>
        </p:nvSpPr>
        <p:spPr>
          <a:xfrm>
            <a:off x="384120" y="175248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Old 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308160" y="47242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w D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5"/>
          <p:cNvGrpSpPr/>
          <p:nvPr/>
        </p:nvGrpSpPr>
        <p:grpSpPr>
          <a:xfrm>
            <a:off x="3581280" y="5203800"/>
            <a:ext cx="930600" cy="452880"/>
            <a:chOff x="3581280" y="5203800"/>
            <a:chExt cx="930600" cy="452880"/>
          </a:xfrm>
        </p:grpSpPr>
        <p:sp>
          <p:nvSpPr>
            <p:cNvPr id="329" name="Text Box 35"/>
            <p:cNvSpPr/>
            <p:nvPr/>
          </p:nvSpPr>
          <p:spPr>
            <a:xfrm>
              <a:off x="3582720" y="52578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&lt; 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 flipH="1">
              <a:off x="3581280" y="525924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 flipH="1">
              <a:off x="3581280" y="520380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54"/>
          <p:cNvGrpSpPr/>
          <p:nvPr/>
        </p:nvGrpSpPr>
        <p:grpSpPr>
          <a:xfrm>
            <a:off x="2122200" y="1855800"/>
            <a:ext cx="929160" cy="446040"/>
            <a:chOff x="2122200" y="1855800"/>
            <a:chExt cx="929160" cy="446040"/>
          </a:xfrm>
        </p:grpSpPr>
        <p:sp>
          <p:nvSpPr>
            <p:cNvPr id="333" name="Text Box 47"/>
            <p:cNvSpPr/>
            <p:nvPr/>
          </p:nvSpPr>
          <p:spPr>
            <a:xfrm>
              <a:off x="2122200" y="18558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&lt; 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8"/>
            <p:cNvSpPr/>
            <p:nvPr/>
          </p:nvSpPr>
          <p:spPr>
            <a:xfrm flipH="1">
              <a:off x="2133720" y="230184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9"/>
            <p:cNvSpPr/>
            <p:nvPr/>
          </p:nvSpPr>
          <p:spPr>
            <a:xfrm flipH="1">
              <a:off x="2133720" y="2246400"/>
              <a:ext cx="9144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0"/>
          <p:cNvGrpSpPr/>
          <p:nvPr/>
        </p:nvGrpSpPr>
        <p:grpSpPr>
          <a:xfrm>
            <a:off x="6248160" y="3535200"/>
            <a:ext cx="930600" cy="452880"/>
            <a:chOff x="6248160" y="3535200"/>
            <a:chExt cx="930600" cy="452880"/>
          </a:xfrm>
        </p:grpSpPr>
        <p:sp>
          <p:nvSpPr>
            <p:cNvPr id="337" name="Text Box 51"/>
            <p:cNvSpPr/>
            <p:nvPr/>
          </p:nvSpPr>
          <p:spPr>
            <a:xfrm>
              <a:off x="6249600" y="35892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&lt; </a:t>
              </a:r>
              <a:r>
                <a:rPr b="1" i="1" lang="en-US" sz="2000" spc="-1" strike="noStrike">
                  <a:solidFill>
                    <a:srgbClr val="003366"/>
                  </a:solidFill>
                  <a:latin typeface="Times New Roman"/>
                </a:rPr>
                <a:t>x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3366"/>
                  </a:solidFill>
                  <a:latin typeface="Arial"/>
                </a:rPr>
                <a:t>G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2"/>
            <p:cNvSpPr/>
            <p:nvPr/>
          </p:nvSpPr>
          <p:spPr>
            <a:xfrm flipH="1">
              <a:off x="6248160" y="3590640"/>
              <a:ext cx="9140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3"/>
            <p:cNvSpPr/>
            <p:nvPr/>
          </p:nvSpPr>
          <p:spPr>
            <a:xfrm flipH="1">
              <a:off x="6248160" y="3535200"/>
              <a:ext cx="91404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L 0.00694 0.34561 E">
                                      <p:cBhvr>
                                        <p:cTn id="536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CA7-2D35-4F64-9D86-68A8B22771BA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nicast-based Bootstrapping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:  Broadcast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ATTLE: Hash-based on-demand address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ly the same mechanism as location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xy 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gress switch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a uni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: Broadcast requests and re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ATTLE: Utilize DHCP relay agen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FC 21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xy 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gress switch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ia uni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BC51-FB2E-4A5D-BAC9-26F775B2D21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TLE 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lug-and-play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erprise architecture ensuring both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cal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design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-based loc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location resolution and c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st-path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ng a little data-plane efficiency for huge control-plane scalability makes a qualitatively differ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patterns (small static COIs, and short flow interarrival times) are our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3630-8D1B-481E-86F7-F4D34244801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i="1" lang="en-US" sz="3200" spc="-1" strike="noStrike">
                <a:solidFill>
                  <a:srgbClr val="ff3300"/>
                </a:solidFill>
                <a:latin typeface="Trebuchet MS"/>
              </a:rPr>
              <a:t>“All Ethernet”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Enterprise Network?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All Ethernet”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akes network management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configuration of end-hosts and network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independent and perman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lso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roublesho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-contro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0051017104310_network_management"/>
          <p:cNvPicPr/>
          <p:nvPr/>
        </p:nvPicPr>
        <p:blipFill>
          <a:blip r:embed="rId1"/>
          <a:srcRect l="41903" t="6725" r="0" b="23850"/>
          <a:stretch/>
        </p:blipFill>
        <p:spPr>
          <a:xfrm>
            <a:off x="4800600" y="3019320"/>
            <a:ext cx="3657600" cy="3457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enterprise_diagram"/>
          <p:cNvPicPr/>
          <p:nvPr/>
        </p:nvPicPr>
        <p:blipFill>
          <a:blip r:embed="rId2"/>
          <a:stretch/>
        </p:blipFill>
        <p:spPr>
          <a:xfrm>
            <a:off x="6781680" y="2876400"/>
            <a:ext cx="2190960" cy="1443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8988480" y="31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ACBA-2EA8-440A-A3AE-258593C0C557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But, Ethernet bridging </a:t>
            </a:r>
            <a:r>
              <a:rPr b="1" lang="en-US" sz="3600" spc="-1" strike="noStrike">
                <a:solidFill>
                  <a:srgbClr val="ff3300"/>
                </a:solidFill>
                <a:latin typeface="Trebuchet MS"/>
              </a:rPr>
              <a:t>does not scal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looding-base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s to unknown destinations are flo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oadcasting for basic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trapping relies on broa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ulnerable to resource exhaustion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efficient forwarding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re fatal due to broadcast storms; use the S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along a single tree lead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No image for noisy? Refresh the page"/>
          <p:cNvPicPr/>
          <p:nvPr/>
        </p:nvPicPr>
        <p:blipFill>
          <a:blip r:embed="rId1"/>
          <a:stretch/>
        </p:blipFill>
        <p:spPr>
          <a:xfrm>
            <a:off x="304920" y="2341440"/>
            <a:ext cx="2209680" cy="146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pe23.jpg (36741 bytes)"/>
          <p:cNvPicPr/>
          <p:nvPr/>
        </p:nvPicPr>
        <p:blipFill>
          <a:blip r:embed="rId2"/>
          <a:stretch/>
        </p:blipFill>
        <p:spPr>
          <a:xfrm>
            <a:off x="7277040" y="5114880"/>
            <a:ext cx="1866960" cy="14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7272360" y="91440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2"/>
          <p:cNvSpPr/>
          <p:nvPr/>
        </p:nvSpPr>
        <p:spPr>
          <a:xfrm>
            <a:off x="3797280" y="-67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3CC3-1ABD-4CCD-99ED-DFB453D37398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8"/>
          <p:cNvSpPr/>
          <p:nvPr/>
        </p:nvSpPr>
        <p:spPr>
          <a:xfrm>
            <a:off x="3200400" y="3124080"/>
            <a:ext cx="4343400" cy="2590920"/>
          </a:xfrm>
          <a:custGeom>
            <a:avLst/>
            <a:gdLst/>
            <a:ahLst/>
            <a:rect l="l" t="t" r="r" b="b"/>
            <a:pathLst>
              <a:path w="3376" h="2392">
                <a:moveTo>
                  <a:pt x="0" y="440"/>
                </a:moveTo>
                <a:cubicBezTo>
                  <a:pt x="0" y="608"/>
                  <a:pt x="176" y="968"/>
                  <a:pt x="336" y="1208"/>
                </a:cubicBezTo>
                <a:cubicBezTo>
                  <a:pt x="496" y="1448"/>
                  <a:pt x="576" y="1712"/>
                  <a:pt x="960" y="1880"/>
                </a:cubicBezTo>
                <a:cubicBezTo>
                  <a:pt x="1344" y="2048"/>
                  <a:pt x="2272" y="2392"/>
                  <a:pt x="2640" y="2216"/>
                </a:cubicBezTo>
                <a:cubicBezTo>
                  <a:pt x="3008" y="2040"/>
                  <a:pt x="3376" y="1176"/>
                  <a:pt x="3168" y="824"/>
                </a:cubicBezTo>
                <a:cubicBezTo>
                  <a:pt x="2960" y="472"/>
                  <a:pt x="1864" y="208"/>
                  <a:pt x="1392" y="104"/>
                </a:cubicBezTo>
                <a:cubicBezTo>
                  <a:pt x="920" y="0"/>
                  <a:pt x="568" y="144"/>
                  <a:pt x="336" y="200"/>
                </a:cubicBezTo>
                <a:cubicBezTo>
                  <a:pt x="104" y="256"/>
                  <a:pt x="0" y="272"/>
                  <a:pt x="0" y="44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471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te of the Practice: A Hybrid Archite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networks comprised of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thernet-based IP subn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connected by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27"/>
          <p:cNvSpPr/>
          <p:nvPr/>
        </p:nvSpPr>
        <p:spPr>
          <a:xfrm>
            <a:off x="7250040" y="3089160"/>
            <a:ext cx="1524240" cy="1575000"/>
          </a:xfrm>
          <a:custGeom>
            <a:avLst/>
            <a:gdLst/>
            <a:ahLst/>
            <a:rect l="l" t="t" r="r" b="b"/>
            <a:pathLst>
              <a:path w="1320" h="1400">
                <a:moveTo>
                  <a:pt x="632" y="72"/>
                </a:moveTo>
                <a:cubicBezTo>
                  <a:pt x="448" y="0"/>
                  <a:pt x="256" y="72"/>
                  <a:pt x="152" y="168"/>
                </a:cubicBezTo>
                <a:cubicBezTo>
                  <a:pt x="48" y="264"/>
                  <a:pt x="0" y="496"/>
                  <a:pt x="8" y="648"/>
                </a:cubicBezTo>
                <a:cubicBezTo>
                  <a:pt x="16" y="800"/>
                  <a:pt x="32" y="968"/>
                  <a:pt x="200" y="1080"/>
                </a:cubicBezTo>
                <a:cubicBezTo>
                  <a:pt x="368" y="1192"/>
                  <a:pt x="840" y="1400"/>
                  <a:pt x="1016" y="1320"/>
                </a:cubicBezTo>
                <a:cubicBezTo>
                  <a:pt x="1192" y="1240"/>
                  <a:pt x="1320" y="808"/>
                  <a:pt x="1256" y="600"/>
                </a:cubicBezTo>
                <a:cubicBezTo>
                  <a:pt x="1192" y="392"/>
                  <a:pt x="816" y="144"/>
                  <a:pt x="632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28"/>
          <p:cNvSpPr/>
          <p:nvPr/>
        </p:nvSpPr>
        <p:spPr>
          <a:xfrm>
            <a:off x="2743200" y="4876920"/>
            <a:ext cx="1676520" cy="1066680"/>
          </a:xfrm>
          <a:custGeom>
            <a:avLst/>
            <a:gdLst/>
            <a:ahLst/>
            <a:rect l="l" t="t" r="r" b="b"/>
            <a:pathLst>
              <a:path w="1344" h="904">
                <a:moveTo>
                  <a:pt x="768" y="8"/>
                </a:moveTo>
                <a:cubicBezTo>
                  <a:pt x="624" y="0"/>
                  <a:pt x="400" y="8"/>
                  <a:pt x="288" y="56"/>
                </a:cubicBezTo>
                <a:cubicBezTo>
                  <a:pt x="176" y="104"/>
                  <a:pt x="136" y="208"/>
                  <a:pt x="96" y="296"/>
                </a:cubicBezTo>
                <a:cubicBezTo>
                  <a:pt x="56" y="384"/>
                  <a:pt x="0" y="488"/>
                  <a:pt x="48" y="584"/>
                </a:cubicBezTo>
                <a:cubicBezTo>
                  <a:pt x="96" y="680"/>
                  <a:pt x="200" y="840"/>
                  <a:pt x="384" y="872"/>
                </a:cubicBezTo>
                <a:cubicBezTo>
                  <a:pt x="568" y="904"/>
                  <a:pt x="992" y="864"/>
                  <a:pt x="1152" y="776"/>
                </a:cubicBezTo>
                <a:cubicBezTo>
                  <a:pt x="1312" y="688"/>
                  <a:pt x="1344" y="456"/>
                  <a:pt x="1344" y="344"/>
                </a:cubicBezTo>
                <a:cubicBezTo>
                  <a:pt x="1344" y="232"/>
                  <a:pt x="1248" y="160"/>
                  <a:pt x="1152" y="104"/>
                </a:cubicBezTo>
                <a:cubicBezTo>
                  <a:pt x="1056" y="48"/>
                  <a:pt x="912" y="16"/>
                  <a:pt x="768" y="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29"/>
          <p:cNvSpPr/>
          <p:nvPr/>
        </p:nvSpPr>
        <p:spPr>
          <a:xfrm>
            <a:off x="533520" y="2438280"/>
            <a:ext cx="2781360" cy="2057400"/>
          </a:xfrm>
          <a:custGeom>
            <a:avLst/>
            <a:gdLst/>
            <a:ahLst/>
            <a:rect l="l" t="t" r="r" b="b"/>
            <a:pathLst>
              <a:path w="1464" h="904">
                <a:moveTo>
                  <a:pt x="440" y="72"/>
                </a:moveTo>
                <a:cubicBezTo>
                  <a:pt x="320" y="120"/>
                  <a:pt x="112" y="208"/>
                  <a:pt x="56" y="312"/>
                </a:cubicBezTo>
                <a:cubicBezTo>
                  <a:pt x="0" y="416"/>
                  <a:pt x="16" y="600"/>
                  <a:pt x="104" y="696"/>
                </a:cubicBezTo>
                <a:cubicBezTo>
                  <a:pt x="192" y="792"/>
                  <a:pt x="392" y="872"/>
                  <a:pt x="584" y="888"/>
                </a:cubicBezTo>
                <a:cubicBezTo>
                  <a:pt x="776" y="904"/>
                  <a:pt x="1112" y="872"/>
                  <a:pt x="1256" y="792"/>
                </a:cubicBezTo>
                <a:cubicBezTo>
                  <a:pt x="1400" y="712"/>
                  <a:pt x="1464" y="504"/>
                  <a:pt x="1448" y="408"/>
                </a:cubicBezTo>
                <a:cubicBezTo>
                  <a:pt x="1432" y="312"/>
                  <a:pt x="1272" y="280"/>
                  <a:pt x="1160" y="216"/>
                </a:cubicBezTo>
                <a:cubicBezTo>
                  <a:pt x="1048" y="152"/>
                  <a:pt x="896" y="48"/>
                  <a:pt x="776" y="24"/>
                </a:cubicBezTo>
                <a:cubicBezTo>
                  <a:pt x="656" y="0"/>
                  <a:pt x="560" y="24"/>
                  <a:pt x="440" y="7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0"/>
          <p:cNvSpPr/>
          <p:nvPr/>
        </p:nvSpPr>
        <p:spPr>
          <a:xfrm flipH="1" flipV="1">
            <a:off x="4800240" y="3200040"/>
            <a:ext cx="1981080" cy="2057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3"/>
          <p:cNvSpPr/>
          <p:nvPr/>
        </p:nvSpPr>
        <p:spPr>
          <a:xfrm>
            <a:off x="3352680" y="3860640"/>
            <a:ext cx="609840" cy="914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4"/>
          <p:cNvSpPr/>
          <p:nvPr/>
        </p:nvSpPr>
        <p:spPr>
          <a:xfrm>
            <a:off x="4800600" y="3200400"/>
            <a:ext cx="2666880" cy="10317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5"/>
          <p:cNvSpPr/>
          <p:nvPr/>
        </p:nvSpPr>
        <p:spPr>
          <a:xfrm flipV="1">
            <a:off x="4191120" y="3250800"/>
            <a:ext cx="533160" cy="1600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6"/>
          <p:cNvSpPr/>
          <p:nvPr/>
        </p:nvSpPr>
        <p:spPr>
          <a:xfrm>
            <a:off x="4191120" y="4951440"/>
            <a:ext cx="2514600" cy="4334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8"/>
          <p:cNvSpPr/>
          <p:nvPr/>
        </p:nvSpPr>
        <p:spPr>
          <a:xfrm>
            <a:off x="3809880" y="47750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5"/>
          <p:cNvSpPr/>
          <p:nvPr/>
        </p:nvSpPr>
        <p:spPr>
          <a:xfrm>
            <a:off x="6029280" y="5257800"/>
            <a:ext cx="1689120" cy="965160"/>
          </a:xfrm>
          <a:custGeom>
            <a:avLst/>
            <a:gdLst/>
            <a:ahLst/>
            <a:rect l="l" t="t" r="r" b="b"/>
            <a:pathLst>
              <a:path w="1496" h="768">
                <a:moveTo>
                  <a:pt x="344" y="192"/>
                </a:moveTo>
                <a:cubicBezTo>
                  <a:pt x="168" y="248"/>
                  <a:pt x="152" y="264"/>
                  <a:pt x="104" y="336"/>
                </a:cubicBezTo>
                <a:cubicBezTo>
                  <a:pt x="56" y="408"/>
                  <a:pt x="0" y="552"/>
                  <a:pt x="56" y="624"/>
                </a:cubicBezTo>
                <a:cubicBezTo>
                  <a:pt x="112" y="696"/>
                  <a:pt x="256" y="768"/>
                  <a:pt x="440" y="768"/>
                </a:cubicBezTo>
                <a:cubicBezTo>
                  <a:pt x="624" y="768"/>
                  <a:pt x="984" y="720"/>
                  <a:pt x="1160" y="624"/>
                </a:cubicBezTo>
                <a:cubicBezTo>
                  <a:pt x="1336" y="528"/>
                  <a:pt x="1496" y="296"/>
                  <a:pt x="1496" y="192"/>
                </a:cubicBezTo>
                <a:cubicBezTo>
                  <a:pt x="1496" y="88"/>
                  <a:pt x="1352" y="0"/>
                  <a:pt x="1160" y="0"/>
                </a:cubicBezTo>
                <a:cubicBezTo>
                  <a:pt x="968" y="0"/>
                  <a:pt x="520" y="136"/>
                  <a:pt x="344" y="192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67"/>
          <p:cNvSpPr/>
          <p:nvPr/>
        </p:nvSpPr>
        <p:spPr>
          <a:xfrm>
            <a:off x="3665520" y="2209680"/>
            <a:ext cx="1981080" cy="1003320"/>
          </a:xfrm>
          <a:custGeom>
            <a:avLst/>
            <a:gdLst/>
            <a:ahLst/>
            <a:rect l="l" t="t" r="r" b="b"/>
            <a:pathLst>
              <a:path w="1544" h="728">
                <a:moveTo>
                  <a:pt x="136" y="240"/>
                </a:moveTo>
                <a:cubicBezTo>
                  <a:pt x="24" y="312"/>
                  <a:pt x="0" y="408"/>
                  <a:pt x="40" y="480"/>
                </a:cubicBezTo>
                <a:cubicBezTo>
                  <a:pt x="80" y="552"/>
                  <a:pt x="240" y="632"/>
                  <a:pt x="376" y="672"/>
                </a:cubicBezTo>
                <a:cubicBezTo>
                  <a:pt x="512" y="712"/>
                  <a:pt x="688" y="728"/>
                  <a:pt x="856" y="720"/>
                </a:cubicBezTo>
                <a:cubicBezTo>
                  <a:pt x="1024" y="712"/>
                  <a:pt x="1272" y="688"/>
                  <a:pt x="1384" y="624"/>
                </a:cubicBezTo>
                <a:cubicBezTo>
                  <a:pt x="1496" y="560"/>
                  <a:pt x="1544" y="432"/>
                  <a:pt x="1528" y="336"/>
                </a:cubicBezTo>
                <a:cubicBezTo>
                  <a:pt x="1512" y="240"/>
                  <a:pt x="1424" y="96"/>
                  <a:pt x="1288" y="48"/>
                </a:cubicBezTo>
                <a:cubicBezTo>
                  <a:pt x="1152" y="0"/>
                  <a:pt x="904" y="16"/>
                  <a:pt x="712" y="48"/>
                </a:cubicBezTo>
                <a:cubicBezTo>
                  <a:pt x="520" y="80"/>
                  <a:pt x="248" y="168"/>
                  <a:pt x="136" y="240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1"/>
          <p:cNvSpPr/>
          <p:nvPr/>
        </p:nvSpPr>
        <p:spPr>
          <a:xfrm flipV="1">
            <a:off x="3352680" y="3241800"/>
            <a:ext cx="1447920" cy="380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3"/>
          <p:cNvSpPr/>
          <p:nvPr/>
        </p:nvSpPr>
        <p:spPr>
          <a:xfrm>
            <a:off x="3063960" y="35370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5"/>
          <p:cNvSpPr/>
          <p:nvPr/>
        </p:nvSpPr>
        <p:spPr>
          <a:xfrm flipH="1">
            <a:off x="6858000" y="4267080"/>
            <a:ext cx="533520" cy="9907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6"/>
          <p:cNvSpPr/>
          <p:nvPr/>
        </p:nvSpPr>
        <p:spPr>
          <a:xfrm>
            <a:off x="6629400" y="51562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9"/>
          <p:cNvSpPr/>
          <p:nvPr/>
        </p:nvSpPr>
        <p:spPr>
          <a:xfrm>
            <a:off x="7178760" y="40622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6"/>
          <p:cNvSpPr/>
          <p:nvPr/>
        </p:nvSpPr>
        <p:spPr>
          <a:xfrm>
            <a:off x="720720" y="2971800"/>
            <a:ext cx="23432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Ethernet Brid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Flat addr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Self-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Flood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- Forwarding along a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7"/>
          <p:cNvSpPr/>
          <p:nvPr/>
        </p:nvSpPr>
        <p:spPr>
          <a:xfrm>
            <a:off x="4075920" y="3646440"/>
            <a:ext cx="30639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P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Hierarchical addr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Subnet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Host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- Forwarding along shortest pa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2"/>
          <p:cNvSpPr/>
          <p:nvPr/>
        </p:nvSpPr>
        <p:spPr>
          <a:xfrm>
            <a:off x="4572000" y="31240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7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0604-D695-4147-9BFA-C4EB48FB8B9A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bridging nor routing is satisfa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an’t we take only the best of ea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92200" y="2133720"/>
          <a:ext cx="6019920" cy="3693960"/>
        </p:xfrm>
        <a:graphic>
          <a:graphicData uri="http://schemas.openxmlformats.org/drawingml/2006/table">
            <a:tbl>
              <a:tblPr/>
              <a:tblGrid>
                <a:gridCol w="2895480"/>
                <a:gridCol w="1555920"/>
                <a:gridCol w="1568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s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e of 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ality in addre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obility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gence 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lerance to l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858000" y="2133720"/>
          <a:ext cx="1371600" cy="369396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A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Wingdings"/>
                          <a:ea typeface="Wingdings"/>
                        </a:rPr>
                        <a:t>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4.44444E-006 L -0.07239 0.00023 E">
                                      <p:cBhvr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1BB8-25D7-4C47-A7A4-7E7ACAE7A2CE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voiding Flooding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uses flooding as a routing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frames to unknown destinations are flo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cale to a larg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1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icast unicast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control-plane mechanism to discover and disseminate hosts’ loc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Cj03710760000[1]"/>
          <p:cNvPicPr/>
          <p:nvPr/>
        </p:nvPicPr>
        <p:blipFill>
          <a:blip r:embed="rId1"/>
          <a:stretch/>
        </p:blipFill>
        <p:spPr>
          <a:xfrm>
            <a:off x="2193840" y="2166840"/>
            <a:ext cx="668520" cy="890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MCj03125100000[1]"/>
          <p:cNvPicPr/>
          <p:nvPr/>
        </p:nvPicPr>
        <p:blipFill>
          <a:blip r:embed="rId2"/>
          <a:stretch/>
        </p:blipFill>
        <p:spPr>
          <a:xfrm>
            <a:off x="1763640" y="2697120"/>
            <a:ext cx="663480" cy="67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MCj03125100000[1]"/>
          <p:cNvPicPr/>
          <p:nvPr/>
        </p:nvPicPr>
        <p:blipFill>
          <a:blip r:embed="rId3"/>
          <a:stretch/>
        </p:blipFill>
        <p:spPr>
          <a:xfrm>
            <a:off x="5126040" y="1989000"/>
            <a:ext cx="663480" cy="67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Cj03125100000[1]"/>
          <p:cNvPicPr/>
          <p:nvPr/>
        </p:nvPicPr>
        <p:blipFill>
          <a:blip r:embed="rId4"/>
          <a:stretch/>
        </p:blipFill>
        <p:spPr>
          <a:xfrm>
            <a:off x="5921280" y="2492280"/>
            <a:ext cx="663840" cy="679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MCj03125100000[1]"/>
          <p:cNvPicPr/>
          <p:nvPr/>
        </p:nvPicPr>
        <p:blipFill>
          <a:blip r:embed="rId5"/>
          <a:stretch/>
        </p:blipFill>
        <p:spPr>
          <a:xfrm>
            <a:off x="5200560" y="3141720"/>
            <a:ext cx="663840" cy="679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6156360" y="3251160"/>
            <a:ext cx="275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nd it 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t least, they’ll learn where the source 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684360" y="3463920"/>
            <a:ext cx="34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on’t know where destination i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V="1">
            <a:off x="3203640" y="2311560"/>
            <a:ext cx="1873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276720" y="2814480"/>
            <a:ext cx="2519280" cy="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3203640" y="3032280"/>
            <a:ext cx="194472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9313-63F6-4BA2-A862-CF5B82928958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Restraining Broadcasting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al use of broadcasting for bootstrapp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HCP and 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ing is a vestig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-medium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erious overhea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2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pport unicast-based bootstrap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director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objective #2.1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upport general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handling broadcast should be more 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No image for noisy? Refresh the page"/>
          <p:cNvPicPr/>
          <p:nvPr/>
        </p:nvPicPr>
        <p:blipFill>
          <a:blip r:embed="rId1"/>
          <a:stretch/>
        </p:blipFill>
        <p:spPr>
          <a:xfrm>
            <a:off x="5791320" y="1828800"/>
            <a:ext cx="25146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511F-23A0-40C6-99BC-8178BE90A4A0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Keeping Forwarding Tables Small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 and self-learning lead to unnecessarily large forwarding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tables are not only inefficient, but also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3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stall hosts’ location informatio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             only when and where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reactive resolu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traffic patterns are better-suited to reactiv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62800" y="65721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6FFB-F351-4806-9507-EE33F1614B6F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471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nsuring Optimal Forwarding Path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avoids broadcast storm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forwarding along a single tree i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ffic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load balancing and long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panning trees are insuffici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#4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tilize shortest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objective #4.1: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event broadcast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n alternative measure to prevent broadcast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33" descr="detour"/>
          <p:cNvPicPr/>
          <p:nvPr/>
        </p:nvPicPr>
        <p:blipFill>
          <a:blip r:embed="rId1"/>
          <a:stretch/>
        </p:blipFill>
        <p:spPr>
          <a:xfrm>
            <a:off x="6732720" y="1916280"/>
            <a:ext cx="1008000" cy="83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31" descr="detour"/>
          <p:cNvPicPr/>
          <p:nvPr/>
        </p:nvPicPr>
        <p:blipFill>
          <a:blip r:embed="rId2"/>
          <a:srcRect l="2026" t="2734" r="1756" b="2560"/>
          <a:stretch/>
        </p:blipFill>
        <p:spPr>
          <a:xfrm>
            <a:off x="6659640" y="1916280"/>
            <a:ext cx="1950840" cy="14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21:07:50Z</dcterms:created>
  <dc:creator>Princeton University</dc:creator>
  <dc:description/>
  <dc:language>en-US</dc:language>
  <cp:lastModifiedBy>Microsoft Office User</cp:lastModifiedBy>
  <dcterms:modified xsi:type="dcterms:W3CDTF">2016-11-17T04:17:59Z</dcterms:modified>
  <cp:revision>663</cp:revision>
  <dc:subject/>
  <dc:title>Reconciling Zero-conf with Efficiency in Enterprises</dc:title>
</cp:coreProperties>
</file>