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2FF7836-42FF-488D-BC86-79FE74BA8A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4DC2ABE-C3FC-4C8D-A97F-A314CE2BD4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44CB-3ADD-4371-956E-F8ED1EDAE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F095-791A-4E49-8DA9-A37563BBC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385C-13CA-4D08-8611-1ED08616B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A734-4073-46EE-ABAE-ADAB0607E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59D9B-FE2E-4C35-8F74-77228A686F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B6C83-44CA-47C2-BD64-81BAA585FD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4031B-41FA-4F5E-8DB4-79899A267D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9DA73-D0EA-4940-92F2-AEC5565C27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75A36-D888-40DA-9513-AEFE4752F9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A142A-8916-45A2-A75A-7DEADA38BC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D38DD-5119-4C2C-BEC3-5216708BA8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BAF0-899F-4842-9FA3-2BF71DCF3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AA341-98C9-440B-8A5C-9B7410A47F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FF5E9-0849-4172-A25A-0D15F0A257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D0EC4-3448-4587-AEF8-C07AFAA199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462A8-1C19-4823-AC11-1D85A28463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62713-AF85-4393-AAF8-83C20190D5A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2831-964D-4296-B273-822B311640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AA08-1B9E-4A65-AD2A-8439A2C476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772D-3FF0-4AA0-8BEF-D80394C8C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2274-1F34-46DA-AC8B-A043C0EAB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179B9-45D6-4478-8BDB-234C2DA39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07C4-1BA1-41BC-B955-B3C40A063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DEBC-A4F0-4D50-9EE4-A0783911F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ADFA-763D-47D9-9B3B-1ADB6D36D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E691-E14A-4C9A-A626-207C28705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929B-D5F3-4570-9846-2CA9F89F418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942F-3EDF-4F79-9ECA-FCAEB68F619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3520" y="3962160"/>
            <a:ext cx="822960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17 (TTh 1:30-2:50pm in CS 105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 561: Advanced Computer Network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.princeton.edu/courses/archive/fall17/cos561/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539640" y="1739880"/>
            <a:ext cx="8183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BGP Interac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s of Damping are Confu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219320"/>
            <a:ext cx="4344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S 0 is a stable net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nk (1,3) fails a l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3 switches routes back and forth a l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s new BGP updates to its custom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ose AS 3 does not apply route-flap damp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S 3’s custom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tually dampen rou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uses lost reachability to destination in AS 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5826240" y="1282680"/>
            <a:ext cx="1784160" cy="1427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"/>
          <p:cNvPicPr/>
          <p:nvPr/>
        </p:nvPicPr>
        <p:blipFill>
          <a:blip r:embed="rId2"/>
          <a:stretch/>
        </p:blipFill>
        <p:spPr>
          <a:xfrm>
            <a:off x="7338960" y="3297240"/>
            <a:ext cx="1784520" cy="1427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3"/>
          <a:stretch/>
        </p:blipFill>
        <p:spPr>
          <a:xfrm>
            <a:off x="4737240" y="3151080"/>
            <a:ext cx="1784160" cy="14274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4"/>
          <a:stretch/>
        </p:blipFill>
        <p:spPr>
          <a:xfrm>
            <a:off x="6083280" y="5330880"/>
            <a:ext cx="1785960" cy="1427040"/>
          </a:xfrm>
          <a:prstGeom prst="rect">
            <a:avLst/>
          </a:prstGeom>
          <a:ln w="0">
            <a:noFill/>
          </a:ln>
        </p:spPr>
      </p:pic>
      <p:sp>
        <p:nvSpPr>
          <p:cNvPr id="238" name="Line 8"/>
          <p:cNvSpPr/>
          <p:nvPr/>
        </p:nvSpPr>
        <p:spPr>
          <a:xfrm flipH="1">
            <a:off x="5849640" y="2482920"/>
            <a:ext cx="314280" cy="726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6424560" y="3933720"/>
            <a:ext cx="95580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0"/>
          <p:cNvSpPr/>
          <p:nvPr/>
        </p:nvSpPr>
        <p:spPr>
          <a:xfrm flipH="1">
            <a:off x="7441920" y="4475160"/>
            <a:ext cx="463320" cy="10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5751360" y="4562640"/>
            <a:ext cx="700200" cy="96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6551280" y="16416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5446440" y="3568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8071920" y="3654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6800400" y="5691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2"/>
          <p:cNvGrpSpPr/>
          <p:nvPr/>
        </p:nvGrpSpPr>
        <p:grpSpPr>
          <a:xfrm>
            <a:off x="5925960" y="4870440"/>
            <a:ext cx="363240" cy="352440"/>
            <a:chOff x="5925960" y="4870440"/>
            <a:chExt cx="363240" cy="352440"/>
          </a:xfrm>
        </p:grpSpPr>
        <p:sp>
          <p:nvSpPr>
            <p:cNvPr id="247" name="Line 16"/>
            <p:cNvSpPr/>
            <p:nvPr/>
          </p:nvSpPr>
          <p:spPr>
            <a:xfrm>
              <a:off x="5925960" y="4870440"/>
              <a:ext cx="363240" cy="3524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7"/>
            <p:cNvSpPr/>
            <p:nvPr/>
          </p:nvSpPr>
          <p:spPr>
            <a:xfrm flipH="1">
              <a:off x="5944680" y="4890960"/>
              <a:ext cx="298440" cy="2984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Line 18"/>
          <p:cNvSpPr/>
          <p:nvPr/>
        </p:nvSpPr>
        <p:spPr>
          <a:xfrm>
            <a:off x="7539120" y="2413080"/>
            <a:ext cx="536400" cy="981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5"/>
          <p:cNvSpPr/>
          <p:nvPr/>
        </p:nvSpPr>
        <p:spPr>
          <a:xfrm>
            <a:off x="5097600" y="1344600"/>
            <a:ext cx="917280" cy="4614840"/>
          </a:xfrm>
          <a:custGeom>
            <a:avLst/>
            <a:gdLst/>
            <a:ahLst/>
            <a:rect l="l" t="t" r="r" b="b"/>
            <a:pathLst>
              <a:path w="578" h="2907">
                <a:moveTo>
                  <a:pt x="564" y="2907"/>
                </a:moveTo>
                <a:cubicBezTo>
                  <a:pt x="282" y="2497"/>
                  <a:pt x="0" y="2087"/>
                  <a:pt x="2" y="1603"/>
                </a:cubicBezTo>
                <a:cubicBezTo>
                  <a:pt x="4" y="1119"/>
                  <a:pt x="291" y="559"/>
                  <a:pt x="578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6"/>
          <p:cNvSpPr/>
          <p:nvPr/>
        </p:nvSpPr>
        <p:spPr>
          <a:xfrm flipH="1">
            <a:off x="7641360" y="1254240"/>
            <a:ext cx="917640" cy="4614840"/>
          </a:xfrm>
          <a:custGeom>
            <a:avLst/>
            <a:gdLst/>
            <a:ahLst/>
            <a:rect l="l" t="t" r="r" b="b"/>
            <a:pathLst>
              <a:path w="578" h="2907">
                <a:moveTo>
                  <a:pt x="564" y="2907"/>
                </a:moveTo>
                <a:cubicBezTo>
                  <a:pt x="282" y="2497"/>
                  <a:pt x="0" y="2087"/>
                  <a:pt x="2" y="1603"/>
                </a:cubicBezTo>
                <a:cubicBezTo>
                  <a:pt x="4" y="1119"/>
                  <a:pt x="291" y="559"/>
                  <a:pt x="578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7"/>
          <p:cNvSpPr/>
          <p:nvPr/>
        </p:nvSpPr>
        <p:spPr>
          <a:xfrm flipV="1">
            <a:off x="6742080" y="969840"/>
            <a:ext cx="0" cy="34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ant to suppress unstable rout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therwise, lots of update mess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lots of transient disrup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et, want to tolerate path explor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therwise, you suppress stable rou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black-hole otherwise reachable destin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reconcil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etter flap-damping parameter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re information in update message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thing more gentle than suppressio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ulti-Hom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9FA1-3E2B-4B17-8481-6ACEDC420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Connect to Multiple Provider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4"/>
          <p:cNvGraphicFramePr/>
          <p:nvPr/>
        </p:nvGraphicFramePr>
        <p:xfrm>
          <a:off x="4073400" y="2162160"/>
          <a:ext cx="190512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3400" y="2162160"/>
                    <a:ext cx="19051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22280" y="124776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duced fate sha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rvive ISP fail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ultiple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lect the be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ancia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verage through compet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ame 95</a:t>
            </a:r>
            <a:r>
              <a:rPr b="0" lang="en-US" sz="24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percentile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lling mod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62" name="Object 5"/>
          <p:cNvGraphicFramePr/>
          <p:nvPr/>
        </p:nvGraphicFramePr>
        <p:xfrm>
          <a:off x="6767640" y="2214720"/>
          <a:ext cx="2376360" cy="13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7640" y="2214720"/>
                    <a:ext cx="2376360" cy="13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Text Box 6"/>
          <p:cNvSpPr/>
          <p:nvPr/>
        </p:nvSpPr>
        <p:spPr>
          <a:xfrm>
            <a:off x="4237200" y="26067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r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7002720" y="26002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r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5006880" y="3351240"/>
            <a:ext cx="303480" cy="36180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9"/>
          <p:cNvSpPr/>
          <p:nvPr/>
        </p:nvSpPr>
        <p:spPr>
          <a:xfrm>
            <a:off x="7716960" y="3352680"/>
            <a:ext cx="303120" cy="36216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6335640" y="4135320"/>
            <a:ext cx="303120" cy="36216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6475320" y="4511520"/>
            <a:ext cx="1800" cy="163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5638680" y="4684680"/>
            <a:ext cx="16066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3"/>
          <p:cNvSpPr/>
          <p:nvPr/>
        </p:nvSpPr>
        <p:spPr>
          <a:xfrm>
            <a:off x="5772240" y="4684680"/>
            <a:ext cx="11160" cy="115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6078600" y="4692600"/>
            <a:ext cx="11160" cy="115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5"/>
          <p:cNvSpPr/>
          <p:nvPr/>
        </p:nvSpPr>
        <p:spPr>
          <a:xfrm>
            <a:off x="6365880" y="4691160"/>
            <a:ext cx="11160" cy="115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6708600" y="4691160"/>
            <a:ext cx="11160" cy="115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7051680" y="4691160"/>
            <a:ext cx="11160" cy="115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8"/>
          <p:cNvSpPr/>
          <p:nvPr/>
        </p:nvSpPr>
        <p:spPr>
          <a:xfrm>
            <a:off x="5270400" y="3668760"/>
            <a:ext cx="1114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9"/>
          <p:cNvSpPr/>
          <p:nvPr/>
        </p:nvSpPr>
        <p:spPr>
          <a:xfrm flipV="1">
            <a:off x="6635880" y="3682800"/>
            <a:ext cx="1145880" cy="55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bound Traffic: Pick a BGP Rou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sier to control than inbound traff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routing is destination bas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determines where the packets g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trol only by selecting the next ho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rder router can pick the next-hop 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not control selection of the entire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80" name="Object 2"/>
          <p:cNvGraphicFramePr/>
          <p:nvPr/>
        </p:nvGraphicFramePr>
        <p:xfrm>
          <a:off x="1390680" y="4186080"/>
          <a:ext cx="252108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4186080"/>
                    <a:ext cx="252108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3"/>
          <p:cNvGraphicFramePr/>
          <p:nvPr/>
        </p:nvGraphicFramePr>
        <p:xfrm>
          <a:off x="4952880" y="4214880"/>
          <a:ext cx="2376720" cy="13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214880"/>
                    <a:ext cx="23767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6"/>
          <p:cNvSpPr/>
          <p:nvPr/>
        </p:nvSpPr>
        <p:spPr>
          <a:xfrm>
            <a:off x="1798920" y="45543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r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20080" y="46004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r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2473200" y="5276880"/>
            <a:ext cx="303480" cy="36180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6033960" y="5353200"/>
            <a:ext cx="303480" cy="36180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097160" y="6135840"/>
            <a:ext cx="303480" cy="3618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4237200" y="6512040"/>
            <a:ext cx="144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3400560" y="6684840"/>
            <a:ext cx="1606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3533760" y="668484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3840120" y="669276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5"/>
          <p:cNvSpPr/>
          <p:nvPr/>
        </p:nvSpPr>
        <p:spPr>
          <a:xfrm>
            <a:off x="4127400" y="669132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6"/>
          <p:cNvSpPr/>
          <p:nvPr/>
        </p:nvSpPr>
        <p:spPr>
          <a:xfrm>
            <a:off x="4470480" y="669132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4813200" y="669132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8"/>
          <p:cNvSpPr/>
          <p:nvPr/>
        </p:nvSpPr>
        <p:spPr>
          <a:xfrm>
            <a:off x="2643120" y="5597640"/>
            <a:ext cx="149220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9"/>
          <p:cNvSpPr/>
          <p:nvPr/>
        </p:nvSpPr>
        <p:spPr>
          <a:xfrm flipV="1">
            <a:off x="4375080" y="5662080"/>
            <a:ext cx="1703520" cy="59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3"/>
          <p:cNvSpPr/>
          <p:nvPr/>
        </p:nvSpPr>
        <p:spPr>
          <a:xfrm>
            <a:off x="2617920" y="5634000"/>
            <a:ext cx="1469880" cy="689040"/>
          </a:xfrm>
          <a:custGeom>
            <a:avLst/>
            <a:gdLst>
              <a:gd name="textAreaLeft" fmla="*/ 0 w 1469880"/>
              <a:gd name="textAreaRight" fmla="*/ 1470240 w 146988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926" h="434">
                <a:moveTo>
                  <a:pt x="0" y="0"/>
                </a:moveTo>
                <a:cubicBezTo>
                  <a:pt x="88" y="153"/>
                  <a:pt x="177" y="306"/>
                  <a:pt x="331" y="370"/>
                </a:cubicBezTo>
                <a:cubicBezTo>
                  <a:pt x="485" y="434"/>
                  <a:pt x="705" y="409"/>
                  <a:pt x="926" y="384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24"/>
          <p:cNvSpPr/>
          <p:nvPr/>
        </p:nvSpPr>
        <p:spPr>
          <a:xfrm>
            <a:off x="4383000" y="5738760"/>
            <a:ext cx="1797120" cy="696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1132" h="439">
                <a:moveTo>
                  <a:pt x="0" y="391"/>
                </a:moveTo>
                <a:cubicBezTo>
                  <a:pt x="7" y="415"/>
                  <a:pt x="15" y="439"/>
                  <a:pt x="139" y="424"/>
                </a:cubicBezTo>
                <a:cubicBezTo>
                  <a:pt x="263" y="409"/>
                  <a:pt x="576" y="369"/>
                  <a:pt x="741" y="298"/>
                </a:cubicBezTo>
                <a:cubicBezTo>
                  <a:pt x="906" y="227"/>
                  <a:pt x="1019" y="113"/>
                  <a:pt x="1132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5347080" y="606096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, 7, 8, 4)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6"/>
          <p:cNvSpPr/>
          <p:nvPr/>
        </p:nvSpPr>
        <p:spPr>
          <a:xfrm>
            <a:off x="1235520" y="6014880"/>
            <a:ext cx="18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, 3, 4)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traight Connector 10"/>
          <p:cNvSpPr/>
          <p:nvPr/>
        </p:nvSpPr>
        <p:spPr>
          <a:xfrm>
            <a:off x="8001000" y="2666880"/>
            <a:ext cx="609480" cy="3812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12"/>
          <p:cNvSpPr/>
          <p:nvPr/>
        </p:nvSpPr>
        <p:spPr>
          <a:xfrm flipH="1">
            <a:off x="8610480" y="3352680"/>
            <a:ext cx="15264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14"/>
          <p:cNvSpPr/>
          <p:nvPr/>
        </p:nvSpPr>
        <p:spPr>
          <a:xfrm flipH="1">
            <a:off x="8381520" y="4191120"/>
            <a:ext cx="22860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 flipH="1" flipV="1">
            <a:off x="7086600" y="4495680"/>
            <a:ext cx="990720" cy="533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8"/>
          <p:cNvSpPr/>
          <p:nvPr/>
        </p:nvSpPr>
        <p:spPr>
          <a:xfrm flipV="1">
            <a:off x="7086600" y="259092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bound Traffic: Shortest AS 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 import policy on border rout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ick route with shortest AS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rbitrary tie break (e.g., router-i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erformanc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hortest path is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cessarily be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pagation delay or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ad balancing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uld lead to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uneven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lit in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one provider with shorter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oo many ties with a skewed tie-break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09" name="Object 2"/>
          <p:cNvGraphicFramePr/>
          <p:nvPr/>
        </p:nvGraphicFramePr>
        <p:xfrm>
          <a:off x="5700600" y="3105000"/>
          <a:ext cx="23767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00600" y="3105000"/>
                    <a:ext cx="23767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3"/>
          <p:cNvGraphicFramePr/>
          <p:nvPr/>
        </p:nvGraphicFramePr>
        <p:xfrm>
          <a:off x="7696080" y="4648320"/>
          <a:ext cx="114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4648320"/>
                    <a:ext cx="114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4"/>
          <p:cNvGraphicFramePr/>
          <p:nvPr/>
        </p:nvGraphicFramePr>
        <p:xfrm>
          <a:off x="8001000" y="3733920"/>
          <a:ext cx="114300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01000" y="3733920"/>
                    <a:ext cx="114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5"/>
          <p:cNvGraphicFramePr/>
          <p:nvPr/>
        </p:nvGraphicFramePr>
        <p:xfrm>
          <a:off x="8001000" y="2895480"/>
          <a:ext cx="1143000" cy="66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01000" y="2895480"/>
                    <a:ext cx="11430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6"/>
          <p:cNvGraphicFramePr/>
          <p:nvPr/>
        </p:nvGraphicFramePr>
        <p:xfrm>
          <a:off x="7086600" y="2209680"/>
          <a:ext cx="1143000" cy="668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2209680"/>
                    <a:ext cx="11430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TextBox 19"/>
          <p:cNvSpPr/>
          <p:nvPr/>
        </p:nvSpPr>
        <p:spPr>
          <a:xfrm>
            <a:off x="8150400" y="48006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7511400" y="2286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bound Traffic: Primary and Back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ngle policy for all prefix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 local-pref for session to primary provi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w load-pref for session to backup provi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utcome of BGP decision proc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oose the primary provider whenever possi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the backup provider when necessa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if you want to balance traffic load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if you want to select better path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bound Traffic: Load Balanc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lectively use each provid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sign local-pref across destination prefix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nge the local-pref assignments over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ful inputs to load balanc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d-to-end path performance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active measurements along each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utbound traffic statistics per destination prefix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acket monitors or router-leve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 capacity to each provi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lling model of each provi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bound Traffic: What Kind of Probi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ts of op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TTP transf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DP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cerou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s and cons for ea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curac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ropped by rou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ts off intrusion detection syste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monitor the “paths not taken”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bound Traffic: How Often to Chang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ub ASes have no BGP custom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routing changes do not trigger BGP upda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flows that switch path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ut-of-order packets during tran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nge in round-trip-time (RT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act on the provid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certainty in the offered lo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action with their own traffic engineerin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act on other end us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od: move traffic off of congested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d: potential oscillation as other stub ASes adap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 Dynam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action between BGP mechanis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th exploration vs. route-flap damp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action with end-host applic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 failure det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 protocol converg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action with other routing protocol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ra-domain routing (e.g., OSPF/IS-I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action with traffic-engineering practi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equent changes to routing polic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A39C-13F2-4FE1-B00D-6C01CF6B8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istent Routing Cha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 with intermittent connectiv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gestion causing repeated session res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rsistent oscillation due to policy conflic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ffects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ts of BGP update mess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ruptions to data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 overhead on rou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ress paths that go up/down repeated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avoid updates and prefer stable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e Flap Dam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GP-speaking rout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e or more BGP neighb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eep an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IB-in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per neighb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lect single best route per destination prefix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oute-flap damp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nalty counter per (peer, prefix) pai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ment penalty when peer changes rou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crease penalty over time when route is s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sign and deployed in the mid-to-late 1990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dely viewed as helping improve stabi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Why Damping is Go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ider AS 3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th #1: (3,1,0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th #2: (3,2,0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link (1,0) fail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3 switches rou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link (1,0) resto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3 switches rou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this happens a l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etter for AS 3 to stick with (3,2,0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5705640" y="1204920"/>
            <a:ext cx="1784160" cy="1427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7218360" y="3219480"/>
            <a:ext cx="1784520" cy="1427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3"/>
          <a:stretch/>
        </p:blipFill>
        <p:spPr>
          <a:xfrm>
            <a:off x="4616280" y="3073320"/>
            <a:ext cx="1784520" cy="1427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4"/>
          <a:stretch/>
        </p:blipFill>
        <p:spPr>
          <a:xfrm>
            <a:off x="5962680" y="5253120"/>
            <a:ext cx="1785960" cy="1427040"/>
          </a:xfrm>
          <a:prstGeom prst="rect">
            <a:avLst/>
          </a:prstGeom>
          <a:ln w="0">
            <a:noFill/>
          </a:ln>
        </p:spPr>
      </p:pic>
      <p:sp>
        <p:nvSpPr>
          <p:cNvPr id="196" name="Line 8"/>
          <p:cNvSpPr/>
          <p:nvPr/>
        </p:nvSpPr>
        <p:spPr>
          <a:xfrm flipH="1">
            <a:off x="5751360" y="2405160"/>
            <a:ext cx="314640" cy="726840"/>
          </a:xfrm>
          <a:prstGeom prst="line">
            <a:avLst/>
          </a:prstGeom>
          <a:ln w="38160">
            <a:solidFill>
              <a:srgbClr val="000066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7364520" y="2370240"/>
            <a:ext cx="536400" cy="981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0"/>
          <p:cNvSpPr/>
          <p:nvPr/>
        </p:nvSpPr>
        <p:spPr>
          <a:xfrm>
            <a:off x="6303960" y="3855960"/>
            <a:ext cx="95580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 flipH="1">
            <a:off x="7321320" y="4397400"/>
            <a:ext cx="463320" cy="10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2"/>
          <p:cNvSpPr/>
          <p:nvPr/>
        </p:nvSpPr>
        <p:spPr>
          <a:xfrm>
            <a:off x="5630760" y="4484520"/>
            <a:ext cx="700200" cy="97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430680" y="1563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5325480" y="3490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7951320" y="35766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6679800" y="5613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4818240" y="2484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(1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7778880" y="24811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(2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1"/>
          <p:cNvSpPr/>
          <p:nvPr/>
        </p:nvSpPr>
        <p:spPr>
          <a:xfrm>
            <a:off x="5738760" y="2711520"/>
            <a:ext cx="363600" cy="352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 flipH="1">
            <a:off x="5757480" y="2732040"/>
            <a:ext cx="298440" cy="298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3"/>
          <p:cNvSpPr/>
          <p:nvPr/>
        </p:nvSpPr>
        <p:spPr>
          <a:xfrm>
            <a:off x="4748040" y="2093760"/>
            <a:ext cx="1103400" cy="4064040"/>
          </a:xfrm>
          <a:custGeom>
            <a:avLst/>
            <a:gdLst/>
            <a:ahLst/>
            <a:rect l="l" t="t" r="r" b="b"/>
            <a:pathLst>
              <a:path w="695" h="2560">
                <a:moveTo>
                  <a:pt x="638" y="2387"/>
                </a:moveTo>
                <a:cubicBezTo>
                  <a:pt x="666" y="2473"/>
                  <a:pt x="695" y="2560"/>
                  <a:pt x="590" y="2317"/>
                </a:cubicBezTo>
                <a:cubicBezTo>
                  <a:pt x="485" y="2074"/>
                  <a:pt x="14" y="1315"/>
                  <a:pt x="7" y="929"/>
                </a:cubicBezTo>
                <a:cubicBezTo>
                  <a:pt x="0" y="543"/>
                  <a:pt x="274" y="271"/>
                  <a:pt x="54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5"/>
          <p:cNvSpPr/>
          <p:nvPr/>
        </p:nvSpPr>
        <p:spPr>
          <a:xfrm flipH="1">
            <a:off x="7379640" y="2103480"/>
            <a:ext cx="1103400" cy="4064040"/>
          </a:xfrm>
          <a:custGeom>
            <a:avLst/>
            <a:gdLst/>
            <a:ahLst/>
            <a:rect l="l" t="t" r="r" b="b"/>
            <a:pathLst>
              <a:path w="695" h="2560">
                <a:moveTo>
                  <a:pt x="638" y="2387"/>
                </a:moveTo>
                <a:cubicBezTo>
                  <a:pt x="666" y="2473"/>
                  <a:pt x="695" y="2560"/>
                  <a:pt x="590" y="2317"/>
                </a:cubicBezTo>
                <a:cubicBezTo>
                  <a:pt x="485" y="2074"/>
                  <a:pt x="14" y="1315"/>
                  <a:pt x="7" y="929"/>
                </a:cubicBezTo>
                <a:cubicBezTo>
                  <a:pt x="0" y="543"/>
                  <a:pt x="274" y="271"/>
                  <a:pt x="54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mping Penalty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1079640" y="1112760"/>
            <a:ext cx="0" cy="511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"/>
          <p:cNvSpPr/>
          <p:nvPr/>
        </p:nvSpPr>
        <p:spPr>
          <a:xfrm flipH="1">
            <a:off x="1066680" y="6211800"/>
            <a:ext cx="712800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4068000" y="6186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 flipH="1" rot="16200000">
            <a:off x="10440" y="3105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nal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 flipV="1">
            <a:off x="1906560" y="4703400"/>
            <a:ext cx="22320" cy="152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1927080" y="4703760"/>
            <a:ext cx="298440" cy="26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 flipV="1">
            <a:off x="2235240" y="3446640"/>
            <a:ext cx="22320" cy="152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2266920" y="3457440"/>
            <a:ext cx="298440" cy="26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2563920" y="2177640"/>
            <a:ext cx="21960" cy="152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6"/>
          <p:cNvSpPr/>
          <p:nvPr/>
        </p:nvSpPr>
        <p:spPr>
          <a:xfrm>
            <a:off x="2577960" y="2170080"/>
            <a:ext cx="5772240" cy="3349800"/>
          </a:xfrm>
          <a:custGeom>
            <a:avLst/>
            <a:gdLst/>
            <a:ahLst/>
            <a:rect l="l" t="t" r="r" b="b"/>
            <a:pathLst>
              <a:path w="3192" h="2013">
                <a:moveTo>
                  <a:pt x="0" y="0"/>
                </a:moveTo>
                <a:cubicBezTo>
                  <a:pt x="172" y="249"/>
                  <a:pt x="344" y="499"/>
                  <a:pt x="673" y="757"/>
                </a:cubicBezTo>
                <a:cubicBezTo>
                  <a:pt x="1002" y="1015"/>
                  <a:pt x="1551" y="1339"/>
                  <a:pt x="1971" y="1548"/>
                </a:cubicBezTo>
                <a:cubicBezTo>
                  <a:pt x="2391" y="1757"/>
                  <a:pt x="2791" y="1885"/>
                  <a:pt x="3192" y="201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1090440" y="5232240"/>
            <a:ext cx="7337520" cy="0"/>
          </a:xfrm>
          <a:prstGeom prst="line">
            <a:avLst/>
          </a:prstGeom>
          <a:ln w="284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3168000" y="524016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use thresho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1077840" y="2652840"/>
            <a:ext cx="73375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3758040" y="213192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ression thresho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gurable Damping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enalty for a routing chang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y vary with the type of update messa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vertisement vs. withdraw?  Attributes chang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aying in absence of a chang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onent in the exponential dec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ppression threshol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igger for damping the rou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termines how many updates are tolera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use threshol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igger for considering the route aga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termines how long the route is not us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st Common Practices for Dam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fferent parameters for different prefix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re aggressive with small address bloc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able damping on certain prefixes (e.g., corresponding to the DNS root server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void suppressing stable rout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lerate at least four routing chan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ppress unstable routes for quite a whi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alues ranging from 10 minutes to 1 ho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alues for 30 minutes are not uncomm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action with Path Explo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GP routing converg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ore one or more alternate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umber of alternate paths may be quite hig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 between steps is small (e.g., 30 second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iggering route-flap damp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ing penalty with each ste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ly small amount of decay between ste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vergence may trigger route flap damp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vergence may involve more than 4 chan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ing change may trigger lost connectivity!!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ronically penalizes more richly connected si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1:28:01Z</dcterms:created>
  <dc:creator>Kai Li</dc:creator>
  <dc:description/>
  <dc:language>en-US</dc:language>
  <cp:lastModifiedBy>Jen</cp:lastModifiedBy>
  <cp:lastPrinted>2010-09-22T18:12:26Z</cp:lastPrinted>
  <dcterms:modified xsi:type="dcterms:W3CDTF">2017-10-12T03:37:02Z</dcterms:modified>
  <cp:revision>3429</cp:revision>
  <dc:subject/>
  <dc:title>Communication</dc:title>
</cp:coreProperties>
</file>