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9C1D264-5B4E-4027-BABF-0A92F0B48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914E40F-9858-41BA-8322-A15C3903602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7DB46CE-3500-42E4-B900-3B085DC03F2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F56AAAA-BDD9-4C48-A314-44E8937B828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1A5E8A9-BFF3-429B-A496-B5B50F3CB47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935D962-8256-4452-A654-70CC4C0719B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90E69A0-109C-4438-8E07-331F030D89C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C00EDFD-B1C5-4C3C-8F60-210A54D2556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9FFA99-3D2F-41E2-9C54-4951DBFA3B7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2BB6475-806F-4C25-B56B-F695FCCBC03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F2206A1-6E5E-4FB2-BABA-A6538998EDF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EB7E857-4A80-4CD8-A982-25F10CAA54D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6559EDE-2849-4705-86FE-2DF6C3DF150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AF09C03-0BFE-4A91-8F10-4F6DD903D1C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B1B6-FEFA-437A-8CAF-2AB02EDBE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DB74-0646-495F-8847-D1E252E82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57FA6-DCB9-4FC6-BED9-0F4D528BB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FE72-5105-4583-A509-9F306AD06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678D-C2DE-49FB-8F70-A46D2A32A6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2ABF-4FAF-49F5-8B63-0D09FC537A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CF01-4B52-4AC2-8B4F-1CEEEDCA0C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B3BC-8CF4-4C36-BCDF-C0C05B86C9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14F1-4D23-4E97-BF63-5A8C3EB574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7E8E9-AD3B-4AFE-861F-DBE834CEA1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F968E-8459-4BB4-8432-AB40675C51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4FB4-274B-4240-A584-830DC326B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5C4C8-3CA6-4C3D-8F02-55D74641BC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17FC-80F8-49EB-A0F9-CA2BC0FD4E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C365-34CA-4046-934E-EBA8D5A87C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4C76D-7E94-4497-81F0-E10099297E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BA98-4A8C-449D-9CA9-57F1876809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8B1C-812D-482D-8BAA-CC9F4449AD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C1FF-7AAD-42D0-893E-A812F63D74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2F43-E049-438F-8CD2-537B53539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4571-3AD1-493A-9C88-1FF5C0BC9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C269-5793-4DD2-BC3E-14B39826E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D360-20B7-4EE8-8E9F-FAB1F5785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3CBD-5267-4953-8B3A-F5FF8E7F5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EA88-4C11-4889-B995-B44002E4B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0213-B701-4085-BEA9-C01C5030F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94C2-FA27-45D8-ADA9-FEC95AE67DA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762C-088F-4656-81AE-09CB6C3F43C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oot-servers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39640" y="1739880"/>
            <a:ext cx="818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Domain Name System (DNS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i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NS servers are replicated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Name service available if at least one replica is u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Queries can be load balanced between replic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UDP used for queri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Need reliability: must implement this on top of UD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ry alternate servers on timeou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Exponential backoff when retrying same serv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Same identifier for all queri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Don’t care which server respon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E3B0-1A1F-4E31-943D-0A9307238CF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DNS Queries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nd Ca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F3F2-F5ED-48F0-B834-98027D3FDEA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sing D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cal DNS server (</a:t>
            </a:r>
            <a:r>
              <a:rPr b="0" lang="ja-JP" sz="28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default name server</a:t>
            </a:r>
            <a:r>
              <a:rPr b="0" lang="ja-JP" sz="2800" spc="-1" strike="noStrike">
                <a:solidFill>
                  <a:srgbClr val="0000ff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Usually near the end hosts who use 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Local hosts configured with local server (e.g., /etc/resolv.conf) or learn the server via DH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lient appl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Extract server name (e.g., from the UR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Do </a:t>
            </a:r>
            <a:r>
              <a:rPr b="0" i="1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gethostbyname()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 or </a:t>
            </a:r>
            <a:r>
              <a:rPr b="0" i="1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getaddrinfo() 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to get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Server appl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Extract client IP address from so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Optional </a:t>
            </a:r>
            <a:r>
              <a:rPr b="0" i="1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gethostbyaddr()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 to translate into n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DED6-0130-41CF-9642-64B52EE8846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Object 2" descr=""/>
          <p:cNvPicPr/>
          <p:nvPr/>
        </p:nvPicPr>
        <p:blipFill>
          <a:blip r:embed="rId1"/>
          <a:stretch/>
        </p:blipFill>
        <p:spPr>
          <a:xfrm>
            <a:off x="4462560" y="538164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3"/>
          <p:cNvSpPr/>
          <p:nvPr/>
        </p:nvSpPr>
        <p:spPr>
          <a:xfrm>
            <a:off x="3837600" y="5924520"/>
            <a:ext cx="21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ing h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.cs.princeton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845760" y="610092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umass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7477200" y="5562720"/>
          <a:ext cx="833400" cy="63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77200" y="556272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9" name="Group 6"/>
          <p:cNvGrpSpPr/>
          <p:nvPr/>
        </p:nvGrpSpPr>
        <p:grpSpPr>
          <a:xfrm>
            <a:off x="5985000" y="2125800"/>
            <a:ext cx="369360" cy="656280"/>
            <a:chOff x="5985000" y="2125800"/>
            <a:chExt cx="369360" cy="656280"/>
          </a:xfrm>
        </p:grpSpPr>
        <p:sp>
          <p:nvSpPr>
            <p:cNvPr id="310" name="AutoShape 7"/>
            <p:cNvSpPr/>
            <p:nvPr/>
          </p:nvSpPr>
          <p:spPr>
            <a:xfrm>
              <a:off x="5985000" y="26305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6172200" y="21301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987160" y="22730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0"/>
            <p:cNvSpPr/>
            <p:nvPr/>
          </p:nvSpPr>
          <p:spPr>
            <a:xfrm>
              <a:off x="5985000" y="21258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6354360" y="21362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2"/>
            <p:cNvSpPr/>
            <p:nvPr/>
          </p:nvSpPr>
          <p:spPr>
            <a:xfrm flipH="1">
              <a:off x="6220800" y="2630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6016680" y="2339640"/>
              <a:ext cx="155160" cy="290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4"/>
            <p:cNvSpPr/>
            <p:nvPr/>
          </p:nvSpPr>
          <p:spPr>
            <a:xfrm>
              <a:off x="6039000" y="24274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5"/>
          <p:cNvSpPr/>
          <p:nvPr/>
        </p:nvSpPr>
        <p:spPr>
          <a:xfrm>
            <a:off x="6568920" y="304920"/>
            <a:ext cx="26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ot DNS server for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 flipV="1">
            <a:off x="5532480" y="2895120"/>
            <a:ext cx="380880" cy="838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 flipV="1">
            <a:off x="6148440" y="1117080"/>
            <a:ext cx="914400" cy="9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 flipV="1">
            <a:off x="6434280" y="2279160"/>
            <a:ext cx="1485720" cy="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 flipH="1">
            <a:off x="6434280" y="2451240"/>
            <a:ext cx="1419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0"/>
          <p:cNvSpPr/>
          <p:nvPr/>
        </p:nvSpPr>
        <p:spPr>
          <a:xfrm flipH="1">
            <a:off x="6357600" y="1346040"/>
            <a:ext cx="7333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2"/>
          <p:cNvGrpSpPr/>
          <p:nvPr/>
        </p:nvGrpSpPr>
        <p:grpSpPr>
          <a:xfrm>
            <a:off x="3814560" y="2057400"/>
            <a:ext cx="2120760" cy="703800"/>
            <a:chOff x="3814560" y="2057400"/>
            <a:chExt cx="2120760" cy="703800"/>
          </a:xfrm>
        </p:grpSpPr>
        <p:sp>
          <p:nvSpPr>
            <p:cNvPr id="325" name="Rectangle 23"/>
            <p:cNvSpPr/>
            <p:nvPr/>
          </p:nvSpPr>
          <p:spPr>
            <a:xfrm>
              <a:off x="3935520" y="213012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4"/>
            <p:cNvSpPr/>
            <p:nvPr/>
          </p:nvSpPr>
          <p:spPr>
            <a:xfrm>
              <a:off x="3814560" y="2057400"/>
              <a:ext cx="2120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local DNS serv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dns.princeton.edu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26"/>
          <p:cNvSpPr/>
          <p:nvPr/>
        </p:nvSpPr>
        <p:spPr>
          <a:xfrm>
            <a:off x="6145200" y="12193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1"/>
          <p:cNvGrpSpPr/>
          <p:nvPr/>
        </p:nvGrpSpPr>
        <p:grpSpPr>
          <a:xfrm>
            <a:off x="7099200" y="706320"/>
            <a:ext cx="369720" cy="657000"/>
            <a:chOff x="7099200" y="706320"/>
            <a:chExt cx="369720" cy="657000"/>
          </a:xfrm>
        </p:grpSpPr>
        <p:sp>
          <p:nvSpPr>
            <p:cNvPr id="329" name="AutoShape 32"/>
            <p:cNvSpPr/>
            <p:nvPr/>
          </p:nvSpPr>
          <p:spPr>
            <a:xfrm>
              <a:off x="7099200" y="121140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3"/>
            <p:cNvSpPr/>
            <p:nvPr/>
          </p:nvSpPr>
          <p:spPr>
            <a:xfrm>
              <a:off x="7286400" y="7106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4"/>
            <p:cNvSpPr/>
            <p:nvPr/>
          </p:nvSpPr>
          <p:spPr>
            <a:xfrm>
              <a:off x="7101360" y="85356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5"/>
            <p:cNvSpPr/>
            <p:nvPr/>
          </p:nvSpPr>
          <p:spPr>
            <a:xfrm>
              <a:off x="7099200" y="7063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6"/>
            <p:cNvSpPr/>
            <p:nvPr/>
          </p:nvSpPr>
          <p:spPr>
            <a:xfrm>
              <a:off x="7468920" y="7167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37"/>
            <p:cNvSpPr/>
            <p:nvPr/>
          </p:nvSpPr>
          <p:spPr>
            <a:xfrm flipH="1">
              <a:off x="7335360" y="1211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8"/>
            <p:cNvSpPr/>
            <p:nvPr/>
          </p:nvSpPr>
          <p:spPr>
            <a:xfrm>
              <a:off x="7130880" y="920160"/>
              <a:ext cx="15552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39"/>
            <p:cNvSpPr/>
            <p:nvPr/>
          </p:nvSpPr>
          <p:spPr>
            <a:xfrm>
              <a:off x="7153200" y="10080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40"/>
          <p:cNvGrpSpPr/>
          <p:nvPr/>
        </p:nvGrpSpPr>
        <p:grpSpPr>
          <a:xfrm>
            <a:off x="7927920" y="2135160"/>
            <a:ext cx="369720" cy="657000"/>
            <a:chOff x="7927920" y="2135160"/>
            <a:chExt cx="369720" cy="657000"/>
          </a:xfrm>
        </p:grpSpPr>
        <p:sp>
          <p:nvSpPr>
            <p:cNvPr id="338" name="AutoShape 41"/>
            <p:cNvSpPr/>
            <p:nvPr/>
          </p:nvSpPr>
          <p:spPr>
            <a:xfrm>
              <a:off x="7927920" y="26402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2"/>
            <p:cNvSpPr/>
            <p:nvPr/>
          </p:nvSpPr>
          <p:spPr>
            <a:xfrm>
              <a:off x="8115120" y="21394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3"/>
            <p:cNvSpPr/>
            <p:nvPr/>
          </p:nvSpPr>
          <p:spPr>
            <a:xfrm>
              <a:off x="7930080" y="228240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44"/>
            <p:cNvSpPr/>
            <p:nvPr/>
          </p:nvSpPr>
          <p:spPr>
            <a:xfrm>
              <a:off x="7927920" y="213516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5"/>
            <p:cNvSpPr/>
            <p:nvPr/>
          </p:nvSpPr>
          <p:spPr>
            <a:xfrm>
              <a:off x="8297640" y="21456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6"/>
            <p:cNvSpPr/>
            <p:nvPr/>
          </p:nvSpPr>
          <p:spPr>
            <a:xfrm flipH="1">
              <a:off x="8164080" y="26402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7"/>
            <p:cNvSpPr/>
            <p:nvPr/>
          </p:nvSpPr>
          <p:spPr>
            <a:xfrm>
              <a:off x="7959600" y="2349000"/>
              <a:ext cx="15552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48"/>
            <p:cNvSpPr/>
            <p:nvPr/>
          </p:nvSpPr>
          <p:spPr>
            <a:xfrm>
              <a:off x="7981920" y="24368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49"/>
          <p:cNvGrpSpPr/>
          <p:nvPr/>
        </p:nvGrpSpPr>
        <p:grpSpPr>
          <a:xfrm>
            <a:off x="7908840" y="3754440"/>
            <a:ext cx="369720" cy="657000"/>
            <a:chOff x="7908840" y="3754440"/>
            <a:chExt cx="369720" cy="657000"/>
          </a:xfrm>
        </p:grpSpPr>
        <p:sp>
          <p:nvSpPr>
            <p:cNvPr id="347" name="AutoShape 50"/>
            <p:cNvSpPr/>
            <p:nvPr/>
          </p:nvSpPr>
          <p:spPr>
            <a:xfrm>
              <a:off x="7908840" y="42595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51"/>
            <p:cNvSpPr/>
            <p:nvPr/>
          </p:nvSpPr>
          <p:spPr>
            <a:xfrm>
              <a:off x="8096040" y="37587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52"/>
            <p:cNvSpPr/>
            <p:nvPr/>
          </p:nvSpPr>
          <p:spPr>
            <a:xfrm>
              <a:off x="7911000" y="390168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53"/>
            <p:cNvSpPr/>
            <p:nvPr/>
          </p:nvSpPr>
          <p:spPr>
            <a:xfrm>
              <a:off x="7908840" y="37544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54"/>
            <p:cNvSpPr/>
            <p:nvPr/>
          </p:nvSpPr>
          <p:spPr>
            <a:xfrm>
              <a:off x="8278560" y="37648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5"/>
            <p:cNvSpPr/>
            <p:nvPr/>
          </p:nvSpPr>
          <p:spPr>
            <a:xfrm flipH="1">
              <a:off x="8145000" y="4259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6"/>
            <p:cNvSpPr/>
            <p:nvPr/>
          </p:nvSpPr>
          <p:spPr>
            <a:xfrm>
              <a:off x="7940520" y="3968280"/>
              <a:ext cx="15552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7"/>
            <p:cNvSpPr/>
            <p:nvPr/>
          </p:nvSpPr>
          <p:spPr>
            <a:xfrm>
              <a:off x="7962840" y="40561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58"/>
          <p:cNvSpPr/>
          <p:nvPr/>
        </p:nvSpPr>
        <p:spPr>
          <a:xfrm>
            <a:off x="6413400" y="4419720"/>
            <a:ext cx="272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oritative DNS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umass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ns.umass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1"/>
          <p:cNvSpPr/>
          <p:nvPr/>
        </p:nvSpPr>
        <p:spPr>
          <a:xfrm>
            <a:off x="6367320" y="2611440"/>
            <a:ext cx="1494000" cy="131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2"/>
          <p:cNvSpPr/>
          <p:nvPr/>
        </p:nvSpPr>
        <p:spPr>
          <a:xfrm flipH="1" flipV="1">
            <a:off x="6294240" y="2813040"/>
            <a:ext cx="1493640" cy="130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3"/>
          <p:cNvSpPr/>
          <p:nvPr/>
        </p:nvSpPr>
        <p:spPr>
          <a:xfrm>
            <a:off x="7315200" y="1425600"/>
            <a:ext cx="201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LD DNS server for 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95480" y="759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NS Que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267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st a.cs.princeton.edu wants IP address for www.umass.edu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Recursiv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s.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terativ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eries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D4D5-74D0-4B6A-ADBE-87C3A972A72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5315040" y="3838680"/>
            <a:ext cx="369360" cy="656280"/>
            <a:chOff x="5315040" y="3838680"/>
            <a:chExt cx="369360" cy="656280"/>
          </a:xfrm>
        </p:grpSpPr>
        <p:sp>
          <p:nvSpPr>
            <p:cNvPr id="363" name="AutoShape 7"/>
            <p:cNvSpPr/>
            <p:nvPr/>
          </p:nvSpPr>
          <p:spPr>
            <a:xfrm>
              <a:off x="5315040" y="4343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8"/>
            <p:cNvSpPr/>
            <p:nvPr/>
          </p:nvSpPr>
          <p:spPr>
            <a:xfrm>
              <a:off x="5502240" y="38430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9"/>
            <p:cNvSpPr/>
            <p:nvPr/>
          </p:nvSpPr>
          <p:spPr>
            <a:xfrm>
              <a:off x="5317200" y="398592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10"/>
            <p:cNvSpPr/>
            <p:nvPr/>
          </p:nvSpPr>
          <p:spPr>
            <a:xfrm>
              <a:off x="5315040" y="383868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1"/>
            <p:cNvSpPr/>
            <p:nvPr/>
          </p:nvSpPr>
          <p:spPr>
            <a:xfrm>
              <a:off x="5684400" y="38491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2"/>
            <p:cNvSpPr/>
            <p:nvPr/>
          </p:nvSpPr>
          <p:spPr>
            <a:xfrm flipH="1">
              <a:off x="5550840" y="4343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5346720" y="4052520"/>
              <a:ext cx="155160" cy="290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5369040" y="41403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22"/>
          <p:cNvGrpSpPr/>
          <p:nvPr/>
        </p:nvGrpSpPr>
        <p:grpSpPr>
          <a:xfrm>
            <a:off x="2824200" y="3635280"/>
            <a:ext cx="2398320" cy="703800"/>
            <a:chOff x="2824200" y="3635280"/>
            <a:chExt cx="2398320" cy="703800"/>
          </a:xfrm>
        </p:grpSpPr>
        <p:sp>
          <p:nvSpPr>
            <p:cNvPr id="372" name="Rectangle 23"/>
            <p:cNvSpPr/>
            <p:nvPr/>
          </p:nvSpPr>
          <p:spPr>
            <a:xfrm>
              <a:off x="3084480" y="3708000"/>
              <a:ext cx="187596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24"/>
            <p:cNvSpPr/>
            <p:nvPr/>
          </p:nvSpPr>
          <p:spPr>
            <a:xfrm>
              <a:off x="2824200" y="3635280"/>
              <a:ext cx="239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local DNS serv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dns.cs.princeton.edu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Line 16"/>
          <p:cNvSpPr/>
          <p:nvPr/>
        </p:nvSpPr>
        <p:spPr>
          <a:xfrm flipV="1">
            <a:off x="4846680" y="4457880"/>
            <a:ext cx="38088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0"/>
          <p:cNvSpPr/>
          <p:nvPr/>
        </p:nvSpPr>
        <p:spPr>
          <a:xfrm flipH="1">
            <a:off x="5761080" y="2895480"/>
            <a:ext cx="380880" cy="838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 flipH="1">
            <a:off x="5074920" y="4610160"/>
            <a:ext cx="3049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4621320" y="44956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5307120" y="29718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6794640" y="16002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6"/>
          <p:cNvSpPr/>
          <p:nvPr/>
        </p:nvSpPr>
        <p:spPr>
          <a:xfrm>
            <a:off x="7212240" y="18288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6"/>
          <p:cNvSpPr/>
          <p:nvPr/>
        </p:nvSpPr>
        <p:spPr>
          <a:xfrm>
            <a:off x="7251840" y="24336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7364520" y="3048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6"/>
          <p:cNvSpPr/>
          <p:nvPr/>
        </p:nvSpPr>
        <p:spPr>
          <a:xfrm>
            <a:off x="6831000" y="35053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6"/>
          <p:cNvSpPr/>
          <p:nvPr/>
        </p:nvSpPr>
        <p:spPr>
          <a:xfrm>
            <a:off x="5916600" y="32004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6"/>
          <p:cNvSpPr/>
          <p:nvPr/>
        </p:nvSpPr>
        <p:spPr>
          <a:xfrm>
            <a:off x="5344560" y="47196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Object 2" descr=""/>
          <p:cNvPicPr/>
          <p:nvPr/>
        </p:nvPicPr>
        <p:blipFill>
          <a:blip r:embed="rId1"/>
          <a:stretch/>
        </p:blipFill>
        <p:spPr>
          <a:xfrm>
            <a:off x="4462560" y="538164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3"/>
          <p:cNvSpPr/>
          <p:nvPr/>
        </p:nvSpPr>
        <p:spPr>
          <a:xfrm>
            <a:off x="3837600" y="6002280"/>
            <a:ext cx="21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ing h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.cs.princeton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845760" y="607860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umass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3"/>
          <p:cNvGraphicFramePr/>
          <p:nvPr/>
        </p:nvGraphicFramePr>
        <p:xfrm>
          <a:off x="7477200" y="5562720"/>
          <a:ext cx="833400" cy="63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77200" y="556272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Group 6"/>
          <p:cNvGrpSpPr/>
          <p:nvPr/>
        </p:nvGrpSpPr>
        <p:grpSpPr>
          <a:xfrm>
            <a:off x="5985000" y="2125800"/>
            <a:ext cx="369360" cy="656280"/>
            <a:chOff x="5985000" y="2125800"/>
            <a:chExt cx="369360" cy="656280"/>
          </a:xfrm>
        </p:grpSpPr>
        <p:sp>
          <p:nvSpPr>
            <p:cNvPr id="392" name="AutoShape 7"/>
            <p:cNvSpPr/>
            <p:nvPr/>
          </p:nvSpPr>
          <p:spPr>
            <a:xfrm>
              <a:off x="5985000" y="26305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"/>
            <p:cNvSpPr/>
            <p:nvPr/>
          </p:nvSpPr>
          <p:spPr>
            <a:xfrm>
              <a:off x="6172200" y="21301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5987160" y="22730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10"/>
            <p:cNvSpPr/>
            <p:nvPr/>
          </p:nvSpPr>
          <p:spPr>
            <a:xfrm>
              <a:off x="5985000" y="21258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1"/>
            <p:cNvSpPr/>
            <p:nvPr/>
          </p:nvSpPr>
          <p:spPr>
            <a:xfrm>
              <a:off x="6354360" y="21362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2"/>
            <p:cNvSpPr/>
            <p:nvPr/>
          </p:nvSpPr>
          <p:spPr>
            <a:xfrm flipH="1">
              <a:off x="6220800" y="2630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3"/>
            <p:cNvSpPr/>
            <p:nvPr/>
          </p:nvSpPr>
          <p:spPr>
            <a:xfrm>
              <a:off x="6016680" y="2339640"/>
              <a:ext cx="155160" cy="290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4"/>
            <p:cNvSpPr/>
            <p:nvPr/>
          </p:nvSpPr>
          <p:spPr>
            <a:xfrm>
              <a:off x="6039000" y="24274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15"/>
          <p:cNvSpPr/>
          <p:nvPr/>
        </p:nvSpPr>
        <p:spPr>
          <a:xfrm>
            <a:off x="6568920" y="304920"/>
            <a:ext cx="26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ot DNS server for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"/>
          <p:cNvSpPr/>
          <p:nvPr/>
        </p:nvSpPr>
        <p:spPr>
          <a:xfrm flipV="1">
            <a:off x="5532480" y="2895120"/>
            <a:ext cx="380880" cy="838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7"/>
          <p:cNvSpPr/>
          <p:nvPr/>
        </p:nvSpPr>
        <p:spPr>
          <a:xfrm flipV="1">
            <a:off x="6148440" y="1117080"/>
            <a:ext cx="914400" cy="9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8"/>
          <p:cNvSpPr/>
          <p:nvPr/>
        </p:nvSpPr>
        <p:spPr>
          <a:xfrm flipV="1">
            <a:off x="6434280" y="2279160"/>
            <a:ext cx="1485720" cy="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9"/>
          <p:cNvSpPr/>
          <p:nvPr/>
        </p:nvSpPr>
        <p:spPr>
          <a:xfrm flipH="1">
            <a:off x="6434280" y="2451240"/>
            <a:ext cx="14191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 flipH="1">
            <a:off x="6357600" y="1346040"/>
            <a:ext cx="7333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6145200" y="12193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31"/>
          <p:cNvGrpSpPr/>
          <p:nvPr/>
        </p:nvGrpSpPr>
        <p:grpSpPr>
          <a:xfrm>
            <a:off x="7099200" y="706320"/>
            <a:ext cx="369720" cy="657000"/>
            <a:chOff x="7099200" y="706320"/>
            <a:chExt cx="369720" cy="657000"/>
          </a:xfrm>
        </p:grpSpPr>
        <p:sp>
          <p:nvSpPr>
            <p:cNvPr id="408" name="AutoShape 32"/>
            <p:cNvSpPr/>
            <p:nvPr/>
          </p:nvSpPr>
          <p:spPr>
            <a:xfrm>
              <a:off x="7099200" y="121140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3"/>
            <p:cNvSpPr/>
            <p:nvPr/>
          </p:nvSpPr>
          <p:spPr>
            <a:xfrm>
              <a:off x="7286400" y="7106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34"/>
            <p:cNvSpPr/>
            <p:nvPr/>
          </p:nvSpPr>
          <p:spPr>
            <a:xfrm>
              <a:off x="7101360" y="85356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35"/>
            <p:cNvSpPr/>
            <p:nvPr/>
          </p:nvSpPr>
          <p:spPr>
            <a:xfrm>
              <a:off x="7099200" y="7063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36"/>
            <p:cNvSpPr/>
            <p:nvPr/>
          </p:nvSpPr>
          <p:spPr>
            <a:xfrm>
              <a:off x="7468920" y="7167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7"/>
            <p:cNvSpPr/>
            <p:nvPr/>
          </p:nvSpPr>
          <p:spPr>
            <a:xfrm flipH="1">
              <a:off x="7335360" y="1211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8"/>
            <p:cNvSpPr/>
            <p:nvPr/>
          </p:nvSpPr>
          <p:spPr>
            <a:xfrm>
              <a:off x="7130880" y="920160"/>
              <a:ext cx="15552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9"/>
            <p:cNvSpPr/>
            <p:nvPr/>
          </p:nvSpPr>
          <p:spPr>
            <a:xfrm>
              <a:off x="7153200" y="10080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40"/>
          <p:cNvGrpSpPr/>
          <p:nvPr/>
        </p:nvGrpSpPr>
        <p:grpSpPr>
          <a:xfrm>
            <a:off x="7927920" y="2135160"/>
            <a:ext cx="369720" cy="657000"/>
            <a:chOff x="7927920" y="2135160"/>
            <a:chExt cx="369720" cy="657000"/>
          </a:xfrm>
        </p:grpSpPr>
        <p:sp>
          <p:nvSpPr>
            <p:cNvPr id="417" name="AutoShape 41"/>
            <p:cNvSpPr/>
            <p:nvPr/>
          </p:nvSpPr>
          <p:spPr>
            <a:xfrm>
              <a:off x="7927920" y="26402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2"/>
            <p:cNvSpPr/>
            <p:nvPr/>
          </p:nvSpPr>
          <p:spPr>
            <a:xfrm>
              <a:off x="8115120" y="21394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43"/>
            <p:cNvSpPr/>
            <p:nvPr/>
          </p:nvSpPr>
          <p:spPr>
            <a:xfrm>
              <a:off x="7930080" y="228240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44"/>
            <p:cNvSpPr/>
            <p:nvPr/>
          </p:nvSpPr>
          <p:spPr>
            <a:xfrm>
              <a:off x="7927920" y="213516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45"/>
            <p:cNvSpPr/>
            <p:nvPr/>
          </p:nvSpPr>
          <p:spPr>
            <a:xfrm>
              <a:off x="8297640" y="21456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46"/>
            <p:cNvSpPr/>
            <p:nvPr/>
          </p:nvSpPr>
          <p:spPr>
            <a:xfrm flipH="1">
              <a:off x="8164080" y="26402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7"/>
            <p:cNvSpPr/>
            <p:nvPr/>
          </p:nvSpPr>
          <p:spPr>
            <a:xfrm>
              <a:off x="7959600" y="2349000"/>
              <a:ext cx="15552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48"/>
            <p:cNvSpPr/>
            <p:nvPr/>
          </p:nvSpPr>
          <p:spPr>
            <a:xfrm>
              <a:off x="7981920" y="24368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9"/>
          <p:cNvGrpSpPr/>
          <p:nvPr/>
        </p:nvGrpSpPr>
        <p:grpSpPr>
          <a:xfrm>
            <a:off x="7908840" y="3754440"/>
            <a:ext cx="369720" cy="657000"/>
            <a:chOff x="7908840" y="3754440"/>
            <a:chExt cx="369720" cy="657000"/>
          </a:xfrm>
        </p:grpSpPr>
        <p:sp>
          <p:nvSpPr>
            <p:cNvPr id="426" name="AutoShape 50"/>
            <p:cNvSpPr/>
            <p:nvPr/>
          </p:nvSpPr>
          <p:spPr>
            <a:xfrm>
              <a:off x="7908840" y="42595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51"/>
            <p:cNvSpPr/>
            <p:nvPr/>
          </p:nvSpPr>
          <p:spPr>
            <a:xfrm>
              <a:off x="8096040" y="37587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2"/>
            <p:cNvSpPr/>
            <p:nvPr/>
          </p:nvSpPr>
          <p:spPr>
            <a:xfrm>
              <a:off x="7911000" y="390168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53"/>
            <p:cNvSpPr/>
            <p:nvPr/>
          </p:nvSpPr>
          <p:spPr>
            <a:xfrm>
              <a:off x="7908840" y="37544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54"/>
            <p:cNvSpPr/>
            <p:nvPr/>
          </p:nvSpPr>
          <p:spPr>
            <a:xfrm>
              <a:off x="8278560" y="37648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55"/>
            <p:cNvSpPr/>
            <p:nvPr/>
          </p:nvSpPr>
          <p:spPr>
            <a:xfrm flipH="1">
              <a:off x="8145000" y="4259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6"/>
            <p:cNvSpPr/>
            <p:nvPr/>
          </p:nvSpPr>
          <p:spPr>
            <a:xfrm>
              <a:off x="7940520" y="3968280"/>
              <a:ext cx="15552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57"/>
            <p:cNvSpPr/>
            <p:nvPr/>
          </p:nvSpPr>
          <p:spPr>
            <a:xfrm>
              <a:off x="7962840" y="40561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58"/>
          <p:cNvSpPr/>
          <p:nvPr/>
        </p:nvSpPr>
        <p:spPr>
          <a:xfrm>
            <a:off x="6413400" y="4419720"/>
            <a:ext cx="272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oritative DNS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umass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ns.umass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1"/>
          <p:cNvSpPr/>
          <p:nvPr/>
        </p:nvSpPr>
        <p:spPr>
          <a:xfrm>
            <a:off x="6367320" y="2611440"/>
            <a:ext cx="1494000" cy="131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62"/>
          <p:cNvSpPr/>
          <p:nvPr/>
        </p:nvSpPr>
        <p:spPr>
          <a:xfrm flipH="1" flipV="1">
            <a:off x="6294240" y="2813040"/>
            <a:ext cx="1493640" cy="130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63"/>
          <p:cNvSpPr/>
          <p:nvPr/>
        </p:nvSpPr>
        <p:spPr>
          <a:xfrm>
            <a:off x="7315200" y="1425600"/>
            <a:ext cx="201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LD DNS server for 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NS Cac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219320"/>
            <a:ext cx="4729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DNS query lat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E.g., 1 sec latency before starting a downlo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aching to reduce overhead and del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Small # of top-level servers, that change rare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Popular sites visited of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here to cach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Local DNS ser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Brows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1660-6158-495A-9E00-A09CFAB40A4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6"/>
          <p:cNvGrpSpPr/>
          <p:nvPr/>
        </p:nvGrpSpPr>
        <p:grpSpPr>
          <a:xfrm>
            <a:off x="5315040" y="3838680"/>
            <a:ext cx="369360" cy="656280"/>
            <a:chOff x="5315040" y="3838680"/>
            <a:chExt cx="369360" cy="656280"/>
          </a:xfrm>
        </p:grpSpPr>
        <p:sp>
          <p:nvSpPr>
            <p:cNvPr id="442" name="AutoShape 7"/>
            <p:cNvSpPr/>
            <p:nvPr/>
          </p:nvSpPr>
          <p:spPr>
            <a:xfrm>
              <a:off x="5315040" y="4343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8"/>
            <p:cNvSpPr/>
            <p:nvPr/>
          </p:nvSpPr>
          <p:spPr>
            <a:xfrm>
              <a:off x="5502240" y="38430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5317200" y="398592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10"/>
            <p:cNvSpPr/>
            <p:nvPr/>
          </p:nvSpPr>
          <p:spPr>
            <a:xfrm>
              <a:off x="5315040" y="383868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1"/>
            <p:cNvSpPr/>
            <p:nvPr/>
          </p:nvSpPr>
          <p:spPr>
            <a:xfrm>
              <a:off x="5684400" y="38491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2"/>
            <p:cNvSpPr/>
            <p:nvPr/>
          </p:nvSpPr>
          <p:spPr>
            <a:xfrm flipH="1">
              <a:off x="5550840" y="4343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3"/>
            <p:cNvSpPr/>
            <p:nvPr/>
          </p:nvSpPr>
          <p:spPr>
            <a:xfrm>
              <a:off x="5346720" y="4052520"/>
              <a:ext cx="155160" cy="290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4"/>
            <p:cNvSpPr/>
            <p:nvPr/>
          </p:nvSpPr>
          <p:spPr>
            <a:xfrm>
              <a:off x="5369040" y="41403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Line 16"/>
          <p:cNvSpPr/>
          <p:nvPr/>
        </p:nvSpPr>
        <p:spPr>
          <a:xfrm flipV="1">
            <a:off x="4846680" y="4457880"/>
            <a:ext cx="38088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0"/>
          <p:cNvSpPr/>
          <p:nvPr/>
        </p:nvSpPr>
        <p:spPr>
          <a:xfrm flipH="1">
            <a:off x="5761080" y="2895480"/>
            <a:ext cx="380880" cy="838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0"/>
          <p:cNvSpPr/>
          <p:nvPr/>
        </p:nvSpPr>
        <p:spPr>
          <a:xfrm flipH="1">
            <a:off x="5074920" y="4610160"/>
            <a:ext cx="3049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6"/>
          <p:cNvSpPr/>
          <p:nvPr/>
        </p:nvSpPr>
        <p:spPr>
          <a:xfrm>
            <a:off x="4621320" y="44956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6"/>
          <p:cNvSpPr/>
          <p:nvPr/>
        </p:nvSpPr>
        <p:spPr>
          <a:xfrm>
            <a:off x="5307120" y="29718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6"/>
          <p:cNvSpPr/>
          <p:nvPr/>
        </p:nvSpPr>
        <p:spPr>
          <a:xfrm>
            <a:off x="6794640" y="16002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6"/>
          <p:cNvSpPr/>
          <p:nvPr/>
        </p:nvSpPr>
        <p:spPr>
          <a:xfrm>
            <a:off x="7212240" y="18288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6"/>
          <p:cNvSpPr/>
          <p:nvPr/>
        </p:nvSpPr>
        <p:spPr>
          <a:xfrm>
            <a:off x="7251840" y="24336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6"/>
          <p:cNvSpPr/>
          <p:nvPr/>
        </p:nvSpPr>
        <p:spPr>
          <a:xfrm>
            <a:off x="7364520" y="30481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6831000" y="35053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6"/>
          <p:cNvSpPr/>
          <p:nvPr/>
        </p:nvSpPr>
        <p:spPr>
          <a:xfrm>
            <a:off x="5916600" y="32004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6"/>
          <p:cNvSpPr/>
          <p:nvPr/>
        </p:nvSpPr>
        <p:spPr>
          <a:xfrm>
            <a:off x="5344560" y="47196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NS Cache Consistenc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spcAft>
                <a:spcPts val="1199"/>
              </a:spcAft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Goal:  Ensuring cached data is up to d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DNS design consider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Cached data is </a:t>
            </a:r>
            <a:r>
              <a:rPr b="0" lang="ja-JP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read only</a:t>
            </a:r>
            <a:r>
              <a:rPr b="0" lang="ja-JP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Explicit invalidation would be expens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Avoiding stale inform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Responses include a </a:t>
            </a:r>
            <a:r>
              <a:rPr b="0" lang="ja-JP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time to live</a:t>
            </a:r>
            <a:r>
              <a:rPr b="0" lang="ja-JP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 (TTL) fiel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Delete the cached entry after TTL expi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erform negative caching (for dead links, misspellings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So failures are quick and don’t overload gTLD serv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6B1E-F7C9-4798-8487-B1470552959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tting the Time To Live (TT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TL trade-off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Small TTL: fast response to chan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1199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Large TTL: higher cache hit ra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Following the hierarch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Top of the hierarchy: days or wee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1199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Bottom of the hierarchy: seconds to hou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ension in practic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CDNs set low TTLs for load balancing and failov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Browsers cache for 15-60 secon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0F08-184D-4EC0-91BB-B4DBCD36E3D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(Headings)"/>
              </a:rPr>
              <a:t>DNS Resource Reco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4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B032-0F54-45CF-92CE-09894607FBC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5"/>
          <p:cNvGrpSpPr/>
          <p:nvPr/>
        </p:nvGrpSpPr>
        <p:grpSpPr>
          <a:xfrm>
            <a:off x="914400" y="1373040"/>
            <a:ext cx="7391160" cy="630360"/>
            <a:chOff x="914400" y="1373040"/>
            <a:chExt cx="7391160" cy="630360"/>
          </a:xfrm>
        </p:grpSpPr>
        <p:sp>
          <p:nvSpPr>
            <p:cNvPr id="471" name="Text Box 6"/>
            <p:cNvSpPr/>
            <p:nvPr/>
          </p:nvSpPr>
          <p:spPr>
            <a:xfrm>
              <a:off x="914400" y="1373040"/>
              <a:ext cx="739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RR format: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name, value, type, ttl)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7"/>
            <p:cNvSpPr/>
            <p:nvPr/>
          </p:nvSpPr>
          <p:spPr>
            <a:xfrm>
              <a:off x="1296000" y="1432080"/>
              <a:ext cx="6553080" cy="57132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Rectangle 8"/>
          <p:cNvSpPr/>
          <p:nvPr/>
        </p:nvSpPr>
        <p:spPr>
          <a:xfrm>
            <a:off x="366840" y="2286000"/>
            <a:ext cx="380988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ype=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host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IP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9"/>
          <p:cNvSpPr/>
          <p:nvPr/>
        </p:nvSpPr>
        <p:spPr>
          <a:xfrm>
            <a:off x="4419720" y="2286000"/>
            <a:ext cx="451476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ype=C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alias for some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onical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the real) n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ibm.com is re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rveast.backup2.ibm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canonical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0"/>
          <p:cNvSpPr/>
          <p:nvPr/>
        </p:nvSpPr>
        <p:spPr>
          <a:xfrm>
            <a:off x="4419720" y="4938840"/>
            <a:ext cx="4689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ype=M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name of mailserver associated 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380880" y="3886200"/>
            <a:ext cx="38102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12400" indent="-21240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ype=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12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do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12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hostname of name server for doma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plicating DNS server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Zone transf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anyca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 of DNS for geo-replicated cont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stomized responses to que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ring the user’s lo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nowing the user’s IP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licy issu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of DNS to block access to Web sites (U.S., bodo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llateral damage of DNS injection (China, roots/TLD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ternative DNS roo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directing DNS for ads and profit (e.g., Paxfi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33F6-AD81-4CA1-A73D-6A9FF0219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ames you can play with D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asurement using DNS (e.g., King pape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tting free WiF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ogle Public D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utomating adding records to DNS (RFC 2136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NS secur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che poisoning (and Kaminsky vulnerabilit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NSSE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64C3-9DE6-4891-B9A3-E383B5039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S Applies General CS Concep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direc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ames in place of addre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ierarch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ames: .com, .cnn.com, www.cnn.co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resses: 12.0.0.0/8, 12.3.0.0/16, 12.3.4.0/2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ch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f name-address mapping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yped data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s, name servers, mail servers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1E33-B5A5-4911-BF1F-74342327F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rawman Solution #1: Local Fi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riginal name to address mapp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Flat namespa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/etc/host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SRI kept main cop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24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Downloaded regular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ount of hosts was increasing: moving from a machine per domain to machine per user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Many more downloa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Many more updat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E23F-CE3D-4D47-884D-32802F6ECEC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rawman Solution #2: Central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entral ser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One place where all mappings are stor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26"/>
              </a:spcBef>
              <a:spcAft>
                <a:spcPts val="6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All queries go to the central serv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Many practical probl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Single point of failur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High traffic volum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Distant centralized databas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Single point of updat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Does not scal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B9A2-0753-4AE3-9523-0679A1083F9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14720" y="5943600"/>
            <a:ext cx="84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eed a distributed, hierarchical collection of serv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NS Hierarch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1C51-894F-4A9B-96ED-8CCCE675D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main Name System (DN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roperties of D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Hierarchical name space divided into zon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1199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Distributed over a collection of DNS serv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ierarchy of DNS server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Root serv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Top-level domain (TLD) serv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1199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Authoritative DNS serv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erforming the translatio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Local DNS servers and client resolv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0F75-3EC0-4749-98D8-762E46E5829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B2E5-6ECD-4A2B-B482-6BCB40D089D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stributed Hierarchical Datab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3"/>
          <p:cNvSpPr/>
          <p:nvPr/>
        </p:nvSpPr>
        <p:spPr>
          <a:xfrm>
            <a:off x="29196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70720" y="20304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107640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086840" y="2030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7"/>
          <p:cNvGrpSpPr/>
          <p:nvPr/>
        </p:nvGrpSpPr>
        <p:grpSpPr>
          <a:xfrm>
            <a:off x="1967040" y="2201760"/>
            <a:ext cx="521640" cy="88920"/>
            <a:chOff x="1967040" y="2201760"/>
            <a:chExt cx="521640" cy="88920"/>
          </a:xfrm>
        </p:grpSpPr>
        <p:sp>
          <p:nvSpPr>
            <p:cNvPr id="206" name="Oval 8"/>
            <p:cNvSpPr/>
            <p:nvPr/>
          </p:nvSpPr>
          <p:spPr>
            <a:xfrm>
              <a:off x="196704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218268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240012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Oval 11"/>
          <p:cNvSpPr/>
          <p:nvPr/>
        </p:nvSpPr>
        <p:spPr>
          <a:xfrm>
            <a:off x="287496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915280" y="2030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193680" y="188424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403236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4131720" y="20304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587052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591948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8"/>
          <p:cNvGrpSpPr/>
          <p:nvPr/>
        </p:nvGrpSpPr>
        <p:grpSpPr>
          <a:xfrm>
            <a:off x="4946760" y="2230560"/>
            <a:ext cx="521640" cy="88920"/>
            <a:chOff x="4946760" y="2230560"/>
            <a:chExt cx="521640" cy="88920"/>
          </a:xfrm>
        </p:grpSpPr>
        <p:sp>
          <p:nvSpPr>
            <p:cNvPr id="217" name="Oval 19"/>
            <p:cNvSpPr/>
            <p:nvPr/>
          </p:nvSpPr>
          <p:spPr>
            <a:xfrm>
              <a:off x="494676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0"/>
            <p:cNvSpPr/>
            <p:nvPr/>
          </p:nvSpPr>
          <p:spPr>
            <a:xfrm>
              <a:off x="516240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1"/>
            <p:cNvSpPr/>
            <p:nvPr/>
          </p:nvSpPr>
          <p:spPr>
            <a:xfrm>
              <a:off x="537984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Oval 22"/>
          <p:cNvSpPr/>
          <p:nvPr/>
        </p:nvSpPr>
        <p:spPr>
          <a:xfrm>
            <a:off x="661500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6684840" y="20160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3933720" y="188424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795672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7911000" y="20178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p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7"/>
          <p:cNvSpPr/>
          <p:nvPr/>
        </p:nvSpPr>
        <p:spPr>
          <a:xfrm>
            <a:off x="4272120" y="1163520"/>
            <a:ext cx="56340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5029560" y="108576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named ro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9"/>
          <p:cNvSpPr/>
          <p:nvPr/>
        </p:nvSpPr>
        <p:spPr>
          <a:xfrm flipH="1">
            <a:off x="550440" y="1363680"/>
            <a:ext cx="3740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0"/>
          <p:cNvSpPr/>
          <p:nvPr/>
        </p:nvSpPr>
        <p:spPr>
          <a:xfrm flipH="1">
            <a:off x="1380960" y="1460520"/>
            <a:ext cx="295128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1"/>
          <p:cNvSpPr/>
          <p:nvPr/>
        </p:nvSpPr>
        <p:spPr>
          <a:xfrm flipH="1">
            <a:off x="3155760" y="1530360"/>
            <a:ext cx="12049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2"/>
          <p:cNvSpPr/>
          <p:nvPr/>
        </p:nvSpPr>
        <p:spPr>
          <a:xfrm flipH="1">
            <a:off x="4319640" y="1584360"/>
            <a:ext cx="23472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3"/>
          <p:cNvSpPr/>
          <p:nvPr/>
        </p:nvSpPr>
        <p:spPr>
          <a:xfrm>
            <a:off x="4818240" y="1349280"/>
            <a:ext cx="332388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4"/>
          <p:cNvSpPr/>
          <p:nvPr/>
        </p:nvSpPr>
        <p:spPr>
          <a:xfrm>
            <a:off x="4776840" y="1460520"/>
            <a:ext cx="211932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5"/>
          <p:cNvSpPr/>
          <p:nvPr/>
        </p:nvSpPr>
        <p:spPr>
          <a:xfrm>
            <a:off x="4721400" y="1544760"/>
            <a:ext cx="134460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36"/>
          <p:cNvSpPr/>
          <p:nvPr/>
        </p:nvSpPr>
        <p:spPr>
          <a:xfrm>
            <a:off x="1087560" y="290844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7"/>
          <p:cNvSpPr/>
          <p:nvPr/>
        </p:nvSpPr>
        <p:spPr>
          <a:xfrm>
            <a:off x="630360" y="38862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8"/>
          <p:cNvSpPr/>
          <p:nvPr/>
        </p:nvSpPr>
        <p:spPr>
          <a:xfrm>
            <a:off x="1641600" y="388476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9"/>
          <p:cNvSpPr/>
          <p:nvPr/>
        </p:nvSpPr>
        <p:spPr>
          <a:xfrm>
            <a:off x="5870520" y="292248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0"/>
          <p:cNvSpPr/>
          <p:nvPr/>
        </p:nvSpPr>
        <p:spPr>
          <a:xfrm>
            <a:off x="5870520" y="389880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1"/>
          <p:cNvSpPr/>
          <p:nvPr/>
        </p:nvSpPr>
        <p:spPr>
          <a:xfrm>
            <a:off x="5870520" y="486252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2"/>
          <p:cNvSpPr/>
          <p:nvPr/>
        </p:nvSpPr>
        <p:spPr>
          <a:xfrm>
            <a:off x="168444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43"/>
          <p:cNvSpPr/>
          <p:nvPr/>
        </p:nvSpPr>
        <p:spPr>
          <a:xfrm>
            <a:off x="63036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44"/>
          <p:cNvSpPr/>
          <p:nvPr/>
        </p:nvSpPr>
        <p:spPr>
          <a:xfrm>
            <a:off x="7956720" y="290844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5"/>
          <p:cNvSpPr/>
          <p:nvPr/>
        </p:nvSpPr>
        <p:spPr>
          <a:xfrm>
            <a:off x="7956720" y="38862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6"/>
          <p:cNvSpPr/>
          <p:nvPr/>
        </p:nvSpPr>
        <p:spPr>
          <a:xfrm>
            <a:off x="795672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7"/>
          <p:cNvSpPr/>
          <p:nvPr/>
        </p:nvSpPr>
        <p:spPr>
          <a:xfrm>
            <a:off x="1102320" y="2971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587880" y="39686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9"/>
          <p:cNvSpPr/>
          <p:nvPr/>
        </p:nvSpPr>
        <p:spPr>
          <a:xfrm>
            <a:off x="1608480" y="39686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671400" y="489744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1726200" y="48974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2"/>
          <p:cNvSpPr/>
          <p:nvPr/>
        </p:nvSpPr>
        <p:spPr>
          <a:xfrm>
            <a:off x="1380960" y="2535120"/>
            <a:ext cx="180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3"/>
          <p:cNvSpPr/>
          <p:nvPr/>
        </p:nvSpPr>
        <p:spPr>
          <a:xfrm flipH="1">
            <a:off x="890280" y="3484440"/>
            <a:ext cx="36036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4"/>
          <p:cNvSpPr/>
          <p:nvPr/>
        </p:nvSpPr>
        <p:spPr>
          <a:xfrm>
            <a:off x="1465200" y="3470400"/>
            <a:ext cx="41616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5"/>
          <p:cNvSpPr/>
          <p:nvPr/>
        </p:nvSpPr>
        <p:spPr>
          <a:xfrm>
            <a:off x="911160" y="4467240"/>
            <a:ext cx="180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6"/>
          <p:cNvSpPr/>
          <p:nvPr/>
        </p:nvSpPr>
        <p:spPr>
          <a:xfrm>
            <a:off x="1936800" y="4452840"/>
            <a:ext cx="144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7"/>
          <p:cNvSpPr/>
          <p:nvPr/>
        </p:nvSpPr>
        <p:spPr>
          <a:xfrm>
            <a:off x="6151680" y="2556000"/>
            <a:ext cx="144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8"/>
          <p:cNvSpPr/>
          <p:nvPr/>
        </p:nvSpPr>
        <p:spPr>
          <a:xfrm>
            <a:off x="6153120" y="348444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9"/>
          <p:cNvSpPr/>
          <p:nvPr/>
        </p:nvSpPr>
        <p:spPr>
          <a:xfrm>
            <a:off x="6153120" y="4495680"/>
            <a:ext cx="144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0"/>
          <p:cNvSpPr/>
          <p:nvPr/>
        </p:nvSpPr>
        <p:spPr>
          <a:xfrm>
            <a:off x="7956720" y="577548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1"/>
          <p:cNvSpPr/>
          <p:nvPr/>
        </p:nvSpPr>
        <p:spPr>
          <a:xfrm>
            <a:off x="8267760" y="25272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2"/>
          <p:cNvSpPr/>
          <p:nvPr/>
        </p:nvSpPr>
        <p:spPr>
          <a:xfrm>
            <a:off x="8238960" y="3470400"/>
            <a:ext cx="180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3"/>
          <p:cNvSpPr/>
          <p:nvPr/>
        </p:nvSpPr>
        <p:spPr>
          <a:xfrm>
            <a:off x="8238960" y="4438800"/>
            <a:ext cx="180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64"/>
          <p:cNvSpPr/>
          <p:nvPr/>
        </p:nvSpPr>
        <p:spPr>
          <a:xfrm>
            <a:off x="8238960" y="5408640"/>
            <a:ext cx="180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5"/>
          <p:cNvSpPr/>
          <p:nvPr/>
        </p:nvSpPr>
        <p:spPr>
          <a:xfrm>
            <a:off x="5941440" y="29718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6"/>
          <p:cNvSpPr/>
          <p:nvPr/>
        </p:nvSpPr>
        <p:spPr>
          <a:xfrm>
            <a:off x="5836320" y="39830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7"/>
          <p:cNvSpPr/>
          <p:nvPr/>
        </p:nvSpPr>
        <p:spPr>
          <a:xfrm>
            <a:off x="5886000" y="49388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8"/>
          <p:cNvSpPr/>
          <p:nvPr/>
        </p:nvSpPr>
        <p:spPr>
          <a:xfrm>
            <a:off x="7987320" y="2957400"/>
            <a:ext cx="547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9"/>
          <p:cNvSpPr/>
          <p:nvPr/>
        </p:nvSpPr>
        <p:spPr>
          <a:xfrm>
            <a:off x="8051040" y="396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0"/>
          <p:cNvSpPr/>
          <p:nvPr/>
        </p:nvSpPr>
        <p:spPr>
          <a:xfrm>
            <a:off x="8049240" y="4924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1"/>
          <p:cNvSpPr/>
          <p:nvPr/>
        </p:nvSpPr>
        <p:spPr>
          <a:xfrm>
            <a:off x="8049240" y="5826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2"/>
          <p:cNvSpPr/>
          <p:nvPr/>
        </p:nvSpPr>
        <p:spPr>
          <a:xfrm>
            <a:off x="1786320" y="2617920"/>
            <a:ext cx="18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doma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3"/>
          <p:cNvSpPr/>
          <p:nvPr/>
        </p:nvSpPr>
        <p:spPr>
          <a:xfrm>
            <a:off x="3985560" y="261792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ry doma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4"/>
          <p:cNvSpPr/>
          <p:nvPr/>
        </p:nvSpPr>
        <p:spPr>
          <a:xfrm>
            <a:off x="1099080" y="539424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.east.bar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5"/>
          <p:cNvSpPr/>
          <p:nvPr/>
        </p:nvSpPr>
        <p:spPr>
          <a:xfrm>
            <a:off x="5378760" y="54086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.cam.ac.u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6"/>
          <p:cNvSpPr/>
          <p:nvPr/>
        </p:nvSpPr>
        <p:spPr>
          <a:xfrm>
            <a:off x="7471800" y="63514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.34.56.0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DNS Root Server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84200" y="121896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3 root servers (see </a:t>
            </a:r>
            <a:r>
              <a:rPr b="0" lang="en-US" sz="2800" spc="-1" strike="noStrike" u="sng">
                <a:solidFill>
                  <a:srgbClr val="a50021"/>
                </a:solidFill>
                <a:uFillTx/>
                <a:latin typeface="Calibri"/>
                <a:hlinkClick r:id="rId1"/>
              </a:rPr>
              <a:t>http://www.root-servers.org/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abeled A through 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46D7-CDCD-4704-A78B-A4DC24EA4DF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480960" y="3165480"/>
            <a:ext cx="72342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worldf"/>
          <p:cNvPicPr/>
          <p:nvPr/>
        </p:nvPicPr>
        <p:blipFill>
          <a:blip r:embed="rId2"/>
          <a:stretch/>
        </p:blipFill>
        <p:spPr>
          <a:xfrm>
            <a:off x="2133720" y="4141800"/>
            <a:ext cx="5400720" cy="26668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6"/>
          <p:cNvSpPr/>
          <p:nvPr/>
        </p:nvSpPr>
        <p:spPr>
          <a:xfrm>
            <a:off x="2604960" y="3343320"/>
            <a:ext cx="804960" cy="1511280"/>
          </a:xfrm>
          <a:custGeom>
            <a:avLst/>
            <a:gdLst>
              <a:gd name="textAreaLeft" fmla="*/ 0 w 804960"/>
              <a:gd name="textAreaRight" fmla="*/ 805320 w 8049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963" h="1893">
                <a:moveTo>
                  <a:pt x="0" y="0"/>
                </a:moveTo>
                <a:lnTo>
                  <a:pt x="0" y="930"/>
                </a:lnTo>
                <a:lnTo>
                  <a:pt x="963" y="189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272880" y="5719680"/>
            <a:ext cx="2851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 USC-ISI Marina del Rey, C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 ICANN Los Angeles, C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8"/>
          <p:cNvSpPr/>
          <p:nvPr/>
        </p:nvSpPr>
        <p:spPr>
          <a:xfrm>
            <a:off x="1752480" y="5041800"/>
            <a:ext cx="952560" cy="668520"/>
          </a:xfrm>
          <a:custGeom>
            <a:avLst/>
            <a:gdLst>
              <a:gd name="textAreaLeft" fmla="*/ 0 w 952560"/>
              <a:gd name="textAreaRight" fmla="*/ 952920 w 952560"/>
              <a:gd name="textAreaTop" fmla="*/ 0 h 668520"/>
              <a:gd name="textAreaBottom" fmla="*/ 668520 h 66852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169920" y="3886200"/>
            <a:ext cx="2573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 NASA Mt View, C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  Internet Software C. Palo Alto, CA (and 17 other location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0"/>
          <p:cNvSpPr/>
          <p:nvPr/>
        </p:nvSpPr>
        <p:spPr>
          <a:xfrm flipV="1">
            <a:off x="1447920" y="4723560"/>
            <a:ext cx="1234800" cy="243000"/>
          </a:xfrm>
          <a:custGeom>
            <a:avLst/>
            <a:gdLst>
              <a:gd name="textAreaLeft" fmla="*/ 0 w 1234800"/>
              <a:gd name="textAreaRight" fmla="*/ 1235160 w 1234800"/>
              <a:gd name="textAreaTop" fmla="*/ -360 h 243000"/>
              <a:gd name="textAreaBottom" fmla="*/ 243000 h 24300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5425920" y="3646440"/>
            <a:ext cx="2498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 Autonomica, Stockholm (plus 3 other location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12"/>
          <p:cNvSpPr/>
          <p:nvPr/>
        </p:nvSpPr>
        <p:spPr>
          <a:xfrm>
            <a:off x="4876920" y="4038480"/>
            <a:ext cx="914400" cy="609840"/>
          </a:xfrm>
          <a:custGeom>
            <a:avLst/>
            <a:gdLst>
              <a:gd name="textAreaLeft" fmla="*/ 0 w 914400"/>
              <a:gd name="textAreaRight" fmla="*/ 914760 w 9144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5375160" y="3292560"/>
            <a:ext cx="437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 RIPE London (+ Amsterdam, Frankfurt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4"/>
          <p:cNvSpPr/>
          <p:nvPr/>
        </p:nvSpPr>
        <p:spPr>
          <a:xfrm>
            <a:off x="4570560" y="3510000"/>
            <a:ext cx="771480" cy="1158840"/>
          </a:xfrm>
          <a:custGeom>
            <a:avLst/>
            <a:gdLst>
              <a:gd name="textAreaLeft" fmla="*/ 0 w 771480"/>
              <a:gd name="textAreaRight" fmla="*/ 771840 w 7714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426440" y="4438800"/>
            <a:ext cx="156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 WIDE Tokyo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6"/>
          <p:cNvSpPr/>
          <p:nvPr/>
        </p:nvSpPr>
        <p:spPr>
          <a:xfrm>
            <a:off x="6851520" y="4648320"/>
            <a:ext cx="540000" cy="291960"/>
          </a:xfrm>
          <a:custGeom>
            <a:avLst/>
            <a:gdLst>
              <a:gd name="textAreaLeft" fmla="*/ 0 w 540000"/>
              <a:gd name="textAreaRight" fmla="*/ 540360 w 5400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665440" y="2438280"/>
            <a:ext cx="390348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Verisign, Dulles, V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Cogent, Herndon, VA (also Los Angel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 U Maryland College Park, M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US DoD Vienna, V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 ARL Aberdeen, M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 Verisign, ( 11 location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LD and Authoritative DNS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lobal Top-level domain (gTLD) server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Generic domains (e.g., .com, .org, .edu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Country domains (e.g., .uk, .fr, .ca, .j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spcAft>
                <a:spcPts val="1800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Managed professionally (e.g., Verisign for .com .ne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uthoritative DNS server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Provide public records for hosts at an organiz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For the organization</a:t>
            </a:r>
            <a:r>
              <a:rPr b="0" lang="ja-JP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s servers (e.g., Web and mail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Can be maintained locally or by a service provi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381D-DAC1-4B27-8375-EF673E8D1A0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28:01Z</dcterms:created>
  <dc:creator>Kai Li</dc:creator>
  <dc:description/>
  <dc:language>en-US</dc:language>
  <cp:lastModifiedBy>Jen</cp:lastModifiedBy>
  <cp:lastPrinted>2010-09-22T18:12:26Z</cp:lastPrinted>
  <dcterms:modified xsi:type="dcterms:W3CDTF">2017-11-12T22:50:53Z</dcterms:modified>
  <cp:revision>3496</cp:revision>
  <dc:subject/>
  <dc:title>Communication</dc:title>
</cp:coreProperties>
</file>