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F5D9290-94EF-4377-95A9-92C4CA3751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46234F3-86C5-4F47-90A1-70B667648262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2C1B46C-F53B-4C1B-86A2-BBD7C7B3EC46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C9A8853-56D7-4D72-99D3-0877AABB9B35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25725F8-A5BC-4A90-B80F-595B0236506A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251000" y="708120"/>
            <a:ext cx="4815000" cy="361152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42840" y="4564080"/>
            <a:ext cx="5429520" cy="43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F39DB32-FAC4-47E4-89FF-2347CD13CF55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7FEDC81-F398-4179-A1A1-BBACD8D40A9E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85635DD-5483-4538-8827-B5BB53C5BE24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B7CEEAF-FE31-49B8-B9C7-43A9F94DB864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C0D9B9A-FC15-4F45-AB30-8E640B410840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A4CDC-0AD1-4C44-9056-4FF14D0197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7F9A4-AC01-46C7-A718-7688B1AEFB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3331B-CC3A-446E-AFDD-4B27C41B4C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66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68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66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68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6A4D5-11C1-41ED-BF1E-71B3E86287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8ED8F-274E-4B82-B2D0-6E553B8A975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A5684-CC16-4162-9F9C-EDBC2FBB5B0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7ABAC-33D5-428C-BF2B-26C2B051332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80917-AC4D-4946-AB12-320E94F5478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A20CB-DBBA-4169-9061-97629FC8C1E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06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90C86-917B-41F6-983D-ECD7A22CE94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4DC30-F45C-412B-9A5E-E31B283CF7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77E8C-DA49-4141-B53D-40FF26DF94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2D546-3BD5-434C-9100-BA7D30C756B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DE6E1-5B9E-41BB-9BA8-209CEBDD44B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08419-AE91-4A7F-A389-188D5B574BA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A03D7-0723-425E-BFB7-58C1B7598C2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66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768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66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768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05AE6-8B9D-4EA9-A581-5F305366B1E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6C863-59E2-4C35-B91F-2609EBD7FCF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06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3166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768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684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3166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1768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D1367-D8F9-4AAF-AD74-3C4C5C4FBB7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06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166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1768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684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166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1768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3FB71-B5D7-438D-A99F-0E3141EECF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06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522F4-1544-4454-ADD2-42688BF2FF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3370C-FCAA-49FE-9CD9-176527498D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6E9D9-FBAF-4428-ADE9-7CA91804C9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0E026-2C0B-4826-8284-A63D243A3C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17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911160" indent="-233280">
              <a:spcBef>
                <a:spcPts val="17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3" marL="1258920" indent="-233280">
              <a:spcBef>
                <a:spcPts val="1749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4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5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6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E029A-2E16-4534-8B54-B9883480B1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152280" y="1143000"/>
            <a:ext cx="883944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6"/>
          <p:cNvSpPr/>
          <p:nvPr/>
        </p:nvSpPr>
        <p:spPr>
          <a:xfrm>
            <a:off x="380880" y="1143000"/>
            <a:ext cx="0" cy="556272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pulogo"/>
          <p:cNvPicPr/>
          <p:nvPr/>
        </p:nvPicPr>
        <p:blipFill>
          <a:blip r:embed="rId2"/>
          <a:stretch/>
        </p:blipFill>
        <p:spPr>
          <a:xfrm>
            <a:off x="8298000" y="317520"/>
            <a:ext cx="641160" cy="723960"/>
          </a:xfrm>
          <a:prstGeom prst="rect">
            <a:avLst/>
          </a:prstGeom>
          <a:ln w="0">
            <a:noFill/>
          </a:ln>
        </p:spPr>
      </p:pic>
      <p:sp>
        <p:nvSpPr>
          <p:cNvPr id="6" name="AutoShape 8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4144"/>
            </a:avLst>
          </a:prstGeom>
          <a:noFill/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5"/>
          <p:cNvSpPr/>
          <p:nvPr/>
        </p:nvSpPr>
        <p:spPr>
          <a:xfrm>
            <a:off x="152280" y="1143000"/>
            <a:ext cx="883944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6"/>
          <p:cNvSpPr/>
          <p:nvPr/>
        </p:nvSpPr>
        <p:spPr>
          <a:xfrm>
            <a:off x="380880" y="1143000"/>
            <a:ext cx="0" cy="556272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pulogo"/>
          <p:cNvPicPr/>
          <p:nvPr/>
        </p:nvPicPr>
        <p:blipFill>
          <a:blip r:embed="rId2"/>
          <a:stretch/>
        </p:blipFill>
        <p:spPr>
          <a:xfrm>
            <a:off x="8298000" y="317520"/>
            <a:ext cx="641160" cy="7239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8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4144"/>
            </a:avLst>
          </a:prstGeom>
          <a:noFill/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17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911160" indent="-233280">
              <a:spcBef>
                <a:spcPts val="17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3" marL="1258920" indent="-233280">
              <a:spcBef>
                <a:spcPts val="1749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4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5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6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A360F-404C-408E-9308-5D90D0A41E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Line 5"/>
          <p:cNvSpPr/>
          <p:nvPr/>
        </p:nvSpPr>
        <p:spPr>
          <a:xfrm>
            <a:off x="152280" y="1143000"/>
            <a:ext cx="883944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6"/>
          <p:cNvSpPr/>
          <p:nvPr/>
        </p:nvSpPr>
        <p:spPr>
          <a:xfrm>
            <a:off x="380880" y="1143000"/>
            <a:ext cx="0" cy="556272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pulogo"/>
          <p:cNvPicPr/>
          <p:nvPr/>
        </p:nvPicPr>
        <p:blipFill>
          <a:blip r:embed="rId2"/>
          <a:stretch/>
        </p:blipFill>
        <p:spPr>
          <a:xfrm>
            <a:off x="8298000" y="317520"/>
            <a:ext cx="641160" cy="72396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8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4144"/>
            </a:avLst>
          </a:prstGeom>
          <a:noFill/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17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911160" indent="-233280">
              <a:spcBef>
                <a:spcPts val="17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3" marL="1258920" indent="-233280">
              <a:spcBef>
                <a:spcPts val="1749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4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5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6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ECEEB-909E-4D75-A433-4D6F1388A233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Line 5"/>
          <p:cNvSpPr/>
          <p:nvPr/>
        </p:nvSpPr>
        <p:spPr>
          <a:xfrm>
            <a:off x="152280" y="1143000"/>
            <a:ext cx="883944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"/>
          <p:cNvSpPr/>
          <p:nvPr/>
        </p:nvSpPr>
        <p:spPr>
          <a:xfrm>
            <a:off x="380880" y="1143000"/>
            <a:ext cx="0" cy="556272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pulogo"/>
          <p:cNvPicPr/>
          <p:nvPr/>
        </p:nvPicPr>
        <p:blipFill>
          <a:blip r:embed="rId2"/>
          <a:stretch/>
        </p:blipFill>
        <p:spPr>
          <a:xfrm>
            <a:off x="8298000" y="317520"/>
            <a:ext cx="641160" cy="72396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8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4144"/>
            </a:avLst>
          </a:prstGeom>
          <a:noFill/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17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911160" indent="-233280">
              <a:spcBef>
                <a:spcPts val="17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3" marL="1258920" indent="-233280">
              <a:spcBef>
                <a:spcPts val="1749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4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5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6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9829B-38AF-4051-B5BF-B2705BB5B3EE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0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10.png"/><Relationship Id="rId19" Type="http://schemas.openxmlformats.org/officeDocument/2006/relationships/image" Target="../media/image12.png"/><Relationship Id="rId20" Type="http://schemas.openxmlformats.org/officeDocument/2006/relationships/image" Target="../media/image20.pn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533520" y="3962160"/>
            <a:ext cx="8229600" cy="25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nnifer Rexfor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ll 2017 (TTh 1:30-2:50 in CS 105)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 561: Advanced Computer Network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cs.princeton.edu/courses/archive/fall17/cos561/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539640" y="1739880"/>
            <a:ext cx="8183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BGP Securit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ther Attack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ttacks on BGP sess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nfidentiality of BGP messag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nial-of-service on BGP sess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serting, deleting, modifying, or replaying messag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source exhaustion attack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oo many IP prefixes (e.g., BGP “512K Day”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oo many BGP update messag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ata-plane attack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nounce one BGP routes, but use anoth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29461-1D32-4295-A681-6E22CB44D7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Improving BGP Secur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B3CEC-B4EF-49B2-8425-834521B782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lution Techniqu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rotective filter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Know your neighbo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nomaly detec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uspect the unexpect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hecking against registri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stablish ground truth for prefix origina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gning and verify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vent bogus AS PATH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ata-plane verific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nsure the path is actually follow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79D4A-662B-45E0-B2A8-C83358C5EC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Slide Number Placeholder 1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61984-E66A-4E20-80D6-C69D9E373B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07"/>
          <p:cNvSpPr/>
          <p:nvPr/>
        </p:nvSpPr>
        <p:spPr>
          <a:xfrm>
            <a:off x="1295280" y="1684440"/>
            <a:ext cx="218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blic Key Infrastru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traight Connector 24"/>
          <p:cNvSpPr/>
          <p:nvPr/>
        </p:nvSpPr>
        <p:spPr>
          <a:xfrm>
            <a:off x="4417920" y="3009960"/>
            <a:ext cx="1068480" cy="49536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traight Connector 29"/>
          <p:cNvSpPr/>
          <p:nvPr/>
        </p:nvSpPr>
        <p:spPr>
          <a:xfrm flipV="1">
            <a:off x="2055960" y="3009600"/>
            <a:ext cx="920520" cy="22860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traight Connector 31"/>
          <p:cNvSpPr/>
          <p:nvPr/>
        </p:nvSpPr>
        <p:spPr>
          <a:xfrm>
            <a:off x="1600200" y="3429000"/>
            <a:ext cx="1147680" cy="80028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traight Connector 32"/>
          <p:cNvSpPr/>
          <p:nvPr/>
        </p:nvSpPr>
        <p:spPr>
          <a:xfrm flipV="1">
            <a:off x="4113360" y="3962160"/>
            <a:ext cx="1068120" cy="19044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traight Connector 33"/>
          <p:cNvSpPr/>
          <p:nvPr/>
        </p:nvSpPr>
        <p:spPr>
          <a:xfrm flipV="1">
            <a:off x="4267080" y="2705040"/>
            <a:ext cx="2443320" cy="11448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traight Connector 34"/>
          <p:cNvSpPr/>
          <p:nvPr/>
        </p:nvSpPr>
        <p:spPr>
          <a:xfrm flipH="1">
            <a:off x="6323040" y="2894760"/>
            <a:ext cx="1068480" cy="72396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Cloud 35"/>
          <p:cNvGrpSpPr/>
          <p:nvPr/>
        </p:nvGrpSpPr>
        <p:grpSpPr>
          <a:xfrm>
            <a:off x="549360" y="2792520"/>
            <a:ext cx="1571400" cy="957240"/>
            <a:chOff x="549360" y="2792520"/>
            <a:chExt cx="1571400" cy="957240"/>
          </a:xfrm>
        </p:grpSpPr>
        <p:pic>
          <p:nvPicPr>
            <p:cNvPr id="354" name="Cloud 35" descr=""/>
            <p:cNvPicPr/>
            <p:nvPr/>
          </p:nvPicPr>
          <p:blipFill>
            <a:blip r:embed="rId1"/>
            <a:stretch/>
          </p:blipFill>
          <p:spPr>
            <a:xfrm>
              <a:off x="549360" y="2792520"/>
              <a:ext cx="157140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809640" y="2946240"/>
              <a:ext cx="9446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BM</a:t>
              </a:r>
              <a:endParaRPr b="1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Cloud 36"/>
          <p:cNvGrpSpPr/>
          <p:nvPr/>
        </p:nvGrpSpPr>
        <p:grpSpPr>
          <a:xfrm>
            <a:off x="2914560" y="2560680"/>
            <a:ext cx="1565280" cy="963720"/>
            <a:chOff x="2914560" y="2560680"/>
            <a:chExt cx="1565280" cy="963720"/>
          </a:xfrm>
        </p:grpSpPr>
        <p:pic>
          <p:nvPicPr>
            <p:cNvPr id="357" name="Cloud 36" descr=""/>
            <p:cNvPicPr/>
            <p:nvPr/>
          </p:nvPicPr>
          <p:blipFill>
            <a:blip r:embed="rId2"/>
            <a:stretch/>
          </p:blipFill>
          <p:spPr>
            <a:xfrm>
              <a:off x="2914560" y="2560680"/>
              <a:ext cx="156528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3171960" y="2717640"/>
              <a:ext cx="9442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T&amp;T</a:t>
              </a:r>
              <a:endParaRPr b="1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Cloud 37"/>
          <p:cNvGrpSpPr/>
          <p:nvPr/>
        </p:nvGrpSpPr>
        <p:grpSpPr>
          <a:xfrm>
            <a:off x="2597040" y="3780000"/>
            <a:ext cx="1657440" cy="963360"/>
            <a:chOff x="2597040" y="3780000"/>
            <a:chExt cx="1657440" cy="963360"/>
          </a:xfrm>
        </p:grpSpPr>
        <p:pic>
          <p:nvPicPr>
            <p:cNvPr id="360" name="Cloud 37" descr=""/>
            <p:cNvPicPr/>
            <p:nvPr/>
          </p:nvPicPr>
          <p:blipFill>
            <a:blip r:embed="rId3"/>
            <a:stretch/>
          </p:blipFill>
          <p:spPr>
            <a:xfrm>
              <a:off x="2597040" y="3780000"/>
              <a:ext cx="1657440" cy="96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2943360" y="3936960"/>
              <a:ext cx="9442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cast</a:t>
              </a:r>
              <a:endParaRPr b="1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Cloud 38"/>
          <p:cNvGrpSpPr/>
          <p:nvPr/>
        </p:nvGrpSpPr>
        <p:grpSpPr>
          <a:xfrm>
            <a:off x="4968720" y="3303720"/>
            <a:ext cx="1571760" cy="1036440"/>
            <a:chOff x="4968720" y="3303720"/>
            <a:chExt cx="1571760" cy="1036440"/>
          </a:xfrm>
        </p:grpSpPr>
        <p:pic>
          <p:nvPicPr>
            <p:cNvPr id="363" name="Cloud 38" descr=""/>
            <p:cNvPicPr/>
            <p:nvPr/>
          </p:nvPicPr>
          <p:blipFill>
            <a:blip r:embed="rId4"/>
            <a:stretch/>
          </p:blipFill>
          <p:spPr>
            <a:xfrm>
              <a:off x="4968720" y="3303720"/>
              <a:ext cx="1571760" cy="103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5229360" y="3479760"/>
              <a:ext cx="9442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</a:t>
              </a:r>
              <a:endParaRPr b="1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P</a:t>
              </a:r>
              <a:endParaRPr b="1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Cloud 39"/>
          <p:cNvGrpSpPr/>
          <p:nvPr/>
        </p:nvGrpSpPr>
        <p:grpSpPr>
          <a:xfrm>
            <a:off x="6572160" y="2255760"/>
            <a:ext cx="2022480" cy="963720"/>
            <a:chOff x="6572160" y="2255760"/>
            <a:chExt cx="2022480" cy="963720"/>
          </a:xfrm>
        </p:grpSpPr>
        <p:pic>
          <p:nvPicPr>
            <p:cNvPr id="366" name="Cloud 39" descr=""/>
            <p:cNvPicPr/>
            <p:nvPr/>
          </p:nvPicPr>
          <p:blipFill>
            <a:blip r:embed="rId5"/>
            <a:stretch/>
          </p:blipFill>
          <p:spPr>
            <a:xfrm>
              <a:off x="6572160" y="2255760"/>
              <a:ext cx="202248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6891480" y="2413080"/>
              <a:ext cx="12445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inceton</a:t>
              </a:r>
              <a:endParaRPr b="1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Group 147"/>
          <p:cNvGrpSpPr/>
          <p:nvPr/>
        </p:nvGrpSpPr>
        <p:grpSpPr>
          <a:xfrm>
            <a:off x="380880" y="4648320"/>
            <a:ext cx="2514600" cy="609480"/>
            <a:chOff x="380880" y="4648320"/>
            <a:chExt cx="2514600" cy="609480"/>
          </a:xfrm>
        </p:grpSpPr>
        <p:pic>
          <p:nvPicPr>
            <p:cNvPr id="369" name="AutoShape 148" descr=""/>
            <p:cNvPicPr/>
            <p:nvPr/>
          </p:nvPicPr>
          <p:blipFill>
            <a:blip r:embed="rId6"/>
            <a:stretch/>
          </p:blipFill>
          <p:spPr>
            <a:xfrm>
              <a:off x="380880" y="4648320"/>
              <a:ext cx="2514600" cy="609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0" name="Group 121"/>
            <p:cNvGrpSpPr/>
            <p:nvPr/>
          </p:nvGrpSpPr>
          <p:grpSpPr>
            <a:xfrm>
              <a:off x="578880" y="5046120"/>
              <a:ext cx="2153160" cy="151200"/>
              <a:chOff x="578880" y="5046120"/>
              <a:chExt cx="2153160" cy="151200"/>
            </a:xfrm>
          </p:grpSpPr>
          <p:sp>
            <p:nvSpPr>
              <p:cNvPr id="371" name="Rectangle 122"/>
              <p:cNvSpPr/>
              <p:nvPr/>
            </p:nvSpPr>
            <p:spPr>
              <a:xfrm>
                <a:off x="578880" y="5046120"/>
                <a:ext cx="1905120" cy="109800"/>
              </a:xfrm>
              <a:prstGeom prst="rect">
                <a:avLst/>
              </a:prstGeom>
              <a:solidFill>
                <a:srgbClr val="ffc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mcast:  (IBM)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2" name="Group 106" descr=""/>
              <p:cNvPicPr/>
              <p:nvPr/>
            </p:nvPicPr>
            <p:blipFill>
              <a:blip r:embed="rId7"/>
              <a:stretch/>
            </p:blipFill>
            <p:spPr>
              <a:xfrm>
                <a:off x="2184840" y="5093640"/>
                <a:ext cx="547200" cy="103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73" name="Line 134"/>
          <p:cNvSpPr/>
          <p:nvPr/>
        </p:nvSpPr>
        <p:spPr>
          <a:xfrm>
            <a:off x="1752480" y="3505320"/>
            <a:ext cx="990720" cy="761760"/>
          </a:xfrm>
          <a:prstGeom prst="line">
            <a:avLst/>
          </a:prstGeom>
          <a:ln w="127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Group 189"/>
          <p:cNvGrpSpPr/>
          <p:nvPr/>
        </p:nvGrpSpPr>
        <p:grpSpPr>
          <a:xfrm>
            <a:off x="3962520" y="4800600"/>
            <a:ext cx="3504960" cy="1066680"/>
            <a:chOff x="3962520" y="4800600"/>
            <a:chExt cx="3504960" cy="1066680"/>
          </a:xfrm>
        </p:grpSpPr>
        <p:pic>
          <p:nvPicPr>
            <p:cNvPr id="375" name="AutoShape 149" descr=""/>
            <p:cNvPicPr/>
            <p:nvPr/>
          </p:nvPicPr>
          <p:blipFill>
            <a:blip r:embed="rId8"/>
            <a:stretch/>
          </p:blipFill>
          <p:spPr>
            <a:xfrm>
              <a:off x="3962520" y="4800600"/>
              <a:ext cx="35049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Rectangle 175"/>
            <p:cNvSpPr/>
            <p:nvPr/>
          </p:nvSpPr>
          <p:spPr>
            <a:xfrm>
              <a:off x="4239360" y="5277600"/>
              <a:ext cx="2041200" cy="176040"/>
            </a:xfrm>
            <a:prstGeom prst="rect">
              <a:avLst/>
            </a:prstGeom>
            <a:solidFill>
              <a:srgbClr val="ffc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cast:   (IBM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7" name="Group 106" descr=""/>
            <p:cNvPicPr/>
            <p:nvPr/>
          </p:nvPicPr>
          <p:blipFill>
            <a:blip r:embed="rId9"/>
            <a:stretch/>
          </p:blipFill>
          <p:spPr>
            <a:xfrm>
              <a:off x="6044400" y="5370840"/>
              <a:ext cx="56556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Rectangle 177"/>
            <p:cNvSpPr/>
            <p:nvPr/>
          </p:nvSpPr>
          <p:spPr>
            <a:xfrm>
              <a:off x="4239360" y="5541840"/>
              <a:ext cx="2624400" cy="176040"/>
            </a:xfrm>
            <a:prstGeom prst="rect">
              <a:avLst/>
            </a:prstGeom>
            <a:solidFill>
              <a:srgbClr val="c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:   (Comcast,  IBM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9" name="Group 106" descr=""/>
            <p:cNvPicPr/>
            <p:nvPr/>
          </p:nvPicPr>
          <p:blipFill>
            <a:blip r:embed="rId10"/>
            <a:stretch/>
          </p:blipFill>
          <p:spPr>
            <a:xfrm>
              <a:off x="6627960" y="5635080"/>
              <a:ext cx="565560" cy="207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0" name="Group 114"/>
          <p:cNvGrpSpPr/>
          <p:nvPr/>
        </p:nvGrpSpPr>
        <p:grpSpPr>
          <a:xfrm>
            <a:off x="762120" y="2743200"/>
            <a:ext cx="6553080" cy="2209680"/>
            <a:chOff x="762120" y="2743200"/>
            <a:chExt cx="6553080" cy="2209680"/>
          </a:xfrm>
        </p:grpSpPr>
        <p:pic>
          <p:nvPicPr>
            <p:cNvPr id="381" name="Group 61" descr=""/>
            <p:cNvPicPr/>
            <p:nvPr/>
          </p:nvPicPr>
          <p:blipFill>
            <a:blip r:embed="rId11"/>
            <a:stretch/>
          </p:blipFill>
          <p:spPr>
            <a:xfrm>
              <a:off x="2965320" y="3074760"/>
              <a:ext cx="791280" cy="5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" name="Group 73" descr=""/>
            <p:cNvPicPr/>
            <p:nvPr/>
          </p:nvPicPr>
          <p:blipFill>
            <a:blip r:embed="rId12"/>
            <a:stretch/>
          </p:blipFill>
          <p:spPr>
            <a:xfrm>
              <a:off x="2754720" y="4402080"/>
              <a:ext cx="785520" cy="5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Group 79" descr=""/>
            <p:cNvPicPr/>
            <p:nvPr/>
          </p:nvPicPr>
          <p:blipFill>
            <a:blip r:embed="rId13"/>
            <a:stretch/>
          </p:blipFill>
          <p:spPr>
            <a:xfrm>
              <a:off x="5032080" y="3904560"/>
              <a:ext cx="785520" cy="5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Group 85" descr=""/>
            <p:cNvPicPr/>
            <p:nvPr/>
          </p:nvPicPr>
          <p:blipFill>
            <a:blip r:embed="rId14"/>
            <a:stretch/>
          </p:blipFill>
          <p:spPr>
            <a:xfrm>
              <a:off x="762120" y="3327120"/>
              <a:ext cx="785520" cy="54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" name="Group 79" descr=""/>
            <p:cNvPicPr/>
            <p:nvPr/>
          </p:nvPicPr>
          <p:blipFill>
            <a:blip r:embed="rId15"/>
            <a:stretch/>
          </p:blipFill>
          <p:spPr>
            <a:xfrm>
              <a:off x="6523920" y="2743200"/>
              <a:ext cx="791280" cy="5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ute Attestations in Secure BGP 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45"/>
          <p:cNvSpPr/>
          <p:nvPr/>
        </p:nvSpPr>
        <p:spPr>
          <a:xfrm>
            <a:off x="8001000" y="23623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Group 54" descr=""/>
          <p:cNvPicPr/>
          <p:nvPr/>
        </p:nvPicPr>
        <p:blipFill>
          <a:blip r:embed="rId16"/>
          <a:stretch/>
        </p:blipFill>
        <p:spPr>
          <a:xfrm>
            <a:off x="8248680" y="6035760"/>
            <a:ext cx="419040" cy="803160"/>
          </a:xfrm>
          <a:prstGeom prst="rect">
            <a:avLst/>
          </a:prstGeom>
          <a:ln w="0">
            <a:noFill/>
          </a:ln>
        </p:spPr>
      </p:pic>
      <p:sp>
        <p:nvSpPr>
          <p:cNvPr id="389" name="Rounded Rectangle 146"/>
          <p:cNvSpPr/>
          <p:nvPr/>
        </p:nvSpPr>
        <p:spPr>
          <a:xfrm>
            <a:off x="380880" y="838080"/>
            <a:ext cx="838224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lvl="1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AS a announced path abP then b announced bP to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138"/>
          <p:cNvSpPr/>
          <p:nvPr/>
        </p:nvSpPr>
        <p:spPr>
          <a:xfrm>
            <a:off x="152280" y="598968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Public Key Signat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Anyone who knows IBM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 public key can verify the message was sent by IB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151"/>
          <p:cNvSpPr/>
          <p:nvPr/>
        </p:nvSpPr>
        <p:spPr>
          <a:xfrm flipV="1">
            <a:off x="4038480" y="3962160"/>
            <a:ext cx="1067040" cy="228600"/>
          </a:xfrm>
          <a:prstGeom prst="line">
            <a:avLst/>
          </a:prstGeom>
          <a:ln w="127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178"/>
          <p:cNvSpPr/>
          <p:nvPr/>
        </p:nvSpPr>
        <p:spPr>
          <a:xfrm>
            <a:off x="2438280" y="2819520"/>
            <a:ext cx="1524240" cy="838080"/>
          </a:xfrm>
          <a:prstGeom prst="rect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Group 135"/>
          <p:cNvGrpSpPr/>
          <p:nvPr/>
        </p:nvGrpSpPr>
        <p:grpSpPr>
          <a:xfrm>
            <a:off x="1981080" y="1600200"/>
            <a:ext cx="4724640" cy="1523880"/>
            <a:chOff x="1981080" y="1600200"/>
            <a:chExt cx="4724640" cy="1523880"/>
          </a:xfrm>
        </p:grpSpPr>
        <p:pic>
          <p:nvPicPr>
            <p:cNvPr id="394" name="AutoShape 149" descr=""/>
            <p:cNvPicPr/>
            <p:nvPr/>
          </p:nvPicPr>
          <p:blipFill>
            <a:blip r:embed="rId17"/>
            <a:stretch/>
          </p:blipFill>
          <p:spPr>
            <a:xfrm>
              <a:off x="1981080" y="1600200"/>
              <a:ext cx="472464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Rectangle 142"/>
            <p:cNvSpPr/>
            <p:nvPr/>
          </p:nvSpPr>
          <p:spPr>
            <a:xfrm>
              <a:off x="2261160" y="1753920"/>
              <a:ext cx="2064600" cy="229320"/>
            </a:xfrm>
            <a:prstGeom prst="rect">
              <a:avLst/>
            </a:prstGeom>
            <a:solidFill>
              <a:srgbClr val="ffc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cast:    (IBM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6" name="Group 106" descr=""/>
            <p:cNvPicPr/>
            <p:nvPr/>
          </p:nvPicPr>
          <p:blipFill>
            <a:blip r:embed="rId18"/>
            <a:stretch/>
          </p:blipFill>
          <p:spPr>
            <a:xfrm>
              <a:off x="4086720" y="1875600"/>
              <a:ext cx="572040" cy="27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Rectangle 144"/>
            <p:cNvSpPr/>
            <p:nvPr/>
          </p:nvSpPr>
          <p:spPr>
            <a:xfrm>
              <a:off x="2261160" y="2098080"/>
              <a:ext cx="3096720" cy="229320"/>
            </a:xfrm>
            <a:prstGeom prst="rect">
              <a:avLst/>
            </a:prstGeom>
            <a:solidFill>
              <a:srgbClr val="c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:          (Comcast,  IBM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8" name="Group 106" descr=""/>
            <p:cNvPicPr/>
            <p:nvPr/>
          </p:nvPicPr>
          <p:blipFill>
            <a:blip r:embed="rId19"/>
            <a:stretch/>
          </p:blipFill>
          <p:spPr>
            <a:xfrm>
              <a:off x="5119200" y="2219760"/>
              <a:ext cx="572040" cy="27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Rectangle 146"/>
            <p:cNvSpPr/>
            <p:nvPr/>
          </p:nvSpPr>
          <p:spPr>
            <a:xfrm>
              <a:off x="2261160" y="2442600"/>
              <a:ext cx="3907800" cy="229320"/>
            </a:xfrm>
            <a:prstGeom prst="rect">
              <a:avLst/>
            </a:prstGeom>
            <a:solidFill>
              <a:srgbClr val="0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inceton:   (Local, Comcast,  IBM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0" name="Group 106" descr=""/>
            <p:cNvPicPr/>
            <p:nvPr/>
          </p:nvPicPr>
          <p:blipFill>
            <a:blip r:embed="rId20"/>
            <a:stretch/>
          </p:blipFill>
          <p:spPr>
            <a:xfrm>
              <a:off x="5933160" y="2564280"/>
              <a:ext cx="566280" cy="27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Can 106"/>
          <p:cNvSpPr/>
          <p:nvPr/>
        </p:nvSpPr>
        <p:spPr>
          <a:xfrm>
            <a:off x="380880" y="1752480"/>
            <a:ext cx="762120" cy="685800"/>
          </a:xfrm>
          <a:prstGeom prst="can">
            <a:avLst>
              <a:gd name="adj" fmla="val 25000"/>
            </a:avLst>
          </a:prstGeom>
          <a:solidFill>
            <a:srgbClr val="0020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iscussion of the Pap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GP Security in Partial Deploymen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E3B52-72FD-4366-8F96-66344C02EC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BGP Attack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B877B-7093-4F5C-989F-77087F74D3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B3D03-D94F-48AE-BF45-6F3E400854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efix Hijack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3"/>
          <p:cNvGrpSpPr/>
          <p:nvPr/>
        </p:nvGrpSpPr>
        <p:grpSpPr>
          <a:xfrm>
            <a:off x="482760" y="2536920"/>
            <a:ext cx="8446680" cy="3985920"/>
            <a:chOff x="482760" y="2536920"/>
            <a:chExt cx="8446680" cy="3985920"/>
          </a:xfrm>
        </p:grpSpPr>
        <p:graphicFrame>
          <p:nvGraphicFramePr>
            <p:cNvPr id="189" name="Object 4"/>
            <p:cNvGraphicFramePr/>
            <p:nvPr/>
          </p:nvGraphicFramePr>
          <p:xfrm>
            <a:off x="720720" y="3027240"/>
            <a:ext cx="2815560" cy="1591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0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20720" y="3027240"/>
                      <a:ext cx="2815560" cy="1591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1" name="Object 5"/>
            <p:cNvGraphicFramePr/>
            <p:nvPr/>
          </p:nvGraphicFramePr>
          <p:xfrm>
            <a:off x="4518720" y="2536920"/>
            <a:ext cx="2820600" cy="1702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2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18720" y="2536920"/>
                      <a:ext cx="2820600" cy="170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3" name="Object 6"/>
            <p:cNvGraphicFramePr/>
            <p:nvPr/>
          </p:nvGraphicFramePr>
          <p:xfrm>
            <a:off x="3921120" y="4498200"/>
            <a:ext cx="2820600" cy="1703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4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921120" y="4498200"/>
                      <a:ext cx="2820600" cy="170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5" name="Text Box 7"/>
            <p:cNvSpPr/>
            <p:nvPr/>
          </p:nvSpPr>
          <p:spPr>
            <a:xfrm>
              <a:off x="4429080" y="5160600"/>
              <a:ext cx="183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96" name="Object 8"/>
            <p:cNvGraphicFramePr/>
            <p:nvPr/>
          </p:nvGraphicFramePr>
          <p:xfrm>
            <a:off x="791640" y="4660560"/>
            <a:ext cx="1372680" cy="862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97" name="Object 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91640" y="4660560"/>
                      <a:ext cx="1372680" cy="86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8" name="Object 9"/>
            <p:cNvGraphicFramePr/>
            <p:nvPr/>
          </p:nvGraphicFramePr>
          <p:xfrm>
            <a:off x="482760" y="5725800"/>
            <a:ext cx="886320" cy="5576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99" name="Object 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82760" y="5725800"/>
                      <a:ext cx="886320" cy="55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0" name="Object 10"/>
            <p:cNvGraphicFramePr/>
            <p:nvPr/>
          </p:nvGraphicFramePr>
          <p:xfrm>
            <a:off x="7045560" y="3960360"/>
            <a:ext cx="1372680" cy="8629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01" name="Object 10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045560" y="3960360"/>
                      <a:ext cx="1372680" cy="86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2" name="Object 11"/>
            <p:cNvGraphicFramePr/>
            <p:nvPr/>
          </p:nvGraphicFramePr>
          <p:xfrm>
            <a:off x="8043480" y="5003280"/>
            <a:ext cx="885960" cy="5576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03" name="Object 11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8043480" y="5003280"/>
                      <a:ext cx="885960" cy="55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4" name="Line 12"/>
            <p:cNvSpPr/>
            <p:nvPr/>
          </p:nvSpPr>
          <p:spPr>
            <a:xfrm flipV="1">
              <a:off x="1024560" y="5400000"/>
              <a:ext cx="198720" cy="36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13"/>
            <p:cNvSpPr/>
            <p:nvPr/>
          </p:nvSpPr>
          <p:spPr>
            <a:xfrm flipV="1">
              <a:off x="1358640" y="4400280"/>
              <a:ext cx="136440" cy="348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14"/>
            <p:cNvSpPr/>
            <p:nvPr/>
          </p:nvSpPr>
          <p:spPr>
            <a:xfrm flipV="1">
              <a:off x="3303360" y="3311280"/>
              <a:ext cx="1412640" cy="168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15"/>
            <p:cNvSpPr/>
            <p:nvPr/>
          </p:nvSpPr>
          <p:spPr>
            <a:xfrm>
              <a:off x="2908440" y="4312080"/>
              <a:ext cx="1503720" cy="58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16"/>
            <p:cNvSpPr/>
            <p:nvPr/>
          </p:nvSpPr>
          <p:spPr>
            <a:xfrm>
              <a:off x="7162200" y="3523680"/>
              <a:ext cx="668160" cy="506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7"/>
            <p:cNvSpPr/>
            <p:nvPr/>
          </p:nvSpPr>
          <p:spPr>
            <a:xfrm flipH="1">
              <a:off x="6508440" y="4715280"/>
              <a:ext cx="911160" cy="403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8"/>
            <p:cNvSpPr/>
            <p:nvPr/>
          </p:nvSpPr>
          <p:spPr>
            <a:xfrm>
              <a:off x="7830720" y="4747680"/>
              <a:ext cx="379440" cy="36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19"/>
            <p:cNvSpPr/>
            <p:nvPr/>
          </p:nvSpPr>
          <p:spPr>
            <a:xfrm>
              <a:off x="8484120" y="5511240"/>
              <a:ext cx="0" cy="279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20"/>
            <p:cNvSpPr/>
            <p:nvPr/>
          </p:nvSpPr>
          <p:spPr>
            <a:xfrm>
              <a:off x="918360" y="6253560"/>
              <a:ext cx="0" cy="26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21"/>
            <p:cNvSpPr/>
            <p:nvPr/>
          </p:nvSpPr>
          <p:spPr>
            <a:xfrm flipH="1">
              <a:off x="5262840" y="4030560"/>
              <a:ext cx="37080" cy="639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22"/>
            <p:cNvSpPr/>
            <p:nvPr/>
          </p:nvSpPr>
          <p:spPr>
            <a:xfrm>
              <a:off x="819360" y="58017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23"/>
            <p:cNvSpPr/>
            <p:nvPr/>
          </p:nvSpPr>
          <p:spPr>
            <a:xfrm>
              <a:off x="1216080" y="48801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24"/>
            <p:cNvSpPr/>
            <p:nvPr/>
          </p:nvSpPr>
          <p:spPr>
            <a:xfrm>
              <a:off x="1869480" y="36010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25"/>
            <p:cNvSpPr/>
            <p:nvPr/>
          </p:nvSpPr>
          <p:spPr>
            <a:xfrm>
              <a:off x="5726520" y="31730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26"/>
            <p:cNvSpPr/>
            <p:nvPr/>
          </p:nvSpPr>
          <p:spPr>
            <a:xfrm>
              <a:off x="7551000" y="41961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27"/>
            <p:cNvSpPr/>
            <p:nvPr/>
          </p:nvSpPr>
          <p:spPr>
            <a:xfrm>
              <a:off x="8295480" y="50821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28"/>
            <p:cNvSpPr/>
            <p:nvPr/>
          </p:nvSpPr>
          <p:spPr>
            <a:xfrm>
              <a:off x="5105160" y="5093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Text Box 29"/>
          <p:cNvSpPr/>
          <p:nvPr/>
        </p:nvSpPr>
        <p:spPr>
          <a:xfrm>
            <a:off x="7191360" y="5824440"/>
            <a:ext cx="19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12.34.0.0/1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30"/>
          <p:cNvSpPr/>
          <p:nvPr/>
        </p:nvSpPr>
        <p:spPr>
          <a:xfrm>
            <a:off x="17640" y="2274840"/>
            <a:ext cx="8875440" cy="3962520"/>
          </a:xfrm>
          <a:custGeom>
            <a:avLst/>
            <a:gdLst/>
            <a:ahLst/>
            <a:rect l="l" t="t" r="r" b="b"/>
            <a:pathLst>
              <a:path w="5591" h="2496">
                <a:moveTo>
                  <a:pt x="244" y="2320"/>
                </a:moveTo>
                <a:cubicBezTo>
                  <a:pt x="214" y="2408"/>
                  <a:pt x="184" y="2496"/>
                  <a:pt x="225" y="2227"/>
                </a:cubicBezTo>
                <a:cubicBezTo>
                  <a:pt x="266" y="1958"/>
                  <a:pt x="0" y="1046"/>
                  <a:pt x="488" y="705"/>
                </a:cubicBezTo>
                <a:cubicBezTo>
                  <a:pt x="976" y="364"/>
                  <a:pt x="2438" y="255"/>
                  <a:pt x="3155" y="179"/>
                </a:cubicBezTo>
                <a:cubicBezTo>
                  <a:pt x="3872" y="103"/>
                  <a:pt x="4383" y="0"/>
                  <a:pt x="4789" y="248"/>
                </a:cubicBezTo>
                <a:cubicBezTo>
                  <a:pt x="5195" y="496"/>
                  <a:pt x="5457" y="1431"/>
                  <a:pt x="5591" y="1669"/>
                </a:cubicBezTo>
              </a:path>
            </a:pathLst>
          </a:custGeom>
          <a:noFill/>
          <a:ln w="50760">
            <a:solidFill>
              <a:srgbClr val="008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31"/>
          <p:cNvSpPr/>
          <p:nvPr/>
        </p:nvSpPr>
        <p:spPr>
          <a:xfrm>
            <a:off x="5487840" y="5235480"/>
            <a:ext cx="2813040" cy="1160640"/>
          </a:xfrm>
          <a:custGeom>
            <a:avLst/>
            <a:gdLst/>
            <a:ahLst/>
            <a:rect l="l" t="t" r="r" b="b"/>
            <a:pathLst>
              <a:path w="1772" h="731">
                <a:moveTo>
                  <a:pt x="0" y="731"/>
                </a:moveTo>
                <a:cubicBezTo>
                  <a:pt x="397" y="439"/>
                  <a:pt x="794" y="148"/>
                  <a:pt x="1089" y="74"/>
                </a:cubicBezTo>
                <a:cubicBezTo>
                  <a:pt x="1384" y="0"/>
                  <a:pt x="1578" y="143"/>
                  <a:pt x="1772" y="287"/>
                </a:cubicBezTo>
              </a:path>
            </a:pathLst>
          </a:custGeom>
          <a:noFill/>
          <a:ln w="50760">
            <a:solidFill>
              <a:srgbClr val="008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2"/>
          <p:cNvSpPr/>
          <p:nvPr/>
        </p:nvSpPr>
        <p:spPr>
          <a:xfrm>
            <a:off x="1144440" y="6154560"/>
            <a:ext cx="19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12.34.0.0/1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33"/>
          <p:cNvSpPr/>
          <p:nvPr/>
        </p:nvSpPr>
        <p:spPr>
          <a:xfrm>
            <a:off x="1781280" y="4497480"/>
            <a:ext cx="1023840" cy="1611360"/>
          </a:xfrm>
          <a:custGeom>
            <a:avLst/>
            <a:gdLst/>
            <a:ahLst/>
            <a:rect l="l" t="t" r="r" b="b"/>
            <a:pathLst>
              <a:path w="645" h="1015">
                <a:moveTo>
                  <a:pt x="645" y="0"/>
                </a:moveTo>
                <a:cubicBezTo>
                  <a:pt x="513" y="113"/>
                  <a:pt x="382" y="226"/>
                  <a:pt x="275" y="395"/>
                </a:cubicBezTo>
                <a:cubicBezTo>
                  <a:pt x="168" y="564"/>
                  <a:pt x="84" y="789"/>
                  <a:pt x="0" y="1015"/>
                </a:cubicBezTo>
              </a:path>
            </a:pathLst>
          </a:custGeom>
          <a:noFill/>
          <a:ln w="50760">
            <a:solidFill>
              <a:srgbClr val="cc33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34"/>
          <p:cNvSpPr/>
          <p:nvPr/>
        </p:nvSpPr>
        <p:spPr>
          <a:xfrm>
            <a:off x="5943600" y="2398680"/>
            <a:ext cx="2903400" cy="2454480"/>
          </a:xfrm>
          <a:custGeom>
            <a:avLst/>
            <a:gdLst/>
            <a:ahLst/>
            <a:rect l="l" t="t" r="r" b="b"/>
            <a:pathLst>
              <a:path w="1785" h="1428">
                <a:moveTo>
                  <a:pt x="0" y="32"/>
                </a:moveTo>
                <a:cubicBezTo>
                  <a:pt x="304" y="16"/>
                  <a:pt x="609" y="0"/>
                  <a:pt x="827" y="63"/>
                </a:cubicBezTo>
                <a:cubicBezTo>
                  <a:pt x="1045" y="126"/>
                  <a:pt x="1149" y="180"/>
                  <a:pt x="1309" y="408"/>
                </a:cubicBezTo>
                <a:cubicBezTo>
                  <a:pt x="1469" y="636"/>
                  <a:pt x="1627" y="1032"/>
                  <a:pt x="1785" y="1428"/>
                </a:cubicBezTo>
              </a:path>
            </a:pathLst>
          </a:custGeom>
          <a:noFill/>
          <a:ln w="50760">
            <a:solidFill>
              <a:srgbClr val="008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Originating someone else’s prefix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hat fraction of the Internet believes it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b-Prefix Hijack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6840" y="5388120"/>
            <a:ext cx="8458200" cy="131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riginating a more-specific prefix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very AS picks the bogus route for that prefix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raffic follows the longest matching prefix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38D9C-EDC7-473A-B272-AFBD69D7CC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3"/>
          <p:cNvGrpSpPr/>
          <p:nvPr/>
        </p:nvGrpSpPr>
        <p:grpSpPr>
          <a:xfrm>
            <a:off x="453960" y="1193760"/>
            <a:ext cx="8446680" cy="3985920"/>
            <a:chOff x="453960" y="1193760"/>
            <a:chExt cx="8446680" cy="3985920"/>
          </a:xfrm>
        </p:grpSpPr>
        <p:graphicFrame>
          <p:nvGraphicFramePr>
            <p:cNvPr id="232" name="Object 4"/>
            <p:cNvGraphicFramePr/>
            <p:nvPr/>
          </p:nvGraphicFramePr>
          <p:xfrm>
            <a:off x="691920" y="1684080"/>
            <a:ext cx="2815560" cy="1591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3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91920" y="1684080"/>
                      <a:ext cx="2815560" cy="1591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4" name="Object 5"/>
            <p:cNvGraphicFramePr/>
            <p:nvPr/>
          </p:nvGraphicFramePr>
          <p:xfrm>
            <a:off x="4489920" y="1193760"/>
            <a:ext cx="2820600" cy="1702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35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489920" y="1193760"/>
                      <a:ext cx="2820600" cy="170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6" name="Object 6"/>
            <p:cNvGraphicFramePr/>
            <p:nvPr/>
          </p:nvGraphicFramePr>
          <p:xfrm>
            <a:off x="3892320" y="3155040"/>
            <a:ext cx="2820600" cy="1703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37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892320" y="3155040"/>
                      <a:ext cx="2820600" cy="170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8" name="Text Box 7"/>
            <p:cNvSpPr/>
            <p:nvPr/>
          </p:nvSpPr>
          <p:spPr>
            <a:xfrm>
              <a:off x="4400280" y="3817440"/>
              <a:ext cx="183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39" name="Object 8"/>
            <p:cNvGraphicFramePr/>
            <p:nvPr/>
          </p:nvGraphicFramePr>
          <p:xfrm>
            <a:off x="762840" y="3317400"/>
            <a:ext cx="1372680" cy="862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40" name="Object 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62840" y="3317400"/>
                      <a:ext cx="1372680" cy="86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1" name="Object 9"/>
            <p:cNvGraphicFramePr/>
            <p:nvPr/>
          </p:nvGraphicFramePr>
          <p:xfrm>
            <a:off x="453960" y="4382640"/>
            <a:ext cx="886320" cy="5576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42" name="Object 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53960" y="4382640"/>
                      <a:ext cx="886320" cy="55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3" name="Object 10"/>
            <p:cNvGraphicFramePr/>
            <p:nvPr/>
          </p:nvGraphicFramePr>
          <p:xfrm>
            <a:off x="7016760" y="2617200"/>
            <a:ext cx="1372680" cy="8629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44" name="Object 10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016760" y="2617200"/>
                      <a:ext cx="1372680" cy="86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5" name="Object 11"/>
            <p:cNvGraphicFramePr/>
            <p:nvPr/>
          </p:nvGraphicFramePr>
          <p:xfrm>
            <a:off x="8014680" y="3660120"/>
            <a:ext cx="885960" cy="5576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46" name="Object 11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8014680" y="3660120"/>
                      <a:ext cx="885960" cy="55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7" name="Line 12"/>
            <p:cNvSpPr/>
            <p:nvPr/>
          </p:nvSpPr>
          <p:spPr>
            <a:xfrm flipV="1">
              <a:off x="995760" y="4056840"/>
              <a:ext cx="198720" cy="36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13"/>
            <p:cNvSpPr/>
            <p:nvPr/>
          </p:nvSpPr>
          <p:spPr>
            <a:xfrm flipV="1">
              <a:off x="1329840" y="3057120"/>
              <a:ext cx="136440" cy="348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4"/>
            <p:cNvSpPr/>
            <p:nvPr/>
          </p:nvSpPr>
          <p:spPr>
            <a:xfrm flipV="1">
              <a:off x="3274560" y="1968120"/>
              <a:ext cx="1412640" cy="168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15"/>
            <p:cNvSpPr/>
            <p:nvPr/>
          </p:nvSpPr>
          <p:spPr>
            <a:xfrm>
              <a:off x="2879640" y="2968920"/>
              <a:ext cx="1503720" cy="58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16"/>
            <p:cNvSpPr/>
            <p:nvPr/>
          </p:nvSpPr>
          <p:spPr>
            <a:xfrm>
              <a:off x="7133400" y="2180520"/>
              <a:ext cx="668160" cy="506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17"/>
            <p:cNvSpPr/>
            <p:nvPr/>
          </p:nvSpPr>
          <p:spPr>
            <a:xfrm flipH="1">
              <a:off x="6479640" y="3372120"/>
              <a:ext cx="911160" cy="403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18"/>
            <p:cNvSpPr/>
            <p:nvPr/>
          </p:nvSpPr>
          <p:spPr>
            <a:xfrm>
              <a:off x="7801920" y="3404520"/>
              <a:ext cx="379440" cy="36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9"/>
            <p:cNvSpPr/>
            <p:nvPr/>
          </p:nvSpPr>
          <p:spPr>
            <a:xfrm>
              <a:off x="8455320" y="4168080"/>
              <a:ext cx="0" cy="279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20"/>
            <p:cNvSpPr/>
            <p:nvPr/>
          </p:nvSpPr>
          <p:spPr>
            <a:xfrm>
              <a:off x="889560" y="4910400"/>
              <a:ext cx="0" cy="26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21"/>
            <p:cNvSpPr/>
            <p:nvPr/>
          </p:nvSpPr>
          <p:spPr>
            <a:xfrm flipH="1">
              <a:off x="5234040" y="2687400"/>
              <a:ext cx="37080" cy="639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22"/>
            <p:cNvSpPr/>
            <p:nvPr/>
          </p:nvSpPr>
          <p:spPr>
            <a:xfrm>
              <a:off x="790560" y="44586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3"/>
            <p:cNvSpPr/>
            <p:nvPr/>
          </p:nvSpPr>
          <p:spPr>
            <a:xfrm>
              <a:off x="1187280" y="35370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24"/>
            <p:cNvSpPr/>
            <p:nvPr/>
          </p:nvSpPr>
          <p:spPr>
            <a:xfrm>
              <a:off x="1840680" y="22579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25"/>
            <p:cNvSpPr/>
            <p:nvPr/>
          </p:nvSpPr>
          <p:spPr>
            <a:xfrm>
              <a:off x="5697720" y="18298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26"/>
            <p:cNvSpPr/>
            <p:nvPr/>
          </p:nvSpPr>
          <p:spPr>
            <a:xfrm>
              <a:off x="7522200" y="28530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27"/>
            <p:cNvSpPr/>
            <p:nvPr/>
          </p:nvSpPr>
          <p:spPr>
            <a:xfrm>
              <a:off x="8266680" y="37389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28"/>
            <p:cNvSpPr/>
            <p:nvPr/>
          </p:nvSpPr>
          <p:spPr>
            <a:xfrm>
              <a:off x="5076360" y="37501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Text Box 29"/>
          <p:cNvSpPr/>
          <p:nvPr/>
        </p:nvSpPr>
        <p:spPr>
          <a:xfrm>
            <a:off x="7143840" y="4481640"/>
            <a:ext cx="19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12.34.0.0/1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30"/>
          <p:cNvSpPr/>
          <p:nvPr/>
        </p:nvSpPr>
        <p:spPr>
          <a:xfrm>
            <a:off x="5459400" y="3892680"/>
            <a:ext cx="2813040" cy="1160280"/>
          </a:xfrm>
          <a:custGeom>
            <a:avLst/>
            <a:gdLst/>
            <a:ahLst/>
            <a:rect l="l" t="t" r="r" b="b"/>
            <a:pathLst>
              <a:path w="1772" h="731">
                <a:moveTo>
                  <a:pt x="0" y="731"/>
                </a:moveTo>
                <a:cubicBezTo>
                  <a:pt x="397" y="439"/>
                  <a:pt x="794" y="148"/>
                  <a:pt x="1089" y="74"/>
                </a:cubicBezTo>
                <a:cubicBezTo>
                  <a:pt x="1384" y="0"/>
                  <a:pt x="1578" y="143"/>
                  <a:pt x="1772" y="287"/>
                </a:cubicBezTo>
              </a:path>
            </a:pathLst>
          </a:custGeom>
          <a:noFill/>
          <a:ln w="50760">
            <a:solidFill>
              <a:srgbClr val="008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1"/>
          <p:cNvSpPr/>
          <p:nvPr/>
        </p:nvSpPr>
        <p:spPr>
          <a:xfrm>
            <a:off x="998280" y="4792680"/>
            <a:ext cx="232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12.34.158.0/2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32"/>
          <p:cNvSpPr/>
          <p:nvPr/>
        </p:nvSpPr>
        <p:spPr>
          <a:xfrm>
            <a:off x="-49320" y="922320"/>
            <a:ext cx="8875800" cy="3962520"/>
          </a:xfrm>
          <a:custGeom>
            <a:avLst/>
            <a:gdLst/>
            <a:ahLst/>
            <a:rect l="l" t="t" r="r" b="b"/>
            <a:pathLst>
              <a:path w="5591" h="2496">
                <a:moveTo>
                  <a:pt x="244" y="2320"/>
                </a:moveTo>
                <a:cubicBezTo>
                  <a:pt x="214" y="2408"/>
                  <a:pt x="184" y="2496"/>
                  <a:pt x="225" y="2227"/>
                </a:cubicBezTo>
                <a:cubicBezTo>
                  <a:pt x="266" y="1958"/>
                  <a:pt x="0" y="1046"/>
                  <a:pt x="488" y="705"/>
                </a:cubicBezTo>
                <a:cubicBezTo>
                  <a:pt x="976" y="364"/>
                  <a:pt x="2438" y="255"/>
                  <a:pt x="3155" y="179"/>
                </a:cubicBezTo>
                <a:cubicBezTo>
                  <a:pt x="3872" y="103"/>
                  <a:pt x="4383" y="0"/>
                  <a:pt x="4789" y="248"/>
                </a:cubicBezTo>
                <a:cubicBezTo>
                  <a:pt x="5195" y="496"/>
                  <a:pt x="5457" y="1431"/>
                  <a:pt x="5591" y="1669"/>
                </a:cubicBezTo>
              </a:path>
            </a:pathLst>
          </a:custGeom>
          <a:noFill/>
          <a:ln w="50760">
            <a:solidFill>
              <a:srgbClr val="008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reeform 33"/>
          <p:cNvSpPr/>
          <p:nvPr/>
        </p:nvSpPr>
        <p:spPr>
          <a:xfrm>
            <a:off x="320760" y="903240"/>
            <a:ext cx="8632800" cy="3913200"/>
          </a:xfrm>
          <a:custGeom>
            <a:avLst/>
            <a:gdLst/>
            <a:ahLst/>
            <a:rect l="l" t="t" r="r" b="b"/>
            <a:pathLst>
              <a:path w="5438" h="2465">
                <a:moveTo>
                  <a:pt x="5438" y="1638"/>
                </a:moveTo>
                <a:cubicBezTo>
                  <a:pt x="5223" y="1211"/>
                  <a:pt x="5009" y="785"/>
                  <a:pt x="4655" y="530"/>
                </a:cubicBezTo>
                <a:cubicBezTo>
                  <a:pt x="4301" y="275"/>
                  <a:pt x="4000" y="128"/>
                  <a:pt x="3316" y="105"/>
                </a:cubicBezTo>
                <a:cubicBezTo>
                  <a:pt x="2632" y="82"/>
                  <a:pt x="1096" y="0"/>
                  <a:pt x="548" y="393"/>
                </a:cubicBezTo>
                <a:cubicBezTo>
                  <a:pt x="0" y="786"/>
                  <a:pt x="14" y="1625"/>
                  <a:pt x="29" y="2465"/>
                </a:cubicBezTo>
              </a:path>
            </a:pathLst>
          </a:custGeom>
          <a:noFill/>
          <a:ln w="50760">
            <a:solidFill>
              <a:srgbClr val="cc33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34"/>
          <p:cNvSpPr/>
          <p:nvPr/>
        </p:nvSpPr>
        <p:spPr>
          <a:xfrm>
            <a:off x="1647720" y="3181320"/>
            <a:ext cx="2587680" cy="1558800"/>
          </a:xfrm>
          <a:custGeom>
            <a:avLst/>
            <a:gdLst/>
            <a:ahLst/>
            <a:rect l="l" t="t" r="r" b="b"/>
            <a:pathLst>
              <a:path w="1630" h="982">
                <a:moveTo>
                  <a:pt x="1534" y="350"/>
                </a:moveTo>
                <a:cubicBezTo>
                  <a:pt x="1582" y="351"/>
                  <a:pt x="1630" y="353"/>
                  <a:pt x="1471" y="313"/>
                </a:cubicBezTo>
                <a:cubicBezTo>
                  <a:pt x="1312" y="273"/>
                  <a:pt x="827" y="0"/>
                  <a:pt x="582" y="112"/>
                </a:cubicBezTo>
                <a:cubicBezTo>
                  <a:pt x="337" y="224"/>
                  <a:pt x="97" y="836"/>
                  <a:pt x="0" y="982"/>
                </a:cubicBezTo>
              </a:path>
            </a:pathLst>
          </a:custGeom>
          <a:noFill/>
          <a:ln w="50760">
            <a:solidFill>
              <a:srgbClr val="cc33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ception Atta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Content Placeholder 4" descr=""/>
          <p:cNvPicPr/>
          <p:nvPr/>
        </p:nvPicPr>
        <p:blipFill>
          <a:blip r:embed="rId1"/>
          <a:srcRect l="0" t="1732" r="0" b="1732"/>
          <a:stretch/>
        </p:blipFill>
        <p:spPr>
          <a:xfrm>
            <a:off x="79200" y="1123920"/>
            <a:ext cx="9907920" cy="5734080"/>
          </a:xfrm>
          <a:prstGeom prst="rect">
            <a:avLst/>
          </a:prstGeom>
          <a:ln w="0">
            <a:noFill/>
          </a:ln>
        </p:spPr>
      </p:pic>
      <p:sp>
        <p:nvSpPr>
          <p:cNvPr id="272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29556-5494-45B7-A221-00FA00FCA0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7"/>
          <p:cNvSpPr/>
          <p:nvPr/>
        </p:nvSpPr>
        <p:spPr>
          <a:xfrm>
            <a:off x="-181440" y="6445080"/>
            <a:ext cx="658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queue.acm.org/detail.cfm?id=266896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E4AB8-8EE4-42B8-8211-A838D6CF4B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ogus AS Paths to Hide Hijack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dds AS hop(s) at the end of the path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turns </a:t>
            </a:r>
            <a:r>
              <a:rPr b="0" lang="ja-JP" sz="24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701 88</a:t>
            </a:r>
            <a:r>
              <a:rPr b="0" lang="ja-JP" sz="2400" spc="-1" strike="noStrike">
                <a:solidFill>
                  <a:srgbClr val="000066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into </a:t>
            </a:r>
            <a:r>
              <a:rPr b="0" lang="ja-JP" sz="24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701 88 3</a:t>
            </a:r>
            <a:r>
              <a:rPr b="0" lang="ja-JP" sz="24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otivat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vade detection for a bogus rout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by adding the legitimate AS to the en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ard to tell that the AS path is bogus…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ven if other ASes filter based on prefix ownershi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277" name="Object 4"/>
          <p:cNvGraphicFramePr/>
          <p:nvPr/>
        </p:nvGraphicFramePr>
        <p:xfrm>
          <a:off x="2935440" y="4735440"/>
          <a:ext cx="1904760" cy="139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5440" y="4735440"/>
                    <a:ext cx="1904760" cy="13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Object 5"/>
          <p:cNvGraphicFramePr/>
          <p:nvPr/>
        </p:nvGraphicFramePr>
        <p:xfrm>
          <a:off x="1690560" y="5810400"/>
          <a:ext cx="1114560" cy="81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90560" y="5810400"/>
                    <a:ext cx="1114560" cy="81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Text Box 6"/>
          <p:cNvSpPr/>
          <p:nvPr/>
        </p:nvSpPr>
        <p:spPr>
          <a:xfrm>
            <a:off x="3573000" y="51973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0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2060640" y="60022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8"/>
          <p:cNvSpPr/>
          <p:nvPr/>
        </p:nvSpPr>
        <p:spPr>
          <a:xfrm flipV="1">
            <a:off x="2689200" y="5771880"/>
            <a:ext cx="652320" cy="2300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Object 9"/>
          <p:cNvGraphicFramePr/>
          <p:nvPr/>
        </p:nvGraphicFramePr>
        <p:xfrm>
          <a:off x="6799320" y="5541840"/>
          <a:ext cx="1114200" cy="812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5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99320" y="5541840"/>
                    <a:ext cx="111420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Text Box 10"/>
          <p:cNvSpPr/>
          <p:nvPr/>
        </p:nvSpPr>
        <p:spPr>
          <a:xfrm>
            <a:off x="7249680" y="57340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1"/>
          <p:cNvSpPr/>
          <p:nvPr/>
        </p:nvSpPr>
        <p:spPr>
          <a:xfrm>
            <a:off x="6526440" y="627048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.0.0.0/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2"/>
          <p:cNvSpPr/>
          <p:nvPr/>
        </p:nvSpPr>
        <p:spPr>
          <a:xfrm>
            <a:off x="227160" y="596412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.0.0.0/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79D6D-98D4-48A6-A00B-B3CA589302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th-Shortening Attac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move ASes from the AS path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turn </a:t>
            </a:r>
            <a:r>
              <a:rPr b="0" lang="ja-JP" sz="24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701 3715 88</a:t>
            </a:r>
            <a:r>
              <a:rPr b="0" lang="ja-JP" sz="2400" spc="-1" strike="noStrike">
                <a:solidFill>
                  <a:srgbClr val="000066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into </a:t>
            </a:r>
            <a:r>
              <a:rPr b="0" lang="ja-JP" sz="24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701 88</a:t>
            </a:r>
            <a:r>
              <a:rPr b="0" lang="ja-JP" sz="24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otivat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ke the AS path look shorter than it i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tract sources that normally try to avoid AS 371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elp AS 88 look like it is closer to the Internet</a:t>
            </a:r>
            <a:r>
              <a:rPr b="0" lang="ja-JP" sz="2400" spc="-1" strike="noStrike">
                <a:solidFill>
                  <a:srgbClr val="000066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 cor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o can tell that this AS path is a lie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ybe AS 88 *does* connect to AS 701 directl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292" name="Object 4"/>
          <p:cNvGraphicFramePr/>
          <p:nvPr/>
        </p:nvGraphicFramePr>
        <p:xfrm>
          <a:off x="1422360" y="5118120"/>
          <a:ext cx="1905120" cy="139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2360" y="5118120"/>
                    <a:ext cx="1905120" cy="13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Object 5"/>
          <p:cNvGraphicFramePr/>
          <p:nvPr/>
        </p:nvGraphicFramePr>
        <p:xfrm>
          <a:off x="6184800" y="5495760"/>
          <a:ext cx="1114560" cy="81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84800" y="5495760"/>
                    <a:ext cx="111456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Line 6"/>
          <p:cNvSpPr/>
          <p:nvPr/>
        </p:nvSpPr>
        <p:spPr>
          <a:xfrm>
            <a:off x="5302080" y="5886360"/>
            <a:ext cx="998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2059920" y="5580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0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6554880" y="56880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Object 9"/>
          <p:cNvGraphicFramePr/>
          <p:nvPr/>
        </p:nvGraphicFramePr>
        <p:xfrm>
          <a:off x="4033800" y="5311800"/>
          <a:ext cx="1420920" cy="1036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0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33800" y="5311800"/>
                    <a:ext cx="1420920" cy="103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Text Box 10"/>
          <p:cNvSpPr/>
          <p:nvPr/>
        </p:nvSpPr>
        <p:spPr>
          <a:xfrm>
            <a:off x="4397760" y="56134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71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1"/>
          <p:cNvSpPr/>
          <p:nvPr/>
        </p:nvSpPr>
        <p:spPr>
          <a:xfrm>
            <a:off x="3189240" y="5848200"/>
            <a:ext cx="998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12"/>
          <p:cNvSpPr/>
          <p:nvPr/>
        </p:nvSpPr>
        <p:spPr>
          <a:xfrm>
            <a:off x="2882880" y="6194520"/>
            <a:ext cx="3686040" cy="352440"/>
          </a:xfrm>
          <a:custGeom>
            <a:avLst/>
            <a:gdLst/>
            <a:ahLst/>
            <a:rect l="l" t="t" r="r" b="b"/>
            <a:pathLst>
              <a:path w="2322" h="222">
                <a:moveTo>
                  <a:pt x="0" y="24"/>
                </a:moveTo>
                <a:cubicBezTo>
                  <a:pt x="435" y="123"/>
                  <a:pt x="871" y="222"/>
                  <a:pt x="1258" y="218"/>
                </a:cubicBezTo>
                <a:cubicBezTo>
                  <a:pt x="1645" y="214"/>
                  <a:pt x="1983" y="107"/>
                  <a:pt x="2322" y="0"/>
                </a:cubicBezTo>
              </a:path>
            </a:pathLst>
          </a:custGeom>
          <a:noFill/>
          <a:ln w="38160">
            <a:solidFill>
              <a:srgbClr val="ff33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3"/>
          <p:cNvSpPr/>
          <p:nvPr/>
        </p:nvSpPr>
        <p:spPr>
          <a:xfrm>
            <a:off x="5381640" y="604044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DA12D-45F2-40B9-A3DA-F402CEA937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tacks that Add a Bogus AS Hop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dd ASes to the path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turn </a:t>
            </a:r>
            <a:r>
              <a:rPr b="0" lang="ja-JP" sz="24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701 88</a:t>
            </a:r>
            <a:r>
              <a:rPr b="0" lang="ja-JP" sz="2400" spc="-1" strike="noStrike">
                <a:solidFill>
                  <a:srgbClr val="000066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into </a:t>
            </a:r>
            <a:r>
              <a:rPr b="0" lang="ja-JP" sz="24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701 3715 88</a:t>
            </a:r>
            <a:r>
              <a:rPr b="0" lang="ja-JP" sz="24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otivat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rigger loop detection in AS 371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nial-of-service attack on AS 37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, blocking unwanted traffic coming from AS 3715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ke your AS look like is has richer connectivit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o can tell the AS path is a lie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S 3715 could, if it could see the rout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S 88 could, but would it really care as long as it received data traffic meant for it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308" name="Object 4"/>
          <p:cNvGraphicFramePr/>
          <p:nvPr/>
        </p:nvGraphicFramePr>
        <p:xfrm>
          <a:off x="6915240" y="1239840"/>
          <a:ext cx="1904760" cy="139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15240" y="1239840"/>
                    <a:ext cx="1904760" cy="13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Object 5"/>
          <p:cNvGraphicFramePr/>
          <p:nvPr/>
        </p:nvGraphicFramePr>
        <p:xfrm>
          <a:off x="7605720" y="3083040"/>
          <a:ext cx="1114560" cy="81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05720" y="3083040"/>
                    <a:ext cx="1114560" cy="81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Line 6"/>
          <p:cNvSpPr/>
          <p:nvPr/>
        </p:nvSpPr>
        <p:spPr>
          <a:xfrm>
            <a:off x="7951680" y="2546280"/>
            <a:ext cx="231840" cy="612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7476480" y="17762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0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8"/>
          <p:cNvSpPr/>
          <p:nvPr/>
        </p:nvSpPr>
        <p:spPr>
          <a:xfrm>
            <a:off x="7975800" y="32749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A53FD-96E4-44A7-903B-AF428B3584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olating 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istent Export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o Pe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eers require consistent expor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refix advertised at all peering poin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refix advertised with same AS path length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Reasons for violating the policy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rick neighbor into </a:t>
            </a:r>
            <a:r>
              <a:rPr b="0" lang="ja-JP" sz="2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ld potato</a:t>
            </a:r>
            <a:r>
              <a:rPr b="0" lang="ja-JP" sz="28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nfiguration mistak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ain defense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nalyzing BGP updat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r data traffic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r signs of inconsistenc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318" name="Object 4"/>
          <p:cNvGraphicFramePr/>
          <p:nvPr/>
        </p:nvGraphicFramePr>
        <p:xfrm>
          <a:off x="7047000" y="5127480"/>
          <a:ext cx="1904760" cy="139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7000" y="5127480"/>
                    <a:ext cx="1904760" cy="13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Object 5"/>
          <p:cNvGraphicFramePr/>
          <p:nvPr/>
        </p:nvGraphicFramePr>
        <p:xfrm>
          <a:off x="7047000" y="3139920"/>
          <a:ext cx="1904760" cy="1390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47000" y="3139920"/>
                    <a:ext cx="1904760" cy="13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Line 6"/>
          <p:cNvSpPr/>
          <p:nvPr/>
        </p:nvSpPr>
        <p:spPr>
          <a:xfrm>
            <a:off x="7385040" y="4213080"/>
            <a:ext cx="0" cy="1203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7"/>
          <p:cNvSpPr/>
          <p:nvPr/>
        </p:nvSpPr>
        <p:spPr>
          <a:xfrm>
            <a:off x="8034480" y="4444920"/>
            <a:ext cx="0" cy="835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8"/>
          <p:cNvSpPr/>
          <p:nvPr/>
        </p:nvSpPr>
        <p:spPr>
          <a:xfrm>
            <a:off x="8634240" y="4060800"/>
            <a:ext cx="0" cy="1281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H="1" flipV="1">
            <a:off x="7176960" y="3179520"/>
            <a:ext cx="177840" cy="268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0"/>
          <p:cNvSpPr/>
          <p:nvPr/>
        </p:nvSpPr>
        <p:spPr>
          <a:xfrm flipH="1" flipV="1">
            <a:off x="8642160" y="6044760"/>
            <a:ext cx="177480" cy="268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1"/>
          <p:cNvSpPr/>
          <p:nvPr/>
        </p:nvSpPr>
        <p:spPr>
          <a:xfrm>
            <a:off x="8421840" y="6227640"/>
            <a:ext cx="5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r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2"/>
          <p:cNvSpPr/>
          <p:nvPr/>
        </p:nvSpPr>
        <p:spPr>
          <a:xfrm>
            <a:off x="6468120" y="2782800"/>
            <a:ext cx="75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3"/>
          <p:cNvSpPr/>
          <p:nvPr/>
        </p:nvSpPr>
        <p:spPr>
          <a:xfrm>
            <a:off x="7056360" y="4205160"/>
            <a:ext cx="0" cy="1133640"/>
          </a:xfrm>
          <a:prstGeom prst="line">
            <a:avLst/>
          </a:prstGeom>
          <a:ln w="316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14"/>
          <p:cNvSpPr/>
          <p:nvPr/>
        </p:nvSpPr>
        <p:spPr>
          <a:xfrm>
            <a:off x="7834320" y="4427640"/>
            <a:ext cx="0" cy="785880"/>
          </a:xfrm>
          <a:prstGeom prst="line">
            <a:avLst/>
          </a:prstGeom>
          <a:ln w="3168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15"/>
          <p:cNvSpPr/>
          <p:nvPr/>
        </p:nvSpPr>
        <p:spPr>
          <a:xfrm>
            <a:off x="8523360" y="4370400"/>
            <a:ext cx="0" cy="785880"/>
          </a:xfrm>
          <a:prstGeom prst="line">
            <a:avLst/>
          </a:prstGeom>
          <a:ln w="3168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6"/>
          <p:cNvSpPr/>
          <p:nvPr/>
        </p:nvSpPr>
        <p:spPr>
          <a:xfrm>
            <a:off x="7355880" y="3517920"/>
            <a:ext cx="129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d 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17"/>
          <p:cNvSpPr/>
          <p:nvPr/>
        </p:nvSpPr>
        <p:spPr>
          <a:xfrm>
            <a:off x="7238880" y="3557520"/>
            <a:ext cx="1420920" cy="2803680"/>
          </a:xfrm>
          <a:custGeom>
            <a:avLst/>
            <a:gdLst/>
            <a:ahLst/>
            <a:rect l="l" t="t" r="r" b="b"/>
            <a:pathLst>
              <a:path w="895" h="1766">
                <a:moveTo>
                  <a:pt x="895" y="1766"/>
                </a:moveTo>
                <a:cubicBezTo>
                  <a:pt x="852" y="1691"/>
                  <a:pt x="809" y="1617"/>
                  <a:pt x="682" y="1565"/>
                </a:cubicBezTo>
                <a:cubicBezTo>
                  <a:pt x="555" y="1513"/>
                  <a:pt x="245" y="1714"/>
                  <a:pt x="131" y="1453"/>
                </a:cubicBezTo>
                <a:cubicBezTo>
                  <a:pt x="17" y="1192"/>
                  <a:pt x="8" y="596"/>
                  <a:pt x="0" y="0"/>
                </a:cubicBezTo>
              </a:path>
            </a:pathLst>
          </a:custGeom>
          <a:noFill/>
          <a:ln w="316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8"/>
          <p:cNvSpPr/>
          <p:nvPr/>
        </p:nvSpPr>
        <p:spPr>
          <a:xfrm>
            <a:off x="7440120" y="5546880"/>
            <a:ext cx="7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9"/>
          <p:cNvSpPr/>
          <p:nvPr/>
        </p:nvSpPr>
        <p:spPr>
          <a:xfrm>
            <a:off x="6256080" y="448164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G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11:28:01Z</dcterms:created>
  <dc:creator>Kai Li</dc:creator>
  <dc:description/>
  <dc:language>en-US</dc:language>
  <cp:lastModifiedBy>Jen</cp:lastModifiedBy>
  <cp:lastPrinted>2010-09-22T18:12:26Z</cp:lastPrinted>
  <dcterms:modified xsi:type="dcterms:W3CDTF">2017-10-18T22:17:03Z</dcterms:modified>
  <cp:revision>3436</cp:revision>
  <dc:subject/>
  <dc:title>Communication</dc:title>
</cp:coreProperties>
</file>