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9E64A4-6C0D-44F6-A8F2-08F3C812C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5C66477-793A-4A63-A25B-169766A2AD3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4CFCF0-0884-4A3E-A00A-1E5F713F18C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542593C-935B-4C33-AE30-EB9DDB63E0C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19425B2-3D90-4EF7-9243-3910F2503E0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6D17235-36C3-4AF8-A250-5CE39A6FC95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58B4CD3-BCEA-445C-8B1D-352EF2D9414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847D48-62EA-455C-930E-5A70A37301B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D4A2E5A-B477-41B6-ACE5-46980747C4F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EC7ED5D-C7FD-46EF-A621-DB1995C2022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BE33-9E89-45A6-9763-853B1C2F3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48B5-A203-4295-92D6-9B2034850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FB48-0A53-4BBD-AE32-28B28F81E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F02F-595E-42ED-AB15-794A0D9CE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0E25-4178-43C2-9D82-E35592D1D4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301B-395F-473A-A544-7939AD1191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E0DC-FBED-43EF-832C-F223412DB6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D052-428C-48B2-928D-8F96C28FAB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DF3A-CFEB-48E2-A304-21E4F17842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2B16-013A-4DC5-9164-472104BFAD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71E8-5BD4-4FF7-9366-B14378B18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DAAE-F186-4D97-9BE3-C70D087BC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95A9-304A-4364-A44D-95109EEB90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7A4C-2AC9-4DC9-BF53-7F3A207836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01EB-9CA8-4781-BD82-69DE10691F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92A7-C620-4A1C-8BA8-8CB86E7C4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78DC-FFD6-4C9A-A7CF-0DD30DF257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C6D5-8F6E-4CF3-9D07-A81A7E630E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AFB2-58CF-4E36-B348-38B5F1999C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CF73-9B66-4978-AA43-3B68C475C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76C3-D687-4673-A28D-81878BD5E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FCF0-0303-459E-B5F8-2AB88925B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E05D-1191-4FF1-9D40-DBDC95341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A58B-0889-45D7-AECD-A9CED1DE8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155B-2F4F-435B-985C-099F95591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0730-72C4-4889-BE11-CF58D381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B31-749D-46E4-83A3-9807960C363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497-3369-48A1-A9A2-B0919A3509D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1739880"/>
            <a:ext cx="818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GP Secur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tacks on BGP se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fidentiality of BGP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nial-of-service on BGP s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erting, deleting, modifying, or replaying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ource exhaustion atta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many IP prefixes (e.g., BGP “512K Day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many BGP update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-plane atta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nounce one BGP routes, but use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8E1B-32D8-48A7-AA92-022B8E7B7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mproving BGP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8E42-5CE5-4003-97A6-041F10C80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ective filt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now your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omaly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spect the unexpec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ing against registr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ablish ground truth for prefix orig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gning and verify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bogus AS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-plane ver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sure the path is actually fo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26F1-D304-463A-8932-832BF30BB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71A4-3E9C-4C47-A81D-9C75E1FE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7"/>
          <p:cNvSpPr/>
          <p:nvPr/>
        </p:nvSpPr>
        <p:spPr>
          <a:xfrm>
            <a:off x="1295280" y="1684440"/>
            <a:ext cx="21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24"/>
          <p:cNvSpPr/>
          <p:nvPr/>
        </p:nvSpPr>
        <p:spPr>
          <a:xfrm>
            <a:off x="4417920" y="3009960"/>
            <a:ext cx="1068480" cy="495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9"/>
          <p:cNvSpPr/>
          <p:nvPr/>
        </p:nvSpPr>
        <p:spPr>
          <a:xfrm flipV="1">
            <a:off x="2055960" y="3009600"/>
            <a:ext cx="920520" cy="2286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31"/>
          <p:cNvSpPr/>
          <p:nvPr/>
        </p:nvSpPr>
        <p:spPr>
          <a:xfrm>
            <a:off x="1600200" y="3429000"/>
            <a:ext cx="1147680" cy="8002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2"/>
          <p:cNvSpPr/>
          <p:nvPr/>
        </p:nvSpPr>
        <p:spPr>
          <a:xfrm flipV="1">
            <a:off x="4113360" y="3962160"/>
            <a:ext cx="1068120" cy="1904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3"/>
          <p:cNvSpPr/>
          <p:nvPr/>
        </p:nvSpPr>
        <p:spPr>
          <a:xfrm flipV="1">
            <a:off x="4267080" y="2705040"/>
            <a:ext cx="2443320" cy="1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34"/>
          <p:cNvSpPr/>
          <p:nvPr/>
        </p:nvSpPr>
        <p:spPr>
          <a:xfrm flipH="1">
            <a:off x="6323040" y="2894760"/>
            <a:ext cx="1068480" cy="723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Cloud 35"/>
          <p:cNvGrpSpPr/>
          <p:nvPr/>
        </p:nvGrpSpPr>
        <p:grpSpPr>
          <a:xfrm>
            <a:off x="549360" y="2792520"/>
            <a:ext cx="1571400" cy="957240"/>
            <a:chOff x="549360" y="2792520"/>
            <a:chExt cx="1571400" cy="957240"/>
          </a:xfrm>
        </p:grpSpPr>
        <p:pic>
          <p:nvPicPr>
            <p:cNvPr id="354" name="Cloud 35" descr=""/>
            <p:cNvPicPr/>
            <p:nvPr/>
          </p:nvPicPr>
          <p:blipFill>
            <a:blip r:embed="rId1"/>
            <a:stretch/>
          </p:blipFill>
          <p:spPr>
            <a:xfrm>
              <a:off x="549360" y="2792520"/>
              <a:ext cx="15714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09640" y="2946240"/>
              <a:ext cx="944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M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Cloud 36"/>
          <p:cNvGrpSpPr/>
          <p:nvPr/>
        </p:nvGrpSpPr>
        <p:grpSpPr>
          <a:xfrm>
            <a:off x="2914560" y="2560680"/>
            <a:ext cx="1565280" cy="963720"/>
            <a:chOff x="2914560" y="2560680"/>
            <a:chExt cx="1565280" cy="963720"/>
          </a:xfrm>
        </p:grpSpPr>
        <p:pic>
          <p:nvPicPr>
            <p:cNvPr id="357" name="Cloud 36" descr=""/>
            <p:cNvPicPr/>
            <p:nvPr/>
          </p:nvPicPr>
          <p:blipFill>
            <a:blip r:embed="rId2"/>
            <a:stretch/>
          </p:blipFill>
          <p:spPr>
            <a:xfrm>
              <a:off x="2914560" y="2560680"/>
              <a:ext cx="15652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171960" y="2717640"/>
              <a:ext cx="9442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&amp;T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Cloud 37"/>
          <p:cNvGrpSpPr/>
          <p:nvPr/>
        </p:nvGrpSpPr>
        <p:grpSpPr>
          <a:xfrm>
            <a:off x="2597040" y="3780000"/>
            <a:ext cx="1657440" cy="963360"/>
            <a:chOff x="2597040" y="3780000"/>
            <a:chExt cx="1657440" cy="963360"/>
          </a:xfrm>
        </p:grpSpPr>
        <p:pic>
          <p:nvPicPr>
            <p:cNvPr id="360" name="Cloud 37" descr=""/>
            <p:cNvPicPr/>
            <p:nvPr/>
          </p:nvPicPr>
          <p:blipFill>
            <a:blip r:embed="rId3"/>
            <a:stretch/>
          </p:blipFill>
          <p:spPr>
            <a:xfrm>
              <a:off x="2597040" y="3780000"/>
              <a:ext cx="16574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943360" y="3936960"/>
              <a:ext cx="9442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cast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Cloud 38"/>
          <p:cNvGrpSpPr/>
          <p:nvPr/>
        </p:nvGrpSpPr>
        <p:grpSpPr>
          <a:xfrm>
            <a:off x="4968720" y="3303720"/>
            <a:ext cx="1571760" cy="1036440"/>
            <a:chOff x="4968720" y="3303720"/>
            <a:chExt cx="1571760" cy="1036440"/>
          </a:xfrm>
        </p:grpSpPr>
        <p:pic>
          <p:nvPicPr>
            <p:cNvPr id="363" name="Cloud 38" descr=""/>
            <p:cNvPicPr/>
            <p:nvPr/>
          </p:nvPicPr>
          <p:blipFill>
            <a:blip r:embed="rId4"/>
            <a:stretch/>
          </p:blipFill>
          <p:spPr>
            <a:xfrm>
              <a:off x="4968720" y="3303720"/>
              <a:ext cx="15717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229360" y="3479760"/>
              <a:ext cx="9442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P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Cloud 39"/>
          <p:cNvGrpSpPr/>
          <p:nvPr/>
        </p:nvGrpSpPr>
        <p:grpSpPr>
          <a:xfrm>
            <a:off x="6572160" y="2255760"/>
            <a:ext cx="2022480" cy="963720"/>
            <a:chOff x="6572160" y="2255760"/>
            <a:chExt cx="2022480" cy="963720"/>
          </a:xfrm>
        </p:grpSpPr>
        <p:pic>
          <p:nvPicPr>
            <p:cNvPr id="366" name="Cloud 39" descr=""/>
            <p:cNvPicPr/>
            <p:nvPr/>
          </p:nvPicPr>
          <p:blipFill>
            <a:blip r:embed="rId5"/>
            <a:stretch/>
          </p:blipFill>
          <p:spPr>
            <a:xfrm>
              <a:off x="6572160" y="2255760"/>
              <a:ext cx="20224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891480" y="2413080"/>
              <a:ext cx="12445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eton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47"/>
          <p:cNvGrpSpPr/>
          <p:nvPr/>
        </p:nvGrpSpPr>
        <p:grpSpPr>
          <a:xfrm>
            <a:off x="380880" y="4648320"/>
            <a:ext cx="2514600" cy="609480"/>
            <a:chOff x="380880" y="4648320"/>
            <a:chExt cx="2514600" cy="609480"/>
          </a:xfrm>
        </p:grpSpPr>
        <p:pic>
          <p:nvPicPr>
            <p:cNvPr id="369" name="AutoShape 148" descr=""/>
            <p:cNvPicPr/>
            <p:nvPr/>
          </p:nvPicPr>
          <p:blipFill>
            <a:blip r:embed="rId6"/>
            <a:stretch/>
          </p:blipFill>
          <p:spPr>
            <a:xfrm>
              <a:off x="380880" y="4648320"/>
              <a:ext cx="25146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21"/>
            <p:cNvGrpSpPr/>
            <p:nvPr/>
          </p:nvGrpSpPr>
          <p:grpSpPr>
            <a:xfrm>
              <a:off x="578880" y="5046120"/>
              <a:ext cx="2153160" cy="151200"/>
              <a:chOff x="578880" y="5046120"/>
              <a:chExt cx="2153160" cy="151200"/>
            </a:xfrm>
          </p:grpSpPr>
          <p:sp>
            <p:nvSpPr>
              <p:cNvPr id="371" name="Rectangle 122"/>
              <p:cNvSpPr/>
              <p:nvPr/>
            </p:nvSpPr>
            <p:spPr>
              <a:xfrm>
                <a:off x="578880" y="5046120"/>
                <a:ext cx="1905120" cy="109800"/>
              </a:xfrm>
              <a:prstGeom prst="rect">
                <a:avLst/>
              </a:prstGeom>
              <a:solidFill>
                <a:srgbClr val="ffc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cast:  (IBM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Group 106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4840" y="5093640"/>
                <a:ext cx="547200" cy="10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3" name="Line 134"/>
          <p:cNvSpPr/>
          <p:nvPr/>
        </p:nvSpPr>
        <p:spPr>
          <a:xfrm>
            <a:off x="1752480" y="3505320"/>
            <a:ext cx="990720" cy="761760"/>
          </a:xfrm>
          <a:prstGeom prst="line">
            <a:avLst/>
          </a:prstGeom>
          <a:ln w="127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89"/>
          <p:cNvGrpSpPr/>
          <p:nvPr/>
        </p:nvGrpSpPr>
        <p:grpSpPr>
          <a:xfrm>
            <a:off x="3962520" y="4800600"/>
            <a:ext cx="3504960" cy="1066680"/>
            <a:chOff x="3962520" y="4800600"/>
            <a:chExt cx="3504960" cy="1066680"/>
          </a:xfrm>
        </p:grpSpPr>
        <p:pic>
          <p:nvPicPr>
            <p:cNvPr id="375" name="AutoShape 149" descr=""/>
            <p:cNvPicPr/>
            <p:nvPr/>
          </p:nvPicPr>
          <p:blipFill>
            <a:blip r:embed="rId8"/>
            <a:stretch/>
          </p:blipFill>
          <p:spPr>
            <a:xfrm>
              <a:off x="3962520" y="4800600"/>
              <a:ext cx="35049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175"/>
            <p:cNvSpPr/>
            <p:nvPr/>
          </p:nvSpPr>
          <p:spPr>
            <a:xfrm>
              <a:off x="4239360" y="5277600"/>
              <a:ext cx="2041200" cy="17604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cast:   (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Group 106" descr=""/>
            <p:cNvPicPr/>
            <p:nvPr/>
          </p:nvPicPr>
          <p:blipFill>
            <a:blip r:embed="rId9"/>
            <a:stretch/>
          </p:blipFill>
          <p:spPr>
            <a:xfrm>
              <a:off x="6044400" y="5370840"/>
              <a:ext cx="5655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ectangle 177"/>
            <p:cNvSpPr/>
            <p:nvPr/>
          </p:nvSpPr>
          <p:spPr>
            <a:xfrm>
              <a:off x="4239360" y="5541840"/>
              <a:ext cx="2624400" cy="17604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:   (Comcast,  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Group 106" descr=""/>
            <p:cNvPicPr/>
            <p:nvPr/>
          </p:nvPicPr>
          <p:blipFill>
            <a:blip r:embed="rId10"/>
            <a:stretch/>
          </p:blipFill>
          <p:spPr>
            <a:xfrm>
              <a:off x="6627960" y="5635080"/>
              <a:ext cx="565560" cy="20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Group 114"/>
          <p:cNvGrpSpPr/>
          <p:nvPr/>
        </p:nvGrpSpPr>
        <p:grpSpPr>
          <a:xfrm>
            <a:off x="762120" y="2743200"/>
            <a:ext cx="6553080" cy="2209680"/>
            <a:chOff x="762120" y="2743200"/>
            <a:chExt cx="6553080" cy="2209680"/>
          </a:xfrm>
        </p:grpSpPr>
        <p:pic>
          <p:nvPicPr>
            <p:cNvPr id="381" name="Group 61" descr=""/>
            <p:cNvPicPr/>
            <p:nvPr/>
          </p:nvPicPr>
          <p:blipFill>
            <a:blip r:embed="rId11"/>
            <a:stretch/>
          </p:blipFill>
          <p:spPr>
            <a:xfrm>
              <a:off x="2965320" y="3074760"/>
              <a:ext cx="79128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Group 73" descr=""/>
            <p:cNvPicPr/>
            <p:nvPr/>
          </p:nvPicPr>
          <p:blipFill>
            <a:blip r:embed="rId12"/>
            <a:stretch/>
          </p:blipFill>
          <p:spPr>
            <a:xfrm>
              <a:off x="2754720" y="4402080"/>
              <a:ext cx="7855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Group 79" descr=""/>
            <p:cNvPicPr/>
            <p:nvPr/>
          </p:nvPicPr>
          <p:blipFill>
            <a:blip r:embed="rId13"/>
            <a:stretch/>
          </p:blipFill>
          <p:spPr>
            <a:xfrm>
              <a:off x="5032080" y="3904560"/>
              <a:ext cx="7855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Group 85" descr=""/>
            <p:cNvPicPr/>
            <p:nvPr/>
          </p:nvPicPr>
          <p:blipFill>
            <a:blip r:embed="rId14"/>
            <a:stretch/>
          </p:blipFill>
          <p:spPr>
            <a:xfrm>
              <a:off x="762120" y="3327120"/>
              <a:ext cx="785520" cy="5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Group 79" descr=""/>
            <p:cNvPicPr/>
            <p:nvPr/>
          </p:nvPicPr>
          <p:blipFill>
            <a:blip r:embed="rId15"/>
            <a:stretch/>
          </p:blipFill>
          <p:spPr>
            <a:xfrm>
              <a:off x="6523920" y="2743200"/>
              <a:ext cx="7912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 Attestations in Secure BGP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5"/>
          <p:cNvSpPr/>
          <p:nvPr/>
        </p:nvSpPr>
        <p:spPr>
          <a:xfrm>
            <a:off x="800100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oup 54" descr=""/>
          <p:cNvPicPr/>
          <p:nvPr/>
        </p:nvPicPr>
        <p:blipFill>
          <a:blip r:embed="rId16"/>
          <a:stretch/>
        </p:blipFill>
        <p:spPr>
          <a:xfrm>
            <a:off x="8248680" y="6035760"/>
            <a:ext cx="419040" cy="803160"/>
          </a:xfrm>
          <a:prstGeom prst="rect">
            <a:avLst/>
          </a:prstGeom>
          <a:ln w="0">
            <a:noFill/>
          </a:ln>
        </p:spPr>
      </p:pic>
      <p:sp>
        <p:nvSpPr>
          <p:cNvPr id="389" name="Rounded Rectangle 146"/>
          <p:cNvSpPr/>
          <p:nvPr/>
        </p:nvSpPr>
        <p:spPr>
          <a:xfrm>
            <a:off x="380880" y="838080"/>
            <a:ext cx="838224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S a announced path abP then b announced bP t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8"/>
          <p:cNvSpPr/>
          <p:nvPr/>
        </p:nvSpPr>
        <p:spPr>
          <a:xfrm>
            <a:off x="152280" y="59896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ublic Key Signa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nyone who knows IBM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ublic key can verify the message was sent by IB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51"/>
          <p:cNvSpPr/>
          <p:nvPr/>
        </p:nvSpPr>
        <p:spPr>
          <a:xfrm flipV="1">
            <a:off x="4038480" y="3962160"/>
            <a:ext cx="1067040" cy="228600"/>
          </a:xfrm>
          <a:prstGeom prst="line">
            <a:avLst/>
          </a:prstGeom>
          <a:ln w="127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8"/>
          <p:cNvSpPr/>
          <p:nvPr/>
        </p:nvSpPr>
        <p:spPr>
          <a:xfrm>
            <a:off x="2438280" y="2819520"/>
            <a:ext cx="1524240" cy="8380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35"/>
          <p:cNvGrpSpPr/>
          <p:nvPr/>
        </p:nvGrpSpPr>
        <p:grpSpPr>
          <a:xfrm>
            <a:off x="1981080" y="1600200"/>
            <a:ext cx="4724640" cy="1523880"/>
            <a:chOff x="1981080" y="1600200"/>
            <a:chExt cx="4724640" cy="1523880"/>
          </a:xfrm>
        </p:grpSpPr>
        <p:pic>
          <p:nvPicPr>
            <p:cNvPr id="394" name="AutoShape 149" descr=""/>
            <p:cNvPicPr/>
            <p:nvPr/>
          </p:nvPicPr>
          <p:blipFill>
            <a:blip r:embed="rId17"/>
            <a:stretch/>
          </p:blipFill>
          <p:spPr>
            <a:xfrm>
              <a:off x="1981080" y="1600200"/>
              <a:ext cx="47246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ectangle 142"/>
            <p:cNvSpPr/>
            <p:nvPr/>
          </p:nvSpPr>
          <p:spPr>
            <a:xfrm>
              <a:off x="2261160" y="1753920"/>
              <a:ext cx="2064600" cy="22932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cast:    (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Group 106" descr=""/>
            <p:cNvPicPr/>
            <p:nvPr/>
          </p:nvPicPr>
          <p:blipFill>
            <a:blip r:embed="rId18"/>
            <a:stretch/>
          </p:blipFill>
          <p:spPr>
            <a:xfrm>
              <a:off x="4086720" y="1875600"/>
              <a:ext cx="572040" cy="2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44"/>
            <p:cNvSpPr/>
            <p:nvPr/>
          </p:nvSpPr>
          <p:spPr>
            <a:xfrm>
              <a:off x="2261160" y="2098080"/>
              <a:ext cx="3096720" cy="2293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:          (Comcast,  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oup 106" descr=""/>
            <p:cNvPicPr/>
            <p:nvPr/>
          </p:nvPicPr>
          <p:blipFill>
            <a:blip r:embed="rId19"/>
            <a:stretch/>
          </p:blipFill>
          <p:spPr>
            <a:xfrm>
              <a:off x="5119200" y="2219760"/>
              <a:ext cx="572040" cy="2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Rectangle 146"/>
            <p:cNvSpPr/>
            <p:nvPr/>
          </p:nvSpPr>
          <p:spPr>
            <a:xfrm>
              <a:off x="2261160" y="2442600"/>
              <a:ext cx="3907800" cy="229320"/>
            </a:xfrm>
            <a:prstGeom prst="rect">
              <a:avLst/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eton:   (Local, Comcast,  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Group 106" descr=""/>
            <p:cNvPicPr/>
            <p:nvPr/>
          </p:nvPicPr>
          <p:blipFill>
            <a:blip r:embed="rId20"/>
            <a:stretch/>
          </p:blipFill>
          <p:spPr>
            <a:xfrm>
              <a:off x="5933160" y="2564280"/>
              <a:ext cx="566280" cy="27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Can 106"/>
          <p:cNvSpPr/>
          <p:nvPr/>
        </p:nvSpPr>
        <p:spPr>
          <a:xfrm>
            <a:off x="380880" y="1752480"/>
            <a:ext cx="762120" cy="685800"/>
          </a:xfrm>
          <a:prstGeom prst="can">
            <a:avLst>
              <a:gd name="adj" fmla="val 25000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ussion of the Pap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P Security in Partial Deploy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A490-5765-4C24-BDC5-EB7BB700F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GP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E3E-7E14-4E98-8FB8-D47AC1B78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A425-EFB1-4571-AE89-F7E05E5F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fix Hij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482760" y="2536920"/>
            <a:ext cx="8446680" cy="3985920"/>
            <a:chOff x="482760" y="2536920"/>
            <a:chExt cx="8446680" cy="398592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720720" y="3027240"/>
            <a:ext cx="2815560" cy="159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0720" y="3027240"/>
                      <a:ext cx="2815560" cy="159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5"/>
            <p:cNvGraphicFramePr/>
            <p:nvPr/>
          </p:nvGraphicFramePr>
          <p:xfrm>
            <a:off x="4518720" y="2536920"/>
            <a:ext cx="2820600" cy="170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720" y="2536920"/>
                      <a:ext cx="2820600" cy="17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Object 6"/>
            <p:cNvGraphicFramePr/>
            <p:nvPr/>
          </p:nvGraphicFramePr>
          <p:xfrm>
            <a:off x="3921120" y="4498200"/>
            <a:ext cx="2820600" cy="170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1120" y="4498200"/>
                      <a:ext cx="282060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7"/>
            <p:cNvSpPr/>
            <p:nvPr/>
          </p:nvSpPr>
          <p:spPr>
            <a:xfrm>
              <a:off x="4429080" y="51606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Object 8"/>
            <p:cNvGraphicFramePr/>
            <p:nvPr/>
          </p:nvGraphicFramePr>
          <p:xfrm>
            <a:off x="791640" y="4660560"/>
            <a:ext cx="1372680" cy="86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7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1640" y="466056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9"/>
            <p:cNvGraphicFramePr/>
            <p:nvPr/>
          </p:nvGraphicFramePr>
          <p:xfrm>
            <a:off x="482760" y="5725800"/>
            <a:ext cx="886320" cy="55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2760" y="5725800"/>
                      <a:ext cx="88632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10"/>
            <p:cNvGraphicFramePr/>
            <p:nvPr/>
          </p:nvGraphicFramePr>
          <p:xfrm>
            <a:off x="7045560" y="3960360"/>
            <a:ext cx="1372680" cy="86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1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45560" y="396036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Object 11"/>
            <p:cNvGraphicFramePr/>
            <p:nvPr/>
          </p:nvGraphicFramePr>
          <p:xfrm>
            <a:off x="8043480" y="5003280"/>
            <a:ext cx="885960" cy="55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3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43480" y="5003280"/>
                      <a:ext cx="88596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Line 12"/>
            <p:cNvSpPr/>
            <p:nvPr/>
          </p:nvSpPr>
          <p:spPr>
            <a:xfrm flipV="1">
              <a:off x="1024560" y="5400000"/>
              <a:ext cx="198720" cy="36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 flipV="1">
              <a:off x="1358640" y="4400280"/>
              <a:ext cx="136440" cy="3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 flipV="1">
              <a:off x="3303360" y="3311280"/>
              <a:ext cx="141264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2908440" y="4312080"/>
              <a:ext cx="150372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7162200" y="3523680"/>
              <a:ext cx="668160" cy="50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H="1">
              <a:off x="6508440" y="4715280"/>
              <a:ext cx="911160" cy="40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>
              <a:off x="7830720" y="4747680"/>
              <a:ext cx="379440" cy="3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>
              <a:off x="8484120" y="551124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>
              <a:off x="918360" y="625356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 flipH="1">
              <a:off x="5262840" y="4030560"/>
              <a:ext cx="3708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819360" y="5801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1216080" y="4880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1869480" y="3601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5726520" y="3173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7551000" y="4196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8295480" y="5082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5105160" y="5093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29"/>
          <p:cNvSpPr/>
          <p:nvPr/>
        </p:nvSpPr>
        <p:spPr>
          <a:xfrm>
            <a:off x="7191360" y="582444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0"/>
          <p:cNvSpPr/>
          <p:nvPr/>
        </p:nvSpPr>
        <p:spPr>
          <a:xfrm>
            <a:off x="17640" y="2274840"/>
            <a:ext cx="8875440" cy="3962520"/>
          </a:xfrm>
          <a:custGeom>
            <a:avLst/>
            <a:gdLst/>
            <a:ahLst/>
            <a:rect l="l" t="t" r="r" b="b"/>
            <a:pathLst>
              <a:path w="5591" h="2496">
                <a:moveTo>
                  <a:pt x="244" y="2320"/>
                </a:moveTo>
                <a:cubicBezTo>
                  <a:pt x="214" y="2408"/>
                  <a:pt x="184" y="2496"/>
                  <a:pt x="225" y="2227"/>
                </a:cubicBezTo>
                <a:cubicBezTo>
                  <a:pt x="266" y="1958"/>
                  <a:pt x="0" y="1046"/>
                  <a:pt x="488" y="705"/>
                </a:cubicBezTo>
                <a:cubicBezTo>
                  <a:pt x="976" y="364"/>
                  <a:pt x="2438" y="255"/>
                  <a:pt x="3155" y="179"/>
                </a:cubicBezTo>
                <a:cubicBezTo>
                  <a:pt x="3872" y="103"/>
                  <a:pt x="4383" y="0"/>
                  <a:pt x="4789" y="248"/>
                </a:cubicBezTo>
                <a:cubicBezTo>
                  <a:pt x="5195" y="496"/>
                  <a:pt x="5457" y="1431"/>
                  <a:pt x="5591" y="1669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1"/>
          <p:cNvSpPr/>
          <p:nvPr/>
        </p:nvSpPr>
        <p:spPr>
          <a:xfrm>
            <a:off x="5487840" y="5235480"/>
            <a:ext cx="2813040" cy="1160640"/>
          </a:xfrm>
          <a:custGeom>
            <a:avLst/>
            <a:gdLst/>
            <a:ahLst/>
            <a:rect l="l" t="t" r="r" b="b"/>
            <a:pathLst>
              <a:path w="1772" h="731">
                <a:moveTo>
                  <a:pt x="0" y="731"/>
                </a:moveTo>
                <a:cubicBezTo>
                  <a:pt x="397" y="439"/>
                  <a:pt x="794" y="148"/>
                  <a:pt x="1089" y="74"/>
                </a:cubicBezTo>
                <a:cubicBezTo>
                  <a:pt x="1384" y="0"/>
                  <a:pt x="1578" y="143"/>
                  <a:pt x="1772" y="287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2"/>
          <p:cNvSpPr/>
          <p:nvPr/>
        </p:nvSpPr>
        <p:spPr>
          <a:xfrm>
            <a:off x="1144440" y="61545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3"/>
          <p:cNvSpPr/>
          <p:nvPr/>
        </p:nvSpPr>
        <p:spPr>
          <a:xfrm>
            <a:off x="1781280" y="4497480"/>
            <a:ext cx="1023840" cy="1611360"/>
          </a:xfrm>
          <a:custGeom>
            <a:avLst/>
            <a:gdLst/>
            <a:ahLst/>
            <a:rect l="l" t="t" r="r" b="b"/>
            <a:pathLst>
              <a:path w="645" h="1015">
                <a:moveTo>
                  <a:pt x="645" y="0"/>
                </a:moveTo>
                <a:cubicBezTo>
                  <a:pt x="513" y="113"/>
                  <a:pt x="382" y="226"/>
                  <a:pt x="275" y="395"/>
                </a:cubicBezTo>
                <a:cubicBezTo>
                  <a:pt x="168" y="564"/>
                  <a:pt x="84" y="789"/>
                  <a:pt x="0" y="1015"/>
                </a:cubicBezTo>
              </a:path>
            </a:pathLst>
          </a:cu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4"/>
          <p:cNvSpPr/>
          <p:nvPr/>
        </p:nvSpPr>
        <p:spPr>
          <a:xfrm>
            <a:off x="5943600" y="2398680"/>
            <a:ext cx="2903400" cy="2454480"/>
          </a:xfrm>
          <a:custGeom>
            <a:avLst/>
            <a:gdLst/>
            <a:ahLst/>
            <a:rect l="l" t="t" r="r" b="b"/>
            <a:pathLst>
              <a:path w="1785" h="1428">
                <a:moveTo>
                  <a:pt x="0" y="32"/>
                </a:moveTo>
                <a:cubicBezTo>
                  <a:pt x="304" y="16"/>
                  <a:pt x="609" y="0"/>
                  <a:pt x="827" y="63"/>
                </a:cubicBezTo>
                <a:cubicBezTo>
                  <a:pt x="1045" y="126"/>
                  <a:pt x="1149" y="180"/>
                  <a:pt x="1309" y="408"/>
                </a:cubicBezTo>
                <a:cubicBezTo>
                  <a:pt x="1469" y="636"/>
                  <a:pt x="1627" y="1032"/>
                  <a:pt x="1785" y="142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iginating someone else’s prefix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fraction of the Internet believes i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Prefix Hij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5388120"/>
            <a:ext cx="8458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iginating a more-specific prefi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AS picks the bogus route for that prefi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ffic follows the longest matching prefi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0AD5-8804-4102-99CE-03ABA1770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453960" y="1193760"/>
            <a:ext cx="8446680" cy="3985920"/>
            <a:chOff x="453960" y="1193760"/>
            <a:chExt cx="8446680" cy="3985920"/>
          </a:xfrm>
        </p:grpSpPr>
        <p:graphicFrame>
          <p:nvGraphicFramePr>
            <p:cNvPr id="232" name="Object 4"/>
            <p:cNvGraphicFramePr/>
            <p:nvPr/>
          </p:nvGraphicFramePr>
          <p:xfrm>
            <a:off x="691920" y="1684080"/>
            <a:ext cx="2815560" cy="159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1920" y="1684080"/>
                      <a:ext cx="2815560" cy="159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Object 5"/>
            <p:cNvGraphicFramePr/>
            <p:nvPr/>
          </p:nvGraphicFramePr>
          <p:xfrm>
            <a:off x="4489920" y="1193760"/>
            <a:ext cx="2820600" cy="170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9920" y="1193760"/>
                      <a:ext cx="2820600" cy="17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6"/>
            <p:cNvGraphicFramePr/>
            <p:nvPr/>
          </p:nvGraphicFramePr>
          <p:xfrm>
            <a:off x="3892320" y="3155040"/>
            <a:ext cx="2820600" cy="170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92320" y="3155040"/>
                      <a:ext cx="282060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Text Box 7"/>
            <p:cNvSpPr/>
            <p:nvPr/>
          </p:nvSpPr>
          <p:spPr>
            <a:xfrm>
              <a:off x="4400280" y="38174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9" name="Object 8"/>
            <p:cNvGraphicFramePr/>
            <p:nvPr/>
          </p:nvGraphicFramePr>
          <p:xfrm>
            <a:off x="762840" y="3317400"/>
            <a:ext cx="1372680" cy="86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840" y="331740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9"/>
            <p:cNvGraphicFramePr/>
            <p:nvPr/>
          </p:nvGraphicFramePr>
          <p:xfrm>
            <a:off x="453960" y="4382640"/>
            <a:ext cx="886320" cy="55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3960" y="4382640"/>
                      <a:ext cx="88632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Object 10"/>
            <p:cNvGraphicFramePr/>
            <p:nvPr/>
          </p:nvGraphicFramePr>
          <p:xfrm>
            <a:off x="7016760" y="2617200"/>
            <a:ext cx="1372680" cy="86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16760" y="261720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Object 11"/>
            <p:cNvGraphicFramePr/>
            <p:nvPr/>
          </p:nvGraphicFramePr>
          <p:xfrm>
            <a:off x="8014680" y="3660120"/>
            <a:ext cx="885960" cy="55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14680" y="3660120"/>
                      <a:ext cx="88596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Line 12"/>
            <p:cNvSpPr/>
            <p:nvPr/>
          </p:nvSpPr>
          <p:spPr>
            <a:xfrm flipV="1">
              <a:off x="995760" y="4056840"/>
              <a:ext cx="198720" cy="36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 flipV="1">
              <a:off x="1329840" y="3057120"/>
              <a:ext cx="136440" cy="3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 flipV="1">
              <a:off x="3274560" y="1968120"/>
              <a:ext cx="141264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>
              <a:off x="2879640" y="2968920"/>
              <a:ext cx="150372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7133400" y="2180520"/>
              <a:ext cx="668160" cy="50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 flipH="1">
              <a:off x="6479640" y="3372120"/>
              <a:ext cx="911160" cy="40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>
              <a:off x="7801920" y="3404520"/>
              <a:ext cx="379440" cy="3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9"/>
            <p:cNvSpPr/>
            <p:nvPr/>
          </p:nvSpPr>
          <p:spPr>
            <a:xfrm>
              <a:off x="8455320" y="416808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>
              <a:off x="889560" y="491040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 flipH="1">
              <a:off x="5234040" y="2687400"/>
              <a:ext cx="3708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2"/>
            <p:cNvSpPr/>
            <p:nvPr/>
          </p:nvSpPr>
          <p:spPr>
            <a:xfrm>
              <a:off x="790560" y="4458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3"/>
            <p:cNvSpPr/>
            <p:nvPr/>
          </p:nvSpPr>
          <p:spPr>
            <a:xfrm>
              <a:off x="1187280" y="353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4"/>
            <p:cNvSpPr/>
            <p:nvPr/>
          </p:nvSpPr>
          <p:spPr>
            <a:xfrm>
              <a:off x="1840680" y="2257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5"/>
            <p:cNvSpPr/>
            <p:nvPr/>
          </p:nvSpPr>
          <p:spPr>
            <a:xfrm>
              <a:off x="5697720" y="1829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7522200" y="2853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7"/>
            <p:cNvSpPr/>
            <p:nvPr/>
          </p:nvSpPr>
          <p:spPr>
            <a:xfrm>
              <a:off x="8266680" y="373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8"/>
            <p:cNvSpPr/>
            <p:nvPr/>
          </p:nvSpPr>
          <p:spPr>
            <a:xfrm>
              <a:off x="5076360" y="375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9"/>
          <p:cNvSpPr/>
          <p:nvPr/>
        </p:nvSpPr>
        <p:spPr>
          <a:xfrm>
            <a:off x="7143840" y="448164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0"/>
          <p:cNvSpPr/>
          <p:nvPr/>
        </p:nvSpPr>
        <p:spPr>
          <a:xfrm>
            <a:off x="5459400" y="3892680"/>
            <a:ext cx="2813040" cy="1160280"/>
          </a:xfrm>
          <a:custGeom>
            <a:avLst/>
            <a:gdLst/>
            <a:ahLst/>
            <a:rect l="l" t="t" r="r" b="b"/>
            <a:pathLst>
              <a:path w="1772" h="731">
                <a:moveTo>
                  <a:pt x="0" y="731"/>
                </a:moveTo>
                <a:cubicBezTo>
                  <a:pt x="397" y="439"/>
                  <a:pt x="794" y="148"/>
                  <a:pt x="1089" y="74"/>
                </a:cubicBezTo>
                <a:cubicBezTo>
                  <a:pt x="1384" y="0"/>
                  <a:pt x="1578" y="143"/>
                  <a:pt x="1772" y="287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998280" y="479268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2.34.158.0/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2"/>
          <p:cNvSpPr/>
          <p:nvPr/>
        </p:nvSpPr>
        <p:spPr>
          <a:xfrm>
            <a:off x="-49320" y="922320"/>
            <a:ext cx="8875800" cy="3962520"/>
          </a:xfrm>
          <a:custGeom>
            <a:avLst/>
            <a:gdLst/>
            <a:ahLst/>
            <a:rect l="l" t="t" r="r" b="b"/>
            <a:pathLst>
              <a:path w="5591" h="2496">
                <a:moveTo>
                  <a:pt x="244" y="2320"/>
                </a:moveTo>
                <a:cubicBezTo>
                  <a:pt x="214" y="2408"/>
                  <a:pt x="184" y="2496"/>
                  <a:pt x="225" y="2227"/>
                </a:cubicBezTo>
                <a:cubicBezTo>
                  <a:pt x="266" y="1958"/>
                  <a:pt x="0" y="1046"/>
                  <a:pt x="488" y="705"/>
                </a:cubicBezTo>
                <a:cubicBezTo>
                  <a:pt x="976" y="364"/>
                  <a:pt x="2438" y="255"/>
                  <a:pt x="3155" y="179"/>
                </a:cubicBezTo>
                <a:cubicBezTo>
                  <a:pt x="3872" y="103"/>
                  <a:pt x="4383" y="0"/>
                  <a:pt x="4789" y="248"/>
                </a:cubicBezTo>
                <a:cubicBezTo>
                  <a:pt x="5195" y="496"/>
                  <a:pt x="5457" y="1431"/>
                  <a:pt x="5591" y="1669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3"/>
          <p:cNvSpPr/>
          <p:nvPr/>
        </p:nvSpPr>
        <p:spPr>
          <a:xfrm>
            <a:off x="320760" y="903240"/>
            <a:ext cx="8632800" cy="3913200"/>
          </a:xfrm>
          <a:custGeom>
            <a:avLst/>
            <a:gdLst/>
            <a:ahLst/>
            <a:rect l="l" t="t" r="r" b="b"/>
            <a:pathLst>
              <a:path w="5438" h="2465">
                <a:moveTo>
                  <a:pt x="5438" y="1638"/>
                </a:moveTo>
                <a:cubicBezTo>
                  <a:pt x="5223" y="1211"/>
                  <a:pt x="5009" y="785"/>
                  <a:pt x="4655" y="530"/>
                </a:cubicBezTo>
                <a:cubicBezTo>
                  <a:pt x="4301" y="275"/>
                  <a:pt x="4000" y="128"/>
                  <a:pt x="3316" y="105"/>
                </a:cubicBezTo>
                <a:cubicBezTo>
                  <a:pt x="2632" y="82"/>
                  <a:pt x="1096" y="0"/>
                  <a:pt x="548" y="393"/>
                </a:cubicBezTo>
                <a:cubicBezTo>
                  <a:pt x="0" y="786"/>
                  <a:pt x="14" y="1625"/>
                  <a:pt x="29" y="2465"/>
                </a:cubicBezTo>
              </a:path>
            </a:pathLst>
          </a:cu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4"/>
          <p:cNvSpPr/>
          <p:nvPr/>
        </p:nvSpPr>
        <p:spPr>
          <a:xfrm>
            <a:off x="1647720" y="3181320"/>
            <a:ext cx="2587680" cy="1558800"/>
          </a:xfrm>
          <a:custGeom>
            <a:avLst/>
            <a:gdLst/>
            <a:ahLst/>
            <a:rect l="l" t="t" r="r" b="b"/>
            <a:pathLst>
              <a:path w="1630" h="982">
                <a:moveTo>
                  <a:pt x="1534" y="350"/>
                </a:moveTo>
                <a:cubicBezTo>
                  <a:pt x="1582" y="351"/>
                  <a:pt x="1630" y="353"/>
                  <a:pt x="1471" y="313"/>
                </a:cubicBezTo>
                <a:cubicBezTo>
                  <a:pt x="1312" y="273"/>
                  <a:pt x="827" y="0"/>
                  <a:pt x="582" y="112"/>
                </a:cubicBezTo>
                <a:cubicBezTo>
                  <a:pt x="337" y="224"/>
                  <a:pt x="97" y="836"/>
                  <a:pt x="0" y="982"/>
                </a:cubicBezTo>
              </a:path>
            </a:pathLst>
          </a:cu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ception At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Content Placeholder 4" descr=""/>
          <p:cNvPicPr/>
          <p:nvPr/>
        </p:nvPicPr>
        <p:blipFill>
          <a:blip r:embed="rId1"/>
          <a:srcRect l="0" t="1732" r="0" b="1732"/>
          <a:stretch/>
        </p:blipFill>
        <p:spPr>
          <a:xfrm>
            <a:off x="79200" y="1123920"/>
            <a:ext cx="9907920" cy="573408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D29F-35A4-4448-8F50-7DBF0C8E5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-181440" y="644508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queue.acm.org/detail.cfm?id=266896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4A0A-E507-4F68-9A74-B5A05EC1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gus AS Paths to Hide Hij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s AS hop(s) at the end of the 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urns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88 3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ade detection for a bogus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y adding the legitimate AS to the 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rd to tell that the AS path is bogus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 if other ASes filter based on prefix ownersh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2935440" y="473544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473544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5"/>
          <p:cNvGraphicFramePr/>
          <p:nvPr/>
        </p:nvGraphicFramePr>
        <p:xfrm>
          <a:off x="1690560" y="5810400"/>
          <a:ext cx="111456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0560" y="5810400"/>
                    <a:ext cx="1114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6"/>
          <p:cNvSpPr/>
          <p:nvPr/>
        </p:nvSpPr>
        <p:spPr>
          <a:xfrm>
            <a:off x="3573000" y="5197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060640" y="600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689200" y="5771880"/>
            <a:ext cx="65232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9"/>
          <p:cNvGraphicFramePr/>
          <p:nvPr/>
        </p:nvGraphicFramePr>
        <p:xfrm>
          <a:off x="6799320" y="5541840"/>
          <a:ext cx="111420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99320" y="5541840"/>
                    <a:ext cx="111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10"/>
          <p:cNvSpPr/>
          <p:nvPr/>
        </p:nvSpPr>
        <p:spPr>
          <a:xfrm>
            <a:off x="7249680" y="5734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6526440" y="6270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0.0.0/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27160" y="5964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0.0.0/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641B-F57D-4DA0-9125-9B18173CF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h-Shortening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move ASes from the AS 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urn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3715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e the AS path look shorter than it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ract sources that normally try to avoid AS 37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lp AS 88 look like it is closer to the Internet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 co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 can tell that this AS path is a li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AS 88 *does* connect to AS 701 direc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92" name="Object 4"/>
          <p:cNvGraphicFramePr/>
          <p:nvPr/>
        </p:nvGraphicFramePr>
        <p:xfrm>
          <a:off x="1422360" y="5118120"/>
          <a:ext cx="19051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5118120"/>
                    <a:ext cx="1905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5"/>
          <p:cNvGraphicFramePr/>
          <p:nvPr/>
        </p:nvGraphicFramePr>
        <p:xfrm>
          <a:off x="6184800" y="5495760"/>
          <a:ext cx="11145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4800" y="5495760"/>
                    <a:ext cx="11145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6"/>
          <p:cNvSpPr/>
          <p:nvPr/>
        </p:nvSpPr>
        <p:spPr>
          <a:xfrm>
            <a:off x="5302080" y="5886360"/>
            <a:ext cx="998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059920" y="5580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554880" y="5688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9"/>
          <p:cNvGraphicFramePr/>
          <p:nvPr/>
        </p:nvGraphicFramePr>
        <p:xfrm>
          <a:off x="4033800" y="5311800"/>
          <a:ext cx="1420920" cy="103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3800" y="5311800"/>
                    <a:ext cx="14209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10"/>
          <p:cNvSpPr/>
          <p:nvPr/>
        </p:nvSpPr>
        <p:spPr>
          <a:xfrm>
            <a:off x="4397760" y="5613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3189240" y="5848200"/>
            <a:ext cx="998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2"/>
          <p:cNvSpPr/>
          <p:nvPr/>
        </p:nvSpPr>
        <p:spPr>
          <a:xfrm>
            <a:off x="2882880" y="6194520"/>
            <a:ext cx="3686040" cy="352440"/>
          </a:xfrm>
          <a:custGeom>
            <a:avLst/>
            <a:gdLst/>
            <a:ahLst/>
            <a:rect l="l" t="t" r="r" b="b"/>
            <a:pathLst>
              <a:path w="2322" h="222">
                <a:moveTo>
                  <a:pt x="0" y="24"/>
                </a:moveTo>
                <a:cubicBezTo>
                  <a:pt x="435" y="123"/>
                  <a:pt x="871" y="222"/>
                  <a:pt x="1258" y="218"/>
                </a:cubicBezTo>
                <a:cubicBezTo>
                  <a:pt x="1645" y="214"/>
                  <a:pt x="1983" y="107"/>
                  <a:pt x="2322" y="0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381640" y="6040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A1F4-F9BB-40DA-8456-BBA23379F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ks that Add a Bogus AS Ho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 ASes to the 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urn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3715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igger loop detection in AS 37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ial-of-service attack on AS 37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blocking unwanted traffic coming from AS 371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e your AS look like is has richer connectiv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 can tell the AS path is a li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3715 could, if it could see the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88 could, but would it really care as long as it received data traffic meant for i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6915240" y="123984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5240" y="123984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5"/>
          <p:cNvGraphicFramePr/>
          <p:nvPr/>
        </p:nvGraphicFramePr>
        <p:xfrm>
          <a:off x="7605720" y="3083040"/>
          <a:ext cx="111456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5720" y="3083040"/>
                    <a:ext cx="1114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6"/>
          <p:cNvSpPr/>
          <p:nvPr/>
        </p:nvSpPr>
        <p:spPr>
          <a:xfrm>
            <a:off x="7951680" y="2546280"/>
            <a:ext cx="231840" cy="61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7476480" y="17762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7975800" y="3274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664D-34D0-4C98-BF1C-F84E7ABB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olating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ent Export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Pe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eers require consistent expor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fix advertised at all peering po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fix advertised with same AS path leng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sons for violating the polic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ick neighbor into 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d potato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iguration mistak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in defen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alyzing BGP upda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 data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signs of inconsistenc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7047000" y="512748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512748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7047000" y="3139920"/>
          <a:ext cx="190476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47000" y="313992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Line 6"/>
          <p:cNvSpPr/>
          <p:nvPr/>
        </p:nvSpPr>
        <p:spPr>
          <a:xfrm>
            <a:off x="7385040" y="4213080"/>
            <a:ext cx="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8034480" y="4444920"/>
            <a:ext cx="0" cy="83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8634240" y="4060800"/>
            <a:ext cx="0" cy="12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H="1" flipV="1">
            <a:off x="7176960" y="3179520"/>
            <a:ext cx="17784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 flipH="1" flipV="1">
            <a:off x="8642160" y="6044760"/>
            <a:ext cx="17748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8421840" y="62276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6468120" y="278280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3"/>
          <p:cNvSpPr/>
          <p:nvPr/>
        </p:nvSpPr>
        <p:spPr>
          <a:xfrm>
            <a:off x="7056360" y="4205160"/>
            <a:ext cx="0" cy="1133640"/>
          </a:xfrm>
          <a:prstGeom prst="line">
            <a:avLst/>
          </a:prstGeom>
          <a:ln w="316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7834320" y="4427640"/>
            <a:ext cx="0" cy="785880"/>
          </a:xfrm>
          <a:prstGeom prst="line">
            <a:avLst/>
          </a:prstGeom>
          <a:ln w="3168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5"/>
          <p:cNvSpPr/>
          <p:nvPr/>
        </p:nvSpPr>
        <p:spPr>
          <a:xfrm>
            <a:off x="8523360" y="4370400"/>
            <a:ext cx="0" cy="785880"/>
          </a:xfrm>
          <a:prstGeom prst="line">
            <a:avLst/>
          </a:prstGeom>
          <a:ln w="3168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7355880" y="351792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7"/>
          <p:cNvSpPr/>
          <p:nvPr/>
        </p:nvSpPr>
        <p:spPr>
          <a:xfrm>
            <a:off x="7238880" y="3557520"/>
            <a:ext cx="1420920" cy="2803680"/>
          </a:xfrm>
          <a:custGeom>
            <a:avLst/>
            <a:gdLst/>
            <a:ahLst/>
            <a:rect l="l" t="t" r="r" b="b"/>
            <a:pathLst>
              <a:path w="895" h="1766">
                <a:moveTo>
                  <a:pt x="895" y="1766"/>
                </a:moveTo>
                <a:cubicBezTo>
                  <a:pt x="852" y="1691"/>
                  <a:pt x="809" y="1617"/>
                  <a:pt x="682" y="1565"/>
                </a:cubicBezTo>
                <a:cubicBezTo>
                  <a:pt x="555" y="1513"/>
                  <a:pt x="245" y="1714"/>
                  <a:pt x="131" y="1453"/>
                </a:cubicBezTo>
                <a:cubicBezTo>
                  <a:pt x="17" y="1192"/>
                  <a:pt x="8" y="596"/>
                  <a:pt x="0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7440120" y="5546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6256080" y="44816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0-18T22:17:03Z</dcterms:modified>
  <cp:revision>3436</cp:revision>
  <dc:subject/>
  <dc:title>Communication</dc:title>
</cp:coreProperties>
</file>