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7C8D9CE-C1C6-4946-BEE3-E4253C2AF8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9F087DC-E12D-4E9A-933A-DA73EDEA84B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the very first thing that comes to mind with multipath TCP, and it’s something that many other people have solved in different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just a warm-up... Design Goal 3 is a much “richer” generalization of this goal, which accommodates different topologies, different RTTs. So there’s no point giving an evaluation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5AAA2E3-8EA6-4F3F-8F3D-E1E07126C5EA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’m thinking of the paths as given. MPTCP has the choice of how to split its traffic over those given pa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296A3B1-622D-4510-8D63-417F30BEF7CC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159B980-679F-4A51-9619-D0E686321062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0F06461-0913-4A50-9C9E-E84B1703D9D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ED01297-6147-4CCF-AC5F-14933DD209E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18DE875-8470-45B8-AA1B-70C92FCEC63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172CCC7-9E37-41B3-8DFF-185D9A35D35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7ADEB59-5385-4CCD-8A73-EA9F093905F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932382C-947F-4D4A-ACBC-61EBB40FE75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7D13014-0EE8-41FE-A5D8-413C4235043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0ADADD0-4A6E-4D5F-903A-DFD80FFD557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B6A41B6-0E17-4AAA-975C-6D11B700651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7A6C20A-7E2E-47E5-81B2-E631B9E57E2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3587-8F7D-42B0-A23D-A6FCFF344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17A2-AFF6-4687-ABF7-BF7EA5886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563A-7E6D-4BD4-96DB-7F96BF699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8DB1-3C09-4E34-B6BB-7B0641664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1B63-CA29-4080-A3B5-B6FD9F6F0D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67F42-F4C0-4147-B682-1C4C798B0E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3EF9D-7CB2-4E94-91E0-60783F9028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404B-558E-4C19-8AA8-349C3000D4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3A2B-C7CA-4542-9C0C-85A2EE582A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2AC3F-BF0D-4665-89A7-83F8AF5613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CE23B-1365-4F6D-B94E-A2AAC15F40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7C41-D061-4BED-A91D-96BC73B91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C5AB9-9122-485E-9C73-2162F1FB5D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C2B69-E79F-42A8-9BFE-F33020D3D0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0721-562C-4E87-844A-9E3695AC96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86A24-3D86-4653-974F-7FB3F822DE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5C6AD-3B85-4B8E-B8E0-B1C55C3A8E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594C-EF95-4B2E-BEC2-A1539EB93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2617-DC92-41A1-BD65-E2AC75F64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8121-3B77-491E-9D23-9CC0960A8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A106-69E1-4F56-A4C6-26775D751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8B6E-2918-42BD-AAD2-0D58DA361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289C-70A0-4AC9-BF1F-07A70E719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97F1-7803-4577-A29B-FAFB441EE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0503-48ED-4FA3-A1E7-17FCCE6A9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4A31-D7C6-4E15-941A-13A418F19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561: Advanced Computer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533520" y="220032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Multipath TCP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airness and Efficiency in Multipath Congestion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s from Damon Wischi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860D-9586-48DB-A6B8-4EE5283C7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 #1: Fairness at Shared Bottlene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219320"/>
            <a:ext cx="8458200" cy="47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o be fair, Multipath TCP should take as much capacity as TCP at a bottleneck link, no matter how many paths it is using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Slide Number Placeholder 15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65F2-A399-4C7A-B5C8-AF33852524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4"/>
          <p:cNvGrpSpPr/>
          <p:nvPr/>
        </p:nvGrpSpPr>
        <p:grpSpPr>
          <a:xfrm>
            <a:off x="2674800" y="2276640"/>
            <a:ext cx="4273560" cy="1511280"/>
            <a:chOff x="2674800" y="2276640"/>
            <a:chExt cx="4273560" cy="1511280"/>
          </a:xfrm>
        </p:grpSpPr>
        <p:sp>
          <p:nvSpPr>
            <p:cNvPr id="144" name="Oval 18"/>
            <p:cNvSpPr/>
            <p:nvPr/>
          </p:nvSpPr>
          <p:spPr>
            <a:xfrm flipV="1" rot="16200000">
              <a:off x="3854520" y="2657880"/>
              <a:ext cx="987480" cy="347400"/>
            </a:xfrm>
            <a:prstGeom prst="ellipse">
              <a:avLst/>
            </a:prstGeom>
            <a:solidFill>
              <a:srgbClr val="b75c00"/>
            </a:solidFill>
            <a:ln w="19080">
              <a:solidFill>
                <a:srgbClr val="ffa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"/>
            <p:cNvSpPr/>
            <p:nvPr/>
          </p:nvSpPr>
          <p:spPr>
            <a:xfrm flipV="1">
              <a:off x="2674800" y="2616840"/>
              <a:ext cx="3999240" cy="506520"/>
            </a:xfrm>
            <a:custGeom>
              <a:avLst/>
              <a:gdLst/>
              <a:ahLst/>
              <a:rect l="l" t="t" r="r" b="b"/>
              <a:pathLst>
                <a:path w="6210342" h="451287">
                  <a:moveTo>
                    <a:pt x="0" y="379348"/>
                  </a:moveTo>
                  <a:cubicBezTo>
                    <a:pt x="61410" y="379680"/>
                    <a:pt x="210417" y="388663"/>
                    <a:pt x="323938" y="333376"/>
                  </a:cubicBezTo>
                  <a:cubicBezTo>
                    <a:pt x="437459" y="278089"/>
                    <a:pt x="466814" y="95250"/>
                    <a:pt x="681128" y="47625"/>
                  </a:cubicBezTo>
                  <a:cubicBezTo>
                    <a:pt x="895442" y="0"/>
                    <a:pt x="1401597" y="13195"/>
                    <a:pt x="1609822" y="47624"/>
                  </a:cubicBezTo>
                  <a:cubicBezTo>
                    <a:pt x="1818047" y="82054"/>
                    <a:pt x="1815751" y="209181"/>
                    <a:pt x="1930479" y="254202"/>
                  </a:cubicBezTo>
                  <a:cubicBezTo>
                    <a:pt x="2045207" y="299223"/>
                    <a:pt x="2132876" y="316090"/>
                    <a:pt x="2298189" y="317752"/>
                  </a:cubicBezTo>
                  <a:lnTo>
                    <a:pt x="5483670" y="326716"/>
                  </a:lnTo>
                  <a:cubicBezTo>
                    <a:pt x="5869146" y="327373"/>
                    <a:pt x="5583901" y="451287"/>
                    <a:pt x="6210342" y="433934"/>
                  </a:cubicBezTo>
                </a:path>
              </a:pathLst>
            </a:custGeom>
            <a:noFill/>
            <a:ln w="10152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2682720" y="2276640"/>
              <a:ext cx="4135680" cy="438120"/>
            </a:xfrm>
            <a:custGeom>
              <a:avLst/>
              <a:gdLst/>
              <a:ahLst/>
              <a:rect l="l" t="t" r="r" b="b"/>
              <a:pathLst>
                <a:path w="6421916" h="389770">
                  <a:moveTo>
                    <a:pt x="0" y="385986"/>
                  </a:moveTo>
                  <a:cubicBezTo>
                    <a:pt x="61410" y="386318"/>
                    <a:pt x="187988" y="389770"/>
                    <a:pt x="297024" y="333376"/>
                  </a:cubicBezTo>
                  <a:cubicBezTo>
                    <a:pt x="406060" y="276983"/>
                    <a:pt x="439900" y="95250"/>
                    <a:pt x="654214" y="47625"/>
                  </a:cubicBezTo>
                  <a:cubicBezTo>
                    <a:pt x="868528" y="0"/>
                    <a:pt x="1387738" y="14566"/>
                    <a:pt x="1582908" y="47624"/>
                  </a:cubicBezTo>
                  <a:cubicBezTo>
                    <a:pt x="1778079" y="80682"/>
                    <a:pt x="1723560" y="202310"/>
                    <a:pt x="1825237" y="245974"/>
                  </a:cubicBezTo>
                  <a:cubicBezTo>
                    <a:pt x="1926914" y="289638"/>
                    <a:pt x="2128232" y="304624"/>
                    <a:pt x="2192971" y="309609"/>
                  </a:cubicBezTo>
                  <a:lnTo>
                    <a:pt x="6421916" y="309609"/>
                  </a:lnTo>
                </a:path>
              </a:pathLst>
            </a:custGeom>
            <a:noFill/>
            <a:ln w="101520">
              <a:solidFill>
                <a:srgbClr val="bfbfb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3031920" y="2981520"/>
              <a:ext cx="3591000" cy="806400"/>
            </a:xfrm>
            <a:custGeom>
              <a:avLst/>
              <a:gdLst/>
              <a:ahLst/>
              <a:rect l="l" t="t" r="r" b="b"/>
              <a:pathLst>
                <a:path w="2062667" h="389771">
                  <a:moveTo>
                    <a:pt x="0" y="385987"/>
                  </a:moveTo>
                  <a:cubicBezTo>
                    <a:pt x="61410" y="386319"/>
                    <a:pt x="187988" y="389771"/>
                    <a:pt x="297024" y="333377"/>
                  </a:cubicBezTo>
                  <a:cubicBezTo>
                    <a:pt x="406060" y="276984"/>
                    <a:pt x="439900" y="95251"/>
                    <a:pt x="654214" y="47626"/>
                  </a:cubicBezTo>
                  <a:cubicBezTo>
                    <a:pt x="868528" y="1"/>
                    <a:pt x="1380500" y="0"/>
                    <a:pt x="1582908" y="47625"/>
                  </a:cubicBezTo>
                  <a:cubicBezTo>
                    <a:pt x="1785316" y="95250"/>
                    <a:pt x="1788700" y="280289"/>
                    <a:pt x="1868660" y="333377"/>
                  </a:cubicBezTo>
                  <a:cubicBezTo>
                    <a:pt x="1948620" y="386465"/>
                    <a:pt x="1997928" y="361171"/>
                    <a:pt x="2062667" y="366156"/>
                  </a:cubicBezTo>
                </a:path>
              </a:pathLst>
            </a:custGeom>
            <a:noFill/>
            <a:ln w="2412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 flipV="1">
              <a:off x="4370040" y="2338560"/>
              <a:ext cx="1662120" cy="984240"/>
            </a:xfrm>
            <a:custGeom>
              <a:avLst/>
              <a:gdLst/>
              <a:ahLst/>
              <a:rect l="l" t="t" r="r" b="b"/>
              <a:pathLst>
                <a:path w="3399613" h="2428893">
                  <a:moveTo>
                    <a:pt x="0" y="0"/>
                  </a:moveTo>
                  <a:lnTo>
                    <a:pt x="3106385" y="10960"/>
                  </a:lnTo>
                  <a:cubicBezTo>
                    <a:pt x="3325724" y="102265"/>
                    <a:pt x="3387317" y="841349"/>
                    <a:pt x="3393465" y="1244338"/>
                  </a:cubicBezTo>
                  <a:cubicBezTo>
                    <a:pt x="3399613" y="1647327"/>
                    <a:pt x="3360333" y="2202172"/>
                    <a:pt x="3143271" y="2428893"/>
                  </a:cubicBezTo>
                  <a:lnTo>
                    <a:pt x="1678" y="2424551"/>
                  </a:lnTo>
                  <a:cubicBezTo>
                    <a:pt x="214572" y="2273571"/>
                    <a:pt x="233519" y="1692739"/>
                    <a:pt x="246210" y="1246345"/>
                  </a:cubicBezTo>
                  <a:cubicBezTo>
                    <a:pt x="209662" y="797020"/>
                    <a:pt x="223526" y="151620"/>
                    <a:pt x="0" y="0"/>
                  </a:cubicBezTo>
                  <a:close/>
                </a:path>
              </a:pathLst>
            </a:custGeom>
            <a:solidFill>
              <a:srgbClr val="ffca95">
                <a:alpha val="59000"/>
              </a:srgbClr>
            </a:solidFill>
            <a:ln w="25560">
              <a:solidFill>
                <a:srgbClr val="ffa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10"/>
            <p:cNvSpPr/>
            <p:nvPr/>
          </p:nvSpPr>
          <p:spPr>
            <a:xfrm>
              <a:off x="6622920" y="3738960"/>
              <a:ext cx="325440" cy="4680"/>
            </a:xfrm>
            <a:prstGeom prst="line">
              <a:avLst/>
            </a:prstGeom>
            <a:ln w="101520">
              <a:solidFill>
                <a:srgbClr val="bfbf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11"/>
          <p:cNvSpPr/>
          <p:nvPr/>
        </p:nvSpPr>
        <p:spPr>
          <a:xfrm>
            <a:off x="577800" y="2217600"/>
            <a:ext cx="2049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ultipath TCP flow with two subfl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846000" y="3544920"/>
            <a:ext cx="17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Regular T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 #2: Use Efficient Pat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3816000"/>
            <a:ext cx="84582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ach flow has a choice of a 1-hop and a 2-hop path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ow should split its traffic?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Slide Number Placeholder 21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A096-2C0B-4CA1-82D6-C927BED815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8"/>
          <p:cNvSpPr/>
          <p:nvPr/>
        </p:nvSpPr>
        <p:spPr>
          <a:xfrm flipV="1" rot="16200000">
            <a:off x="5289480" y="3319560"/>
            <a:ext cx="48600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8"/>
          <p:cNvSpPr/>
          <p:nvPr/>
        </p:nvSpPr>
        <p:spPr>
          <a:xfrm flipV="1" rot="16200000">
            <a:off x="2127240" y="255672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8"/>
          <p:cNvSpPr/>
          <p:nvPr/>
        </p:nvSpPr>
        <p:spPr>
          <a:xfrm flipV="1" rot="16200000">
            <a:off x="3727440" y="293760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6"/>
          <p:cNvGrpSpPr/>
          <p:nvPr/>
        </p:nvGrpSpPr>
        <p:grpSpPr>
          <a:xfrm>
            <a:off x="1525680" y="2762280"/>
            <a:ext cx="5851440" cy="785880"/>
            <a:chOff x="1525680" y="2762280"/>
            <a:chExt cx="5851440" cy="785880"/>
          </a:xfrm>
        </p:grpSpPr>
        <p:sp>
          <p:nvSpPr>
            <p:cNvPr id="159" name="Line 1066"/>
            <p:cNvSpPr/>
            <p:nvPr/>
          </p:nvSpPr>
          <p:spPr>
            <a:xfrm>
              <a:off x="1547640" y="3538800"/>
              <a:ext cx="5829480" cy="0"/>
            </a:xfrm>
            <a:prstGeom prst="line">
              <a:avLst/>
            </a:prstGeom>
            <a:ln w="76320">
              <a:solidFill>
                <a:srgbClr val="bfbf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1525680" y="2762280"/>
              <a:ext cx="5776920" cy="785880"/>
            </a:xfrm>
            <a:custGeom>
              <a:avLst/>
              <a:gdLst/>
              <a:ahLst/>
              <a:rect l="l" t="t" r="r" b="b"/>
              <a:pathLst>
                <a:path w="5778111" h="786106">
                  <a:moveTo>
                    <a:pt x="0" y="774886"/>
                  </a:moveTo>
                  <a:lnTo>
                    <a:pt x="205542" y="769713"/>
                  </a:lnTo>
                  <a:cubicBezTo>
                    <a:pt x="268155" y="745170"/>
                    <a:pt x="305216" y="729613"/>
                    <a:pt x="375676" y="627629"/>
                  </a:cubicBezTo>
                  <a:cubicBezTo>
                    <a:pt x="446136" y="525645"/>
                    <a:pt x="543295" y="261612"/>
                    <a:pt x="628300" y="157807"/>
                  </a:cubicBezTo>
                  <a:cubicBezTo>
                    <a:pt x="713305" y="54002"/>
                    <a:pt x="673468" y="29110"/>
                    <a:pt x="885706" y="4801"/>
                  </a:cubicBezTo>
                  <a:lnTo>
                    <a:pt x="1918557" y="6342"/>
                  </a:lnTo>
                  <a:cubicBezTo>
                    <a:pt x="1975838" y="11133"/>
                    <a:pt x="2039024" y="0"/>
                    <a:pt x="2109842" y="53949"/>
                  </a:cubicBezTo>
                  <a:cubicBezTo>
                    <a:pt x="2172990" y="88074"/>
                    <a:pt x="2241963" y="83353"/>
                    <a:pt x="2294415" y="84879"/>
                  </a:cubicBezTo>
                  <a:lnTo>
                    <a:pt x="4689806" y="90489"/>
                  </a:lnTo>
                  <a:cubicBezTo>
                    <a:pt x="4890329" y="89054"/>
                    <a:pt x="5053242" y="160042"/>
                    <a:pt x="5164658" y="281403"/>
                  </a:cubicBezTo>
                  <a:cubicBezTo>
                    <a:pt x="5276074" y="402764"/>
                    <a:pt x="5391358" y="632812"/>
                    <a:pt x="5451917" y="690662"/>
                  </a:cubicBezTo>
                  <a:cubicBezTo>
                    <a:pt x="5512476" y="748512"/>
                    <a:pt x="5559819" y="785428"/>
                    <a:pt x="5653474" y="781649"/>
                  </a:cubicBezTo>
                  <a:lnTo>
                    <a:pt x="5778111" y="786106"/>
                  </a:lnTo>
                </a:path>
              </a:pathLst>
            </a:custGeom>
            <a:noFill/>
            <a:ln w="7632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5"/>
          <p:cNvGrpSpPr/>
          <p:nvPr/>
        </p:nvGrpSpPr>
        <p:grpSpPr>
          <a:xfrm>
            <a:off x="1549440" y="2503440"/>
            <a:ext cx="5867280" cy="934920"/>
            <a:chOff x="1549440" y="2503440"/>
            <a:chExt cx="5867280" cy="934920"/>
          </a:xfrm>
        </p:grpSpPr>
        <p:sp>
          <p:nvSpPr>
            <p:cNvPr id="162" name="Line 1064"/>
            <p:cNvSpPr/>
            <p:nvPr/>
          </p:nvSpPr>
          <p:spPr>
            <a:xfrm>
              <a:off x="1549440" y="2504880"/>
              <a:ext cx="5867280" cy="0"/>
            </a:xfrm>
            <a:prstGeom prst="line">
              <a:avLst/>
            </a:prstGeom>
            <a:ln w="76320">
              <a:solidFill>
                <a:srgbClr val="a6a6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1641240" y="2503440"/>
              <a:ext cx="5684760" cy="934920"/>
            </a:xfrm>
            <a:custGeom>
              <a:avLst/>
              <a:gdLst/>
              <a:ahLst/>
              <a:rect l="l" t="t" r="r" b="b"/>
              <a:pathLst>
                <a:path w="5684293" h="934872">
                  <a:moveTo>
                    <a:pt x="0" y="6824"/>
                  </a:moveTo>
                  <a:lnTo>
                    <a:pt x="225188" y="13648"/>
                  </a:lnTo>
                  <a:cubicBezTo>
                    <a:pt x="296839" y="38669"/>
                    <a:pt x="355980" y="68240"/>
                    <a:pt x="429905" y="156950"/>
                  </a:cubicBezTo>
                  <a:cubicBezTo>
                    <a:pt x="503830" y="245660"/>
                    <a:pt x="592541" y="462887"/>
                    <a:pt x="668741" y="545911"/>
                  </a:cubicBezTo>
                  <a:cubicBezTo>
                    <a:pt x="744941" y="628935"/>
                    <a:pt x="798126" y="649407"/>
                    <a:pt x="887105" y="655093"/>
                  </a:cubicBezTo>
                  <a:lnTo>
                    <a:pt x="3330054" y="682388"/>
                  </a:lnTo>
                  <a:cubicBezTo>
                    <a:pt x="3461982" y="678619"/>
                    <a:pt x="3483884" y="697596"/>
                    <a:pt x="3536200" y="726029"/>
                  </a:cubicBezTo>
                  <a:cubicBezTo>
                    <a:pt x="3588516" y="754462"/>
                    <a:pt x="3593012" y="820453"/>
                    <a:pt x="3643953" y="852985"/>
                  </a:cubicBezTo>
                  <a:cubicBezTo>
                    <a:pt x="3694894" y="885517"/>
                    <a:pt x="3685611" y="916383"/>
                    <a:pt x="3841845" y="921224"/>
                  </a:cubicBezTo>
                  <a:lnTo>
                    <a:pt x="4960962" y="934871"/>
                  </a:lnTo>
                  <a:cubicBezTo>
                    <a:pt x="5147518" y="917520"/>
                    <a:pt x="5157717" y="934872"/>
                    <a:pt x="5227093" y="805218"/>
                  </a:cubicBezTo>
                  <a:cubicBezTo>
                    <a:pt x="5296469" y="675565"/>
                    <a:pt x="5326039" y="291153"/>
                    <a:pt x="5377218" y="156950"/>
                  </a:cubicBezTo>
                  <a:cubicBezTo>
                    <a:pt x="5428397" y="22747"/>
                    <a:pt x="5482989" y="25021"/>
                    <a:pt x="5534168" y="0"/>
                  </a:cubicBezTo>
                  <a:lnTo>
                    <a:pt x="5684293" y="6824"/>
                  </a:lnTo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4"/>
          <p:cNvGrpSpPr/>
          <p:nvPr/>
        </p:nvGrpSpPr>
        <p:grpSpPr>
          <a:xfrm>
            <a:off x="1547640" y="2646360"/>
            <a:ext cx="5869080" cy="603360"/>
            <a:chOff x="1547640" y="2646360"/>
            <a:chExt cx="5869080" cy="603360"/>
          </a:xfrm>
        </p:grpSpPr>
        <p:sp>
          <p:nvSpPr>
            <p:cNvPr id="165" name="Line 1065"/>
            <p:cNvSpPr/>
            <p:nvPr/>
          </p:nvSpPr>
          <p:spPr>
            <a:xfrm>
              <a:off x="1547640" y="3033720"/>
              <a:ext cx="5869080" cy="0"/>
            </a:xfrm>
            <a:prstGeom prst="line">
              <a:avLst/>
            </a:prstGeom>
            <a:ln w="76320">
              <a:solidFill>
                <a:srgbClr val="000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1571400" y="2646360"/>
              <a:ext cx="5483520" cy="603360"/>
            </a:xfrm>
            <a:custGeom>
              <a:avLst/>
              <a:gdLst/>
              <a:ahLst/>
              <a:rect l="l" t="t" r="r" b="b"/>
              <a:pathLst>
                <a:path w="5482523" h="604715">
                  <a:moveTo>
                    <a:pt x="0" y="395319"/>
                  </a:moveTo>
                  <a:lnTo>
                    <a:pt x="238597" y="386469"/>
                  </a:lnTo>
                  <a:cubicBezTo>
                    <a:pt x="288951" y="371895"/>
                    <a:pt x="293647" y="374139"/>
                    <a:pt x="349695" y="318447"/>
                  </a:cubicBezTo>
                  <a:cubicBezTo>
                    <a:pt x="405743" y="262755"/>
                    <a:pt x="494135" y="104632"/>
                    <a:pt x="574884" y="52316"/>
                  </a:cubicBezTo>
                  <a:cubicBezTo>
                    <a:pt x="655633" y="0"/>
                    <a:pt x="695632" y="5020"/>
                    <a:pt x="834191" y="4549"/>
                  </a:cubicBezTo>
                  <a:lnTo>
                    <a:pt x="3213631" y="8250"/>
                  </a:lnTo>
                  <a:cubicBezTo>
                    <a:pt x="3389844" y="7649"/>
                    <a:pt x="3504405" y="65917"/>
                    <a:pt x="3584215" y="147850"/>
                  </a:cubicBezTo>
                  <a:cubicBezTo>
                    <a:pt x="3664025" y="229783"/>
                    <a:pt x="3661438" y="417496"/>
                    <a:pt x="3692495" y="499850"/>
                  </a:cubicBezTo>
                  <a:cubicBezTo>
                    <a:pt x="3723552" y="582204"/>
                    <a:pt x="3779025" y="598912"/>
                    <a:pt x="3877642" y="598226"/>
                  </a:cubicBezTo>
                  <a:lnTo>
                    <a:pt x="5024054" y="598226"/>
                  </a:lnTo>
                  <a:cubicBezTo>
                    <a:pt x="5114832" y="604715"/>
                    <a:pt x="5144272" y="563147"/>
                    <a:pt x="5180096" y="512922"/>
                  </a:cubicBezTo>
                  <a:cubicBezTo>
                    <a:pt x="5215920" y="462697"/>
                    <a:pt x="5252873" y="407174"/>
                    <a:pt x="5297595" y="403864"/>
                  </a:cubicBezTo>
                  <a:cubicBezTo>
                    <a:pt x="5342317" y="400554"/>
                    <a:pt x="5420880" y="400340"/>
                    <a:pt x="5482523" y="398578"/>
                  </a:cubicBezTo>
                </a:path>
              </a:pathLst>
            </a:custGeom>
            <a:noFill/>
            <a:ln w="76320">
              <a:solidFill>
                <a:srgbClr val="000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Freeform 16"/>
          <p:cNvSpPr/>
          <p:nvPr/>
        </p:nvSpPr>
        <p:spPr>
          <a:xfrm flipV="1">
            <a:off x="2387520" y="2400480"/>
            <a:ext cx="1096920" cy="483840"/>
          </a:xfrm>
          <a:custGeom>
            <a:avLst/>
            <a:gdLst>
              <a:gd name="textAreaLeft" fmla="*/ 0 w 1096920"/>
              <a:gd name="textAreaRight" fmla="*/ 1097280 w 109692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6"/>
          <p:cNvSpPr/>
          <p:nvPr/>
        </p:nvSpPr>
        <p:spPr>
          <a:xfrm flipV="1">
            <a:off x="3995640" y="2780640"/>
            <a:ext cx="1096920" cy="484200"/>
          </a:xfrm>
          <a:custGeom>
            <a:avLst/>
            <a:gdLst>
              <a:gd name="textAreaLeft" fmla="*/ 0 w 1096920"/>
              <a:gd name="textAreaRight" fmla="*/ 1097280 w 109692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6"/>
          <p:cNvSpPr/>
          <p:nvPr/>
        </p:nvSpPr>
        <p:spPr>
          <a:xfrm flipV="1">
            <a:off x="5557680" y="3161520"/>
            <a:ext cx="1097280" cy="484200"/>
          </a:xfrm>
          <a:custGeom>
            <a:avLst/>
            <a:gdLst>
              <a:gd name="textAreaLeft" fmla="*/ 0 w 1097280"/>
              <a:gd name="textAreaRight" fmla="*/ 1097640 w 109728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2"/>
          <p:cNvSpPr/>
          <p:nvPr/>
        </p:nvSpPr>
        <p:spPr>
          <a:xfrm>
            <a:off x="2306520" y="193212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3"/>
          <p:cNvSpPr/>
          <p:nvPr/>
        </p:nvSpPr>
        <p:spPr>
          <a:xfrm>
            <a:off x="3957480" y="31449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4"/>
          <p:cNvSpPr/>
          <p:nvPr/>
        </p:nvSpPr>
        <p:spPr>
          <a:xfrm>
            <a:off x="5454720" y="357336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fficient Pat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25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F10A-B8D4-4987-B6DF-EFE48AE65B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85960" y="2199960"/>
            <a:ext cx="777528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f each flow split its traffic 1:1 ..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" name="Oval 18"/>
          <p:cNvSpPr/>
          <p:nvPr/>
        </p:nvSpPr>
        <p:spPr>
          <a:xfrm flipV="1" rot="16200000">
            <a:off x="5289480" y="3319560"/>
            <a:ext cx="48600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8"/>
          <p:cNvSpPr/>
          <p:nvPr/>
        </p:nvSpPr>
        <p:spPr>
          <a:xfrm flipV="1" rot="16200000">
            <a:off x="2127240" y="255672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8"/>
          <p:cNvSpPr/>
          <p:nvPr/>
        </p:nvSpPr>
        <p:spPr>
          <a:xfrm flipV="1" rot="16200000">
            <a:off x="3727440" y="293760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6"/>
          <p:cNvGrpSpPr/>
          <p:nvPr/>
        </p:nvGrpSpPr>
        <p:grpSpPr>
          <a:xfrm>
            <a:off x="1525680" y="2762280"/>
            <a:ext cx="5851440" cy="785880"/>
            <a:chOff x="1525680" y="2762280"/>
            <a:chExt cx="5851440" cy="785880"/>
          </a:xfrm>
        </p:grpSpPr>
        <p:sp>
          <p:nvSpPr>
            <p:cNvPr id="180" name="Line 1066"/>
            <p:cNvSpPr/>
            <p:nvPr/>
          </p:nvSpPr>
          <p:spPr>
            <a:xfrm>
              <a:off x="1547640" y="3538800"/>
              <a:ext cx="5829480" cy="0"/>
            </a:xfrm>
            <a:prstGeom prst="line">
              <a:avLst/>
            </a:prstGeom>
            <a:ln w="76320">
              <a:solidFill>
                <a:srgbClr val="bfbf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9"/>
            <p:cNvSpPr/>
            <p:nvPr/>
          </p:nvSpPr>
          <p:spPr>
            <a:xfrm>
              <a:off x="1525680" y="2762280"/>
              <a:ext cx="5776920" cy="785880"/>
            </a:xfrm>
            <a:custGeom>
              <a:avLst/>
              <a:gdLst/>
              <a:ahLst/>
              <a:rect l="l" t="t" r="r" b="b"/>
              <a:pathLst>
                <a:path w="5778111" h="786106">
                  <a:moveTo>
                    <a:pt x="0" y="774886"/>
                  </a:moveTo>
                  <a:lnTo>
                    <a:pt x="205542" y="769713"/>
                  </a:lnTo>
                  <a:cubicBezTo>
                    <a:pt x="268155" y="745170"/>
                    <a:pt x="305216" y="729613"/>
                    <a:pt x="375676" y="627629"/>
                  </a:cubicBezTo>
                  <a:cubicBezTo>
                    <a:pt x="446136" y="525645"/>
                    <a:pt x="543295" y="261612"/>
                    <a:pt x="628300" y="157807"/>
                  </a:cubicBezTo>
                  <a:cubicBezTo>
                    <a:pt x="713305" y="54002"/>
                    <a:pt x="673468" y="29110"/>
                    <a:pt x="885706" y="4801"/>
                  </a:cubicBezTo>
                  <a:lnTo>
                    <a:pt x="1918557" y="6342"/>
                  </a:lnTo>
                  <a:cubicBezTo>
                    <a:pt x="1975838" y="11133"/>
                    <a:pt x="2039024" y="0"/>
                    <a:pt x="2109842" y="53949"/>
                  </a:cubicBezTo>
                  <a:cubicBezTo>
                    <a:pt x="2172990" y="88074"/>
                    <a:pt x="2241963" y="83353"/>
                    <a:pt x="2294415" y="84879"/>
                  </a:cubicBezTo>
                  <a:lnTo>
                    <a:pt x="4689806" y="90489"/>
                  </a:lnTo>
                  <a:cubicBezTo>
                    <a:pt x="4890329" y="89054"/>
                    <a:pt x="5053242" y="160042"/>
                    <a:pt x="5164658" y="281403"/>
                  </a:cubicBezTo>
                  <a:cubicBezTo>
                    <a:pt x="5276074" y="402764"/>
                    <a:pt x="5391358" y="632812"/>
                    <a:pt x="5451917" y="690662"/>
                  </a:cubicBezTo>
                  <a:cubicBezTo>
                    <a:pt x="5512476" y="748512"/>
                    <a:pt x="5559819" y="785428"/>
                    <a:pt x="5653474" y="781649"/>
                  </a:cubicBezTo>
                  <a:lnTo>
                    <a:pt x="5778111" y="786106"/>
                  </a:lnTo>
                </a:path>
              </a:pathLst>
            </a:custGeom>
            <a:noFill/>
            <a:ln w="7632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5"/>
          <p:cNvGrpSpPr/>
          <p:nvPr/>
        </p:nvGrpSpPr>
        <p:grpSpPr>
          <a:xfrm>
            <a:off x="1549440" y="2503440"/>
            <a:ext cx="5867280" cy="934920"/>
            <a:chOff x="1549440" y="2503440"/>
            <a:chExt cx="5867280" cy="934920"/>
          </a:xfrm>
        </p:grpSpPr>
        <p:sp>
          <p:nvSpPr>
            <p:cNvPr id="183" name="Line 1064"/>
            <p:cNvSpPr/>
            <p:nvPr/>
          </p:nvSpPr>
          <p:spPr>
            <a:xfrm>
              <a:off x="1549440" y="2504880"/>
              <a:ext cx="5867280" cy="0"/>
            </a:xfrm>
            <a:prstGeom prst="line">
              <a:avLst/>
            </a:prstGeom>
            <a:ln w="76320">
              <a:solidFill>
                <a:srgbClr val="a6a6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1641240" y="2503440"/>
              <a:ext cx="5684760" cy="934920"/>
            </a:xfrm>
            <a:custGeom>
              <a:avLst/>
              <a:gdLst/>
              <a:ahLst/>
              <a:rect l="l" t="t" r="r" b="b"/>
              <a:pathLst>
                <a:path w="5684293" h="934872">
                  <a:moveTo>
                    <a:pt x="0" y="6824"/>
                  </a:moveTo>
                  <a:lnTo>
                    <a:pt x="225188" y="13648"/>
                  </a:lnTo>
                  <a:cubicBezTo>
                    <a:pt x="296839" y="38669"/>
                    <a:pt x="355980" y="68240"/>
                    <a:pt x="429905" y="156950"/>
                  </a:cubicBezTo>
                  <a:cubicBezTo>
                    <a:pt x="503830" y="245660"/>
                    <a:pt x="592541" y="462887"/>
                    <a:pt x="668741" y="545911"/>
                  </a:cubicBezTo>
                  <a:cubicBezTo>
                    <a:pt x="744941" y="628935"/>
                    <a:pt x="798126" y="649407"/>
                    <a:pt x="887105" y="655093"/>
                  </a:cubicBezTo>
                  <a:lnTo>
                    <a:pt x="3330054" y="682388"/>
                  </a:lnTo>
                  <a:cubicBezTo>
                    <a:pt x="3461982" y="678619"/>
                    <a:pt x="3483884" y="697596"/>
                    <a:pt x="3536200" y="726029"/>
                  </a:cubicBezTo>
                  <a:cubicBezTo>
                    <a:pt x="3588516" y="754462"/>
                    <a:pt x="3593012" y="820453"/>
                    <a:pt x="3643953" y="852985"/>
                  </a:cubicBezTo>
                  <a:cubicBezTo>
                    <a:pt x="3694894" y="885517"/>
                    <a:pt x="3685611" y="916383"/>
                    <a:pt x="3841845" y="921224"/>
                  </a:cubicBezTo>
                  <a:lnTo>
                    <a:pt x="4960962" y="934871"/>
                  </a:lnTo>
                  <a:cubicBezTo>
                    <a:pt x="5147518" y="917520"/>
                    <a:pt x="5157717" y="934872"/>
                    <a:pt x="5227093" y="805218"/>
                  </a:cubicBezTo>
                  <a:cubicBezTo>
                    <a:pt x="5296469" y="675565"/>
                    <a:pt x="5326039" y="291153"/>
                    <a:pt x="5377218" y="156950"/>
                  </a:cubicBezTo>
                  <a:cubicBezTo>
                    <a:pt x="5428397" y="22747"/>
                    <a:pt x="5482989" y="25021"/>
                    <a:pt x="5534168" y="0"/>
                  </a:cubicBezTo>
                  <a:lnTo>
                    <a:pt x="5684293" y="6824"/>
                  </a:lnTo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4"/>
          <p:cNvGrpSpPr/>
          <p:nvPr/>
        </p:nvGrpSpPr>
        <p:grpSpPr>
          <a:xfrm>
            <a:off x="1547640" y="2646360"/>
            <a:ext cx="5869080" cy="603360"/>
            <a:chOff x="1547640" y="2646360"/>
            <a:chExt cx="5869080" cy="603360"/>
          </a:xfrm>
        </p:grpSpPr>
        <p:sp>
          <p:nvSpPr>
            <p:cNvPr id="186" name="Line 1065"/>
            <p:cNvSpPr/>
            <p:nvPr/>
          </p:nvSpPr>
          <p:spPr>
            <a:xfrm>
              <a:off x="1547640" y="3033720"/>
              <a:ext cx="5869080" cy="0"/>
            </a:xfrm>
            <a:prstGeom prst="line">
              <a:avLst/>
            </a:prstGeom>
            <a:ln w="76320">
              <a:solidFill>
                <a:srgbClr val="000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1571400" y="2646360"/>
              <a:ext cx="5483520" cy="603360"/>
            </a:xfrm>
            <a:custGeom>
              <a:avLst/>
              <a:gdLst/>
              <a:ahLst/>
              <a:rect l="l" t="t" r="r" b="b"/>
              <a:pathLst>
                <a:path w="5482523" h="604715">
                  <a:moveTo>
                    <a:pt x="0" y="395319"/>
                  </a:moveTo>
                  <a:lnTo>
                    <a:pt x="238597" y="386469"/>
                  </a:lnTo>
                  <a:cubicBezTo>
                    <a:pt x="288951" y="371895"/>
                    <a:pt x="293647" y="374139"/>
                    <a:pt x="349695" y="318447"/>
                  </a:cubicBezTo>
                  <a:cubicBezTo>
                    <a:pt x="405743" y="262755"/>
                    <a:pt x="494135" y="104632"/>
                    <a:pt x="574884" y="52316"/>
                  </a:cubicBezTo>
                  <a:cubicBezTo>
                    <a:pt x="655633" y="0"/>
                    <a:pt x="695632" y="5020"/>
                    <a:pt x="834191" y="4549"/>
                  </a:cubicBezTo>
                  <a:lnTo>
                    <a:pt x="3213631" y="8250"/>
                  </a:lnTo>
                  <a:cubicBezTo>
                    <a:pt x="3389844" y="7649"/>
                    <a:pt x="3504405" y="65917"/>
                    <a:pt x="3584215" y="147850"/>
                  </a:cubicBezTo>
                  <a:cubicBezTo>
                    <a:pt x="3664025" y="229783"/>
                    <a:pt x="3661438" y="417496"/>
                    <a:pt x="3692495" y="499850"/>
                  </a:cubicBezTo>
                  <a:cubicBezTo>
                    <a:pt x="3723552" y="582204"/>
                    <a:pt x="3779025" y="598912"/>
                    <a:pt x="3877642" y="598226"/>
                  </a:cubicBezTo>
                  <a:lnTo>
                    <a:pt x="5024054" y="598226"/>
                  </a:lnTo>
                  <a:cubicBezTo>
                    <a:pt x="5114832" y="604715"/>
                    <a:pt x="5144272" y="563147"/>
                    <a:pt x="5180096" y="512922"/>
                  </a:cubicBezTo>
                  <a:cubicBezTo>
                    <a:pt x="5215920" y="462697"/>
                    <a:pt x="5252873" y="407174"/>
                    <a:pt x="5297595" y="403864"/>
                  </a:cubicBezTo>
                  <a:cubicBezTo>
                    <a:pt x="5342317" y="400554"/>
                    <a:pt x="5420880" y="400340"/>
                    <a:pt x="5482523" y="398578"/>
                  </a:cubicBezTo>
                </a:path>
              </a:pathLst>
            </a:custGeom>
            <a:noFill/>
            <a:ln w="76320">
              <a:solidFill>
                <a:srgbClr val="000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Freeform 16"/>
          <p:cNvSpPr/>
          <p:nvPr/>
        </p:nvSpPr>
        <p:spPr>
          <a:xfrm flipV="1">
            <a:off x="2387520" y="2400480"/>
            <a:ext cx="1096920" cy="483840"/>
          </a:xfrm>
          <a:custGeom>
            <a:avLst/>
            <a:gdLst>
              <a:gd name="textAreaLeft" fmla="*/ 0 w 1096920"/>
              <a:gd name="textAreaRight" fmla="*/ 1097280 w 109692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6"/>
          <p:cNvSpPr/>
          <p:nvPr/>
        </p:nvSpPr>
        <p:spPr>
          <a:xfrm flipV="1">
            <a:off x="3995640" y="2780640"/>
            <a:ext cx="1096920" cy="484200"/>
          </a:xfrm>
          <a:custGeom>
            <a:avLst/>
            <a:gdLst>
              <a:gd name="textAreaLeft" fmla="*/ 0 w 1096920"/>
              <a:gd name="textAreaRight" fmla="*/ 1097280 w 109692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6"/>
          <p:cNvSpPr/>
          <p:nvPr/>
        </p:nvSpPr>
        <p:spPr>
          <a:xfrm flipV="1">
            <a:off x="5557680" y="3161520"/>
            <a:ext cx="1097280" cy="484200"/>
          </a:xfrm>
          <a:custGeom>
            <a:avLst/>
            <a:gdLst>
              <a:gd name="textAreaLeft" fmla="*/ 0 w 1097280"/>
              <a:gd name="textAreaRight" fmla="*/ 1097640 w 109728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9"/>
          <p:cNvSpPr/>
          <p:nvPr/>
        </p:nvSpPr>
        <p:spPr>
          <a:xfrm>
            <a:off x="7313760" y="231768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8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0"/>
          <p:cNvSpPr/>
          <p:nvPr/>
        </p:nvSpPr>
        <p:spPr>
          <a:xfrm>
            <a:off x="7391520" y="2852640"/>
            <a:ext cx="90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8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1"/>
          <p:cNvSpPr/>
          <p:nvPr/>
        </p:nvSpPr>
        <p:spPr>
          <a:xfrm>
            <a:off x="7391520" y="33559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8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2"/>
          <p:cNvSpPr/>
          <p:nvPr/>
        </p:nvSpPr>
        <p:spPr>
          <a:xfrm>
            <a:off x="2228760" y="2060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3"/>
          <p:cNvSpPr/>
          <p:nvPr/>
        </p:nvSpPr>
        <p:spPr>
          <a:xfrm>
            <a:off x="3989520" y="3160800"/>
            <a:ext cx="104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4"/>
          <p:cNvSpPr/>
          <p:nvPr/>
        </p:nvSpPr>
        <p:spPr>
          <a:xfrm>
            <a:off x="5683320" y="3573360"/>
            <a:ext cx="97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fficient Pat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5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CF95-2CB5-4AD3-AFC9-FCBDCFB3C0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45640" y="1431720"/>
            <a:ext cx="777564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f each flow split its traffic 2:1 ..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Oval 18"/>
          <p:cNvSpPr/>
          <p:nvPr/>
        </p:nvSpPr>
        <p:spPr>
          <a:xfrm flipV="1" rot="16200000">
            <a:off x="5289480" y="3319560"/>
            <a:ext cx="48600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 flipV="1" rot="16200000">
            <a:off x="2127240" y="255672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8"/>
          <p:cNvSpPr/>
          <p:nvPr/>
        </p:nvSpPr>
        <p:spPr>
          <a:xfrm flipV="1" rot="16200000">
            <a:off x="3727440" y="293760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36"/>
          <p:cNvGrpSpPr/>
          <p:nvPr/>
        </p:nvGrpSpPr>
        <p:grpSpPr>
          <a:xfrm>
            <a:off x="1525680" y="2762280"/>
            <a:ext cx="5851440" cy="785880"/>
            <a:chOff x="1525680" y="2762280"/>
            <a:chExt cx="5851440" cy="785880"/>
          </a:xfrm>
        </p:grpSpPr>
        <p:sp>
          <p:nvSpPr>
            <p:cNvPr id="204" name="Line 1066"/>
            <p:cNvSpPr/>
            <p:nvPr/>
          </p:nvSpPr>
          <p:spPr>
            <a:xfrm>
              <a:off x="1547640" y="3538800"/>
              <a:ext cx="5829480" cy="0"/>
            </a:xfrm>
            <a:prstGeom prst="line">
              <a:avLst/>
            </a:prstGeom>
            <a:ln w="114480">
              <a:solidFill>
                <a:srgbClr val="bfbf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"/>
            <p:cNvSpPr/>
            <p:nvPr/>
          </p:nvSpPr>
          <p:spPr>
            <a:xfrm>
              <a:off x="1525680" y="2762280"/>
              <a:ext cx="5776920" cy="785880"/>
            </a:xfrm>
            <a:custGeom>
              <a:avLst/>
              <a:gdLst/>
              <a:ahLst/>
              <a:rect l="l" t="t" r="r" b="b"/>
              <a:pathLst>
                <a:path w="5778111" h="786106">
                  <a:moveTo>
                    <a:pt x="0" y="774886"/>
                  </a:moveTo>
                  <a:lnTo>
                    <a:pt x="205542" y="769713"/>
                  </a:lnTo>
                  <a:cubicBezTo>
                    <a:pt x="268155" y="745170"/>
                    <a:pt x="305216" y="729613"/>
                    <a:pt x="375676" y="627629"/>
                  </a:cubicBezTo>
                  <a:cubicBezTo>
                    <a:pt x="446136" y="525645"/>
                    <a:pt x="543295" y="261612"/>
                    <a:pt x="628300" y="157807"/>
                  </a:cubicBezTo>
                  <a:cubicBezTo>
                    <a:pt x="713305" y="54002"/>
                    <a:pt x="673468" y="29110"/>
                    <a:pt x="885706" y="4801"/>
                  </a:cubicBezTo>
                  <a:lnTo>
                    <a:pt x="1918557" y="6342"/>
                  </a:lnTo>
                  <a:cubicBezTo>
                    <a:pt x="1975838" y="11133"/>
                    <a:pt x="2039024" y="0"/>
                    <a:pt x="2109842" y="53949"/>
                  </a:cubicBezTo>
                  <a:cubicBezTo>
                    <a:pt x="2172990" y="88074"/>
                    <a:pt x="2241963" y="83353"/>
                    <a:pt x="2294415" y="84879"/>
                  </a:cubicBezTo>
                  <a:lnTo>
                    <a:pt x="4689806" y="90489"/>
                  </a:lnTo>
                  <a:cubicBezTo>
                    <a:pt x="4890329" y="89054"/>
                    <a:pt x="5053242" y="160042"/>
                    <a:pt x="5164658" y="281403"/>
                  </a:cubicBezTo>
                  <a:cubicBezTo>
                    <a:pt x="5276074" y="402764"/>
                    <a:pt x="5391358" y="632812"/>
                    <a:pt x="5451917" y="690662"/>
                  </a:cubicBezTo>
                  <a:cubicBezTo>
                    <a:pt x="5512476" y="748512"/>
                    <a:pt x="5559819" y="785428"/>
                    <a:pt x="5653474" y="781649"/>
                  </a:cubicBezTo>
                  <a:lnTo>
                    <a:pt x="5778111" y="786106"/>
                  </a:lnTo>
                </a:path>
              </a:pathLst>
            </a:custGeom>
            <a:noFill/>
            <a:ln w="57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35"/>
          <p:cNvGrpSpPr/>
          <p:nvPr/>
        </p:nvGrpSpPr>
        <p:grpSpPr>
          <a:xfrm>
            <a:off x="1549440" y="2503440"/>
            <a:ext cx="5867280" cy="934920"/>
            <a:chOff x="1549440" y="2503440"/>
            <a:chExt cx="5867280" cy="934920"/>
          </a:xfrm>
        </p:grpSpPr>
        <p:sp>
          <p:nvSpPr>
            <p:cNvPr id="207" name="Line 1064"/>
            <p:cNvSpPr/>
            <p:nvPr/>
          </p:nvSpPr>
          <p:spPr>
            <a:xfrm>
              <a:off x="1549440" y="2504880"/>
              <a:ext cx="5867280" cy="0"/>
            </a:xfrm>
            <a:prstGeom prst="line">
              <a:avLst/>
            </a:prstGeom>
            <a:ln w="114480">
              <a:solidFill>
                <a:srgbClr val="a6a6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641240" y="2503440"/>
              <a:ext cx="5684760" cy="934920"/>
            </a:xfrm>
            <a:custGeom>
              <a:avLst/>
              <a:gdLst/>
              <a:ahLst/>
              <a:rect l="l" t="t" r="r" b="b"/>
              <a:pathLst>
                <a:path w="5684293" h="934872">
                  <a:moveTo>
                    <a:pt x="0" y="6824"/>
                  </a:moveTo>
                  <a:lnTo>
                    <a:pt x="225188" y="13648"/>
                  </a:lnTo>
                  <a:cubicBezTo>
                    <a:pt x="296839" y="38669"/>
                    <a:pt x="355980" y="68240"/>
                    <a:pt x="429905" y="156950"/>
                  </a:cubicBezTo>
                  <a:cubicBezTo>
                    <a:pt x="503830" y="245660"/>
                    <a:pt x="592541" y="462887"/>
                    <a:pt x="668741" y="545911"/>
                  </a:cubicBezTo>
                  <a:cubicBezTo>
                    <a:pt x="744941" y="628935"/>
                    <a:pt x="798126" y="649407"/>
                    <a:pt x="887105" y="655093"/>
                  </a:cubicBezTo>
                  <a:lnTo>
                    <a:pt x="3330054" y="682388"/>
                  </a:lnTo>
                  <a:cubicBezTo>
                    <a:pt x="3461982" y="678619"/>
                    <a:pt x="3483884" y="697596"/>
                    <a:pt x="3536200" y="726029"/>
                  </a:cubicBezTo>
                  <a:cubicBezTo>
                    <a:pt x="3588516" y="754462"/>
                    <a:pt x="3593012" y="820453"/>
                    <a:pt x="3643953" y="852985"/>
                  </a:cubicBezTo>
                  <a:cubicBezTo>
                    <a:pt x="3694894" y="885517"/>
                    <a:pt x="3685611" y="916383"/>
                    <a:pt x="3841845" y="921224"/>
                  </a:cubicBezTo>
                  <a:lnTo>
                    <a:pt x="4960962" y="934871"/>
                  </a:lnTo>
                  <a:cubicBezTo>
                    <a:pt x="5147518" y="917520"/>
                    <a:pt x="5157717" y="934872"/>
                    <a:pt x="5227093" y="805218"/>
                  </a:cubicBezTo>
                  <a:cubicBezTo>
                    <a:pt x="5296469" y="675565"/>
                    <a:pt x="5326039" y="291153"/>
                    <a:pt x="5377218" y="156950"/>
                  </a:cubicBezTo>
                  <a:cubicBezTo>
                    <a:pt x="5428397" y="22747"/>
                    <a:pt x="5482989" y="25021"/>
                    <a:pt x="5534168" y="0"/>
                  </a:cubicBezTo>
                  <a:lnTo>
                    <a:pt x="5684293" y="6824"/>
                  </a:lnTo>
                </a:path>
              </a:pathLst>
            </a:custGeom>
            <a:noFill/>
            <a:ln w="5724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34"/>
          <p:cNvGrpSpPr/>
          <p:nvPr/>
        </p:nvGrpSpPr>
        <p:grpSpPr>
          <a:xfrm>
            <a:off x="1547640" y="2646360"/>
            <a:ext cx="5869080" cy="603360"/>
            <a:chOff x="1547640" y="2646360"/>
            <a:chExt cx="5869080" cy="603360"/>
          </a:xfrm>
        </p:grpSpPr>
        <p:sp>
          <p:nvSpPr>
            <p:cNvPr id="210" name="Line 1065"/>
            <p:cNvSpPr/>
            <p:nvPr/>
          </p:nvSpPr>
          <p:spPr>
            <a:xfrm>
              <a:off x="1547640" y="3033720"/>
              <a:ext cx="5869080" cy="0"/>
            </a:xfrm>
            <a:prstGeom prst="line">
              <a:avLst/>
            </a:prstGeom>
            <a:ln w="114480">
              <a:solidFill>
                <a:srgbClr val="000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571400" y="2646360"/>
              <a:ext cx="5483520" cy="603360"/>
            </a:xfrm>
            <a:custGeom>
              <a:avLst/>
              <a:gdLst/>
              <a:ahLst/>
              <a:rect l="l" t="t" r="r" b="b"/>
              <a:pathLst>
                <a:path w="5482523" h="604715">
                  <a:moveTo>
                    <a:pt x="0" y="395319"/>
                  </a:moveTo>
                  <a:lnTo>
                    <a:pt x="238597" y="386469"/>
                  </a:lnTo>
                  <a:cubicBezTo>
                    <a:pt x="288951" y="371895"/>
                    <a:pt x="293647" y="374139"/>
                    <a:pt x="349695" y="318447"/>
                  </a:cubicBezTo>
                  <a:cubicBezTo>
                    <a:pt x="405743" y="262755"/>
                    <a:pt x="494135" y="104632"/>
                    <a:pt x="574884" y="52316"/>
                  </a:cubicBezTo>
                  <a:cubicBezTo>
                    <a:pt x="655633" y="0"/>
                    <a:pt x="695632" y="5020"/>
                    <a:pt x="834191" y="4549"/>
                  </a:cubicBezTo>
                  <a:lnTo>
                    <a:pt x="3213631" y="8250"/>
                  </a:lnTo>
                  <a:cubicBezTo>
                    <a:pt x="3389844" y="7649"/>
                    <a:pt x="3504405" y="65917"/>
                    <a:pt x="3584215" y="147850"/>
                  </a:cubicBezTo>
                  <a:cubicBezTo>
                    <a:pt x="3664025" y="229783"/>
                    <a:pt x="3661438" y="417496"/>
                    <a:pt x="3692495" y="499850"/>
                  </a:cubicBezTo>
                  <a:cubicBezTo>
                    <a:pt x="3723552" y="582204"/>
                    <a:pt x="3779025" y="598912"/>
                    <a:pt x="3877642" y="598226"/>
                  </a:cubicBezTo>
                  <a:lnTo>
                    <a:pt x="5024054" y="598226"/>
                  </a:lnTo>
                  <a:cubicBezTo>
                    <a:pt x="5114832" y="604715"/>
                    <a:pt x="5144272" y="563147"/>
                    <a:pt x="5180096" y="512922"/>
                  </a:cubicBezTo>
                  <a:cubicBezTo>
                    <a:pt x="5215920" y="462697"/>
                    <a:pt x="5252873" y="407174"/>
                    <a:pt x="5297595" y="403864"/>
                  </a:cubicBezTo>
                  <a:cubicBezTo>
                    <a:pt x="5342317" y="400554"/>
                    <a:pt x="5420880" y="400340"/>
                    <a:pt x="5482523" y="398578"/>
                  </a:cubicBezTo>
                </a:path>
              </a:pathLst>
            </a:custGeom>
            <a:noFill/>
            <a:ln w="57240">
              <a:solidFill>
                <a:srgbClr val="000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Freeform 16"/>
          <p:cNvSpPr/>
          <p:nvPr/>
        </p:nvSpPr>
        <p:spPr>
          <a:xfrm flipV="1">
            <a:off x="2387520" y="2400480"/>
            <a:ext cx="1096920" cy="483840"/>
          </a:xfrm>
          <a:custGeom>
            <a:avLst/>
            <a:gdLst>
              <a:gd name="textAreaLeft" fmla="*/ 0 w 1096920"/>
              <a:gd name="textAreaRight" fmla="*/ 1097280 w 109692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6"/>
          <p:cNvSpPr/>
          <p:nvPr/>
        </p:nvSpPr>
        <p:spPr>
          <a:xfrm flipV="1">
            <a:off x="3995640" y="2780640"/>
            <a:ext cx="1096920" cy="484200"/>
          </a:xfrm>
          <a:custGeom>
            <a:avLst/>
            <a:gdLst>
              <a:gd name="textAreaLeft" fmla="*/ 0 w 1096920"/>
              <a:gd name="textAreaRight" fmla="*/ 1097280 w 109692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6"/>
          <p:cNvSpPr/>
          <p:nvPr/>
        </p:nvSpPr>
        <p:spPr>
          <a:xfrm flipV="1">
            <a:off x="5557680" y="3161520"/>
            <a:ext cx="1097280" cy="484200"/>
          </a:xfrm>
          <a:custGeom>
            <a:avLst/>
            <a:gdLst>
              <a:gd name="textAreaLeft" fmla="*/ 0 w 1097280"/>
              <a:gd name="textAreaRight" fmla="*/ 1097640 w 109728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7391520" y="2317680"/>
            <a:ext cx="9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9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7391520" y="2852640"/>
            <a:ext cx="9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a00"/>
                </a:solidFill>
                <a:latin typeface="Arial"/>
              </a:rPr>
              <a:t>9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7391520" y="3355920"/>
            <a:ext cx="9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fbfbf"/>
                </a:solidFill>
                <a:latin typeface="Arial"/>
                <a:ea typeface="ＭＳ Ｐゴシック"/>
              </a:rPr>
              <a:t>9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2"/>
          <p:cNvSpPr/>
          <p:nvPr/>
        </p:nvSpPr>
        <p:spPr>
          <a:xfrm>
            <a:off x="2306520" y="206064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3"/>
          <p:cNvSpPr/>
          <p:nvPr/>
        </p:nvSpPr>
        <p:spPr>
          <a:xfrm>
            <a:off x="3919680" y="31449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4"/>
          <p:cNvSpPr/>
          <p:nvPr/>
        </p:nvSpPr>
        <p:spPr>
          <a:xfrm>
            <a:off x="5494320" y="36050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fficient Pat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27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092B-5027-4209-9624-1C4E6551CF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45640" y="2622240"/>
            <a:ext cx="777564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Better: Each connection on a one-hop path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Each connection should send all traffic on the least-congested path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" name="Oval 18"/>
          <p:cNvSpPr/>
          <p:nvPr/>
        </p:nvSpPr>
        <p:spPr>
          <a:xfrm flipV="1" rot="16200000">
            <a:off x="5289480" y="3319560"/>
            <a:ext cx="48600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 flipV="1" rot="16200000">
            <a:off x="2127240" y="255672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8"/>
          <p:cNvSpPr/>
          <p:nvPr/>
        </p:nvSpPr>
        <p:spPr>
          <a:xfrm flipV="1" rot="16200000">
            <a:off x="3727440" y="293760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36"/>
          <p:cNvGrpSpPr/>
          <p:nvPr/>
        </p:nvGrpSpPr>
        <p:grpSpPr>
          <a:xfrm>
            <a:off x="1525680" y="2762280"/>
            <a:ext cx="5851440" cy="785880"/>
            <a:chOff x="1525680" y="2762280"/>
            <a:chExt cx="5851440" cy="785880"/>
          </a:xfrm>
        </p:grpSpPr>
        <p:sp>
          <p:nvSpPr>
            <p:cNvPr id="228" name="Line 1066"/>
            <p:cNvSpPr/>
            <p:nvPr/>
          </p:nvSpPr>
          <p:spPr>
            <a:xfrm>
              <a:off x="1547640" y="3538800"/>
              <a:ext cx="5829480" cy="0"/>
            </a:xfrm>
            <a:prstGeom prst="line">
              <a:avLst/>
            </a:prstGeom>
            <a:ln w="228600">
              <a:solidFill>
                <a:srgbClr val="bfbf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9"/>
            <p:cNvSpPr/>
            <p:nvPr/>
          </p:nvSpPr>
          <p:spPr>
            <a:xfrm>
              <a:off x="1525680" y="2762280"/>
              <a:ext cx="5776920" cy="785880"/>
            </a:xfrm>
            <a:custGeom>
              <a:avLst/>
              <a:gdLst/>
              <a:ahLst/>
              <a:rect l="l" t="t" r="r" b="b"/>
              <a:pathLst>
                <a:path w="5778111" h="786106">
                  <a:moveTo>
                    <a:pt x="0" y="774886"/>
                  </a:moveTo>
                  <a:lnTo>
                    <a:pt x="205542" y="769713"/>
                  </a:lnTo>
                  <a:cubicBezTo>
                    <a:pt x="268155" y="745170"/>
                    <a:pt x="305216" y="729613"/>
                    <a:pt x="375676" y="627629"/>
                  </a:cubicBezTo>
                  <a:cubicBezTo>
                    <a:pt x="446136" y="525645"/>
                    <a:pt x="543295" y="261612"/>
                    <a:pt x="628300" y="157807"/>
                  </a:cubicBezTo>
                  <a:cubicBezTo>
                    <a:pt x="713305" y="54002"/>
                    <a:pt x="673468" y="29110"/>
                    <a:pt x="885706" y="4801"/>
                  </a:cubicBezTo>
                  <a:lnTo>
                    <a:pt x="1918557" y="6342"/>
                  </a:lnTo>
                  <a:cubicBezTo>
                    <a:pt x="1975838" y="11133"/>
                    <a:pt x="2039024" y="0"/>
                    <a:pt x="2109842" y="53949"/>
                  </a:cubicBezTo>
                  <a:cubicBezTo>
                    <a:pt x="2172990" y="88074"/>
                    <a:pt x="2241963" y="83353"/>
                    <a:pt x="2294415" y="84879"/>
                  </a:cubicBezTo>
                  <a:lnTo>
                    <a:pt x="4689806" y="90489"/>
                  </a:lnTo>
                  <a:cubicBezTo>
                    <a:pt x="4890329" y="89054"/>
                    <a:pt x="5053242" y="160042"/>
                    <a:pt x="5164658" y="281403"/>
                  </a:cubicBezTo>
                  <a:cubicBezTo>
                    <a:pt x="5276074" y="402764"/>
                    <a:pt x="5391358" y="632812"/>
                    <a:pt x="5451917" y="690662"/>
                  </a:cubicBezTo>
                  <a:cubicBezTo>
                    <a:pt x="5512476" y="748512"/>
                    <a:pt x="5559819" y="785428"/>
                    <a:pt x="5653474" y="781649"/>
                  </a:cubicBezTo>
                  <a:lnTo>
                    <a:pt x="5778111" y="786106"/>
                  </a:lnTo>
                </a:path>
              </a:pathLst>
            </a:custGeom>
            <a:noFill/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35"/>
          <p:cNvGrpSpPr/>
          <p:nvPr/>
        </p:nvGrpSpPr>
        <p:grpSpPr>
          <a:xfrm>
            <a:off x="1549440" y="2503440"/>
            <a:ext cx="5867280" cy="934920"/>
            <a:chOff x="1549440" y="2503440"/>
            <a:chExt cx="5867280" cy="934920"/>
          </a:xfrm>
        </p:grpSpPr>
        <p:sp>
          <p:nvSpPr>
            <p:cNvPr id="231" name="Line 1064"/>
            <p:cNvSpPr/>
            <p:nvPr/>
          </p:nvSpPr>
          <p:spPr>
            <a:xfrm>
              <a:off x="1549440" y="2504880"/>
              <a:ext cx="5867280" cy="0"/>
            </a:xfrm>
            <a:prstGeom prst="line">
              <a:avLst/>
            </a:prstGeom>
            <a:ln w="228600">
              <a:solidFill>
                <a:srgbClr val="a6a6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1641240" y="2503440"/>
              <a:ext cx="5684760" cy="934920"/>
            </a:xfrm>
            <a:custGeom>
              <a:avLst/>
              <a:gdLst/>
              <a:ahLst/>
              <a:rect l="l" t="t" r="r" b="b"/>
              <a:pathLst>
                <a:path w="5684293" h="934872">
                  <a:moveTo>
                    <a:pt x="0" y="6824"/>
                  </a:moveTo>
                  <a:lnTo>
                    <a:pt x="225188" y="13648"/>
                  </a:lnTo>
                  <a:cubicBezTo>
                    <a:pt x="296839" y="38669"/>
                    <a:pt x="355980" y="68240"/>
                    <a:pt x="429905" y="156950"/>
                  </a:cubicBezTo>
                  <a:cubicBezTo>
                    <a:pt x="503830" y="245660"/>
                    <a:pt x="592541" y="462887"/>
                    <a:pt x="668741" y="545911"/>
                  </a:cubicBezTo>
                  <a:cubicBezTo>
                    <a:pt x="744941" y="628935"/>
                    <a:pt x="798126" y="649407"/>
                    <a:pt x="887105" y="655093"/>
                  </a:cubicBezTo>
                  <a:lnTo>
                    <a:pt x="3330054" y="682388"/>
                  </a:lnTo>
                  <a:cubicBezTo>
                    <a:pt x="3461982" y="678619"/>
                    <a:pt x="3483884" y="697596"/>
                    <a:pt x="3536200" y="726029"/>
                  </a:cubicBezTo>
                  <a:cubicBezTo>
                    <a:pt x="3588516" y="754462"/>
                    <a:pt x="3593012" y="820453"/>
                    <a:pt x="3643953" y="852985"/>
                  </a:cubicBezTo>
                  <a:cubicBezTo>
                    <a:pt x="3694894" y="885517"/>
                    <a:pt x="3685611" y="916383"/>
                    <a:pt x="3841845" y="921224"/>
                  </a:cubicBezTo>
                  <a:lnTo>
                    <a:pt x="4960962" y="934871"/>
                  </a:lnTo>
                  <a:cubicBezTo>
                    <a:pt x="5147518" y="917520"/>
                    <a:pt x="5157717" y="934872"/>
                    <a:pt x="5227093" y="805218"/>
                  </a:cubicBezTo>
                  <a:cubicBezTo>
                    <a:pt x="5296469" y="675565"/>
                    <a:pt x="5326039" y="291153"/>
                    <a:pt x="5377218" y="156950"/>
                  </a:cubicBezTo>
                  <a:cubicBezTo>
                    <a:pt x="5428397" y="22747"/>
                    <a:pt x="5482989" y="25021"/>
                    <a:pt x="5534168" y="0"/>
                  </a:cubicBezTo>
                  <a:lnTo>
                    <a:pt x="5684293" y="6824"/>
                  </a:lnTo>
                </a:path>
              </a:pathLst>
            </a:custGeom>
            <a:noFill/>
            <a:ln w="324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4"/>
          <p:cNvGrpSpPr/>
          <p:nvPr/>
        </p:nvGrpSpPr>
        <p:grpSpPr>
          <a:xfrm>
            <a:off x="1547640" y="2646360"/>
            <a:ext cx="5869080" cy="603360"/>
            <a:chOff x="1547640" y="2646360"/>
            <a:chExt cx="5869080" cy="603360"/>
          </a:xfrm>
        </p:grpSpPr>
        <p:sp>
          <p:nvSpPr>
            <p:cNvPr id="234" name="Line 1065"/>
            <p:cNvSpPr/>
            <p:nvPr/>
          </p:nvSpPr>
          <p:spPr>
            <a:xfrm>
              <a:off x="1547640" y="3033720"/>
              <a:ext cx="5869080" cy="0"/>
            </a:xfrm>
            <a:prstGeom prst="line">
              <a:avLst/>
            </a:prstGeom>
            <a:ln w="228600">
              <a:solidFill>
                <a:srgbClr val="000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1571400" y="2646360"/>
              <a:ext cx="5483520" cy="603360"/>
            </a:xfrm>
            <a:custGeom>
              <a:avLst/>
              <a:gdLst/>
              <a:ahLst/>
              <a:rect l="l" t="t" r="r" b="b"/>
              <a:pathLst>
                <a:path w="5482523" h="604715">
                  <a:moveTo>
                    <a:pt x="0" y="395319"/>
                  </a:moveTo>
                  <a:lnTo>
                    <a:pt x="238597" y="386469"/>
                  </a:lnTo>
                  <a:cubicBezTo>
                    <a:pt x="288951" y="371895"/>
                    <a:pt x="293647" y="374139"/>
                    <a:pt x="349695" y="318447"/>
                  </a:cubicBezTo>
                  <a:cubicBezTo>
                    <a:pt x="405743" y="262755"/>
                    <a:pt x="494135" y="104632"/>
                    <a:pt x="574884" y="52316"/>
                  </a:cubicBezTo>
                  <a:cubicBezTo>
                    <a:pt x="655633" y="0"/>
                    <a:pt x="695632" y="5020"/>
                    <a:pt x="834191" y="4549"/>
                  </a:cubicBezTo>
                  <a:lnTo>
                    <a:pt x="3213631" y="8250"/>
                  </a:lnTo>
                  <a:cubicBezTo>
                    <a:pt x="3389844" y="7649"/>
                    <a:pt x="3504405" y="65917"/>
                    <a:pt x="3584215" y="147850"/>
                  </a:cubicBezTo>
                  <a:cubicBezTo>
                    <a:pt x="3664025" y="229783"/>
                    <a:pt x="3661438" y="417496"/>
                    <a:pt x="3692495" y="499850"/>
                  </a:cubicBezTo>
                  <a:cubicBezTo>
                    <a:pt x="3723552" y="582204"/>
                    <a:pt x="3779025" y="598912"/>
                    <a:pt x="3877642" y="598226"/>
                  </a:cubicBezTo>
                  <a:lnTo>
                    <a:pt x="5024054" y="598226"/>
                  </a:lnTo>
                  <a:cubicBezTo>
                    <a:pt x="5114832" y="604715"/>
                    <a:pt x="5144272" y="563147"/>
                    <a:pt x="5180096" y="512922"/>
                  </a:cubicBezTo>
                  <a:cubicBezTo>
                    <a:pt x="5215920" y="462697"/>
                    <a:pt x="5252873" y="407174"/>
                    <a:pt x="5297595" y="403864"/>
                  </a:cubicBezTo>
                  <a:cubicBezTo>
                    <a:pt x="5342317" y="400554"/>
                    <a:pt x="5420880" y="400340"/>
                    <a:pt x="5482523" y="398578"/>
                  </a:cubicBezTo>
                </a:path>
              </a:pathLst>
            </a:custGeom>
            <a:noFill/>
            <a:ln w="3240">
              <a:solidFill>
                <a:srgbClr val="000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Freeform 16"/>
          <p:cNvSpPr/>
          <p:nvPr/>
        </p:nvSpPr>
        <p:spPr>
          <a:xfrm flipV="1">
            <a:off x="2387520" y="2400480"/>
            <a:ext cx="1096920" cy="483840"/>
          </a:xfrm>
          <a:custGeom>
            <a:avLst/>
            <a:gdLst>
              <a:gd name="textAreaLeft" fmla="*/ 0 w 1096920"/>
              <a:gd name="textAreaRight" fmla="*/ 1097280 w 109692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6"/>
          <p:cNvSpPr/>
          <p:nvPr/>
        </p:nvSpPr>
        <p:spPr>
          <a:xfrm flipV="1">
            <a:off x="3995640" y="2780640"/>
            <a:ext cx="1096920" cy="484200"/>
          </a:xfrm>
          <a:custGeom>
            <a:avLst/>
            <a:gdLst>
              <a:gd name="textAreaLeft" fmla="*/ 0 w 1096920"/>
              <a:gd name="textAreaRight" fmla="*/ 1097280 w 109692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6"/>
          <p:cNvSpPr/>
          <p:nvPr/>
        </p:nvSpPr>
        <p:spPr>
          <a:xfrm flipV="1">
            <a:off x="5557680" y="3161520"/>
            <a:ext cx="1097280" cy="484200"/>
          </a:xfrm>
          <a:custGeom>
            <a:avLst/>
            <a:gdLst>
              <a:gd name="textAreaLeft" fmla="*/ 0 w 1097280"/>
              <a:gd name="textAreaRight" fmla="*/ 1097640 w 109728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9"/>
          <p:cNvSpPr/>
          <p:nvPr/>
        </p:nvSpPr>
        <p:spPr>
          <a:xfrm>
            <a:off x="7391520" y="2317680"/>
            <a:ext cx="11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7391520" y="285264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1"/>
          <p:cNvSpPr/>
          <p:nvPr/>
        </p:nvSpPr>
        <p:spPr>
          <a:xfrm>
            <a:off x="7391520" y="3355920"/>
            <a:ext cx="11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2"/>
          <p:cNvSpPr/>
          <p:nvPr/>
        </p:nvSpPr>
        <p:spPr>
          <a:xfrm>
            <a:off x="2411280" y="2060640"/>
            <a:ext cx="104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3"/>
          <p:cNvSpPr/>
          <p:nvPr/>
        </p:nvSpPr>
        <p:spPr>
          <a:xfrm>
            <a:off x="3881520" y="3121200"/>
            <a:ext cx="11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4"/>
          <p:cNvSpPr/>
          <p:nvPr/>
        </p:nvSpPr>
        <p:spPr>
          <a:xfrm>
            <a:off x="5532480" y="357336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fficient Pat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27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001B-FFF2-4EA1-A73D-FFCC3AFB7A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07840" y="1662120"/>
            <a:ext cx="8180280" cy="441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Better: Each connection on a one-hop path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Each connection should send all traffic on the least-congested path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But keep some traffic on the alternate paths as a prob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" name="Oval 18"/>
          <p:cNvSpPr/>
          <p:nvPr/>
        </p:nvSpPr>
        <p:spPr>
          <a:xfrm flipV="1" rot="16200000">
            <a:off x="5289480" y="3319560"/>
            <a:ext cx="48600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8"/>
          <p:cNvSpPr/>
          <p:nvPr/>
        </p:nvSpPr>
        <p:spPr>
          <a:xfrm flipV="1" rot="16200000">
            <a:off x="2127240" y="255672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8"/>
          <p:cNvSpPr/>
          <p:nvPr/>
        </p:nvSpPr>
        <p:spPr>
          <a:xfrm flipV="1" rot="16200000">
            <a:off x="3727440" y="293760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36"/>
          <p:cNvGrpSpPr/>
          <p:nvPr/>
        </p:nvGrpSpPr>
        <p:grpSpPr>
          <a:xfrm>
            <a:off x="1525680" y="2762280"/>
            <a:ext cx="5851440" cy="785880"/>
            <a:chOff x="1525680" y="2762280"/>
            <a:chExt cx="5851440" cy="785880"/>
          </a:xfrm>
        </p:grpSpPr>
        <p:sp>
          <p:nvSpPr>
            <p:cNvPr id="252" name="Line 1066"/>
            <p:cNvSpPr/>
            <p:nvPr/>
          </p:nvSpPr>
          <p:spPr>
            <a:xfrm>
              <a:off x="1547640" y="3538800"/>
              <a:ext cx="5829480" cy="0"/>
            </a:xfrm>
            <a:prstGeom prst="line">
              <a:avLst/>
            </a:prstGeom>
            <a:ln w="228600">
              <a:solidFill>
                <a:srgbClr val="bfbf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1525680" y="2762280"/>
              <a:ext cx="5776920" cy="785880"/>
            </a:xfrm>
            <a:custGeom>
              <a:avLst/>
              <a:gdLst/>
              <a:ahLst/>
              <a:rect l="l" t="t" r="r" b="b"/>
              <a:pathLst>
                <a:path w="5778111" h="786106">
                  <a:moveTo>
                    <a:pt x="0" y="774886"/>
                  </a:moveTo>
                  <a:lnTo>
                    <a:pt x="205542" y="769713"/>
                  </a:lnTo>
                  <a:cubicBezTo>
                    <a:pt x="268155" y="745170"/>
                    <a:pt x="305216" y="729613"/>
                    <a:pt x="375676" y="627629"/>
                  </a:cubicBezTo>
                  <a:cubicBezTo>
                    <a:pt x="446136" y="525645"/>
                    <a:pt x="543295" y="261612"/>
                    <a:pt x="628300" y="157807"/>
                  </a:cubicBezTo>
                  <a:cubicBezTo>
                    <a:pt x="713305" y="54002"/>
                    <a:pt x="673468" y="29110"/>
                    <a:pt x="885706" y="4801"/>
                  </a:cubicBezTo>
                  <a:lnTo>
                    <a:pt x="1918557" y="6342"/>
                  </a:lnTo>
                  <a:cubicBezTo>
                    <a:pt x="1975838" y="11133"/>
                    <a:pt x="2039024" y="0"/>
                    <a:pt x="2109842" y="53949"/>
                  </a:cubicBezTo>
                  <a:cubicBezTo>
                    <a:pt x="2172990" y="88074"/>
                    <a:pt x="2241963" y="83353"/>
                    <a:pt x="2294415" y="84879"/>
                  </a:cubicBezTo>
                  <a:lnTo>
                    <a:pt x="4689806" y="90489"/>
                  </a:lnTo>
                  <a:cubicBezTo>
                    <a:pt x="4890329" y="89054"/>
                    <a:pt x="5053242" y="160042"/>
                    <a:pt x="5164658" y="281403"/>
                  </a:cubicBezTo>
                  <a:cubicBezTo>
                    <a:pt x="5276074" y="402764"/>
                    <a:pt x="5391358" y="632812"/>
                    <a:pt x="5451917" y="690662"/>
                  </a:cubicBezTo>
                  <a:cubicBezTo>
                    <a:pt x="5512476" y="748512"/>
                    <a:pt x="5559819" y="785428"/>
                    <a:pt x="5653474" y="781649"/>
                  </a:cubicBezTo>
                  <a:lnTo>
                    <a:pt x="5778111" y="786106"/>
                  </a:lnTo>
                </a:path>
              </a:pathLst>
            </a:custGeom>
            <a:noFill/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35"/>
          <p:cNvGrpSpPr/>
          <p:nvPr/>
        </p:nvGrpSpPr>
        <p:grpSpPr>
          <a:xfrm>
            <a:off x="1549440" y="2503440"/>
            <a:ext cx="5867280" cy="934920"/>
            <a:chOff x="1549440" y="2503440"/>
            <a:chExt cx="5867280" cy="934920"/>
          </a:xfrm>
        </p:grpSpPr>
        <p:sp>
          <p:nvSpPr>
            <p:cNvPr id="255" name="Line 1064"/>
            <p:cNvSpPr/>
            <p:nvPr/>
          </p:nvSpPr>
          <p:spPr>
            <a:xfrm>
              <a:off x="1549440" y="2504880"/>
              <a:ext cx="5867280" cy="0"/>
            </a:xfrm>
            <a:prstGeom prst="line">
              <a:avLst/>
            </a:prstGeom>
            <a:ln w="228600">
              <a:solidFill>
                <a:srgbClr val="a6a6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1641240" y="2503440"/>
              <a:ext cx="5684760" cy="934920"/>
            </a:xfrm>
            <a:custGeom>
              <a:avLst/>
              <a:gdLst/>
              <a:ahLst/>
              <a:rect l="l" t="t" r="r" b="b"/>
              <a:pathLst>
                <a:path w="5684293" h="934872">
                  <a:moveTo>
                    <a:pt x="0" y="6824"/>
                  </a:moveTo>
                  <a:lnTo>
                    <a:pt x="225188" y="13648"/>
                  </a:lnTo>
                  <a:cubicBezTo>
                    <a:pt x="296839" y="38669"/>
                    <a:pt x="355980" y="68240"/>
                    <a:pt x="429905" y="156950"/>
                  </a:cubicBezTo>
                  <a:cubicBezTo>
                    <a:pt x="503830" y="245660"/>
                    <a:pt x="592541" y="462887"/>
                    <a:pt x="668741" y="545911"/>
                  </a:cubicBezTo>
                  <a:cubicBezTo>
                    <a:pt x="744941" y="628935"/>
                    <a:pt x="798126" y="649407"/>
                    <a:pt x="887105" y="655093"/>
                  </a:cubicBezTo>
                  <a:lnTo>
                    <a:pt x="3330054" y="682388"/>
                  </a:lnTo>
                  <a:cubicBezTo>
                    <a:pt x="3461982" y="678619"/>
                    <a:pt x="3483884" y="697596"/>
                    <a:pt x="3536200" y="726029"/>
                  </a:cubicBezTo>
                  <a:cubicBezTo>
                    <a:pt x="3588516" y="754462"/>
                    <a:pt x="3593012" y="820453"/>
                    <a:pt x="3643953" y="852985"/>
                  </a:cubicBezTo>
                  <a:cubicBezTo>
                    <a:pt x="3694894" y="885517"/>
                    <a:pt x="3685611" y="916383"/>
                    <a:pt x="3841845" y="921224"/>
                  </a:cubicBezTo>
                  <a:lnTo>
                    <a:pt x="4960962" y="934871"/>
                  </a:lnTo>
                  <a:cubicBezTo>
                    <a:pt x="5147518" y="917520"/>
                    <a:pt x="5157717" y="934872"/>
                    <a:pt x="5227093" y="805218"/>
                  </a:cubicBezTo>
                  <a:cubicBezTo>
                    <a:pt x="5296469" y="675565"/>
                    <a:pt x="5326039" y="291153"/>
                    <a:pt x="5377218" y="156950"/>
                  </a:cubicBezTo>
                  <a:cubicBezTo>
                    <a:pt x="5428397" y="22747"/>
                    <a:pt x="5482989" y="25021"/>
                    <a:pt x="5534168" y="0"/>
                  </a:cubicBezTo>
                  <a:lnTo>
                    <a:pt x="5684293" y="6824"/>
                  </a:lnTo>
                </a:path>
              </a:pathLst>
            </a:custGeom>
            <a:noFill/>
            <a:ln w="324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34"/>
          <p:cNvGrpSpPr/>
          <p:nvPr/>
        </p:nvGrpSpPr>
        <p:grpSpPr>
          <a:xfrm>
            <a:off x="1547640" y="2646360"/>
            <a:ext cx="5869080" cy="603360"/>
            <a:chOff x="1547640" y="2646360"/>
            <a:chExt cx="5869080" cy="603360"/>
          </a:xfrm>
        </p:grpSpPr>
        <p:sp>
          <p:nvSpPr>
            <p:cNvPr id="258" name="Line 1065"/>
            <p:cNvSpPr/>
            <p:nvPr/>
          </p:nvSpPr>
          <p:spPr>
            <a:xfrm>
              <a:off x="1547640" y="3033720"/>
              <a:ext cx="5869080" cy="0"/>
            </a:xfrm>
            <a:prstGeom prst="line">
              <a:avLst/>
            </a:prstGeom>
            <a:ln w="228600">
              <a:solidFill>
                <a:srgbClr val="000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1571400" y="2646360"/>
              <a:ext cx="5483520" cy="603360"/>
            </a:xfrm>
            <a:custGeom>
              <a:avLst/>
              <a:gdLst/>
              <a:ahLst/>
              <a:rect l="l" t="t" r="r" b="b"/>
              <a:pathLst>
                <a:path w="5482523" h="604715">
                  <a:moveTo>
                    <a:pt x="0" y="395319"/>
                  </a:moveTo>
                  <a:lnTo>
                    <a:pt x="238597" y="386469"/>
                  </a:lnTo>
                  <a:cubicBezTo>
                    <a:pt x="288951" y="371895"/>
                    <a:pt x="293647" y="374139"/>
                    <a:pt x="349695" y="318447"/>
                  </a:cubicBezTo>
                  <a:cubicBezTo>
                    <a:pt x="405743" y="262755"/>
                    <a:pt x="494135" y="104632"/>
                    <a:pt x="574884" y="52316"/>
                  </a:cubicBezTo>
                  <a:cubicBezTo>
                    <a:pt x="655633" y="0"/>
                    <a:pt x="695632" y="5020"/>
                    <a:pt x="834191" y="4549"/>
                  </a:cubicBezTo>
                  <a:lnTo>
                    <a:pt x="3213631" y="8250"/>
                  </a:lnTo>
                  <a:cubicBezTo>
                    <a:pt x="3389844" y="7649"/>
                    <a:pt x="3504405" y="65917"/>
                    <a:pt x="3584215" y="147850"/>
                  </a:cubicBezTo>
                  <a:cubicBezTo>
                    <a:pt x="3664025" y="229783"/>
                    <a:pt x="3661438" y="417496"/>
                    <a:pt x="3692495" y="499850"/>
                  </a:cubicBezTo>
                  <a:cubicBezTo>
                    <a:pt x="3723552" y="582204"/>
                    <a:pt x="3779025" y="598912"/>
                    <a:pt x="3877642" y="598226"/>
                  </a:cubicBezTo>
                  <a:lnTo>
                    <a:pt x="5024054" y="598226"/>
                  </a:lnTo>
                  <a:cubicBezTo>
                    <a:pt x="5114832" y="604715"/>
                    <a:pt x="5144272" y="563147"/>
                    <a:pt x="5180096" y="512922"/>
                  </a:cubicBezTo>
                  <a:cubicBezTo>
                    <a:pt x="5215920" y="462697"/>
                    <a:pt x="5252873" y="407174"/>
                    <a:pt x="5297595" y="403864"/>
                  </a:cubicBezTo>
                  <a:cubicBezTo>
                    <a:pt x="5342317" y="400554"/>
                    <a:pt x="5420880" y="400340"/>
                    <a:pt x="5482523" y="398578"/>
                  </a:cubicBezTo>
                </a:path>
              </a:pathLst>
            </a:custGeom>
            <a:noFill/>
            <a:ln w="3240">
              <a:solidFill>
                <a:srgbClr val="000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16"/>
          <p:cNvSpPr/>
          <p:nvPr/>
        </p:nvSpPr>
        <p:spPr>
          <a:xfrm flipV="1">
            <a:off x="2387520" y="2400480"/>
            <a:ext cx="1096920" cy="483840"/>
          </a:xfrm>
          <a:custGeom>
            <a:avLst/>
            <a:gdLst>
              <a:gd name="textAreaLeft" fmla="*/ 0 w 1096920"/>
              <a:gd name="textAreaRight" fmla="*/ 1097280 w 109692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6"/>
          <p:cNvSpPr/>
          <p:nvPr/>
        </p:nvSpPr>
        <p:spPr>
          <a:xfrm flipV="1">
            <a:off x="3995640" y="2780640"/>
            <a:ext cx="1096920" cy="484200"/>
          </a:xfrm>
          <a:custGeom>
            <a:avLst/>
            <a:gdLst>
              <a:gd name="textAreaLeft" fmla="*/ 0 w 1096920"/>
              <a:gd name="textAreaRight" fmla="*/ 1097280 w 109692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6"/>
          <p:cNvSpPr/>
          <p:nvPr/>
        </p:nvSpPr>
        <p:spPr>
          <a:xfrm flipV="1">
            <a:off x="5557680" y="3161520"/>
            <a:ext cx="1097280" cy="484200"/>
          </a:xfrm>
          <a:custGeom>
            <a:avLst/>
            <a:gdLst>
              <a:gd name="textAreaLeft" fmla="*/ 0 w 1097280"/>
              <a:gd name="textAreaRight" fmla="*/ 1097640 w 109728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9"/>
          <p:cNvSpPr/>
          <p:nvPr/>
        </p:nvSpPr>
        <p:spPr>
          <a:xfrm>
            <a:off x="7391520" y="2317680"/>
            <a:ext cx="11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7391520" y="285264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1"/>
          <p:cNvSpPr/>
          <p:nvPr/>
        </p:nvSpPr>
        <p:spPr>
          <a:xfrm>
            <a:off x="7391520" y="3355920"/>
            <a:ext cx="11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2"/>
          <p:cNvSpPr/>
          <p:nvPr/>
        </p:nvSpPr>
        <p:spPr>
          <a:xfrm>
            <a:off x="2411280" y="2060640"/>
            <a:ext cx="104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3"/>
          <p:cNvSpPr/>
          <p:nvPr/>
        </p:nvSpPr>
        <p:spPr>
          <a:xfrm>
            <a:off x="3881520" y="3121200"/>
            <a:ext cx="11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4"/>
          <p:cNvSpPr/>
          <p:nvPr/>
        </p:nvSpPr>
        <p:spPr>
          <a:xfrm>
            <a:off x="5532480" y="357336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 #3: Be Fair Compared to TC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st-congested paths may not be best!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ue to differences in round-trip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wo path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Fi: high loss, low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llular: low loss, high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ing the least-congested pat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oose the cellular path, due to low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the RTT is hi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 throughput is low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Slide Number Placeholder 2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2B77-001F-43AF-BDF8-321D33E0B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 Fair Compared to TC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o be fair, Multipath TCP should give a connection at least as much throughput as it would get with a single-path TCP on the best of its paths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nsure incentive for deploying MPTC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A Multipath TCP should take no more capacity on any path (or collection of paths) than if it was a single-path TCP flow using the best of those paths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o no harm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5DE6-DD55-4BEF-8C98-CA095B25F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hieving These Go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0240" indent="-21024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gular TC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intain a congestion window 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an ACK, increase by 1/w (increase 1 per window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a loss, decrease by w/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10240" indent="-21024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PTC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intain a congestion window per path w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an ACK on path r, increase w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a loss on path r, decrease by w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10240" indent="-21024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much to increase w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on an ACK?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r is the only path at that bottleneck, increase by 1/w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Slide Number Placeholder 2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37A6-B602-43C6-B9E3-62B71F8F6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bile us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Fi and cellular at the same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gh-end serv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ltiple Ethernet c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 cen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ich topologies with many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nefits of multipat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er throughp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over from one path to ano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amless mo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A9F2-5D31-4370-BF0A-7C20CAAD8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Multiple Paths Share Bottleneck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n’t take any more bandwidth on a link than the best of the TCP paths woul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where might the bottlenecks b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ltiple paths might share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bottlene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, consider all possibl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ubset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of the path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t R of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set S of R that includes path 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.g., consider path 3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se paths 1, 3, and 4 share a bottlene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is-IS" sz="2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t, path 2 does n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n, we care about S = {1,3,4}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826E-9383-481F-804E-FE4A220DC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hieving These Go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th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bes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of these subflows achieving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th s is achieving throughput of w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/RTT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 best path is getting max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w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/RTT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bandwidth are these subflows getting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ross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subflows sharing that bottlene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m over s in S of w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/RTT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th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rati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of the tw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by less if many subflows are sha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pick the results for the set S with min rati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account for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os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aths sharing a bottlene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1C71-5F5F-483C-B75B-E29DC2326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69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cremental Deployment Challenges of Middlebox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0354-A600-4161-91C7-BAEAB9CA1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ddlebox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-network services, e.g.,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work address translat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parent prox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rusion detection syst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on with TC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nge IP addresses and port nu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nge TCP initial sequence numb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move TCP op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viding large block of data into smaller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ect to see all packets of the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5945-2148-434D-96B9-55CCFA2B8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otiating MPTCP Cap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middleboxes strip the TCP option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SYN? On the SYN-AC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lude capability on the ACK of the SYN-ACK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if the ACK is los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rry on all subsequent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the middlebox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drop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SYN packets with unfamiliar option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can retransmit lost SYN without the o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fall back to regular TCP behavi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B92C-ACE6-4E1B-B912-DE646EE20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2843280" y="2468520"/>
          <a:ext cx="27860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468520"/>
                    <a:ext cx="278604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llenges: N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4920" indent="-214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twork Address Translators (NAT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40720" indent="-214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blem: NAT changes the IP address and port numb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40720" indent="-214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40720" indent="-214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40720" indent="-214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14920" indent="-214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14920" indent="-214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14920" indent="-214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identify a connection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40720" indent="-214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ing a token established during connection set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14920" indent="-214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establish new subflow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40720" indent="-214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w one end-point to tell another about its addres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2191-3D12-4BB5-9BCC-21BFA316F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3"/>
          <a:stretch/>
        </p:blipFill>
        <p:spPr>
          <a:xfrm>
            <a:off x="961920" y="2814480"/>
            <a:ext cx="730440" cy="12049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6"/>
          <p:cNvSpPr/>
          <p:nvPr/>
        </p:nvSpPr>
        <p:spPr>
          <a:xfrm>
            <a:off x="2322000" y="2660760"/>
            <a:ext cx="1034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"/>
          <p:cNvSpPr/>
          <p:nvPr/>
        </p:nvSpPr>
        <p:spPr>
          <a:xfrm>
            <a:off x="2360160" y="3467160"/>
            <a:ext cx="1034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9"/>
          <p:cNvSpPr/>
          <p:nvPr/>
        </p:nvSpPr>
        <p:spPr>
          <a:xfrm flipV="1">
            <a:off x="1614600" y="2922480"/>
            <a:ext cx="676080" cy="238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10"/>
          <p:cNvSpPr/>
          <p:nvPr/>
        </p:nvSpPr>
        <p:spPr>
          <a:xfrm>
            <a:off x="1614600" y="3544920"/>
            <a:ext cx="714240" cy="183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1543320" y="2468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4"/>
          <p:cNvSpPr/>
          <p:nvPr/>
        </p:nvSpPr>
        <p:spPr>
          <a:xfrm>
            <a:off x="1657440" y="3659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7"/>
          <p:cNvSpPr/>
          <p:nvPr/>
        </p:nvSpPr>
        <p:spPr>
          <a:xfrm>
            <a:off x="5378400" y="2860560"/>
            <a:ext cx="1344600" cy="260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j0285750"/>
          <p:cNvPicPr/>
          <p:nvPr/>
        </p:nvPicPr>
        <p:blipFill>
          <a:blip r:embed="rId4"/>
          <a:stretch/>
        </p:blipFill>
        <p:spPr>
          <a:xfrm>
            <a:off x="6415200" y="2584440"/>
            <a:ext cx="2377800" cy="1459080"/>
          </a:xfrm>
          <a:prstGeom prst="rect">
            <a:avLst/>
          </a:prstGeom>
          <a:ln w="0">
            <a:noFill/>
          </a:ln>
        </p:spPr>
      </p:pic>
      <p:sp>
        <p:nvSpPr>
          <p:cNvPr id="306" name="Straight Connector 21"/>
          <p:cNvSpPr/>
          <p:nvPr/>
        </p:nvSpPr>
        <p:spPr>
          <a:xfrm flipV="1">
            <a:off x="5148360" y="3352680"/>
            <a:ext cx="1536480" cy="192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llenges: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licious parties creating sub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highjack (part of) the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bootstrap security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lude a random key during connection set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use it to verify authenticity of new sub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identify the connection on new subflow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token generated from the ke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authenticate the addition of subflow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changing nonces and computing message authentication codes using the key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E5AA-4135-4311-A96B-65A48C762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of Multipath TCP in iOS 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path TCP in iOS 7 (fall 2013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imary TCP connection over WiF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ckup TCP connection over cellular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ilov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WiFi becomes unavailable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OS 7 will use the cellular data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 destinations controlled by Ap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Sir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e https://support.apple.com/en-us/HT201373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F6DA-4E8F-48CD-B153-81B0DBB15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5EF4-5FA0-4832-B234-E3BFC8278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ackup Slide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view of TCP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105D-9C35-4E94-82CB-0C95B09C4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ultipath TCP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7A50-BF19-4C6D-9C31-1674F8CE4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stablishing a TCP Conn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4657320"/>
            <a:ext cx="8458200" cy="20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hree-way handshake to establish conn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Host A sends a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YN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 (open) to the host 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Host B returns a SYN acknowledgment (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SYN ACK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Host A sends an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ACK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 to acknowledge the SYN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8378-3669-41ED-8CFF-265A67133E9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"/>
          <p:cNvSpPr/>
          <p:nvPr/>
        </p:nvSpPr>
        <p:spPr>
          <a:xfrm>
            <a:off x="2451240" y="1860480"/>
            <a:ext cx="160308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"/>
          <p:cNvSpPr/>
          <p:nvPr/>
        </p:nvSpPr>
        <p:spPr>
          <a:xfrm flipH="1">
            <a:off x="2461680" y="237816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"/>
          <p:cNvSpPr/>
          <p:nvPr/>
        </p:nvSpPr>
        <p:spPr>
          <a:xfrm>
            <a:off x="2440080" y="297036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2444760" y="350136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 rot="605400">
            <a:off x="2901240" y="15166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 flipH="1" flipV="1" rot="10146600">
            <a:off x="2588400" y="215604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N 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 rot="1044600">
            <a:off x="3116160" y="2925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 rot="1003800">
            <a:off x="2904840" y="33451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2"/>
          <p:cNvSpPr/>
          <p:nvPr/>
        </p:nvSpPr>
        <p:spPr>
          <a:xfrm>
            <a:off x="4041720" y="1652760"/>
            <a:ext cx="6480" cy="2890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3"/>
          <p:cNvSpPr/>
          <p:nvPr/>
        </p:nvSpPr>
        <p:spPr>
          <a:xfrm flipH="1">
            <a:off x="2435400" y="1668600"/>
            <a:ext cx="23760" cy="279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2277000" y="1210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3843720" y="1172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6"/>
          <p:cNvSpPr/>
          <p:nvPr/>
        </p:nvSpPr>
        <p:spPr>
          <a:xfrm>
            <a:off x="2473200" y="384264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 rot="1003800">
            <a:off x="2933280" y="36864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4764240" y="2122560"/>
            <a:ext cx="380196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host tells it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tial Sequence Number (ISN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he other ho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itial Sequence Number (ISN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quence number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for the very first by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E.g., Why not a de facto ISN of 0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ractical issue: reuse of port numb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Port numbers must (eventually) get used aga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and an old packet may still be in fl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and associated with the new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urity issue: adversary injecting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versary may try to inject packets in a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guessing the Initial Sequence Numb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send counterfeit packets to the receiving h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counterfeit packets that reset the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firewalls change the ISN to further randomi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5339-BF9F-4095-AB0F-AD127B342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ep 1: A’s Initial SYN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2C6D-098D-4941-B20A-F3F7FF1E52F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3716640" y="1874880"/>
            <a:ext cx="10436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6447240" y="1874880"/>
            <a:ext cx="10436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Initial Sequence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5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6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7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8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0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1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2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4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5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6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8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9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1"/>
          <p:cNvSpPr/>
          <p:nvPr/>
        </p:nvSpPr>
        <p:spPr>
          <a:xfrm>
            <a:off x="147960" y="510552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 tells B it wants to open a connection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ep 2: B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 SYN-ACK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5052-FDEB-45CD-87C9-FF7BA035071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3716640" y="1874880"/>
            <a:ext cx="10436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6447240" y="1874880"/>
            <a:ext cx="10436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Initial Sequence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1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2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ISN plus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4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9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0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1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2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3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5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4"/>
          <p:cNvSpPr/>
          <p:nvPr/>
        </p:nvSpPr>
        <p:spPr>
          <a:xfrm>
            <a:off x="-785880" y="502920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 tells A it accepts, and is ready to hear the next byt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6"/>
          <p:cNvSpPr/>
          <p:nvPr/>
        </p:nvSpPr>
        <p:spPr>
          <a:xfrm>
            <a:off x="-479160" y="5410080"/>
            <a:ext cx="100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pon receiving this packet, A can start send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ep 3: A’s ACK of the SYN-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7F5C-8C2F-4B1A-A387-99BEEA2C6A7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2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3"/>
          <p:cNvSpPr/>
          <p:nvPr/>
        </p:nvSpPr>
        <p:spPr>
          <a:xfrm>
            <a:off x="3716640" y="1874880"/>
            <a:ext cx="10436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4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5"/>
          <p:cNvSpPr/>
          <p:nvPr/>
        </p:nvSpPr>
        <p:spPr>
          <a:xfrm>
            <a:off x="6447240" y="1874880"/>
            <a:ext cx="10436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6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8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9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ISN plus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0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1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2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3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4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5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6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7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8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9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0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1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2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3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4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5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6"/>
          <p:cNvSpPr/>
          <p:nvPr/>
        </p:nvSpPr>
        <p:spPr>
          <a:xfrm>
            <a:off x="1038960" y="510552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tells B it is okay to start se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7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9"/>
          <p:cNvSpPr/>
          <p:nvPr/>
        </p:nvSpPr>
        <p:spPr>
          <a:xfrm>
            <a:off x="-452880" y="5557680"/>
            <a:ext cx="100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pon receiving this packet, B can start send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quence Numb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DEFD-9DDE-44A2-A62C-7528FFA7801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2617920" y="2384280"/>
            <a:ext cx="1218960" cy="609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4"/>
          <p:cNvGrpSpPr/>
          <p:nvPr/>
        </p:nvGrpSpPr>
        <p:grpSpPr>
          <a:xfrm>
            <a:off x="1703520" y="2379600"/>
            <a:ext cx="5028840" cy="609840"/>
            <a:chOff x="1703520" y="2379600"/>
            <a:chExt cx="5028840" cy="609840"/>
          </a:xfrm>
        </p:grpSpPr>
        <p:sp>
          <p:nvSpPr>
            <p:cNvPr id="427" name="Line 5"/>
            <p:cNvSpPr/>
            <p:nvPr/>
          </p:nvSpPr>
          <p:spPr>
            <a:xfrm>
              <a:off x="1703520" y="2379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"/>
            <p:cNvSpPr/>
            <p:nvPr/>
          </p:nvSpPr>
          <p:spPr>
            <a:xfrm>
              <a:off x="1703520" y="29894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7"/>
            <p:cNvSpPr/>
            <p:nvPr/>
          </p:nvSpPr>
          <p:spPr>
            <a:xfrm flipH="1">
              <a:off x="6269400" y="2379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8"/>
            <p:cNvSpPr/>
            <p:nvPr/>
          </p:nvSpPr>
          <p:spPr>
            <a:xfrm flipH="1">
              <a:off x="6269400" y="29894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Line 9"/>
          <p:cNvSpPr/>
          <p:nvPr/>
        </p:nvSpPr>
        <p:spPr>
          <a:xfrm>
            <a:off x="1703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1855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1"/>
          <p:cNvSpPr/>
          <p:nvPr/>
        </p:nvSpPr>
        <p:spPr>
          <a:xfrm>
            <a:off x="2008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2160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2313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2465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2617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2770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7"/>
          <p:cNvSpPr/>
          <p:nvPr/>
        </p:nvSpPr>
        <p:spPr>
          <a:xfrm>
            <a:off x="2922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>
            <a:off x="3075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"/>
          <p:cNvSpPr/>
          <p:nvPr/>
        </p:nvSpPr>
        <p:spPr>
          <a:xfrm>
            <a:off x="3227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0"/>
          <p:cNvSpPr/>
          <p:nvPr/>
        </p:nvSpPr>
        <p:spPr>
          <a:xfrm>
            <a:off x="3379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1"/>
          <p:cNvSpPr/>
          <p:nvPr/>
        </p:nvSpPr>
        <p:spPr>
          <a:xfrm>
            <a:off x="3532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684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>
            <a:off x="3836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>
            <a:off x="3989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5"/>
          <p:cNvSpPr/>
          <p:nvPr/>
        </p:nvSpPr>
        <p:spPr>
          <a:xfrm>
            <a:off x="4141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6"/>
          <p:cNvSpPr/>
          <p:nvPr/>
        </p:nvSpPr>
        <p:spPr>
          <a:xfrm>
            <a:off x="4294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7"/>
          <p:cNvSpPr/>
          <p:nvPr/>
        </p:nvSpPr>
        <p:spPr>
          <a:xfrm>
            <a:off x="4446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8"/>
          <p:cNvSpPr/>
          <p:nvPr/>
        </p:nvSpPr>
        <p:spPr>
          <a:xfrm>
            <a:off x="4599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9"/>
          <p:cNvSpPr/>
          <p:nvPr/>
        </p:nvSpPr>
        <p:spPr>
          <a:xfrm>
            <a:off x="4751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0"/>
          <p:cNvSpPr/>
          <p:nvPr/>
        </p:nvSpPr>
        <p:spPr>
          <a:xfrm>
            <a:off x="4903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31"/>
          <p:cNvSpPr/>
          <p:nvPr/>
        </p:nvSpPr>
        <p:spPr>
          <a:xfrm>
            <a:off x="5056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2"/>
          <p:cNvSpPr/>
          <p:nvPr/>
        </p:nvSpPr>
        <p:spPr>
          <a:xfrm>
            <a:off x="5208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33"/>
          <p:cNvSpPr/>
          <p:nvPr/>
        </p:nvSpPr>
        <p:spPr>
          <a:xfrm>
            <a:off x="5361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4"/>
          <p:cNvSpPr/>
          <p:nvPr/>
        </p:nvSpPr>
        <p:spPr>
          <a:xfrm>
            <a:off x="5513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5"/>
          <p:cNvSpPr/>
          <p:nvPr/>
        </p:nvSpPr>
        <p:spPr>
          <a:xfrm>
            <a:off x="5665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6"/>
          <p:cNvSpPr/>
          <p:nvPr/>
        </p:nvSpPr>
        <p:spPr>
          <a:xfrm>
            <a:off x="5818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7"/>
          <p:cNvSpPr/>
          <p:nvPr/>
        </p:nvSpPr>
        <p:spPr>
          <a:xfrm>
            <a:off x="5970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8"/>
          <p:cNvSpPr/>
          <p:nvPr/>
        </p:nvSpPr>
        <p:spPr>
          <a:xfrm>
            <a:off x="6122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9"/>
          <p:cNvSpPr/>
          <p:nvPr/>
        </p:nvSpPr>
        <p:spPr>
          <a:xfrm>
            <a:off x="6275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40"/>
          <p:cNvSpPr/>
          <p:nvPr/>
        </p:nvSpPr>
        <p:spPr>
          <a:xfrm>
            <a:off x="642780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1"/>
          <p:cNvSpPr/>
          <p:nvPr/>
        </p:nvSpPr>
        <p:spPr>
          <a:xfrm>
            <a:off x="658008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42"/>
          <p:cNvGrpSpPr/>
          <p:nvPr/>
        </p:nvGrpSpPr>
        <p:grpSpPr>
          <a:xfrm>
            <a:off x="2998800" y="5584680"/>
            <a:ext cx="5028840" cy="609840"/>
            <a:chOff x="2998800" y="5584680"/>
            <a:chExt cx="5028840" cy="609840"/>
          </a:xfrm>
        </p:grpSpPr>
        <p:sp>
          <p:nvSpPr>
            <p:cNvPr id="465" name="Line 43"/>
            <p:cNvSpPr/>
            <p:nvPr/>
          </p:nvSpPr>
          <p:spPr>
            <a:xfrm>
              <a:off x="2998800" y="5584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44"/>
            <p:cNvSpPr/>
            <p:nvPr/>
          </p:nvSpPr>
          <p:spPr>
            <a:xfrm>
              <a:off x="2998800" y="6194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45"/>
            <p:cNvSpPr/>
            <p:nvPr/>
          </p:nvSpPr>
          <p:spPr>
            <a:xfrm flipH="1">
              <a:off x="7564680" y="5584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46"/>
            <p:cNvSpPr/>
            <p:nvPr/>
          </p:nvSpPr>
          <p:spPr>
            <a:xfrm flipH="1">
              <a:off x="7564680" y="6194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Line 47"/>
          <p:cNvSpPr/>
          <p:nvPr/>
        </p:nvSpPr>
        <p:spPr>
          <a:xfrm>
            <a:off x="2998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48"/>
          <p:cNvSpPr/>
          <p:nvPr/>
        </p:nvSpPr>
        <p:spPr>
          <a:xfrm>
            <a:off x="3151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49"/>
          <p:cNvSpPr/>
          <p:nvPr/>
        </p:nvSpPr>
        <p:spPr>
          <a:xfrm>
            <a:off x="3303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50"/>
          <p:cNvSpPr/>
          <p:nvPr/>
        </p:nvSpPr>
        <p:spPr>
          <a:xfrm>
            <a:off x="3456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51"/>
          <p:cNvSpPr/>
          <p:nvPr/>
        </p:nvSpPr>
        <p:spPr>
          <a:xfrm>
            <a:off x="3608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52"/>
          <p:cNvSpPr/>
          <p:nvPr/>
        </p:nvSpPr>
        <p:spPr>
          <a:xfrm>
            <a:off x="3760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3"/>
          <p:cNvSpPr/>
          <p:nvPr/>
        </p:nvSpPr>
        <p:spPr>
          <a:xfrm>
            <a:off x="3913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54"/>
          <p:cNvSpPr/>
          <p:nvPr/>
        </p:nvSpPr>
        <p:spPr>
          <a:xfrm>
            <a:off x="4065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55"/>
          <p:cNvSpPr/>
          <p:nvPr/>
        </p:nvSpPr>
        <p:spPr>
          <a:xfrm>
            <a:off x="4218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56"/>
          <p:cNvSpPr/>
          <p:nvPr/>
        </p:nvSpPr>
        <p:spPr>
          <a:xfrm>
            <a:off x="4370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57"/>
          <p:cNvSpPr/>
          <p:nvPr/>
        </p:nvSpPr>
        <p:spPr>
          <a:xfrm>
            <a:off x="4522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58"/>
          <p:cNvSpPr/>
          <p:nvPr/>
        </p:nvSpPr>
        <p:spPr>
          <a:xfrm>
            <a:off x="4675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59"/>
          <p:cNvSpPr/>
          <p:nvPr/>
        </p:nvSpPr>
        <p:spPr>
          <a:xfrm>
            <a:off x="4827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60"/>
          <p:cNvSpPr/>
          <p:nvPr/>
        </p:nvSpPr>
        <p:spPr>
          <a:xfrm>
            <a:off x="4979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61"/>
          <p:cNvSpPr/>
          <p:nvPr/>
        </p:nvSpPr>
        <p:spPr>
          <a:xfrm>
            <a:off x="5132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62"/>
          <p:cNvSpPr/>
          <p:nvPr/>
        </p:nvSpPr>
        <p:spPr>
          <a:xfrm>
            <a:off x="5284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3"/>
          <p:cNvSpPr/>
          <p:nvPr/>
        </p:nvSpPr>
        <p:spPr>
          <a:xfrm>
            <a:off x="5437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64"/>
          <p:cNvSpPr/>
          <p:nvPr/>
        </p:nvSpPr>
        <p:spPr>
          <a:xfrm>
            <a:off x="5589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65"/>
          <p:cNvSpPr/>
          <p:nvPr/>
        </p:nvSpPr>
        <p:spPr>
          <a:xfrm>
            <a:off x="5742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66"/>
          <p:cNvSpPr/>
          <p:nvPr/>
        </p:nvSpPr>
        <p:spPr>
          <a:xfrm>
            <a:off x="5894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67"/>
          <p:cNvSpPr/>
          <p:nvPr/>
        </p:nvSpPr>
        <p:spPr>
          <a:xfrm>
            <a:off x="6046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8"/>
          <p:cNvSpPr/>
          <p:nvPr/>
        </p:nvSpPr>
        <p:spPr>
          <a:xfrm>
            <a:off x="6199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9"/>
          <p:cNvSpPr/>
          <p:nvPr/>
        </p:nvSpPr>
        <p:spPr>
          <a:xfrm>
            <a:off x="6351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70"/>
          <p:cNvSpPr/>
          <p:nvPr/>
        </p:nvSpPr>
        <p:spPr>
          <a:xfrm>
            <a:off x="6504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71"/>
          <p:cNvSpPr/>
          <p:nvPr/>
        </p:nvSpPr>
        <p:spPr>
          <a:xfrm>
            <a:off x="6656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72"/>
          <p:cNvSpPr/>
          <p:nvPr/>
        </p:nvSpPr>
        <p:spPr>
          <a:xfrm>
            <a:off x="6808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73"/>
          <p:cNvSpPr/>
          <p:nvPr/>
        </p:nvSpPr>
        <p:spPr>
          <a:xfrm>
            <a:off x="6961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4"/>
          <p:cNvSpPr/>
          <p:nvPr/>
        </p:nvSpPr>
        <p:spPr>
          <a:xfrm>
            <a:off x="7113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75"/>
          <p:cNvSpPr/>
          <p:nvPr/>
        </p:nvSpPr>
        <p:spPr>
          <a:xfrm>
            <a:off x="7265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76"/>
          <p:cNvSpPr/>
          <p:nvPr/>
        </p:nvSpPr>
        <p:spPr>
          <a:xfrm>
            <a:off x="7418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77"/>
          <p:cNvSpPr/>
          <p:nvPr/>
        </p:nvSpPr>
        <p:spPr>
          <a:xfrm>
            <a:off x="7570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78"/>
          <p:cNvSpPr/>
          <p:nvPr/>
        </p:nvSpPr>
        <p:spPr>
          <a:xfrm>
            <a:off x="772308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9"/>
          <p:cNvSpPr/>
          <p:nvPr/>
        </p:nvSpPr>
        <p:spPr>
          <a:xfrm>
            <a:off x="787572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0"/>
          <p:cNvSpPr/>
          <p:nvPr/>
        </p:nvSpPr>
        <p:spPr>
          <a:xfrm>
            <a:off x="511920" y="1295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1"/>
          <p:cNvSpPr/>
          <p:nvPr/>
        </p:nvSpPr>
        <p:spPr>
          <a:xfrm>
            <a:off x="497160" y="5056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82"/>
          <p:cNvSpPr/>
          <p:nvPr/>
        </p:nvSpPr>
        <p:spPr>
          <a:xfrm>
            <a:off x="2612880" y="34513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83"/>
          <p:cNvSpPr/>
          <p:nvPr/>
        </p:nvSpPr>
        <p:spPr>
          <a:xfrm>
            <a:off x="3913200" y="47466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84"/>
          <p:cNvSpPr/>
          <p:nvPr/>
        </p:nvSpPr>
        <p:spPr>
          <a:xfrm>
            <a:off x="2617920" y="3832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85"/>
          <p:cNvSpPr/>
          <p:nvPr/>
        </p:nvSpPr>
        <p:spPr>
          <a:xfrm>
            <a:off x="3836880" y="38322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86"/>
          <p:cNvSpPr/>
          <p:nvPr/>
        </p:nvSpPr>
        <p:spPr>
          <a:xfrm>
            <a:off x="26892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87"/>
          <p:cNvSpPr/>
          <p:nvPr/>
        </p:nvSpPr>
        <p:spPr>
          <a:xfrm>
            <a:off x="28414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88"/>
          <p:cNvSpPr/>
          <p:nvPr/>
        </p:nvSpPr>
        <p:spPr>
          <a:xfrm>
            <a:off x="299412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89"/>
          <p:cNvSpPr/>
          <p:nvPr/>
        </p:nvSpPr>
        <p:spPr>
          <a:xfrm>
            <a:off x="31464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90"/>
          <p:cNvSpPr/>
          <p:nvPr/>
        </p:nvSpPr>
        <p:spPr>
          <a:xfrm>
            <a:off x="37558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91"/>
          <p:cNvSpPr/>
          <p:nvPr/>
        </p:nvSpPr>
        <p:spPr>
          <a:xfrm>
            <a:off x="3298680" y="321804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92"/>
          <p:cNvSpPr/>
          <p:nvPr/>
        </p:nvSpPr>
        <p:spPr>
          <a:xfrm>
            <a:off x="39895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93"/>
          <p:cNvSpPr/>
          <p:nvPr/>
        </p:nvSpPr>
        <p:spPr>
          <a:xfrm>
            <a:off x="41418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94"/>
          <p:cNvSpPr/>
          <p:nvPr/>
        </p:nvSpPr>
        <p:spPr>
          <a:xfrm>
            <a:off x="429408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95"/>
          <p:cNvSpPr/>
          <p:nvPr/>
        </p:nvSpPr>
        <p:spPr>
          <a:xfrm>
            <a:off x="44467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96"/>
          <p:cNvSpPr/>
          <p:nvPr/>
        </p:nvSpPr>
        <p:spPr>
          <a:xfrm>
            <a:off x="50562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97"/>
          <p:cNvSpPr/>
          <p:nvPr/>
        </p:nvSpPr>
        <p:spPr>
          <a:xfrm>
            <a:off x="4599000" y="535140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98"/>
          <p:cNvSpPr/>
          <p:nvPr/>
        </p:nvSpPr>
        <p:spPr>
          <a:xfrm>
            <a:off x="2611440" y="3454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99"/>
          <p:cNvSpPr/>
          <p:nvPr/>
        </p:nvSpPr>
        <p:spPr>
          <a:xfrm>
            <a:off x="3835440" y="47642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04"/>
          <p:cNvSpPr/>
          <p:nvPr/>
        </p:nvSpPr>
        <p:spPr>
          <a:xfrm>
            <a:off x="1003680" y="185112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ISN (initial sequence numb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05"/>
          <p:cNvSpPr/>
          <p:nvPr/>
        </p:nvSpPr>
        <p:spPr>
          <a:xfrm>
            <a:off x="1703520" y="215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06"/>
          <p:cNvSpPr/>
          <p:nvPr/>
        </p:nvSpPr>
        <p:spPr>
          <a:xfrm>
            <a:off x="560520" y="3298680"/>
            <a:ext cx="1904760" cy="914400"/>
          </a:xfrm>
          <a:prstGeom prst="wedgeRectCallout">
            <a:avLst>
              <a:gd name="adj1" fmla="val 58583"/>
              <a:gd name="adj2" fmla="val -831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quence number =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y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07"/>
          <p:cNvSpPr/>
          <p:nvPr/>
        </p:nvSpPr>
        <p:spPr>
          <a:xfrm>
            <a:off x="3913200" y="5584680"/>
            <a:ext cx="12193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9"/>
          <p:cNvSpPr/>
          <p:nvPr/>
        </p:nvSpPr>
        <p:spPr>
          <a:xfrm>
            <a:off x="5132520" y="5584680"/>
            <a:ext cx="15228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11"/>
          <p:cNvSpPr/>
          <p:nvPr/>
        </p:nvSpPr>
        <p:spPr>
          <a:xfrm rot="5390400">
            <a:off x="2381400" y="257472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CP Head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E016-510B-49A7-85BF-657E58D1C4A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4645800" y="2408400"/>
            <a:ext cx="2386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quence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2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3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4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5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6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7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8"/>
          <p:cNvSpPr/>
          <p:nvPr/>
        </p:nvSpPr>
        <p:spPr>
          <a:xfrm>
            <a:off x="486468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0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1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2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4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5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6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7"/>
          <p:cNvSpPr/>
          <p:nvPr/>
        </p:nvSpPr>
        <p:spPr>
          <a:xfrm>
            <a:off x="657000" y="27050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8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ceive Buffering: Flow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Receive window siz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Amount that can be sent without acknowled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Receiver must be able to store this amount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Receiver tells the sender the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Tells the sender the amount of free space lef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0E9B-78C1-481B-8CE1-A8F0114C713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4"/>
          <p:cNvSpPr/>
          <p:nvPr/>
        </p:nvSpPr>
        <p:spPr>
          <a:xfrm>
            <a:off x="2079720" y="480852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5"/>
          <p:cNvSpPr/>
          <p:nvPr/>
        </p:nvSpPr>
        <p:spPr>
          <a:xfrm>
            <a:off x="2079720" y="541800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"/>
          <p:cNvSpPr/>
          <p:nvPr/>
        </p:nvSpPr>
        <p:spPr>
          <a:xfrm flipH="1">
            <a:off x="6645240" y="4808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7"/>
          <p:cNvSpPr/>
          <p:nvPr/>
        </p:nvSpPr>
        <p:spPr>
          <a:xfrm flipH="1">
            <a:off x="6645240" y="5418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8"/>
          <p:cNvSpPr/>
          <p:nvPr/>
        </p:nvSpPr>
        <p:spPr>
          <a:xfrm>
            <a:off x="20797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"/>
          <p:cNvSpPr/>
          <p:nvPr/>
        </p:nvSpPr>
        <p:spPr>
          <a:xfrm>
            <a:off x="22320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23842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1"/>
          <p:cNvSpPr/>
          <p:nvPr/>
        </p:nvSpPr>
        <p:spPr>
          <a:xfrm>
            <a:off x="25369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2"/>
          <p:cNvSpPr/>
          <p:nvPr/>
        </p:nvSpPr>
        <p:spPr>
          <a:xfrm>
            <a:off x="26892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3"/>
          <p:cNvSpPr/>
          <p:nvPr/>
        </p:nvSpPr>
        <p:spPr>
          <a:xfrm>
            <a:off x="28414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4"/>
          <p:cNvSpPr/>
          <p:nvPr/>
        </p:nvSpPr>
        <p:spPr>
          <a:xfrm>
            <a:off x="29941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5"/>
          <p:cNvSpPr/>
          <p:nvPr/>
        </p:nvSpPr>
        <p:spPr>
          <a:xfrm>
            <a:off x="31464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6"/>
          <p:cNvSpPr/>
          <p:nvPr/>
        </p:nvSpPr>
        <p:spPr>
          <a:xfrm>
            <a:off x="32986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7"/>
          <p:cNvSpPr/>
          <p:nvPr/>
        </p:nvSpPr>
        <p:spPr>
          <a:xfrm>
            <a:off x="34513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8"/>
          <p:cNvSpPr/>
          <p:nvPr/>
        </p:nvSpPr>
        <p:spPr>
          <a:xfrm>
            <a:off x="36036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9"/>
          <p:cNvSpPr/>
          <p:nvPr/>
        </p:nvSpPr>
        <p:spPr>
          <a:xfrm>
            <a:off x="37558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0"/>
          <p:cNvSpPr/>
          <p:nvPr/>
        </p:nvSpPr>
        <p:spPr>
          <a:xfrm>
            <a:off x="39085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1"/>
          <p:cNvSpPr/>
          <p:nvPr/>
        </p:nvSpPr>
        <p:spPr>
          <a:xfrm>
            <a:off x="40608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22"/>
          <p:cNvSpPr/>
          <p:nvPr/>
        </p:nvSpPr>
        <p:spPr>
          <a:xfrm>
            <a:off x="42130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3"/>
          <p:cNvSpPr/>
          <p:nvPr/>
        </p:nvSpPr>
        <p:spPr>
          <a:xfrm>
            <a:off x="43657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4"/>
          <p:cNvSpPr/>
          <p:nvPr/>
        </p:nvSpPr>
        <p:spPr>
          <a:xfrm>
            <a:off x="45180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25"/>
          <p:cNvSpPr/>
          <p:nvPr/>
        </p:nvSpPr>
        <p:spPr>
          <a:xfrm>
            <a:off x="46702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6"/>
          <p:cNvSpPr/>
          <p:nvPr/>
        </p:nvSpPr>
        <p:spPr>
          <a:xfrm>
            <a:off x="48229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7"/>
          <p:cNvSpPr/>
          <p:nvPr/>
        </p:nvSpPr>
        <p:spPr>
          <a:xfrm>
            <a:off x="49752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8"/>
          <p:cNvSpPr/>
          <p:nvPr/>
        </p:nvSpPr>
        <p:spPr>
          <a:xfrm>
            <a:off x="51274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9"/>
          <p:cNvSpPr/>
          <p:nvPr/>
        </p:nvSpPr>
        <p:spPr>
          <a:xfrm>
            <a:off x="52801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30"/>
          <p:cNvSpPr/>
          <p:nvPr/>
        </p:nvSpPr>
        <p:spPr>
          <a:xfrm>
            <a:off x="54324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31"/>
          <p:cNvSpPr/>
          <p:nvPr/>
        </p:nvSpPr>
        <p:spPr>
          <a:xfrm>
            <a:off x="55846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32"/>
          <p:cNvSpPr/>
          <p:nvPr/>
        </p:nvSpPr>
        <p:spPr>
          <a:xfrm>
            <a:off x="57373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3"/>
          <p:cNvSpPr/>
          <p:nvPr/>
        </p:nvSpPr>
        <p:spPr>
          <a:xfrm>
            <a:off x="58896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4"/>
          <p:cNvSpPr/>
          <p:nvPr/>
        </p:nvSpPr>
        <p:spPr>
          <a:xfrm>
            <a:off x="60418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5"/>
          <p:cNvSpPr/>
          <p:nvPr/>
        </p:nvSpPr>
        <p:spPr>
          <a:xfrm>
            <a:off x="61945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6"/>
          <p:cNvSpPr/>
          <p:nvPr/>
        </p:nvSpPr>
        <p:spPr>
          <a:xfrm>
            <a:off x="63468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37"/>
          <p:cNvSpPr/>
          <p:nvPr/>
        </p:nvSpPr>
        <p:spPr>
          <a:xfrm>
            <a:off x="64990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8"/>
          <p:cNvSpPr/>
          <p:nvPr/>
        </p:nvSpPr>
        <p:spPr>
          <a:xfrm>
            <a:off x="66517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9"/>
          <p:cNvSpPr/>
          <p:nvPr/>
        </p:nvSpPr>
        <p:spPr>
          <a:xfrm>
            <a:off x="6804000" y="4808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0"/>
          <p:cNvSpPr/>
          <p:nvPr/>
        </p:nvSpPr>
        <p:spPr>
          <a:xfrm>
            <a:off x="6956280" y="4808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1"/>
          <p:cNvSpPr/>
          <p:nvPr/>
        </p:nvSpPr>
        <p:spPr>
          <a:xfrm>
            <a:off x="2994120" y="4432320"/>
            <a:ext cx="289548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2"/>
          <p:cNvSpPr/>
          <p:nvPr/>
        </p:nvSpPr>
        <p:spPr>
          <a:xfrm flipH="1">
            <a:off x="1616040" y="4808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43"/>
          <p:cNvSpPr/>
          <p:nvPr/>
        </p:nvSpPr>
        <p:spPr>
          <a:xfrm flipH="1">
            <a:off x="1616040" y="5418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44"/>
          <p:cNvSpPr/>
          <p:nvPr/>
        </p:nvSpPr>
        <p:spPr>
          <a:xfrm>
            <a:off x="1781280" y="48132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45"/>
          <p:cNvSpPr/>
          <p:nvPr/>
        </p:nvSpPr>
        <p:spPr>
          <a:xfrm>
            <a:off x="1933560" y="48132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46"/>
          <p:cNvSpPr/>
          <p:nvPr/>
        </p:nvSpPr>
        <p:spPr>
          <a:xfrm>
            <a:off x="4365720" y="4432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7"/>
          <p:cNvSpPr/>
          <p:nvPr/>
        </p:nvSpPr>
        <p:spPr>
          <a:xfrm>
            <a:off x="2994120" y="428004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8"/>
          <p:cNvSpPr/>
          <p:nvPr/>
        </p:nvSpPr>
        <p:spPr>
          <a:xfrm>
            <a:off x="3361680" y="3898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indow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49"/>
          <p:cNvSpPr/>
          <p:nvPr/>
        </p:nvSpPr>
        <p:spPr>
          <a:xfrm flipH="1">
            <a:off x="1469880" y="588024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50"/>
          <p:cNvSpPr/>
          <p:nvPr/>
        </p:nvSpPr>
        <p:spPr>
          <a:xfrm>
            <a:off x="5889600" y="58802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51"/>
          <p:cNvSpPr/>
          <p:nvPr/>
        </p:nvSpPr>
        <p:spPr>
          <a:xfrm>
            <a:off x="2994120" y="58802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52"/>
          <p:cNvSpPr/>
          <p:nvPr/>
        </p:nvSpPr>
        <p:spPr>
          <a:xfrm>
            <a:off x="4365720" y="588024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3"/>
          <p:cNvSpPr/>
          <p:nvPr/>
        </p:nvSpPr>
        <p:spPr>
          <a:xfrm>
            <a:off x="2994120" y="580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54"/>
          <p:cNvSpPr/>
          <p:nvPr/>
        </p:nvSpPr>
        <p:spPr>
          <a:xfrm>
            <a:off x="4365720" y="580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55"/>
          <p:cNvSpPr/>
          <p:nvPr/>
        </p:nvSpPr>
        <p:spPr>
          <a:xfrm>
            <a:off x="5889600" y="580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6"/>
          <p:cNvSpPr/>
          <p:nvPr/>
        </p:nvSpPr>
        <p:spPr>
          <a:xfrm>
            <a:off x="2831760" y="5883120"/>
            <a:ext cx="15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Outstand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Un-ack</a:t>
            </a:r>
            <a:r>
              <a:rPr b="1" lang="ja-JP" sz="1400" spc="-1" strike="noStrike">
                <a:solidFill>
                  <a:srgbClr val="0000ff"/>
                </a:solidFill>
                <a:latin typeface="Comic Sans MS"/>
              </a:rPr>
              <a:t>’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d 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7"/>
          <p:cNvSpPr/>
          <p:nvPr/>
        </p:nvSpPr>
        <p:spPr>
          <a:xfrm>
            <a:off x="4547880" y="58831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Data OK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to s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8"/>
          <p:cNvSpPr/>
          <p:nvPr/>
        </p:nvSpPr>
        <p:spPr>
          <a:xfrm>
            <a:off x="5769720" y="588312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not OK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send y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9"/>
          <p:cNvSpPr/>
          <p:nvPr/>
        </p:nvSpPr>
        <p:spPr>
          <a:xfrm>
            <a:off x="1540800" y="588312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ACK</a:t>
            </a:r>
            <a:r>
              <a:rPr b="1" lang="ja-JP" sz="1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CP Header: Receive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0E7D-90B9-43D7-B046-3C536AFBE8E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8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46432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0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2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3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4"/>
          <p:cNvSpPr/>
          <p:nvPr/>
        </p:nvSpPr>
        <p:spPr>
          <a:xfrm>
            <a:off x="5856840" y="3367080"/>
            <a:ext cx="22654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rtised wind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5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7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8"/>
          <p:cNvSpPr/>
          <p:nvPr/>
        </p:nvSpPr>
        <p:spPr>
          <a:xfrm>
            <a:off x="486468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9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0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2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5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6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7"/>
          <p:cNvSpPr/>
          <p:nvPr/>
        </p:nvSpPr>
        <p:spPr>
          <a:xfrm>
            <a:off x="657000" y="27050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8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earing Down the Conn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6840" y="4235400"/>
            <a:ext cx="8458200" cy="24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losing (each end of) the conn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Finish (FIN) to close and receive remaining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And other host sends a FIN ACK to ac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Reset (RST) to close and not receive remaining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A7C7-6D26-4FF3-855F-C148C69AB9B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4"/>
          <p:cNvSpPr/>
          <p:nvPr/>
        </p:nvSpPr>
        <p:spPr>
          <a:xfrm flipV="1">
            <a:off x="2044800" y="1758960"/>
            <a:ext cx="2872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5"/>
          <p:cNvSpPr/>
          <p:nvPr/>
        </p:nvSpPr>
        <p:spPr>
          <a:xfrm>
            <a:off x="2562120" y="1776240"/>
            <a:ext cx="300240" cy="157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6"/>
          <p:cNvSpPr/>
          <p:nvPr/>
        </p:nvSpPr>
        <p:spPr>
          <a:xfrm flipV="1">
            <a:off x="3154320" y="1773000"/>
            <a:ext cx="4572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7"/>
          <p:cNvSpPr/>
          <p:nvPr/>
        </p:nvSpPr>
        <p:spPr>
          <a:xfrm flipV="1">
            <a:off x="3686040" y="1767960"/>
            <a:ext cx="470160" cy="159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8"/>
          <p:cNvSpPr/>
          <p:nvPr/>
        </p:nvSpPr>
        <p:spPr>
          <a:xfrm rot="16805400">
            <a:off x="1554840" y="236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9"/>
          <p:cNvSpPr/>
          <p:nvPr/>
        </p:nvSpPr>
        <p:spPr>
          <a:xfrm rot="4713000">
            <a:off x="2277000" y="235800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 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0"/>
          <p:cNvSpPr/>
          <p:nvPr/>
        </p:nvSpPr>
        <p:spPr>
          <a:xfrm rot="17244600">
            <a:off x="2949120" y="2136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1"/>
          <p:cNvSpPr/>
          <p:nvPr/>
        </p:nvSpPr>
        <p:spPr>
          <a:xfrm rot="17203800">
            <a:off x="3398400" y="23785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2"/>
          <p:cNvSpPr/>
          <p:nvPr/>
        </p:nvSpPr>
        <p:spPr>
          <a:xfrm flipV="1">
            <a:off x="5637240" y="177012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3"/>
          <p:cNvSpPr/>
          <p:nvPr/>
        </p:nvSpPr>
        <p:spPr>
          <a:xfrm>
            <a:off x="6149880" y="176832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4"/>
          <p:cNvSpPr/>
          <p:nvPr/>
        </p:nvSpPr>
        <p:spPr>
          <a:xfrm rot="16897200">
            <a:off x="5308920" y="23349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5"/>
          <p:cNvSpPr/>
          <p:nvPr/>
        </p:nvSpPr>
        <p:spPr>
          <a:xfrm rot="4688400">
            <a:off x="6108840" y="23248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6"/>
          <p:cNvSpPr/>
          <p:nvPr/>
        </p:nvSpPr>
        <p:spPr>
          <a:xfrm>
            <a:off x="4280040" y="1770120"/>
            <a:ext cx="379440" cy="158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7"/>
          <p:cNvSpPr/>
          <p:nvPr/>
        </p:nvSpPr>
        <p:spPr>
          <a:xfrm flipV="1">
            <a:off x="1836720" y="1739880"/>
            <a:ext cx="642132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8"/>
          <p:cNvSpPr/>
          <p:nvPr/>
        </p:nvSpPr>
        <p:spPr>
          <a:xfrm flipV="1">
            <a:off x="1852560" y="3352320"/>
            <a:ext cx="6445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9"/>
          <p:cNvSpPr/>
          <p:nvPr/>
        </p:nvSpPr>
        <p:spPr>
          <a:xfrm rot="4676400">
            <a:off x="4299120" y="2366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0"/>
          <p:cNvSpPr/>
          <p:nvPr/>
        </p:nvSpPr>
        <p:spPr>
          <a:xfrm>
            <a:off x="3127320" y="359424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1"/>
          <p:cNvSpPr/>
          <p:nvPr/>
        </p:nvSpPr>
        <p:spPr>
          <a:xfrm>
            <a:off x="2524680" y="33948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22"/>
          <p:cNvSpPr/>
          <p:nvPr/>
        </p:nvSpPr>
        <p:spPr>
          <a:xfrm>
            <a:off x="1350000" y="310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23"/>
          <p:cNvSpPr/>
          <p:nvPr/>
        </p:nvSpPr>
        <p:spPr>
          <a:xfrm>
            <a:off x="1306800" y="1567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24"/>
          <p:cNvSpPr/>
          <p:nvPr/>
        </p:nvSpPr>
        <p:spPr>
          <a:xfrm>
            <a:off x="4819680" y="31050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25"/>
          <p:cNvSpPr/>
          <p:nvPr/>
        </p:nvSpPr>
        <p:spPr>
          <a:xfrm>
            <a:off x="5025960" y="311292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6"/>
          <p:cNvSpPr/>
          <p:nvPr/>
        </p:nvSpPr>
        <p:spPr>
          <a:xfrm>
            <a:off x="5241960" y="310500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7"/>
          <p:cNvSpPr/>
          <p:nvPr/>
        </p:nvSpPr>
        <p:spPr>
          <a:xfrm>
            <a:off x="6799320" y="177804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8"/>
          <p:cNvSpPr/>
          <p:nvPr/>
        </p:nvSpPr>
        <p:spPr>
          <a:xfrm rot="4688400">
            <a:off x="6822000" y="23353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9"/>
          <p:cNvSpPr/>
          <p:nvPr/>
        </p:nvSpPr>
        <p:spPr>
          <a:xfrm flipV="1">
            <a:off x="7602480" y="173988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0"/>
          <p:cNvSpPr/>
          <p:nvPr/>
        </p:nvSpPr>
        <p:spPr>
          <a:xfrm rot="16897200">
            <a:off x="7211160" y="230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ntent Placeholder 4" descr=""/>
          <p:cNvPicPr/>
          <p:nvPr/>
        </p:nvPicPr>
        <p:blipFill>
          <a:blip r:embed="rId1"/>
          <a:srcRect l="13866" t="0" r="13866" b="0"/>
          <a:stretch/>
        </p:blipFill>
        <p:spPr>
          <a:xfrm>
            <a:off x="1038240" y="2200320"/>
            <a:ext cx="7145280" cy="4008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ing With Unmodified Ap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9320"/>
            <a:ext cx="845820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sent the same socket API and expect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ied by the “five tuple” (IP address, port #, protocol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0C37-F230-4999-A20B-51F697733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384200" y="6270480"/>
            <a:ext cx="628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http://queue.acm.org/detail.cfm?id=259136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ending TCP: TCP O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360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head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n mandatory fiel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onal extension field (usually during handshak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um segment size (MS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ndow scal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rt for Selected AC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known op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gnored by receiving h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uters and TCP op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ould ignore them, passing them through unchang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66CB-73AF-41E9-845C-8CDFBBED8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4"/>
          <p:cNvSpPr/>
          <p:nvPr/>
        </p:nvSpPr>
        <p:spPr>
          <a:xfrm>
            <a:off x="5110200" y="4043520"/>
            <a:ext cx="341784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, some middleboxes: (i) strip TCP options from some packets or (ii) drop packets with TCP op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ing With Unmodified Ho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stablish the TCP connection in the normal w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reate a socket to a single remote IP address/po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then add more subflows, if possi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06EB-D0AE-4779-97F8-F800C0B9C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2489040" y="3100320"/>
            <a:ext cx="160344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 flipH="1">
            <a:off x="2499840" y="361800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2478240" y="421020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2482920" y="4741200"/>
            <a:ext cx="159840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 rot="605400">
            <a:off x="2939040" y="27565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 flipH="1" flipV="1" rot="10146600">
            <a:off x="2626560" y="339588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N 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 rot="1044600">
            <a:off x="3154320" y="41648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 rot="1003800">
            <a:off x="2942640" y="45849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4079880" y="2892600"/>
            <a:ext cx="6480" cy="2890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>
            <a:off x="2473200" y="2908440"/>
            <a:ext cx="23760" cy="279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315160" y="2450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881520" y="241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2511360" y="508248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 rot="1003800">
            <a:off x="2971440" y="49262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802040" y="3362400"/>
            <a:ext cx="380232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host tells it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tial Sequence Number (ISN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he other ho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otiating MPTCP Cap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218960"/>
            <a:ext cx="845820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do hosts know they both speak MPTCP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uring the 3-way SYN/SYN-ACK/ACK handshak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SYN-ACK doesn’t contain MP_CAP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n’t try to add any subflows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1C90-E975-4F9A-AA2C-E62D00254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768320" y="2246400"/>
            <a:ext cx="57610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ng Subflows, Idealiz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associate a new subflow with the connection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 token generated from original subflow set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start using the new subflow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mply start sending packets with new IP/port pai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associate them with the existing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could two end-points learn about extra IP addresses for establishing new subflow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licitly: one end-point establishes a new subflow, to already-known address(es) at the other end-po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0F3D-F362-4112-9BCD-E2FB665C3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quence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llenges across subflow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ut-of-order packets due to RTT differe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cess networks that rewrite sequence nu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ddleboxes upset by discontinuous TCP byte stre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ed to retransmit lost packets on a different sub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wo levels of sequence numb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quence numbers per sub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quence numbers for the entire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fficient detection of loss on each sub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ransmission of lost packet on a different sub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EC9D-1187-49F2-89A9-2613644B6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ive Buffer Sp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TCP connection has a receive buff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ffer space to store incoming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til it is read by the appl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flow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advertises the available buffer sp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ing the “receive window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ould each subflow have its own receive window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arvation of some subflows in a connectio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rness relative to other TCP connection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agmentation of the available buffer spac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stead, use a common receive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47A8-E100-4414-82A4-86CE9C171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28:01Z</dcterms:created>
  <dc:creator>Kai Li</dc:creator>
  <dc:description/>
  <dc:language>en-US</dc:language>
  <cp:lastModifiedBy>Jen</cp:lastModifiedBy>
  <cp:lastPrinted>2010-09-22T18:12:26Z</cp:lastPrinted>
  <dcterms:modified xsi:type="dcterms:W3CDTF">2017-09-29T02:32:53Z</dcterms:modified>
  <cp:revision>3346</cp:revision>
  <dc:subject/>
  <dc:title>Communication</dc:title>
</cp:coreProperties>
</file>