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17294D-5544-46DA-81DA-0749854CB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FB2305-AD53-42F7-A059-1EBB157DDA5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very first thing that comes to mind with multipath TCP, and it’s something that many other people have solved in different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just a warm-up... Design Goal 3 is a much “richer” generalization of this goal, which accommodates different topologies, different RTTs. So there’s no point giving an evaluation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086B813-EF0A-40B5-BC29-BF051C08ADE0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’m thinking of the paths as given. MPTCP has the choice of how to split its traffic over those given p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332B021-E6A1-43A5-9677-84D252AF6D1E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47CFF8-1C4B-4500-A896-2649E160C67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9F83C7-2E4E-45E2-83CA-5D5407D389A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6934C19-41CE-49C1-B52B-B1541BE4513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B1222C-C285-4255-B857-C8BA921E1B2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8BA6E61-5983-4B29-8C8A-1DEE106A1A8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A51399-13D5-4A77-BBB9-6EED07E0950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0E79E85-57A8-4C66-9710-7A131A9FAC8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090D5CD-4AFE-4FBD-9142-BD2E8CE616A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31756D8-AD4A-4CA3-A9E7-01045B86FD0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4C04D3-9778-4E93-8007-873EC97E66C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459A4F-56AE-44F9-9FE2-CD109E2F87D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5BCF-8EA0-4EA1-85D3-61D8F941B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A132-2E95-46F5-8762-23C162242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7564-3862-4FA8-BB04-4835F7A1B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F448-6018-4BE6-A7B5-B953CFB9C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3B9D-4924-4472-9C2B-1FA0E593FF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B395-3AF6-4C8A-98FD-C0A0D4A2AF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862E-E6F4-4F04-A12C-48BEC10BED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5097-44C5-4341-8DDA-D7FE7C56DF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DC41-197C-47EF-80D2-D675458276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597D-37B4-408C-BF07-9BF655960D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A4CD-EDA2-4293-A1CB-873E3C3A73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0A47-E991-4DE2-9266-29256E0B7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0E0B-06E3-4ABD-BFB2-BA861CE97C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D3A8-29C0-476E-9B12-A7E3B3E04D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A4C0-3428-4E5B-AAA4-F1D432617A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4C3B-1B8A-4086-B7B3-F1987F7534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2CE5-B069-4419-B09B-64A656075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7D38-0DAA-4A61-A172-0C4C06B72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DB14-B172-4C3B-A439-F0482F1A4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F025-1DD4-4725-915C-53428FB66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8F4A-5586-4265-BD28-6F38CDE8E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8D9F-5B1A-498A-B991-2BFE9D1C9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E875-59B3-4D1C-A70B-E2CDAC582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E495-B71A-44B4-9ECC-AED93BD8E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BEF4-7B51-462E-9D1A-651BB5230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F9E5-34FD-4F30-BE80-C99129FC7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33520" y="22003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Multipath TCP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airness and Efficiency in Multipath Congestion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s from Damon Wischi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F046-963D-402C-A63B-11774D75D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#1: Fairness at Shared Bottlene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7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o be fair, Multipath TCP should take as much capacity as TCP at a bottleneck link, no matter how many paths it is using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Slide Number Placeholder 15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5EAB-D292-420E-B17A-04FC9CE79F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4"/>
          <p:cNvGrpSpPr/>
          <p:nvPr/>
        </p:nvGrpSpPr>
        <p:grpSpPr>
          <a:xfrm>
            <a:off x="2674800" y="2276640"/>
            <a:ext cx="4273560" cy="1511280"/>
            <a:chOff x="2674800" y="2276640"/>
            <a:chExt cx="4273560" cy="1511280"/>
          </a:xfrm>
        </p:grpSpPr>
        <p:sp>
          <p:nvSpPr>
            <p:cNvPr id="144" name="Oval 18"/>
            <p:cNvSpPr/>
            <p:nvPr/>
          </p:nvSpPr>
          <p:spPr>
            <a:xfrm flipV="1" rot="16200000">
              <a:off x="3854520" y="2657880"/>
              <a:ext cx="987480" cy="347400"/>
            </a:xfrm>
            <a:prstGeom prst="ellipse">
              <a:avLst/>
            </a:prstGeom>
            <a:solidFill>
              <a:srgbClr val="b75c00"/>
            </a:solidFill>
            <a:ln w="19080">
              <a:solidFill>
                <a:srgbClr val="ffa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 flipV="1">
              <a:off x="2674800" y="2616840"/>
              <a:ext cx="3999240" cy="506520"/>
            </a:xfrm>
            <a:custGeom>
              <a:avLst/>
              <a:gdLst/>
              <a:ahLst/>
              <a:rect l="l" t="t" r="r" b="b"/>
              <a:pathLst>
                <a:path w="6210342" h="451287">
                  <a:moveTo>
                    <a:pt x="0" y="379348"/>
                  </a:moveTo>
                  <a:cubicBezTo>
                    <a:pt x="61410" y="379680"/>
                    <a:pt x="210417" y="388663"/>
                    <a:pt x="323938" y="333376"/>
                  </a:cubicBezTo>
                  <a:cubicBezTo>
                    <a:pt x="437459" y="278089"/>
                    <a:pt x="466814" y="95250"/>
                    <a:pt x="681128" y="47625"/>
                  </a:cubicBezTo>
                  <a:cubicBezTo>
                    <a:pt x="895442" y="0"/>
                    <a:pt x="1401597" y="13195"/>
                    <a:pt x="1609822" y="47624"/>
                  </a:cubicBezTo>
                  <a:cubicBezTo>
                    <a:pt x="1818047" y="82054"/>
                    <a:pt x="1815751" y="209181"/>
                    <a:pt x="1930479" y="254202"/>
                  </a:cubicBezTo>
                  <a:cubicBezTo>
                    <a:pt x="2045207" y="299223"/>
                    <a:pt x="2132876" y="316090"/>
                    <a:pt x="2298189" y="317752"/>
                  </a:cubicBezTo>
                  <a:lnTo>
                    <a:pt x="5483670" y="326716"/>
                  </a:lnTo>
                  <a:cubicBezTo>
                    <a:pt x="5869146" y="327373"/>
                    <a:pt x="5583901" y="451287"/>
                    <a:pt x="6210342" y="433934"/>
                  </a:cubicBezTo>
                </a:path>
              </a:pathLst>
            </a:custGeom>
            <a:noFill/>
            <a:ln w="10152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2682720" y="2276640"/>
              <a:ext cx="4135680" cy="438120"/>
            </a:xfrm>
            <a:custGeom>
              <a:avLst/>
              <a:gdLst/>
              <a:ahLst/>
              <a:rect l="l" t="t" r="r" b="b"/>
              <a:pathLst>
                <a:path w="6421916" h="389770">
                  <a:moveTo>
                    <a:pt x="0" y="385986"/>
                  </a:moveTo>
                  <a:cubicBezTo>
                    <a:pt x="61410" y="386318"/>
                    <a:pt x="187988" y="389770"/>
                    <a:pt x="297024" y="333376"/>
                  </a:cubicBezTo>
                  <a:cubicBezTo>
                    <a:pt x="406060" y="276983"/>
                    <a:pt x="439900" y="95250"/>
                    <a:pt x="654214" y="47625"/>
                  </a:cubicBezTo>
                  <a:cubicBezTo>
                    <a:pt x="868528" y="0"/>
                    <a:pt x="1387738" y="14566"/>
                    <a:pt x="1582908" y="47624"/>
                  </a:cubicBezTo>
                  <a:cubicBezTo>
                    <a:pt x="1778079" y="80682"/>
                    <a:pt x="1723560" y="202310"/>
                    <a:pt x="1825237" y="245974"/>
                  </a:cubicBezTo>
                  <a:cubicBezTo>
                    <a:pt x="1926914" y="289638"/>
                    <a:pt x="2128232" y="304624"/>
                    <a:pt x="2192971" y="309609"/>
                  </a:cubicBezTo>
                  <a:lnTo>
                    <a:pt x="6421916" y="309609"/>
                  </a:lnTo>
                </a:path>
              </a:pathLst>
            </a:custGeom>
            <a:noFill/>
            <a:ln w="101520">
              <a:solidFill>
                <a:srgbClr val="bfbfb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3031920" y="2981520"/>
              <a:ext cx="3591000" cy="806400"/>
            </a:xfrm>
            <a:custGeom>
              <a:avLst/>
              <a:gdLst/>
              <a:ahLst/>
              <a:rect l="l" t="t" r="r" b="b"/>
              <a:pathLst>
                <a:path w="2062667" h="389771">
                  <a:moveTo>
                    <a:pt x="0" y="385987"/>
                  </a:moveTo>
                  <a:cubicBezTo>
                    <a:pt x="61410" y="386319"/>
                    <a:pt x="187988" y="389771"/>
                    <a:pt x="297024" y="333377"/>
                  </a:cubicBezTo>
                  <a:cubicBezTo>
                    <a:pt x="406060" y="276984"/>
                    <a:pt x="439900" y="95251"/>
                    <a:pt x="654214" y="47626"/>
                  </a:cubicBezTo>
                  <a:cubicBezTo>
                    <a:pt x="868528" y="1"/>
                    <a:pt x="1380500" y="0"/>
                    <a:pt x="1582908" y="47625"/>
                  </a:cubicBezTo>
                  <a:cubicBezTo>
                    <a:pt x="1785316" y="95250"/>
                    <a:pt x="1788700" y="280289"/>
                    <a:pt x="1868660" y="333377"/>
                  </a:cubicBezTo>
                  <a:cubicBezTo>
                    <a:pt x="1948620" y="386465"/>
                    <a:pt x="1997928" y="361171"/>
                    <a:pt x="2062667" y="366156"/>
                  </a:cubicBezTo>
                </a:path>
              </a:pathLst>
            </a:custGeom>
            <a:noFill/>
            <a:ln w="24120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 flipV="1">
              <a:off x="4370040" y="2338560"/>
              <a:ext cx="1662120" cy="984240"/>
            </a:xfrm>
            <a:custGeom>
              <a:avLst/>
              <a:gdLst/>
              <a:ahLst/>
              <a:rect l="l" t="t" r="r" b="b"/>
              <a:pathLst>
                <a:path w="3399613" h="2428893">
                  <a:moveTo>
                    <a:pt x="0" y="0"/>
                  </a:moveTo>
                  <a:lnTo>
                    <a:pt x="3106385" y="10960"/>
                  </a:lnTo>
                  <a:cubicBezTo>
                    <a:pt x="3325724" y="102265"/>
                    <a:pt x="3387317" y="841349"/>
                    <a:pt x="3393465" y="1244338"/>
                  </a:cubicBezTo>
                  <a:cubicBezTo>
                    <a:pt x="3399613" y="1647327"/>
                    <a:pt x="3360333" y="2202172"/>
                    <a:pt x="3143271" y="2428893"/>
                  </a:cubicBezTo>
                  <a:lnTo>
                    <a:pt x="1678" y="2424551"/>
                  </a:lnTo>
                  <a:cubicBezTo>
                    <a:pt x="214572" y="2273571"/>
                    <a:pt x="233519" y="1692739"/>
                    <a:pt x="246210" y="1246345"/>
                  </a:cubicBezTo>
                  <a:cubicBezTo>
                    <a:pt x="209662" y="797020"/>
                    <a:pt x="223526" y="151620"/>
                    <a:pt x="0" y="0"/>
                  </a:cubicBezTo>
                  <a:close/>
                </a:path>
              </a:pathLst>
            </a:custGeom>
            <a:solidFill>
              <a:srgbClr val="ffca95">
                <a:alpha val="59000"/>
              </a:srgbClr>
            </a:solidFill>
            <a:ln w="25560">
              <a:solidFill>
                <a:srgbClr val="ffa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10"/>
            <p:cNvSpPr/>
            <p:nvPr/>
          </p:nvSpPr>
          <p:spPr>
            <a:xfrm>
              <a:off x="6622920" y="3738960"/>
              <a:ext cx="325440" cy="4680"/>
            </a:xfrm>
            <a:prstGeom prst="line">
              <a:avLst/>
            </a:prstGeom>
            <a:ln w="10152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1"/>
          <p:cNvSpPr/>
          <p:nvPr/>
        </p:nvSpPr>
        <p:spPr>
          <a:xfrm>
            <a:off x="577800" y="2217600"/>
            <a:ext cx="204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ultipath TCP flow with two subfl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846000" y="3544920"/>
            <a:ext cx="17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Regular 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#2: 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3816000"/>
            <a:ext cx="84582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ach flow has a choice of a 1-hop and a 2-hop path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ow should split its traffic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Slide Number Placeholder 21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559D-435F-48B2-BACF-3FE3FB7F3D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159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7632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7632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162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7632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165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7632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7632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2"/>
          <p:cNvSpPr/>
          <p:nvPr/>
        </p:nvSpPr>
        <p:spPr>
          <a:xfrm>
            <a:off x="2306520" y="193212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3"/>
          <p:cNvSpPr/>
          <p:nvPr/>
        </p:nvSpPr>
        <p:spPr>
          <a:xfrm>
            <a:off x="3957480" y="31449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4"/>
          <p:cNvSpPr/>
          <p:nvPr/>
        </p:nvSpPr>
        <p:spPr>
          <a:xfrm>
            <a:off x="5454720" y="357336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25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CD79-B546-4184-B968-26434904F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85960" y="2199960"/>
            <a:ext cx="777528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f each flow split its traffic 1:1 ..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6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180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7632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7632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183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7632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186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7632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7632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7313760" y="23176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7391520" y="2852640"/>
            <a:ext cx="90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1"/>
          <p:cNvSpPr/>
          <p:nvPr/>
        </p:nvSpPr>
        <p:spPr>
          <a:xfrm>
            <a:off x="7391520" y="3355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2228760" y="2060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3"/>
          <p:cNvSpPr/>
          <p:nvPr/>
        </p:nvSpPr>
        <p:spPr>
          <a:xfrm>
            <a:off x="3989520" y="316080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4"/>
          <p:cNvSpPr/>
          <p:nvPr/>
        </p:nvSpPr>
        <p:spPr>
          <a:xfrm>
            <a:off x="5683320" y="3573360"/>
            <a:ext cx="97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5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8730-B4F1-4C99-AEBE-DB556E312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640" y="1431720"/>
            <a:ext cx="777564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f each flow split its traffic 2:1 ..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204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11448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57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207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11448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5724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210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11448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5724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7391520" y="2317680"/>
            <a:ext cx="9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7391520" y="2852640"/>
            <a:ext cx="9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47a00"/>
                </a:solidFill>
                <a:latin typeface="Arial"/>
              </a:rPr>
              <a:t>9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7391520" y="3355920"/>
            <a:ext cx="9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fbfbf"/>
                </a:solidFill>
                <a:latin typeface="Arial"/>
                <a:ea typeface="ＭＳ Ｐゴシック"/>
              </a:rPr>
              <a:t>9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2306520" y="206064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3919680" y="314496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24"/>
          <p:cNvSpPr/>
          <p:nvPr/>
        </p:nvSpPr>
        <p:spPr>
          <a:xfrm>
            <a:off x="5494320" y="36050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27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0858-7A35-49C8-B2CA-61FA32456D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45640" y="2622240"/>
            <a:ext cx="7775640" cy="28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Better: Each connection on a one-hop pat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Each connection should send all traffic on the least-congested path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228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22860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231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22860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324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234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22860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324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9"/>
          <p:cNvSpPr/>
          <p:nvPr/>
        </p:nvSpPr>
        <p:spPr>
          <a:xfrm>
            <a:off x="7391520" y="231768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7391520" y="285264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1"/>
          <p:cNvSpPr/>
          <p:nvPr/>
        </p:nvSpPr>
        <p:spPr>
          <a:xfrm>
            <a:off x="7391520" y="335592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2"/>
          <p:cNvSpPr/>
          <p:nvPr/>
        </p:nvSpPr>
        <p:spPr>
          <a:xfrm>
            <a:off x="2411280" y="2060640"/>
            <a:ext cx="104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3881520" y="3121200"/>
            <a:ext cx="11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4"/>
          <p:cNvSpPr/>
          <p:nvPr/>
        </p:nvSpPr>
        <p:spPr>
          <a:xfrm>
            <a:off x="5532480" y="35733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fficient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7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E012-A578-46A6-B9C5-5CEA9D6AF0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07840" y="1662120"/>
            <a:ext cx="8180280" cy="441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Better: Each connection on a one-hop pat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Arial"/>
              </a:rPr>
              <a:t>Each connection should send all traffic on the least-congested path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rial"/>
              </a:rPr>
              <a:t>But keep some traffic on the alternate paths as a prob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8" name="Oval 18"/>
          <p:cNvSpPr/>
          <p:nvPr/>
        </p:nvSpPr>
        <p:spPr>
          <a:xfrm flipV="1" rot="16200000">
            <a:off x="5289480" y="3319560"/>
            <a:ext cx="48600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8"/>
          <p:cNvSpPr/>
          <p:nvPr/>
        </p:nvSpPr>
        <p:spPr>
          <a:xfrm flipV="1" rot="16200000">
            <a:off x="2127240" y="255672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8"/>
          <p:cNvSpPr/>
          <p:nvPr/>
        </p:nvSpPr>
        <p:spPr>
          <a:xfrm flipV="1" rot="16200000">
            <a:off x="3727440" y="2937600"/>
            <a:ext cx="485640" cy="171360"/>
          </a:xfrm>
          <a:prstGeom prst="ellipse">
            <a:avLst/>
          </a:prstGeom>
          <a:solidFill>
            <a:srgbClr val="6792c5"/>
          </a:solidFill>
          <a:ln w="1908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6"/>
          <p:cNvGrpSpPr/>
          <p:nvPr/>
        </p:nvGrpSpPr>
        <p:grpSpPr>
          <a:xfrm>
            <a:off x="1525680" y="2762280"/>
            <a:ext cx="5851440" cy="785880"/>
            <a:chOff x="1525680" y="2762280"/>
            <a:chExt cx="5851440" cy="785880"/>
          </a:xfrm>
        </p:grpSpPr>
        <p:sp>
          <p:nvSpPr>
            <p:cNvPr id="252" name="Line 1066"/>
            <p:cNvSpPr/>
            <p:nvPr/>
          </p:nvSpPr>
          <p:spPr>
            <a:xfrm>
              <a:off x="1547640" y="3538800"/>
              <a:ext cx="5829480" cy="0"/>
            </a:xfrm>
            <a:prstGeom prst="line">
              <a:avLst/>
            </a:prstGeom>
            <a:ln w="228600">
              <a:solidFill>
                <a:srgbClr val="bfbfb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1525680" y="2762280"/>
              <a:ext cx="5776920" cy="785880"/>
            </a:xfrm>
            <a:custGeom>
              <a:avLst/>
              <a:gdLst/>
              <a:ahLst/>
              <a:rect l="l" t="t" r="r" b="b"/>
              <a:pathLst>
                <a:path w="5778111" h="786106">
                  <a:moveTo>
                    <a:pt x="0" y="774886"/>
                  </a:moveTo>
                  <a:lnTo>
                    <a:pt x="205542" y="769713"/>
                  </a:lnTo>
                  <a:cubicBezTo>
                    <a:pt x="268155" y="745170"/>
                    <a:pt x="305216" y="729613"/>
                    <a:pt x="375676" y="627629"/>
                  </a:cubicBezTo>
                  <a:cubicBezTo>
                    <a:pt x="446136" y="525645"/>
                    <a:pt x="543295" y="261612"/>
                    <a:pt x="628300" y="157807"/>
                  </a:cubicBezTo>
                  <a:cubicBezTo>
                    <a:pt x="713305" y="54002"/>
                    <a:pt x="673468" y="29110"/>
                    <a:pt x="885706" y="4801"/>
                  </a:cubicBezTo>
                  <a:lnTo>
                    <a:pt x="1918557" y="6342"/>
                  </a:lnTo>
                  <a:cubicBezTo>
                    <a:pt x="1975838" y="11133"/>
                    <a:pt x="2039024" y="0"/>
                    <a:pt x="2109842" y="53949"/>
                  </a:cubicBezTo>
                  <a:cubicBezTo>
                    <a:pt x="2172990" y="88074"/>
                    <a:pt x="2241963" y="83353"/>
                    <a:pt x="2294415" y="84879"/>
                  </a:cubicBezTo>
                  <a:lnTo>
                    <a:pt x="4689806" y="90489"/>
                  </a:lnTo>
                  <a:cubicBezTo>
                    <a:pt x="4890329" y="89054"/>
                    <a:pt x="5053242" y="160042"/>
                    <a:pt x="5164658" y="281403"/>
                  </a:cubicBezTo>
                  <a:cubicBezTo>
                    <a:pt x="5276074" y="402764"/>
                    <a:pt x="5391358" y="632812"/>
                    <a:pt x="5451917" y="690662"/>
                  </a:cubicBezTo>
                  <a:cubicBezTo>
                    <a:pt x="5512476" y="748512"/>
                    <a:pt x="5559819" y="785428"/>
                    <a:pt x="5653474" y="781649"/>
                  </a:cubicBezTo>
                  <a:lnTo>
                    <a:pt x="5778111" y="786106"/>
                  </a:lnTo>
                </a:path>
              </a:pathLst>
            </a:custGeom>
            <a:noFill/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35"/>
          <p:cNvGrpSpPr/>
          <p:nvPr/>
        </p:nvGrpSpPr>
        <p:grpSpPr>
          <a:xfrm>
            <a:off x="1549440" y="2503440"/>
            <a:ext cx="5867280" cy="934920"/>
            <a:chOff x="1549440" y="2503440"/>
            <a:chExt cx="5867280" cy="934920"/>
          </a:xfrm>
        </p:grpSpPr>
        <p:sp>
          <p:nvSpPr>
            <p:cNvPr id="255" name="Line 1064"/>
            <p:cNvSpPr/>
            <p:nvPr/>
          </p:nvSpPr>
          <p:spPr>
            <a:xfrm>
              <a:off x="1549440" y="2504880"/>
              <a:ext cx="5867280" cy="0"/>
            </a:xfrm>
            <a:prstGeom prst="line">
              <a:avLst/>
            </a:prstGeom>
            <a:ln w="228600">
              <a:solidFill>
                <a:srgbClr val="a6a6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1641240" y="2503440"/>
              <a:ext cx="5684760" cy="934920"/>
            </a:xfrm>
            <a:custGeom>
              <a:avLst/>
              <a:gdLst/>
              <a:ahLst/>
              <a:rect l="l" t="t" r="r" b="b"/>
              <a:pathLst>
                <a:path w="5684293" h="934872">
                  <a:moveTo>
                    <a:pt x="0" y="6824"/>
                  </a:moveTo>
                  <a:lnTo>
                    <a:pt x="225188" y="13648"/>
                  </a:lnTo>
                  <a:cubicBezTo>
                    <a:pt x="296839" y="38669"/>
                    <a:pt x="355980" y="68240"/>
                    <a:pt x="429905" y="156950"/>
                  </a:cubicBezTo>
                  <a:cubicBezTo>
                    <a:pt x="503830" y="245660"/>
                    <a:pt x="592541" y="462887"/>
                    <a:pt x="668741" y="545911"/>
                  </a:cubicBezTo>
                  <a:cubicBezTo>
                    <a:pt x="744941" y="628935"/>
                    <a:pt x="798126" y="649407"/>
                    <a:pt x="887105" y="655093"/>
                  </a:cubicBezTo>
                  <a:lnTo>
                    <a:pt x="3330054" y="682388"/>
                  </a:lnTo>
                  <a:cubicBezTo>
                    <a:pt x="3461982" y="678619"/>
                    <a:pt x="3483884" y="697596"/>
                    <a:pt x="3536200" y="726029"/>
                  </a:cubicBezTo>
                  <a:cubicBezTo>
                    <a:pt x="3588516" y="754462"/>
                    <a:pt x="3593012" y="820453"/>
                    <a:pt x="3643953" y="852985"/>
                  </a:cubicBezTo>
                  <a:cubicBezTo>
                    <a:pt x="3694894" y="885517"/>
                    <a:pt x="3685611" y="916383"/>
                    <a:pt x="3841845" y="921224"/>
                  </a:cubicBezTo>
                  <a:lnTo>
                    <a:pt x="4960962" y="934871"/>
                  </a:lnTo>
                  <a:cubicBezTo>
                    <a:pt x="5147518" y="917520"/>
                    <a:pt x="5157717" y="934872"/>
                    <a:pt x="5227093" y="805218"/>
                  </a:cubicBezTo>
                  <a:cubicBezTo>
                    <a:pt x="5296469" y="675565"/>
                    <a:pt x="5326039" y="291153"/>
                    <a:pt x="5377218" y="156950"/>
                  </a:cubicBezTo>
                  <a:cubicBezTo>
                    <a:pt x="5428397" y="22747"/>
                    <a:pt x="5482989" y="25021"/>
                    <a:pt x="5534168" y="0"/>
                  </a:cubicBezTo>
                  <a:lnTo>
                    <a:pt x="5684293" y="6824"/>
                  </a:lnTo>
                </a:path>
              </a:pathLst>
            </a:custGeom>
            <a:noFill/>
            <a:ln w="324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4"/>
          <p:cNvGrpSpPr/>
          <p:nvPr/>
        </p:nvGrpSpPr>
        <p:grpSpPr>
          <a:xfrm>
            <a:off x="1547640" y="2646360"/>
            <a:ext cx="5869080" cy="603360"/>
            <a:chOff x="1547640" y="2646360"/>
            <a:chExt cx="5869080" cy="603360"/>
          </a:xfrm>
        </p:grpSpPr>
        <p:sp>
          <p:nvSpPr>
            <p:cNvPr id="258" name="Line 1065"/>
            <p:cNvSpPr/>
            <p:nvPr/>
          </p:nvSpPr>
          <p:spPr>
            <a:xfrm>
              <a:off x="1547640" y="3033720"/>
              <a:ext cx="5869080" cy="0"/>
            </a:xfrm>
            <a:prstGeom prst="line">
              <a:avLst/>
            </a:prstGeom>
            <a:ln w="228600">
              <a:solidFill>
                <a:srgbClr val="000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1571400" y="2646360"/>
              <a:ext cx="5483520" cy="603360"/>
            </a:xfrm>
            <a:custGeom>
              <a:avLst/>
              <a:gdLst/>
              <a:ahLst/>
              <a:rect l="l" t="t" r="r" b="b"/>
              <a:pathLst>
                <a:path w="5482523" h="604715">
                  <a:moveTo>
                    <a:pt x="0" y="395319"/>
                  </a:moveTo>
                  <a:lnTo>
                    <a:pt x="238597" y="386469"/>
                  </a:lnTo>
                  <a:cubicBezTo>
                    <a:pt x="288951" y="371895"/>
                    <a:pt x="293647" y="374139"/>
                    <a:pt x="349695" y="318447"/>
                  </a:cubicBezTo>
                  <a:cubicBezTo>
                    <a:pt x="405743" y="262755"/>
                    <a:pt x="494135" y="104632"/>
                    <a:pt x="574884" y="52316"/>
                  </a:cubicBezTo>
                  <a:cubicBezTo>
                    <a:pt x="655633" y="0"/>
                    <a:pt x="695632" y="5020"/>
                    <a:pt x="834191" y="4549"/>
                  </a:cubicBezTo>
                  <a:lnTo>
                    <a:pt x="3213631" y="8250"/>
                  </a:lnTo>
                  <a:cubicBezTo>
                    <a:pt x="3389844" y="7649"/>
                    <a:pt x="3504405" y="65917"/>
                    <a:pt x="3584215" y="147850"/>
                  </a:cubicBezTo>
                  <a:cubicBezTo>
                    <a:pt x="3664025" y="229783"/>
                    <a:pt x="3661438" y="417496"/>
                    <a:pt x="3692495" y="499850"/>
                  </a:cubicBezTo>
                  <a:cubicBezTo>
                    <a:pt x="3723552" y="582204"/>
                    <a:pt x="3779025" y="598912"/>
                    <a:pt x="3877642" y="598226"/>
                  </a:cubicBezTo>
                  <a:lnTo>
                    <a:pt x="5024054" y="598226"/>
                  </a:lnTo>
                  <a:cubicBezTo>
                    <a:pt x="5114832" y="604715"/>
                    <a:pt x="5144272" y="563147"/>
                    <a:pt x="5180096" y="512922"/>
                  </a:cubicBezTo>
                  <a:cubicBezTo>
                    <a:pt x="5215920" y="462697"/>
                    <a:pt x="5252873" y="407174"/>
                    <a:pt x="5297595" y="403864"/>
                  </a:cubicBezTo>
                  <a:cubicBezTo>
                    <a:pt x="5342317" y="400554"/>
                    <a:pt x="5420880" y="400340"/>
                    <a:pt x="5482523" y="398578"/>
                  </a:cubicBezTo>
                </a:path>
              </a:pathLst>
            </a:custGeom>
            <a:noFill/>
            <a:ln w="3240">
              <a:solidFill>
                <a:srgbClr val="000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16"/>
          <p:cNvSpPr/>
          <p:nvPr/>
        </p:nvSpPr>
        <p:spPr>
          <a:xfrm flipV="1">
            <a:off x="2387520" y="2400480"/>
            <a:ext cx="1096920" cy="483840"/>
          </a:xfrm>
          <a:custGeom>
            <a:avLst/>
            <a:gdLst>
              <a:gd name="textAreaLeft" fmla="*/ 0 w 1096920"/>
              <a:gd name="textAreaRight" fmla="*/ 1097280 w 1096920"/>
              <a:gd name="textAreaTop" fmla="*/ 360 h 483840"/>
              <a:gd name="textAreaBottom" fmla="*/ 484560 h 48384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6"/>
          <p:cNvSpPr/>
          <p:nvPr/>
        </p:nvSpPr>
        <p:spPr>
          <a:xfrm flipV="1">
            <a:off x="3995640" y="2780640"/>
            <a:ext cx="1096920" cy="484200"/>
          </a:xfrm>
          <a:custGeom>
            <a:avLst/>
            <a:gdLst>
              <a:gd name="textAreaLeft" fmla="*/ 0 w 1096920"/>
              <a:gd name="textAreaRight" fmla="*/ 1097280 w 109692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6"/>
          <p:cNvSpPr/>
          <p:nvPr/>
        </p:nvSpPr>
        <p:spPr>
          <a:xfrm flipV="1">
            <a:off x="5557680" y="3161520"/>
            <a:ext cx="1097280" cy="484200"/>
          </a:xfrm>
          <a:custGeom>
            <a:avLst/>
            <a:gdLst>
              <a:gd name="textAreaLeft" fmla="*/ 0 w 1097280"/>
              <a:gd name="textAreaRight" fmla="*/ 1097640 w 1097280"/>
              <a:gd name="textAreaTop" fmla="*/ -360 h 484200"/>
              <a:gd name="textAreaBottom" fmla="*/ 484200 h 484200"/>
            </a:gdLst>
            <a:ahLst/>
            <a:rect l="textAreaLeft" t="textAreaTop" r="textAreaRight" b="textAreaBottom"/>
            <a:pathLst>
              <a:path w="3399613" h="2428893">
                <a:moveTo>
                  <a:pt x="0" y="0"/>
                </a:moveTo>
                <a:lnTo>
                  <a:pt x="3106385" y="10960"/>
                </a:lnTo>
                <a:cubicBezTo>
                  <a:pt x="3325724" y="102265"/>
                  <a:pt x="3387317" y="841349"/>
                  <a:pt x="3393465" y="1244338"/>
                </a:cubicBezTo>
                <a:cubicBezTo>
                  <a:pt x="3399613" y="1647327"/>
                  <a:pt x="3360333" y="2202172"/>
                  <a:pt x="3143271" y="2428893"/>
                </a:cubicBezTo>
                <a:lnTo>
                  <a:pt x="1678" y="2424551"/>
                </a:lnTo>
                <a:cubicBezTo>
                  <a:pt x="214572" y="2273571"/>
                  <a:pt x="233519" y="1692739"/>
                  <a:pt x="246210" y="1246345"/>
                </a:cubicBezTo>
                <a:cubicBezTo>
                  <a:pt x="209662" y="797020"/>
                  <a:pt x="223526" y="151620"/>
                  <a:pt x="0" y="0"/>
                </a:cubicBezTo>
                <a:close/>
              </a:path>
            </a:pathLst>
          </a:custGeom>
          <a:solidFill>
            <a:srgbClr val="b9cde5">
              <a:alpha val="40000"/>
            </a:srgbClr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9"/>
          <p:cNvSpPr/>
          <p:nvPr/>
        </p:nvSpPr>
        <p:spPr>
          <a:xfrm>
            <a:off x="7391520" y="231768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7391520" y="285264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1"/>
          <p:cNvSpPr/>
          <p:nvPr/>
        </p:nvSpPr>
        <p:spPr>
          <a:xfrm>
            <a:off x="7391520" y="3355920"/>
            <a:ext cx="11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2411280" y="2060640"/>
            <a:ext cx="104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3881520" y="3121200"/>
            <a:ext cx="11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4"/>
          <p:cNvSpPr/>
          <p:nvPr/>
        </p:nvSpPr>
        <p:spPr>
          <a:xfrm>
            <a:off x="5532480" y="35733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Mb/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al #3: Be Fair Compared to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st-congested paths may not be best!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to differences in round-trip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path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Fi: high loss, low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llular: low loss, high RT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ing the least-congested 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ose the cellular path, due to low lo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the RTT is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 throughput is low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DDB-7557-4EEB-8E33-08CC3B61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Fair Compared to T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o be fair, Multipath TCP should give a connection at least as much throughput as it would get with a single-path TCP on the best of its path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nsure incentive for deploying MPTC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A Multipath TCP should take no more capacity on any path (or collection of paths) than if it was a single-path TCP flow using the best of those paths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o no harm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004D-4E18-49BF-AB20-CD48BAADE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hieving These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0240" indent="-21024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gular 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intain a congestion window 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an ACK, increase by 1/w (increase 1 per window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a loss, decrease by w/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0240" indent="-21024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P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intain a congestion window per path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an ACK on path r, increase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a loss on path r, decrease by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0240" indent="-21024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much to increase w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n an ACK?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29560" indent="-20988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r is the only path at that bottleneck, increase by 1/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EA9D-1EF4-45D9-9122-DDCDC965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bile us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Fi and cellular at the same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-end serv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 Ethernet c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 cent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ich topologies with many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nefits of multipat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er through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over from one path 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amless mo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53D9-92AB-4D21-9883-11714B871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Multiple Paths Share Bottleneck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on’t take any more bandwidth on a link than the best of the TCP paths wou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t, where might the bottlenecks b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 paths might share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sam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bottlen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, consider all possibl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subset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f the path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 R of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set S of R that includes path 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.g., consider path 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paths 1, 3, and 4 share a bottlen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is-I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t, path 2 does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n, we care about S = {1,3,4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7F21-450E-44A9-99B0-39EB313A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hieving These Go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s th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bes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f these subflows achiev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s is achieving throughput of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RT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 best path is getting ma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RT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ota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bandwidth are these subflows gett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ros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subflows sharing that bottlen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 over s in S of w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/RTT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th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rati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of the tw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e by less if many subflows are sha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pick the results for the set S with min rati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ccount for th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os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aths sharing a bottlene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724-DCB4-4C67-AFFA-42D27EFD8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69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cremental Deployment Challenges of Middlebox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944A-465F-4664-A280-E6802370F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ddlebox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-network services, e.g.,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work address transla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parent prox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rusion detection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with 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e IP addresses and port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e TCP initial sequence nu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move TCP op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viding large block of data into smaller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ect to see all packets of the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F221-BCA2-4274-AE7E-D5864F9B3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otiating MPTCP Cap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middleboxes strip the TCP op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SYN? On the SYN-AC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clude capability on the ACK of the SYN-ACK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if the ACK is los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rry on all subsequent pack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if the middlebox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drop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SYN packets with unfamiliar option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can retransmit lost SYN without the o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fall back to regular TCP behavi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99D-C5A1-43A0-A880-D4947243B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2843280" y="2468520"/>
          <a:ext cx="27860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468520"/>
                    <a:ext cx="278604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llenges: N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 Address Translators (NAT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blem: NAT changes the IP address and port nu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identify a connec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ing a token established during 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14920" indent="-214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establish new subflow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40720" indent="-214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w one end-point to tell another about its addre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688-183B-468D-A8CB-75C1C6CFF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3"/>
          <a:stretch/>
        </p:blipFill>
        <p:spPr>
          <a:xfrm>
            <a:off x="961920" y="2814480"/>
            <a:ext cx="730440" cy="12049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6"/>
          <p:cNvSpPr/>
          <p:nvPr/>
        </p:nvSpPr>
        <p:spPr>
          <a:xfrm>
            <a:off x="2322000" y="2660760"/>
            <a:ext cx="1034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2360160" y="3467160"/>
            <a:ext cx="1034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9"/>
          <p:cNvSpPr/>
          <p:nvPr/>
        </p:nvSpPr>
        <p:spPr>
          <a:xfrm flipV="1">
            <a:off x="1614600" y="2922480"/>
            <a:ext cx="676080" cy="238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0"/>
          <p:cNvSpPr/>
          <p:nvPr/>
        </p:nvSpPr>
        <p:spPr>
          <a:xfrm>
            <a:off x="1614600" y="3544920"/>
            <a:ext cx="714240" cy="1839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1543320" y="246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1657440" y="3659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7"/>
          <p:cNvSpPr/>
          <p:nvPr/>
        </p:nvSpPr>
        <p:spPr>
          <a:xfrm>
            <a:off x="5378400" y="2860560"/>
            <a:ext cx="1344600" cy="260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j0285750"/>
          <p:cNvPicPr/>
          <p:nvPr/>
        </p:nvPicPr>
        <p:blipFill>
          <a:blip r:embed="rId4"/>
          <a:stretch/>
        </p:blipFill>
        <p:spPr>
          <a:xfrm>
            <a:off x="6415200" y="2584440"/>
            <a:ext cx="2377800" cy="1459080"/>
          </a:xfrm>
          <a:prstGeom prst="rect">
            <a:avLst/>
          </a:prstGeom>
          <a:ln w="0">
            <a:noFill/>
          </a:ln>
        </p:spPr>
      </p:pic>
      <p:sp>
        <p:nvSpPr>
          <p:cNvPr id="306" name="Straight Connector 21"/>
          <p:cNvSpPr/>
          <p:nvPr/>
        </p:nvSpPr>
        <p:spPr>
          <a:xfrm flipV="1">
            <a:off x="5148360" y="3352680"/>
            <a:ext cx="1536480" cy="192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llenges: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licious parties creating sub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highjack (part of) the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bootstrap security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lude a random key during connection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use it to verify authenticity of new sub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identify the connection on new subflow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oken generated from the ke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authenticate the addition of subflow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changing nonces and computing message authentication codes using the key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0FAD-CE24-4313-A1BA-D12A1C48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Multipath TCP in iOS 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ultipath TCP in iOS 7 (fall 2013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imary TCP connection over WiF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ckup TCP connection over cellular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ilov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WiFi becomes unavailable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OS 7 will use the cellular dat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r destinations controlled by App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Sir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e https://support.apple.com/en-us/HT20137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21B-F9A7-4370-B0E0-08FBC0BE9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6B95-C75F-41F3-B782-D24BD0585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ackup Slide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view of TCP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7E88-F08B-4106-ACB0-6FC2F4F4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ultipath TCP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49D6-385D-4901-BE55-65CF5CF9A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stablishing a TCP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4657320"/>
            <a:ext cx="845820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ree-way handshake to establish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ost A sends a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YN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(open) to the host 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ost B returns a SYN acknowledgment (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SYN ACK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Host A sends an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CK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 to acknowledge the SYN A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B4C3-F00E-4974-A98A-FBA11629C2D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2451240" y="186048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"/>
          <p:cNvSpPr/>
          <p:nvPr/>
        </p:nvSpPr>
        <p:spPr>
          <a:xfrm flipH="1">
            <a:off x="2461680" y="237816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2440080" y="297036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444760" y="350136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 rot="605400">
            <a:off x="2901240" y="15166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 flipH="1" flipV="1" rot="10146600">
            <a:off x="2588400" y="21560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 rot="1044600">
            <a:off x="3116160" y="2925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 rot="1003800">
            <a:off x="2904840" y="33451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>
            <a:off x="4041720" y="165276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 flipH="1">
            <a:off x="2435400" y="166860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2277000" y="1210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3843720" y="1172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2473200" y="384264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 rot="1003800">
            <a:off x="2933280" y="36864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4764240" y="2122560"/>
            <a:ext cx="380196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tial Sequence Number (ISN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other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Sequence Number (ISN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quence number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for the very first byt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E.g., Why not a de facto ISN of 0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ractical issue: reuse of port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Port numbers must (eventually) get used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nd an old packet may still be in fligh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nd associated with the new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urity issue: adversary injecting packe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versary may try to inject packets in a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y guessing the Initial Sequence Numb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send counterfeit packets to the receiving h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counterfeit packets that reset the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firewalls change the ISN to further randomi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8A9-9A4F-4663-843D-A7156E3B5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ep 1: A’s Initial SYN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88FB-4672-4D0E-9052-F9286EA5A02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37166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64472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Initial 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147960" y="510552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ep 2: B</a:t>
            </a:r>
            <a:r>
              <a:rPr b="1" lang="ja-JP" sz="3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 SYN-ACK Pack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C401-A211-424A-966D-A626B9A6112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37166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64472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Initial 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ISN plus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4"/>
          <p:cNvSpPr/>
          <p:nvPr/>
        </p:nvSpPr>
        <p:spPr>
          <a:xfrm>
            <a:off x="-785880" y="502920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-479160" y="541008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ep 3: A’s ACK of the SYN-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E20C-F7F6-420A-B603-A5CE8DC7C1C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3"/>
          <p:cNvSpPr/>
          <p:nvPr/>
        </p:nvSpPr>
        <p:spPr>
          <a:xfrm>
            <a:off x="37166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4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5"/>
          <p:cNvSpPr/>
          <p:nvPr/>
        </p:nvSpPr>
        <p:spPr>
          <a:xfrm>
            <a:off x="6447240" y="1874880"/>
            <a:ext cx="104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6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8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9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 ISN plus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0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2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3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4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5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7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0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2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1038960" y="510552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7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9"/>
          <p:cNvSpPr/>
          <p:nvPr/>
        </p:nvSpPr>
        <p:spPr>
          <a:xfrm>
            <a:off x="-452880" y="555768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quence Numb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5CEC-C5FE-4AB6-8943-8315846D645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4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427" name="Line 5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7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8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Line 9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0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1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5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6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7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9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0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31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2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3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4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5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6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37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8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39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0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1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42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465" name="Line 43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4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5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6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47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48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49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50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51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52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3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4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55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56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57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58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59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60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61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62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3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4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65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66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67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8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9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70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71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72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73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4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75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76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77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78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9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11920" y="129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1"/>
          <p:cNvSpPr/>
          <p:nvPr/>
        </p:nvSpPr>
        <p:spPr>
          <a:xfrm>
            <a:off x="497160" y="5056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82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3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84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85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6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87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8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9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90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91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92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93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4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95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96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7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8"/>
          <p:cNvSpPr/>
          <p:nvPr/>
        </p:nvSpPr>
        <p:spPr>
          <a:xfrm>
            <a:off x="2611440" y="3454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9"/>
          <p:cNvSpPr/>
          <p:nvPr/>
        </p:nvSpPr>
        <p:spPr>
          <a:xfrm>
            <a:off x="3835440" y="4764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4"/>
          <p:cNvSpPr/>
          <p:nvPr/>
        </p:nvSpPr>
        <p:spPr>
          <a:xfrm>
            <a:off x="1003680" y="18511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5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06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7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9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1"/>
          <p:cNvSpPr/>
          <p:nvPr/>
        </p:nvSpPr>
        <p:spPr>
          <a:xfrm rot="5390400">
            <a:off x="2381400" y="257472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CP He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A078-EB1C-4ECB-BCBD-B7394C330C1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4645800" y="2408400"/>
            <a:ext cx="2386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486468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657000" y="2705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ceive Buffering: Flow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Receive window siz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mount that can be sent without acknowledg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eceiver must be able to store this amount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Receiver tells the sender the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Tells the sender the amount of free space lef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FED6-359C-44B5-AA8F-4C90BB0BBFB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2079720" y="4808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5"/>
          <p:cNvSpPr/>
          <p:nvPr/>
        </p:nvSpPr>
        <p:spPr>
          <a:xfrm>
            <a:off x="2079720" y="5418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 flipH="1">
            <a:off x="6645240" y="4808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 flipH="1">
            <a:off x="6645240" y="5418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2079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>
            <a:off x="22320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23842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25369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"/>
          <p:cNvSpPr/>
          <p:nvPr/>
        </p:nvSpPr>
        <p:spPr>
          <a:xfrm>
            <a:off x="26892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"/>
          <p:cNvSpPr/>
          <p:nvPr/>
        </p:nvSpPr>
        <p:spPr>
          <a:xfrm>
            <a:off x="28414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29941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5"/>
          <p:cNvSpPr/>
          <p:nvPr/>
        </p:nvSpPr>
        <p:spPr>
          <a:xfrm>
            <a:off x="31464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6"/>
          <p:cNvSpPr/>
          <p:nvPr/>
        </p:nvSpPr>
        <p:spPr>
          <a:xfrm>
            <a:off x="32986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7"/>
          <p:cNvSpPr/>
          <p:nvPr/>
        </p:nvSpPr>
        <p:spPr>
          <a:xfrm>
            <a:off x="34513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8"/>
          <p:cNvSpPr/>
          <p:nvPr/>
        </p:nvSpPr>
        <p:spPr>
          <a:xfrm>
            <a:off x="36036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9"/>
          <p:cNvSpPr/>
          <p:nvPr/>
        </p:nvSpPr>
        <p:spPr>
          <a:xfrm>
            <a:off x="37558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0"/>
          <p:cNvSpPr/>
          <p:nvPr/>
        </p:nvSpPr>
        <p:spPr>
          <a:xfrm>
            <a:off x="39085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1"/>
          <p:cNvSpPr/>
          <p:nvPr/>
        </p:nvSpPr>
        <p:spPr>
          <a:xfrm>
            <a:off x="40608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2"/>
          <p:cNvSpPr/>
          <p:nvPr/>
        </p:nvSpPr>
        <p:spPr>
          <a:xfrm>
            <a:off x="42130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3"/>
          <p:cNvSpPr/>
          <p:nvPr/>
        </p:nvSpPr>
        <p:spPr>
          <a:xfrm>
            <a:off x="4365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4"/>
          <p:cNvSpPr/>
          <p:nvPr/>
        </p:nvSpPr>
        <p:spPr>
          <a:xfrm>
            <a:off x="45180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5"/>
          <p:cNvSpPr/>
          <p:nvPr/>
        </p:nvSpPr>
        <p:spPr>
          <a:xfrm>
            <a:off x="46702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26"/>
          <p:cNvSpPr/>
          <p:nvPr/>
        </p:nvSpPr>
        <p:spPr>
          <a:xfrm>
            <a:off x="48229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27"/>
          <p:cNvSpPr/>
          <p:nvPr/>
        </p:nvSpPr>
        <p:spPr>
          <a:xfrm>
            <a:off x="49752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28"/>
          <p:cNvSpPr/>
          <p:nvPr/>
        </p:nvSpPr>
        <p:spPr>
          <a:xfrm>
            <a:off x="51274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29"/>
          <p:cNvSpPr/>
          <p:nvPr/>
        </p:nvSpPr>
        <p:spPr>
          <a:xfrm>
            <a:off x="52801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0"/>
          <p:cNvSpPr/>
          <p:nvPr/>
        </p:nvSpPr>
        <p:spPr>
          <a:xfrm>
            <a:off x="54324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1"/>
          <p:cNvSpPr/>
          <p:nvPr/>
        </p:nvSpPr>
        <p:spPr>
          <a:xfrm>
            <a:off x="55846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2"/>
          <p:cNvSpPr/>
          <p:nvPr/>
        </p:nvSpPr>
        <p:spPr>
          <a:xfrm>
            <a:off x="57373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3"/>
          <p:cNvSpPr/>
          <p:nvPr/>
        </p:nvSpPr>
        <p:spPr>
          <a:xfrm>
            <a:off x="58896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60418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5"/>
          <p:cNvSpPr/>
          <p:nvPr/>
        </p:nvSpPr>
        <p:spPr>
          <a:xfrm>
            <a:off x="61945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6"/>
          <p:cNvSpPr/>
          <p:nvPr/>
        </p:nvSpPr>
        <p:spPr>
          <a:xfrm>
            <a:off x="63468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37"/>
          <p:cNvSpPr/>
          <p:nvPr/>
        </p:nvSpPr>
        <p:spPr>
          <a:xfrm>
            <a:off x="64990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8"/>
          <p:cNvSpPr/>
          <p:nvPr/>
        </p:nvSpPr>
        <p:spPr>
          <a:xfrm>
            <a:off x="6651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9"/>
          <p:cNvSpPr/>
          <p:nvPr/>
        </p:nvSpPr>
        <p:spPr>
          <a:xfrm>
            <a:off x="6804000" y="4808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40"/>
          <p:cNvSpPr/>
          <p:nvPr/>
        </p:nvSpPr>
        <p:spPr>
          <a:xfrm>
            <a:off x="6956280" y="4808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1"/>
          <p:cNvSpPr/>
          <p:nvPr/>
        </p:nvSpPr>
        <p:spPr>
          <a:xfrm>
            <a:off x="2994120" y="4432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42"/>
          <p:cNvSpPr/>
          <p:nvPr/>
        </p:nvSpPr>
        <p:spPr>
          <a:xfrm flipH="1">
            <a:off x="1616040" y="4808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43"/>
          <p:cNvSpPr/>
          <p:nvPr/>
        </p:nvSpPr>
        <p:spPr>
          <a:xfrm flipH="1">
            <a:off x="1616040" y="5418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4"/>
          <p:cNvSpPr/>
          <p:nvPr/>
        </p:nvSpPr>
        <p:spPr>
          <a:xfrm>
            <a:off x="1781280" y="48132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45"/>
          <p:cNvSpPr/>
          <p:nvPr/>
        </p:nvSpPr>
        <p:spPr>
          <a:xfrm>
            <a:off x="1933560" y="48132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46"/>
          <p:cNvSpPr/>
          <p:nvPr/>
        </p:nvSpPr>
        <p:spPr>
          <a:xfrm>
            <a:off x="4365720" y="443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7"/>
          <p:cNvSpPr/>
          <p:nvPr/>
        </p:nvSpPr>
        <p:spPr>
          <a:xfrm>
            <a:off x="2994120" y="42800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8"/>
          <p:cNvSpPr/>
          <p:nvPr/>
        </p:nvSpPr>
        <p:spPr>
          <a:xfrm>
            <a:off x="3361680" y="3898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49"/>
          <p:cNvSpPr/>
          <p:nvPr/>
        </p:nvSpPr>
        <p:spPr>
          <a:xfrm flipH="1">
            <a:off x="1469880" y="588024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5889600" y="58802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51"/>
          <p:cNvSpPr/>
          <p:nvPr/>
        </p:nvSpPr>
        <p:spPr>
          <a:xfrm>
            <a:off x="2994120" y="5880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52"/>
          <p:cNvSpPr/>
          <p:nvPr/>
        </p:nvSpPr>
        <p:spPr>
          <a:xfrm>
            <a:off x="4365720" y="5880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3"/>
          <p:cNvSpPr/>
          <p:nvPr/>
        </p:nvSpPr>
        <p:spPr>
          <a:xfrm>
            <a:off x="299412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54"/>
          <p:cNvSpPr/>
          <p:nvPr/>
        </p:nvSpPr>
        <p:spPr>
          <a:xfrm>
            <a:off x="436572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55"/>
          <p:cNvSpPr/>
          <p:nvPr/>
        </p:nvSpPr>
        <p:spPr>
          <a:xfrm>
            <a:off x="588960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6"/>
          <p:cNvSpPr/>
          <p:nvPr/>
        </p:nvSpPr>
        <p:spPr>
          <a:xfrm>
            <a:off x="2831760" y="5883120"/>
            <a:ext cx="15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</a:t>
            </a:r>
            <a:r>
              <a:rPr b="1" lang="ja-JP" sz="1400" spc="-1" strike="noStrike">
                <a:solidFill>
                  <a:srgbClr val="0000ff"/>
                </a:solidFill>
                <a:latin typeface="Comic Sans MS"/>
              </a:rPr>
              <a:t>’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7"/>
          <p:cNvSpPr/>
          <p:nvPr/>
        </p:nvSpPr>
        <p:spPr>
          <a:xfrm>
            <a:off x="4547880" y="58831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8"/>
          <p:cNvSpPr/>
          <p:nvPr/>
        </p:nvSpPr>
        <p:spPr>
          <a:xfrm>
            <a:off x="5769720" y="588312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59"/>
          <p:cNvSpPr/>
          <p:nvPr/>
        </p:nvSpPr>
        <p:spPr>
          <a:xfrm>
            <a:off x="1540800" y="588312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</a:t>
            </a:r>
            <a:r>
              <a:rPr b="1" lang="ja-JP" sz="1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CP Header: Receive Wind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F59F-FD05-4801-A10B-A8185B30867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46432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5856840" y="3367080"/>
            <a:ext cx="22654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dvertised wind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8"/>
          <p:cNvSpPr/>
          <p:nvPr/>
        </p:nvSpPr>
        <p:spPr>
          <a:xfrm>
            <a:off x="486468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5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7"/>
          <p:cNvSpPr/>
          <p:nvPr/>
        </p:nvSpPr>
        <p:spPr>
          <a:xfrm>
            <a:off x="657000" y="2705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aring Down the Conn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4235400"/>
            <a:ext cx="84582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losing (each end of) the conn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Finish (FIN) to close and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And other host sends a FIN ACK to ac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  <a:ea typeface="ＭＳ Ｐゴシック"/>
              </a:rPr>
              <a:t>Reset (RST) to close and not receive remaining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D0BA-8B10-42E8-A65C-7902895C23F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5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6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8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0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1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2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3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4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 rot="4688400">
            <a:off x="6108840" y="2324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6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7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8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9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0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1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2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3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4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5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6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7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8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9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0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4" descr=""/>
          <p:cNvPicPr/>
          <p:nvPr/>
        </p:nvPicPr>
        <p:blipFill>
          <a:blip r:embed="rId1"/>
          <a:srcRect l="13866" t="0" r="13866" b="0"/>
          <a:stretch/>
        </p:blipFill>
        <p:spPr>
          <a:xfrm>
            <a:off x="1038240" y="2200320"/>
            <a:ext cx="7145280" cy="4008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With Unmodified Ap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19320"/>
            <a:ext cx="845820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esent the same socket API and expect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ied by the “five tuple” (IP address, port #, protoco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B894-769A-41F4-A582-D676F31CA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384200" y="6270480"/>
            <a:ext cx="628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http://queue.acm.org/detail.cfm?id=259136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nding TCP: TCP O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360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hea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n mandatory fiel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onal extension field (usually during handshak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ximum segment size (MS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dow scal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rt for Selected 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known o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gnored by receiving h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rs and TCP o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uld ignore them, passing them through unchan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50AE-D17F-451A-B8DD-0AD78F0AB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"/>
          <p:cNvSpPr/>
          <p:nvPr/>
        </p:nvSpPr>
        <p:spPr>
          <a:xfrm>
            <a:off x="5110200" y="4043520"/>
            <a:ext cx="341784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, some middleboxes: (i) strip TCP options from some packets or (ii) drop packets with TCP op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With Unmodified Ho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stablish the TCP connection in the normal w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reate a socket to a single remote IP address/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then add more subflows, if possi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67C-76B5-45FE-A006-421D2AD23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2489040" y="310032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2499840" y="361800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2478240" y="421020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482920" y="4741200"/>
            <a:ext cx="159840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605400">
            <a:off x="2939040" y="27565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 flipH="1" flipV="1" rot="10146600">
            <a:off x="2626560" y="339588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 rot="1044600">
            <a:off x="3154320" y="4164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003800">
            <a:off x="2942640" y="45849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4079880" y="2892600"/>
            <a:ext cx="6480" cy="2890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2473200" y="2908440"/>
            <a:ext cx="23760" cy="279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315160" y="2450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881520" y="2412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2511360" y="508248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 rot="1003800">
            <a:off x="2971440" y="49262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802040" y="3362400"/>
            <a:ext cx="380232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tial Sequence Number (ISN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other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gotiating MPTCP Cap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218960"/>
            <a:ext cx="845820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do hosts know they both speak MPTCP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ring the 3-way SYN/SYN-ACK/ACK handshak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SYN-ACK doesn’t contain MP_CAPAB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n’t try to add any subflow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66C5-66D4-4D18-8215-ADECA7E0A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768320" y="2246400"/>
            <a:ext cx="5761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ng Subflows, Idealiz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associate a new subflow with the connection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 token generated from original subflow set-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start using the new subflow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mply start sending packets with new IP/port pai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associate them with the existing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could two end-points learn about extra IP addresses for establishing new subflows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mplicitly: one end-point establishes a new subflow, to already-known address(es) at the other end-poi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90BD-1B00-4DE8-A3E9-011645CD9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quence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llenges across subflow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-of-order packets due to RTT dif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ess networks that rewrite sequence numb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ddleboxes upset by discontinuous TCP byte str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ed to retransmit lost packets on a different sub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levels of sequence numb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per sub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quence numbers for the entire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fficient detection of loss on each sub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ransmission of lost packet on a different sub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813C-94C4-400F-9C1A-8F6DD6684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ive Buffer Sp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ch TCP connection has a receive buff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ffer space to store incoming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til it is read by the appl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flow contro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eiver advertises the available buffer spa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ing the “receive window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hould each subflow have its own receive window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rvation of some subflows in a connec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rness relative to other TCP connection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gmentation of the available buffer spa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stead, use a common receive windo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9C7B-B1A4-47E2-B395-B338DE08F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09-29T02:32:53Z</dcterms:modified>
  <cp:revision>3346</cp:revision>
  <dc:subject/>
  <dc:title>Communication</dc:title>
</cp:coreProperties>
</file>