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5CB14AD-8B75-42DF-AF42-4605A3EA0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CC9B62F-D74B-4F5B-A645-478D7C16361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utility function is concave, this is a convex optimization problem, and a locally optimal solution is a globally optimal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B4FD48-EF24-45FF-9219-8E71C35E623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_l are “prices” or “Lagrange multipli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2F2CAB1-3658-45DB-BE75-0A2744B782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_l are “prices” or “Lagrange multipli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9A84331-2EB5-4C21-A18B-03889CEE0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3AD715E-4838-48FD-A959-29B846E051F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29116E-04FE-4F30-947F-4F14AE10C44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F9FFC1-E339-4EC1-86AA-81B275953AB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EE649D-6B54-4D06-B018-0CA698EF505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57A3EAC-14CF-4AA2-89DF-10FA5FBA271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3D84-A401-4F09-B56E-F59FA1785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F0E7-2B1F-4106-9EB4-AE45E0608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8302-BE36-4B72-9BA7-785EBE4DB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FDA7-D78D-4938-81D9-A8B127BEF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3600-523D-403A-B245-D69B7054BB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7885-D681-414C-962E-7366C93DF2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CF66-6743-46E2-A0C6-17A480BEA0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8FFF-3884-4CC7-A15F-0117036B9D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30A4-97A3-4450-AE3B-9D0A51F547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68DC2-F9D9-4051-85C7-E1D81CB5F6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6263-3EAF-45C7-9235-8F35338DB9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829E-DD8E-45F5-BCAE-A20845EBC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9F3D-5BAB-4535-958A-98633489AD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320C-CFCD-4DFF-8B09-7252F013A2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2C5C-A5AC-4CE4-9D84-5B5E2E459C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611D-8092-42CE-A40B-80E89B8FB4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1466-11FE-42B9-904B-F4ECA3A34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58A6-8C0B-466C-AD56-812727E12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47AC-F490-4789-913E-C4FFA0E66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41DD-9BDE-4FE0-BE0F-682731980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D98F-803E-4D70-A4B2-B018F0B8B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712C-E6FC-47D7-B8D9-E90C658C8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3855-4C93-4BBB-9273-F1688B896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8A06-26EE-43BD-A395-DEA36DA7B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FCC-29A9-43EA-9CE6-56F8448D0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857E-69F6-4390-9BE2-A25DEE869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pm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3520" y="22003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TCP Congestion Contro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Utility Maximization (NUM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3360" y="1355760"/>
            <a:ext cx="583740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3760" indent="-20376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rs (i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te allocation: 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ty function: U(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03760" indent="-20376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twork links (l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k capacity: c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tes: 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li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=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link 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n path 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li</a:t>
            </a:r>
            <a:r>
              <a:rPr b="0" i="1" lang="en-US" sz="2800" spc="-1" strike="noStrike">
                <a:solidFill>
                  <a:srgbClr val="000066"/>
                </a:solidFill>
                <a:latin typeface="Book Antiqua"/>
                <a:ea typeface="Book Antiqua"/>
              </a:rPr>
              <a:t>=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therw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12640" indent="-20340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92BB-5221-42B3-9ACA-B495850FF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4095720" y="4989600"/>
            <a:ext cx="41864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≤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≥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5"/>
          <p:cNvSpPr/>
          <p:nvPr/>
        </p:nvSpPr>
        <p:spPr>
          <a:xfrm>
            <a:off x="5686560" y="1508040"/>
            <a:ext cx="37800" cy="165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9"/>
          <p:cNvSpPr/>
          <p:nvPr/>
        </p:nvSpPr>
        <p:spPr>
          <a:xfrm flipH="1">
            <a:off x="5724360" y="3160800"/>
            <a:ext cx="2687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5"/>
          <p:cNvSpPr/>
          <p:nvPr/>
        </p:nvSpPr>
        <p:spPr>
          <a:xfrm>
            <a:off x="5753160" y="1511280"/>
            <a:ext cx="2539800" cy="1625760"/>
          </a:xfrm>
          <a:custGeom>
            <a:avLst/>
            <a:gdLst/>
            <a:ahLst/>
            <a:rect l="l" t="t" r="r" b="b"/>
            <a:pathLst>
              <a:path w="2540000" h="1625600">
                <a:moveTo>
                  <a:pt x="0" y="1625600"/>
                </a:moveTo>
                <a:cubicBezTo>
                  <a:pt x="5855" y="1584614"/>
                  <a:pt x="12743" y="1498536"/>
                  <a:pt x="38100" y="1460500"/>
                </a:cubicBezTo>
                <a:cubicBezTo>
                  <a:pt x="46567" y="1447800"/>
                  <a:pt x="57301" y="1436348"/>
                  <a:pt x="63500" y="1422400"/>
                </a:cubicBezTo>
                <a:cubicBezTo>
                  <a:pt x="74374" y="1397934"/>
                  <a:pt x="76926" y="1370147"/>
                  <a:pt x="88900" y="1346200"/>
                </a:cubicBezTo>
                <a:cubicBezTo>
                  <a:pt x="97367" y="1329267"/>
                  <a:pt x="106842" y="1312801"/>
                  <a:pt x="114300" y="1295400"/>
                </a:cubicBezTo>
                <a:cubicBezTo>
                  <a:pt x="119573" y="1283095"/>
                  <a:pt x="122300" y="1269835"/>
                  <a:pt x="127000" y="1257300"/>
                </a:cubicBezTo>
                <a:cubicBezTo>
                  <a:pt x="135005" y="1235954"/>
                  <a:pt x="143933" y="1214967"/>
                  <a:pt x="152400" y="1193800"/>
                </a:cubicBezTo>
                <a:cubicBezTo>
                  <a:pt x="156633" y="1168400"/>
                  <a:pt x="156957" y="1142029"/>
                  <a:pt x="165100" y="1117600"/>
                </a:cubicBezTo>
                <a:cubicBezTo>
                  <a:pt x="173941" y="1091078"/>
                  <a:pt x="210915" y="1059085"/>
                  <a:pt x="228600" y="1041400"/>
                </a:cubicBezTo>
                <a:cubicBezTo>
                  <a:pt x="249459" y="957962"/>
                  <a:pt x="227720" y="1020715"/>
                  <a:pt x="266700" y="952500"/>
                </a:cubicBezTo>
                <a:cubicBezTo>
                  <a:pt x="276093" y="936062"/>
                  <a:pt x="280273" y="916483"/>
                  <a:pt x="292100" y="901700"/>
                </a:cubicBezTo>
                <a:cubicBezTo>
                  <a:pt x="314540" y="873650"/>
                  <a:pt x="368300" y="825500"/>
                  <a:pt x="368300" y="825500"/>
                </a:cubicBezTo>
                <a:cubicBezTo>
                  <a:pt x="393551" y="724496"/>
                  <a:pt x="361532" y="824643"/>
                  <a:pt x="419100" y="723900"/>
                </a:cubicBezTo>
                <a:cubicBezTo>
                  <a:pt x="425742" y="712277"/>
                  <a:pt x="424374" y="696939"/>
                  <a:pt x="431800" y="685800"/>
                </a:cubicBezTo>
                <a:cubicBezTo>
                  <a:pt x="441763" y="670856"/>
                  <a:pt x="458402" y="661498"/>
                  <a:pt x="469900" y="647700"/>
                </a:cubicBezTo>
                <a:cubicBezTo>
                  <a:pt x="479671" y="635974"/>
                  <a:pt x="484507" y="620393"/>
                  <a:pt x="495300" y="609600"/>
                </a:cubicBezTo>
                <a:cubicBezTo>
                  <a:pt x="531696" y="573204"/>
                  <a:pt x="530183" y="592158"/>
                  <a:pt x="571500" y="571500"/>
                </a:cubicBezTo>
                <a:cubicBezTo>
                  <a:pt x="585152" y="564674"/>
                  <a:pt x="597874" y="555871"/>
                  <a:pt x="609600" y="546100"/>
                </a:cubicBezTo>
                <a:cubicBezTo>
                  <a:pt x="623398" y="534602"/>
                  <a:pt x="633523" y="519027"/>
                  <a:pt x="647700" y="508000"/>
                </a:cubicBezTo>
                <a:cubicBezTo>
                  <a:pt x="671797" y="489258"/>
                  <a:pt x="698500" y="474133"/>
                  <a:pt x="723900" y="457200"/>
                </a:cubicBezTo>
                <a:cubicBezTo>
                  <a:pt x="736600" y="448733"/>
                  <a:pt x="751207" y="442593"/>
                  <a:pt x="762000" y="431800"/>
                </a:cubicBezTo>
                <a:cubicBezTo>
                  <a:pt x="821686" y="372114"/>
                  <a:pt x="785156" y="403663"/>
                  <a:pt x="876300" y="342900"/>
                </a:cubicBezTo>
                <a:cubicBezTo>
                  <a:pt x="966090" y="283040"/>
                  <a:pt x="857984" y="361216"/>
                  <a:pt x="952500" y="266700"/>
                </a:cubicBezTo>
                <a:cubicBezTo>
                  <a:pt x="963293" y="255907"/>
                  <a:pt x="977348" y="248873"/>
                  <a:pt x="990600" y="241300"/>
                </a:cubicBezTo>
                <a:cubicBezTo>
                  <a:pt x="1042254" y="211784"/>
                  <a:pt x="1036640" y="217090"/>
                  <a:pt x="1092200" y="203200"/>
                </a:cubicBezTo>
                <a:cubicBezTo>
                  <a:pt x="1104900" y="190500"/>
                  <a:pt x="1114706" y="174011"/>
                  <a:pt x="1130300" y="165100"/>
                </a:cubicBezTo>
                <a:cubicBezTo>
                  <a:pt x="1145455" y="156440"/>
                  <a:pt x="1164317" y="157195"/>
                  <a:pt x="1181100" y="152400"/>
                </a:cubicBezTo>
                <a:cubicBezTo>
                  <a:pt x="1193972" y="148722"/>
                  <a:pt x="1206895" y="144973"/>
                  <a:pt x="1219200" y="139700"/>
                </a:cubicBezTo>
                <a:cubicBezTo>
                  <a:pt x="1236601" y="132242"/>
                  <a:pt x="1252700" y="121989"/>
                  <a:pt x="1270000" y="114300"/>
                </a:cubicBezTo>
                <a:cubicBezTo>
                  <a:pt x="1296859" y="102363"/>
                  <a:pt x="1384101" y="68620"/>
                  <a:pt x="1409700" y="63500"/>
                </a:cubicBezTo>
                <a:cubicBezTo>
                  <a:pt x="1452033" y="55033"/>
                  <a:pt x="1494817" y="48571"/>
                  <a:pt x="1536700" y="38100"/>
                </a:cubicBezTo>
                <a:cubicBezTo>
                  <a:pt x="1572788" y="29078"/>
                  <a:pt x="1628843" y="13630"/>
                  <a:pt x="1663700" y="12700"/>
                </a:cubicBezTo>
                <a:cubicBezTo>
                  <a:pt x="1955727" y="4913"/>
                  <a:pt x="2540000" y="0"/>
                  <a:pt x="2540000" y="0"/>
                </a:cubicBezTo>
              </a:path>
            </a:pathLst>
          </a:custGeom>
          <a:noFill/>
          <a:ln w="28440">
            <a:solidFill>
              <a:srgbClr val="0000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6"/>
          <p:cNvSpPr/>
          <p:nvPr/>
        </p:nvSpPr>
        <p:spPr>
          <a:xfrm>
            <a:off x="6889320" y="3059280"/>
            <a:ext cx="50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4561560" y="1816200"/>
            <a:ext cx="1128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Utility and Fair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55A5-6047-4F74-91A6-E3C1F49F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>
            <a:off x="5526000" y="1506600"/>
            <a:ext cx="38160" cy="165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H="1">
            <a:off x="5564160" y="3144960"/>
            <a:ext cx="268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6"/>
          <p:cNvSpPr/>
          <p:nvPr/>
        </p:nvSpPr>
        <p:spPr>
          <a:xfrm>
            <a:off x="5592600" y="1508040"/>
            <a:ext cx="2540160" cy="1625760"/>
          </a:xfrm>
          <a:custGeom>
            <a:avLst/>
            <a:gdLst/>
            <a:ahLst/>
            <a:rect l="l" t="t" r="r" b="b"/>
            <a:pathLst>
              <a:path w="2540000" h="1625600">
                <a:moveTo>
                  <a:pt x="0" y="1625600"/>
                </a:moveTo>
                <a:cubicBezTo>
                  <a:pt x="5855" y="1584614"/>
                  <a:pt x="12743" y="1498536"/>
                  <a:pt x="38100" y="1460500"/>
                </a:cubicBezTo>
                <a:cubicBezTo>
                  <a:pt x="46567" y="1447800"/>
                  <a:pt x="57301" y="1436348"/>
                  <a:pt x="63500" y="1422400"/>
                </a:cubicBezTo>
                <a:cubicBezTo>
                  <a:pt x="74374" y="1397934"/>
                  <a:pt x="76926" y="1370147"/>
                  <a:pt x="88900" y="1346200"/>
                </a:cubicBezTo>
                <a:cubicBezTo>
                  <a:pt x="97367" y="1329267"/>
                  <a:pt x="106842" y="1312801"/>
                  <a:pt x="114300" y="1295400"/>
                </a:cubicBezTo>
                <a:cubicBezTo>
                  <a:pt x="119573" y="1283095"/>
                  <a:pt x="122300" y="1269835"/>
                  <a:pt x="127000" y="1257300"/>
                </a:cubicBezTo>
                <a:cubicBezTo>
                  <a:pt x="135005" y="1235954"/>
                  <a:pt x="143933" y="1214967"/>
                  <a:pt x="152400" y="1193800"/>
                </a:cubicBezTo>
                <a:cubicBezTo>
                  <a:pt x="156633" y="1168400"/>
                  <a:pt x="156957" y="1142029"/>
                  <a:pt x="165100" y="1117600"/>
                </a:cubicBezTo>
                <a:cubicBezTo>
                  <a:pt x="173941" y="1091078"/>
                  <a:pt x="210915" y="1059085"/>
                  <a:pt x="228600" y="1041400"/>
                </a:cubicBezTo>
                <a:cubicBezTo>
                  <a:pt x="249459" y="957962"/>
                  <a:pt x="227720" y="1020715"/>
                  <a:pt x="266700" y="952500"/>
                </a:cubicBezTo>
                <a:cubicBezTo>
                  <a:pt x="276093" y="936062"/>
                  <a:pt x="280273" y="916483"/>
                  <a:pt x="292100" y="901700"/>
                </a:cubicBezTo>
                <a:cubicBezTo>
                  <a:pt x="314540" y="873650"/>
                  <a:pt x="368300" y="825500"/>
                  <a:pt x="368300" y="825500"/>
                </a:cubicBezTo>
                <a:cubicBezTo>
                  <a:pt x="393551" y="724496"/>
                  <a:pt x="361532" y="824643"/>
                  <a:pt x="419100" y="723900"/>
                </a:cubicBezTo>
                <a:cubicBezTo>
                  <a:pt x="425742" y="712277"/>
                  <a:pt x="424374" y="696939"/>
                  <a:pt x="431800" y="685800"/>
                </a:cubicBezTo>
                <a:cubicBezTo>
                  <a:pt x="441763" y="670856"/>
                  <a:pt x="458402" y="661498"/>
                  <a:pt x="469900" y="647700"/>
                </a:cubicBezTo>
                <a:cubicBezTo>
                  <a:pt x="479671" y="635974"/>
                  <a:pt x="484507" y="620393"/>
                  <a:pt x="495300" y="609600"/>
                </a:cubicBezTo>
                <a:cubicBezTo>
                  <a:pt x="531696" y="573204"/>
                  <a:pt x="530183" y="592158"/>
                  <a:pt x="571500" y="571500"/>
                </a:cubicBezTo>
                <a:cubicBezTo>
                  <a:pt x="585152" y="564674"/>
                  <a:pt x="597874" y="555871"/>
                  <a:pt x="609600" y="546100"/>
                </a:cubicBezTo>
                <a:cubicBezTo>
                  <a:pt x="623398" y="534602"/>
                  <a:pt x="633523" y="519027"/>
                  <a:pt x="647700" y="508000"/>
                </a:cubicBezTo>
                <a:cubicBezTo>
                  <a:pt x="671797" y="489258"/>
                  <a:pt x="698500" y="474133"/>
                  <a:pt x="723900" y="457200"/>
                </a:cubicBezTo>
                <a:cubicBezTo>
                  <a:pt x="736600" y="448733"/>
                  <a:pt x="751207" y="442593"/>
                  <a:pt x="762000" y="431800"/>
                </a:cubicBezTo>
                <a:cubicBezTo>
                  <a:pt x="821686" y="372114"/>
                  <a:pt x="785156" y="403663"/>
                  <a:pt x="876300" y="342900"/>
                </a:cubicBezTo>
                <a:cubicBezTo>
                  <a:pt x="966090" y="283040"/>
                  <a:pt x="857984" y="361216"/>
                  <a:pt x="952500" y="266700"/>
                </a:cubicBezTo>
                <a:cubicBezTo>
                  <a:pt x="963293" y="255907"/>
                  <a:pt x="977348" y="248873"/>
                  <a:pt x="990600" y="241300"/>
                </a:cubicBezTo>
                <a:cubicBezTo>
                  <a:pt x="1042254" y="211784"/>
                  <a:pt x="1036640" y="217090"/>
                  <a:pt x="1092200" y="203200"/>
                </a:cubicBezTo>
                <a:cubicBezTo>
                  <a:pt x="1104900" y="190500"/>
                  <a:pt x="1114706" y="174011"/>
                  <a:pt x="1130300" y="165100"/>
                </a:cubicBezTo>
                <a:cubicBezTo>
                  <a:pt x="1145455" y="156440"/>
                  <a:pt x="1164317" y="157195"/>
                  <a:pt x="1181100" y="152400"/>
                </a:cubicBezTo>
                <a:cubicBezTo>
                  <a:pt x="1193972" y="148722"/>
                  <a:pt x="1206895" y="144973"/>
                  <a:pt x="1219200" y="139700"/>
                </a:cubicBezTo>
                <a:cubicBezTo>
                  <a:pt x="1236601" y="132242"/>
                  <a:pt x="1252700" y="121989"/>
                  <a:pt x="1270000" y="114300"/>
                </a:cubicBezTo>
                <a:cubicBezTo>
                  <a:pt x="1296859" y="102363"/>
                  <a:pt x="1384101" y="68620"/>
                  <a:pt x="1409700" y="63500"/>
                </a:cubicBezTo>
                <a:cubicBezTo>
                  <a:pt x="1452033" y="55033"/>
                  <a:pt x="1494817" y="48571"/>
                  <a:pt x="1536700" y="38100"/>
                </a:cubicBezTo>
                <a:cubicBezTo>
                  <a:pt x="1572788" y="29078"/>
                  <a:pt x="1628843" y="13630"/>
                  <a:pt x="1663700" y="12700"/>
                </a:cubicBezTo>
                <a:cubicBezTo>
                  <a:pt x="1955727" y="4913"/>
                  <a:pt x="2540000" y="0"/>
                  <a:pt x="2540000" y="0"/>
                </a:cubicBezTo>
              </a:path>
            </a:pathLst>
          </a:custGeom>
          <a:noFill/>
          <a:ln w="28440">
            <a:solidFill>
              <a:srgbClr val="0000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766920" y="3044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615200" y="19288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(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6374520" y="1700280"/>
            <a:ext cx="2261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4"/>
                </a:solidFill>
                <a:latin typeface="Arial"/>
                <a:ea typeface="ＭＳ Ｐゴシック"/>
              </a:rPr>
              <a:t>conc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4"/>
                </a:solidFill>
                <a:latin typeface="Arial"/>
                <a:ea typeface="ＭＳ Ｐゴシック"/>
              </a:rPr>
              <a:t>(diminishing returns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ontent Placeholder 2"/>
          <p:cNvSpPr/>
          <p:nvPr/>
        </p:nvSpPr>
        <p:spPr>
          <a:xfrm>
            <a:off x="501480" y="1816200"/>
            <a:ext cx="44546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pha-fair ut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(x) = x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1-</a:t>
            </a:r>
            <a:r>
              <a:rPr b="0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/(1-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) for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≠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U(x) = log(x) for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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208160" y="5454720"/>
            <a:ext cx="2457360" cy="73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re elastic deman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3"/>
          <p:cNvCxnSpPr/>
          <p:nvPr/>
        </p:nvCxnSpPr>
        <p:spPr>
          <a:xfrm>
            <a:off x="1784520" y="5310000"/>
            <a:ext cx="672048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73" name="TextBox 12"/>
          <p:cNvSpPr/>
          <p:nvPr/>
        </p:nvSpPr>
        <p:spPr>
          <a:xfrm>
            <a:off x="7358040" y="5424480"/>
            <a:ext cx="135576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re fai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7"/>
          <p:cNvSpPr/>
          <p:nvPr/>
        </p:nvSpPr>
        <p:spPr>
          <a:xfrm>
            <a:off x="1784520" y="5156280"/>
            <a:ext cx="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9"/>
          <p:cNvSpPr/>
          <p:nvPr/>
        </p:nvSpPr>
        <p:spPr>
          <a:xfrm>
            <a:off x="2436840" y="5156280"/>
            <a:ext cx="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20"/>
          <p:cNvSpPr/>
          <p:nvPr/>
        </p:nvSpPr>
        <p:spPr>
          <a:xfrm>
            <a:off x="8197920" y="5156280"/>
            <a:ext cx="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8010360" y="4694400"/>
            <a:ext cx="4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638720" y="4694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3"/>
          <p:cNvSpPr/>
          <p:nvPr/>
        </p:nvSpPr>
        <p:spPr>
          <a:xfrm>
            <a:off x="2291040" y="4694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395280" y="406404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5"/>
          <p:cNvSpPr/>
          <p:nvPr/>
        </p:nvSpPr>
        <p:spPr>
          <a:xfrm>
            <a:off x="1806480" y="406404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rtional fair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6"/>
          <p:cNvSpPr/>
          <p:nvPr/>
        </p:nvSpPr>
        <p:spPr>
          <a:xfrm>
            <a:off x="7029360" y="4079880"/>
            <a:ext cx="17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-min fair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ving NUM 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3082680"/>
            <a:ext cx="84582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vex optimiz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izing a concave objectiv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ject to convex constrai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cally optimal solution is globally optim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be solved efficiently on a centralized compu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omposable” into many smaller proble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46C5-1FCC-4B12-BAAD-90514E249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2306520" y="1355760"/>
            <a:ext cx="41864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≤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≥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ve Constraints to Obje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39B5-339B-49B8-A5B2-D101C43C4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808200" y="1547640"/>
            <a:ext cx="418608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≤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≥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588960" y="4718160"/>
            <a:ext cx="7412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(x,p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(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 in S(l)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5686560" y="1239840"/>
            <a:ext cx="2205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upled across s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724360" y="2430360"/>
            <a:ext cx="220536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pled across s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0"/>
          <p:cNvCxnSpPr>
            <a:stCxn id="191" idx="1"/>
          </p:cNvCxnSpPr>
          <p:nvPr/>
        </p:nvCxnSpPr>
        <p:spPr>
          <a:xfrm flipH="1">
            <a:off x="4455720" y="1593720"/>
            <a:ext cx="1231200" cy="261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94" name="Straight Arrow Connector 11"/>
          <p:cNvCxnSpPr>
            <a:stCxn id="192" idx="1"/>
          </p:cNvCxnSpPr>
          <p:nvPr/>
        </p:nvCxnSpPr>
        <p:spPr>
          <a:xfrm flipH="1" flipV="1">
            <a:off x="4839840" y="2506680"/>
            <a:ext cx="884880" cy="278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95" name="Down Arrow 16"/>
          <p:cNvSpPr/>
          <p:nvPr/>
        </p:nvSpPr>
        <p:spPr>
          <a:xfrm>
            <a:off x="3189240" y="3198960"/>
            <a:ext cx="384120" cy="14745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0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587040" y="3494160"/>
            <a:ext cx="33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al decompositio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mpute the Lagrangi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3"/>
          <p:cNvCxnSpPr>
            <a:stCxn id="198" idx="0"/>
          </p:cNvCxnSpPr>
          <p:nvPr/>
        </p:nvCxnSpPr>
        <p:spPr>
          <a:xfrm flipH="1" flipV="1">
            <a:off x="5148000" y="5233680"/>
            <a:ext cx="24480" cy="684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98" name="TextBox 3"/>
          <p:cNvSpPr/>
          <p:nvPr/>
        </p:nvSpPr>
        <p:spPr>
          <a:xfrm>
            <a:off x="3746520" y="5918040"/>
            <a:ext cx="28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pr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Lagrange multipli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ouple the Te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799308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E40D-3A83-48B1-B2E8-658983667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693720" y="1316160"/>
            <a:ext cx="775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(x,p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U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(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 in S(l)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own Arrow 17"/>
          <p:cNvSpPr/>
          <p:nvPr/>
        </p:nvSpPr>
        <p:spPr>
          <a:xfrm>
            <a:off x="4062240" y="2255760"/>
            <a:ext cx="384480" cy="104292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000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8"/>
          <p:cNvSpPr/>
          <p:nvPr/>
        </p:nvSpPr>
        <p:spPr>
          <a:xfrm>
            <a:off x="501480" y="3535200"/>
            <a:ext cx="829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(x,p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[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–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 in L(i)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] 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9"/>
          <p:cNvSpPr/>
          <p:nvPr/>
        </p:nvSpPr>
        <p:spPr>
          <a:xfrm>
            <a:off x="1109520" y="2473200"/>
            <a:ext cx="22068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upled across s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6602400" y="2397240"/>
            <a:ext cx="2205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upled across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21"/>
          <p:cNvCxnSpPr>
            <a:stCxn id="204" idx="2"/>
          </p:cNvCxnSpPr>
          <p:nvPr/>
        </p:nvCxnSpPr>
        <p:spPr>
          <a:xfrm>
            <a:off x="2212560" y="3181320"/>
            <a:ext cx="702360" cy="403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7" name="Straight Arrow Connector 22"/>
          <p:cNvCxnSpPr/>
          <p:nvPr/>
        </p:nvCxnSpPr>
        <p:spPr>
          <a:xfrm flipH="1">
            <a:off x="7671600" y="3181320"/>
            <a:ext cx="1080" cy="403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08" name="TextBox 1"/>
          <p:cNvSpPr/>
          <p:nvPr/>
        </p:nvSpPr>
        <p:spPr>
          <a:xfrm>
            <a:off x="4442760" y="2562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465120" y="5494320"/>
            <a:ext cx="8299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(x,p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[U(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– q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]  +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24"/>
          <p:cNvSpPr/>
          <p:nvPr/>
        </p:nvSpPr>
        <p:spPr>
          <a:xfrm>
            <a:off x="4062240" y="4344840"/>
            <a:ext cx="384480" cy="104328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5"/>
          <p:cNvSpPr/>
          <p:nvPr/>
        </p:nvSpPr>
        <p:spPr>
          <a:xfrm>
            <a:off x="4442760" y="4638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6"/>
          <p:cNvCxnSpPr/>
          <p:nvPr/>
        </p:nvCxnSpPr>
        <p:spPr>
          <a:xfrm flipH="1">
            <a:off x="5441760" y="4990680"/>
            <a:ext cx="608400" cy="5706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13" name="TextBox 9"/>
          <p:cNvSpPr/>
          <p:nvPr/>
        </p:nvSpPr>
        <p:spPr>
          <a:xfrm>
            <a:off x="6053040" y="46530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pr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930960" y="6259680"/>
            <a:ext cx="73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, maximize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a given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minimize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a given </a:t>
            </a:r>
            <a:r>
              <a:rPr b="1" i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9456840" y="-6660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ompos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7B13-F445-4C8A-9921-0360072A6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885960" y="2871720"/>
            <a:ext cx="3078000" cy="19209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840200" y="2833560"/>
            <a:ext cx="3917880" cy="19972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urved Down Arrow 8"/>
          <p:cNvSpPr/>
          <p:nvPr/>
        </p:nvSpPr>
        <p:spPr>
          <a:xfrm>
            <a:off x="2382840" y="1508040"/>
            <a:ext cx="4724280" cy="1460520"/>
          </a:xfrm>
          <a:custGeom>
            <a:avLst/>
            <a:gdLst>
              <a:gd name="textAreaLeft" fmla="*/ 1050480 w 4724280"/>
              <a:gd name="textAreaRight" fmla="*/ 3516840 w 4724280"/>
              <a:gd name="textAreaTop" fmla="*/ 195480 h 1460520"/>
              <a:gd name="textAreaBottom" fmla="*/ 1265040 h 1460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08" hR="21600" stAng="10800000" swAng="5400000"/>
                <a:lnTo>
                  <a:pt x="11276" y="0"/>
                </a:lnTo>
                <a:arcTo wR="9608" hR="21600" stAng="-5400000" swAng="3536802"/>
                <a:lnTo>
                  <a:pt x="21273" y="16012"/>
                </a:lnTo>
                <a:lnTo>
                  <a:pt x="20049" y="21600"/>
                </a:lnTo>
                <a:lnTo>
                  <a:pt x="18171" y="16012"/>
                </a:lnTo>
                <a:lnTo>
                  <a:pt x="18888" y="16012"/>
                </a:lnTo>
                <a:arcTo wR="9608" hR="21600" stAng="-1863198" swAng="-3403631"/>
                <a:lnTo>
                  <a:pt x="10442" y="82"/>
                </a:lnTo>
                <a:arcTo wR="9608" hR="21600" stAng="-5533172" swAng="-5266828"/>
                <a:close/>
              </a:path>
              <a:path fill="darkenLess" w="21600" h="21600">
                <a:moveTo>
                  <a:pt x="0" y="21600"/>
                </a:moveTo>
                <a:arcTo wR="9608" hR="21600" stAng="10800000" swAng="5400000"/>
                <a:lnTo>
                  <a:pt x="9608" y="0"/>
                </a:lnTo>
                <a:arcTo wR="9608" hR="21600" stAng="-5400000" swAng="133172"/>
                <a:lnTo>
                  <a:pt x="10442" y="82"/>
                </a:lnTo>
                <a:arcTo wR="9608" hR="21600" stAng="-5533172" swAng="-5266828"/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urved Down Arrow 10"/>
          <p:cNvSpPr/>
          <p:nvPr/>
        </p:nvSpPr>
        <p:spPr>
          <a:xfrm flipH="1" flipV="1">
            <a:off x="2382120" y="4772880"/>
            <a:ext cx="4916520" cy="1382760"/>
          </a:xfrm>
          <a:custGeom>
            <a:avLst/>
            <a:gdLst>
              <a:gd name="textAreaLeft" fmla="*/ 1105200 w 4916520"/>
              <a:gd name="textAreaRight" fmla="*/ 3661920 w 4916520"/>
              <a:gd name="textAreaTop" fmla="*/ 185040 h 1382760"/>
              <a:gd name="textAreaBottom" fmla="*/ 1197720 h 1382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715" hR="21600" stAng="10800000" swAng="5400000"/>
                <a:lnTo>
                  <a:pt x="11233" y="0"/>
                </a:lnTo>
                <a:arcTo wR="9715" hR="21600" stAng="-5400000" swAng="3553584"/>
                <a:lnTo>
                  <a:pt x="21269" y="16012"/>
                </a:lnTo>
                <a:lnTo>
                  <a:pt x="20188" y="21600"/>
                </a:lnTo>
                <a:lnTo>
                  <a:pt x="18445" y="16012"/>
                </a:lnTo>
                <a:lnTo>
                  <a:pt x="19098" y="16012"/>
                </a:lnTo>
                <a:arcTo wR="9715" hR="21600" stAng="-1846416" swAng="-3432465"/>
                <a:lnTo>
                  <a:pt x="10474" y="66"/>
                </a:lnTo>
                <a:arcTo wR="9715" hR="21600" stAng="-5521119" swAng="-5278881"/>
                <a:close/>
              </a:path>
              <a:path fill="darkenLess" w="21600" h="21600">
                <a:moveTo>
                  <a:pt x="0" y="21600"/>
                </a:moveTo>
                <a:arcTo wR="9715" hR="21600" stAng="10800000" swAng="5400000"/>
                <a:lnTo>
                  <a:pt x="9715" y="0"/>
                </a:lnTo>
                <a:arcTo wR="9715" hR="21600" stAng="-5400000" swAng="121119"/>
                <a:lnTo>
                  <a:pt x="10474" y="66"/>
                </a:lnTo>
                <a:arcTo wR="9715" hR="21600" stAng="-5521119" swAng="-5278881"/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1230480" y="3208320"/>
            <a:ext cx="21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se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2"/>
          <p:cNvSpPr/>
          <p:nvPr/>
        </p:nvSpPr>
        <p:spPr>
          <a:xfrm>
            <a:off x="6557400" y="3208320"/>
            <a:ext cx="84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ink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925080" y="5118120"/>
            <a:ext cx="16941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q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3317040" y="1778040"/>
            <a:ext cx="25369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ed link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y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i</a:t>
            </a:r>
            <a:r>
              <a:rPr b="1" i="1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1171440" y="3665520"/>
            <a:ext cx="250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x (U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) – q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1391040" y="3927600"/>
            <a:ext cx="394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5032440" y="3665520"/>
            <a:ext cx="372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[t] = (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[t-1] -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(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– 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)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Book Antiqua"/>
                <a:ea typeface="Book Antiqua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1459440" y="1712880"/>
            <a:ext cx="120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s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6593400" y="570240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s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Book Antiqua"/>
                <a:ea typeface="Book Antiqua"/>
              </a:rPr>
              <a:t>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Prices and Implicit Feedb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are the link prices </a:t>
            </a:r>
            <a:r>
              <a:rPr b="1" i="1" lang="en-US" sz="2800" spc="-1" strike="noStrike">
                <a:solidFill>
                  <a:srgbClr val="0000ff"/>
                </a:solidFill>
                <a:latin typeface="Book Antiqua"/>
                <a:ea typeface="Book Antiqua"/>
              </a:rPr>
              <a:t>p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Book Antiqua"/>
                <a:ea typeface="Book Antiqua"/>
              </a:rPr>
              <a:t>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 of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mount of traffic in excess of capac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is, the packet los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are the path costs </a:t>
            </a:r>
            <a:r>
              <a:rPr b="1" i="1" lang="en-US" sz="2800" spc="-1" strike="noStrike">
                <a:solidFill>
                  <a:srgbClr val="0000ff"/>
                </a:solidFill>
                <a:latin typeface="Book Antiqua"/>
                <a:ea typeface="Book Antiqua"/>
              </a:rPr>
              <a:t>q</a:t>
            </a:r>
            <a:r>
              <a:rPr b="1" i="1" lang="en-US" sz="2800" spc="-1" strike="noStrike" baseline="-25000">
                <a:solidFill>
                  <a:srgbClr val="0000ff"/>
                </a:solidFill>
                <a:latin typeface="Book Antiqua"/>
                <a:ea typeface="Book Antiqua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 of the link prices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p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long the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loss is low, sum of link loss is roughly path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need for explicit feedback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an observe the path loss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q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n path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an observe the offered load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y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n link </a:t>
            </a:r>
            <a:r>
              <a:rPr b="1" i="1" lang="en-US" sz="2400" spc="-1" strike="noStrike">
                <a:solidFill>
                  <a:srgbClr val="000066"/>
                </a:solidFill>
                <a:latin typeface="Book Antiqua"/>
                <a:ea typeface="Book Antiqua"/>
              </a:rPr>
              <a:t>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5898-6657-42F7-83B7-684DC1BC4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ing Back to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verse engine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Ren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01800" indent="-23076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ies are arctan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3076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are end-to-end packe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Veg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01800" indent="-23076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ies are log(x), i.e., proportional fai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3076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s are end-to-end packet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ward engine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decomposition to design new variants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CP FA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mplif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xed set of connections, focus on equilibrium behavior, ignore feedback delays and queuing 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7E97-2228-4263-AD45-3977FF3E4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CP Congestion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9C39-7CEE-4638-A0B7-C4F4E019C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in Drop-Tail FIFO Que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ccess to the bandwidth: first-in first-out queue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transmitt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42" name="Group 22"/>
          <p:cNvGrpSpPr/>
          <p:nvPr/>
        </p:nvGrpSpPr>
        <p:grpSpPr>
          <a:xfrm>
            <a:off x="1806480" y="2684520"/>
            <a:ext cx="5684760" cy="698400"/>
            <a:chOff x="1806480" y="2684520"/>
            <a:chExt cx="5684760" cy="698400"/>
          </a:xfrm>
        </p:grpSpPr>
        <p:sp>
          <p:nvSpPr>
            <p:cNvPr id="243" name="Rectangle 4"/>
            <p:cNvSpPr/>
            <p:nvPr/>
          </p:nvSpPr>
          <p:spPr>
            <a:xfrm>
              <a:off x="43830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49194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54576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599436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3846240" y="2690640"/>
              <a:ext cx="536400" cy="69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3306600" y="2690640"/>
              <a:ext cx="536400" cy="69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0"/>
            <p:cNvSpPr/>
            <p:nvPr/>
          </p:nvSpPr>
          <p:spPr>
            <a:xfrm>
              <a:off x="1806480" y="26892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1"/>
            <p:cNvSpPr/>
            <p:nvPr/>
          </p:nvSpPr>
          <p:spPr>
            <a:xfrm>
              <a:off x="2230200" y="2684520"/>
              <a:ext cx="1919160" cy="352440"/>
            </a:xfrm>
            <a:custGeom>
              <a:avLst/>
              <a:gdLst>
                <a:gd name="textAreaLeft" fmla="*/ 0 w 1919160"/>
                <a:gd name="textAreaRight" fmla="*/ 1919520 w 19191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209" h="222">
                  <a:moveTo>
                    <a:pt x="0" y="197"/>
                  </a:moveTo>
                  <a:cubicBezTo>
                    <a:pt x="81" y="98"/>
                    <a:pt x="162" y="0"/>
                    <a:pt x="363" y="4"/>
                  </a:cubicBezTo>
                  <a:cubicBezTo>
                    <a:pt x="564" y="8"/>
                    <a:pt x="886" y="115"/>
                    <a:pt x="1209" y="22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>
              <a:off x="6530760" y="2997360"/>
              <a:ext cx="96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3"/>
          <p:cNvGrpSpPr/>
          <p:nvPr/>
        </p:nvGrpSpPr>
        <p:grpSpPr>
          <a:xfrm>
            <a:off x="1710360" y="4695840"/>
            <a:ext cx="5780880" cy="1312920"/>
            <a:chOff x="1710360" y="4695840"/>
            <a:chExt cx="5780880" cy="1312920"/>
          </a:xfrm>
        </p:grpSpPr>
        <p:sp>
          <p:nvSpPr>
            <p:cNvPr id="253" name="Rectangle 13"/>
            <p:cNvSpPr/>
            <p:nvPr/>
          </p:nvSpPr>
          <p:spPr>
            <a:xfrm>
              <a:off x="43830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4"/>
            <p:cNvSpPr/>
            <p:nvPr/>
          </p:nvSpPr>
          <p:spPr>
            <a:xfrm>
              <a:off x="49194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5"/>
            <p:cNvSpPr/>
            <p:nvPr/>
          </p:nvSpPr>
          <p:spPr>
            <a:xfrm>
              <a:off x="54576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6"/>
            <p:cNvSpPr/>
            <p:nvPr/>
          </p:nvSpPr>
          <p:spPr>
            <a:xfrm>
              <a:off x="599436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"/>
            <p:cNvSpPr/>
            <p:nvPr/>
          </p:nvSpPr>
          <p:spPr>
            <a:xfrm>
              <a:off x="384624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33066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9"/>
            <p:cNvSpPr/>
            <p:nvPr/>
          </p:nvSpPr>
          <p:spPr>
            <a:xfrm>
              <a:off x="1806480" y="50688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1"/>
            <p:cNvSpPr/>
            <p:nvPr/>
          </p:nvSpPr>
          <p:spPr>
            <a:xfrm>
              <a:off x="6531120" y="5376960"/>
              <a:ext cx="960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23"/>
            <p:cNvSpPr/>
            <p:nvPr/>
          </p:nvSpPr>
          <p:spPr>
            <a:xfrm>
              <a:off x="1710360" y="4695840"/>
              <a:ext cx="668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✗</a:t>
              </a:r>
              <a:endParaRPr b="1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Content Placeholder 2"/>
          <p:cNvSpPr/>
          <p:nvPr/>
        </p:nvSpPr>
        <p:spPr>
          <a:xfrm>
            <a:off x="457200" y="380988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ccess to the buffer space: drop-tail queu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the queue is full, drop the incoming pac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lding the Internet Toge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ributed cooperation for resource al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GP: what end-to-en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ath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take (for ~50K A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: what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rat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send over each path (for ~3B host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2AC7-BDBD-483B-94E6-D9C591F9A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1" descr=""/>
          <p:cNvPicPr/>
          <p:nvPr/>
        </p:nvPicPr>
        <p:blipFill>
          <a:blip r:embed="rId1"/>
          <a:stretch/>
        </p:blipFill>
        <p:spPr>
          <a:xfrm>
            <a:off x="3381480" y="2946240"/>
            <a:ext cx="2228760" cy="130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1" descr=""/>
          <p:cNvPicPr/>
          <p:nvPr/>
        </p:nvPicPr>
        <p:blipFill>
          <a:blip r:embed="rId2"/>
          <a:stretch/>
        </p:blipFill>
        <p:spPr>
          <a:xfrm>
            <a:off x="3305160" y="4943520"/>
            <a:ext cx="2228760" cy="130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1" descr=""/>
          <p:cNvPicPr/>
          <p:nvPr/>
        </p:nvPicPr>
        <p:blipFill>
          <a:blip r:embed="rId3"/>
          <a:stretch/>
        </p:blipFill>
        <p:spPr>
          <a:xfrm>
            <a:off x="5494320" y="3944880"/>
            <a:ext cx="222876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1" descr=""/>
          <p:cNvPicPr/>
          <p:nvPr/>
        </p:nvPicPr>
        <p:blipFill>
          <a:blip r:embed="rId4"/>
          <a:stretch/>
        </p:blipFill>
        <p:spPr>
          <a:xfrm>
            <a:off x="1346040" y="3830760"/>
            <a:ext cx="2229120" cy="130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5"/>
          <a:stretch/>
        </p:blipFill>
        <p:spPr>
          <a:xfrm>
            <a:off x="1346040" y="5251320"/>
            <a:ext cx="506520" cy="835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6"/>
          <a:stretch/>
        </p:blipFill>
        <p:spPr>
          <a:xfrm>
            <a:off x="6338880" y="2562120"/>
            <a:ext cx="892080" cy="1308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7"/>
          <a:stretch/>
        </p:blipFill>
        <p:spPr>
          <a:xfrm>
            <a:off x="5838840" y="5310360"/>
            <a:ext cx="1766880" cy="1328400"/>
          </a:xfrm>
          <a:prstGeom prst="rect">
            <a:avLst/>
          </a:prstGeom>
          <a:ln w="0">
            <a:noFill/>
          </a:ln>
        </p:spPr>
      </p:pic>
      <p:sp>
        <p:nvSpPr>
          <p:cNvPr id="105" name="Line 25"/>
          <p:cNvSpPr/>
          <p:nvPr/>
        </p:nvSpPr>
        <p:spPr>
          <a:xfrm flipV="1">
            <a:off x="3035160" y="3868560"/>
            <a:ext cx="538200" cy="15264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 flipV="1">
            <a:off x="5378400" y="5019480"/>
            <a:ext cx="844560" cy="38412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5494320" y="3444840"/>
            <a:ext cx="1228680" cy="3960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 flipH="1">
            <a:off x="4533840" y="4253040"/>
            <a:ext cx="38160" cy="72864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>
            <a:off x="3075120" y="5059440"/>
            <a:ext cx="460080" cy="34452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H="1">
            <a:off x="1576080" y="4905360"/>
            <a:ext cx="500040" cy="42228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8"/>
          <a:stretch/>
        </p:blipFill>
        <p:spPr>
          <a:xfrm>
            <a:off x="2575080" y="5827680"/>
            <a:ext cx="506160" cy="835200"/>
          </a:xfrm>
          <a:prstGeom prst="rect">
            <a:avLst/>
          </a:prstGeom>
          <a:ln w="0">
            <a:noFill/>
          </a:ln>
        </p:spPr>
      </p:pic>
      <p:sp>
        <p:nvSpPr>
          <p:cNvPr id="112" name="Line 25"/>
          <p:cNvSpPr/>
          <p:nvPr/>
        </p:nvSpPr>
        <p:spPr>
          <a:xfrm flipH="1">
            <a:off x="2959200" y="5827680"/>
            <a:ext cx="498240" cy="42228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4"/>
          <p:cNvSpPr/>
          <p:nvPr/>
        </p:nvSpPr>
        <p:spPr>
          <a:xfrm>
            <a:off x="1687680" y="2843280"/>
            <a:ext cx="4373280" cy="2217600"/>
          </a:xfrm>
          <a:custGeom>
            <a:avLst/>
            <a:gdLst/>
            <a:ahLst/>
            <a:rect l="l" t="t" r="r" b="b"/>
            <a:pathLst>
              <a:path w="4373043" h="2218351">
                <a:moveTo>
                  <a:pt x="0" y="2218351"/>
                </a:moveTo>
                <a:cubicBezTo>
                  <a:pt x="1788607" y="1561955"/>
                  <a:pt x="3577214" y="905559"/>
                  <a:pt x="4373043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0"/>
          <p:cNvSpPr/>
          <p:nvPr/>
        </p:nvSpPr>
        <p:spPr>
          <a:xfrm>
            <a:off x="-2303640" y="819000"/>
            <a:ext cx="13767120" cy="3524400"/>
          </a:xfrm>
          <a:custGeom>
            <a:avLst/>
            <a:gdLst/>
            <a:ahLst/>
            <a:rect l="l" t="t" r="r" b="b"/>
            <a:pathLst>
              <a:path w="13767274" h="3524137">
                <a:moveTo>
                  <a:pt x="12834808" y="0"/>
                </a:moveTo>
                <a:cubicBezTo>
                  <a:pt x="13677529" y="1703951"/>
                  <a:pt x="14520251" y="3407902"/>
                  <a:pt x="12609724" y="3520427"/>
                </a:cubicBezTo>
                <a:cubicBezTo>
                  <a:pt x="10699197" y="3632952"/>
                  <a:pt x="3308970" y="1152043"/>
                  <a:pt x="1371648" y="675151"/>
                </a:cubicBezTo>
                <a:cubicBezTo>
                  <a:pt x="-565674" y="198259"/>
                  <a:pt x="-220011" y="1077026"/>
                  <a:pt x="985791" y="6590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2156400" y="42908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4153680" y="340668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6265800" y="43671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4077360" y="540396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 flipV="1">
            <a:off x="5416200" y="5848200"/>
            <a:ext cx="422280" cy="11592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5"/>
          <p:cNvSpPr/>
          <p:nvPr/>
        </p:nvSpPr>
        <p:spPr>
          <a:xfrm flipH="1" flipV="1">
            <a:off x="5532120" y="3736440"/>
            <a:ext cx="384120" cy="422280"/>
          </a:xfrm>
          <a:prstGeom prst="line">
            <a:avLst/>
          </a:prstGeom>
          <a:ln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t Looks to the En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: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et experiences high delay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ss: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et gets dropped along path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can TCP sender learn thi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800000"/>
              </a:buClr>
              <a:buFont typeface="Helvetica"/>
              <a:buChar char="–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Delay: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nd-trip time estim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800000"/>
              </a:buClr>
              <a:buFont typeface="Helvetica"/>
              <a:buChar char="–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Loss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and/or duplicate acknowledg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7a3d00"/>
              </a:buClr>
              <a:buFont typeface="Helvetica"/>
              <a:buChar char="–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a3d00"/>
                </a:solidFill>
                <a:latin typeface="Arial"/>
              </a:rPr>
              <a:t>Mark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Packets marked by routers with large que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383000" y="534348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919760" y="5343480"/>
            <a:ext cx="53640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5457960" y="5343480"/>
            <a:ext cx="53640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5994360" y="534348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3846600" y="5343480"/>
            <a:ext cx="53640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3306600" y="534348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806480" y="534204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>
            <a:off x="6531120" y="564984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4"/>
          <p:cNvSpPr/>
          <p:nvPr/>
        </p:nvSpPr>
        <p:spPr>
          <a:xfrm>
            <a:off x="1710360" y="4946760"/>
            <a:ext cx="6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Congestion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Each sender maintains congestion window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spcAft>
                <a:spcPts val="24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ax number of bytes to have in transit (not ACK’d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dapting the congestion window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buClr>
                <a:srgbClr val="00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crease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pon losing a packet: backing off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buClr>
                <a:srgbClr val="00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ncrease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pon success: optimistically exploring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spcAft>
                <a:spcPts val="2401"/>
              </a:spcAft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lways struggling to find right transfer rat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Tradeoff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buClr>
                <a:srgbClr val="00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Pro: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voids needing explicit network feedbac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26"/>
              </a:spcBef>
              <a:buClr>
                <a:srgbClr val="00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on: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tinually under- and over-shoots “right” rat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ve Increase, Multiplicative Decreas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adap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itive increase:  On success of last window of data, increase window by 1 Max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icative decrease: On loss of packet, divide congestion window in ha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ch quicker to slow than speed up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-sized windows (causing loss) are much worse than under-sized windows (causing lower throughp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IMD:  A necessary condition for stability of 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ds to TCP Sawtooth Behavi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47C0-0DF7-4EBA-9794-6FB09E609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838080" y="2533680"/>
            <a:ext cx="7844040" cy="2819520"/>
          </a:xfrm>
          <a:custGeom>
            <a:avLst/>
            <a:gdLst>
              <a:gd name="textAreaLeft" fmla="*/ 0 w 7844040"/>
              <a:gd name="textAreaRight" fmla="*/ 7844400 w 78440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4416" h="1968">
                <a:moveTo>
                  <a:pt x="0" y="0"/>
                </a:moveTo>
                <a:lnTo>
                  <a:pt x="0" y="1968"/>
                </a:lnTo>
                <a:lnTo>
                  <a:pt x="4416" y="196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4"/>
          <p:cNvSpPr/>
          <p:nvPr/>
        </p:nvSpPr>
        <p:spPr>
          <a:xfrm>
            <a:off x="838080" y="3905280"/>
            <a:ext cx="1828800" cy="13716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7048080" y="54291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358200" y="1693800"/>
            <a:ext cx="17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2666880" y="3371760"/>
            <a:ext cx="2667240" cy="152424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680" h="960">
                <a:moveTo>
                  <a:pt x="0" y="336"/>
                </a:moveTo>
                <a:lnTo>
                  <a:pt x="0" y="816"/>
                </a:lnTo>
                <a:lnTo>
                  <a:pt x="384" y="528"/>
                </a:lnTo>
                <a:lnTo>
                  <a:pt x="384" y="960"/>
                </a:lnTo>
                <a:lnTo>
                  <a:pt x="168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"/>
          <p:cNvSpPr/>
          <p:nvPr/>
        </p:nvSpPr>
        <p:spPr>
          <a:xfrm>
            <a:off x="6781680" y="3672000"/>
            <a:ext cx="1600200" cy="9903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1008" h="624">
                <a:moveTo>
                  <a:pt x="0" y="0"/>
                </a:moveTo>
                <a:lnTo>
                  <a:pt x="0" y="624"/>
                </a:lnTo>
                <a:lnTo>
                  <a:pt x="720" y="48"/>
                </a:lnTo>
                <a:lnTo>
                  <a:pt x="720" y="576"/>
                </a:lnTo>
                <a:lnTo>
                  <a:pt x="1008" y="336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1"/>
          <p:cNvSpPr/>
          <p:nvPr/>
        </p:nvSpPr>
        <p:spPr>
          <a:xfrm>
            <a:off x="5181480" y="4362480"/>
            <a:ext cx="914400" cy="99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152" h="864">
                <a:moveTo>
                  <a:pt x="1152" y="0"/>
                </a:moveTo>
                <a:cubicBezTo>
                  <a:pt x="1132" y="116"/>
                  <a:pt x="1112" y="232"/>
                  <a:pt x="1056" y="336"/>
                </a:cubicBezTo>
                <a:cubicBezTo>
                  <a:pt x="1000" y="440"/>
                  <a:pt x="928" y="544"/>
                  <a:pt x="816" y="624"/>
                </a:cubicBezTo>
                <a:cubicBezTo>
                  <a:pt x="704" y="704"/>
                  <a:pt x="520" y="776"/>
                  <a:pt x="384" y="816"/>
                </a:cubicBezTo>
                <a:cubicBezTo>
                  <a:pt x="248" y="856"/>
                  <a:pt x="124" y="860"/>
                  <a:pt x="0" y="864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 flipV="1">
            <a:off x="6095880" y="3676320"/>
            <a:ext cx="685800" cy="6858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"/>
          <p:cNvSpPr/>
          <p:nvPr/>
        </p:nvSpPr>
        <p:spPr>
          <a:xfrm>
            <a:off x="5334120" y="3371760"/>
            <a:ext cx="0" cy="19814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3"/>
          <p:cNvSpPr/>
          <p:nvPr/>
        </p:nvSpPr>
        <p:spPr>
          <a:xfrm flipH="1">
            <a:off x="5380200" y="2708280"/>
            <a:ext cx="411120" cy="579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5486400" y="225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ime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3"/>
          <p:cNvSpPr/>
          <p:nvPr/>
        </p:nvSpPr>
        <p:spPr>
          <a:xfrm flipH="1">
            <a:off x="3343320" y="3537000"/>
            <a:ext cx="411120" cy="579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6"/>
          <p:cNvSpPr/>
          <p:nvPr/>
        </p:nvSpPr>
        <p:spPr>
          <a:xfrm>
            <a:off x="2651040" y="2998800"/>
            <a:ext cx="21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riple dup 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3"/>
          <p:cNvSpPr/>
          <p:nvPr/>
        </p:nvSpPr>
        <p:spPr>
          <a:xfrm flipH="1">
            <a:off x="1495080" y="4273560"/>
            <a:ext cx="338040" cy="66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681120" y="36021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low sta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Window vs. Congestion 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Flow control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fast sender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from overwhelming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slow receiv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Congestion control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Keep a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set of sender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from overloading the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87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Different concepts, but similar mechanisms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CP flow control:  receiver window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CP congestion control:  congestion window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nder TCP window =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min { congestion window, receiver window }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Tahoe vs. TCP Ren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similar versions of 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Tahoe (SIGCOMM’88 pape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Reno (199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Taho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ways repeat slow start after a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ign slow-start threshold to half of congestion wind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Ren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eat slow start after timeout-based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vide congestion window in half after triple dup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6B3C-3BC0-43CE-9340-67FD133AB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982F-F8C2-4292-A4C5-C52B1D1A9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Problem Does a Protocol Solv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 path sel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ect a path that each AS on the path is willing to 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apt path selection in the presence of failu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congestion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congestion collapse of the Intern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cate bandwidth fairly and efficien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, can we be more precis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fin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athematicall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what problem is being solv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understand the problem and analyze the protoc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predict the effects of changes in the syst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design better protocols from first princip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F952-AD29-4798-870D-15AA7D8C6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11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ir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F28-C4AD-4087-9DE6-DB4178F4D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r and Efficient Use of a Resou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19320"/>
            <a:ext cx="8799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uppos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users share a single resour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ke the bandwidth on a single link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.g., 3 users sharing a 30 Gbps li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is a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fair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allocation of bandwidth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ppose user demand is “elastic” (i.e., unlimi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cate each a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1/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hare (e.g., 10 Gbps each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t, “equality” is not enough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ich allocation is best: [5, 5, 5] or [18, 6, 6]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[5, 5, 5] is more “fair”, but [18, 6, 6] more effici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about [5, 5, 5] vs. [22, 4, 4]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775A-F3E1-4C63-8754-8BE166B23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ir Use of a Single Resou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some users hav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inelastic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dema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3 users where 1 user only wants 6 G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the total link capacity is 30 G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we still do an “equal” alloca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[6, 6, 6]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 that leaves 12 Gbps unus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we allocate in proportion to demand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1 user wants 6 Gbps, and 2 each want 20 Gb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cate [4, 13, 13]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, give the least demanding user all he want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allocate [6, 12, 12]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3BB-259E-4345-AE6D-353724580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x-Min Fair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allocation must be “feasible”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tal allocation should not exceed link capac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ect the less fortuna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y attempt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allocation of one u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cessarily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he allocation of another user with equal or lower allo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ully utilize a “bottlenecked” resour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demand exceeds capacity, the link is fully us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gressive filling algorith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row all rates until some users stop having de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inue increasing all remaining rates till link is fu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8296-8F8A-4364-AAC0-C94B4D5FD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Over Path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968200"/>
            <a:ext cx="8458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ximum throughput: </a:t>
            </a:r>
            <a:r>
              <a:rPr b="0" lang="en-US" sz="2800" spc="-1" strike="noStrike">
                <a:solidFill>
                  <a:srgbClr val="f47a00"/>
                </a:solidFill>
                <a:latin typeface="Arial"/>
              </a:rPr>
              <a:t>[30, 30, 0]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throughput of 60, but user C starv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x-min fairness: </a:t>
            </a:r>
            <a:r>
              <a:rPr b="0" lang="en-US" sz="2800" spc="-1" strike="noStrike">
                <a:solidFill>
                  <a:srgbClr val="f47a00"/>
                </a:solidFill>
                <a:latin typeface="Arial"/>
              </a:rPr>
              <a:t>[15, 15, 15]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allocation, but throughput of just 4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portional fairness: </a:t>
            </a:r>
            <a:r>
              <a:rPr b="0" lang="en-US" sz="2800" spc="-1" strike="noStrike">
                <a:solidFill>
                  <a:srgbClr val="f47a00"/>
                </a:solidFill>
                <a:latin typeface="Arial"/>
              </a:rPr>
              <a:t>[20, 20, 10]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trade-off between throughput and equa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of 50, and penalize C for using 2 busy lin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1660-8E09-4D8E-AF5E-636C3A58E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885960" y="1854360"/>
            <a:ext cx="382320" cy="345960"/>
          </a:xfrm>
          <a:prstGeom prst="ellipse">
            <a:avLst/>
          </a:prstGeom>
          <a:solidFill>
            <a:srgbClr val="5c5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766960" y="1854360"/>
            <a:ext cx="384120" cy="345960"/>
          </a:xfrm>
          <a:prstGeom prst="ellipse">
            <a:avLst/>
          </a:prstGeom>
          <a:solidFill>
            <a:srgbClr val="5c5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7"/>
          <p:cNvSpPr/>
          <p:nvPr/>
        </p:nvSpPr>
        <p:spPr>
          <a:xfrm>
            <a:off x="1268280" y="2027160"/>
            <a:ext cx="1498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4610160" y="1854360"/>
            <a:ext cx="384120" cy="345960"/>
          </a:xfrm>
          <a:prstGeom prst="ellipse">
            <a:avLst/>
          </a:prstGeom>
          <a:solidFill>
            <a:srgbClr val="5c5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0"/>
          <p:cNvSpPr/>
          <p:nvPr/>
        </p:nvSpPr>
        <p:spPr>
          <a:xfrm>
            <a:off x="3112920" y="2027160"/>
            <a:ext cx="14972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17"/>
          <p:cNvCxnSpPr/>
          <p:nvPr/>
        </p:nvCxnSpPr>
        <p:spPr>
          <a:xfrm>
            <a:off x="1345680" y="1777680"/>
            <a:ext cx="1305720" cy="1080"/>
          </a:xfrm>
          <a:prstGeom prst="straightConnector1">
            <a:avLst/>
          </a:prstGeom>
          <a:ln w="38160">
            <a:solidFill>
              <a:srgbClr val="f47a00"/>
            </a:solidFill>
            <a:miter/>
            <a:tailEnd len="med" type="arrow" w="med"/>
          </a:ln>
        </p:spPr>
      </p:cxnSp>
      <p:cxnSp>
        <p:nvCxnSpPr>
          <p:cNvPr id="145" name="Straight Arrow Connector 18"/>
          <p:cNvCxnSpPr/>
          <p:nvPr/>
        </p:nvCxnSpPr>
        <p:spPr>
          <a:xfrm>
            <a:off x="3188880" y="1777680"/>
            <a:ext cx="1307160" cy="1080"/>
          </a:xfrm>
          <a:prstGeom prst="straightConnector1">
            <a:avLst/>
          </a:prstGeom>
          <a:ln w="38160">
            <a:solidFill>
              <a:srgbClr val="f47a00"/>
            </a:solidFill>
            <a:miter/>
            <a:tailEnd len="med" type="arrow" w="med"/>
          </a:ln>
        </p:spPr>
      </p:cxnSp>
      <p:cxnSp>
        <p:nvCxnSpPr>
          <p:cNvPr id="146" name="Straight Arrow Connector 19"/>
          <p:cNvCxnSpPr/>
          <p:nvPr/>
        </p:nvCxnSpPr>
        <p:spPr>
          <a:xfrm flipV="1">
            <a:off x="1422000" y="2391840"/>
            <a:ext cx="3074040" cy="38880"/>
          </a:xfrm>
          <a:prstGeom prst="straightConnector1">
            <a:avLst/>
          </a:prstGeom>
          <a:ln w="38160">
            <a:solidFill>
              <a:srgbClr val="f47a00"/>
            </a:solidFill>
            <a:miter/>
            <a:tailEnd len="med" type="arrow" w="med"/>
          </a:ln>
        </p:spPr>
      </p:cxnSp>
      <p:sp>
        <p:nvSpPr>
          <p:cNvPr id="147" name="TextBox 21"/>
          <p:cNvSpPr/>
          <p:nvPr/>
        </p:nvSpPr>
        <p:spPr>
          <a:xfrm>
            <a:off x="5490720" y="1700280"/>
            <a:ext cx="30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users A, B, and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30 Gbps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2"/>
          <p:cNvSpPr/>
          <p:nvPr/>
        </p:nvSpPr>
        <p:spPr>
          <a:xfrm>
            <a:off x="1851120" y="1378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a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3579840" y="1355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a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4"/>
          <p:cNvSpPr/>
          <p:nvPr/>
        </p:nvSpPr>
        <p:spPr>
          <a:xfrm>
            <a:off x="2811240" y="2392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7a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4120" y="2776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tributed Algorithm for Achieving Fair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CF1B-154C-401A-B57D-7B60C5725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09-21T02:33:38Z</dcterms:modified>
  <cp:revision>3048</cp:revision>
  <dc:subject/>
  <dc:title>Communication</dc:title>
</cp:coreProperties>
</file>