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3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5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A4E1EA3-0945-47E4-A1BA-AF4747FE39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73A69B4-C617-48A1-97AC-9ECA5111004E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utility function is concave, this is a convex optimization problem, and a locally optimal solution is a globally optimal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40840C3-564A-4E87-9502-DB80C2201EB3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_l are “prices” or “Lagrange multipli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CEDD018-94C3-4D93-9740-039EAA13F3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_l are “prices” or “Lagrange multipli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59DF7BFF-5DD1-41C8-8B4F-77D97661C5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9C9E925-9A7F-4B91-8E4A-F317F82E284F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3751FE8-C9D6-4F8A-A307-80A92096CF51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D0F2B46-9206-44C4-84AF-70936ADE4824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803C5C4-477E-4108-B4C7-E04E462BC715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72A7A9F-288B-49FB-A590-003A409D1F8C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3E25F-1662-4842-B56B-E12845F4CE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E51BD-DB7B-49BC-8317-E0B6385E21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1A175-E15A-4742-B3CD-540FB898EE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66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68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66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68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833DD-0793-46F5-9EEE-6C30036E05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5F98D-738A-4570-8560-4B79CF07303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4DF95-5810-4231-9983-B2FBF8FC4CF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B4846-03E4-47D0-8978-91D2C76AC62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8CD02-718C-4D1C-A1D6-098387163AA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45BA7-6BF0-456F-A00E-61835B00470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06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D809F-20A1-4688-A55F-1FE2E19C522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EE661-4AA2-4740-ACA7-B52D541144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8110F-10E5-4940-B62E-6CBB56521D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AAB52-EEFD-41DA-BBCA-69FAD0BC9E1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99E35-4F78-4F71-B4B8-772296DD66F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44936-6BCC-4E98-87E8-1CDB63B5F15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21D75-5D80-4D19-A68C-944578C4AC5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66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768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66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768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5F026-6D9F-49E9-B804-763A936BAB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3F743-5472-48BA-ACE7-62F4E5F89C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100B0-02AE-4169-BB64-710373ABE2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9AFAA-80FD-4ADF-ADBE-6D9CE940ED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06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7C4BB-AFA2-4D76-8EE9-C00BD21A14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6180C-D371-46C1-82A3-23385CC130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3FB66-5B29-443A-B902-E0E36DDFF5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47211-A259-4F31-B0FD-951A4656AE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17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911160" indent="-233280">
              <a:spcBef>
                <a:spcPts val="17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3" marL="1258920" indent="-233280">
              <a:spcBef>
                <a:spcPts val="1749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4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5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6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A0B81-67D1-4FB2-AAFE-1C11E1EA5C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152280" y="1143000"/>
            <a:ext cx="883944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6"/>
          <p:cNvSpPr/>
          <p:nvPr/>
        </p:nvSpPr>
        <p:spPr>
          <a:xfrm>
            <a:off x="380880" y="1143000"/>
            <a:ext cx="0" cy="556272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pulogo"/>
          <p:cNvPicPr/>
          <p:nvPr/>
        </p:nvPicPr>
        <p:blipFill>
          <a:blip r:embed="rId2"/>
          <a:stretch/>
        </p:blipFill>
        <p:spPr>
          <a:xfrm>
            <a:off x="8298000" y="317520"/>
            <a:ext cx="641160" cy="723960"/>
          </a:xfrm>
          <a:prstGeom prst="rect">
            <a:avLst/>
          </a:prstGeom>
          <a:ln w="0">
            <a:noFill/>
          </a:ln>
        </p:spPr>
      </p:pic>
      <p:sp>
        <p:nvSpPr>
          <p:cNvPr id="6" name="AutoShape 8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4144"/>
            </a:avLst>
          </a:prstGeom>
          <a:noFill/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5"/>
          <p:cNvSpPr/>
          <p:nvPr/>
        </p:nvSpPr>
        <p:spPr>
          <a:xfrm>
            <a:off x="152280" y="1143000"/>
            <a:ext cx="883944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6"/>
          <p:cNvSpPr/>
          <p:nvPr/>
        </p:nvSpPr>
        <p:spPr>
          <a:xfrm>
            <a:off x="380880" y="1143000"/>
            <a:ext cx="0" cy="556272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pulogo"/>
          <p:cNvPicPr/>
          <p:nvPr/>
        </p:nvPicPr>
        <p:blipFill>
          <a:blip r:embed="rId2"/>
          <a:stretch/>
        </p:blipFill>
        <p:spPr>
          <a:xfrm>
            <a:off x="8298000" y="317520"/>
            <a:ext cx="641160" cy="7239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8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4144"/>
            </a:avLst>
          </a:prstGeom>
          <a:noFill/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17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911160" indent="-233280">
              <a:spcBef>
                <a:spcPts val="17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3" marL="1258920" indent="-233280">
              <a:spcBef>
                <a:spcPts val="1749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4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5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6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0A4CE-910C-4576-84A4-0856F2CD4C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33520" y="3962160"/>
            <a:ext cx="8229600" cy="25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nnifer Rexfor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ll 2017 (TTh 1:30-2:50pm in CS 105)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 561: Advanced Computer Network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cs.princeton.edu/courses/archive/fall17/cos561/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533520" y="2200320"/>
            <a:ext cx="8183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TCP Congestion Control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twork Utility Maximization (NUM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23360" y="1355760"/>
            <a:ext cx="5837400" cy="36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3760" indent="-20376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Users (i)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12640" indent="-20340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ate allocation: x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12640" indent="-20340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Utility function: U(x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03760" indent="-20376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Network links (l)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12640" indent="-20340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Link capacity: c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12640" indent="-20340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outes: </a:t>
            </a:r>
            <a:r>
              <a:rPr b="0" i="1" lang="en-US" sz="2800" spc="-1" strike="noStrike">
                <a:solidFill>
                  <a:srgbClr val="000066"/>
                </a:solidFill>
                <a:latin typeface="Book Antiqua"/>
                <a:ea typeface="Book Antiqua"/>
              </a:rPr>
              <a:t>R</a:t>
            </a:r>
            <a:r>
              <a:rPr b="0" i="1" lang="en-US" sz="2800" spc="-1" strike="noStrike" baseline="-25000">
                <a:solidFill>
                  <a:srgbClr val="000066"/>
                </a:solidFill>
                <a:latin typeface="Book Antiqua"/>
                <a:ea typeface="Book Antiqua"/>
              </a:rPr>
              <a:t>li</a:t>
            </a:r>
            <a:r>
              <a:rPr b="0" i="1" lang="en-US" sz="2800" spc="-1" strike="noStrike">
                <a:solidFill>
                  <a:srgbClr val="000066"/>
                </a:solidFill>
                <a:latin typeface="Book Antiqua"/>
                <a:ea typeface="Book Antiqua"/>
              </a:rPr>
              <a:t>=1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if link </a:t>
            </a:r>
            <a:r>
              <a:rPr b="0" i="1" lang="en-US" sz="2800" spc="-1" strike="noStrike">
                <a:solidFill>
                  <a:srgbClr val="000066"/>
                </a:solidFill>
                <a:latin typeface="Book Antiqua"/>
                <a:ea typeface="Book Antiqua"/>
              </a:rPr>
              <a:t>l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on path </a:t>
            </a:r>
            <a:r>
              <a:rPr b="0" i="1" lang="en-US" sz="2800" spc="-1" strike="noStrike">
                <a:solidFill>
                  <a:srgbClr val="000066"/>
                </a:solidFill>
                <a:latin typeface="Book Antiqua"/>
                <a:ea typeface="Book Antiqua"/>
              </a:rPr>
              <a:t>i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,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            </a:t>
            </a:r>
            <a:r>
              <a:rPr b="0" i="1" lang="en-US" sz="2800" spc="-1" strike="noStrike">
                <a:solidFill>
                  <a:srgbClr val="000066"/>
                </a:solidFill>
                <a:latin typeface="Book Antiqua"/>
                <a:ea typeface="Book Antiqua"/>
              </a:rPr>
              <a:t>R</a:t>
            </a:r>
            <a:r>
              <a:rPr b="0" i="1" lang="en-US" sz="2800" spc="-1" strike="noStrike" baseline="-25000">
                <a:solidFill>
                  <a:srgbClr val="000066"/>
                </a:solidFill>
                <a:latin typeface="Book Antiqua"/>
                <a:ea typeface="Book Antiqua"/>
              </a:rPr>
              <a:t>li</a:t>
            </a:r>
            <a:r>
              <a:rPr b="0" i="1" lang="en-US" sz="2800" spc="-1" strike="noStrike">
                <a:solidFill>
                  <a:srgbClr val="000066"/>
                </a:solidFill>
                <a:latin typeface="Book Antiqua"/>
                <a:ea typeface="Book Antiqua"/>
              </a:rPr>
              <a:t>=0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otherwis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12640" indent="-20340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7F6E6-FD03-4D08-9E00-B8106E2358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4"/>
          <p:cNvSpPr/>
          <p:nvPr/>
        </p:nvSpPr>
        <p:spPr>
          <a:xfrm>
            <a:off x="4095720" y="4989600"/>
            <a:ext cx="418644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ximiz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U(x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i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bject to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i 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R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li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x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i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 ≤ c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riabl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x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i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 ≥ 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5"/>
          <p:cNvSpPr/>
          <p:nvPr/>
        </p:nvSpPr>
        <p:spPr>
          <a:xfrm>
            <a:off x="5686560" y="1508040"/>
            <a:ext cx="37800" cy="1652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9"/>
          <p:cNvSpPr/>
          <p:nvPr/>
        </p:nvSpPr>
        <p:spPr>
          <a:xfrm flipH="1">
            <a:off x="5724360" y="3160800"/>
            <a:ext cx="2687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25"/>
          <p:cNvSpPr/>
          <p:nvPr/>
        </p:nvSpPr>
        <p:spPr>
          <a:xfrm>
            <a:off x="5753160" y="1511280"/>
            <a:ext cx="2539800" cy="1625760"/>
          </a:xfrm>
          <a:custGeom>
            <a:avLst/>
            <a:gdLst/>
            <a:ahLst/>
            <a:rect l="l" t="t" r="r" b="b"/>
            <a:pathLst>
              <a:path w="2540000" h="1625600">
                <a:moveTo>
                  <a:pt x="0" y="1625600"/>
                </a:moveTo>
                <a:cubicBezTo>
                  <a:pt x="5855" y="1584614"/>
                  <a:pt x="12743" y="1498536"/>
                  <a:pt x="38100" y="1460500"/>
                </a:cubicBezTo>
                <a:cubicBezTo>
                  <a:pt x="46567" y="1447800"/>
                  <a:pt x="57301" y="1436348"/>
                  <a:pt x="63500" y="1422400"/>
                </a:cubicBezTo>
                <a:cubicBezTo>
                  <a:pt x="74374" y="1397934"/>
                  <a:pt x="76926" y="1370147"/>
                  <a:pt x="88900" y="1346200"/>
                </a:cubicBezTo>
                <a:cubicBezTo>
                  <a:pt x="97367" y="1329267"/>
                  <a:pt x="106842" y="1312801"/>
                  <a:pt x="114300" y="1295400"/>
                </a:cubicBezTo>
                <a:cubicBezTo>
                  <a:pt x="119573" y="1283095"/>
                  <a:pt x="122300" y="1269835"/>
                  <a:pt x="127000" y="1257300"/>
                </a:cubicBezTo>
                <a:cubicBezTo>
                  <a:pt x="135005" y="1235954"/>
                  <a:pt x="143933" y="1214967"/>
                  <a:pt x="152400" y="1193800"/>
                </a:cubicBezTo>
                <a:cubicBezTo>
                  <a:pt x="156633" y="1168400"/>
                  <a:pt x="156957" y="1142029"/>
                  <a:pt x="165100" y="1117600"/>
                </a:cubicBezTo>
                <a:cubicBezTo>
                  <a:pt x="173941" y="1091078"/>
                  <a:pt x="210915" y="1059085"/>
                  <a:pt x="228600" y="1041400"/>
                </a:cubicBezTo>
                <a:cubicBezTo>
                  <a:pt x="249459" y="957962"/>
                  <a:pt x="227720" y="1020715"/>
                  <a:pt x="266700" y="952500"/>
                </a:cubicBezTo>
                <a:cubicBezTo>
                  <a:pt x="276093" y="936062"/>
                  <a:pt x="280273" y="916483"/>
                  <a:pt x="292100" y="901700"/>
                </a:cubicBezTo>
                <a:cubicBezTo>
                  <a:pt x="314540" y="873650"/>
                  <a:pt x="368300" y="825500"/>
                  <a:pt x="368300" y="825500"/>
                </a:cubicBezTo>
                <a:cubicBezTo>
                  <a:pt x="393551" y="724496"/>
                  <a:pt x="361532" y="824643"/>
                  <a:pt x="419100" y="723900"/>
                </a:cubicBezTo>
                <a:cubicBezTo>
                  <a:pt x="425742" y="712277"/>
                  <a:pt x="424374" y="696939"/>
                  <a:pt x="431800" y="685800"/>
                </a:cubicBezTo>
                <a:cubicBezTo>
                  <a:pt x="441763" y="670856"/>
                  <a:pt x="458402" y="661498"/>
                  <a:pt x="469900" y="647700"/>
                </a:cubicBezTo>
                <a:cubicBezTo>
                  <a:pt x="479671" y="635974"/>
                  <a:pt x="484507" y="620393"/>
                  <a:pt x="495300" y="609600"/>
                </a:cubicBezTo>
                <a:cubicBezTo>
                  <a:pt x="531696" y="573204"/>
                  <a:pt x="530183" y="592158"/>
                  <a:pt x="571500" y="571500"/>
                </a:cubicBezTo>
                <a:cubicBezTo>
                  <a:pt x="585152" y="564674"/>
                  <a:pt x="597874" y="555871"/>
                  <a:pt x="609600" y="546100"/>
                </a:cubicBezTo>
                <a:cubicBezTo>
                  <a:pt x="623398" y="534602"/>
                  <a:pt x="633523" y="519027"/>
                  <a:pt x="647700" y="508000"/>
                </a:cubicBezTo>
                <a:cubicBezTo>
                  <a:pt x="671797" y="489258"/>
                  <a:pt x="698500" y="474133"/>
                  <a:pt x="723900" y="457200"/>
                </a:cubicBezTo>
                <a:cubicBezTo>
                  <a:pt x="736600" y="448733"/>
                  <a:pt x="751207" y="442593"/>
                  <a:pt x="762000" y="431800"/>
                </a:cubicBezTo>
                <a:cubicBezTo>
                  <a:pt x="821686" y="372114"/>
                  <a:pt x="785156" y="403663"/>
                  <a:pt x="876300" y="342900"/>
                </a:cubicBezTo>
                <a:cubicBezTo>
                  <a:pt x="966090" y="283040"/>
                  <a:pt x="857984" y="361216"/>
                  <a:pt x="952500" y="266700"/>
                </a:cubicBezTo>
                <a:cubicBezTo>
                  <a:pt x="963293" y="255907"/>
                  <a:pt x="977348" y="248873"/>
                  <a:pt x="990600" y="241300"/>
                </a:cubicBezTo>
                <a:cubicBezTo>
                  <a:pt x="1042254" y="211784"/>
                  <a:pt x="1036640" y="217090"/>
                  <a:pt x="1092200" y="203200"/>
                </a:cubicBezTo>
                <a:cubicBezTo>
                  <a:pt x="1104900" y="190500"/>
                  <a:pt x="1114706" y="174011"/>
                  <a:pt x="1130300" y="165100"/>
                </a:cubicBezTo>
                <a:cubicBezTo>
                  <a:pt x="1145455" y="156440"/>
                  <a:pt x="1164317" y="157195"/>
                  <a:pt x="1181100" y="152400"/>
                </a:cubicBezTo>
                <a:cubicBezTo>
                  <a:pt x="1193972" y="148722"/>
                  <a:pt x="1206895" y="144973"/>
                  <a:pt x="1219200" y="139700"/>
                </a:cubicBezTo>
                <a:cubicBezTo>
                  <a:pt x="1236601" y="132242"/>
                  <a:pt x="1252700" y="121989"/>
                  <a:pt x="1270000" y="114300"/>
                </a:cubicBezTo>
                <a:cubicBezTo>
                  <a:pt x="1296859" y="102363"/>
                  <a:pt x="1384101" y="68620"/>
                  <a:pt x="1409700" y="63500"/>
                </a:cubicBezTo>
                <a:cubicBezTo>
                  <a:pt x="1452033" y="55033"/>
                  <a:pt x="1494817" y="48571"/>
                  <a:pt x="1536700" y="38100"/>
                </a:cubicBezTo>
                <a:cubicBezTo>
                  <a:pt x="1572788" y="29078"/>
                  <a:pt x="1628843" y="13630"/>
                  <a:pt x="1663700" y="12700"/>
                </a:cubicBezTo>
                <a:cubicBezTo>
                  <a:pt x="1955727" y="4913"/>
                  <a:pt x="2540000" y="0"/>
                  <a:pt x="2540000" y="0"/>
                </a:cubicBezTo>
              </a:path>
            </a:pathLst>
          </a:custGeom>
          <a:noFill/>
          <a:ln w="28440">
            <a:solidFill>
              <a:srgbClr val="0000c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26"/>
          <p:cNvSpPr/>
          <p:nvPr/>
        </p:nvSpPr>
        <p:spPr>
          <a:xfrm>
            <a:off x="6889320" y="3059280"/>
            <a:ext cx="5022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  <a:ea typeface="Book Antiqua"/>
              </a:rPr>
              <a:t>x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i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30"/>
          <p:cNvSpPr/>
          <p:nvPr/>
        </p:nvSpPr>
        <p:spPr>
          <a:xfrm>
            <a:off x="4561560" y="1816200"/>
            <a:ext cx="11286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  <a:ea typeface="Book Antiqua"/>
              </a:rPr>
              <a:t>U(x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i</a:t>
            </a:r>
            <a:r>
              <a:rPr b="1" i="1" lang="en-US" sz="3600" spc="-1" strike="noStrike">
                <a:solidFill>
                  <a:srgbClr val="000000"/>
                </a:solidFill>
                <a:latin typeface="Book Antiqua"/>
                <a:ea typeface="Book Antiqua"/>
              </a:rPr>
              <a:t>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twork Utility and Fairne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ACB08-D25F-4851-BBA2-059F11B36F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traight Connector 4"/>
          <p:cNvSpPr/>
          <p:nvPr/>
        </p:nvSpPr>
        <p:spPr>
          <a:xfrm>
            <a:off x="5526000" y="1506600"/>
            <a:ext cx="38160" cy="1650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traight Connector 5"/>
          <p:cNvSpPr/>
          <p:nvPr/>
        </p:nvSpPr>
        <p:spPr>
          <a:xfrm flipH="1">
            <a:off x="5564160" y="3144960"/>
            <a:ext cx="2689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6"/>
          <p:cNvSpPr/>
          <p:nvPr/>
        </p:nvSpPr>
        <p:spPr>
          <a:xfrm>
            <a:off x="5592600" y="1508040"/>
            <a:ext cx="2540160" cy="1625760"/>
          </a:xfrm>
          <a:custGeom>
            <a:avLst/>
            <a:gdLst/>
            <a:ahLst/>
            <a:rect l="l" t="t" r="r" b="b"/>
            <a:pathLst>
              <a:path w="2540000" h="1625600">
                <a:moveTo>
                  <a:pt x="0" y="1625600"/>
                </a:moveTo>
                <a:cubicBezTo>
                  <a:pt x="5855" y="1584614"/>
                  <a:pt x="12743" y="1498536"/>
                  <a:pt x="38100" y="1460500"/>
                </a:cubicBezTo>
                <a:cubicBezTo>
                  <a:pt x="46567" y="1447800"/>
                  <a:pt x="57301" y="1436348"/>
                  <a:pt x="63500" y="1422400"/>
                </a:cubicBezTo>
                <a:cubicBezTo>
                  <a:pt x="74374" y="1397934"/>
                  <a:pt x="76926" y="1370147"/>
                  <a:pt x="88900" y="1346200"/>
                </a:cubicBezTo>
                <a:cubicBezTo>
                  <a:pt x="97367" y="1329267"/>
                  <a:pt x="106842" y="1312801"/>
                  <a:pt x="114300" y="1295400"/>
                </a:cubicBezTo>
                <a:cubicBezTo>
                  <a:pt x="119573" y="1283095"/>
                  <a:pt x="122300" y="1269835"/>
                  <a:pt x="127000" y="1257300"/>
                </a:cubicBezTo>
                <a:cubicBezTo>
                  <a:pt x="135005" y="1235954"/>
                  <a:pt x="143933" y="1214967"/>
                  <a:pt x="152400" y="1193800"/>
                </a:cubicBezTo>
                <a:cubicBezTo>
                  <a:pt x="156633" y="1168400"/>
                  <a:pt x="156957" y="1142029"/>
                  <a:pt x="165100" y="1117600"/>
                </a:cubicBezTo>
                <a:cubicBezTo>
                  <a:pt x="173941" y="1091078"/>
                  <a:pt x="210915" y="1059085"/>
                  <a:pt x="228600" y="1041400"/>
                </a:cubicBezTo>
                <a:cubicBezTo>
                  <a:pt x="249459" y="957962"/>
                  <a:pt x="227720" y="1020715"/>
                  <a:pt x="266700" y="952500"/>
                </a:cubicBezTo>
                <a:cubicBezTo>
                  <a:pt x="276093" y="936062"/>
                  <a:pt x="280273" y="916483"/>
                  <a:pt x="292100" y="901700"/>
                </a:cubicBezTo>
                <a:cubicBezTo>
                  <a:pt x="314540" y="873650"/>
                  <a:pt x="368300" y="825500"/>
                  <a:pt x="368300" y="825500"/>
                </a:cubicBezTo>
                <a:cubicBezTo>
                  <a:pt x="393551" y="724496"/>
                  <a:pt x="361532" y="824643"/>
                  <a:pt x="419100" y="723900"/>
                </a:cubicBezTo>
                <a:cubicBezTo>
                  <a:pt x="425742" y="712277"/>
                  <a:pt x="424374" y="696939"/>
                  <a:pt x="431800" y="685800"/>
                </a:cubicBezTo>
                <a:cubicBezTo>
                  <a:pt x="441763" y="670856"/>
                  <a:pt x="458402" y="661498"/>
                  <a:pt x="469900" y="647700"/>
                </a:cubicBezTo>
                <a:cubicBezTo>
                  <a:pt x="479671" y="635974"/>
                  <a:pt x="484507" y="620393"/>
                  <a:pt x="495300" y="609600"/>
                </a:cubicBezTo>
                <a:cubicBezTo>
                  <a:pt x="531696" y="573204"/>
                  <a:pt x="530183" y="592158"/>
                  <a:pt x="571500" y="571500"/>
                </a:cubicBezTo>
                <a:cubicBezTo>
                  <a:pt x="585152" y="564674"/>
                  <a:pt x="597874" y="555871"/>
                  <a:pt x="609600" y="546100"/>
                </a:cubicBezTo>
                <a:cubicBezTo>
                  <a:pt x="623398" y="534602"/>
                  <a:pt x="633523" y="519027"/>
                  <a:pt x="647700" y="508000"/>
                </a:cubicBezTo>
                <a:cubicBezTo>
                  <a:pt x="671797" y="489258"/>
                  <a:pt x="698500" y="474133"/>
                  <a:pt x="723900" y="457200"/>
                </a:cubicBezTo>
                <a:cubicBezTo>
                  <a:pt x="736600" y="448733"/>
                  <a:pt x="751207" y="442593"/>
                  <a:pt x="762000" y="431800"/>
                </a:cubicBezTo>
                <a:cubicBezTo>
                  <a:pt x="821686" y="372114"/>
                  <a:pt x="785156" y="403663"/>
                  <a:pt x="876300" y="342900"/>
                </a:cubicBezTo>
                <a:cubicBezTo>
                  <a:pt x="966090" y="283040"/>
                  <a:pt x="857984" y="361216"/>
                  <a:pt x="952500" y="266700"/>
                </a:cubicBezTo>
                <a:cubicBezTo>
                  <a:pt x="963293" y="255907"/>
                  <a:pt x="977348" y="248873"/>
                  <a:pt x="990600" y="241300"/>
                </a:cubicBezTo>
                <a:cubicBezTo>
                  <a:pt x="1042254" y="211784"/>
                  <a:pt x="1036640" y="217090"/>
                  <a:pt x="1092200" y="203200"/>
                </a:cubicBezTo>
                <a:cubicBezTo>
                  <a:pt x="1104900" y="190500"/>
                  <a:pt x="1114706" y="174011"/>
                  <a:pt x="1130300" y="165100"/>
                </a:cubicBezTo>
                <a:cubicBezTo>
                  <a:pt x="1145455" y="156440"/>
                  <a:pt x="1164317" y="157195"/>
                  <a:pt x="1181100" y="152400"/>
                </a:cubicBezTo>
                <a:cubicBezTo>
                  <a:pt x="1193972" y="148722"/>
                  <a:pt x="1206895" y="144973"/>
                  <a:pt x="1219200" y="139700"/>
                </a:cubicBezTo>
                <a:cubicBezTo>
                  <a:pt x="1236601" y="132242"/>
                  <a:pt x="1252700" y="121989"/>
                  <a:pt x="1270000" y="114300"/>
                </a:cubicBezTo>
                <a:cubicBezTo>
                  <a:pt x="1296859" y="102363"/>
                  <a:pt x="1384101" y="68620"/>
                  <a:pt x="1409700" y="63500"/>
                </a:cubicBezTo>
                <a:cubicBezTo>
                  <a:pt x="1452033" y="55033"/>
                  <a:pt x="1494817" y="48571"/>
                  <a:pt x="1536700" y="38100"/>
                </a:cubicBezTo>
                <a:cubicBezTo>
                  <a:pt x="1572788" y="29078"/>
                  <a:pt x="1628843" y="13630"/>
                  <a:pt x="1663700" y="12700"/>
                </a:cubicBezTo>
                <a:cubicBezTo>
                  <a:pt x="1955727" y="4913"/>
                  <a:pt x="2540000" y="0"/>
                  <a:pt x="2540000" y="0"/>
                </a:cubicBezTo>
              </a:path>
            </a:pathLst>
          </a:custGeom>
          <a:noFill/>
          <a:ln w="28440">
            <a:solidFill>
              <a:srgbClr val="0000c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7"/>
          <p:cNvSpPr/>
          <p:nvPr/>
        </p:nvSpPr>
        <p:spPr>
          <a:xfrm>
            <a:off x="6766920" y="3044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8"/>
          <p:cNvSpPr/>
          <p:nvPr/>
        </p:nvSpPr>
        <p:spPr>
          <a:xfrm>
            <a:off x="4615200" y="192888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(x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0"/>
          <p:cNvSpPr/>
          <p:nvPr/>
        </p:nvSpPr>
        <p:spPr>
          <a:xfrm>
            <a:off x="6374520" y="1700280"/>
            <a:ext cx="22611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4"/>
                </a:solidFill>
                <a:latin typeface="Arial"/>
                <a:ea typeface="ＭＳ Ｐゴシック"/>
              </a:rPr>
              <a:t>conc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4"/>
                </a:solidFill>
                <a:latin typeface="Arial"/>
                <a:ea typeface="ＭＳ Ｐゴシック"/>
              </a:rPr>
              <a:t>(diminishing returns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Content Placeholder 2"/>
          <p:cNvSpPr/>
          <p:nvPr/>
        </p:nvSpPr>
        <p:spPr>
          <a:xfrm>
            <a:off x="501480" y="1816200"/>
            <a:ext cx="44546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lpha-fair util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U(x) = x</a:t>
            </a:r>
            <a:r>
              <a:rPr b="0" lang="en-US" sz="2400" spc="-1" strike="noStrike" baseline="30000">
                <a:solidFill>
                  <a:srgbClr val="000066"/>
                </a:solidFill>
                <a:latin typeface="Arial"/>
                <a:ea typeface="ＭＳ Ｐゴシック"/>
              </a:rPr>
              <a:t>1-</a:t>
            </a:r>
            <a:r>
              <a:rPr b="0" lang="en-US" sz="2400" spc="-1" strike="noStrike" baseline="30000">
                <a:solidFill>
                  <a:srgbClr val="000066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/(1-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) for 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≠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U(x) = log(x) for 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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2"/>
          <p:cNvSpPr/>
          <p:nvPr/>
        </p:nvSpPr>
        <p:spPr>
          <a:xfrm>
            <a:off x="1208160" y="5454720"/>
            <a:ext cx="2457360" cy="734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ore elastic deman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Straight Arrow Connector 3"/>
          <p:cNvCxnSpPr/>
          <p:nvPr/>
        </p:nvCxnSpPr>
        <p:spPr>
          <a:xfrm>
            <a:off x="1784520" y="5310000"/>
            <a:ext cx="6720480" cy="108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173" name="TextBox 12"/>
          <p:cNvSpPr/>
          <p:nvPr/>
        </p:nvSpPr>
        <p:spPr>
          <a:xfrm>
            <a:off x="7358040" y="5424480"/>
            <a:ext cx="1355760" cy="764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ore fai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7"/>
          <p:cNvSpPr/>
          <p:nvPr/>
        </p:nvSpPr>
        <p:spPr>
          <a:xfrm>
            <a:off x="1784520" y="5156280"/>
            <a:ext cx="0" cy="2300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19"/>
          <p:cNvSpPr/>
          <p:nvPr/>
        </p:nvSpPr>
        <p:spPr>
          <a:xfrm>
            <a:off x="2436840" y="5156280"/>
            <a:ext cx="0" cy="2300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20"/>
          <p:cNvSpPr/>
          <p:nvPr/>
        </p:nvSpPr>
        <p:spPr>
          <a:xfrm>
            <a:off x="8197920" y="5156280"/>
            <a:ext cx="0" cy="2300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8010360" y="4694400"/>
            <a:ext cx="4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∞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9"/>
          <p:cNvSpPr/>
          <p:nvPr/>
        </p:nvSpPr>
        <p:spPr>
          <a:xfrm>
            <a:off x="1638720" y="4694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3"/>
          <p:cNvSpPr/>
          <p:nvPr/>
        </p:nvSpPr>
        <p:spPr>
          <a:xfrm>
            <a:off x="2291040" y="4694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1"/>
          <p:cNvSpPr/>
          <p:nvPr/>
        </p:nvSpPr>
        <p:spPr>
          <a:xfrm>
            <a:off x="395280" y="4064040"/>
            <a:ext cx="15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x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oughpu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25"/>
          <p:cNvSpPr/>
          <p:nvPr/>
        </p:nvSpPr>
        <p:spPr>
          <a:xfrm>
            <a:off x="1806480" y="406404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portional fairn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26"/>
          <p:cNvSpPr/>
          <p:nvPr/>
        </p:nvSpPr>
        <p:spPr>
          <a:xfrm>
            <a:off x="7029360" y="4079880"/>
            <a:ext cx="179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x-min fairn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lving NUM Proble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6840" y="3082680"/>
            <a:ext cx="8458200" cy="36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vex optimiz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ximizing a concave objective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ubject to convex constrain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enefit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ocally optimal solution is globally optima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an be solved efficiently on a centralized comput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composable” into many smaller problem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FF93D-5958-4686-98B1-F07D5B9C43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4"/>
          <p:cNvSpPr/>
          <p:nvPr/>
        </p:nvSpPr>
        <p:spPr>
          <a:xfrm>
            <a:off x="2306520" y="1355760"/>
            <a:ext cx="418644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ximiz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i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 U(x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i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bject to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i 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R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li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x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i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 ≤ c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riabl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x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i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 ≥ 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ve Constraints to Objectiv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53AED-0FB7-4A98-98B5-340DB32BA0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5"/>
          <p:cNvSpPr/>
          <p:nvPr/>
        </p:nvSpPr>
        <p:spPr>
          <a:xfrm>
            <a:off x="808200" y="1547640"/>
            <a:ext cx="418608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U(x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bject to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i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R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li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x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 ≤ c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riabl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x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 ≥ 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588960" y="4718160"/>
            <a:ext cx="7412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 Antiqua"/>
                <a:ea typeface="Book Antiqua"/>
              </a:rPr>
              <a:t>L(x,p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ma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U(x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i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 +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l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 (c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l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 –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i in S(l) 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x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i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7"/>
          <p:cNvSpPr/>
          <p:nvPr/>
        </p:nvSpPr>
        <p:spPr>
          <a:xfrm>
            <a:off x="5686560" y="1239840"/>
            <a:ext cx="220500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oupled across ses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8"/>
          <p:cNvSpPr/>
          <p:nvPr/>
        </p:nvSpPr>
        <p:spPr>
          <a:xfrm>
            <a:off x="5724360" y="2430360"/>
            <a:ext cx="220536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pled across ses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Straight Arrow Connector 10"/>
          <p:cNvCxnSpPr>
            <a:stCxn id="191" idx="1"/>
          </p:cNvCxnSpPr>
          <p:nvPr/>
        </p:nvCxnSpPr>
        <p:spPr>
          <a:xfrm flipH="1">
            <a:off x="4455720" y="1593720"/>
            <a:ext cx="1231200" cy="26136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94" name="Straight Arrow Connector 11"/>
          <p:cNvCxnSpPr>
            <a:stCxn id="192" idx="1"/>
          </p:cNvCxnSpPr>
          <p:nvPr/>
        </p:nvCxnSpPr>
        <p:spPr>
          <a:xfrm flipH="1" flipV="1">
            <a:off x="4839840" y="2506680"/>
            <a:ext cx="884880" cy="27828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195" name="Down Arrow 16"/>
          <p:cNvSpPr/>
          <p:nvPr/>
        </p:nvSpPr>
        <p:spPr>
          <a:xfrm>
            <a:off x="3189240" y="3198960"/>
            <a:ext cx="384120" cy="147456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0000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"/>
          <p:cNvSpPr/>
          <p:nvPr/>
        </p:nvSpPr>
        <p:spPr>
          <a:xfrm>
            <a:off x="3587040" y="3494160"/>
            <a:ext cx="330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al decomposition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ompute the Lagrangia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Straight Arrow Connector 23"/>
          <p:cNvCxnSpPr>
            <a:stCxn id="198" idx="0"/>
          </p:cNvCxnSpPr>
          <p:nvPr/>
        </p:nvCxnSpPr>
        <p:spPr>
          <a:xfrm flipH="1" flipV="1">
            <a:off x="5148000" y="5233680"/>
            <a:ext cx="24480" cy="68472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198" name="TextBox 3"/>
          <p:cNvSpPr/>
          <p:nvPr/>
        </p:nvSpPr>
        <p:spPr>
          <a:xfrm>
            <a:off x="3746520" y="5918040"/>
            <a:ext cx="285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k pri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Lagrange multiplier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couple the Te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799308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B5A82-A9EC-4A51-8871-E09051DF71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6"/>
          <p:cNvSpPr/>
          <p:nvPr/>
        </p:nvSpPr>
        <p:spPr>
          <a:xfrm>
            <a:off x="693720" y="1316160"/>
            <a:ext cx="7756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 Antiqua"/>
                <a:ea typeface="Book Antiqua"/>
              </a:rPr>
              <a:t>L(x,p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ma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U(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) +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l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 (c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l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 –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i in S(l) 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x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i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Down Arrow 17"/>
          <p:cNvSpPr/>
          <p:nvPr/>
        </p:nvSpPr>
        <p:spPr>
          <a:xfrm>
            <a:off x="4062240" y="2255760"/>
            <a:ext cx="384480" cy="1042920"/>
          </a:xfrm>
          <a:prstGeom prst="downArrow">
            <a:avLst>
              <a:gd name="adj1" fmla="val 50000"/>
              <a:gd name="adj2" fmla="val 49956"/>
            </a:avLst>
          </a:prstGeom>
          <a:solidFill>
            <a:srgbClr val="0000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8"/>
          <p:cNvSpPr/>
          <p:nvPr/>
        </p:nvSpPr>
        <p:spPr>
          <a:xfrm>
            <a:off x="501480" y="3535200"/>
            <a:ext cx="8298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 Antiqua"/>
                <a:ea typeface="Book Antiqua"/>
              </a:rPr>
              <a:t>L(x,p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ma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i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 [U(x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i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) – (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l in L(i) 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l </a:t>
            </a:r>
            <a:r>
              <a:rPr b="1" i="1" lang="en-US" sz="2800" spc="-1" strike="noStrike">
                <a:solidFill>
                  <a:srgbClr val="000000"/>
                </a:solidFill>
                <a:latin typeface="Book Antiqua"/>
                <a:ea typeface="Book Antiqua"/>
              </a:rPr>
              <a:t>) 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x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i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]  +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l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 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l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 c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9"/>
          <p:cNvSpPr/>
          <p:nvPr/>
        </p:nvSpPr>
        <p:spPr>
          <a:xfrm>
            <a:off x="1109520" y="2473200"/>
            <a:ext cx="220680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oupled across ses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20"/>
          <p:cNvSpPr/>
          <p:nvPr/>
        </p:nvSpPr>
        <p:spPr>
          <a:xfrm>
            <a:off x="6602400" y="2397240"/>
            <a:ext cx="220500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oupled across lin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6" name="Straight Arrow Connector 21"/>
          <p:cNvCxnSpPr>
            <a:stCxn id="204" idx="2"/>
          </p:cNvCxnSpPr>
          <p:nvPr/>
        </p:nvCxnSpPr>
        <p:spPr>
          <a:xfrm>
            <a:off x="2212560" y="3181320"/>
            <a:ext cx="702360" cy="40392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207" name="Straight Arrow Connector 22"/>
          <p:cNvCxnSpPr/>
          <p:nvPr/>
        </p:nvCxnSpPr>
        <p:spPr>
          <a:xfrm flipH="1">
            <a:off x="7671600" y="3181320"/>
            <a:ext cx="1080" cy="40392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208" name="TextBox 1"/>
          <p:cNvSpPr/>
          <p:nvPr/>
        </p:nvSpPr>
        <p:spPr>
          <a:xfrm>
            <a:off x="4442760" y="256212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23"/>
          <p:cNvSpPr/>
          <p:nvPr/>
        </p:nvSpPr>
        <p:spPr>
          <a:xfrm>
            <a:off x="465120" y="5494320"/>
            <a:ext cx="8299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 Antiqua"/>
                <a:ea typeface="Book Antiqua"/>
              </a:rPr>
              <a:t>L(x,p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ma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i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 [U(x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i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) – q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i</a:t>
            </a:r>
            <a:r>
              <a:rPr b="1" i="1" lang="en-US" sz="2800" spc="-1" strike="noStrike">
                <a:solidFill>
                  <a:srgbClr val="000000"/>
                </a:solidFill>
                <a:latin typeface="Book Antiqua"/>
                <a:ea typeface="Book Antiqua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x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i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]  +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l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 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l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 c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Down Arrow 24"/>
          <p:cNvSpPr/>
          <p:nvPr/>
        </p:nvSpPr>
        <p:spPr>
          <a:xfrm>
            <a:off x="4062240" y="4344840"/>
            <a:ext cx="384480" cy="1043280"/>
          </a:xfrm>
          <a:prstGeom prst="downArrow">
            <a:avLst>
              <a:gd name="adj1" fmla="val 50000"/>
              <a:gd name="adj2" fmla="val 49973"/>
            </a:avLst>
          </a:prstGeom>
          <a:solidFill>
            <a:srgbClr val="0000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25"/>
          <p:cNvSpPr/>
          <p:nvPr/>
        </p:nvSpPr>
        <p:spPr>
          <a:xfrm>
            <a:off x="4442760" y="463860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Straight Arrow Connector 26"/>
          <p:cNvCxnSpPr/>
          <p:nvPr/>
        </p:nvCxnSpPr>
        <p:spPr>
          <a:xfrm flipH="1">
            <a:off x="5441760" y="4990680"/>
            <a:ext cx="608400" cy="57060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213" name="TextBox 9"/>
          <p:cNvSpPr/>
          <p:nvPr/>
        </p:nvSpPr>
        <p:spPr>
          <a:xfrm>
            <a:off x="6053040" y="4653000"/>
            <a:ext cx="13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h pr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3"/>
          <p:cNvSpPr/>
          <p:nvPr/>
        </p:nvSpPr>
        <p:spPr>
          <a:xfrm>
            <a:off x="930960" y="6259680"/>
            <a:ext cx="736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n, maximize </a:t>
            </a:r>
            <a:r>
              <a:rPr b="1" i="1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or a given </a:t>
            </a:r>
            <a:r>
              <a:rPr b="1" i="1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nd minimize </a:t>
            </a:r>
            <a:r>
              <a:rPr b="1" i="1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or a given </a:t>
            </a:r>
            <a:r>
              <a:rPr b="1" i="1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"/>
          <p:cNvSpPr/>
          <p:nvPr/>
        </p:nvSpPr>
        <p:spPr>
          <a:xfrm>
            <a:off x="9456840" y="-66600"/>
            <a:ext cx="1839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composi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9CA79-61A5-41C2-91F1-68554E420E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4"/>
          <p:cNvSpPr/>
          <p:nvPr/>
        </p:nvSpPr>
        <p:spPr>
          <a:xfrm>
            <a:off x="885960" y="2871720"/>
            <a:ext cx="3078000" cy="192096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5"/>
          <p:cNvSpPr/>
          <p:nvPr/>
        </p:nvSpPr>
        <p:spPr>
          <a:xfrm>
            <a:off x="4840200" y="2833560"/>
            <a:ext cx="3917880" cy="19972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Curved Down Arrow 8"/>
          <p:cNvSpPr/>
          <p:nvPr/>
        </p:nvSpPr>
        <p:spPr>
          <a:xfrm>
            <a:off x="2382840" y="1508040"/>
            <a:ext cx="4724280" cy="1460520"/>
          </a:xfrm>
          <a:custGeom>
            <a:avLst/>
            <a:gdLst>
              <a:gd name="textAreaLeft" fmla="*/ 1050480 w 4724280"/>
              <a:gd name="textAreaRight" fmla="*/ 3516840 w 4724280"/>
              <a:gd name="textAreaTop" fmla="*/ 195480 h 1460520"/>
              <a:gd name="textAreaBottom" fmla="*/ 1265040 h 1460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608" hR="21600" stAng="10800000" swAng="5400000"/>
                <a:lnTo>
                  <a:pt x="11276" y="0"/>
                </a:lnTo>
                <a:arcTo wR="9608" hR="21600" stAng="-5400000" swAng="3536802"/>
                <a:lnTo>
                  <a:pt x="21273" y="16012"/>
                </a:lnTo>
                <a:lnTo>
                  <a:pt x="20049" y="21600"/>
                </a:lnTo>
                <a:lnTo>
                  <a:pt x="18171" y="16012"/>
                </a:lnTo>
                <a:lnTo>
                  <a:pt x="18888" y="16012"/>
                </a:lnTo>
                <a:arcTo wR="9608" hR="21600" stAng="-1863198" swAng="-3403631"/>
                <a:lnTo>
                  <a:pt x="10442" y="82"/>
                </a:lnTo>
                <a:arcTo wR="9608" hR="21600" stAng="-5533172" swAng="-5266828"/>
                <a:close/>
              </a:path>
              <a:path fill="darkenLess" w="21600" h="21600">
                <a:moveTo>
                  <a:pt x="0" y="21600"/>
                </a:moveTo>
                <a:arcTo wR="9608" hR="21600" stAng="10800000" swAng="5400000"/>
                <a:lnTo>
                  <a:pt x="9608" y="0"/>
                </a:lnTo>
                <a:arcTo wR="9608" hR="21600" stAng="-5400000" swAng="133172"/>
                <a:lnTo>
                  <a:pt x="10442" y="82"/>
                </a:lnTo>
                <a:arcTo wR="9608" hR="21600" stAng="-5533172" swAng="-5266828"/>
                <a:close/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Curved Down Arrow 10"/>
          <p:cNvSpPr/>
          <p:nvPr/>
        </p:nvSpPr>
        <p:spPr>
          <a:xfrm flipH="1" flipV="1">
            <a:off x="2382120" y="4772880"/>
            <a:ext cx="4916520" cy="1382760"/>
          </a:xfrm>
          <a:custGeom>
            <a:avLst/>
            <a:gdLst>
              <a:gd name="textAreaLeft" fmla="*/ 1105200 w 4916520"/>
              <a:gd name="textAreaRight" fmla="*/ 3661920 w 4916520"/>
              <a:gd name="textAreaTop" fmla="*/ 185040 h 1382760"/>
              <a:gd name="textAreaBottom" fmla="*/ 1197720 h 1382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715" hR="21600" stAng="10800000" swAng="5400000"/>
                <a:lnTo>
                  <a:pt x="11233" y="0"/>
                </a:lnTo>
                <a:arcTo wR="9715" hR="21600" stAng="-5400000" swAng="3553584"/>
                <a:lnTo>
                  <a:pt x="21269" y="16012"/>
                </a:lnTo>
                <a:lnTo>
                  <a:pt x="20188" y="21600"/>
                </a:lnTo>
                <a:lnTo>
                  <a:pt x="18445" y="16012"/>
                </a:lnTo>
                <a:lnTo>
                  <a:pt x="19098" y="16012"/>
                </a:lnTo>
                <a:arcTo wR="9715" hR="21600" stAng="-1846416" swAng="-3432465"/>
                <a:lnTo>
                  <a:pt x="10474" y="66"/>
                </a:lnTo>
                <a:arcTo wR="9715" hR="21600" stAng="-5521119" swAng="-5278881"/>
                <a:close/>
              </a:path>
              <a:path fill="darkenLess" w="21600" h="21600">
                <a:moveTo>
                  <a:pt x="0" y="21600"/>
                </a:moveTo>
                <a:arcTo wR="9715" hR="21600" stAng="10800000" swAng="5400000"/>
                <a:lnTo>
                  <a:pt x="9715" y="0"/>
                </a:lnTo>
                <a:arcTo wR="9715" hR="21600" stAng="-5400000" swAng="121119"/>
                <a:lnTo>
                  <a:pt x="10474" y="66"/>
                </a:lnTo>
                <a:arcTo wR="9715" hR="21600" stAng="-5521119" swAng="-5278881"/>
                <a:close/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1"/>
          <p:cNvSpPr/>
          <p:nvPr/>
        </p:nvSpPr>
        <p:spPr>
          <a:xfrm>
            <a:off x="1230480" y="3208320"/>
            <a:ext cx="211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ser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Book Antiqua"/>
                <a:ea typeface="Book Antiqua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2"/>
          <p:cNvSpPr/>
          <p:nvPr/>
        </p:nvSpPr>
        <p:spPr>
          <a:xfrm>
            <a:off x="6557400" y="3208320"/>
            <a:ext cx="84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ink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Book Antiqua"/>
                <a:ea typeface="Book Antiqua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3"/>
          <p:cNvSpPr/>
          <p:nvPr/>
        </p:nvSpPr>
        <p:spPr>
          <a:xfrm>
            <a:off x="3925080" y="5118120"/>
            <a:ext cx="169416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h co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q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i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p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4"/>
          <p:cNvSpPr/>
          <p:nvPr/>
        </p:nvSpPr>
        <p:spPr>
          <a:xfrm>
            <a:off x="3317040" y="1778040"/>
            <a:ext cx="253692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fered link lo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y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l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R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li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6"/>
          <p:cNvSpPr/>
          <p:nvPr/>
        </p:nvSpPr>
        <p:spPr>
          <a:xfrm>
            <a:off x="1171440" y="3665520"/>
            <a:ext cx="2500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max (U(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i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) – q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i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i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7"/>
          <p:cNvSpPr/>
          <p:nvPr/>
        </p:nvSpPr>
        <p:spPr>
          <a:xfrm>
            <a:off x="1391040" y="3927600"/>
            <a:ext cx="394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8"/>
          <p:cNvSpPr/>
          <p:nvPr/>
        </p:nvSpPr>
        <p:spPr>
          <a:xfrm>
            <a:off x="5032440" y="3665520"/>
            <a:ext cx="372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l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[t] = (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l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[t-1] -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 (c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l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 – y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l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))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Book Antiqua"/>
                <a:ea typeface="Book Antiqua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9"/>
          <p:cNvSpPr/>
          <p:nvPr/>
        </p:nvSpPr>
        <p:spPr>
          <a:xfrm>
            <a:off x="1459440" y="1712880"/>
            <a:ext cx="1208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tes 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20"/>
          <p:cNvSpPr/>
          <p:nvPr/>
        </p:nvSpPr>
        <p:spPr>
          <a:xfrm>
            <a:off x="6593400" y="5702400"/>
            <a:ext cx="1397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ces 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nk Prices and Implicit Feedba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at are the link prices </a:t>
            </a:r>
            <a:r>
              <a:rPr b="1" i="1" lang="en-US" sz="2800" spc="-1" strike="noStrike">
                <a:solidFill>
                  <a:srgbClr val="0000ff"/>
                </a:solidFill>
                <a:latin typeface="Book Antiqua"/>
                <a:ea typeface="Book Antiqua"/>
              </a:rPr>
              <a:t>p</a:t>
            </a:r>
            <a:r>
              <a:rPr b="1" i="1" lang="en-US" sz="2800" spc="-1" strike="noStrike" baseline="-25000">
                <a:solidFill>
                  <a:srgbClr val="0000ff"/>
                </a:solidFill>
                <a:latin typeface="Book Antiqua"/>
                <a:ea typeface="Book Antiqua"/>
              </a:rPr>
              <a:t>l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easure of conges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mount of traffic in excess of capacit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at is, the packet loss!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at are the path costs </a:t>
            </a:r>
            <a:r>
              <a:rPr b="1" i="1" lang="en-US" sz="2800" spc="-1" strike="noStrike">
                <a:solidFill>
                  <a:srgbClr val="0000ff"/>
                </a:solidFill>
                <a:latin typeface="Book Antiqua"/>
                <a:ea typeface="Book Antiqua"/>
              </a:rPr>
              <a:t>q</a:t>
            </a:r>
            <a:r>
              <a:rPr b="1" i="1" lang="en-US" sz="2800" spc="-1" strike="noStrike" baseline="-25000">
                <a:solidFill>
                  <a:srgbClr val="0000ff"/>
                </a:solidFill>
                <a:latin typeface="Book Antiqua"/>
                <a:ea typeface="Book Antiqua"/>
              </a:rPr>
              <a:t>i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um of the link prices </a:t>
            </a:r>
            <a:r>
              <a:rPr b="1" i="1" lang="en-US" sz="2400" spc="-1" strike="noStrike">
                <a:solidFill>
                  <a:srgbClr val="000066"/>
                </a:solidFill>
                <a:latin typeface="Book Antiqua"/>
                <a:ea typeface="Book Antiqua"/>
              </a:rPr>
              <a:t>p</a:t>
            </a:r>
            <a:r>
              <a:rPr b="1" i="1" lang="en-US" sz="2000" spc="-1" strike="noStrike" baseline="-25000">
                <a:solidFill>
                  <a:srgbClr val="000066"/>
                </a:solidFill>
                <a:latin typeface="Book Antiqua"/>
                <a:ea typeface="Book Antiqua"/>
              </a:rPr>
              <a:t>l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along the pat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f loss is low, sum of link loss is roughly path los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o need for explicit feedback!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ser </a:t>
            </a:r>
            <a:r>
              <a:rPr b="1" i="1" lang="en-US" sz="2400" spc="-1" strike="noStrike">
                <a:solidFill>
                  <a:srgbClr val="000066"/>
                </a:solidFill>
                <a:latin typeface="Book Antiqua"/>
                <a:ea typeface="Book Antiqua"/>
              </a:rPr>
              <a:t>i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can observe the path loss </a:t>
            </a:r>
            <a:r>
              <a:rPr b="1" i="1" lang="en-US" sz="2400" spc="-1" strike="noStrike">
                <a:solidFill>
                  <a:srgbClr val="000066"/>
                </a:solidFill>
                <a:latin typeface="Book Antiqua"/>
                <a:ea typeface="Book Antiqua"/>
              </a:rPr>
              <a:t>q</a:t>
            </a:r>
            <a:r>
              <a:rPr b="1" i="1" lang="en-US" sz="2400" spc="-1" strike="noStrike" baseline="-25000">
                <a:solidFill>
                  <a:srgbClr val="000066"/>
                </a:solidFill>
                <a:latin typeface="Book Antiqua"/>
                <a:ea typeface="Book Antiqua"/>
              </a:rPr>
              <a:t>i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on path </a:t>
            </a:r>
            <a:r>
              <a:rPr b="1" i="1" lang="en-US" sz="2400" spc="-1" strike="noStrike">
                <a:solidFill>
                  <a:srgbClr val="000066"/>
                </a:solidFill>
                <a:latin typeface="Book Antiqua"/>
                <a:ea typeface="Book Antiqua"/>
              </a:rPr>
              <a:t>i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ink </a:t>
            </a:r>
            <a:r>
              <a:rPr b="1" i="1" lang="en-US" sz="2400" spc="-1" strike="noStrike">
                <a:solidFill>
                  <a:srgbClr val="000066"/>
                </a:solidFill>
                <a:latin typeface="Book Antiqua"/>
                <a:ea typeface="Book Antiqua"/>
              </a:rPr>
              <a:t>l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can observe the offered load </a:t>
            </a:r>
            <a:r>
              <a:rPr b="1" i="1" lang="en-US" sz="2400" spc="-1" strike="noStrike">
                <a:solidFill>
                  <a:srgbClr val="000066"/>
                </a:solidFill>
                <a:latin typeface="Book Antiqua"/>
                <a:ea typeface="Book Antiqua"/>
              </a:rPr>
              <a:t>y</a:t>
            </a:r>
            <a:r>
              <a:rPr b="1" i="1" lang="en-US" sz="2400" spc="-1" strike="noStrike" baseline="-25000">
                <a:solidFill>
                  <a:srgbClr val="000066"/>
                </a:solidFill>
                <a:latin typeface="Book Antiqua"/>
                <a:ea typeface="Book Antiqua"/>
              </a:rPr>
              <a:t>l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on link </a:t>
            </a:r>
            <a:r>
              <a:rPr b="1" i="1" lang="en-US" sz="2400" spc="-1" strike="noStrike">
                <a:solidFill>
                  <a:srgbClr val="000066"/>
                </a:solidFill>
                <a:latin typeface="Book Antiqua"/>
                <a:ea typeface="Book Antiqua"/>
              </a:rPr>
              <a:t>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5EB88-4CEB-4F20-BD49-65C7DA626D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ing Back to TC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1400" indent="-22140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verse engineer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57640" indent="-22104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CP Ren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01800" indent="-23076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ties are arctan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1800" indent="-23076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ces are end-to-end packet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640" indent="-22104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CP Vega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01800" indent="-23076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ties are log(x), i.e., proportional fair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1800" indent="-23076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ces are end-to-end packet del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rward engineer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57640" indent="-22104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se decomposition to design new variants of TC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57640" indent="-22104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TCP FAS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1400" indent="-22140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mplificat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57640" indent="-22104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ixed set of connections, focus on equilibrium behavior, ignore feedback delays and queuing dynamic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1400" indent="-22140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51227-01D9-4901-8AAD-AB3517BA4B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CP Congestion Contro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8486E-B00C-4170-ABD3-DB911EFFFE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gestion in Drop-Tail FIFO Queu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6840" y="1218960"/>
            <a:ext cx="84582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87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ccess to the bandwidth: first-in first-out queue</a:t>
            </a:r>
            <a:endParaRPr b="0" lang="en-US" sz="30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ackets transmitted in the order they arriv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2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2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242" name="Group 22"/>
          <p:cNvGrpSpPr/>
          <p:nvPr/>
        </p:nvGrpSpPr>
        <p:grpSpPr>
          <a:xfrm>
            <a:off x="1806480" y="2684520"/>
            <a:ext cx="5684760" cy="698400"/>
            <a:chOff x="1806480" y="2684520"/>
            <a:chExt cx="5684760" cy="698400"/>
          </a:xfrm>
        </p:grpSpPr>
        <p:sp>
          <p:nvSpPr>
            <p:cNvPr id="243" name="Rectangle 4"/>
            <p:cNvSpPr/>
            <p:nvPr/>
          </p:nvSpPr>
          <p:spPr>
            <a:xfrm>
              <a:off x="4383000" y="2690640"/>
              <a:ext cx="536400" cy="692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5"/>
            <p:cNvSpPr/>
            <p:nvPr/>
          </p:nvSpPr>
          <p:spPr>
            <a:xfrm>
              <a:off x="4919400" y="2690640"/>
              <a:ext cx="536400" cy="692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6"/>
            <p:cNvSpPr/>
            <p:nvPr/>
          </p:nvSpPr>
          <p:spPr>
            <a:xfrm>
              <a:off x="5457600" y="2690640"/>
              <a:ext cx="536400" cy="692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7"/>
            <p:cNvSpPr/>
            <p:nvPr/>
          </p:nvSpPr>
          <p:spPr>
            <a:xfrm>
              <a:off x="5994360" y="2690640"/>
              <a:ext cx="536400" cy="692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8"/>
            <p:cNvSpPr/>
            <p:nvPr/>
          </p:nvSpPr>
          <p:spPr>
            <a:xfrm>
              <a:off x="3846240" y="2690640"/>
              <a:ext cx="536400" cy="692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9"/>
            <p:cNvSpPr/>
            <p:nvPr/>
          </p:nvSpPr>
          <p:spPr>
            <a:xfrm>
              <a:off x="3306600" y="2690640"/>
              <a:ext cx="536400" cy="692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10"/>
            <p:cNvSpPr/>
            <p:nvPr/>
          </p:nvSpPr>
          <p:spPr>
            <a:xfrm>
              <a:off x="1806480" y="2689200"/>
              <a:ext cx="536400" cy="692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1"/>
            <p:cNvSpPr/>
            <p:nvPr/>
          </p:nvSpPr>
          <p:spPr>
            <a:xfrm>
              <a:off x="2230200" y="2684520"/>
              <a:ext cx="1919160" cy="352440"/>
            </a:xfrm>
            <a:custGeom>
              <a:avLst/>
              <a:gdLst>
                <a:gd name="textAreaLeft" fmla="*/ 0 w 1919160"/>
                <a:gd name="textAreaRight" fmla="*/ 1919520 w 191916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1209" h="222">
                  <a:moveTo>
                    <a:pt x="0" y="197"/>
                  </a:moveTo>
                  <a:cubicBezTo>
                    <a:pt x="81" y="98"/>
                    <a:pt x="162" y="0"/>
                    <a:pt x="363" y="4"/>
                  </a:cubicBezTo>
                  <a:cubicBezTo>
                    <a:pt x="564" y="8"/>
                    <a:pt x="886" y="115"/>
                    <a:pt x="1209" y="222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12"/>
            <p:cNvSpPr/>
            <p:nvPr/>
          </p:nvSpPr>
          <p:spPr>
            <a:xfrm>
              <a:off x="6530760" y="2997360"/>
              <a:ext cx="9604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23"/>
          <p:cNvGrpSpPr/>
          <p:nvPr/>
        </p:nvGrpSpPr>
        <p:grpSpPr>
          <a:xfrm>
            <a:off x="1710360" y="4695840"/>
            <a:ext cx="5780880" cy="1312920"/>
            <a:chOff x="1710360" y="4695840"/>
            <a:chExt cx="5780880" cy="1312920"/>
          </a:xfrm>
        </p:grpSpPr>
        <p:sp>
          <p:nvSpPr>
            <p:cNvPr id="253" name="Rectangle 13"/>
            <p:cNvSpPr/>
            <p:nvPr/>
          </p:nvSpPr>
          <p:spPr>
            <a:xfrm>
              <a:off x="4383000" y="5070600"/>
              <a:ext cx="536400" cy="692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14"/>
            <p:cNvSpPr/>
            <p:nvPr/>
          </p:nvSpPr>
          <p:spPr>
            <a:xfrm>
              <a:off x="4919400" y="5070600"/>
              <a:ext cx="536400" cy="692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15"/>
            <p:cNvSpPr/>
            <p:nvPr/>
          </p:nvSpPr>
          <p:spPr>
            <a:xfrm>
              <a:off x="5457600" y="5070600"/>
              <a:ext cx="536400" cy="692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16"/>
            <p:cNvSpPr/>
            <p:nvPr/>
          </p:nvSpPr>
          <p:spPr>
            <a:xfrm>
              <a:off x="5994360" y="5070600"/>
              <a:ext cx="536400" cy="692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17"/>
            <p:cNvSpPr/>
            <p:nvPr/>
          </p:nvSpPr>
          <p:spPr>
            <a:xfrm>
              <a:off x="3846240" y="5070600"/>
              <a:ext cx="536400" cy="692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8"/>
            <p:cNvSpPr/>
            <p:nvPr/>
          </p:nvSpPr>
          <p:spPr>
            <a:xfrm>
              <a:off x="3306600" y="5070600"/>
              <a:ext cx="536400" cy="692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9"/>
            <p:cNvSpPr/>
            <p:nvPr/>
          </p:nvSpPr>
          <p:spPr>
            <a:xfrm>
              <a:off x="1806480" y="5068800"/>
              <a:ext cx="536400" cy="692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21"/>
            <p:cNvSpPr/>
            <p:nvPr/>
          </p:nvSpPr>
          <p:spPr>
            <a:xfrm>
              <a:off x="6531120" y="5376960"/>
              <a:ext cx="9601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Box 23"/>
            <p:cNvSpPr/>
            <p:nvPr/>
          </p:nvSpPr>
          <p:spPr>
            <a:xfrm>
              <a:off x="1710360" y="4695840"/>
              <a:ext cx="6685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0000"/>
                  </a:solidFill>
                  <a:latin typeface="Zapf Dingbats"/>
                  <a:ea typeface="Zapf Dingbats"/>
                </a:rPr>
                <a:t>✗</a:t>
              </a:r>
              <a:endParaRPr b="1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Content Placeholder 2"/>
          <p:cNvSpPr/>
          <p:nvPr/>
        </p:nvSpPr>
        <p:spPr>
          <a:xfrm>
            <a:off x="457200" y="3809880"/>
            <a:ext cx="8534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ccess to the buffer space: drop-tail queu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f the queue is full, drop the incoming packe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lding the Internet Togeth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istributed cooperation for resource alloc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GP: what end-to-end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path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to take (for ~50K ASe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CP: what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rat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to send over each path (for ~3B host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5A7BD-38B4-4F41-A199-ABAF5DC796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1" descr=""/>
          <p:cNvPicPr/>
          <p:nvPr/>
        </p:nvPicPr>
        <p:blipFill>
          <a:blip r:embed="rId1"/>
          <a:stretch/>
        </p:blipFill>
        <p:spPr>
          <a:xfrm>
            <a:off x="3381480" y="2946240"/>
            <a:ext cx="2228760" cy="1305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1" descr=""/>
          <p:cNvPicPr/>
          <p:nvPr/>
        </p:nvPicPr>
        <p:blipFill>
          <a:blip r:embed="rId2"/>
          <a:stretch/>
        </p:blipFill>
        <p:spPr>
          <a:xfrm>
            <a:off x="3305160" y="4943520"/>
            <a:ext cx="2228760" cy="1305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1" descr=""/>
          <p:cNvPicPr/>
          <p:nvPr/>
        </p:nvPicPr>
        <p:blipFill>
          <a:blip r:embed="rId3"/>
          <a:stretch/>
        </p:blipFill>
        <p:spPr>
          <a:xfrm>
            <a:off x="5494320" y="3944880"/>
            <a:ext cx="2228760" cy="1305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1" descr=""/>
          <p:cNvPicPr/>
          <p:nvPr/>
        </p:nvPicPr>
        <p:blipFill>
          <a:blip r:embed="rId4"/>
          <a:stretch/>
        </p:blipFill>
        <p:spPr>
          <a:xfrm>
            <a:off x="1346040" y="3830760"/>
            <a:ext cx="2229120" cy="1304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5"/>
          <a:stretch/>
        </p:blipFill>
        <p:spPr>
          <a:xfrm>
            <a:off x="1346040" y="5251320"/>
            <a:ext cx="506520" cy="835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6"/>
          <a:stretch/>
        </p:blipFill>
        <p:spPr>
          <a:xfrm>
            <a:off x="6338880" y="2562120"/>
            <a:ext cx="892080" cy="1308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7"/>
          <a:stretch/>
        </p:blipFill>
        <p:spPr>
          <a:xfrm>
            <a:off x="5838840" y="5310360"/>
            <a:ext cx="1766880" cy="1328400"/>
          </a:xfrm>
          <a:prstGeom prst="rect">
            <a:avLst/>
          </a:prstGeom>
          <a:ln w="0">
            <a:noFill/>
          </a:ln>
        </p:spPr>
      </p:pic>
      <p:sp>
        <p:nvSpPr>
          <p:cNvPr id="105" name="Line 25"/>
          <p:cNvSpPr/>
          <p:nvPr/>
        </p:nvSpPr>
        <p:spPr>
          <a:xfrm flipV="1">
            <a:off x="3035160" y="3868560"/>
            <a:ext cx="538200" cy="152640"/>
          </a:xfrm>
          <a:prstGeom prst="line">
            <a:avLst/>
          </a:prstGeom>
          <a:ln w="284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5"/>
          <p:cNvSpPr/>
          <p:nvPr/>
        </p:nvSpPr>
        <p:spPr>
          <a:xfrm flipV="1">
            <a:off x="5378400" y="5019480"/>
            <a:ext cx="844560" cy="384120"/>
          </a:xfrm>
          <a:prstGeom prst="line">
            <a:avLst/>
          </a:prstGeom>
          <a:ln w="284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5"/>
          <p:cNvSpPr/>
          <p:nvPr/>
        </p:nvSpPr>
        <p:spPr>
          <a:xfrm>
            <a:off x="5494320" y="3444840"/>
            <a:ext cx="1228680" cy="39600"/>
          </a:xfrm>
          <a:prstGeom prst="line">
            <a:avLst/>
          </a:prstGeom>
          <a:ln w="284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5"/>
          <p:cNvSpPr/>
          <p:nvPr/>
        </p:nvSpPr>
        <p:spPr>
          <a:xfrm flipH="1">
            <a:off x="4533840" y="4253040"/>
            <a:ext cx="38160" cy="728640"/>
          </a:xfrm>
          <a:prstGeom prst="line">
            <a:avLst/>
          </a:prstGeom>
          <a:ln w="284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5"/>
          <p:cNvSpPr/>
          <p:nvPr/>
        </p:nvSpPr>
        <p:spPr>
          <a:xfrm>
            <a:off x="3075120" y="5059440"/>
            <a:ext cx="460080" cy="344520"/>
          </a:xfrm>
          <a:prstGeom prst="line">
            <a:avLst/>
          </a:prstGeom>
          <a:ln w="284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5"/>
          <p:cNvSpPr/>
          <p:nvPr/>
        </p:nvSpPr>
        <p:spPr>
          <a:xfrm flipH="1">
            <a:off x="1576080" y="4905360"/>
            <a:ext cx="500040" cy="422280"/>
          </a:xfrm>
          <a:prstGeom prst="line">
            <a:avLst/>
          </a:prstGeom>
          <a:ln w="284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8"/>
          <a:stretch/>
        </p:blipFill>
        <p:spPr>
          <a:xfrm>
            <a:off x="2575080" y="5827680"/>
            <a:ext cx="506160" cy="835200"/>
          </a:xfrm>
          <a:prstGeom prst="rect">
            <a:avLst/>
          </a:prstGeom>
          <a:ln w="0">
            <a:noFill/>
          </a:ln>
        </p:spPr>
      </p:pic>
      <p:sp>
        <p:nvSpPr>
          <p:cNvPr id="112" name="Line 25"/>
          <p:cNvSpPr/>
          <p:nvPr/>
        </p:nvSpPr>
        <p:spPr>
          <a:xfrm flipH="1">
            <a:off x="2959200" y="5827680"/>
            <a:ext cx="498240" cy="422280"/>
          </a:xfrm>
          <a:prstGeom prst="line">
            <a:avLst/>
          </a:prstGeom>
          <a:ln w="284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24"/>
          <p:cNvSpPr/>
          <p:nvPr/>
        </p:nvSpPr>
        <p:spPr>
          <a:xfrm>
            <a:off x="1687680" y="2843280"/>
            <a:ext cx="4373280" cy="2217600"/>
          </a:xfrm>
          <a:custGeom>
            <a:avLst/>
            <a:gdLst/>
            <a:ahLst/>
            <a:rect l="l" t="t" r="r" b="b"/>
            <a:pathLst>
              <a:path w="4373043" h="2218351">
                <a:moveTo>
                  <a:pt x="0" y="2218351"/>
                </a:moveTo>
                <a:cubicBezTo>
                  <a:pt x="1788607" y="1561955"/>
                  <a:pt x="3577214" y="905559"/>
                  <a:pt x="4373043" y="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30"/>
          <p:cNvSpPr/>
          <p:nvPr/>
        </p:nvSpPr>
        <p:spPr>
          <a:xfrm>
            <a:off x="-2303640" y="819000"/>
            <a:ext cx="13767120" cy="3524400"/>
          </a:xfrm>
          <a:custGeom>
            <a:avLst/>
            <a:gdLst/>
            <a:ahLst/>
            <a:rect l="l" t="t" r="r" b="b"/>
            <a:pathLst>
              <a:path w="13767274" h="3524137">
                <a:moveTo>
                  <a:pt x="12834808" y="0"/>
                </a:moveTo>
                <a:cubicBezTo>
                  <a:pt x="13677529" y="1703951"/>
                  <a:pt x="14520251" y="3407902"/>
                  <a:pt x="12609724" y="3520427"/>
                </a:cubicBezTo>
                <a:cubicBezTo>
                  <a:pt x="10699197" y="3632952"/>
                  <a:pt x="3308970" y="1152043"/>
                  <a:pt x="1371648" y="675151"/>
                </a:cubicBezTo>
                <a:cubicBezTo>
                  <a:pt x="-565674" y="198259"/>
                  <a:pt x="-220011" y="1077026"/>
                  <a:pt x="985791" y="659076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31"/>
          <p:cNvSpPr/>
          <p:nvPr/>
        </p:nvSpPr>
        <p:spPr>
          <a:xfrm>
            <a:off x="2156400" y="429084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2"/>
          <p:cNvSpPr/>
          <p:nvPr/>
        </p:nvSpPr>
        <p:spPr>
          <a:xfrm>
            <a:off x="4153680" y="340668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33"/>
          <p:cNvSpPr/>
          <p:nvPr/>
        </p:nvSpPr>
        <p:spPr>
          <a:xfrm>
            <a:off x="6265800" y="436716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4"/>
          <p:cNvSpPr/>
          <p:nvPr/>
        </p:nvSpPr>
        <p:spPr>
          <a:xfrm>
            <a:off x="4077360" y="540396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5"/>
          <p:cNvSpPr/>
          <p:nvPr/>
        </p:nvSpPr>
        <p:spPr>
          <a:xfrm flipH="1" flipV="1">
            <a:off x="5416200" y="5848200"/>
            <a:ext cx="422280" cy="115920"/>
          </a:xfrm>
          <a:prstGeom prst="line">
            <a:avLst/>
          </a:prstGeom>
          <a:ln w="284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5"/>
          <p:cNvSpPr/>
          <p:nvPr/>
        </p:nvSpPr>
        <p:spPr>
          <a:xfrm flipH="1" flipV="1">
            <a:off x="5532120" y="3736440"/>
            <a:ext cx="384120" cy="422280"/>
          </a:xfrm>
          <a:prstGeom prst="line">
            <a:avLst/>
          </a:prstGeom>
          <a:ln w="284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it Looks to the End Hos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lnSpc>
                <a:spcPct val="90000"/>
              </a:lnSpc>
              <a:spcBef>
                <a:spcPts val="1874"/>
              </a:spcBef>
              <a:buClr>
                <a:srgbClr val="0000ff"/>
              </a:buClr>
              <a:buFont typeface="Arial"/>
              <a:buChar char="•"/>
              <a:tabLst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lay: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cket experiences high delay</a:t>
            </a:r>
            <a:endParaRPr b="0" lang="en-US" sz="30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874"/>
              </a:spcBef>
              <a:buClr>
                <a:srgbClr val="0000ff"/>
              </a:buClr>
              <a:buFont typeface="Arial"/>
              <a:buChar char="•"/>
              <a:tabLst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oss: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cket gets dropped along path</a:t>
            </a:r>
            <a:endParaRPr b="0" lang="en-US" sz="30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ow can TCP sender learn this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800000"/>
              </a:buClr>
              <a:buFont typeface="Helvetica"/>
              <a:buChar char="–"/>
              <a:tabLst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Delay: 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ound-trip time estimat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800000"/>
              </a:buClr>
              <a:buFont typeface="Helvetica"/>
              <a:buChar char="–"/>
              <a:tabLst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Loss: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imeout and/or duplicate acknowledgmen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7a3d00"/>
              </a:buClr>
              <a:buFont typeface="Helvetica"/>
              <a:buChar char="–"/>
              <a:tabLst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3d00"/>
                </a:solidFill>
                <a:latin typeface="Arial"/>
              </a:rPr>
              <a:t>Mark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: Packets marked by routers with large queu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5" name="Rectangle 13"/>
          <p:cNvSpPr/>
          <p:nvPr/>
        </p:nvSpPr>
        <p:spPr>
          <a:xfrm>
            <a:off x="4383000" y="5343480"/>
            <a:ext cx="536760" cy="692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4"/>
          <p:cNvSpPr/>
          <p:nvPr/>
        </p:nvSpPr>
        <p:spPr>
          <a:xfrm>
            <a:off x="4919760" y="5343480"/>
            <a:ext cx="536400" cy="692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5"/>
          <p:cNvSpPr/>
          <p:nvPr/>
        </p:nvSpPr>
        <p:spPr>
          <a:xfrm>
            <a:off x="5457960" y="5343480"/>
            <a:ext cx="536400" cy="692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6"/>
          <p:cNvSpPr/>
          <p:nvPr/>
        </p:nvSpPr>
        <p:spPr>
          <a:xfrm>
            <a:off x="5994360" y="5343480"/>
            <a:ext cx="536760" cy="692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7"/>
          <p:cNvSpPr/>
          <p:nvPr/>
        </p:nvSpPr>
        <p:spPr>
          <a:xfrm>
            <a:off x="3846600" y="5343480"/>
            <a:ext cx="536400" cy="692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8"/>
          <p:cNvSpPr/>
          <p:nvPr/>
        </p:nvSpPr>
        <p:spPr>
          <a:xfrm>
            <a:off x="3306600" y="5343480"/>
            <a:ext cx="536760" cy="692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9"/>
          <p:cNvSpPr/>
          <p:nvPr/>
        </p:nvSpPr>
        <p:spPr>
          <a:xfrm>
            <a:off x="1806480" y="5342040"/>
            <a:ext cx="536760" cy="691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1"/>
          <p:cNvSpPr/>
          <p:nvPr/>
        </p:nvSpPr>
        <p:spPr>
          <a:xfrm>
            <a:off x="6531120" y="5649840"/>
            <a:ext cx="9601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14"/>
          <p:cNvSpPr/>
          <p:nvPr/>
        </p:nvSpPr>
        <p:spPr>
          <a:xfrm>
            <a:off x="1710360" y="4946760"/>
            <a:ext cx="66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Zapf Dingbats"/>
                <a:ea typeface="Zapf Dingbats"/>
              </a:rPr>
              <a:t>✗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P Congestion Windo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lnSpc>
                <a:spcPct val="90000"/>
              </a:lnSpc>
              <a:spcBef>
                <a:spcPts val="187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Each sender maintains congestion window</a:t>
            </a:r>
            <a:endParaRPr b="0" lang="en-US" sz="30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26"/>
              </a:spcBef>
              <a:spcAft>
                <a:spcPts val="2401"/>
              </a:spcAft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Max number of bytes to have in transit (not ACK’d)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87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dapting the congestion window</a:t>
            </a:r>
            <a:endParaRPr b="0" lang="en-US" sz="30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26"/>
              </a:spcBef>
              <a:buClr>
                <a:srgbClr val="0000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Decrease 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upon losing a packet: backing off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26"/>
              </a:spcBef>
              <a:buClr>
                <a:srgbClr val="0000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Increase 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upon success: optimistically exploring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26"/>
              </a:spcBef>
              <a:spcAft>
                <a:spcPts val="2401"/>
              </a:spcAft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Always struggling to find right transfer rate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87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Tradeoff</a:t>
            </a:r>
            <a:endParaRPr b="0" lang="en-US" sz="30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26"/>
              </a:spcBef>
              <a:buClr>
                <a:srgbClr val="0000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Pro: 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avoids needing explicit network feedback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26"/>
              </a:spcBef>
              <a:buClr>
                <a:srgbClr val="0000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Con: 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continually under- and over-shoots “right” rate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itive Increase, Multiplicative Decreas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ow much to adapt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dditive increase:  On success of last window of data, increase window by 1 Max Segment Size (MS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ultiplicative decrease: On loss of packet, divide congestion window in half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uch quicker to slow than speed up!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ver-sized windows (causing loss) are much worse than under-sized windows (causing lower throughput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IMD:  A necessary condition for stability of TC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ads to TCP Sawtooth Behavi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4969F-7125-4D17-9850-DCC859704B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3"/>
          <p:cNvSpPr/>
          <p:nvPr/>
        </p:nvSpPr>
        <p:spPr>
          <a:xfrm>
            <a:off x="838080" y="2533680"/>
            <a:ext cx="7844040" cy="2819520"/>
          </a:xfrm>
          <a:custGeom>
            <a:avLst/>
            <a:gdLst>
              <a:gd name="textAreaLeft" fmla="*/ 0 w 7844040"/>
              <a:gd name="textAreaRight" fmla="*/ 7844400 w 7844040"/>
              <a:gd name="textAreaTop" fmla="*/ 0 h 2819520"/>
              <a:gd name="textAreaBottom" fmla="*/ 2819880 h 2819520"/>
            </a:gdLst>
            <a:ahLst/>
            <a:rect l="textAreaLeft" t="textAreaTop" r="textAreaRight" b="textAreaBottom"/>
            <a:pathLst>
              <a:path w="4416" h="1968">
                <a:moveTo>
                  <a:pt x="0" y="0"/>
                </a:moveTo>
                <a:lnTo>
                  <a:pt x="0" y="1968"/>
                </a:lnTo>
                <a:lnTo>
                  <a:pt x="4416" y="196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14"/>
          <p:cNvSpPr/>
          <p:nvPr/>
        </p:nvSpPr>
        <p:spPr>
          <a:xfrm>
            <a:off x="838080" y="3905280"/>
            <a:ext cx="1828800" cy="137160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w="1152" h="864">
                <a:moveTo>
                  <a:pt x="1152" y="0"/>
                </a:moveTo>
                <a:cubicBezTo>
                  <a:pt x="1132" y="116"/>
                  <a:pt x="1112" y="232"/>
                  <a:pt x="1056" y="336"/>
                </a:cubicBezTo>
                <a:cubicBezTo>
                  <a:pt x="1000" y="440"/>
                  <a:pt x="928" y="544"/>
                  <a:pt x="816" y="624"/>
                </a:cubicBezTo>
                <a:cubicBezTo>
                  <a:pt x="704" y="704"/>
                  <a:pt x="520" y="776"/>
                  <a:pt x="384" y="816"/>
                </a:cubicBezTo>
                <a:cubicBezTo>
                  <a:pt x="248" y="856"/>
                  <a:pt x="124" y="860"/>
                  <a:pt x="0" y="864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6"/>
          <p:cNvSpPr/>
          <p:nvPr/>
        </p:nvSpPr>
        <p:spPr>
          <a:xfrm>
            <a:off x="7048080" y="54291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7"/>
          <p:cNvSpPr/>
          <p:nvPr/>
        </p:nvSpPr>
        <p:spPr>
          <a:xfrm>
            <a:off x="358200" y="1693800"/>
            <a:ext cx="172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ges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19"/>
          <p:cNvSpPr/>
          <p:nvPr/>
        </p:nvSpPr>
        <p:spPr>
          <a:xfrm>
            <a:off x="2666880" y="3371760"/>
            <a:ext cx="2667240" cy="152424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524240"/>
              <a:gd name="textAreaBottom" fmla="*/ 1524600 h 1524240"/>
            </a:gdLst>
            <a:ahLst/>
            <a:rect l="textAreaLeft" t="textAreaTop" r="textAreaRight" b="textAreaBottom"/>
            <a:pathLst>
              <a:path w="1680" h="960">
                <a:moveTo>
                  <a:pt x="0" y="336"/>
                </a:moveTo>
                <a:lnTo>
                  <a:pt x="0" y="816"/>
                </a:lnTo>
                <a:lnTo>
                  <a:pt x="384" y="528"/>
                </a:lnTo>
                <a:lnTo>
                  <a:pt x="384" y="960"/>
                </a:lnTo>
                <a:lnTo>
                  <a:pt x="1680" y="0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20"/>
          <p:cNvSpPr/>
          <p:nvPr/>
        </p:nvSpPr>
        <p:spPr>
          <a:xfrm>
            <a:off x="6781680" y="3672000"/>
            <a:ext cx="1600200" cy="99036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1008" h="624">
                <a:moveTo>
                  <a:pt x="0" y="0"/>
                </a:moveTo>
                <a:lnTo>
                  <a:pt x="0" y="624"/>
                </a:lnTo>
                <a:lnTo>
                  <a:pt x="720" y="48"/>
                </a:lnTo>
                <a:lnTo>
                  <a:pt x="720" y="576"/>
                </a:lnTo>
                <a:lnTo>
                  <a:pt x="1008" y="336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21"/>
          <p:cNvSpPr/>
          <p:nvPr/>
        </p:nvSpPr>
        <p:spPr>
          <a:xfrm>
            <a:off x="5181480" y="4362480"/>
            <a:ext cx="914400" cy="990720"/>
          </a:xfrm>
          <a:custGeom>
            <a:avLst/>
            <a:gdLst>
              <a:gd name="textAreaLeft" fmla="*/ 0 w 914400"/>
              <a:gd name="textAreaRight" fmla="*/ 914760 w 9144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1152" h="864">
                <a:moveTo>
                  <a:pt x="1152" y="0"/>
                </a:moveTo>
                <a:cubicBezTo>
                  <a:pt x="1132" y="116"/>
                  <a:pt x="1112" y="232"/>
                  <a:pt x="1056" y="336"/>
                </a:cubicBezTo>
                <a:cubicBezTo>
                  <a:pt x="1000" y="440"/>
                  <a:pt x="928" y="544"/>
                  <a:pt x="816" y="624"/>
                </a:cubicBezTo>
                <a:cubicBezTo>
                  <a:pt x="704" y="704"/>
                  <a:pt x="520" y="776"/>
                  <a:pt x="384" y="816"/>
                </a:cubicBezTo>
                <a:cubicBezTo>
                  <a:pt x="248" y="856"/>
                  <a:pt x="124" y="860"/>
                  <a:pt x="0" y="864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22"/>
          <p:cNvSpPr/>
          <p:nvPr/>
        </p:nvSpPr>
        <p:spPr>
          <a:xfrm flipV="1">
            <a:off x="6095880" y="3676320"/>
            <a:ext cx="685800" cy="68580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23"/>
          <p:cNvSpPr/>
          <p:nvPr/>
        </p:nvSpPr>
        <p:spPr>
          <a:xfrm>
            <a:off x="5334120" y="3371760"/>
            <a:ext cx="0" cy="198144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33"/>
          <p:cNvSpPr/>
          <p:nvPr/>
        </p:nvSpPr>
        <p:spPr>
          <a:xfrm flipH="1">
            <a:off x="5380200" y="2708280"/>
            <a:ext cx="411120" cy="579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6"/>
          <p:cNvSpPr/>
          <p:nvPr/>
        </p:nvSpPr>
        <p:spPr>
          <a:xfrm>
            <a:off x="5486400" y="22510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timeou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33"/>
          <p:cNvSpPr/>
          <p:nvPr/>
        </p:nvSpPr>
        <p:spPr>
          <a:xfrm flipH="1">
            <a:off x="3343320" y="3537000"/>
            <a:ext cx="411120" cy="5792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36"/>
          <p:cNvSpPr/>
          <p:nvPr/>
        </p:nvSpPr>
        <p:spPr>
          <a:xfrm>
            <a:off x="2651040" y="2998800"/>
            <a:ext cx="214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triple dup A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33"/>
          <p:cNvSpPr/>
          <p:nvPr/>
        </p:nvSpPr>
        <p:spPr>
          <a:xfrm flipH="1">
            <a:off x="1495080" y="4273560"/>
            <a:ext cx="338040" cy="6681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6"/>
          <p:cNvSpPr/>
          <p:nvPr/>
        </p:nvSpPr>
        <p:spPr>
          <a:xfrm>
            <a:off x="681120" y="360216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slow sta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eiver Window vs. Congestion Windo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87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Flow control</a:t>
            </a:r>
            <a:endParaRPr b="0" lang="en-US" sz="30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26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Keep a </a:t>
            </a:r>
            <a:r>
              <a:rPr b="0" i="1" lang="en-US" sz="2600" spc="-1" strike="noStrike">
                <a:solidFill>
                  <a:srgbClr val="000066"/>
                </a:solidFill>
                <a:latin typeface="Arial"/>
              </a:rPr>
              <a:t>fast sender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 from overwhelming </a:t>
            </a:r>
            <a:r>
              <a:rPr b="0" i="1" lang="en-US" sz="2600" spc="-1" strike="noStrike">
                <a:solidFill>
                  <a:srgbClr val="000066"/>
                </a:solidFill>
                <a:latin typeface="Arial"/>
              </a:rPr>
              <a:t>slow receiver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87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Congestion control</a:t>
            </a:r>
            <a:endParaRPr b="0" lang="en-US" sz="30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26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Keep a </a:t>
            </a:r>
            <a:r>
              <a:rPr b="0" i="1" lang="en-US" sz="2600" spc="-1" strike="noStrike">
                <a:solidFill>
                  <a:srgbClr val="000066"/>
                </a:solidFill>
                <a:latin typeface="Arial"/>
              </a:rPr>
              <a:t>set of senders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 from overloading the </a:t>
            </a:r>
            <a:r>
              <a:rPr b="0" i="1" lang="en-US" sz="2600" spc="-1" strike="noStrike">
                <a:solidFill>
                  <a:srgbClr val="000066"/>
                </a:solidFill>
                <a:latin typeface="Arial"/>
              </a:rPr>
              <a:t>network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87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Different concepts, but similar mechanisms</a:t>
            </a:r>
            <a:endParaRPr b="0" lang="en-US" sz="30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26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TCP flow control:  receiver window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26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TCP congestion control:  congestion window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26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Sender TCP window = 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min { congestion window, receiver window }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P Tahoe vs. TCP Reno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wo similar versions of TCP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CP Tahoe (SIGCOMM’88 paper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CP Reno (1990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CP Taho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lways repeat slow start after a los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ssign slow-start threshold to half of congestion window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CP Reno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peat slow start after timeout-based los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ivide congestion window in half after triple dup AC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5A187-FD97-4A4D-96FE-210B09AD6C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iscus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17D61-E802-4922-95DE-148F451945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Problem Does a Protocol Solv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GP path selec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lect a path that each AS on the path is willing to us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dapt path selection in the presence of failur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CP congestion contro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vent congestion collapse of the Intern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llocate bandwidth fairly and efficientl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ut, can we be more precise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fine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mathematically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what problem is being solv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o understand the problem and analyze the protoco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o predict the effects of changes in the syste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o design better protocols from first principl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3ED1-3F01-4B99-A0C5-F45B585D6D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6110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Fairne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DCE3-20CF-418B-88D4-4E82AE784E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ir and Efficient Use of a Resour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6840" y="1219320"/>
            <a:ext cx="8799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uppose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users share a single resource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Like the bandwidth on a single link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.g., 3 users sharing a 30 Gbps link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at is a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fair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allocation of bandwidth?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uppose user demand is “elastic” (i.e., unlimited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llocate each a 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1/n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share (e.g., 10 Gbps each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But, “equality” is not enough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hich allocation is best: [5, 5, 5] or [18, 6, 6]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[5, 5, 5] is more “fair”, but [18, 6, 6] more efficien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hat about [5, 5, 5] vs. [22, 4, 4]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D4786-AFBE-45DB-A53D-0A68B7AC5C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ir Use of a Single Resour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at if some users have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inelastic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demand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3 users where 1 user only wants 6 Gbp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the total link capacity is 30 Gbp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hould we still do an “equal” allocation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[6, 6, 6]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ut that leaves 12 Gbps unus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hould we allocate in proportion to demand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1 user wants 6 Gbps, and 2 each want 20 Gbp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llocate [4, 13, 13]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r, give the least demanding user all he wants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allocate [6, 12, 12]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467A-5A73-4DA9-8A61-F294530AE1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x-Min Fairne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e allocation must be “feasible”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otal allocation should not exceed link capacit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rotect the less fortunat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y attempt to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increas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the allocation of one us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ecessarily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decrease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the allocation of another user with equal or lower alloca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ully utilize a “bottlenecked” resourc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f demand exceeds capacity, the link is fully us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rogressive filling algorith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row all rates until some users stop having deman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ntinue increasing all remaining rates till link is ful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7F07D-B729-4933-BFBB-D3D0457238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ource Allocation Over Path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6840" y="2968200"/>
            <a:ext cx="8458200" cy="37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aximum throughput: </a:t>
            </a:r>
            <a:r>
              <a:rPr b="0" lang="en-US" sz="2800" spc="-1" strike="noStrike">
                <a:solidFill>
                  <a:srgbClr val="f47a00"/>
                </a:solidFill>
                <a:latin typeface="Arial"/>
              </a:rPr>
              <a:t>[30, 30, 0]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throughput of 60, but user C starv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ax-min fairness: </a:t>
            </a:r>
            <a:r>
              <a:rPr b="0" lang="en-US" sz="2800" spc="-1" strike="noStrike">
                <a:solidFill>
                  <a:srgbClr val="f47a00"/>
                </a:solidFill>
                <a:latin typeface="Arial"/>
              </a:rPr>
              <a:t>[15, 15, 15]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 allocation, but throughput of just 4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roportional fairness: </a:t>
            </a:r>
            <a:r>
              <a:rPr b="0" lang="en-US" sz="2800" spc="-1" strike="noStrike">
                <a:solidFill>
                  <a:srgbClr val="f47a00"/>
                </a:solidFill>
                <a:latin typeface="Arial"/>
              </a:rPr>
              <a:t>[20, 20, 10]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e trade-off between throughput and equalit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put of 50, and penalize C for using 2 busy link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71EC4-82A9-4CF6-A154-AB03E9B14B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4"/>
          <p:cNvSpPr/>
          <p:nvPr/>
        </p:nvSpPr>
        <p:spPr>
          <a:xfrm>
            <a:off x="885960" y="1854360"/>
            <a:ext cx="382320" cy="345960"/>
          </a:xfrm>
          <a:prstGeom prst="ellipse">
            <a:avLst/>
          </a:prstGeom>
          <a:solidFill>
            <a:srgbClr val="5c5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5"/>
          <p:cNvSpPr/>
          <p:nvPr/>
        </p:nvSpPr>
        <p:spPr>
          <a:xfrm>
            <a:off x="2766960" y="1854360"/>
            <a:ext cx="384120" cy="345960"/>
          </a:xfrm>
          <a:prstGeom prst="ellipse">
            <a:avLst/>
          </a:prstGeom>
          <a:solidFill>
            <a:srgbClr val="5c5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traight Connector 7"/>
          <p:cNvSpPr/>
          <p:nvPr/>
        </p:nvSpPr>
        <p:spPr>
          <a:xfrm>
            <a:off x="1268280" y="2027160"/>
            <a:ext cx="14986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9"/>
          <p:cNvSpPr/>
          <p:nvPr/>
        </p:nvSpPr>
        <p:spPr>
          <a:xfrm>
            <a:off x="4610160" y="1854360"/>
            <a:ext cx="384120" cy="345960"/>
          </a:xfrm>
          <a:prstGeom prst="ellipse">
            <a:avLst/>
          </a:prstGeom>
          <a:solidFill>
            <a:srgbClr val="5c5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traight Connector 10"/>
          <p:cNvSpPr/>
          <p:nvPr/>
        </p:nvSpPr>
        <p:spPr>
          <a:xfrm>
            <a:off x="3112920" y="2027160"/>
            <a:ext cx="14972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Straight Arrow Connector 17"/>
          <p:cNvCxnSpPr/>
          <p:nvPr/>
        </p:nvCxnSpPr>
        <p:spPr>
          <a:xfrm>
            <a:off x="1345680" y="1777680"/>
            <a:ext cx="1305720" cy="1080"/>
          </a:xfrm>
          <a:prstGeom prst="straightConnector1">
            <a:avLst/>
          </a:prstGeom>
          <a:ln w="38160">
            <a:solidFill>
              <a:srgbClr val="f47a00"/>
            </a:solidFill>
            <a:miter/>
            <a:tailEnd len="med" type="arrow" w="med"/>
          </a:ln>
        </p:spPr>
      </p:cxnSp>
      <p:cxnSp>
        <p:nvCxnSpPr>
          <p:cNvPr id="145" name="Straight Arrow Connector 18"/>
          <p:cNvCxnSpPr/>
          <p:nvPr/>
        </p:nvCxnSpPr>
        <p:spPr>
          <a:xfrm>
            <a:off x="3188880" y="1777680"/>
            <a:ext cx="1307160" cy="1080"/>
          </a:xfrm>
          <a:prstGeom prst="straightConnector1">
            <a:avLst/>
          </a:prstGeom>
          <a:ln w="38160">
            <a:solidFill>
              <a:srgbClr val="f47a00"/>
            </a:solidFill>
            <a:miter/>
            <a:tailEnd len="med" type="arrow" w="med"/>
          </a:ln>
        </p:spPr>
      </p:cxnSp>
      <p:cxnSp>
        <p:nvCxnSpPr>
          <p:cNvPr id="146" name="Straight Arrow Connector 19"/>
          <p:cNvCxnSpPr/>
          <p:nvPr/>
        </p:nvCxnSpPr>
        <p:spPr>
          <a:xfrm flipV="1">
            <a:off x="1422000" y="2391840"/>
            <a:ext cx="3074040" cy="38880"/>
          </a:xfrm>
          <a:prstGeom prst="straightConnector1">
            <a:avLst/>
          </a:prstGeom>
          <a:ln w="38160">
            <a:solidFill>
              <a:srgbClr val="f47a00"/>
            </a:solidFill>
            <a:miter/>
            <a:tailEnd len="med" type="arrow" w="med"/>
          </a:ln>
        </p:spPr>
      </p:cxnSp>
      <p:sp>
        <p:nvSpPr>
          <p:cNvPr id="147" name="TextBox 21"/>
          <p:cNvSpPr/>
          <p:nvPr/>
        </p:nvSpPr>
        <p:spPr>
          <a:xfrm>
            <a:off x="5490720" y="1700280"/>
            <a:ext cx="305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users A, B, and 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 30 Gbps lin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2"/>
          <p:cNvSpPr/>
          <p:nvPr/>
        </p:nvSpPr>
        <p:spPr>
          <a:xfrm>
            <a:off x="1851120" y="13780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7a00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23"/>
          <p:cNvSpPr/>
          <p:nvPr/>
        </p:nvSpPr>
        <p:spPr>
          <a:xfrm>
            <a:off x="3579840" y="1355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7a00"/>
                </a:solidFill>
                <a:latin typeface="Arial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4"/>
          <p:cNvSpPr/>
          <p:nvPr/>
        </p:nvSpPr>
        <p:spPr>
          <a:xfrm>
            <a:off x="2811240" y="23922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7a00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4120" y="2776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istributed Algorithm for Achieving Fairne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5F7C-A086-4905-9795-30355D6A4F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11:28:01Z</dcterms:created>
  <dc:creator>Kai Li</dc:creator>
  <dc:description/>
  <dc:language>en-US</dc:language>
  <cp:lastModifiedBy>Jen</cp:lastModifiedBy>
  <cp:lastPrinted>2010-09-22T18:12:26Z</cp:lastPrinted>
  <dcterms:modified xsi:type="dcterms:W3CDTF">2017-09-21T02:33:38Z</dcterms:modified>
  <cp:revision>3048</cp:revision>
  <dc:subject/>
  <dc:title>Communication</dc:title>
</cp:coreProperties>
</file>