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3D09B7-E7D7-4502-AAA5-5FF4C9833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5A5765F-A029-4F06-B09D-84A8139FD7F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11B516C-D7ED-413C-8AA7-9E5FAD9B0F4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63E3D2F-26FF-418F-A3F7-424A4BA8B91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EE6A6C-371B-4FF1-99C3-E8BA277D7FB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ECBF8FF-6913-4794-A7C4-F25793DE654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967001-8B4C-4CF9-BDFC-813C5ADE133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E47EC3-73F2-4F9F-8F9E-CCE32DFBD89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is –h whois.arin.net 128.112.155.1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tandards.ieee.org/regauth/oui/oui.t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both MAC and I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identifier to use in bootstrap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 address is topology-dependent, so cannot keep when hos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AN was meant to handle many different network protocols (not just 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6D5AD4F-D501-4015-BABB-9D7E1EA880D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AF15C9D-69D0-4D83-8957-60A90998176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2C852D1-B633-49E9-966F-C39068BB886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BA28-6036-421F-95AB-E7EA3A34E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7696-5ED2-4431-8892-FC5B5548A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BC33-778C-47ED-B42D-FEC85776A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5AAA-8855-4FF3-ACA5-AEEA917C3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C18B-530B-4F5B-9082-41477270A4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3C5B-C266-4489-ABBA-F1777E2A21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DB88-54BE-4A12-B784-B252148D52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2B23-99C0-42C1-BBB1-290CAF88F7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7CEF-864E-4FCA-82EA-74413D6F0E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CCDC-09C9-4166-BB7A-94685A03DC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D36D-BB47-4AF5-B64A-6FFA23190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B5CD-07A8-4CCE-990B-51177793D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B83A-DE98-420A-B202-9431EE8A8F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0D61-A7C9-4E94-902C-5EAADF1D75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3838-757A-4F4F-BDA5-C6A3898A0C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6AEF-9F18-44B5-9D48-9A0AD6FEE6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C777-A1F3-4F34-90F4-A4254520B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EA6C-09E7-44C6-80EC-46368AB87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63C7-B8D2-4BBB-91A7-1D2CB9C40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E6A1-52E6-4CB8-9B07-669AAE38C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FC3D-1055-4442-8F50-BDEF5B61D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2208-618E-4FD5-8E65-B7D89F40F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785C-AD9A-4B64-BD58-A53D12AAF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EFC1-C8CC-435A-918D-A05A2EFE7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ED49-1A0C-4A18-BF2D-FF68B9DED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1E0B-ECC4-4D18-BBD1-540607213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image" Target="../media/image10.wmf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image" Target="../media/image10.wmf"/><Relationship Id="rId7" Type="http://schemas.openxmlformats.org/officeDocument/2006/relationships/image" Target="../media/image12.wmf"/><Relationship Id="rId8" Type="http://schemas.openxmlformats.org/officeDocument/2006/relationships/image" Target="../media/image10.wmf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pm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3520" y="25909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e Hos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609480" y="3733920"/>
            <a:ext cx="120024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6289560" y="1219320"/>
            <a:ext cx="26370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7315200" y="3657600"/>
            <a:ext cx="1387440" cy="2031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4"/>
          <a:stretch/>
        </p:blipFill>
        <p:spPr>
          <a:xfrm>
            <a:off x="380880" y="1219320"/>
            <a:ext cx="295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F45-E849-43EC-B4B8-0A7CB8766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ress Resolution Protocol (AR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very host maintains an ARP t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IP address, MAC address) pai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ult the table when sending a pa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 destination IP address to destination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capsulate and transmit the data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what if the IP address is not in the tab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broadcasts: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o has IP address 1.2.3.156?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responds: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C address 58-23-D7-FA-20-B0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ches the result in its ARP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98336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EAB3-7234-4A87-8CA5-163763573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ject 2" descr=""/>
          <p:cNvPicPr/>
          <p:nvPr/>
        </p:nvPicPr>
        <p:blipFill>
          <a:blip r:embed="rId1"/>
          <a:stretch/>
        </p:blipFill>
        <p:spPr>
          <a:xfrm>
            <a:off x="4738680" y="51004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888360" y="5678640"/>
            <a:ext cx="188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.poly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274080" y="635652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3"/>
          <p:cNvGraphicFramePr/>
          <p:nvPr/>
        </p:nvGraphicFramePr>
        <p:xfrm>
          <a:off x="6862680" y="5810400"/>
          <a:ext cx="833400" cy="63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62680" y="581040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6"/>
          <p:cNvGrpSpPr/>
          <p:nvPr/>
        </p:nvGrpSpPr>
        <p:grpSpPr>
          <a:xfrm>
            <a:off x="4986360" y="3025800"/>
            <a:ext cx="369360" cy="657000"/>
            <a:chOff x="4986360" y="3025800"/>
            <a:chExt cx="369360" cy="657000"/>
          </a:xfrm>
        </p:grpSpPr>
        <p:sp>
          <p:nvSpPr>
            <p:cNvPr id="195" name="AutoShape 7"/>
            <p:cNvSpPr/>
            <p:nvPr/>
          </p:nvSpPr>
          <p:spPr>
            <a:xfrm>
              <a:off x="4986360" y="353088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5173560" y="303012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88520" y="317304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"/>
            <p:cNvSpPr/>
            <p:nvPr/>
          </p:nvSpPr>
          <p:spPr>
            <a:xfrm>
              <a:off x="4986360" y="30258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"/>
            <p:cNvSpPr/>
            <p:nvPr/>
          </p:nvSpPr>
          <p:spPr>
            <a:xfrm>
              <a:off x="5355720" y="30362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 flipH="1">
              <a:off x="5222160" y="35308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5018040" y="3239640"/>
              <a:ext cx="15516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5040360" y="33274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5"/>
          <p:cNvSpPr/>
          <p:nvPr/>
        </p:nvSpPr>
        <p:spPr>
          <a:xfrm>
            <a:off x="5540400" y="127800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DNS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 flipV="1">
            <a:off x="5035680" y="3713040"/>
            <a:ext cx="0" cy="131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 flipV="1">
            <a:off x="5149800" y="201744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8"/>
          <p:cNvSpPr/>
          <p:nvPr/>
        </p:nvSpPr>
        <p:spPr>
          <a:xfrm flipV="1">
            <a:off x="5435640" y="3179880"/>
            <a:ext cx="148572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9"/>
          <p:cNvSpPr/>
          <p:nvPr/>
        </p:nvSpPr>
        <p:spPr>
          <a:xfrm flipH="1">
            <a:off x="5435640" y="3351240"/>
            <a:ext cx="1419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0"/>
          <p:cNvSpPr/>
          <p:nvPr/>
        </p:nvSpPr>
        <p:spPr>
          <a:xfrm flipH="1">
            <a:off x="5359320" y="2246400"/>
            <a:ext cx="73368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5226120" y="3741840"/>
            <a:ext cx="9360" cy="132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2"/>
          <p:cNvGrpSpPr/>
          <p:nvPr/>
        </p:nvGrpSpPr>
        <p:grpSpPr>
          <a:xfrm>
            <a:off x="2873160" y="3116160"/>
            <a:ext cx="1935000" cy="611640"/>
            <a:chOff x="2873160" y="3116160"/>
            <a:chExt cx="1935000" cy="611640"/>
          </a:xfrm>
        </p:grpSpPr>
        <p:sp>
          <p:nvSpPr>
            <p:cNvPr id="211" name="Rectangle 23"/>
            <p:cNvSpPr/>
            <p:nvPr/>
          </p:nvSpPr>
          <p:spPr>
            <a:xfrm>
              <a:off x="2901960" y="3188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4"/>
            <p:cNvSpPr/>
            <p:nvPr/>
          </p:nvSpPr>
          <p:spPr>
            <a:xfrm>
              <a:off x="2873160" y="3116160"/>
              <a:ext cx="19350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DNS serv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ns.poly.edu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25"/>
          <p:cNvSpPr/>
          <p:nvPr/>
        </p:nvSpPr>
        <p:spPr>
          <a:xfrm>
            <a:off x="4748400" y="456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5291640" y="223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5729760" y="247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6044040" y="288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6073920" y="337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6671160" y="4410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1"/>
          <p:cNvGrpSpPr/>
          <p:nvPr/>
        </p:nvGrpSpPr>
        <p:grpSpPr>
          <a:xfrm>
            <a:off x="6100920" y="1606680"/>
            <a:ext cx="369360" cy="656280"/>
            <a:chOff x="6100920" y="1606680"/>
            <a:chExt cx="369360" cy="656280"/>
          </a:xfrm>
        </p:grpSpPr>
        <p:sp>
          <p:nvSpPr>
            <p:cNvPr id="220" name="AutoShape 32"/>
            <p:cNvSpPr/>
            <p:nvPr/>
          </p:nvSpPr>
          <p:spPr>
            <a:xfrm>
              <a:off x="6100920" y="2111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3"/>
            <p:cNvSpPr/>
            <p:nvPr/>
          </p:nvSpPr>
          <p:spPr>
            <a:xfrm>
              <a:off x="6288120" y="16110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4"/>
            <p:cNvSpPr/>
            <p:nvPr/>
          </p:nvSpPr>
          <p:spPr>
            <a:xfrm>
              <a:off x="6103080" y="175392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5"/>
            <p:cNvSpPr/>
            <p:nvPr/>
          </p:nvSpPr>
          <p:spPr>
            <a:xfrm>
              <a:off x="6100920" y="16066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470280" y="1617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 flipH="1">
              <a:off x="6336720" y="2111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8"/>
            <p:cNvSpPr/>
            <p:nvPr/>
          </p:nvSpPr>
          <p:spPr>
            <a:xfrm>
              <a:off x="6132600" y="1820520"/>
              <a:ext cx="155160" cy="29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9"/>
            <p:cNvSpPr/>
            <p:nvPr/>
          </p:nvSpPr>
          <p:spPr>
            <a:xfrm>
              <a:off x="6154920" y="1908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0"/>
          <p:cNvGrpSpPr/>
          <p:nvPr/>
        </p:nvGrpSpPr>
        <p:grpSpPr>
          <a:xfrm>
            <a:off x="6929280" y="3035160"/>
            <a:ext cx="369720" cy="657000"/>
            <a:chOff x="6929280" y="3035160"/>
            <a:chExt cx="369720" cy="657000"/>
          </a:xfrm>
        </p:grpSpPr>
        <p:sp>
          <p:nvSpPr>
            <p:cNvPr id="229" name="AutoShape 41"/>
            <p:cNvSpPr/>
            <p:nvPr/>
          </p:nvSpPr>
          <p:spPr>
            <a:xfrm>
              <a:off x="6929280" y="35402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42"/>
            <p:cNvSpPr/>
            <p:nvPr/>
          </p:nvSpPr>
          <p:spPr>
            <a:xfrm>
              <a:off x="7116480" y="30394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43"/>
            <p:cNvSpPr/>
            <p:nvPr/>
          </p:nvSpPr>
          <p:spPr>
            <a:xfrm>
              <a:off x="6931440" y="318240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44"/>
            <p:cNvSpPr/>
            <p:nvPr/>
          </p:nvSpPr>
          <p:spPr>
            <a:xfrm>
              <a:off x="6929280" y="30351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7299000" y="30456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6"/>
            <p:cNvSpPr/>
            <p:nvPr/>
          </p:nvSpPr>
          <p:spPr>
            <a:xfrm flipH="1">
              <a:off x="7165440" y="35402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47"/>
            <p:cNvSpPr/>
            <p:nvPr/>
          </p:nvSpPr>
          <p:spPr>
            <a:xfrm>
              <a:off x="6960960" y="3249000"/>
              <a:ext cx="15552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6983280" y="33368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9"/>
          <p:cNvGrpSpPr/>
          <p:nvPr/>
        </p:nvGrpSpPr>
        <p:grpSpPr>
          <a:xfrm>
            <a:off x="6910560" y="4654440"/>
            <a:ext cx="369360" cy="657000"/>
            <a:chOff x="6910560" y="4654440"/>
            <a:chExt cx="369360" cy="657000"/>
          </a:xfrm>
        </p:grpSpPr>
        <p:sp>
          <p:nvSpPr>
            <p:cNvPr id="238" name="AutoShape 50"/>
            <p:cNvSpPr/>
            <p:nvPr/>
          </p:nvSpPr>
          <p:spPr>
            <a:xfrm>
              <a:off x="6910560" y="51595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1"/>
            <p:cNvSpPr/>
            <p:nvPr/>
          </p:nvSpPr>
          <p:spPr>
            <a:xfrm>
              <a:off x="7097760" y="4658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2"/>
            <p:cNvSpPr/>
            <p:nvPr/>
          </p:nvSpPr>
          <p:spPr>
            <a:xfrm>
              <a:off x="6912720" y="480168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53"/>
            <p:cNvSpPr/>
            <p:nvPr/>
          </p:nvSpPr>
          <p:spPr>
            <a:xfrm>
              <a:off x="6910560" y="46544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7279920" y="4664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 flipH="1">
              <a:off x="7146360" y="5159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56"/>
            <p:cNvSpPr/>
            <p:nvPr/>
          </p:nvSpPr>
          <p:spPr>
            <a:xfrm>
              <a:off x="6942240" y="4868280"/>
              <a:ext cx="155160" cy="291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7"/>
            <p:cNvSpPr/>
            <p:nvPr/>
          </p:nvSpPr>
          <p:spPr>
            <a:xfrm>
              <a:off x="6964560" y="4956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58"/>
          <p:cNvSpPr/>
          <p:nvPr/>
        </p:nvSpPr>
        <p:spPr>
          <a:xfrm>
            <a:off x="6040080" y="5226120"/>
            <a:ext cx="25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DNS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9"/>
          <p:cNvSpPr/>
          <p:nvPr/>
        </p:nvSpPr>
        <p:spPr>
          <a:xfrm>
            <a:off x="6044040" y="444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0"/>
          <p:cNvSpPr/>
          <p:nvPr/>
        </p:nvSpPr>
        <p:spPr>
          <a:xfrm>
            <a:off x="5301000" y="458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1"/>
          <p:cNvSpPr/>
          <p:nvPr/>
        </p:nvSpPr>
        <p:spPr>
          <a:xfrm>
            <a:off x="5369040" y="3511440"/>
            <a:ext cx="1493640" cy="131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2"/>
          <p:cNvSpPr/>
          <p:nvPr/>
        </p:nvSpPr>
        <p:spPr>
          <a:xfrm flipH="1" flipV="1">
            <a:off x="5329080" y="362736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3"/>
          <p:cNvSpPr/>
          <p:nvPr/>
        </p:nvSpPr>
        <p:spPr>
          <a:xfrm>
            <a:off x="6300720" y="264960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LD DNS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main Name Syst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4600" y="1587600"/>
            <a:ext cx="3565440" cy="13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st at cis.poly.edu wants IP address f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aia.cs.umass.edu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TextBox 66"/>
          <p:cNvSpPr/>
          <p:nvPr/>
        </p:nvSpPr>
        <p:spPr>
          <a:xfrm>
            <a:off x="365040" y="5867280"/>
            <a:ext cx="313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ive query: #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rative queries: #2, 4,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addresses correspond to the interface (point of attachment) or to the hos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do we have all three identifiers?  Do we need all three?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should be done to prevent spoofing of addresse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122A-E1DC-4456-A3F1-77C947A3A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terface to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7203-CED3-4872-B13E-3F33B54AD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ket Abstr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st-effort packet delivery is a clumsy abst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s typically want higher-level abstra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s, uncorrupted data, reliable in-order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s communicate using 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ckets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eam socket: reliable stream of bytes (like a fil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 socket: unreliable message delive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4248-9C5F-47DB-8135-D2C201AB2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770040" y="2819520"/>
            <a:ext cx="2419200" cy="76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6031080" y="2819520"/>
            <a:ext cx="2419200" cy="76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1250640" y="3625920"/>
            <a:ext cx="14670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6473520" y="3625920"/>
            <a:ext cx="14670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1071000" y="30114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6370200" y="29988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297440" y="4229280"/>
            <a:ext cx="138312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6539400" y="4241880"/>
            <a:ext cx="138312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3227400" y="4241880"/>
            <a:ext cx="2689200" cy="779400"/>
          </a:xfrm>
          <a:custGeom>
            <a:avLst/>
            <a:gdLst>
              <a:gd name="textAreaLeft" fmla="*/ 370440 w 2689200"/>
              <a:gd name="textAreaRight" fmla="*/ 2127600 w 2689200"/>
              <a:gd name="textAreaTop" fmla="*/ 117720 h 779400"/>
              <a:gd name="textAreaBottom" fmla="*/ 625680 h 779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2766960" y="4624560"/>
            <a:ext cx="3648240" cy="39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4"/>
          <p:cNvSpPr/>
          <p:nvPr/>
        </p:nvSpPr>
        <p:spPr>
          <a:xfrm>
            <a:off x="9163080" y="28306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963-FBB8-4DE7-AE1F-4F2B640DA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Basic Transport Fea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emultiplexing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port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rror detection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hecksum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747720" y="2627280"/>
            <a:ext cx="129528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167440" y="2151000"/>
            <a:ext cx="3504960" cy="198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6676920" y="227016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rt 8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732600" y="223524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5400000" y="17780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host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1890720" y="31417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6691320" y="3218040"/>
            <a:ext cx="174636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2127240" y="2090880"/>
            <a:ext cx="293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28.2.194.24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.e., the Web serv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 flipV="1">
            <a:off x="6310440" y="2836440"/>
            <a:ext cx="4572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5319720" y="2913120"/>
            <a:ext cx="106668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893880" y="294156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1998720" y="5079960"/>
            <a:ext cx="4762440" cy="882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1998720" y="5079960"/>
            <a:ext cx="730080" cy="884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48840" y="531036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973680" y="5310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9"/>
          <p:cNvSpPr/>
          <p:nvPr/>
        </p:nvSpPr>
        <p:spPr>
          <a:xfrm rot="16200000">
            <a:off x="4572720" y="4272480"/>
            <a:ext cx="344520" cy="3956040"/>
          </a:xfrm>
          <a:custGeom>
            <a:avLst/>
            <a:gdLst>
              <a:gd name="textAreaLeft" fmla="*/ 220320 w 344520"/>
              <a:gd name="textAreaRight" fmla="*/ 344880 w 344520"/>
              <a:gd name="textAreaTop" fmla="*/ 102960 h 3956040"/>
              <a:gd name="textAreaBottom" fmla="*/ 3853080 h 395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3775680" y="637380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 corru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Main Transport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r Datagram Protocol (UD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st provides demultiplexing and error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ader fields: port numbers, checksum, and leng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overhead, good for query/response and multi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mission Control Protocol (T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s support for a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eam of bytes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bstra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tting lost or corrupted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utting out-of-order data back in 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ing overflow of the receiver buff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ing the sending rate to alleviate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er overhead, good for most stateful ap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06E2-2422-46B1-A09C-D0D078D6E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s a socket between two IP addresses the right abstrac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bile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licated servic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es the network know about the traffic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erring the application from the port numb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s end-to-end error detection and correction the right model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loss environmen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nse of retransmitting over the entire pat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73FA-D96B-4D73-A5E8-A3742F94F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tributed Resource Sha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5D8-33D6-4A79-B89E-3375F7CFE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Challen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st-effort network easily becomes overload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mechanism to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xcess cal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tead excess packets are simply dropp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red Ethernet medium: frame colli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hernet switches and IP routers: full packet buffer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ickly leads to congestion collap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2E33-04D0-4A9B-94B8-5135B196D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 flipV="1">
            <a:off x="1620720" y="46576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1633680" y="6357960"/>
            <a:ext cx="235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2420280" y="63500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30920" y="52102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 flipV="1">
            <a:off x="1633680" y="5200200"/>
            <a:ext cx="963360" cy="1157400"/>
          </a:xfrm>
          <a:prstGeom prst="line">
            <a:avLst/>
          </a:prstGeom>
          <a:ln w="507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AutoShape 10"/>
          <p:cNvCxnSpPr/>
          <p:nvPr/>
        </p:nvCxnSpPr>
        <p:spPr>
          <a:xfrm flipH="1" rot="16200000">
            <a:off x="2581920" y="5235840"/>
            <a:ext cx="1092960" cy="1069200"/>
          </a:xfrm>
          <a:prstGeom prst="curvedConnector5">
            <a:avLst>
              <a:gd name="adj1" fmla="val -14958"/>
              <a:gd name="adj2" fmla="val 49983"/>
              <a:gd name="adj3" fmla="val -14958"/>
            </a:avLst>
          </a:prstGeom>
          <a:ln w="50760">
            <a:solidFill>
              <a:srgbClr val="f47a00"/>
            </a:solidFill>
            <a:miter/>
          </a:ln>
        </p:spPr>
      </p:cxnSp>
      <p:sp>
        <p:nvSpPr>
          <p:cNvPr id="313" name="Text Box 11"/>
          <p:cNvSpPr/>
          <p:nvPr/>
        </p:nvSpPr>
        <p:spPr>
          <a:xfrm>
            <a:off x="3533760" y="5111640"/>
            <a:ext cx="13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pse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181480" y="525780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ecrea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n useful work d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E8E3-99AC-432E-9032-E14136BDB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-Network Division of Lab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est-effort packet delive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etween two (or more) end-point addre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s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rything el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2" name="Picture 4" descr="j0285750"/>
          <p:cNvPicPr/>
          <p:nvPr/>
        </p:nvPicPr>
        <p:blipFill>
          <a:blip r:embed="rId1"/>
          <a:stretch/>
        </p:blipFill>
        <p:spPr>
          <a:xfrm>
            <a:off x="7413480" y="5149800"/>
            <a:ext cx="1730520" cy="10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2"/>
          <p:cNvGraphicFramePr/>
          <p:nvPr/>
        </p:nvGraphicFramePr>
        <p:xfrm>
          <a:off x="2724120" y="4648320"/>
          <a:ext cx="3608280" cy="20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648320"/>
                    <a:ext cx="360828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6"/>
          <p:cNvSpPr/>
          <p:nvPr/>
        </p:nvSpPr>
        <p:spPr>
          <a:xfrm flipV="1">
            <a:off x="1714680" y="580716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122880" y="565956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7840" y="44956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7776720" y="4648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MCj02957280000[1]"/>
          <p:cNvPicPr/>
          <p:nvPr/>
        </p:nvPicPr>
        <p:blipFill>
          <a:blip r:embed="rId4"/>
          <a:stretch/>
        </p:blipFill>
        <p:spPr>
          <a:xfrm>
            <a:off x="0" y="493236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3687120" y="537516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2"/>
          <p:cNvGrpSpPr/>
          <p:nvPr/>
        </p:nvGrpSpPr>
        <p:grpSpPr>
          <a:xfrm>
            <a:off x="2089080" y="5268960"/>
            <a:ext cx="326880" cy="457200"/>
            <a:chOff x="2089080" y="5268960"/>
            <a:chExt cx="326880" cy="457200"/>
          </a:xfrm>
        </p:grpSpPr>
        <p:sp>
          <p:nvSpPr>
            <p:cNvPr id="112" name="Rectangle 13"/>
            <p:cNvSpPr/>
            <p:nvPr/>
          </p:nvSpPr>
          <p:spPr>
            <a:xfrm>
              <a:off x="2090520" y="526896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2089080" y="526896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2584440" y="5273640"/>
            <a:ext cx="326880" cy="457200"/>
            <a:chOff x="2584440" y="5273640"/>
            <a:chExt cx="326880" cy="457200"/>
          </a:xfrm>
        </p:grpSpPr>
        <p:sp>
          <p:nvSpPr>
            <p:cNvPr id="115" name="Rectangle 16"/>
            <p:cNvSpPr/>
            <p:nvPr/>
          </p:nvSpPr>
          <p:spPr>
            <a:xfrm>
              <a:off x="2585880" y="52736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2584440" y="52736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8"/>
          <p:cNvGrpSpPr/>
          <p:nvPr/>
        </p:nvGrpSpPr>
        <p:grpSpPr>
          <a:xfrm>
            <a:off x="6438960" y="5127480"/>
            <a:ext cx="326880" cy="457200"/>
            <a:chOff x="6438960" y="5127480"/>
            <a:chExt cx="326880" cy="457200"/>
          </a:xfrm>
        </p:grpSpPr>
        <p:sp>
          <p:nvSpPr>
            <p:cNvPr id="118" name="Rectangle 19"/>
            <p:cNvSpPr/>
            <p:nvPr/>
          </p:nvSpPr>
          <p:spPr>
            <a:xfrm>
              <a:off x="6440400" y="512748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6438960" y="512748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 Hosts Adjusting to Conges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d hosts adapt their sending ra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response to network condi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that the network is conges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red Ethernet: carrier sense multiple acces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ing your own frame collide 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network: observing your end-to-end perform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delay or loss over the end-to-end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apting to conges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ing down the sending rate, for the greater goo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host doesn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 know how bad things might be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F10A-3370-417F-B207-EE6FEA100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hernet Back-off Mechan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373392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rrier sense: wait for link to be id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idle, start sending; if not, wait until id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llision detection: listen while transmitt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collision: abort transmission, and send jam sig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ponential back-off: wait before retransmitt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ait random time, exponentially larger on each ret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14BC-AE44-4459-880E-3DFE1AD02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551 metcalfe-enet"/>
          <p:cNvPicPr/>
          <p:nvPr/>
        </p:nvPicPr>
        <p:blipFill>
          <a:blip r:embed="rId1"/>
          <a:stretch/>
        </p:blipFill>
        <p:spPr>
          <a:xfrm>
            <a:off x="2057400" y="1204920"/>
            <a:ext cx="47242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itive increase, multiplicative decreas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packet loss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success for last window, increase window linea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0B65-7ED4-4FE4-B133-95033AB74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1143000" y="3200400"/>
            <a:ext cx="7010280" cy="2666880"/>
          </a:xfrm>
          <a:custGeom>
            <a:avLst/>
            <a:gdLst>
              <a:gd name="textAreaLeft" fmla="*/ 0 w 7010280"/>
              <a:gd name="textAreaRight" fmla="*/ 7010640 w 70102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4"/>
          <p:cNvSpPr/>
          <p:nvPr/>
        </p:nvSpPr>
        <p:spPr>
          <a:xfrm>
            <a:off x="1143000" y="3886200"/>
            <a:ext cx="7162920" cy="1981080"/>
          </a:xfrm>
          <a:custGeom>
            <a:avLst/>
            <a:gdLst>
              <a:gd name="textAreaLeft" fmla="*/ 0 w 7162920"/>
              <a:gd name="textAreaRight" fmla="*/ 7163280 w 7162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4512" h="1248">
                <a:moveTo>
                  <a:pt x="0" y="1248"/>
                </a:moveTo>
                <a:lnTo>
                  <a:pt x="1152" y="336"/>
                </a:lnTo>
                <a:lnTo>
                  <a:pt x="1152" y="816"/>
                </a:lnTo>
                <a:lnTo>
                  <a:pt x="1536" y="528"/>
                </a:lnTo>
                <a:lnTo>
                  <a:pt x="1536" y="960"/>
                </a:lnTo>
                <a:lnTo>
                  <a:pt x="2832" y="0"/>
                </a:lnTo>
                <a:lnTo>
                  <a:pt x="2832" y="720"/>
                </a:lnTo>
                <a:lnTo>
                  <a:pt x="3504" y="240"/>
                </a:lnTo>
                <a:lnTo>
                  <a:pt x="3504" y="864"/>
                </a:lnTo>
                <a:lnTo>
                  <a:pt x="4224" y="288"/>
                </a:lnTo>
                <a:lnTo>
                  <a:pt x="4224" y="816"/>
                </a:lnTo>
                <a:lnTo>
                  <a:pt x="4512" y="57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712404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570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37339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39625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4154760" y="492300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>
            <a:off x="297180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35812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 flipH="1">
            <a:off x="5638680" y="3200400"/>
            <a:ext cx="36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>
            <a:off x="670572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78487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2493720" y="311796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8"/>
          <p:cNvSpPr/>
          <p:nvPr/>
        </p:nvSpPr>
        <p:spPr>
          <a:xfrm>
            <a:off x="360360" y="6305400"/>
            <a:ext cx="83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chanisms: slow start, fast retransmit vs. timeout loss, etc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role should the network play in resource allocation?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icit feedback to the end host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forcing an explicit rate alloca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a good definition of fairnes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about hosts who cheat to hog resource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to detect cheating?  How to prevent/punish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about wireless network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fficulty of detecting collision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caused by interference, not just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B9A8-7145-4BBC-B90E-860526FCC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t Cerf and Bob Kah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311040" y="2111040"/>
            <a:ext cx="8832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Protocol for Packet Network Intercommunication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EEE Trans. on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y 197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804960" y="5842080"/>
            <a:ext cx="75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ten when Vint Cerf was an assistant professor at Stanford, and Bob Kahn was working at ARP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fe in the 1970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ultiple unconnected network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PAnet, data-over-cable, packet satellite (Aloha), packet radio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terogeneous desig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ressing, max packet size, handling of lost/corrupted data, fault detection, routing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67E5-7E6B-4C36-83C0-B2A7A5CD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4"/>
          <p:cNvSpPr/>
          <p:nvPr/>
        </p:nvSpPr>
        <p:spPr>
          <a:xfrm>
            <a:off x="5410080" y="4622760"/>
            <a:ext cx="2170080" cy="182556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560"/>
              <a:gd name="textAreaBottom" fmla="*/ 1825920 h 182556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5"/>
          <p:cNvSpPr/>
          <p:nvPr/>
        </p:nvSpPr>
        <p:spPr>
          <a:xfrm>
            <a:off x="911160" y="4681440"/>
            <a:ext cx="3216240" cy="167508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5080"/>
              <a:gd name="textAreaBottom" fmla="*/ 1675440 h 167508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2"/>
          <p:cNvGraphicFramePr/>
          <p:nvPr/>
        </p:nvGraphicFramePr>
        <p:xfrm>
          <a:off x="3473280" y="5715000"/>
          <a:ext cx="41616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3280" y="5715000"/>
                    <a:ext cx="416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3" name="Object 3" descr=""/>
          <p:cNvPicPr/>
          <p:nvPr/>
        </p:nvPicPr>
        <p:blipFill>
          <a:blip r:embed="rId3"/>
          <a:stretch/>
        </p:blipFill>
        <p:spPr>
          <a:xfrm>
            <a:off x="2800440" y="5891040"/>
            <a:ext cx="415800" cy="330480"/>
          </a:xfrm>
          <a:prstGeom prst="rect">
            <a:avLst/>
          </a:prstGeom>
          <a:ln w="0">
            <a:noFill/>
          </a:ln>
        </p:spPr>
      </p:pic>
      <p:pic>
        <p:nvPicPr>
          <p:cNvPr id="354" name="Object 4" descr=""/>
          <p:cNvPicPr/>
          <p:nvPr/>
        </p:nvPicPr>
        <p:blipFill>
          <a:blip r:embed="rId4"/>
          <a:stretch/>
        </p:blipFill>
        <p:spPr>
          <a:xfrm>
            <a:off x="1192320" y="4997520"/>
            <a:ext cx="417240" cy="331560"/>
          </a:xfrm>
          <a:prstGeom prst="rect">
            <a:avLst/>
          </a:prstGeom>
          <a:ln w="0">
            <a:noFill/>
          </a:ln>
        </p:spPr>
      </p:pic>
      <p:sp>
        <p:nvSpPr>
          <p:cNvPr id="355" name="Line 9"/>
          <p:cNvSpPr/>
          <p:nvPr/>
        </p:nvSpPr>
        <p:spPr>
          <a:xfrm flipV="1">
            <a:off x="1806480" y="51350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"/>
          <p:cNvSpPr/>
          <p:nvPr/>
        </p:nvSpPr>
        <p:spPr>
          <a:xfrm>
            <a:off x="2077920" y="5219640"/>
            <a:ext cx="63360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3203640" y="517860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12"/>
          <p:cNvGrpSpPr/>
          <p:nvPr/>
        </p:nvGrpSpPr>
        <p:grpSpPr>
          <a:xfrm>
            <a:off x="6561000" y="4921200"/>
            <a:ext cx="268200" cy="487080"/>
            <a:chOff x="6561000" y="4921200"/>
            <a:chExt cx="268200" cy="487080"/>
          </a:xfrm>
        </p:grpSpPr>
        <p:graphicFrame>
          <p:nvGraphicFramePr>
            <p:cNvPr id="359" name="Object 5"/>
            <p:cNvGraphicFramePr/>
            <p:nvPr/>
          </p:nvGraphicFramePr>
          <p:xfrm>
            <a:off x="6568920" y="4921200"/>
            <a:ext cx="203400" cy="24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0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68920" y="4921200"/>
                      <a:ext cx="2034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1" name="Rectangle 14"/>
            <p:cNvSpPr/>
            <p:nvPr/>
          </p:nvSpPr>
          <p:spPr>
            <a:xfrm>
              <a:off x="6561000" y="51638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Line 15"/>
          <p:cNvSpPr/>
          <p:nvPr/>
        </p:nvSpPr>
        <p:spPr>
          <a:xfrm>
            <a:off x="3062160" y="565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 flipV="1">
            <a:off x="3701880" y="515124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7"/>
          <p:cNvGrpSpPr/>
          <p:nvPr/>
        </p:nvGrpSpPr>
        <p:grpSpPr>
          <a:xfrm>
            <a:off x="3313080" y="4938480"/>
            <a:ext cx="501840" cy="235080"/>
            <a:chOff x="3313080" y="4938480"/>
            <a:chExt cx="501840" cy="235080"/>
          </a:xfrm>
        </p:grpSpPr>
        <p:sp>
          <p:nvSpPr>
            <p:cNvPr id="365" name="Oval 18"/>
            <p:cNvSpPr/>
            <p:nvPr/>
          </p:nvSpPr>
          <p:spPr>
            <a:xfrm>
              <a:off x="3317040" y="5069520"/>
              <a:ext cx="497520" cy="633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3317040" y="506412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3814920" y="506412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1"/>
            <p:cNvSpPr/>
            <p:nvPr/>
          </p:nvSpPr>
          <p:spPr>
            <a:xfrm>
              <a:off x="3317040" y="5064120"/>
              <a:ext cx="493200" cy="385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3313080" y="5018400"/>
              <a:ext cx="497160" cy="7380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23"/>
            <p:cNvGrpSpPr/>
            <p:nvPr/>
          </p:nvGrpSpPr>
          <p:grpSpPr>
            <a:xfrm>
              <a:off x="3404880" y="4938480"/>
              <a:ext cx="244800" cy="32400"/>
              <a:chOff x="3404880" y="4938480"/>
              <a:chExt cx="244800" cy="32400"/>
            </a:xfrm>
          </p:grpSpPr>
          <p:sp>
            <p:nvSpPr>
              <p:cNvPr id="371" name="Line 24"/>
              <p:cNvSpPr/>
              <p:nvPr/>
            </p:nvSpPr>
            <p:spPr>
              <a:xfrm flipV="1">
                <a:off x="3404880" y="493848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5"/>
              <p:cNvSpPr/>
              <p:nvPr/>
            </p:nvSpPr>
            <p:spPr>
              <a:xfrm>
                <a:off x="3572640" y="4970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6"/>
              <p:cNvSpPr/>
              <p:nvPr/>
            </p:nvSpPr>
            <p:spPr>
              <a:xfrm>
                <a:off x="3485520" y="4939200"/>
                <a:ext cx="90720" cy="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27"/>
            <p:cNvGrpSpPr/>
            <p:nvPr/>
          </p:nvGrpSpPr>
          <p:grpSpPr>
            <a:xfrm>
              <a:off x="3404880" y="5141160"/>
              <a:ext cx="244800" cy="32400"/>
              <a:chOff x="3404880" y="5141160"/>
              <a:chExt cx="244800" cy="32400"/>
            </a:xfrm>
          </p:grpSpPr>
          <p:sp>
            <p:nvSpPr>
              <p:cNvPr id="375" name="Line 28"/>
              <p:cNvSpPr/>
              <p:nvPr/>
            </p:nvSpPr>
            <p:spPr>
              <a:xfrm>
                <a:off x="3404880" y="517320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9"/>
              <p:cNvSpPr/>
              <p:nvPr/>
            </p:nvSpPr>
            <p:spPr>
              <a:xfrm>
                <a:off x="3572640" y="5141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30"/>
              <p:cNvSpPr/>
              <p:nvPr/>
            </p:nvSpPr>
            <p:spPr>
              <a:xfrm flipV="1">
                <a:off x="3485520" y="5141520"/>
                <a:ext cx="90720" cy="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8" name="Group 31"/>
          <p:cNvGrpSpPr/>
          <p:nvPr/>
        </p:nvGrpSpPr>
        <p:grpSpPr>
          <a:xfrm>
            <a:off x="2703600" y="5427360"/>
            <a:ext cx="500040" cy="234000"/>
            <a:chOff x="2703600" y="5427360"/>
            <a:chExt cx="500040" cy="234000"/>
          </a:xfrm>
        </p:grpSpPr>
        <p:sp>
          <p:nvSpPr>
            <p:cNvPr id="379" name="Oval 32"/>
            <p:cNvSpPr/>
            <p:nvPr/>
          </p:nvSpPr>
          <p:spPr>
            <a:xfrm>
              <a:off x="2707560" y="5557680"/>
              <a:ext cx="495720" cy="626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3"/>
            <p:cNvSpPr/>
            <p:nvPr/>
          </p:nvSpPr>
          <p:spPr>
            <a:xfrm>
              <a:off x="2707560" y="555228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4"/>
            <p:cNvSpPr/>
            <p:nvPr/>
          </p:nvSpPr>
          <p:spPr>
            <a:xfrm>
              <a:off x="3203640" y="555228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5"/>
            <p:cNvSpPr/>
            <p:nvPr/>
          </p:nvSpPr>
          <p:spPr>
            <a:xfrm>
              <a:off x="2707560" y="5552280"/>
              <a:ext cx="491400" cy="381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36"/>
            <p:cNvSpPr/>
            <p:nvPr/>
          </p:nvSpPr>
          <p:spPr>
            <a:xfrm>
              <a:off x="2703600" y="5506920"/>
              <a:ext cx="495360" cy="734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37"/>
            <p:cNvGrpSpPr/>
            <p:nvPr/>
          </p:nvGrpSpPr>
          <p:grpSpPr>
            <a:xfrm>
              <a:off x="2795040" y="5427360"/>
              <a:ext cx="243720" cy="32040"/>
              <a:chOff x="2795040" y="5427360"/>
              <a:chExt cx="243720" cy="32040"/>
            </a:xfrm>
          </p:grpSpPr>
          <p:sp>
            <p:nvSpPr>
              <p:cNvPr id="385" name="Line 38"/>
              <p:cNvSpPr/>
              <p:nvPr/>
            </p:nvSpPr>
            <p:spPr>
              <a:xfrm flipV="1">
                <a:off x="2795040" y="5427360"/>
                <a:ext cx="8676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39"/>
              <p:cNvSpPr/>
              <p:nvPr/>
            </p:nvSpPr>
            <p:spPr>
              <a:xfrm>
                <a:off x="2962080" y="545940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40"/>
              <p:cNvSpPr/>
              <p:nvPr/>
            </p:nvSpPr>
            <p:spPr>
              <a:xfrm>
                <a:off x="2875320" y="5428080"/>
                <a:ext cx="9036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41"/>
            <p:cNvGrpSpPr/>
            <p:nvPr/>
          </p:nvGrpSpPr>
          <p:grpSpPr>
            <a:xfrm>
              <a:off x="2795040" y="5629320"/>
              <a:ext cx="243720" cy="32040"/>
              <a:chOff x="2795040" y="5629320"/>
              <a:chExt cx="243720" cy="32040"/>
            </a:xfrm>
          </p:grpSpPr>
          <p:sp>
            <p:nvSpPr>
              <p:cNvPr id="389" name="Line 42"/>
              <p:cNvSpPr/>
              <p:nvPr/>
            </p:nvSpPr>
            <p:spPr>
              <a:xfrm>
                <a:off x="2795040" y="5661000"/>
                <a:ext cx="8676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43"/>
              <p:cNvSpPr/>
              <p:nvPr/>
            </p:nvSpPr>
            <p:spPr>
              <a:xfrm>
                <a:off x="2962080" y="562932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44"/>
              <p:cNvSpPr/>
              <p:nvPr/>
            </p:nvSpPr>
            <p:spPr>
              <a:xfrm flipV="1">
                <a:off x="2875320" y="5629680"/>
                <a:ext cx="9036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Group 45"/>
          <p:cNvGrpSpPr/>
          <p:nvPr/>
        </p:nvGrpSpPr>
        <p:grpSpPr>
          <a:xfrm>
            <a:off x="1760400" y="5051160"/>
            <a:ext cx="501840" cy="234000"/>
            <a:chOff x="1760400" y="5051160"/>
            <a:chExt cx="501840" cy="234000"/>
          </a:xfrm>
        </p:grpSpPr>
        <p:sp>
          <p:nvSpPr>
            <p:cNvPr id="393" name="Oval 46"/>
            <p:cNvSpPr/>
            <p:nvPr/>
          </p:nvSpPr>
          <p:spPr>
            <a:xfrm>
              <a:off x="1764360" y="5181480"/>
              <a:ext cx="497520" cy="626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7"/>
            <p:cNvSpPr/>
            <p:nvPr/>
          </p:nvSpPr>
          <p:spPr>
            <a:xfrm>
              <a:off x="1764360" y="517608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8"/>
            <p:cNvSpPr/>
            <p:nvPr/>
          </p:nvSpPr>
          <p:spPr>
            <a:xfrm>
              <a:off x="2262240" y="517608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1764360" y="5176080"/>
              <a:ext cx="493200" cy="381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0"/>
            <p:cNvSpPr/>
            <p:nvPr/>
          </p:nvSpPr>
          <p:spPr>
            <a:xfrm>
              <a:off x="1760400" y="5130720"/>
              <a:ext cx="497160" cy="734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51"/>
            <p:cNvGrpSpPr/>
            <p:nvPr/>
          </p:nvGrpSpPr>
          <p:grpSpPr>
            <a:xfrm>
              <a:off x="1852200" y="5051160"/>
              <a:ext cx="244800" cy="32040"/>
              <a:chOff x="1852200" y="5051160"/>
              <a:chExt cx="244800" cy="32040"/>
            </a:xfrm>
          </p:grpSpPr>
          <p:sp>
            <p:nvSpPr>
              <p:cNvPr id="399" name="Line 52"/>
              <p:cNvSpPr/>
              <p:nvPr/>
            </p:nvSpPr>
            <p:spPr>
              <a:xfrm flipV="1">
                <a:off x="1852200" y="505116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53"/>
              <p:cNvSpPr/>
              <p:nvPr/>
            </p:nvSpPr>
            <p:spPr>
              <a:xfrm>
                <a:off x="2019960" y="50832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54"/>
              <p:cNvSpPr/>
              <p:nvPr/>
            </p:nvSpPr>
            <p:spPr>
              <a:xfrm>
                <a:off x="1932840" y="5051880"/>
                <a:ext cx="9072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55"/>
            <p:cNvGrpSpPr/>
            <p:nvPr/>
          </p:nvGrpSpPr>
          <p:grpSpPr>
            <a:xfrm>
              <a:off x="1852200" y="5253120"/>
              <a:ext cx="244800" cy="32040"/>
              <a:chOff x="1852200" y="5253120"/>
              <a:chExt cx="244800" cy="32040"/>
            </a:xfrm>
          </p:grpSpPr>
          <p:sp>
            <p:nvSpPr>
              <p:cNvPr id="403" name="Line 56"/>
              <p:cNvSpPr/>
              <p:nvPr/>
            </p:nvSpPr>
            <p:spPr>
              <a:xfrm>
                <a:off x="1852200" y="528480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57"/>
              <p:cNvSpPr/>
              <p:nvPr/>
            </p:nvSpPr>
            <p:spPr>
              <a:xfrm>
                <a:off x="2019960" y="52531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58"/>
              <p:cNvSpPr/>
              <p:nvPr/>
            </p:nvSpPr>
            <p:spPr>
              <a:xfrm flipV="1">
                <a:off x="1932840" y="5253480"/>
                <a:ext cx="9072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6" name="Line 59"/>
          <p:cNvSpPr/>
          <p:nvPr/>
        </p:nvSpPr>
        <p:spPr>
          <a:xfrm flipV="1">
            <a:off x="2263680" y="507528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0"/>
          <p:cNvSpPr/>
          <p:nvPr/>
        </p:nvSpPr>
        <p:spPr>
          <a:xfrm flipH="1" flipV="1">
            <a:off x="1552320" y="5189040"/>
            <a:ext cx="215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Object 6" descr=""/>
          <p:cNvPicPr/>
          <p:nvPr/>
        </p:nvPicPr>
        <p:blipFill>
          <a:blip r:embed="rId7"/>
          <a:stretch/>
        </p:blipFill>
        <p:spPr>
          <a:xfrm>
            <a:off x="2266920" y="57769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09" name="Line 62"/>
          <p:cNvSpPr/>
          <p:nvPr/>
        </p:nvSpPr>
        <p:spPr>
          <a:xfrm flipH="1">
            <a:off x="2655720" y="5659560"/>
            <a:ext cx="2160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63"/>
          <p:cNvGrpSpPr/>
          <p:nvPr/>
        </p:nvGrpSpPr>
        <p:grpSpPr>
          <a:xfrm>
            <a:off x="5837400" y="4959360"/>
            <a:ext cx="268200" cy="487440"/>
            <a:chOff x="5837400" y="4959360"/>
            <a:chExt cx="268200" cy="487440"/>
          </a:xfrm>
        </p:grpSpPr>
        <p:pic>
          <p:nvPicPr>
            <p:cNvPr id="411" name="Object 7" descr=""/>
            <p:cNvPicPr/>
            <p:nvPr/>
          </p:nvPicPr>
          <p:blipFill>
            <a:blip r:embed="rId8"/>
            <a:stretch/>
          </p:blipFill>
          <p:spPr>
            <a:xfrm>
              <a:off x="5845320" y="49593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65"/>
            <p:cNvSpPr/>
            <p:nvPr/>
          </p:nvSpPr>
          <p:spPr>
            <a:xfrm>
              <a:off x="5837400" y="52023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13" name="Object 8"/>
          <p:cNvGraphicFramePr/>
          <p:nvPr/>
        </p:nvGraphicFramePr>
        <p:xfrm>
          <a:off x="5548320" y="5518080"/>
          <a:ext cx="41760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8320" y="5518080"/>
                    <a:ext cx="4176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Line 67"/>
          <p:cNvSpPr/>
          <p:nvPr/>
        </p:nvSpPr>
        <p:spPr>
          <a:xfrm flipH="1">
            <a:off x="5908680" y="5432400"/>
            <a:ext cx="6336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Object 9" descr=""/>
          <p:cNvPicPr/>
          <p:nvPr/>
        </p:nvPicPr>
        <p:blipFill>
          <a:blip r:embed="rId11"/>
          <a:stretch/>
        </p:blipFill>
        <p:spPr>
          <a:xfrm>
            <a:off x="6831000" y="483228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417" name="Line 69"/>
          <p:cNvSpPr/>
          <p:nvPr/>
        </p:nvSpPr>
        <p:spPr>
          <a:xfrm flipH="1">
            <a:off x="6835680" y="5140440"/>
            <a:ext cx="1526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70"/>
          <p:cNvGrpSpPr/>
          <p:nvPr/>
        </p:nvGrpSpPr>
        <p:grpSpPr>
          <a:xfrm>
            <a:off x="6269040" y="5429160"/>
            <a:ext cx="268200" cy="487080"/>
            <a:chOff x="6269040" y="5429160"/>
            <a:chExt cx="268200" cy="487080"/>
          </a:xfrm>
        </p:grpSpPr>
        <p:pic>
          <p:nvPicPr>
            <p:cNvPr id="419" name="Object 10" descr=""/>
            <p:cNvPicPr/>
            <p:nvPr/>
          </p:nvPicPr>
          <p:blipFill>
            <a:blip r:embed="rId12"/>
            <a:stretch/>
          </p:blipFill>
          <p:spPr>
            <a:xfrm>
              <a:off x="6276960" y="54291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Rectangle 72"/>
            <p:cNvSpPr/>
            <p:nvPr/>
          </p:nvSpPr>
          <p:spPr>
            <a:xfrm>
              <a:off x="6269040" y="56718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1" name="Object 11"/>
          <p:cNvGraphicFramePr/>
          <p:nvPr/>
        </p:nvGraphicFramePr>
        <p:xfrm>
          <a:off x="6610320" y="5854680"/>
          <a:ext cx="415800" cy="330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10320" y="585468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Line 74"/>
          <p:cNvSpPr/>
          <p:nvPr/>
        </p:nvSpPr>
        <p:spPr>
          <a:xfrm>
            <a:off x="6404040" y="5915160"/>
            <a:ext cx="2412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5"/>
          <p:cNvSpPr/>
          <p:nvPr/>
        </p:nvSpPr>
        <p:spPr>
          <a:xfrm>
            <a:off x="2205360" y="638496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6"/>
          <p:cNvSpPr/>
          <p:nvPr/>
        </p:nvSpPr>
        <p:spPr>
          <a:xfrm>
            <a:off x="5544720" y="63723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 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Heterogene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re to handle heterogeneity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lication process? End hosts? Packet switch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tible process and host conven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bviate the need to support all combin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tain the unique features of each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oid changing the local network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roduce the notion of a gatew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C45-0566-412E-ADB7-BFF86A94D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work Layer and Gatew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Internetwork Lay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09120" y="16304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ternetwork appears as a single, uniform ent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Despite the heterogeneity of the local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Network of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700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atewa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797000" y="16304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mbed internetwork packets in local packet format or extract them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spcAft>
                <a:spcPts val="83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e (at internetwork level) to next gatewa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4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72F0-C574-4620-A567-E3B32063F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"/>
          <p:cNvSpPr/>
          <p:nvPr/>
        </p:nvSpPr>
        <p:spPr>
          <a:xfrm>
            <a:off x="5526000" y="4546440"/>
            <a:ext cx="2170080" cy="182592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1825920"/>
              <a:gd name="textAreaBottom" fmla="*/ 1826280 h 1825920"/>
            </a:gdLst>
            <a:ahLst/>
            <a:rect l="textAreaLeft" t="textAreaTop" r="textAreaRight" b="textAreaBottom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4"/>
          <p:cNvSpPr/>
          <p:nvPr/>
        </p:nvSpPr>
        <p:spPr>
          <a:xfrm>
            <a:off x="1027080" y="4618080"/>
            <a:ext cx="3216240" cy="1674720"/>
          </a:xfrm>
          <a:custGeom>
            <a:avLst/>
            <a:gdLst>
              <a:gd name="textAreaLeft" fmla="*/ 0 w 3216240"/>
              <a:gd name="textAreaRight" fmla="*/ 3216600 w 321624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Object 2"/>
          <p:cNvGraphicFramePr/>
          <p:nvPr/>
        </p:nvGraphicFramePr>
        <p:xfrm>
          <a:off x="3589200" y="5638680"/>
          <a:ext cx="416160" cy="3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0" y="5638680"/>
                    <a:ext cx="416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Object 3" descr=""/>
          <p:cNvPicPr/>
          <p:nvPr/>
        </p:nvPicPr>
        <p:blipFill>
          <a:blip r:embed="rId3"/>
          <a:stretch/>
        </p:blipFill>
        <p:spPr>
          <a:xfrm>
            <a:off x="2916360" y="581508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40" name="Line 7"/>
          <p:cNvSpPr/>
          <p:nvPr/>
        </p:nvSpPr>
        <p:spPr>
          <a:xfrm flipV="1">
            <a:off x="1922400" y="50590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"/>
          <p:cNvSpPr/>
          <p:nvPr/>
        </p:nvSpPr>
        <p:spPr>
          <a:xfrm>
            <a:off x="2193840" y="5143680"/>
            <a:ext cx="633600" cy="34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9"/>
          <p:cNvSpPr/>
          <p:nvPr/>
        </p:nvSpPr>
        <p:spPr>
          <a:xfrm flipH="1">
            <a:off x="3319560" y="510228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0"/>
          <p:cNvGrpSpPr/>
          <p:nvPr/>
        </p:nvGrpSpPr>
        <p:grpSpPr>
          <a:xfrm>
            <a:off x="6676920" y="4844880"/>
            <a:ext cx="268200" cy="487080"/>
            <a:chOff x="6676920" y="4844880"/>
            <a:chExt cx="268200" cy="487080"/>
          </a:xfrm>
        </p:grpSpPr>
        <p:graphicFrame>
          <p:nvGraphicFramePr>
            <p:cNvPr id="444" name="Object 4"/>
            <p:cNvGraphicFramePr/>
            <p:nvPr/>
          </p:nvGraphicFramePr>
          <p:xfrm>
            <a:off x="6684840" y="4844880"/>
            <a:ext cx="203400" cy="24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5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84840" y="4844880"/>
                      <a:ext cx="20340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6" name="Rectangle 12"/>
            <p:cNvSpPr/>
            <p:nvPr/>
          </p:nvSpPr>
          <p:spPr>
            <a:xfrm>
              <a:off x="6676920" y="508752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Line 13"/>
          <p:cNvSpPr/>
          <p:nvPr/>
        </p:nvSpPr>
        <p:spPr>
          <a:xfrm>
            <a:off x="3178080" y="558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"/>
          <p:cNvSpPr/>
          <p:nvPr/>
        </p:nvSpPr>
        <p:spPr>
          <a:xfrm flipV="1">
            <a:off x="3817800" y="50752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5"/>
          <p:cNvGrpSpPr/>
          <p:nvPr/>
        </p:nvGrpSpPr>
        <p:grpSpPr>
          <a:xfrm>
            <a:off x="3429000" y="4862160"/>
            <a:ext cx="501480" cy="235440"/>
            <a:chOff x="3429000" y="4862160"/>
            <a:chExt cx="501480" cy="235440"/>
          </a:xfrm>
        </p:grpSpPr>
        <p:sp>
          <p:nvSpPr>
            <p:cNvPr id="450" name="Oval 16"/>
            <p:cNvSpPr/>
            <p:nvPr/>
          </p:nvSpPr>
          <p:spPr>
            <a:xfrm>
              <a:off x="3432960" y="4993560"/>
              <a:ext cx="497160" cy="6336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17"/>
            <p:cNvSpPr/>
            <p:nvPr/>
          </p:nvSpPr>
          <p:spPr>
            <a:xfrm>
              <a:off x="3432960" y="498816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8"/>
            <p:cNvSpPr/>
            <p:nvPr/>
          </p:nvSpPr>
          <p:spPr>
            <a:xfrm>
              <a:off x="3930480" y="498816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9"/>
            <p:cNvSpPr/>
            <p:nvPr/>
          </p:nvSpPr>
          <p:spPr>
            <a:xfrm>
              <a:off x="3432960" y="4988160"/>
              <a:ext cx="492840" cy="385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20"/>
            <p:cNvSpPr/>
            <p:nvPr/>
          </p:nvSpPr>
          <p:spPr>
            <a:xfrm>
              <a:off x="3429000" y="4942440"/>
              <a:ext cx="496800" cy="7380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21"/>
            <p:cNvGrpSpPr/>
            <p:nvPr/>
          </p:nvGrpSpPr>
          <p:grpSpPr>
            <a:xfrm>
              <a:off x="3520800" y="4862160"/>
              <a:ext cx="244440" cy="32400"/>
              <a:chOff x="3520800" y="4862160"/>
              <a:chExt cx="244440" cy="32400"/>
            </a:xfrm>
          </p:grpSpPr>
          <p:sp>
            <p:nvSpPr>
              <p:cNvPr id="456" name="Line 22"/>
              <p:cNvSpPr/>
              <p:nvPr/>
            </p:nvSpPr>
            <p:spPr>
              <a:xfrm flipV="1">
                <a:off x="3520800" y="486216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23"/>
              <p:cNvSpPr/>
              <p:nvPr/>
            </p:nvSpPr>
            <p:spPr>
              <a:xfrm>
                <a:off x="3688560" y="489456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24"/>
              <p:cNvSpPr/>
              <p:nvPr/>
            </p:nvSpPr>
            <p:spPr>
              <a:xfrm>
                <a:off x="3601080" y="4862880"/>
                <a:ext cx="90720" cy="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5"/>
            <p:cNvGrpSpPr/>
            <p:nvPr/>
          </p:nvGrpSpPr>
          <p:grpSpPr>
            <a:xfrm>
              <a:off x="3520800" y="5065200"/>
              <a:ext cx="244440" cy="32400"/>
              <a:chOff x="3520800" y="5065200"/>
              <a:chExt cx="244440" cy="32400"/>
            </a:xfrm>
          </p:grpSpPr>
          <p:sp>
            <p:nvSpPr>
              <p:cNvPr id="460" name="Line 26"/>
              <p:cNvSpPr/>
              <p:nvPr/>
            </p:nvSpPr>
            <p:spPr>
              <a:xfrm>
                <a:off x="3520800" y="509724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7"/>
              <p:cNvSpPr/>
              <p:nvPr/>
            </p:nvSpPr>
            <p:spPr>
              <a:xfrm>
                <a:off x="3688560" y="506520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8"/>
              <p:cNvSpPr/>
              <p:nvPr/>
            </p:nvSpPr>
            <p:spPr>
              <a:xfrm flipV="1">
                <a:off x="3601080" y="5065560"/>
                <a:ext cx="90720" cy="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29"/>
          <p:cNvGrpSpPr/>
          <p:nvPr/>
        </p:nvGrpSpPr>
        <p:grpSpPr>
          <a:xfrm>
            <a:off x="2819520" y="5351040"/>
            <a:ext cx="500040" cy="234000"/>
            <a:chOff x="2819520" y="5351040"/>
            <a:chExt cx="500040" cy="234000"/>
          </a:xfrm>
        </p:grpSpPr>
        <p:sp>
          <p:nvSpPr>
            <p:cNvPr id="464" name="Oval 30"/>
            <p:cNvSpPr/>
            <p:nvPr/>
          </p:nvSpPr>
          <p:spPr>
            <a:xfrm>
              <a:off x="2823480" y="5481360"/>
              <a:ext cx="495720" cy="626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31"/>
            <p:cNvSpPr/>
            <p:nvPr/>
          </p:nvSpPr>
          <p:spPr>
            <a:xfrm>
              <a:off x="2823480" y="547596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2"/>
            <p:cNvSpPr/>
            <p:nvPr/>
          </p:nvSpPr>
          <p:spPr>
            <a:xfrm>
              <a:off x="3319560" y="547596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3"/>
            <p:cNvSpPr/>
            <p:nvPr/>
          </p:nvSpPr>
          <p:spPr>
            <a:xfrm>
              <a:off x="2823480" y="5475960"/>
              <a:ext cx="491400" cy="381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4"/>
            <p:cNvSpPr/>
            <p:nvPr/>
          </p:nvSpPr>
          <p:spPr>
            <a:xfrm>
              <a:off x="2819520" y="5430600"/>
              <a:ext cx="495360" cy="734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35"/>
            <p:cNvGrpSpPr/>
            <p:nvPr/>
          </p:nvGrpSpPr>
          <p:grpSpPr>
            <a:xfrm>
              <a:off x="2910960" y="5351040"/>
              <a:ext cx="243720" cy="32040"/>
              <a:chOff x="2910960" y="5351040"/>
              <a:chExt cx="243720" cy="32040"/>
            </a:xfrm>
          </p:grpSpPr>
          <p:sp>
            <p:nvSpPr>
              <p:cNvPr id="470" name="Line 36"/>
              <p:cNvSpPr/>
              <p:nvPr/>
            </p:nvSpPr>
            <p:spPr>
              <a:xfrm flipV="1">
                <a:off x="2910960" y="5351040"/>
                <a:ext cx="8676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37"/>
              <p:cNvSpPr/>
              <p:nvPr/>
            </p:nvSpPr>
            <p:spPr>
              <a:xfrm>
                <a:off x="3078000" y="538308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38"/>
              <p:cNvSpPr/>
              <p:nvPr/>
            </p:nvSpPr>
            <p:spPr>
              <a:xfrm>
                <a:off x="2991240" y="5351760"/>
                <a:ext cx="9036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39"/>
            <p:cNvGrpSpPr/>
            <p:nvPr/>
          </p:nvGrpSpPr>
          <p:grpSpPr>
            <a:xfrm>
              <a:off x="2910960" y="5553000"/>
              <a:ext cx="243720" cy="32040"/>
              <a:chOff x="2910960" y="5553000"/>
              <a:chExt cx="243720" cy="32040"/>
            </a:xfrm>
          </p:grpSpPr>
          <p:sp>
            <p:nvSpPr>
              <p:cNvPr id="474" name="Line 40"/>
              <p:cNvSpPr/>
              <p:nvPr/>
            </p:nvSpPr>
            <p:spPr>
              <a:xfrm>
                <a:off x="2910960" y="5584680"/>
                <a:ext cx="8676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41"/>
              <p:cNvSpPr/>
              <p:nvPr/>
            </p:nvSpPr>
            <p:spPr>
              <a:xfrm>
                <a:off x="3078000" y="5553000"/>
                <a:ext cx="7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42"/>
              <p:cNvSpPr/>
              <p:nvPr/>
            </p:nvSpPr>
            <p:spPr>
              <a:xfrm flipV="1">
                <a:off x="2991240" y="5553360"/>
                <a:ext cx="9036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Group 43"/>
          <p:cNvGrpSpPr/>
          <p:nvPr/>
        </p:nvGrpSpPr>
        <p:grpSpPr>
          <a:xfrm>
            <a:off x="1876320" y="4974840"/>
            <a:ext cx="501840" cy="234000"/>
            <a:chOff x="1876320" y="4974840"/>
            <a:chExt cx="501840" cy="234000"/>
          </a:xfrm>
        </p:grpSpPr>
        <p:sp>
          <p:nvSpPr>
            <p:cNvPr id="478" name="Oval 44"/>
            <p:cNvSpPr/>
            <p:nvPr/>
          </p:nvSpPr>
          <p:spPr>
            <a:xfrm>
              <a:off x="1880280" y="5105160"/>
              <a:ext cx="497520" cy="626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5"/>
            <p:cNvSpPr/>
            <p:nvPr/>
          </p:nvSpPr>
          <p:spPr>
            <a:xfrm>
              <a:off x="1880280" y="509976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46"/>
            <p:cNvSpPr/>
            <p:nvPr/>
          </p:nvSpPr>
          <p:spPr>
            <a:xfrm>
              <a:off x="2378160" y="5099760"/>
              <a:ext cx="0" cy="3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7"/>
            <p:cNvSpPr/>
            <p:nvPr/>
          </p:nvSpPr>
          <p:spPr>
            <a:xfrm>
              <a:off x="1880280" y="5099760"/>
              <a:ext cx="493200" cy="381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8"/>
            <p:cNvSpPr/>
            <p:nvPr/>
          </p:nvSpPr>
          <p:spPr>
            <a:xfrm>
              <a:off x="1876320" y="5054400"/>
              <a:ext cx="497160" cy="73440"/>
            </a:xfrm>
            <a:prstGeom prst="ellipse">
              <a:avLst/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49"/>
            <p:cNvGrpSpPr/>
            <p:nvPr/>
          </p:nvGrpSpPr>
          <p:grpSpPr>
            <a:xfrm>
              <a:off x="1968120" y="4974840"/>
              <a:ext cx="244800" cy="32040"/>
              <a:chOff x="1968120" y="4974840"/>
              <a:chExt cx="244800" cy="32040"/>
            </a:xfrm>
          </p:grpSpPr>
          <p:sp>
            <p:nvSpPr>
              <p:cNvPr id="484" name="Line 50"/>
              <p:cNvSpPr/>
              <p:nvPr/>
            </p:nvSpPr>
            <p:spPr>
              <a:xfrm flipV="1">
                <a:off x="1968120" y="497484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51"/>
              <p:cNvSpPr/>
              <p:nvPr/>
            </p:nvSpPr>
            <p:spPr>
              <a:xfrm>
                <a:off x="2135880" y="5006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52"/>
              <p:cNvSpPr/>
              <p:nvPr/>
            </p:nvSpPr>
            <p:spPr>
              <a:xfrm>
                <a:off x="2048760" y="4975560"/>
                <a:ext cx="9072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3"/>
            <p:cNvGrpSpPr/>
            <p:nvPr/>
          </p:nvGrpSpPr>
          <p:grpSpPr>
            <a:xfrm>
              <a:off x="1968120" y="5176800"/>
              <a:ext cx="244800" cy="32040"/>
              <a:chOff x="1968120" y="5176800"/>
              <a:chExt cx="244800" cy="32040"/>
            </a:xfrm>
          </p:grpSpPr>
          <p:sp>
            <p:nvSpPr>
              <p:cNvPr id="488" name="Line 54"/>
              <p:cNvSpPr/>
              <p:nvPr/>
            </p:nvSpPr>
            <p:spPr>
              <a:xfrm>
                <a:off x="1968120" y="5208480"/>
                <a:ext cx="8712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55"/>
              <p:cNvSpPr/>
              <p:nvPr/>
            </p:nvSpPr>
            <p:spPr>
              <a:xfrm>
                <a:off x="2135880" y="51768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56"/>
              <p:cNvSpPr/>
              <p:nvPr/>
            </p:nvSpPr>
            <p:spPr>
              <a:xfrm flipV="1">
                <a:off x="2048760" y="5177160"/>
                <a:ext cx="90720" cy="30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Line 57"/>
          <p:cNvSpPr/>
          <p:nvPr/>
        </p:nvSpPr>
        <p:spPr>
          <a:xfrm flipV="1">
            <a:off x="2379600" y="4998600"/>
            <a:ext cx="1015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8"/>
          <p:cNvSpPr/>
          <p:nvPr/>
        </p:nvSpPr>
        <p:spPr>
          <a:xfrm flipH="1" flipV="1">
            <a:off x="1668240" y="5113440"/>
            <a:ext cx="215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Object 5" descr=""/>
          <p:cNvPicPr/>
          <p:nvPr/>
        </p:nvPicPr>
        <p:blipFill>
          <a:blip r:embed="rId6"/>
          <a:stretch/>
        </p:blipFill>
        <p:spPr>
          <a:xfrm>
            <a:off x="2382840" y="5700600"/>
            <a:ext cx="415800" cy="330480"/>
          </a:xfrm>
          <a:prstGeom prst="rect">
            <a:avLst/>
          </a:prstGeom>
          <a:ln w="0">
            <a:noFill/>
          </a:ln>
        </p:spPr>
      </p:pic>
      <p:sp>
        <p:nvSpPr>
          <p:cNvPr id="494" name="Line 60"/>
          <p:cNvSpPr/>
          <p:nvPr/>
        </p:nvSpPr>
        <p:spPr>
          <a:xfrm flipH="1">
            <a:off x="2771640" y="558324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1"/>
          <p:cNvGrpSpPr/>
          <p:nvPr/>
        </p:nvGrpSpPr>
        <p:grpSpPr>
          <a:xfrm>
            <a:off x="5952960" y="4883040"/>
            <a:ext cx="268200" cy="487440"/>
            <a:chOff x="5952960" y="4883040"/>
            <a:chExt cx="268200" cy="487440"/>
          </a:xfrm>
        </p:grpSpPr>
        <p:pic>
          <p:nvPicPr>
            <p:cNvPr id="496" name="Object 6" descr=""/>
            <p:cNvPicPr/>
            <p:nvPr/>
          </p:nvPicPr>
          <p:blipFill>
            <a:blip r:embed="rId7"/>
            <a:stretch/>
          </p:blipFill>
          <p:spPr>
            <a:xfrm>
              <a:off x="5960880" y="488304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Rectangle 63"/>
            <p:cNvSpPr/>
            <p:nvPr/>
          </p:nvSpPr>
          <p:spPr>
            <a:xfrm>
              <a:off x="5952960" y="51260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Object 7" descr=""/>
          <p:cNvPicPr/>
          <p:nvPr/>
        </p:nvPicPr>
        <p:blipFill>
          <a:blip r:embed="rId8"/>
          <a:stretch/>
        </p:blipFill>
        <p:spPr>
          <a:xfrm>
            <a:off x="5664240" y="544212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499" name="Line 65"/>
          <p:cNvSpPr/>
          <p:nvPr/>
        </p:nvSpPr>
        <p:spPr>
          <a:xfrm flipH="1">
            <a:off x="6024600" y="5356080"/>
            <a:ext cx="6336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6"/>
          <p:cNvSpPr/>
          <p:nvPr/>
        </p:nvSpPr>
        <p:spPr>
          <a:xfrm flipH="1">
            <a:off x="6951600" y="5064120"/>
            <a:ext cx="15264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67"/>
          <p:cNvGrpSpPr/>
          <p:nvPr/>
        </p:nvGrpSpPr>
        <p:grpSpPr>
          <a:xfrm>
            <a:off x="6384960" y="5353200"/>
            <a:ext cx="268200" cy="487080"/>
            <a:chOff x="6384960" y="5353200"/>
            <a:chExt cx="268200" cy="487080"/>
          </a:xfrm>
        </p:grpSpPr>
        <p:pic>
          <p:nvPicPr>
            <p:cNvPr id="502" name="Object 8" descr=""/>
            <p:cNvPicPr/>
            <p:nvPr/>
          </p:nvPicPr>
          <p:blipFill>
            <a:blip r:embed="rId9"/>
            <a:stretch/>
          </p:blipFill>
          <p:spPr>
            <a:xfrm>
              <a:off x="6392880" y="53532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Rectangle 69"/>
            <p:cNvSpPr/>
            <p:nvPr/>
          </p:nvSpPr>
          <p:spPr>
            <a:xfrm>
              <a:off x="6384960" y="55958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4" name="Object 9"/>
          <p:cNvGraphicFramePr/>
          <p:nvPr/>
        </p:nvGraphicFramePr>
        <p:xfrm>
          <a:off x="6726240" y="5778360"/>
          <a:ext cx="41580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05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726240" y="5778360"/>
                    <a:ext cx="4158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Line 71"/>
          <p:cNvSpPr/>
          <p:nvPr/>
        </p:nvSpPr>
        <p:spPr>
          <a:xfrm>
            <a:off x="6519960" y="5838840"/>
            <a:ext cx="2412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2"/>
          <p:cNvSpPr/>
          <p:nvPr/>
        </p:nvSpPr>
        <p:spPr>
          <a:xfrm>
            <a:off x="2321280" y="63086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3"/>
          <p:cNvSpPr/>
          <p:nvPr/>
        </p:nvSpPr>
        <p:spPr>
          <a:xfrm>
            <a:off x="5660640" y="629604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atellite 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4"/>
          <p:cNvSpPr/>
          <p:nvPr/>
        </p:nvSpPr>
        <p:spPr>
          <a:xfrm>
            <a:off x="4367160" y="4335480"/>
            <a:ext cx="317520" cy="698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5"/>
          <p:cNvSpPr/>
          <p:nvPr/>
        </p:nvSpPr>
        <p:spPr>
          <a:xfrm flipV="1">
            <a:off x="3916440" y="4834080"/>
            <a:ext cx="44460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6"/>
          <p:cNvSpPr/>
          <p:nvPr/>
        </p:nvSpPr>
        <p:spPr>
          <a:xfrm>
            <a:off x="4995720" y="4784760"/>
            <a:ext cx="93996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8"/>
          <p:cNvSpPr/>
          <p:nvPr/>
        </p:nvSpPr>
        <p:spPr>
          <a:xfrm>
            <a:off x="4684680" y="4335480"/>
            <a:ext cx="317520" cy="698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9"/>
          <p:cNvSpPr/>
          <p:nvPr/>
        </p:nvSpPr>
        <p:spPr>
          <a:xfrm>
            <a:off x="4057560" y="505152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0"/>
          <p:cNvSpPr/>
          <p:nvPr/>
        </p:nvSpPr>
        <p:spPr>
          <a:xfrm>
            <a:off x="4367160" y="4335480"/>
            <a:ext cx="635040" cy="711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Object 10" descr=""/>
          <p:cNvPicPr/>
          <p:nvPr/>
        </p:nvPicPr>
        <p:blipFill>
          <a:blip r:embed="rId12"/>
          <a:stretch/>
        </p:blipFill>
        <p:spPr>
          <a:xfrm>
            <a:off x="6946920" y="4756320"/>
            <a:ext cx="417600" cy="331560"/>
          </a:xfrm>
          <a:prstGeom prst="rect">
            <a:avLst/>
          </a:prstGeom>
          <a:ln w="0">
            <a:noFill/>
          </a:ln>
        </p:spPr>
      </p:pic>
      <p:pic>
        <p:nvPicPr>
          <p:cNvPr id="516" name="Object 11" descr=""/>
          <p:cNvPicPr/>
          <p:nvPr/>
        </p:nvPicPr>
        <p:blipFill>
          <a:blip r:embed="rId13"/>
          <a:stretch/>
        </p:blipFill>
        <p:spPr>
          <a:xfrm>
            <a:off x="1308240" y="4921200"/>
            <a:ext cx="417240" cy="33192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85"/>
          <p:cNvGrpSpPr/>
          <p:nvPr/>
        </p:nvGrpSpPr>
        <p:grpSpPr>
          <a:xfrm>
            <a:off x="1257480" y="3573360"/>
            <a:ext cx="6413400" cy="1117440"/>
            <a:chOff x="1257480" y="3573360"/>
            <a:chExt cx="6413400" cy="1117440"/>
          </a:xfrm>
        </p:grpSpPr>
        <p:sp>
          <p:nvSpPr>
            <p:cNvPr id="518" name="Rectangle 86"/>
            <p:cNvSpPr/>
            <p:nvPr/>
          </p:nvSpPr>
          <p:spPr>
            <a:xfrm>
              <a:off x="1257480" y="3649680"/>
              <a:ext cx="641340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87"/>
            <p:cNvSpPr/>
            <p:nvPr/>
          </p:nvSpPr>
          <p:spPr>
            <a:xfrm>
              <a:off x="1384200" y="3598560"/>
              <a:ext cx="266400" cy="1092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88"/>
            <p:cNvSpPr/>
            <p:nvPr/>
          </p:nvSpPr>
          <p:spPr>
            <a:xfrm>
              <a:off x="7022880" y="3573360"/>
              <a:ext cx="266400" cy="10922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89"/>
            <p:cNvSpPr/>
            <p:nvPr/>
          </p:nvSpPr>
          <p:spPr>
            <a:xfrm>
              <a:off x="4356000" y="3636720"/>
              <a:ext cx="685440" cy="317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etwork Packe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6840" y="2742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network header in standard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preted by the gateways and end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urce and destination addre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iformly and uniquely identify every h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sure proper sequencing of the dat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lude a sequence number and byte c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able detection of corrupted tex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sum for an end-to-end check on the tex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880A-A858-4185-9652-41BF93425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218600" y="1808280"/>
            <a:ext cx="89532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5897520" y="1819440"/>
            <a:ext cx="615960" cy="580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6454800" y="1812960"/>
            <a:ext cx="1198800" cy="580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37"/>
          <p:cNvGrpSpPr/>
          <p:nvPr/>
        </p:nvGrpSpPr>
        <p:grpSpPr>
          <a:xfrm>
            <a:off x="2084400" y="1806480"/>
            <a:ext cx="3799800" cy="580680"/>
            <a:chOff x="2084400" y="1806480"/>
            <a:chExt cx="3799800" cy="580680"/>
          </a:xfrm>
        </p:grpSpPr>
        <p:sp>
          <p:nvSpPr>
            <p:cNvPr id="529" name="Text Box 7"/>
            <p:cNvSpPr/>
            <p:nvPr/>
          </p:nvSpPr>
          <p:spPr>
            <a:xfrm>
              <a:off x="2084400" y="1806480"/>
              <a:ext cx="97164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our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8"/>
            <p:cNvSpPr/>
            <p:nvPr/>
          </p:nvSpPr>
          <p:spPr>
            <a:xfrm>
              <a:off x="3025800" y="1806480"/>
              <a:ext cx="97164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est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9"/>
            <p:cNvSpPr/>
            <p:nvPr/>
          </p:nvSpPr>
          <p:spPr>
            <a:xfrm>
              <a:off x="3977640" y="1806480"/>
              <a:ext cx="58752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eq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#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10"/>
            <p:cNvSpPr/>
            <p:nvPr/>
          </p:nvSpPr>
          <p:spPr>
            <a:xfrm>
              <a:off x="4515480" y="1806480"/>
              <a:ext cx="76284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y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oun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11"/>
            <p:cNvSpPr/>
            <p:nvPr/>
          </p:nvSpPr>
          <p:spPr>
            <a:xfrm>
              <a:off x="5252400" y="1806480"/>
              <a:ext cx="6318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lag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fiel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AutoShape 40"/>
          <p:cNvSpPr/>
          <p:nvPr/>
        </p:nvSpPr>
        <p:spPr>
          <a:xfrm rot="16200000">
            <a:off x="3899520" y="-266040"/>
            <a:ext cx="95400" cy="3697200"/>
          </a:xfrm>
          <a:custGeom>
            <a:avLst/>
            <a:gdLst>
              <a:gd name="textAreaLeft" fmla="*/ 0 w 95400"/>
              <a:gd name="textAreaRight" fmla="*/ 66960 w 95400"/>
              <a:gd name="textAreaTop" fmla="*/ 153720 h 3697200"/>
              <a:gd name="textAreaBottom" fmla="*/ 3543480 h 369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666160" y="106668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work 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-Level Commun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able pairs of processes to communicat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bounded but finite-length messa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.g., keystrokes or a fi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Key idea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rt numbers to (de)multiplex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reaking messages into seg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quence numbers and reassemb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ransmission and duplicate det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ndow-based flow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6CB7-23CE-4CE6-9014-3E6B3EF6A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Role of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twork discovery and bootstrapp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does the host join the net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does the host get an addres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face to networked applica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interface to higher-level application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does the host realize that abstrac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istributed resource shar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roles does the host play in network resource allocation decision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688C-BD83-4D04-93EF-763776BFB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id they get right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ideas were key to the Internet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 succes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decisions still seem right toda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did they miss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ideas had to be added lat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decisions seem wrong in hindsigh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would you do in a clean-slate desig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your goal was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to support communication between disparate packet-switched net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uld you do anything differentl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5EC9-C4D0-4C40-BA93-28DB350AC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 Saltzer, D. Reed, and D. Cla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311040" y="2111040"/>
            <a:ext cx="8832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nd-to-End Arguments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 System Design</a:t>
            </a:r>
            <a:r>
              <a:rPr b="1" lang="ja-JP" sz="36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M Trans. on Computer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ovember 198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-to-End Argu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rations should occur only at the end poi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less needed for performance optim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2E60-7BBF-4F03-9A79-0B94B944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j0285750"/>
          <p:cNvPicPr/>
          <p:nvPr/>
        </p:nvPicPr>
        <p:blipFill>
          <a:blip r:embed="rId1"/>
          <a:stretch/>
        </p:blipFill>
        <p:spPr>
          <a:xfrm>
            <a:off x="1027080" y="3124080"/>
            <a:ext cx="1824120" cy="11210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j0285750"/>
          <p:cNvPicPr/>
          <p:nvPr/>
        </p:nvPicPr>
        <p:blipFill>
          <a:blip r:embed="rId2"/>
          <a:stretch/>
        </p:blipFill>
        <p:spPr>
          <a:xfrm flipH="1">
            <a:off x="6894000" y="3124080"/>
            <a:ext cx="1824120" cy="1121040"/>
          </a:xfrm>
          <a:prstGeom prst="rect">
            <a:avLst/>
          </a:prstGeom>
          <a:ln w="0">
            <a:noFill/>
          </a:ln>
        </p:spPr>
      </p:pic>
      <p:sp>
        <p:nvSpPr>
          <p:cNvPr id="549" name="Cloud"/>
          <p:cNvSpPr/>
          <p:nvPr/>
        </p:nvSpPr>
        <p:spPr>
          <a:xfrm>
            <a:off x="3389400" y="2895480"/>
            <a:ext cx="2743200" cy="1838520"/>
          </a:xfrm>
          <a:custGeom>
            <a:avLst/>
            <a:gdLst>
              <a:gd name="textAreaLeft" fmla="*/ 378000 w 2743200"/>
              <a:gd name="textAreaRight" fmla="*/ 2170080 w 2743200"/>
              <a:gd name="textAreaTop" fmla="*/ 277560 h 1838520"/>
              <a:gd name="textAreaBottom" fmla="*/ 1475640 h 1838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7"/>
          <p:cNvSpPr/>
          <p:nvPr/>
        </p:nvSpPr>
        <p:spPr>
          <a:xfrm>
            <a:off x="1027080" y="4572000"/>
            <a:ext cx="457200" cy="609480"/>
          </a:xfrm>
          <a:prstGeom prst="flowChartMagneticDisk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8"/>
          <p:cNvSpPr/>
          <p:nvPr/>
        </p:nvSpPr>
        <p:spPr>
          <a:xfrm>
            <a:off x="8265960" y="4648320"/>
            <a:ext cx="457200" cy="609480"/>
          </a:xfrm>
          <a:prstGeom prst="flowChartMagneticDisk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9" descr="0xx1z3fp[1]"/>
          <p:cNvPicPr/>
          <p:nvPr/>
        </p:nvPicPr>
        <p:blipFill>
          <a:blip r:embed="rId3"/>
          <a:stretch/>
        </p:blipFill>
        <p:spPr>
          <a:xfrm>
            <a:off x="493560" y="5124600"/>
            <a:ext cx="1019160" cy="819000"/>
          </a:xfrm>
          <a:prstGeom prst="rect">
            <a:avLst/>
          </a:prstGeom>
          <a:ln w="0">
            <a:noFill/>
          </a:ln>
        </p:spPr>
      </p:pic>
      <p:grpSp>
        <p:nvGrpSpPr>
          <p:cNvPr id="553" name="Group 10"/>
          <p:cNvGrpSpPr/>
          <p:nvPr/>
        </p:nvGrpSpPr>
        <p:grpSpPr>
          <a:xfrm>
            <a:off x="1332000" y="2666880"/>
            <a:ext cx="1447560" cy="990720"/>
            <a:chOff x="1332000" y="2666880"/>
            <a:chExt cx="1447560" cy="990720"/>
          </a:xfrm>
        </p:grpSpPr>
        <p:sp>
          <p:nvSpPr>
            <p:cNvPr id="554" name="Line 11"/>
            <p:cNvSpPr/>
            <p:nvPr/>
          </p:nvSpPr>
          <p:spPr>
            <a:xfrm>
              <a:off x="1332000" y="3657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1807200" y="2666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3"/>
          <p:cNvGrpSpPr/>
          <p:nvPr/>
        </p:nvGrpSpPr>
        <p:grpSpPr>
          <a:xfrm>
            <a:off x="6818400" y="2666880"/>
            <a:ext cx="1447560" cy="990720"/>
            <a:chOff x="6818400" y="2666880"/>
            <a:chExt cx="1447560" cy="990720"/>
          </a:xfrm>
        </p:grpSpPr>
        <p:sp>
          <p:nvSpPr>
            <p:cNvPr id="557" name="Line 14"/>
            <p:cNvSpPr/>
            <p:nvPr/>
          </p:nvSpPr>
          <p:spPr>
            <a:xfrm>
              <a:off x="6818400" y="3657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5"/>
            <p:cNvSpPr/>
            <p:nvPr/>
          </p:nvSpPr>
          <p:spPr>
            <a:xfrm>
              <a:off x="7598520" y="2666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6"/>
          <p:cNvGrpSpPr/>
          <p:nvPr/>
        </p:nvGrpSpPr>
        <p:grpSpPr>
          <a:xfrm>
            <a:off x="8494560" y="3809880"/>
            <a:ext cx="554400" cy="685800"/>
            <a:chOff x="8494560" y="3809880"/>
            <a:chExt cx="554400" cy="685800"/>
          </a:xfrm>
        </p:grpSpPr>
        <p:sp>
          <p:nvSpPr>
            <p:cNvPr id="560" name="Line 17"/>
            <p:cNvSpPr/>
            <p:nvPr/>
          </p:nvSpPr>
          <p:spPr>
            <a:xfrm>
              <a:off x="8494560" y="38098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8"/>
            <p:cNvSpPr/>
            <p:nvPr/>
          </p:nvSpPr>
          <p:spPr>
            <a:xfrm>
              <a:off x="8665560" y="3886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Group 19"/>
          <p:cNvGrpSpPr/>
          <p:nvPr/>
        </p:nvGrpSpPr>
        <p:grpSpPr>
          <a:xfrm>
            <a:off x="2855880" y="3657600"/>
            <a:ext cx="3886200" cy="596880"/>
            <a:chOff x="2855880" y="3657600"/>
            <a:chExt cx="3886200" cy="596880"/>
          </a:xfrm>
        </p:grpSpPr>
        <p:sp>
          <p:nvSpPr>
            <p:cNvPr id="563" name="Line 20"/>
            <p:cNvSpPr/>
            <p:nvPr/>
          </p:nvSpPr>
          <p:spPr>
            <a:xfrm>
              <a:off x="2855880" y="365760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21"/>
            <p:cNvSpPr/>
            <p:nvPr/>
          </p:nvSpPr>
          <p:spPr>
            <a:xfrm>
              <a:off x="4627080" y="37339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22"/>
          <p:cNvGrpSpPr/>
          <p:nvPr/>
        </p:nvGrpSpPr>
        <p:grpSpPr>
          <a:xfrm>
            <a:off x="740880" y="3809520"/>
            <a:ext cx="514800" cy="685800"/>
            <a:chOff x="740880" y="3809520"/>
            <a:chExt cx="514800" cy="685800"/>
          </a:xfrm>
        </p:grpSpPr>
        <p:sp>
          <p:nvSpPr>
            <p:cNvPr id="566" name="Line 23"/>
            <p:cNvSpPr/>
            <p:nvPr/>
          </p:nvSpPr>
          <p:spPr>
            <a:xfrm flipV="1">
              <a:off x="1255680" y="3809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4"/>
            <p:cNvSpPr/>
            <p:nvPr/>
          </p:nvSpPr>
          <p:spPr>
            <a:xfrm>
              <a:off x="740880" y="3886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TextBox 26"/>
          <p:cNvSpPr/>
          <p:nvPr/>
        </p:nvSpPr>
        <p:spPr>
          <a:xfrm>
            <a:off x="1752480" y="591804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ngs can go wrong: disk errors, software errors, hardware errors, communication errors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de-Off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ut functionality at each hop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 applications pay the pri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d systems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still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ed to check for err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lace functionality only at the end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lower error det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d-to-end retransmission wastes bandwid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romise solution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liable end-to-end transport protocol (TC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us file checksums to detect file-system err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0EAD-A307-4D87-B7BB-5F8420205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should the network support a function anyway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link-layer retransmission in wireless network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’s interests are served by the e2e argumen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es a network operator influence the network without violating the e2e argumen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es the design of IP and TCP make i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har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to violate the e2e argumen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middlebox functionality like NATs, firewalls, prox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the e2e argument apply to rout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76D6-996C-4CEC-B9F6-5EA954882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etwork Discovery and Bootstra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72D7-E516-440C-81EB-D55CB50AC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Between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41DF-82E4-4DCE-BD61-8199C9A75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1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3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1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3975840" y="2060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5"/>
          <p:cNvSpPr/>
          <p:nvPr/>
        </p:nvSpPr>
        <p:spPr>
          <a:xfrm>
            <a:off x="4577040" y="4734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Kinds of Identifi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335240"/>
          <a:ext cx="8458200" cy="5030640"/>
        </p:xfrm>
        <a:graphic>
          <a:graphicData uri="http://schemas.openxmlformats.org/drawingml/2006/table">
            <a:tbl>
              <a:tblPr/>
              <a:tblGrid>
                <a:gridCol w="1295280"/>
                <a:gridCol w="2514600"/>
                <a:gridCol w="2362320"/>
                <a:gridCol w="228600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t 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P Addr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 Addr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ww.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2e2eff"/>
                          </a:solidFill>
                          <a:latin typeface="Arial"/>
                        </a:rPr>
                        <a:t>princeton.ed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e2eff"/>
                          </a:solidFill>
                          <a:latin typeface="Arial"/>
                        </a:rPr>
                        <a:t>128.112.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.1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2e2eff"/>
                          </a:solidFill>
                          <a:latin typeface="Arial"/>
                        </a:rPr>
                        <a:t>00-15-C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9-04-A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archical, human readable, variable lengt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archical, machine readable, 32 bits (in IPv4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t, machine readable, 48 bi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by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s, hos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route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es in L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5c5cff"/>
                          </a:solidFill>
                          <a:latin typeface="Arial"/>
                        </a:rPr>
                        <a:t>Allocation, top-lev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, assigned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registrar (e.g., for .edu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-length prefixes, assigned by ICANN, RIR, or IS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-sized blocks, assigned by IEEE to vendors (e.g., Dell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location, low-lev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name, local administra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, by DHC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an administra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, by vend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</a:tbl>
          </a:graphicData>
        </a:graphic>
      </p:graphicFrame>
      <p:sp>
        <p:nvSpPr>
          <p:cNvPr id="14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64EF-55B8-4286-8A84-56B4A9571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009800" y="1219320"/>
            <a:ext cx="119988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387440" cy="2031840"/>
          </a:xfrm>
          <a:prstGeom prst="rect">
            <a:avLst/>
          </a:prstGeom>
          <a:ln w="0">
            <a:noFill/>
          </a:ln>
        </p:spPr>
      </p:pic>
      <p:sp>
        <p:nvSpPr>
          <p:cNvPr id="152" name="Straight Connector 11"/>
          <p:cNvSpPr/>
          <p:nvPr/>
        </p:nvSpPr>
        <p:spPr>
          <a:xfrm>
            <a:off x="5638680" y="2209680"/>
            <a:ext cx="121932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"/>
          <p:cNvSpPr/>
          <p:nvPr/>
        </p:nvSpPr>
        <p:spPr>
          <a:xfrm>
            <a:off x="2819520" y="2209680"/>
            <a:ext cx="12189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a Hos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 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32763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 am I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-wired: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tic configuration: IP interface configur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ynamically learned: IP address configured by DH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ard-wired: IP address in a URL, or in the cod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ynamically looked up: ARP or D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458E-4994-48FD-8DA3-8FB306B45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3657600" y="1371600"/>
          <a:ext cx="23814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371600"/>
                    <a:ext cx="2381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Box 17"/>
          <p:cNvSpPr/>
          <p:nvPr/>
        </p:nvSpPr>
        <p:spPr>
          <a:xfrm>
            <a:off x="514080" y="196200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8201880" y="203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2057400" y="2057400"/>
            <a:ext cx="76212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138760" y="24382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6705720" y="2057400"/>
            <a:ext cx="76176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6253560" y="24382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4A0A-3286-49AA-8CA7-695C21BA0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pping Between Identifi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ynamic Host Configuration Protocol (DHC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 MAC address, assign a unique IP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ell host other stuff about the Local Area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utomate the boot-strapping proc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ress Resolution Protocol (ARP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n IP address, provide the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enable communication within the Local Area Net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main Name System (DNS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 host name, provide the IP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n IP address, provide the host na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F0F-DB56-42D0-9638-F66B48452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Host Configuration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j0285750"/>
          <p:cNvPicPr/>
          <p:nvPr/>
        </p:nvPicPr>
        <p:blipFill>
          <a:blip r:embed="rId1"/>
          <a:stretch/>
        </p:blipFill>
        <p:spPr>
          <a:xfrm>
            <a:off x="6837480" y="1469880"/>
            <a:ext cx="2458800" cy="1511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j0195384"/>
          <p:cNvPicPr/>
          <p:nvPr/>
        </p:nvPicPr>
        <p:blipFill>
          <a:blip r:embed="rId2"/>
          <a:stretch/>
        </p:blipFill>
        <p:spPr>
          <a:xfrm flipH="1">
            <a:off x="1372680" y="1219320"/>
            <a:ext cx="1327320" cy="135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8"/>
          <p:cNvSpPr/>
          <p:nvPr/>
        </p:nvSpPr>
        <p:spPr>
          <a:xfrm>
            <a:off x="1523880" y="266688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7092360" y="304488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2727360" y="1816200"/>
            <a:ext cx="4032360" cy="998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 rot="795000">
            <a:off x="3569400" y="184140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HCP disco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 rot="795000">
            <a:off x="3570480" y="22251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broadca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 flipH="1">
            <a:off x="2688840" y="2968560"/>
            <a:ext cx="4032360" cy="998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 rot="20751600">
            <a:off x="3646440" y="312084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HCP of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2727360" y="4119480"/>
            <a:ext cx="4032360" cy="99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 rot="795000">
            <a:off x="3634920" y="41450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HCP requ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 flipH="1">
            <a:off x="2688840" y="5310360"/>
            <a:ext cx="4032360" cy="99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 rot="20751600">
            <a:off x="3652560" y="546228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HCP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 rot="795000">
            <a:off x="3570480" y="453024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broadca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228600" y="3549600"/>
            <a:ext cx="24382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ost lear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addres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net mask, Gateway address, DNS server(s), and a lease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35:27Z</dcterms:created>
  <dc:creator>Kai Li</dc:creator>
  <dc:description/>
  <dc:language>en-US</dc:language>
  <cp:lastModifiedBy>Jen</cp:lastModifiedBy>
  <cp:lastPrinted>2010-09-03T01:37:19Z</cp:lastPrinted>
  <dcterms:modified xsi:type="dcterms:W3CDTF">2017-09-11T17:25:25Z</dcterms:modified>
  <cp:revision>2436</cp:revision>
  <dc:subject/>
  <dc:title>Communication</dc:title>
</cp:coreProperties>
</file>