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jpeg" ContentType="image/jpeg"/>
  <Override PartName="/ppt/media/image16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7BC833E-B773-4300-B330-7AD674487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D2549E-7004-4DFE-A081-65AAC29A271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self what is the real difference between these components?  Do we need to think of them as distinc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 common piece of hardware support many of these function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ever need to do more than one of these functions at the same time and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964226-FFD3-483C-A0AA-7D9CE6BEE9E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F5E2BB-B72F-4567-AB6D-EBBDC68A07D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cid = really awesome new cisco config di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73C8DAB-0448-4701-AF9F-038BE9D30F1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B27BA5-6C22-4EAC-AB8B-8FD306C4BF6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D8172C3-37BB-4E33-A1E9-237FECB7E74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50752F-9424-455A-9519-98AB7505234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048B72D-8527-4283-805C-F561456A0D9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5148483-127A-4386-9869-2C51CF64DFA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B98109-E028-4984-BC10-CD70144E122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65400" y="72864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2720" y="4560480"/>
            <a:ext cx="5367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7EF570C-7047-4587-8C38-C8436C85110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2773F3C-6407-4889-99CD-21209EDBF65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 this in mind when you write your papers, so the readers (and reviewers) decide to read further…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391661-6A00-4B74-B830-1BC80438462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3B7092-E171-4DEA-AB5B-5E5AA5704FD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: 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: transpor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: 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: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: enterprise/edg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: other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ave three or four letters, except IP has just two.  But IP is special, as it is the center of the known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F57172-C201-40E1-BB6D-88B910640A3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er formats have gotten more colorful in recent years, but they are still awfully boring. Zzzzz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seen the lego version of the IP and TCP hea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CFBB13-A01F-4407-BF62-2BAC00B3BE8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7223-4470-4EAC-8F2A-151DF3E42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D060-1D70-45FE-9500-E2667597A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A59A-7D38-4634-A0F5-A7685F481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0B03-C389-4EF2-A460-71DA1C54C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C6AD-6CBE-4DFE-989E-D540E51CB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36C3-8780-44A3-A30E-FFCFF40FB0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441A-DC1A-4277-BB5A-35F687AB1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D949-8F5F-45E3-A9E6-156A8BEC59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6BCF-7A4B-4B83-AE91-E2509D0AC2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3974-B70B-4592-831E-FFD0D9B994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112D-F06D-441B-B01C-93F884F18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ADC9-9CBE-4FF7-9583-728746001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D6B1-4CF4-4DE7-927F-B5CFB1711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A695-6056-46DB-8229-CD76E9AFF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3FBD-42E9-47E3-96C2-27ACA4DFC5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6DD5-7838-4618-A1A6-158C0C1955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0D51-D46D-438D-AAD1-C33407E7A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5B16-5F01-4FB7-867A-252F55181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1BA4-0073-4AE8-89CE-995A9E43A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4545-2583-49AE-A964-E37B68C52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54F6-1EEA-40FB-B8CC-D75D54113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A9B8-D0D6-429F-8C20-80D52F0A9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680F-52F4-4296-B494-2C1EF5917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9D08-DA8A-411D-B605-390EF19FD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7C37-1C4B-4B6E-AC3F-B38562539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2DCE-0F38-4AB8-BA79-07C3E6CF8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rbeckett@princeton.edu" TargetMode="External"/><Relationship Id="rId2" Type="http://schemas.openxmlformats.org/officeDocument/2006/relationships/hyperlink" Target="mailto:yixins@cs.princeton.edu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9600" y="19807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S 561: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dvanced Computer Net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390024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ig Bunch of Box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759-ED64-4E75-96AC-81AB323DF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842400" y="16765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243920" y="16002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987560" y="44956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984240" y="480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4120920" y="144792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880880" y="40384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2747160" y="56386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034240" y="2895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660840" y="4800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320600" y="24382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4348080" y="579132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6938640" y="5791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540360" y="571500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1300320" y="27432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3053160" y="297180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899040" y="434340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330240" y="304812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2292480" y="1523880"/>
            <a:ext cx="12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5416920" y="22096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ub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5493960" y="518148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if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464040" y="3276720"/>
            <a:ext cx="14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on of Too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F2C9-B81E-4CD0-9ABE-E9EB3C886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207080" y="2438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4541760" y="2209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loo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3620520" y="4876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5755680" y="36576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220760" y="40384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c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994840" y="36576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5789160" y="15238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du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4665960" y="5562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sha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222200" y="56386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6279120" y="5105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e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2445480" y="59436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my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748240" y="1752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6959520" y="28195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3889800" y="3048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7"/>
          <p:cNvSpPr/>
          <p:nvPr/>
        </p:nvSpPr>
        <p:spPr>
          <a:xfrm>
            <a:off x="7492680" y="46483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691560" y="15238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w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7166520" y="5943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0"/>
          <p:cNvSpPr/>
          <p:nvPr/>
        </p:nvSpPr>
        <p:spPr>
          <a:xfrm>
            <a:off x="577800" y="3352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1"/>
          <p:cNvSpPr/>
          <p:nvPr/>
        </p:nvSpPr>
        <p:spPr>
          <a:xfrm>
            <a:off x="4575600" y="4267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766080" y="48769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7321680" y="1981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834560" y="4724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-sn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on of Too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5478-57BD-47DB-8CB1-17084234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207080" y="2438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4541760" y="2209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loo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620520" y="4876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5755680" y="36576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992880" y="3889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n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2994840" y="36576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789160" y="15238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du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4665960" y="5562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sha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1222200" y="56386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79120" y="5105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e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445480" y="59436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my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2748240" y="1752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6959520" y="28195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3889800" y="3048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7492680" y="46483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691560" y="15238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w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7166520" y="5943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577800" y="3352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4575600" y="4267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2"/>
          <p:cNvSpPr/>
          <p:nvPr/>
        </p:nvSpPr>
        <p:spPr>
          <a:xfrm>
            <a:off x="766080" y="48769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7321680" y="1981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834560" y="4724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-sn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Peers in Other Fields S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networking people are very curious.  You really love your artifacts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my college networking class I fell asleep at the start of the semester when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P head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was on the screen, and woke up at the end of the semester with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CP heade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the screen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ing is all details and no principles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 461 final. ARP, DHCP, ICMP, IGMP, IP, SONET, TCP, UDP, FML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from princetonfml.com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2CD0-EE43-49E4-841D-B7805D860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2251440" y="6172200"/>
            <a:ext cx="44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etworking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the (arti)fact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Peers in Other Fields S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tworking papers are strange.  They have a lot of text.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are the top ten classic problems in networking?  I would like to solve one of them and submit a paper to SIGCOMM.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fter hearing that we don't have such a list: "Then how do you consider networking a discipline?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, these networking research people today aren't doing theory, and yet they aren't the people who brought us the Internet.  What exactly are they doing?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tworking is an opportunistic discipline.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E652-8062-470D-BD1E-FDB103973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024200" y="6172200"/>
            <a:ext cx="72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etworking a problem domain or a scholarly discipli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ut, That Doesn’t Say What Networking Really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What Will This Course Be Abou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8BAB-EC9A-488C-B965-37A97C863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e Take on Defining Netwo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and manag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rotocol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can be used an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ombined in many way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d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any th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finition and placement of fun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o do, and where to do 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vision of labor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ross multiple protocols and mechanis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ross components (hosts, routers, administrato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: search for general princi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protocol design, evaluation, and 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9EC7-D371-4BD5-AD6D-FE936FBBD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Network Protoco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les that govern communicatio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to identify the devices and establish 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 format (syntax) and meaning (semantic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ributed solution to a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iver an ordered, reliable stream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re link or network bandwidth fai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a shortest path on a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nable platform for network administra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ffer space for incoming data on receiving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weights used to compute shortest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licies for selecting wide-area Internet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49EA-76B3-447F-8002-0E4CFE43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urse overvie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d hosts (TCP congestion control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plane (BGP interdomain routing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 plane (programmability with SDN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mes and locations (DNS, mobility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 (DHTs, P2P, CDNs, video streaming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oking forwa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6A1-F1A7-4A90-AFC9-FA4114D3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and analyzing research pap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and evaluation of network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ies, critiques, and comparisons of the pap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ssroom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ef overview of background mater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ussion and debate about the research pap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amming assign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CP performance, BGP policies, and SD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derstanding network protocols empir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l research proj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vel research with a system-building compon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D7D-CD6C-47D9-8E89-55B1C548E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: An Exciting 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e of the most influential inven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search experiment that escaped from the la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be a global communications infra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ver wider reach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day: more than 3 billion us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morrow: more users, computers, things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ar-constant innov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s: Web, P2P, social networks, virtual wor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ks: optics, WiFi, cellular, WiMax,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698D-283E-42FA-8905-42EE04A74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Logistics: Final Proj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l proj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-ended research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work alone or in small tea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involve writing some softw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 topics will be presented in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 overlap with other projects, with per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dergraduate independent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aduate student research proj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rt proposal: Nov 1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sentation: around Jan 12 (before Dean’s Da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-page final report: Jan 16 (Dean’s Da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8E53-2E95-49D5-B1BC-8900BA13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ss participation (30%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ussion in class is important! Speak up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per reviews presented in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signments (30%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assignments, 10% 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l project (40%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osal, presentation, and re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0946-DE64-4FE6-8001-6961385C6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ing Assist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19320"/>
            <a:ext cx="484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ah Apthor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Arial"/>
                <a:hlinkClick r:id="rId1"/>
              </a:rPr>
              <a:t>apthorpe@cs.princeton.ed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64B-E2D2-4F3E-ADC9-AF7EF880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ontent Placeholder 2"/>
          <p:cNvSpPr/>
          <p:nvPr/>
        </p:nvSpPr>
        <p:spPr>
          <a:xfrm>
            <a:off x="4456080" y="1219320"/>
            <a:ext cx="484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Zhelun (Allen) W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Arial"/>
                <a:ea typeface="Arial"/>
                <a:hlinkClick r:id="rId2"/>
              </a:rPr>
              <a:t>zhelunw@cs.princeton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" descr=""/>
          <p:cNvPicPr/>
          <p:nvPr/>
        </p:nvPicPr>
        <p:blipFill>
          <a:blip r:embed="rId3"/>
          <a:stretch/>
        </p:blipFill>
        <p:spPr>
          <a:xfrm>
            <a:off x="5060880" y="2260440"/>
            <a:ext cx="3389400" cy="4300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" descr=""/>
          <p:cNvPicPr/>
          <p:nvPr/>
        </p:nvPicPr>
        <p:blipFill>
          <a:blip r:embed="rId4"/>
          <a:stretch/>
        </p:blipFill>
        <p:spPr>
          <a:xfrm>
            <a:off x="996840" y="2171880"/>
            <a:ext cx="32180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1880" y="16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tting Start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39480" y="3274920"/>
            <a:ext cx="726444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effort packet delivery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 through lay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ies and rou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, control, and management pla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CA9E-9A1B-4C6F-B3E0-0A444085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96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est-Effort Packet-Delivery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175-3F32-4990-BD49-962CC73C0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204F-81EF-4452-926C-FE5B84535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Network Division of Lab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switch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vide messages into a sequence of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ders with source and destination 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s may be lo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s may be corrup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s may be delivered out of 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9" name="Picture 4" descr="j0285750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Object 2"/>
          <p:cNvGraphicFramePr/>
          <p:nvPr/>
        </p:nvGraphicFramePr>
        <p:xfrm>
          <a:off x="2724120" y="4800600"/>
          <a:ext cx="3608280" cy="20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00600"/>
                    <a:ext cx="36082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Line 6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37840" y="4648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7776720" y="4800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MCj02957280000[1]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3687120" y="55278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289" name="Rectangle 13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292" name="Rectangle 16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295" name="Rectangle 19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0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602-2752-4795-B3F8-7F3F2452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Network Interface: Why Packe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 traffic is burs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gging in to remote mach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hanging e-mail mess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want to waste bandwidth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traffic exchanged during idle peri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tter to allow multiplex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ferent transfers share access to same lin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s can be delivered by most anyth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FC 1149: IP Datagrams over Avian Carri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0" name="Picture 5" descr="180px-Homing_pigeon"/>
          <p:cNvPicPr/>
          <p:nvPr/>
        </p:nvPicPr>
        <p:blipFill>
          <a:blip r:embed="rId1"/>
          <a:stretch/>
        </p:blipFill>
        <p:spPr>
          <a:xfrm>
            <a:off x="6684840" y="1201680"/>
            <a:ext cx="217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9C11-3776-42F5-85F5-EEC1C069E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-Network Interface: Why Best-Effor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ver having to say you’re sorry…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reserve bandwidth and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do error detection &amp; corr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remember from one packet to ne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asier to survive failur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nsient disruptions are okay during failo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run on nearly any link technolog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reater interoperability and evolu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083-E129-4E6B-BD61-9A24FB3B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mediate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,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want efficient, accurate transfer of data in order, in a timely fash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t the end hosts handle all of th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An example of the 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d-to-end argument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port layer can optionally…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 and retransmit lost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ut-of-order packets back in 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 and handle corrupted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oid overloading the recei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insert your requirement here&gt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odularity Through Lay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5359-EEE9-4B2E-B57E-4AF9C3EED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ing Everyt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s we do busin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commerce, advertising, cloud computing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 we have relationshi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mail, IM, Facebook, virtual worlds, online d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we think about la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state commerce? National boundari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 we gover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voting and e-gover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sorship and wiret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 we f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yber-attacks, including nation-state att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832-D8E0-44B0-BBD6-010869E3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Protocol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7E1C-3D3B-4832-8DD0-5FDEFACC3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"/>
          <p:cNvGrpSpPr/>
          <p:nvPr/>
        </p:nvGrpSpPr>
        <p:grpSpPr>
          <a:xfrm>
            <a:off x="2643120" y="2052720"/>
            <a:ext cx="4800600" cy="2438280"/>
            <a:chOff x="2643120" y="2052720"/>
            <a:chExt cx="4800600" cy="2438280"/>
          </a:xfrm>
        </p:grpSpPr>
        <p:sp>
          <p:nvSpPr>
            <p:cNvPr id="313" name="Rectangle 4"/>
            <p:cNvSpPr/>
            <p:nvPr/>
          </p:nvSpPr>
          <p:spPr>
            <a:xfrm>
              <a:off x="2643120" y="3881520"/>
              <a:ext cx="4800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2643120" y="3273480"/>
              <a:ext cx="4800600" cy="608040"/>
            </a:xfrm>
            <a:prstGeom prst="rect">
              <a:avLst/>
            </a:prstGeom>
            <a:solidFill>
              <a:srgbClr val="3c8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6"/>
            <p:cNvSpPr/>
            <p:nvPr/>
          </p:nvSpPr>
          <p:spPr>
            <a:xfrm>
              <a:off x="2643120" y="2663640"/>
              <a:ext cx="27432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able stream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2643120" y="2052720"/>
              <a:ext cx="4800600" cy="610920"/>
            </a:xfrm>
            <a:prstGeom prst="rect">
              <a:avLst/>
            </a:prstGeom>
            <a:solidFill>
              <a:srgbClr val="00d1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5386320" y="2662200"/>
              <a:ext cx="20574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11"/>
          <p:cNvSpPr/>
          <p:nvPr/>
        </p:nvSpPr>
        <p:spPr>
          <a:xfrm>
            <a:off x="1745640" y="4033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2"/>
          <p:cNvSpPr/>
          <p:nvPr/>
        </p:nvSpPr>
        <p:spPr>
          <a:xfrm>
            <a:off x="1235520" y="33735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1042920" y="2712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4"/>
          <p:cNvSpPr/>
          <p:nvPr/>
        </p:nvSpPr>
        <p:spPr>
          <a:xfrm>
            <a:off x="846720" y="2052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Suite: End Hosts vs.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D095-8DD1-43D2-920D-2B36A4B01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9372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0344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80784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89244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7"/>
          <p:cNvGrpSpPr/>
          <p:nvPr/>
        </p:nvGrpSpPr>
        <p:grpSpPr>
          <a:xfrm>
            <a:off x="689040" y="4119480"/>
            <a:ext cx="914400" cy="582480"/>
            <a:chOff x="689040" y="4119480"/>
            <a:chExt cx="914400" cy="582480"/>
          </a:xfrm>
        </p:grpSpPr>
        <p:sp>
          <p:nvSpPr>
            <p:cNvPr id="329" name="Rectangle 8"/>
            <p:cNvSpPr/>
            <p:nvPr/>
          </p:nvSpPr>
          <p:spPr>
            <a:xfrm>
              <a:off x="689040" y="41194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"/>
            <p:cNvSpPr/>
            <p:nvPr/>
          </p:nvSpPr>
          <p:spPr>
            <a:xfrm>
              <a:off x="972000" y="42224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>
            <a:off x="66996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68220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114768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114768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114768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53820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764856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765828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7643880" y="4119480"/>
            <a:ext cx="914400" cy="58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659720" y="53103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776268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784728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7942320" y="423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4"/>
          <p:cNvSpPr/>
          <p:nvPr/>
        </p:nvSpPr>
        <p:spPr>
          <a:xfrm>
            <a:off x="76878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810252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6"/>
          <p:cNvSpPr/>
          <p:nvPr/>
        </p:nvSpPr>
        <p:spPr>
          <a:xfrm>
            <a:off x="810252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7"/>
          <p:cNvSpPr/>
          <p:nvPr/>
        </p:nvSpPr>
        <p:spPr>
          <a:xfrm>
            <a:off x="810252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749304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1139760" y="59356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808200" y="6308640"/>
            <a:ext cx="23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1"/>
          <p:cNvGrpSpPr/>
          <p:nvPr/>
        </p:nvGrpSpPr>
        <p:grpSpPr>
          <a:xfrm>
            <a:off x="2905200" y="4148280"/>
            <a:ext cx="914400" cy="582480"/>
            <a:chOff x="2905200" y="4148280"/>
            <a:chExt cx="914400" cy="582480"/>
          </a:xfrm>
        </p:grpSpPr>
        <p:sp>
          <p:nvSpPr>
            <p:cNvPr id="352" name="Rectangle 32"/>
            <p:cNvSpPr/>
            <p:nvPr/>
          </p:nvSpPr>
          <p:spPr>
            <a:xfrm>
              <a:off x="290520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3"/>
            <p:cNvSpPr/>
            <p:nvPr/>
          </p:nvSpPr>
          <p:spPr>
            <a:xfrm>
              <a:off x="318816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4"/>
          <p:cNvGrpSpPr/>
          <p:nvPr/>
        </p:nvGrpSpPr>
        <p:grpSpPr>
          <a:xfrm>
            <a:off x="5549760" y="4148280"/>
            <a:ext cx="914400" cy="582480"/>
            <a:chOff x="5549760" y="4148280"/>
            <a:chExt cx="914400" cy="582480"/>
          </a:xfrm>
        </p:grpSpPr>
        <p:sp>
          <p:nvSpPr>
            <p:cNvPr id="355" name="Rectangle 35"/>
            <p:cNvSpPr/>
            <p:nvPr/>
          </p:nvSpPr>
          <p:spPr>
            <a:xfrm>
              <a:off x="554976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6"/>
            <p:cNvSpPr/>
            <p:nvPr/>
          </p:nvSpPr>
          <p:spPr>
            <a:xfrm>
              <a:off x="583272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38"/>
          <p:cNvSpPr/>
          <p:nvPr/>
        </p:nvSpPr>
        <p:spPr>
          <a:xfrm>
            <a:off x="230652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9"/>
          <p:cNvSpPr/>
          <p:nvPr/>
        </p:nvSpPr>
        <p:spPr>
          <a:xfrm>
            <a:off x="231084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0"/>
          <p:cNvGrpSpPr/>
          <p:nvPr/>
        </p:nvGrpSpPr>
        <p:grpSpPr>
          <a:xfrm>
            <a:off x="6205680" y="5324400"/>
            <a:ext cx="909360" cy="606240"/>
            <a:chOff x="6205680" y="5324400"/>
            <a:chExt cx="909360" cy="606240"/>
          </a:xfrm>
        </p:grpSpPr>
        <p:sp>
          <p:nvSpPr>
            <p:cNvPr id="360" name="Rectangle 41"/>
            <p:cNvSpPr/>
            <p:nvPr/>
          </p:nvSpPr>
          <p:spPr>
            <a:xfrm>
              <a:off x="6205680" y="5324400"/>
              <a:ext cx="906480" cy="60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2"/>
            <p:cNvSpPr/>
            <p:nvPr/>
          </p:nvSpPr>
          <p:spPr>
            <a:xfrm>
              <a:off x="6225480" y="5337360"/>
              <a:ext cx="889560" cy="531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Line 43"/>
          <p:cNvSpPr/>
          <p:nvPr/>
        </p:nvSpPr>
        <p:spPr>
          <a:xfrm flipH="1">
            <a:off x="2744280" y="596412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4"/>
          <p:cNvSpPr/>
          <p:nvPr/>
        </p:nvSpPr>
        <p:spPr>
          <a:xfrm flipH="1">
            <a:off x="2725560" y="4727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3529080" y="474192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3614760" y="53244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7"/>
          <p:cNvSpPr/>
          <p:nvPr/>
        </p:nvSpPr>
        <p:spPr>
          <a:xfrm>
            <a:off x="36396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4889520" y="53370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490644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0"/>
          <p:cNvSpPr/>
          <p:nvPr/>
        </p:nvSpPr>
        <p:spPr>
          <a:xfrm>
            <a:off x="6680160" y="59245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1"/>
          <p:cNvSpPr/>
          <p:nvPr/>
        </p:nvSpPr>
        <p:spPr>
          <a:xfrm flipH="1">
            <a:off x="6222600" y="6270480"/>
            <a:ext cx="23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8132760" y="592776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H="1">
            <a:off x="5302080" y="4754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4"/>
          <p:cNvSpPr/>
          <p:nvPr/>
        </p:nvSpPr>
        <p:spPr>
          <a:xfrm>
            <a:off x="6119640" y="4754520"/>
            <a:ext cx="527400" cy="5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44880" y="394812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4776840" y="394812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H="1">
            <a:off x="4053960" y="592596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8"/>
          <p:cNvSpPr/>
          <p:nvPr/>
        </p:nvSpPr>
        <p:spPr>
          <a:xfrm flipH="1">
            <a:off x="5315040" y="593892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9"/>
          <p:cNvSpPr/>
          <p:nvPr/>
        </p:nvSpPr>
        <p:spPr>
          <a:xfrm>
            <a:off x="4071960" y="6270480"/>
            <a:ext cx="124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862560" y="1162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7817400" y="1147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982600" y="35449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5613120" y="3559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4"/>
          <p:cNvSpPr/>
          <p:nvPr/>
        </p:nvSpPr>
        <p:spPr>
          <a:xfrm>
            <a:off x="1619280" y="203688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5"/>
          <p:cNvSpPr/>
          <p:nvPr/>
        </p:nvSpPr>
        <p:spPr>
          <a:xfrm>
            <a:off x="1647720" y="322740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008240" y="166860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HTTP mes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7"/>
          <p:cNvSpPr/>
          <p:nvPr/>
        </p:nvSpPr>
        <p:spPr>
          <a:xfrm>
            <a:off x="4106520" y="287352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TCP seg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8"/>
          <p:cNvSpPr/>
          <p:nvPr/>
        </p:nvSpPr>
        <p:spPr>
          <a:xfrm>
            <a:off x="1620720" y="4432320"/>
            <a:ext cx="130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9"/>
          <p:cNvSpPr/>
          <p:nvPr/>
        </p:nvSpPr>
        <p:spPr>
          <a:xfrm>
            <a:off x="3851280" y="444672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0"/>
          <p:cNvSpPr/>
          <p:nvPr/>
        </p:nvSpPr>
        <p:spPr>
          <a:xfrm>
            <a:off x="6469200" y="443232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1"/>
          <p:cNvSpPr/>
          <p:nvPr/>
        </p:nvSpPr>
        <p:spPr>
          <a:xfrm>
            <a:off x="1779120" y="41054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2"/>
          <p:cNvSpPr/>
          <p:nvPr/>
        </p:nvSpPr>
        <p:spPr>
          <a:xfrm>
            <a:off x="6600600" y="41338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3"/>
          <p:cNvSpPr/>
          <p:nvPr/>
        </p:nvSpPr>
        <p:spPr>
          <a:xfrm>
            <a:off x="4203360" y="41194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row Wais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640-7827-477C-B506-76AC96EC1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2971800" y="380988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5"/>
          <p:cNvSpPr/>
          <p:nvPr/>
        </p:nvSpPr>
        <p:spPr>
          <a:xfrm>
            <a:off x="6553080" y="3767040"/>
            <a:ext cx="1181160" cy="13464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rc 6"/>
          <p:cNvSpPr/>
          <p:nvPr/>
        </p:nvSpPr>
        <p:spPr>
          <a:xfrm>
            <a:off x="5373720" y="3767040"/>
            <a:ext cx="1181160" cy="13464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</a:path>
              <a:path stroke="0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  <a:lnTo>
                  <a:pt x="21600" y="21600"/>
                </a:lnTo>
                <a:lnTo>
                  <a:pt x="-1" y="21599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c 7"/>
          <p:cNvSpPr/>
          <p:nvPr/>
        </p:nvSpPr>
        <p:spPr>
          <a:xfrm rot="10800000">
            <a:off x="6543360" y="1980720"/>
            <a:ext cx="1230120" cy="1677960"/>
          </a:xfrm>
          <a:custGeom>
            <a:avLst/>
            <a:gdLst>
              <a:gd name="textAreaLeft" fmla="*/ 0 w 1230120"/>
              <a:gd name="textAreaRight" fmla="*/ 1230480 w 1230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</a:path>
              <a:path stroke="0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  <a:lnTo>
                  <a:pt x="21600" y="21600"/>
                </a:lnTo>
                <a:lnTo>
                  <a:pt x="-1" y="21599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8"/>
          <p:cNvSpPr/>
          <p:nvPr/>
        </p:nvSpPr>
        <p:spPr>
          <a:xfrm rot="10800000">
            <a:off x="5334120" y="1980720"/>
            <a:ext cx="1209600" cy="167796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26200" y="1981080"/>
            <a:ext cx="243504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5326200" y="5100480"/>
            <a:ext cx="235872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6400800" y="3584520"/>
            <a:ext cx="304920" cy="21744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2"/>
          <p:cNvGrpSpPr/>
          <p:nvPr/>
        </p:nvGrpSpPr>
        <p:grpSpPr>
          <a:xfrm>
            <a:off x="5935680" y="2819520"/>
            <a:ext cx="1248120" cy="363240"/>
            <a:chOff x="5935680" y="2819520"/>
            <a:chExt cx="1248120" cy="363240"/>
          </a:xfrm>
        </p:grpSpPr>
        <p:sp>
          <p:nvSpPr>
            <p:cNvPr id="405" name="Rectangle 13"/>
            <p:cNvSpPr/>
            <p:nvPr/>
          </p:nvSpPr>
          <p:spPr>
            <a:xfrm>
              <a:off x="5935680" y="28195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4"/>
            <p:cNvSpPr/>
            <p:nvPr/>
          </p:nvSpPr>
          <p:spPr>
            <a:xfrm>
              <a:off x="6545160" y="281952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5"/>
          <p:cNvSpPr/>
          <p:nvPr/>
        </p:nvSpPr>
        <p:spPr>
          <a:xfrm>
            <a:off x="5954400" y="414504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6005520" y="457992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5782320" y="2182680"/>
            <a:ext cx="155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5084280" y="5103720"/>
            <a:ext cx="326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glass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3962520" y="3352680"/>
            <a:ext cx="1596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1676520" y="5867280"/>
            <a:ext cx="6019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ist facilitates interoper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914400" y="2209680"/>
            <a:ext cx="68580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175248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342900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259092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"/>
          <p:cNvSpPr/>
          <p:nvPr/>
        </p:nvSpPr>
        <p:spPr>
          <a:xfrm>
            <a:off x="1295280" y="2895480"/>
            <a:ext cx="685800" cy="381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30481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2209680" y="3657600"/>
            <a:ext cx="685800" cy="3808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8"/>
          <p:cNvSpPr/>
          <p:nvPr/>
        </p:nvSpPr>
        <p:spPr>
          <a:xfrm>
            <a:off x="838080" y="4419720"/>
            <a:ext cx="6858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19810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/>
          <p:cNvSpPr/>
          <p:nvPr/>
        </p:nvSpPr>
        <p:spPr>
          <a:xfrm>
            <a:off x="35812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2743200" y="44197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32"/>
          <p:cNvCxnSpPr>
            <a:stCxn id="413" idx="2"/>
            <a:endCxn id="417" idx="0"/>
          </p:cNvCxnSpPr>
          <p:nvPr/>
        </p:nvCxnSpPr>
        <p:spPr>
          <a:xfrm>
            <a:off x="1257480" y="25909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AutoShape 33"/>
          <p:cNvCxnSpPr>
            <a:endCxn id="417" idx="0"/>
          </p:cNvCxnSpPr>
          <p:nvPr/>
        </p:nvCxnSpPr>
        <p:spPr>
          <a:xfrm flipH="1">
            <a:off x="163800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AutoShape 34"/>
          <p:cNvCxnSpPr>
            <a:stCxn id="416" idx="2"/>
          </p:cNvCxnSpPr>
          <p:nvPr/>
        </p:nvCxnSpPr>
        <p:spPr>
          <a:xfrm>
            <a:off x="293364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AutoShape 35"/>
          <p:cNvCxnSpPr>
            <a:stCxn id="415" idx="2"/>
          </p:cNvCxnSpPr>
          <p:nvPr/>
        </p:nvCxnSpPr>
        <p:spPr>
          <a:xfrm flipH="1">
            <a:off x="3351960" y="2590920"/>
            <a:ext cx="4201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AutoShape 36"/>
          <p:cNvCxnSpPr>
            <a:stCxn id="417" idx="2"/>
            <a:endCxn id="419" idx="0"/>
          </p:cNvCxnSpPr>
          <p:nvPr/>
        </p:nvCxnSpPr>
        <p:spPr>
          <a:xfrm>
            <a:off x="1638360" y="32767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AutoShape 37"/>
          <p:cNvCxnSpPr>
            <a:stCxn id="418" idx="2"/>
            <a:endCxn id="419" idx="0"/>
          </p:cNvCxnSpPr>
          <p:nvPr/>
        </p:nvCxnSpPr>
        <p:spPr>
          <a:xfrm flipH="1">
            <a:off x="2552400" y="32767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AutoShape 38"/>
          <p:cNvCxnSpPr>
            <a:stCxn id="419" idx="2"/>
            <a:endCxn id="422" idx="0"/>
          </p:cNvCxnSpPr>
          <p:nvPr/>
        </p:nvCxnSpPr>
        <p:spPr>
          <a:xfrm>
            <a:off x="255276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AutoShape 39"/>
          <p:cNvCxnSpPr>
            <a:stCxn id="419" idx="2"/>
            <a:endCxn id="420" idx="0"/>
          </p:cNvCxnSpPr>
          <p:nvPr/>
        </p:nvCxnSpPr>
        <p:spPr>
          <a:xfrm flipH="1">
            <a:off x="118080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AutoShape 40"/>
          <p:cNvCxnSpPr>
            <a:stCxn id="419" idx="2"/>
            <a:endCxn id="421" idx="0"/>
          </p:cNvCxnSpPr>
          <p:nvPr/>
        </p:nvCxnSpPr>
        <p:spPr>
          <a:xfrm flipH="1">
            <a:off x="2323440" y="40381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er Encaps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0113-1B44-4490-8684-757B0764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590920" y="297180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 rot="10800000">
            <a:off x="2741400" y="3733920"/>
            <a:ext cx="609480" cy="30456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 rot="10800000">
            <a:off x="2588760" y="3733920"/>
            <a:ext cx="22860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 rot="10800000">
            <a:off x="2895480" y="4343040"/>
            <a:ext cx="60984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 rot="10800000">
            <a:off x="2666520" y="43430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 rot="10800000">
            <a:off x="2590560" y="4343040"/>
            <a:ext cx="15228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 rot="10800000">
            <a:off x="3124080" y="4800240"/>
            <a:ext cx="60984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 rot="10800000">
            <a:off x="2895120" y="48002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 rot="10800000">
            <a:off x="2666520" y="4800240"/>
            <a:ext cx="30492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 rot="10800000">
            <a:off x="2590560" y="4800240"/>
            <a:ext cx="22860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914400" y="3429000"/>
            <a:ext cx="144792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14400" y="274320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6629400" y="3429000"/>
            <a:ext cx="144792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6629400" y="274320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2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4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5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7"/>
          <p:cNvSpPr/>
          <p:nvPr/>
        </p:nvSpPr>
        <p:spPr>
          <a:xfrm>
            <a:off x="5791320" y="297180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8"/>
          <p:cNvSpPr/>
          <p:nvPr/>
        </p:nvSpPr>
        <p:spPr>
          <a:xfrm rot="10800000">
            <a:off x="5865480" y="3733920"/>
            <a:ext cx="609480" cy="30456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9"/>
          <p:cNvSpPr/>
          <p:nvPr/>
        </p:nvSpPr>
        <p:spPr>
          <a:xfrm rot="10800000">
            <a:off x="5713200" y="3733920"/>
            <a:ext cx="22860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0"/>
          <p:cNvSpPr/>
          <p:nvPr/>
        </p:nvSpPr>
        <p:spPr>
          <a:xfrm rot="10800000">
            <a:off x="5865480" y="434304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1"/>
          <p:cNvSpPr/>
          <p:nvPr/>
        </p:nvSpPr>
        <p:spPr>
          <a:xfrm rot="10800000">
            <a:off x="5636880" y="43430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2"/>
          <p:cNvSpPr/>
          <p:nvPr/>
        </p:nvSpPr>
        <p:spPr>
          <a:xfrm rot="10800000">
            <a:off x="5560920" y="4343040"/>
            <a:ext cx="15264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3"/>
          <p:cNvSpPr/>
          <p:nvPr/>
        </p:nvSpPr>
        <p:spPr>
          <a:xfrm rot="10800000">
            <a:off x="5865480" y="480024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4"/>
          <p:cNvSpPr/>
          <p:nvPr/>
        </p:nvSpPr>
        <p:spPr>
          <a:xfrm rot="10800000">
            <a:off x="5636880" y="48002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5"/>
          <p:cNvSpPr/>
          <p:nvPr/>
        </p:nvSpPr>
        <p:spPr>
          <a:xfrm rot="10800000">
            <a:off x="5408280" y="4800240"/>
            <a:ext cx="30492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6"/>
          <p:cNvSpPr/>
          <p:nvPr/>
        </p:nvSpPr>
        <p:spPr>
          <a:xfrm rot="10800000">
            <a:off x="5331960" y="4800240"/>
            <a:ext cx="22860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7"/>
          <p:cNvSpPr/>
          <p:nvPr/>
        </p:nvSpPr>
        <p:spPr>
          <a:xfrm>
            <a:off x="3718800" y="2895480"/>
            <a:ext cx="142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3731400" y="3657600"/>
            <a:ext cx="13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3531240" y="4343400"/>
            <a:ext cx="1806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/Desti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3807720" y="4800600"/>
            <a:ext cx="131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Addr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1067040" y="2057400"/>
            <a:ext cx="111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2"/>
          <p:cNvSpPr/>
          <p:nvPr/>
        </p:nvSpPr>
        <p:spPr>
          <a:xfrm>
            <a:off x="6885360" y="2057400"/>
            <a:ext cx="111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3" descr="MCj03040810000[1]"/>
          <p:cNvPicPr/>
          <p:nvPr/>
        </p:nvPicPr>
        <p:blipFill>
          <a:blip r:embed="rId1"/>
          <a:stretch/>
        </p:blipFill>
        <p:spPr>
          <a:xfrm>
            <a:off x="5608800" y="241200"/>
            <a:ext cx="184284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rectories and Rou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BDF-BC4E-4825-908E-7413898E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Between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501-ACD9-4624-8E3A-FC1D86F18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11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2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3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16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0"/>
          <p:cNvSpPr/>
          <p:nvPr/>
        </p:nvSpPr>
        <p:spPr>
          <a:xfrm>
            <a:off x="3975840" y="2060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5"/>
          <p:cNvSpPr/>
          <p:nvPr/>
        </p:nvSpPr>
        <p:spPr>
          <a:xfrm>
            <a:off x="457704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rectories: Mapping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a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CF2-0A49-4B94-B454-0F487F08C0A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5"/>
          <p:cNvSpPr/>
          <p:nvPr/>
        </p:nvSpPr>
        <p:spPr>
          <a:xfrm>
            <a:off x="457632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6822360" y="16765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7"/>
          <p:cNvSpPr/>
          <p:nvPr/>
        </p:nvSpPr>
        <p:spPr>
          <a:xfrm>
            <a:off x="6481440" y="434340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Direct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istic desig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k everyone (e.g., flooding in AR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ll everyone (e.g., pushing /etc/ho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ntral direc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calable distributed desig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erarchical namespace (e.g., DN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lat name space (e.g., Distributed Hash Tabl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457-B011-4EB2-8327-265FD54D2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uting: Mapping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ink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a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E18-4013-431B-ACE6-C1B7CC9CB10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0"/>
          <p:cNvSpPr/>
          <p:nvPr/>
        </p:nvSpPr>
        <p:spPr>
          <a:xfrm>
            <a:off x="3891600" y="1905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5"/>
          <p:cNvSpPr/>
          <p:nvPr/>
        </p:nvSpPr>
        <p:spPr>
          <a:xfrm>
            <a:off x="4429800" y="4734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h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anning tree (e.g., Ethernet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e tree that connects every pair of nod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ortest paths (e.g., OSPF, IS-IS, RIP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hortest-path tree rooted at each no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cally optimal paths (e.g., BGP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ch node selects the best among its neighb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d-to-end paths (e.g., source routing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ch node picks the best end-to-end pa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5078-DF11-4F15-81F5-253884B6B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udy of Networking is C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ngible, relates to rea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measure and build thing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truly effect far-reaching change in the real wor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herently interdisciplinary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ll-motivated problems + rigorous solution techniq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play with policy, economics, and social sci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dely-read pap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of the most cited papers in CS are in networ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, distributed hash tables, resource reservation, self-similar traffic, multimedia protocols,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3EA-8B15-4C5C-B048-158DFB5D6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ata, Control, and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nagement Pl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D64A-6BE8-4C17-8D6C-176F8B3CD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677880" y="1219320"/>
          <a:ext cx="800892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219320"/>
                    <a:ext cx="800892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ide the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18C-CAEC-488F-BCBB-D1541ED9D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3"/>
          <p:cNvSpPr/>
          <p:nvPr/>
        </p:nvSpPr>
        <p:spPr>
          <a:xfrm flipV="1">
            <a:off x="5029200" y="2361960"/>
            <a:ext cx="137160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5"/>
          <p:cNvSpPr/>
          <p:nvPr/>
        </p:nvSpPr>
        <p:spPr>
          <a:xfrm flipH="1" flipV="1">
            <a:off x="4800240" y="3505320"/>
            <a:ext cx="152388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22"/>
          <p:cNvSpPr/>
          <p:nvPr/>
        </p:nvSpPr>
        <p:spPr>
          <a:xfrm flipH="1">
            <a:off x="2742840" y="2590920"/>
            <a:ext cx="68580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24"/>
          <p:cNvSpPr/>
          <p:nvPr/>
        </p:nvSpPr>
        <p:spPr>
          <a:xfrm>
            <a:off x="3809880" y="2590920"/>
            <a:ext cx="7621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2743200" y="4114800"/>
            <a:ext cx="16002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8"/>
          <p:cNvSpPr/>
          <p:nvPr/>
        </p:nvSpPr>
        <p:spPr>
          <a:xfrm flipH="1">
            <a:off x="6856560" y="2516040"/>
            <a:ext cx="2880" cy="175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30"/>
          <p:cNvSpPr/>
          <p:nvPr/>
        </p:nvSpPr>
        <p:spPr>
          <a:xfrm flipH="1">
            <a:off x="4647960" y="3505320"/>
            <a:ext cx="7596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33"/>
          <p:cNvSpPr/>
          <p:nvPr/>
        </p:nvSpPr>
        <p:spPr>
          <a:xfrm flipV="1">
            <a:off x="4876920" y="4495320"/>
            <a:ext cx="175248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5"/>
          <p:cNvSpPr/>
          <p:nvPr/>
        </p:nvSpPr>
        <p:spPr>
          <a:xfrm flipH="1" flipV="1">
            <a:off x="1676520" y="1905120"/>
            <a:ext cx="16761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7"/>
          <p:cNvSpPr/>
          <p:nvPr/>
        </p:nvSpPr>
        <p:spPr>
          <a:xfrm flipV="1">
            <a:off x="6934320" y="1676160"/>
            <a:ext cx="11430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9"/>
          <p:cNvSpPr/>
          <p:nvPr/>
        </p:nvSpPr>
        <p:spPr>
          <a:xfrm>
            <a:off x="6858000" y="4419720"/>
            <a:ext cx="99072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41"/>
          <p:cNvSpPr/>
          <p:nvPr/>
        </p:nvSpPr>
        <p:spPr>
          <a:xfrm flipH="1">
            <a:off x="1447920" y="4191120"/>
            <a:ext cx="91440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3"/>
          <p:cNvSpPr/>
          <p:nvPr/>
        </p:nvSpPr>
        <p:spPr>
          <a:xfrm flipH="1">
            <a:off x="3962160" y="4876920"/>
            <a:ext cx="53316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45"/>
          <p:cNvSpPr/>
          <p:nvPr/>
        </p:nvSpPr>
        <p:spPr>
          <a:xfrm>
            <a:off x="4800600" y="4876920"/>
            <a:ext cx="914400" cy="761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48"/>
          <p:cNvSpPr/>
          <p:nvPr/>
        </p:nvSpPr>
        <p:spPr>
          <a:xfrm flipV="1">
            <a:off x="3809880" y="1447920"/>
            <a:ext cx="106704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0"/>
          <p:cNvSpPr/>
          <p:nvPr/>
        </p:nvSpPr>
        <p:spPr>
          <a:xfrm flipH="1" flipV="1">
            <a:off x="609120" y="3657600"/>
            <a:ext cx="16002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2" descr=""/>
          <p:cNvPicPr/>
          <p:nvPr/>
        </p:nvPicPr>
        <p:blipFill>
          <a:blip r:embed="rId4"/>
          <a:stretch/>
        </p:blipFill>
        <p:spPr>
          <a:xfrm>
            <a:off x="2057400" y="380988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"/>
          <p:cNvPicPr/>
          <p:nvPr/>
        </p:nvPicPr>
        <p:blipFill>
          <a:blip r:embed="rId5"/>
          <a:stretch/>
        </p:blipFill>
        <p:spPr>
          <a:xfrm>
            <a:off x="6172200" y="4114800"/>
            <a:ext cx="839880" cy="5508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"/>
          <p:cNvPicPr/>
          <p:nvPr/>
        </p:nvPicPr>
        <p:blipFill>
          <a:blip r:embed="rId6"/>
          <a:stretch/>
        </p:blipFill>
        <p:spPr>
          <a:xfrm>
            <a:off x="6248520" y="2133720"/>
            <a:ext cx="839520" cy="550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839520" cy="551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"/>
          <p:cNvPicPr/>
          <p:nvPr/>
        </p:nvPicPr>
        <p:blipFill>
          <a:blip r:embed="rId8"/>
          <a:stretch/>
        </p:blipFill>
        <p:spPr>
          <a:xfrm>
            <a:off x="4343400" y="3106800"/>
            <a:ext cx="839880" cy="55080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12"/>
          <p:cNvGrpSpPr/>
          <p:nvPr/>
        </p:nvGrpSpPr>
        <p:grpSpPr>
          <a:xfrm>
            <a:off x="685800" y="3048120"/>
            <a:ext cx="326880" cy="457200"/>
            <a:chOff x="685800" y="3048120"/>
            <a:chExt cx="326880" cy="457200"/>
          </a:xfrm>
        </p:grpSpPr>
        <p:sp>
          <p:nvSpPr>
            <p:cNvPr id="578" name="Rectangle 13"/>
            <p:cNvSpPr/>
            <p:nvPr/>
          </p:nvSpPr>
          <p:spPr>
            <a:xfrm>
              <a:off x="687240" y="3048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4"/>
            <p:cNvSpPr/>
            <p:nvPr/>
          </p:nvSpPr>
          <p:spPr>
            <a:xfrm>
              <a:off x="685800" y="3048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2"/>
          <p:cNvGrpSpPr/>
          <p:nvPr/>
        </p:nvGrpSpPr>
        <p:grpSpPr>
          <a:xfrm>
            <a:off x="7848720" y="4343400"/>
            <a:ext cx="326880" cy="457200"/>
            <a:chOff x="7848720" y="4343400"/>
            <a:chExt cx="326880" cy="457200"/>
          </a:xfrm>
        </p:grpSpPr>
        <p:sp>
          <p:nvSpPr>
            <p:cNvPr id="581" name="Rectangle 13"/>
            <p:cNvSpPr/>
            <p:nvPr/>
          </p:nvSpPr>
          <p:spPr>
            <a:xfrm>
              <a:off x="7850160" y="434340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7848720" y="434340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57"/>
          <p:cNvSpPr/>
          <p:nvPr/>
        </p:nvSpPr>
        <p:spPr>
          <a:xfrm>
            <a:off x="1777320" y="6172200"/>
            <a:ext cx="60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packets from the sender to the 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lit into Data vs. Control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 plan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individual packets as they arr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, drop, or buff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, shape, schedule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lan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network top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aths through the net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resources along a pa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ABE4-17FA-4D3A-8F11-729FB157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29"/>
          <p:cNvSpPr/>
          <p:nvPr/>
        </p:nvSpPr>
        <p:spPr>
          <a:xfrm flipV="1">
            <a:off x="6324480" y="2590920"/>
            <a:ext cx="75420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30"/>
          <p:cNvSpPr/>
          <p:nvPr/>
        </p:nvSpPr>
        <p:spPr>
          <a:xfrm>
            <a:off x="6477120" y="350532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31"/>
          <p:cNvSpPr/>
          <p:nvPr/>
        </p:nvSpPr>
        <p:spPr>
          <a:xfrm>
            <a:off x="7467480" y="26668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032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601920" cy="381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33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601920" cy="381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34" descr=""/>
          <p:cNvPicPr/>
          <p:nvPr/>
        </p:nvPicPr>
        <p:blipFill>
          <a:blip r:embed="rId3"/>
          <a:stretch/>
        </p:blipFill>
        <p:spPr>
          <a:xfrm>
            <a:off x="6872400" y="2379600"/>
            <a:ext cx="581040" cy="3636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11"/>
          <p:cNvSpPr/>
          <p:nvPr/>
        </p:nvSpPr>
        <p:spPr>
          <a:xfrm>
            <a:off x="772200" y="594360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need for high-speed packet 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Object 2"/>
          <p:cNvGraphicFramePr/>
          <p:nvPr/>
        </p:nvGraphicFramePr>
        <p:xfrm>
          <a:off x="4572000" y="4229280"/>
          <a:ext cx="4732200" cy="25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229280"/>
                    <a:ext cx="4732200" cy="25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ng the Management Plan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king the network ru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we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 reaches the right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 flows over short, uncongested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wanted traffic is discar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recovery happens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o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 run out of 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control loop with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 (sense): topology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, performance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ol (actuate): configur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ol and data pla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792468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14C-1324-4823-9B01-D2C82D22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29"/>
          <p:cNvSpPr/>
          <p:nvPr/>
        </p:nvSpPr>
        <p:spPr>
          <a:xfrm flipV="1">
            <a:off x="6027840" y="4952520"/>
            <a:ext cx="75384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030"/>
          <p:cNvSpPr/>
          <p:nvPr/>
        </p:nvSpPr>
        <p:spPr>
          <a:xfrm>
            <a:off x="6180120" y="58672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031"/>
          <p:cNvSpPr/>
          <p:nvPr/>
        </p:nvSpPr>
        <p:spPr>
          <a:xfrm>
            <a:off x="7170840" y="502920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032" descr=""/>
          <p:cNvPicPr/>
          <p:nvPr/>
        </p:nvPicPr>
        <p:blipFill>
          <a:blip r:embed="rId3"/>
          <a:stretch/>
        </p:blipFill>
        <p:spPr>
          <a:xfrm>
            <a:off x="5570640" y="5715000"/>
            <a:ext cx="601560" cy="38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033" descr=""/>
          <p:cNvPicPr/>
          <p:nvPr/>
        </p:nvPicPr>
        <p:blipFill>
          <a:blip r:embed="rId4"/>
          <a:stretch/>
        </p:blipFill>
        <p:spPr>
          <a:xfrm>
            <a:off x="7628040" y="5715000"/>
            <a:ext cx="601560" cy="380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34" descr=""/>
          <p:cNvPicPr/>
          <p:nvPr/>
        </p:nvPicPr>
        <p:blipFill>
          <a:blip r:embed="rId5"/>
          <a:stretch/>
        </p:blipFill>
        <p:spPr>
          <a:xfrm>
            <a:off x="6575400" y="4741920"/>
            <a:ext cx="581040" cy="3636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images.jpg"/>
          <p:cNvPicPr/>
          <p:nvPr/>
        </p:nvPicPr>
        <p:blipFill>
          <a:blip r:embed="rId6"/>
          <a:stretch/>
        </p:blipFill>
        <p:spPr>
          <a:xfrm>
            <a:off x="6705720" y="2819520"/>
            <a:ext cx="1143000" cy="1249200"/>
          </a:xfrm>
          <a:prstGeom prst="rect">
            <a:avLst/>
          </a:prstGeom>
          <a:ln w="0">
            <a:noFill/>
          </a:ln>
        </p:spPr>
      </p:pic>
      <p:cxnSp>
        <p:nvCxnSpPr>
          <p:cNvPr id="606" name="Curved Connector 13"/>
          <p:cNvCxnSpPr/>
          <p:nvPr/>
        </p:nvCxnSpPr>
        <p:spPr>
          <a:xfrm flipH="1" flipV="1" rot="5400000">
            <a:off x="5454720" y="3779280"/>
            <a:ext cx="1587960" cy="91512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07" name="Shape 16"/>
          <p:cNvCxnSpPr/>
          <p:nvPr/>
        </p:nvCxnSpPr>
        <p:spPr>
          <a:xfrm>
            <a:off x="7848720" y="3443400"/>
            <a:ext cx="762480" cy="173880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ow to R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hink You Already Know How To Read, Bu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009-6A95-4CF0-9506-C6193030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Spend a Lot of Time R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grad class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viewing conference sub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iving colleagues feedback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eping up with your fie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ying broadly educa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itioning into a new area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how to write better papers 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FBE-DB8B-4A54-B7A0-2DD753D28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896760" y="6019920"/>
            <a:ext cx="72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worthwhile to learn to rea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ffec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hav’s Three-Pass Approach: Step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ten-minute scan to get the general ide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tle, abstract, and introd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 and subsection tit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lusion and bibliograph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to learn: the five C’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tegory: What type of paper is i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ext: What body of work does it relate to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rrectness: Do the assumptions seem vali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ibutions: What are the main research contributio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rity: Is the paper well-writte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ide whether to read further…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2BE-D875-4D96-8D16-1F231E4B8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hav’s Three-Pass Approach: Step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more careful, one-hour 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d with greater care, but ignore details like proof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gures, diagrams, and illustr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rk relevant references for later rea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asp the content of the pap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 able to summarize the main id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whether you can (or should) fully underst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ide whether t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andon reading in greater dep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d background material before proceeding fur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severe and continue for a third p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5B10-8FB4-46E1-A14C-88B252FD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hav’s Three-Pass Approach: Step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-hour virtual re-implementation of the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the same assumptions, recreate the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the paper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 innovations and its fail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and challenge every assum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nk how you would present the ideas yourse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ot down ideas for future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should you read this carefull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ing for a conference or jour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ing colleagues feedback on a pap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derstanding a paper closely related to your resear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eply understanding a classic paper in the f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E6B-1D23-4631-A02B-554F6F822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Tips for Reading Pap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at the right level for what you ne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rk smarter, not harder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at the right time of d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you are fresh, not sleep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in the right pl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you are not distracted, and have enough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a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a purpose (what is your goa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a pen or computer to tak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crit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nk, question, challenge, critique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D162-AB01-47C5-8F14-8BB391CC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udy of Networking is C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ng, relatively immature fie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eat if you like to make order out of cha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emendous intellectual progress is still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help decide what networking really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fining the problem is a big part of the challe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gnizing a need, formulating a well-defined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t least as important as solving the problem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ts of platforms for building your idea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grammability: Click, OpenFlow, NetFPGA, P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 software: Quagga, XORP, Bird, ExaBG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stbeds: Emulab, PlanetLab, Orbit, GENI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ments: RouteViews, traceroute, Internet2, …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43A-3227-42AF-817F-576B30D43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Next 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gn u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azz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iginal 1974 paper proposing TCP/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1984 paper on the “end-to-end argumen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F278-5F66-4E76-A5F7-619721E8D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ut, What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etwor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9A0D-EB38-4B17-A152-7A699D3D7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lethora of Protocol Acronym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2E9-5068-4299-808A-CD91D18E8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773800" y="30481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41368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119120" y="32004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374840" y="556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110560" y="1676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024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S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938280" y="571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H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239880" y="3886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314160" y="2057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138760" y="43434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M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1971360" y="18288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381456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7394760" y="1676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3661920" y="38098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704160" y="39625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5784840" y="5105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686160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I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2442600" y="6019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4957560" y="59436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90120" y="4876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N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690840" y="6172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P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5719680" y="25146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I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175608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>
            <a:off x="731844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0"/>
          <p:cNvSpPr/>
          <p:nvPr/>
        </p:nvSpPr>
        <p:spPr>
          <a:xfrm>
            <a:off x="2292120" y="51814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1"/>
          <p:cNvSpPr/>
          <p:nvPr/>
        </p:nvSpPr>
        <p:spPr>
          <a:xfrm>
            <a:off x="995760" y="13716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2"/>
          <p:cNvSpPr/>
          <p:nvPr/>
        </p:nvSpPr>
        <p:spPr>
          <a:xfrm>
            <a:off x="5948280" y="61722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3"/>
          <p:cNvSpPr/>
          <p:nvPr/>
        </p:nvSpPr>
        <p:spPr>
          <a:xfrm>
            <a:off x="4729680" y="5029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2739960" y="12952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5"/>
          <p:cNvSpPr/>
          <p:nvPr/>
        </p:nvSpPr>
        <p:spPr>
          <a:xfrm>
            <a:off x="4043160" y="152388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6"/>
          <p:cNvSpPr/>
          <p:nvPr/>
        </p:nvSpPr>
        <p:spPr>
          <a:xfrm>
            <a:off x="6340320" y="144792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785268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8"/>
          <p:cNvSpPr/>
          <p:nvPr/>
        </p:nvSpPr>
        <p:spPr>
          <a:xfrm>
            <a:off x="1908720" y="2514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R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9"/>
          <p:cNvSpPr/>
          <p:nvPr/>
        </p:nvSpPr>
        <p:spPr>
          <a:xfrm>
            <a:off x="3510000" y="4572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RT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1"/>
          <p:cNvSpPr/>
          <p:nvPr/>
        </p:nvSpPr>
        <p:spPr>
          <a:xfrm>
            <a:off x="7700400" y="4038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R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2"/>
          <p:cNvSpPr/>
          <p:nvPr/>
        </p:nvSpPr>
        <p:spPr>
          <a:xfrm>
            <a:off x="538200" y="32767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3"/>
          <p:cNvSpPr/>
          <p:nvPr/>
        </p:nvSpPr>
        <p:spPr>
          <a:xfrm>
            <a:off x="6840720" y="259092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4424400" y="24382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1"/>
          <p:cNvSpPr/>
          <p:nvPr/>
        </p:nvSpPr>
        <p:spPr>
          <a:xfrm>
            <a:off x="4653360" y="40384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P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866360" y="6095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3"/>
          <p:cNvSpPr/>
          <p:nvPr/>
        </p:nvSpPr>
        <p:spPr>
          <a:xfrm>
            <a:off x="8081280" y="23623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4043160" y="61722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5"/>
          <p:cNvSpPr/>
          <p:nvPr/>
        </p:nvSpPr>
        <p:spPr>
          <a:xfrm>
            <a:off x="613800" y="1905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6"/>
          <p:cNvSpPr/>
          <p:nvPr/>
        </p:nvSpPr>
        <p:spPr>
          <a:xfrm>
            <a:off x="5565600" y="44956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eap of Header Format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362-CF59-450B-B853-A4AE6E3F4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4038480" cy="255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96252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917880" cy="2361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922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/IP Header Formats in Leg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5" descr="tcp-ip.jpg"/>
          <p:cNvPicPr/>
          <p:nvPr/>
        </p:nvPicPr>
        <p:blipFill>
          <a:blip r:embed="rId1"/>
          <a:srcRect l="-1379" t="0" r="-1379" b="0"/>
          <a:stretch/>
        </p:blipFill>
        <p:spPr>
          <a:xfrm>
            <a:off x="609480" y="121932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E2BD-6C81-439C-8246-B6EAA64FA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2:10:11Z</dcterms:created>
  <dc:creator>Kai Li</dc:creator>
  <dc:description/>
  <dc:language>en-US</dc:language>
  <cp:lastModifiedBy>Jen</cp:lastModifiedBy>
  <cp:lastPrinted>2010-07-01T15:44:45Z</cp:lastPrinted>
  <dcterms:modified xsi:type="dcterms:W3CDTF">2017-09-14T18:51:26Z</dcterms:modified>
  <cp:revision>2458</cp:revision>
  <dc:subject/>
  <dc:title>Communication</dc:title>
</cp:coreProperties>
</file>