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12C-8E16-46B4-99E3-73D3C621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F01-1F42-4BBB-A548-E7EE923A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EA91-A318-4D18-A004-D6E7BE7F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BAB-1760-40FC-9822-5B716B73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777E-0EDF-4294-B1F7-9F599C04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29A-694E-4908-97F0-CCE0C67C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F15-86AE-45AC-A770-D1FFC9A3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888-50D5-4A4E-B802-8BF0DEF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42C-5A9D-438D-990C-04818242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287-47FA-4BFE-AF8F-F41D1434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074-9171-42E3-BFB4-D988323F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5A9-39FF-47DA-900D-EDC01453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87E9-4B81-4A0F-97FE-499114F8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_____________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2209320" y="4419360"/>
            <a:ext cx="76320" cy="3429000"/>
          </a:xfrm>
          <a:custGeom>
            <a:avLst/>
            <a:gdLst>
              <a:gd name="textAreaLeft" fmla="*/ 0 w 76320"/>
              <a:gd name="textAreaRight" fmla="*/ 27360 w 763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0232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 rot="16200000">
            <a:off x="2133000" y="3352680"/>
            <a:ext cx="76320" cy="3429000"/>
          </a:xfrm>
          <a:custGeom>
            <a:avLst/>
            <a:gdLst>
              <a:gd name="textAreaLeft" fmla="*/ 0 w 76320"/>
              <a:gd name="textAreaRight" fmla="*/ 27360 w 7632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67400" y="4662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172920" y="5042520"/>
            <a:ext cx="74520" cy="2209680"/>
          </a:xfrm>
          <a:custGeom>
            <a:avLst/>
            <a:gdLst>
              <a:gd name="textAreaLeft" fmla="*/ 0 w 74520"/>
              <a:gd name="textAreaRight" fmla="*/ 27000 w 745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90400" y="61866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--&gt;  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) v1 --&gt;  ___________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_____________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\y.\z.x y z (\x.\y.x) --&gt;  \y.\z.x y z [\x.\y.x / x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                   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                      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\y.\z.x y z (\x.\y.x) --&gt;  \y.\z.(\x.\y.x) y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                   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                      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\y.\z.x y z (\x.\y.x) --&gt;  \y.\z.(\x.\y.x) y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(\y.\z.(\x.\y.x) y z)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                        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4724280"/>
            <a:ext cx="13716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4724280"/>
            <a:ext cx="83844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4724280"/>
            <a:ext cx="304920" cy="38124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4724280"/>
            <a:ext cx="685800" cy="381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5880" y="30492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--&gt;  \y.\z.(\x.\y.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\x.\y.\z.x y z) (\x.\y.x)) v1) --&gt;  \y.\z.(\x.\y.x)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(\x.\y.\z.x y z) (\x.\y.x)) v1) v2 --&gt;  \y.\z.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27000" y="1143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1447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78560" y="19051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24120" y="609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609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055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55627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724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24920" y="395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49680" y="1233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921080" y="1995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2640" y="5334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5440" y="4890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64520" y="4510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true) = \t.\f. t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false) = \t.\f. f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) = \b.\c. b c (translate(fals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x) =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 true true) = (\b.\c. b c (\t.\f.f)) (\t.\f.t) (\t.\f.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true) = \t.\f. t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false) = \t.\f. f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) = \b.\c. b c (translate(false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x) =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 true true) = (\b.\c. b c (\t.\f.f)) (\t.\f.t) (\t.\f.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=&gt; wow is that ever tough to read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(and true tr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2209320" y="3428640"/>
            <a:ext cx="3962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6360" y="3505320"/>
            <a:ext cx="251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e: a and tr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meta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using to abbrev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ak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able the 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3200400"/>
            <a:ext cx="75960" cy="457200"/>
          </a:xfrm>
          <a:custGeom>
            <a:avLst/>
            <a:gdLst>
              <a:gd name="textAreaLeft" fmla="*/ 0 w 75960"/>
              <a:gd name="textAreaRight" fmla="*/ 2736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(untyped)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nguage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::= x | \x.e | e1 e2           v ::= \x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different ways to evaluate lambda calculus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far, we’ve studied left-to-right, call-by-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ingly, despite it’s minimalism, the lambda calculus is Turing complete and may serve as a foundation for all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733920"/>
            <a:ext cx="548640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5000" y="4572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8769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3600" y="45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48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3720" y="40384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403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4520" y="38242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77680" y="4662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6120" y="46483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t.\f. t) tru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t.\f. t) tru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(\f. tru)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 = \t.\f. t             fls = \t.\f. f            a = \b.\c. b c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u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b.\c. b c fls) tru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(\c.tru c fls)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 tru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\t.\f. t) tru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(\f. tru) f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&gt; 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41148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251040" y="49528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02240" y="57150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48160" y="44197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4419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148960" y="4205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73360" y="50436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44760" y="5805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 | v | e1 e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if e1 then e2 else e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::= \x.e | true |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1371600"/>
            <a:ext cx="289548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74720" y="2209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5880" y="2514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25920" y="29718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1840" y="1676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4852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072640" y="1461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997040" y="2300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768440" y="30621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6240" y="3962520"/>
            <a:ext cx="48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1 then e2 else e3 --&gt; if e1’ then e2 else 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39625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05760" y="37479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8840" y="484812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ue then e2 else e3 --&gt; e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79640" y="4862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053240" y="46483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35520" y="359568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094760" y="57294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alse then e2 else e3 --&gt; 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24600" y="5500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= (\x.x x) (\x.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\x.x) true then \x.x els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if true then \x.x els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\x.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\x.e) = \x.(translate 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e1 e2) = (translate e1) (translate e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st 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60200" y="228600"/>
            <a:ext cx="23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 lambda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 = \t.\f.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s = \t.\f.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 = \x.\y.\z.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666880" y="2362320"/>
            <a:ext cx="685800" cy="3045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66880" y="2743200"/>
            <a:ext cx="1752840" cy="3049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bda calculus with bool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 | true | false | test | \x.e | e1 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::= true | false | test | \x.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581280"/>
            <a:ext cx="8534520" cy="327672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9040" y="396252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e1 e2 e3 --&gt; test e1’ e2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9625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75560" y="3747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5720" y="36576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4960" y="489096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v1 e2 e3 --&gt; test v1 e2’ 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89096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41840" y="4676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2000" y="45864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8000" y="4890960"/>
            <a:ext cx="32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v1 v2 e3 --&gt; test v1 v2 e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489096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85240" y="46767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45400" y="45864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3 --&gt; e3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4240" y="59580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rue v2 v3 --&gt; 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943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8680" y="5743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-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0280" y="59580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false v2 v3 --&gt; 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5943600"/>
            <a:ext cx="21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2720" y="57294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st-fal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3080" y="649116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ll the other lambda calculus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505320"/>
            <a:ext cx="1067040" cy="3045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3505320"/>
            <a:ext cx="380880" cy="30456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4191120"/>
            <a:ext cx="160020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3505320"/>
            <a:ext cx="30492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4191120"/>
            <a:ext cx="381240" cy="30456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4572000"/>
            <a:ext cx="381240" cy="30492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4191120"/>
            <a:ext cx="228600" cy="30456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191120"/>
            <a:ext cx="228600" cy="304560"/>
          </a:xfrm>
          <a:prstGeom prst="rect">
            <a:avLst/>
          </a:prstGeom>
          <a:solidFill>
            <a:srgbClr val="99cc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e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0880" y="4572000"/>
            <a:ext cx="228600" cy="30492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438280" y="4572000"/>
            <a:ext cx="609840" cy="30492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23880" y="4952880"/>
            <a:ext cx="609840" cy="304920"/>
          </a:xfrm>
          <a:prstGeom prst="rect">
            <a:avLst/>
          </a:prstGeom>
          <a:solidFill>
            <a:srgbClr val="ff99cc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4952880"/>
            <a:ext cx="1600200" cy="30492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5334120"/>
            <a:ext cx="1600200" cy="30456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(\x.x) true then \x.x else 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translate((\x.x) true) (translate(\x.x)) (translate(loo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lo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(\x.x) tru) (\x.x) ((\x.x x) (\x.x 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t ((\x.x) tru) (\x.x) ((\x.x x) (\x.x x)) --&gt; tst tru (\x.x) ((\x.x x) (\x.x 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(\x.\y.\z. x y z) tru) (\x.x)) ((\x.x x) (\x.x x)) -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\y.\z.   tru y z)        (\x.x)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    \z.   tru (\x.x) z)          ) ((\x.x x) (\x.x x)) --&gt;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5334120"/>
            <a:ext cx="1600200" cy="30456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76720" y="5715000"/>
            <a:ext cx="1600200" cy="304920"/>
          </a:xfrm>
          <a:prstGeom prst="rect">
            <a:avLst/>
          </a:prstGeom>
          <a:solidFill>
            <a:srgbClr val="ffff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0"/>
            <a:ext cx="5791320" cy="152388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3800" y="82404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05320" y="112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707160" y="425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73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80920" y="29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290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81720" y="763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406480" y="9144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49680" y="515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aw this translation didn’t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st (translate e1) (translate e2) (translate e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delay execution of e2, e3 until the right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true) = \x.\y.(x (\x.x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false) = \x.\y.(y (\x.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x.\y.\z. x y z) (translate e1) (\w.translate e2) (\w.translate e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other cases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19320" y="3505320"/>
            <a:ext cx="160020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124080"/>
            <a:ext cx="76212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: the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oolean into pu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true)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false)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test) = \x.\y.\z. x y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x)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\x.e) = \x.(translate(e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e(e1 e2) = translate(e1) translate(e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49568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3480" y="2590920"/>
            <a:ext cx="347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in the sourc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get translated into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arg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832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35812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3048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320" y="2703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88320" y="2362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114440" y="2819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30456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00400" y="3505320"/>
            <a:ext cx="30492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81080" y="3809880"/>
            <a:ext cx="68580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p.p tru)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90720" y="3809880"/>
            <a:ext cx="30456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4191120"/>
            <a:ext cx="99036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p.p tru)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(\b. b tru fls) 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52480" y="4191120"/>
            <a:ext cx="1371600" cy="30456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4572000"/>
            <a:ext cx="1371600" cy="304920"/>
          </a:xfrm>
          <a:prstGeom prst="rect">
            <a:avLst/>
          </a:prstGeom>
          <a:solidFill>
            <a:srgbClr val="ff99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= \x.\y.\b. b x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= \p. p tru                        tru = \x.\y.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 = \p. p fls                       fls = \x.\y.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st ((\x.\y.\b. b x y)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* fst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p.p tru) (\b. b tru f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(\b. b tru fls) 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tru tru 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(\x.\y.x) tru f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(\y.tru) f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t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ource language 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rue s1 s2 --&gt;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24280"/>
            <a:ext cx="281952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ource language 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rue s1 s2 --&gt;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n the target we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v1 v2 --&gt;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4724280"/>
            <a:ext cx="281952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6019920"/>
            <a:ext cx="4572000" cy="38088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648320"/>
            <a:ext cx="2057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5943600"/>
            <a:ext cx="3962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" y="5257800"/>
            <a:ext cx="343080" cy="838080"/>
          </a:xfrm>
          <a:custGeom>
            <a:avLst/>
            <a:gdLst/>
            <a:ahLst/>
            <a:rect l="l" t="t" r="r" b="b"/>
            <a:pathLst>
              <a:path w="216" h="528">
                <a:moveTo>
                  <a:pt x="216" y="0"/>
                </a:moveTo>
                <a:cubicBezTo>
                  <a:pt x="132" y="52"/>
                  <a:pt x="48" y="104"/>
                  <a:pt x="24" y="192"/>
                </a:cubicBezTo>
                <a:cubicBezTo>
                  <a:pt x="0" y="280"/>
                  <a:pt x="36" y="404"/>
                  <a:pt x="72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(test true s1 s2) = (\x.\y.\z.x y z) (\x.\y.x) v1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re v1 = translate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v2 = translate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ource language we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rue s1 s2 --&gt;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n the target we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\y.\z.x y z) (\x.\y.x) v1 v2 --&gt; 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724280"/>
            <a:ext cx="2819520" cy="38124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6019920"/>
            <a:ext cx="4572000" cy="380880"/>
          </a:xfrm>
          <a:prstGeom prst="rect">
            <a:avLst/>
          </a:prstGeom>
          <a:solidFill>
            <a:srgbClr val="ff99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200" y="4648320"/>
            <a:ext cx="533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943600"/>
            <a:ext cx="533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5105520"/>
            <a:ext cx="1371600" cy="83808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cubicBezTo>
                  <a:pt x="168" y="4"/>
                  <a:pt x="336" y="8"/>
                  <a:pt x="480" y="96"/>
                </a:cubicBezTo>
                <a:cubicBezTo>
                  <a:pt x="624" y="184"/>
                  <a:pt x="744" y="356"/>
                  <a:pt x="864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648320"/>
            <a:ext cx="205740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943600"/>
            <a:ext cx="396252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5257800"/>
            <a:ext cx="343080" cy="838080"/>
          </a:xfrm>
          <a:custGeom>
            <a:avLst/>
            <a:gdLst/>
            <a:ahLst/>
            <a:rect l="l" t="t" r="r" b="b"/>
            <a:pathLst>
              <a:path w="216" h="528">
                <a:moveTo>
                  <a:pt x="216" y="0"/>
                </a:moveTo>
                <a:cubicBezTo>
                  <a:pt x="132" y="52"/>
                  <a:pt x="48" y="104"/>
                  <a:pt x="24" y="192"/>
                </a:cubicBezTo>
                <a:cubicBezTo>
                  <a:pt x="0" y="280"/>
                  <a:pt x="36" y="404"/>
                  <a:pt x="72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095880" y="152280"/>
            <a:ext cx="2895840" cy="2286000"/>
          </a:xfrm>
          <a:prstGeom prst="rect">
            <a:avLst/>
          </a:prstGeom>
          <a:solidFill>
            <a:srgbClr val="bbe0e3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m (Translation Preserves Semantics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 --&gt; s2         (in the lambda calculus with bool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anslate(s1)) --&gt; (translate(s2))        (in the pure lambda ca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7000" y="990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2952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8560" y="17524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057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24120" y="457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e) v --&gt; e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457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24920" y="243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49680" y="10810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1080" y="18432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8-10-03T15:17:53Z</dcterms:modified>
  <cp:revision>23</cp:revision>
  <dc:subject/>
  <dc:title>the lambda calculus</dc:title>
</cp:coreProperties>
</file>