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D18E-BA98-4A53-B645-D3A740508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BDBA-E969-47F1-B14C-F528091A8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3D33-AD2E-49B0-9647-963C114E1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B858-CE2B-4C42-9825-BC73CE54B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BC5E-A8A1-47CE-822B-3A3435FBE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51A0-34D9-41C4-8E57-E14354957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C5B6-F7C9-46A2-BE51-053063387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A495-0878-44F2-9910-AC2E76D95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8AA2-9560-4A87-ADF7-53E7B0C34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038A-A8EB-4982-B5D3-57F14E8B1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E541-016F-4CF3-B05D-4635B875A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5CFE-1A25-4D6F-9AD0-C268D81AE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F28E8-4C74-41D3-9C5D-C687D081CB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lambda calcul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Wal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S 44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095880" y="304920"/>
            <a:ext cx="2895840" cy="2286000"/>
          </a:xfrm>
          <a:prstGeom prst="rect">
            <a:avLst/>
          </a:prstGeom>
          <a:solidFill>
            <a:srgbClr val="bbe0e3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ole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((\x.\y.\z.x y z) (\x.\y.x)) v1) v2 --&gt;  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327000" y="1143000"/>
            <a:ext cx="178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--&gt; e1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e2 --&gt; e1’ 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248520" y="144792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478560" y="19051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2 --&gt;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 e2 --&gt; v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53080" y="2209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324120" y="609480"/>
            <a:ext cx="19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\x.e) v --&gt; e [v/x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400800" y="609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224920" y="39528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8149680" y="123336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pp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921080" y="199548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pp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6095880" y="304920"/>
            <a:ext cx="2895840" cy="2286000"/>
          </a:xfrm>
          <a:prstGeom prst="rect">
            <a:avLst/>
          </a:prstGeom>
          <a:solidFill>
            <a:srgbClr val="bbe0e3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ole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(\x.\y.\z.x y z) (\x.\y.x)) v1) --&gt;  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((\x.\y.\z.x y z) (\x.\y.x)) v1) v2 --&gt;  _____________ v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327000" y="1143000"/>
            <a:ext cx="178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--&gt; e1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e2 --&gt; e1’ 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248520" y="144792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78560" y="19051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2 --&gt;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 e2 --&gt; v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53080" y="2209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120" y="609480"/>
            <a:ext cx="19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\x.e) v --&gt; e [v/x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400800" y="609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5562720"/>
            <a:ext cx="7239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8224920" y="39528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8149680" y="123336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pp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921080" y="199548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pp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622640" y="533412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pp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rot="5400000">
            <a:off x="2209320" y="4419360"/>
            <a:ext cx="76320" cy="3429000"/>
          </a:xfrm>
          <a:custGeom>
            <a:avLst/>
            <a:gdLst>
              <a:gd name="textAreaLeft" fmla="*/ 0 w 76320"/>
              <a:gd name="textAreaRight" fmla="*/ 27360 w 76320"/>
              <a:gd name="textAreaTop" fmla="*/ 89280 h 3429000"/>
              <a:gd name="textAreaBottom" fmla="*/ 3339720 h 3429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002320" y="6172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V="1" rot="16200000">
            <a:off x="2133000" y="3352680"/>
            <a:ext cx="76320" cy="3429000"/>
          </a:xfrm>
          <a:custGeom>
            <a:avLst/>
            <a:gdLst>
              <a:gd name="textAreaLeft" fmla="*/ 0 w 76320"/>
              <a:gd name="textAreaRight" fmla="*/ 27360 w 76320"/>
              <a:gd name="textAreaTop" fmla="*/ 89280 h 3429000"/>
              <a:gd name="textAreaBottom" fmla="*/ 3339720 h 3429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967400" y="4662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rot="5400000">
            <a:off x="6172920" y="5042520"/>
            <a:ext cx="74520" cy="2209680"/>
          </a:xfrm>
          <a:custGeom>
            <a:avLst/>
            <a:gdLst>
              <a:gd name="textAreaLeft" fmla="*/ 0 w 74520"/>
              <a:gd name="textAreaRight" fmla="*/ 27000 w 74520"/>
              <a:gd name="textAreaTop" fmla="*/ 57600 h 2209680"/>
              <a:gd name="textAreaBottom" fmla="*/ 215208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990400" y="618660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6095880" y="304920"/>
            <a:ext cx="2895840" cy="2286000"/>
          </a:xfrm>
          <a:prstGeom prst="rect">
            <a:avLst/>
          </a:prstGeom>
          <a:solidFill>
            <a:srgbClr val="bbe0e3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ole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\x.\y.\z.x y z) (\x.\y.x) --&gt;  ___________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\x.\y.\z.x y z) (\x.\y.x)) v1 --&gt;  ___________ v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((\x.\y.\z.x y z) (\x.\y.x)) v1) v2 --&gt;  _____________ v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327000" y="1143000"/>
            <a:ext cx="178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--&gt; e1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e2 --&gt; e1’ 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248520" y="144792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478560" y="19051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2 --&gt;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 e2 --&gt; v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553080" y="2209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324120" y="609480"/>
            <a:ext cx="19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\x.e) v --&gt; e [v/x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400800" y="609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80880" y="5105520"/>
            <a:ext cx="6248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80880" y="5562720"/>
            <a:ext cx="7239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80880" y="4724280"/>
            <a:ext cx="5181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8224920" y="39528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8149680" y="123336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pp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921080" y="199548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pp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622640" y="533412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pp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625440" y="489096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pp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564520" y="451008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6095880" y="304920"/>
            <a:ext cx="2895840" cy="2286000"/>
          </a:xfrm>
          <a:prstGeom prst="rect">
            <a:avLst/>
          </a:prstGeom>
          <a:solidFill>
            <a:srgbClr val="bbe0e3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ole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\x.\y.\z.x y z (\x.\y.x) --&gt;  \y.\z.x y z [\x.\y.x / x]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(\x.\y.\z.x y z) (\x.\y.x)) v1) --&gt;                      v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((\x.\y.\z.x y z) (\x.\y.x)) v1) v2 --&gt;                           v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327000" y="1143000"/>
            <a:ext cx="178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--&gt; e1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e2 --&gt; e1’ 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248520" y="144792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478560" y="19051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2 --&gt;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 e2 --&gt; v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553080" y="2209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324120" y="609480"/>
            <a:ext cx="19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\x.e) v --&gt; e [v/x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400800" y="609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80880" y="5105520"/>
            <a:ext cx="6248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80880" y="5562720"/>
            <a:ext cx="7239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80880" y="4724280"/>
            <a:ext cx="5181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8224920" y="39528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8149680" y="123336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pp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921080" y="199548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pp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622640" y="533412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pp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625440" y="489096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pp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564520" y="451008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62120" y="4724280"/>
            <a:ext cx="1371600" cy="381240"/>
          </a:xfrm>
          <a:prstGeom prst="rect">
            <a:avLst/>
          </a:prstGeom>
          <a:solidFill>
            <a:srgbClr val="bbe0e3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733920" y="4724280"/>
            <a:ext cx="1371600" cy="381240"/>
          </a:xfrm>
          <a:prstGeom prst="rect">
            <a:avLst/>
          </a:prstGeom>
          <a:solidFill>
            <a:srgbClr val="bbe0e3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209680" y="4724280"/>
            <a:ext cx="838440" cy="381240"/>
          </a:xfrm>
          <a:prstGeom prst="rect">
            <a:avLst/>
          </a:prstGeom>
          <a:solidFill>
            <a:srgbClr val="ff99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181480" y="4724280"/>
            <a:ext cx="838440" cy="381240"/>
          </a:xfrm>
          <a:prstGeom prst="rect">
            <a:avLst/>
          </a:prstGeom>
          <a:solidFill>
            <a:srgbClr val="ff99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57200" y="4724280"/>
            <a:ext cx="304920" cy="381240"/>
          </a:xfrm>
          <a:prstGeom prst="rect">
            <a:avLst/>
          </a:prstGeom>
          <a:solidFill>
            <a:srgbClr val="99cc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172200" y="4724280"/>
            <a:ext cx="304920" cy="381240"/>
          </a:xfrm>
          <a:prstGeom prst="rect">
            <a:avLst/>
          </a:prstGeom>
          <a:solidFill>
            <a:srgbClr val="99cc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6095880" y="304920"/>
            <a:ext cx="2895840" cy="2286000"/>
          </a:xfrm>
          <a:prstGeom prst="rect">
            <a:avLst/>
          </a:prstGeom>
          <a:solidFill>
            <a:srgbClr val="bbe0e3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ole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\x.\y.\z.x y z (\x.\y.x) --&gt;  \y.\z.(\x.\y.x) y z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(\x.\y.\z.x y z) (\x.\y.x)) v1) --&gt;                      v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((\x.\y.\z.x y z) (\x.\y.x)) v1) v2 --&gt;                           v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327000" y="1143000"/>
            <a:ext cx="178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--&gt; e1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e2 --&gt; e1’ 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248520" y="144792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478560" y="19051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2 --&gt;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 e2 --&gt; v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553080" y="2209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324120" y="609480"/>
            <a:ext cx="19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\x.e) v --&gt; e [v/x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400800" y="609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80880" y="5105520"/>
            <a:ext cx="6248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80880" y="5562720"/>
            <a:ext cx="7239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80880" y="4724280"/>
            <a:ext cx="5181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8224920" y="39528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8149680" y="123336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pp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921080" y="199548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pp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622640" y="533412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pp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625440" y="489096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pp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564520" y="451008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62120" y="4724280"/>
            <a:ext cx="1371600" cy="381240"/>
          </a:xfrm>
          <a:prstGeom prst="rect">
            <a:avLst/>
          </a:prstGeom>
          <a:solidFill>
            <a:srgbClr val="bbe0e3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733920" y="4724280"/>
            <a:ext cx="685800" cy="381240"/>
          </a:xfrm>
          <a:prstGeom prst="rect">
            <a:avLst/>
          </a:prstGeom>
          <a:solidFill>
            <a:srgbClr val="bbe0e3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209680" y="4724280"/>
            <a:ext cx="838440" cy="381240"/>
          </a:xfrm>
          <a:prstGeom prst="rect">
            <a:avLst/>
          </a:prstGeom>
          <a:solidFill>
            <a:srgbClr val="ff99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495680" y="4724280"/>
            <a:ext cx="838440" cy="381240"/>
          </a:xfrm>
          <a:prstGeom prst="rect">
            <a:avLst/>
          </a:prstGeom>
          <a:solidFill>
            <a:srgbClr val="ff99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4724280"/>
            <a:ext cx="304920" cy="381240"/>
          </a:xfrm>
          <a:prstGeom prst="rect">
            <a:avLst/>
          </a:prstGeom>
          <a:solidFill>
            <a:srgbClr val="99cc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410080" y="4724280"/>
            <a:ext cx="685800" cy="381240"/>
          </a:xfrm>
          <a:prstGeom prst="rect">
            <a:avLst/>
          </a:prstGeom>
          <a:solidFill>
            <a:srgbClr val="bbe0e3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6095880" y="304920"/>
            <a:ext cx="2895840" cy="2286000"/>
          </a:xfrm>
          <a:prstGeom prst="rect">
            <a:avLst/>
          </a:prstGeom>
          <a:solidFill>
            <a:srgbClr val="bbe0e3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ole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\x.\y.\z.x y z (\x.\y.x) --&gt;  \y.\z.(\x.\y.x) y z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(\x.\y.\z.x y z) (\x.\y.x)) v1) --&gt; (\y.\z.(\x.\y.x) y z) v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((\x.\y.\z.x y z) (\x.\y.x)) v1) v2 --&gt;                           v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7000" y="1143000"/>
            <a:ext cx="178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--&gt; e1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e2 --&gt; e1’ 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248520" y="144792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478560" y="19051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2 --&gt;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 e2 --&gt; v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553080" y="2209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324120" y="609480"/>
            <a:ext cx="19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\x.e) v --&gt; e [v/x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400800" y="609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80880" y="5105520"/>
            <a:ext cx="6248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80880" y="5562720"/>
            <a:ext cx="7239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80880" y="4724280"/>
            <a:ext cx="5181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8224920" y="39528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8149680" y="123336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pp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921080" y="199548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pp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7622640" y="533412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pp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625440" y="489096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pp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564520" y="451008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62120" y="4724280"/>
            <a:ext cx="1371600" cy="381240"/>
          </a:xfrm>
          <a:prstGeom prst="rect">
            <a:avLst/>
          </a:prstGeom>
          <a:solidFill>
            <a:srgbClr val="bbe0e3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733920" y="4724280"/>
            <a:ext cx="685800" cy="381240"/>
          </a:xfrm>
          <a:prstGeom prst="rect">
            <a:avLst/>
          </a:prstGeom>
          <a:solidFill>
            <a:srgbClr val="bbe0e3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209680" y="4724280"/>
            <a:ext cx="838440" cy="381240"/>
          </a:xfrm>
          <a:prstGeom prst="rect">
            <a:avLst/>
          </a:prstGeom>
          <a:solidFill>
            <a:srgbClr val="ff99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495680" y="4724280"/>
            <a:ext cx="838440" cy="381240"/>
          </a:xfrm>
          <a:prstGeom prst="rect">
            <a:avLst/>
          </a:prstGeom>
          <a:solidFill>
            <a:srgbClr val="ff99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57200" y="4724280"/>
            <a:ext cx="304920" cy="381240"/>
          </a:xfrm>
          <a:prstGeom prst="rect">
            <a:avLst/>
          </a:prstGeom>
          <a:solidFill>
            <a:srgbClr val="99cc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410080" y="4724280"/>
            <a:ext cx="685800" cy="381240"/>
          </a:xfrm>
          <a:prstGeom prst="rect">
            <a:avLst/>
          </a:prstGeom>
          <a:solidFill>
            <a:srgbClr val="bbe0e3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6095880" y="304920"/>
            <a:ext cx="2895840" cy="2286000"/>
          </a:xfrm>
          <a:prstGeom prst="rect">
            <a:avLst/>
          </a:prstGeom>
          <a:solidFill>
            <a:srgbClr val="bbe0e3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ole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\x.\y.\z.x y z) (\x.\y.x) --&gt;  \y.\z.(\x.\y.x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(\x.\y.\z.x y z) (\x.\y.x)) v1) --&gt;  \y.\z.(\x.\y.x) v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((\x.\y.\z.x y z) (\x.\y.x)) v1) v2 --&gt;  \y.\z.(\x.\y.x) v1 v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327000" y="1143000"/>
            <a:ext cx="178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--&gt; e1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e2 --&gt; e1’ 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248520" y="144792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478560" y="19051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2 --&gt;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 e2 --&gt; v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553080" y="2209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324120" y="609480"/>
            <a:ext cx="19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\x.e) v --&gt; e [v/x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400800" y="609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0880" y="5105520"/>
            <a:ext cx="6248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80880" y="5562720"/>
            <a:ext cx="7239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80880" y="4724280"/>
            <a:ext cx="5181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8224920" y="39528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8149680" y="123336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pp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7921080" y="199548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pp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622640" y="533412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pp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625440" y="489096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pp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564520" y="451008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ole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late(true) = \t.\f. t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late(false) = \t.\f. f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late(and) = \b.\c. b c (translate(false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late(x) =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late(and true true) = (\b.\c. b c (\t.\f.f)) (\t.\f.t) (\t.\f.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ole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late(true) = \t.\f. t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late(false) = \t.\f. f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late(and) = \b.\c. b c (translate(false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late(x) =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late(and true true) = (\b.\c. b c (\t.\f.f)) (\t.\f.t) (\t.\f.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==&gt; wow is that ever tough to read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ole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u = \t.\f. t             fls = \t.\f. f            a = \b.\c. b c f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late(and true true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a tru tr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(\b.\c. b c fls) tru t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flipH="1" flipV="1">
            <a:off x="2209320" y="3428640"/>
            <a:ext cx="39625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246360" y="3505320"/>
            <a:ext cx="2512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 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ress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e: a and tru 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st meta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using to abbrevi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make m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able the transl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905120" y="3200400"/>
            <a:ext cx="75960" cy="457200"/>
          </a:xfrm>
          <a:custGeom>
            <a:avLst/>
            <a:gdLst>
              <a:gd name="textAreaLeft" fmla="*/ 0 w 75960"/>
              <a:gd name="textAreaRight" fmla="*/ 27360 w 7596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(untyped) lambda calcul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52280" y="990720"/>
            <a:ext cx="883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language of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 ::= x | \x.e | e1 e2           v ::= \x.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several different ways to evaluate lambda calculus expre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 far, we’ve studied left-to-right, call-by-valu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azingly, despite it’s minimalism, the lambda calculus is Turing complete and may serve as a foundation for all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523880" y="3733920"/>
            <a:ext cx="5486400" cy="1523880"/>
          </a:xfrm>
          <a:prstGeom prst="rect">
            <a:avLst/>
          </a:prstGeom>
          <a:solidFill>
            <a:srgbClr val="bbe0e3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755000" y="4572000"/>
            <a:ext cx="178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--&gt; e1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e2 --&gt; e1’ 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487692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03600" y="455760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2 --&gt;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 e2 --&gt; v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8480" y="48625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23720" y="4038480"/>
            <a:ext cx="19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\x.e) v --&gt; e [v/x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00400" y="403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024520" y="382428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577680" y="466236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pp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946120" y="464832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pp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ole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u = \t.\f. t             fls = \t.\f. f            a = \b.\c. b c f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tru tr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(\b.\c. b c fls) tru t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-&gt; (\c.tru c fls) t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019920" y="4114800"/>
            <a:ext cx="2895480" cy="2286000"/>
          </a:xfrm>
          <a:prstGeom prst="rect">
            <a:avLst/>
          </a:prstGeom>
          <a:solidFill>
            <a:srgbClr val="bbe0e3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251040" y="4952880"/>
            <a:ext cx="178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--&gt; e1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e2 --&gt; e1’ 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172200" y="525780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402240" y="571500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2 --&gt;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 e2 --&gt; v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400800" y="60199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248160" y="4419720"/>
            <a:ext cx="19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\x.e) v --&gt; e [v/x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324480" y="44197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8148960" y="420516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8073360" y="50436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pp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7844760" y="580536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pp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ole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u = \t.\f. t             fls = \t.\f. f            a = \b.\c. b c f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tru tr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(\b.\c. b c fls) tru t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-&gt; (\c.tru c fls) t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-&gt; tru tru f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019920" y="4114800"/>
            <a:ext cx="2895480" cy="2286000"/>
          </a:xfrm>
          <a:prstGeom prst="rect">
            <a:avLst/>
          </a:prstGeom>
          <a:solidFill>
            <a:srgbClr val="bbe0e3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251040" y="4952880"/>
            <a:ext cx="178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--&gt; e1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e2 --&gt; e1’ 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172200" y="525780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402240" y="571500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2 --&gt;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 e2 --&gt; v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400800" y="60199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248160" y="4419720"/>
            <a:ext cx="19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\x.e) v --&gt; e [v/x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6324480" y="44197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8148960" y="420516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8073360" y="50436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pp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7844760" y="580536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pp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ole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u = \t.\f. t             fls = \t.\f. f            a = \b.\c. b c f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tru tr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(\b.\c. b c fls) tru t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-&gt; (\c.tru c fls) t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-&gt; tru tru f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(\t.\f. t) tru f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019920" y="4114800"/>
            <a:ext cx="2895480" cy="2286000"/>
          </a:xfrm>
          <a:prstGeom prst="rect">
            <a:avLst/>
          </a:prstGeom>
          <a:solidFill>
            <a:srgbClr val="bbe0e3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6251040" y="4952880"/>
            <a:ext cx="178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--&gt; e1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e2 --&gt; e1’ 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6172200" y="525780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402240" y="571500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2 --&gt;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 e2 --&gt; v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400800" y="60199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248160" y="4419720"/>
            <a:ext cx="19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\x.e) v --&gt; e [v/x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324480" y="44197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8148960" y="420516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8073360" y="50436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pp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7844760" y="580536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pp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ole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u = \t.\f. t             fls = \t.\f. f            a = \b.\c. b c f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tru tr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(\b.\c. b c fls) tru t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-&gt; (\c.tru c fls) t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-&gt; tru tru f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(\t.\f. t) tru f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-&gt;(\f. tru) f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19920" y="4114800"/>
            <a:ext cx="2895480" cy="2286000"/>
          </a:xfrm>
          <a:prstGeom prst="rect">
            <a:avLst/>
          </a:prstGeom>
          <a:solidFill>
            <a:srgbClr val="bbe0e3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51040" y="4952880"/>
            <a:ext cx="178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--&gt; e1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e2 --&gt; e1’ 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172200" y="525780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402240" y="571500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2 --&gt;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 e2 --&gt; v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400800" y="60199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248160" y="4419720"/>
            <a:ext cx="19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\x.e) v --&gt; e [v/x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6324480" y="44197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8148960" y="420516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8073360" y="50436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pp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7844760" y="580536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pp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ole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u = \t.\f. t             fls = \t.\f. f            a = \b.\c. b c f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tru tr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(\b.\c. b c fls) tru t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-&gt; (\c.tru c fls) t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-&gt; tru tru f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(\t.\f. t) tru f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-&gt;(\f. tru) f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-&gt; t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019920" y="4114800"/>
            <a:ext cx="2895480" cy="2286000"/>
          </a:xfrm>
          <a:prstGeom prst="rect">
            <a:avLst/>
          </a:prstGeom>
          <a:solidFill>
            <a:srgbClr val="bbe0e3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251040" y="4952880"/>
            <a:ext cx="178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--&gt; e1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e2 --&gt; e1’ 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172200" y="525780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402240" y="571500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2 --&gt;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 e2 --&gt; v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6400800" y="60199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248160" y="4419720"/>
            <a:ext cx="19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\x.e) v --&gt; e [v/x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324480" y="44197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8148960" y="420516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8073360" y="50436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pp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844760" y="580536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pp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f stat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 ::= x | v | e1 e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| if e1 then e2 else e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 ::= \x.e | true | 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943600" y="1371600"/>
            <a:ext cx="2895480" cy="2286000"/>
          </a:xfrm>
          <a:prstGeom prst="rect">
            <a:avLst/>
          </a:prstGeom>
          <a:solidFill>
            <a:srgbClr val="bbe0e3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6174720" y="2209680"/>
            <a:ext cx="178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--&gt; e1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e2 --&gt; e1’ 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6095880" y="251460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325920" y="297180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2 --&gt;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 e2 --&gt; v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324480" y="32767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6171840" y="1676520"/>
            <a:ext cx="19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\x.e) v --&gt; e [v/x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248520" y="16765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8072640" y="146196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7997040" y="23004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pp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7768440" y="306216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pp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156240" y="3962520"/>
            <a:ext cx="481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e1 then e2 else e3 --&gt; if e1’ then e2 else e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228600" y="3962520"/>
            <a:ext cx="518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405760" y="374796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f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068840" y="4848120"/>
            <a:ext cx="31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rue then e2 else e3 --&gt; e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079640" y="486252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053240" y="464832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f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135520" y="3595680"/>
            <a:ext cx="11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--&gt; e1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094760" y="5729400"/>
            <a:ext cx="31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false then e2 else e3 --&gt; e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066680" y="571500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4224600" y="550080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f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p = (\x.x x) (\x.x 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(\x.x) true then \x.x else lo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&gt; if true then \x.x else lo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&gt; \x.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ole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wrong with the following translatio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late true = tr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late false = f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late (if e1 then e2 else e3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test (translate e1) (translate e2) (translate e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late (\x.e) = \x.(translate 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late (e1 e2) = (translate e1) (translate e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ole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wrong with the following translatio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late true = tr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late false = f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late (if e1 then e2 else e3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tst  (translate e1) (translate e2) (translate e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V="1">
            <a:off x="5562720" y="4266720"/>
            <a:ext cx="6094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6324480" y="4190760"/>
            <a:ext cx="19051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2520360" y="4876920"/>
            <a:ext cx="494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 e2 and e3 will both be evaluated regardl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whether e1 is true or 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 the target program might not termin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some cases when the source program wou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460200" y="228600"/>
            <a:ext cx="2300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re lambda term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u = \t.\f.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s = \t.\f.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 = \x.\y.\z. x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2666880" y="2362320"/>
            <a:ext cx="685800" cy="304560"/>
          </a:xfrm>
          <a:prstGeom prst="rect">
            <a:avLst/>
          </a:prstGeom>
          <a:solidFill>
            <a:srgbClr val="bbe0e3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666880" y="2743200"/>
            <a:ext cx="1752840" cy="304920"/>
          </a:xfrm>
          <a:prstGeom prst="rect">
            <a:avLst/>
          </a:prstGeom>
          <a:solidFill>
            <a:srgbClr val="bbe0e3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late (if (\x.x) true then \x.x else loo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tst translate((\x.x) true) (translate(\x.x)) (translate(loop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tst ((\x.x) tru) (\x.x) (loo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tst ((\x.x) tru) (\x.x) ((\x.x x) (\x.x x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0"/>
            <a:ext cx="5791320" cy="1523880"/>
          </a:xfrm>
          <a:prstGeom prst="rect">
            <a:avLst/>
          </a:prstGeom>
          <a:solidFill>
            <a:srgbClr val="bbe0e3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583800" y="824040"/>
            <a:ext cx="178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--&gt; e1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e2 --&gt; e1’ 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505320" y="112860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707160" y="425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2 --&gt;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 e2 --&gt; v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705720" y="7300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580920" y="290520"/>
            <a:ext cx="19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\x.e) v --&gt; e [v/x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657600" y="2905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5481720" y="7632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5406480" y="9144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pp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8149680" y="51588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pp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ending the lambda calcul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mbda calculus with boolea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 ::= x | true | false | test | \x.e | e1 e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 ::= true | false | test | \x.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3581280"/>
            <a:ext cx="8534520" cy="3276720"/>
          </a:xfrm>
          <a:prstGeom prst="rect">
            <a:avLst/>
          </a:prstGeom>
          <a:solidFill>
            <a:srgbClr val="bbe0e3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69040" y="3962520"/>
            <a:ext cx="328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e1 e2 e3 --&gt; test e1’ e2 e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39625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875560" y="374796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est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35720" y="3657600"/>
            <a:ext cx="121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--&gt; e1’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4960" y="4890960"/>
            <a:ext cx="32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v1 e2 e3 --&gt; test v1 e2’ e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9480" y="489096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741840" y="467676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est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02000" y="4586400"/>
            <a:ext cx="121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2 --&gt; e2’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878000" y="4890960"/>
            <a:ext cx="323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v1 v2 e3 --&gt; test v1 v2 e3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52880" y="489096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085240" y="467676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est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945400" y="4586400"/>
            <a:ext cx="121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3 --&gt; e3’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4240" y="5958000"/>
            <a:ext cx="22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true v2 v3 --&gt; v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09480" y="594360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668680" y="574344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est-tru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030280" y="5958000"/>
            <a:ext cx="23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false v2 v3 --&gt; v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5943600"/>
            <a:ext cx="21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272720" y="572940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est-fals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13080" y="6491160"/>
            <a:ext cx="412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 all the other lambda calculus r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late (if (\x.x) true then \x.x else loo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tst translate((\x.x) true) (translate(\x.x)) (translate(loop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tst ((\x.x) tru) (\x.x) (loo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tst ((\x.x) tru) (\x.x) ((\x.x x) (\x.x x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st ((\x.x) tru) (\x.x) ((\x.x x) (\x.x x)) --&gt; tst tru (\x.x) ((\x.x x) (\x.x x)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09480" y="3505320"/>
            <a:ext cx="1067040" cy="304560"/>
          </a:xfrm>
          <a:prstGeom prst="rect">
            <a:avLst/>
          </a:prstGeom>
          <a:solidFill>
            <a:srgbClr val="bbe0e3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4876920" y="3505320"/>
            <a:ext cx="380880" cy="304560"/>
          </a:xfrm>
          <a:prstGeom prst="rect">
            <a:avLst/>
          </a:prstGeom>
          <a:solidFill>
            <a:srgbClr val="bbe0e3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352680" y="0"/>
            <a:ext cx="5791320" cy="1523880"/>
          </a:xfrm>
          <a:prstGeom prst="rect">
            <a:avLst/>
          </a:prstGeom>
          <a:solidFill>
            <a:srgbClr val="bbe0e3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583800" y="824040"/>
            <a:ext cx="178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--&gt; e1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e2 --&gt; e1’ 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505320" y="112860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707160" y="425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2 --&gt;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 e2 --&gt; v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705720" y="7300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580920" y="290520"/>
            <a:ext cx="19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\x.e) v --&gt; e [v/x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657600" y="2905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5481720" y="7632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406480" y="9144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pp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8149680" y="51588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pp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late (if (\x.x) true then \x.x else loo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tst translate((\x.x) true) (translate(\x.x)) (translate(loop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tst ((\x.x) tru) (\x.x) (loo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tst ((\x.x) tru) (\x.x) ((\x.x x) (\x.x x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st ((\x.x) tru) (\x.x) ((\x.x x) (\x.x x)) --&gt; tst tru (\x.x) ((\x.x x) (\x.x x)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((\x.\y.\z. x y z) tru) (\x.x)) ((\x.x x) (\x.x x)) --&g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380880" y="4191120"/>
            <a:ext cx="1600200" cy="304560"/>
          </a:xfrm>
          <a:prstGeom prst="rect">
            <a:avLst/>
          </a:prstGeom>
          <a:solidFill>
            <a:srgbClr val="ff99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4572000" y="3505320"/>
            <a:ext cx="304920" cy="304560"/>
          </a:xfrm>
          <a:prstGeom prst="rect">
            <a:avLst/>
          </a:prstGeom>
          <a:solidFill>
            <a:srgbClr val="ff99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352680" y="0"/>
            <a:ext cx="5791320" cy="1523880"/>
          </a:xfrm>
          <a:prstGeom prst="rect">
            <a:avLst/>
          </a:prstGeom>
          <a:solidFill>
            <a:srgbClr val="bbe0e3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583800" y="824040"/>
            <a:ext cx="178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--&gt; e1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e2 --&gt; e1’ 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3505320" y="112860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6707160" y="425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2 --&gt;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 e2 --&gt; v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6705720" y="7300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580920" y="290520"/>
            <a:ext cx="19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\x.e) v --&gt; e [v/x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3657600" y="2905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5481720" y="7632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5406480" y="9144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pp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8149680" y="51588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pp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late (if (\x.x) true then \x.x else loo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tst translate((\x.x) true) (translate(\x.x)) (translate(loop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tst ((\x.x) tru) (\x.x) (loo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tst ((\x.x) tru) (\x.x) ((\x.x x) (\x.x x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st ((\x.x) tru) (\x.x) ((\x.x x) (\x.x x)) --&gt; tst tru (\x.x) ((\x.x x) (\x.x x)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((\x.\y.\z. x y z) tru) (\x.x)) ((\x.x x) (\x.x x)) --&g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(\y.\z.   tru y z)        (\x.x)) ((\x.x x) (\x.x x)) -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1981080" y="4191120"/>
            <a:ext cx="381240" cy="304560"/>
          </a:xfrm>
          <a:prstGeom prst="rect">
            <a:avLst/>
          </a:prstGeom>
          <a:solidFill>
            <a:srgbClr val="99cc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066680" y="4572000"/>
            <a:ext cx="381240" cy="304920"/>
          </a:xfrm>
          <a:prstGeom prst="rect">
            <a:avLst/>
          </a:prstGeom>
          <a:solidFill>
            <a:srgbClr val="99cc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457200" y="4191120"/>
            <a:ext cx="228600" cy="304560"/>
          </a:xfrm>
          <a:prstGeom prst="rect">
            <a:avLst/>
          </a:prstGeom>
          <a:solidFill>
            <a:srgbClr val="99cc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3352680" y="0"/>
            <a:ext cx="5791320" cy="1523880"/>
          </a:xfrm>
          <a:prstGeom prst="rect">
            <a:avLst/>
          </a:prstGeom>
          <a:solidFill>
            <a:srgbClr val="bbe0e3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583800" y="824040"/>
            <a:ext cx="178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--&gt; e1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e2 --&gt; e1’ 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3505320" y="112860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6707160" y="425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2 --&gt;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 e2 --&gt; v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705720" y="7300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3580920" y="290520"/>
            <a:ext cx="19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\x.e) v --&gt; e [v/x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3657600" y="2905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481720" y="7632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5406480" y="9144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pp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8149680" y="51588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pp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295280" y="4191120"/>
            <a:ext cx="228600" cy="304560"/>
          </a:xfrm>
          <a:prstGeom prst="rect">
            <a:avLst/>
          </a:prstGeom>
          <a:solidFill>
            <a:srgbClr val="99cc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late (if (\x.x) true then \x.x else loo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tst translate((\x.x) true) (translate(\x.x)) (translate(loop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tst ((\x.x) tru) (\x.x) (loo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tst ((\x.x) tru) (\x.x) ((\x.x x) (\x.x x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st ((\x.x) tru) (\x.x) ((\x.x x) (\x.x x)) --&gt; test tru (\x.x) ((\x.x x) (\x.x x)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((\x.\y.\z. x y z) tru) (\x.x)) ((\x.x x) (\x.x x)) --&g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(\y.\z.   tru y z)        (\x.x)) ((\x.x x) (\x.x x)) -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(    \z.   tru (\x.x) z)          ) ((\x.x x) (\x.x x)) -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80880" y="4572000"/>
            <a:ext cx="228600" cy="304920"/>
          </a:xfrm>
          <a:prstGeom prst="rect">
            <a:avLst/>
          </a:prstGeom>
          <a:solidFill>
            <a:srgbClr val="ff99cc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438280" y="4572000"/>
            <a:ext cx="609840" cy="304920"/>
          </a:xfrm>
          <a:prstGeom prst="rect">
            <a:avLst/>
          </a:prstGeom>
          <a:solidFill>
            <a:srgbClr val="ff99cc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523880" y="4952880"/>
            <a:ext cx="609840" cy="304920"/>
          </a:xfrm>
          <a:prstGeom prst="rect">
            <a:avLst/>
          </a:prstGeom>
          <a:solidFill>
            <a:srgbClr val="ff99cc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352680" y="0"/>
            <a:ext cx="5791320" cy="1523880"/>
          </a:xfrm>
          <a:prstGeom prst="rect">
            <a:avLst/>
          </a:prstGeom>
          <a:solidFill>
            <a:srgbClr val="bbe0e3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583800" y="824040"/>
            <a:ext cx="178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--&gt; e1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e2 --&gt; e1’ 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505320" y="112860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6707160" y="425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2 --&gt;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 e2 --&gt; v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6705720" y="7300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3580920" y="290520"/>
            <a:ext cx="19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\x.e) v --&gt; e [v/x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3657600" y="2905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5481720" y="7632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5406480" y="9144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pp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8149680" y="51588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pp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late (if (\x.x) true then \x.x else loo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tst translate((\x.x) true) (translate(\x.x)) (translate(loop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tst ((\x.x) tru) (\x.x) (loo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tst ((\x.x) tru) (\x.x) ((\x.x x) (\x.x x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st ((\x.x) tru) (\x.x) ((\x.x x) (\x.x x)) --&gt; tst tru (\x.x) ((\x.x x) (\x.x x)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((\x.\y.\z. x y z) tru) (\x.x)) ((\x.x x) (\x.x x)) --&g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(\y.\z.   tru y z)        (\x.x)) ((\x.x x) (\x.x x)) -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(    \z.   tru (\x.x) z)          ) ((\x.x x) (\x.x x)) -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(    \z.   tru (\x.x) z)          ) ((\x.x x) (\x.x x)) -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3276720" y="4952880"/>
            <a:ext cx="1600200" cy="304920"/>
          </a:xfrm>
          <a:prstGeom prst="rect">
            <a:avLst/>
          </a:prstGeom>
          <a:solidFill>
            <a:srgbClr val="ffff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3276720" y="5334120"/>
            <a:ext cx="1600200" cy="304560"/>
          </a:xfrm>
          <a:prstGeom prst="rect">
            <a:avLst/>
          </a:prstGeom>
          <a:solidFill>
            <a:srgbClr val="ffff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3352680" y="0"/>
            <a:ext cx="5791320" cy="1523880"/>
          </a:xfrm>
          <a:prstGeom prst="rect">
            <a:avLst/>
          </a:prstGeom>
          <a:solidFill>
            <a:srgbClr val="bbe0e3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3583800" y="824040"/>
            <a:ext cx="178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--&gt; e1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e2 --&gt; e1’ 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3505320" y="112860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6707160" y="425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2 --&gt;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 e2 --&gt; v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6705720" y="7300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3580920" y="290520"/>
            <a:ext cx="19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\x.e) v --&gt; e [v/x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3657600" y="2905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5481720" y="7632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5406480" y="9144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pp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49680" y="51588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pp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late (if (\x.x) true then \x.x else loo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tst translate((\x.x) true) (translate(\x.x)) (translate(loop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tst ((\x.x) tru) (\x.x) (loo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tst ((\x.x) tru) (\x.x) ((\x.x x) (\x.x x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st ((\x.x) tru) (\x.x) ((\x.x x) (\x.x x)) --&gt; tst tru (\x.x) ((\x.x x) (\x.x x)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((\x.\y.\z. x y z) tru) (\x.x)) ((\x.x x) (\x.x x)) --&g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(\y.\z.   tru y z)        (\x.x)) ((\x.x x) (\x.x x)) -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(    \z.   tru (\x.x) z)          ) ((\x.x x) (\x.x x)) -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(    \z.   tru (\x.x) z)          ) ((\x.x x) (\x.x x)) -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(    \z.   tru (\x.x) z)          ) ((\x.x x) (\x.x x)) --&gt;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3276720" y="5334120"/>
            <a:ext cx="1600200" cy="304560"/>
          </a:xfrm>
          <a:prstGeom prst="rect">
            <a:avLst/>
          </a:prstGeom>
          <a:solidFill>
            <a:srgbClr val="ffff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3276720" y="5715000"/>
            <a:ext cx="1600200" cy="304920"/>
          </a:xfrm>
          <a:prstGeom prst="rect">
            <a:avLst/>
          </a:prstGeom>
          <a:solidFill>
            <a:srgbClr val="ffff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3352680" y="0"/>
            <a:ext cx="5791320" cy="1523880"/>
          </a:xfrm>
          <a:prstGeom prst="rect">
            <a:avLst/>
          </a:prstGeom>
          <a:solidFill>
            <a:srgbClr val="bbe0e3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3583800" y="824040"/>
            <a:ext cx="178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--&gt; e1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e2 --&gt; e1’ 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3505320" y="112860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707160" y="425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2 --&gt;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 e2 --&gt; v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6705720" y="7300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3580920" y="290520"/>
            <a:ext cx="19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\x.e) v --&gt; e [v/x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3657600" y="2905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5481720" y="7632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5406480" y="9144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pp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8149680" y="51588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pp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ole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saw this translation didn’t wor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late (if e1 then e2 else e3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tst (translate e1) (translate e2) (translate e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need to delay execution of e2, e3 until the right tim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late (true) = \x.\y.(x (\x.x)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late (false) = \x.\y.(y (\x.x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late (if e1 then e2 else e3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(\x.\y.\z. x y z) (translate e1) (\w.translate e2) (\w.translate e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 other cases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i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uld like to encode the op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e1 e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st 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 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irs will be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the function is used in the fst or sec operation it should reveal its first or second component respectiv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i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= \x.\y.\b. b x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st = \p. p tru                        tru = \x.\y.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 = \p. p fls                       fls = \x.\y.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i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= \x.\y.\b. b x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st = \p. p tru                        tru = \x.\y.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 = \p. p fls                       fls = \x.\y.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st (create tru fl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fst ((\x.\y.\b. b x y) tru fl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1219320" y="3505320"/>
            <a:ext cx="1600200" cy="304560"/>
          </a:xfrm>
          <a:prstGeom prst="rect">
            <a:avLst/>
          </a:prstGeom>
          <a:solidFill>
            <a:srgbClr val="ff99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914400" y="3124080"/>
            <a:ext cx="762120" cy="304920"/>
          </a:xfrm>
          <a:prstGeom prst="rect">
            <a:avLst/>
          </a:prstGeom>
          <a:solidFill>
            <a:srgbClr val="ff99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oleans: the trans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boolean into pure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late(true) = \t.\f. 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late(false) = \t.\f. 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late(test) = \x.\y.\z. x y 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late(x) =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late(\x.e) = \x.(translate(e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late(e1 e2) = translate(e1) translate(e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495680" y="3276720"/>
            <a:ext cx="9144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433480" y="2590920"/>
            <a:ext cx="3477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s in the source 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ways get translated into val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target 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4648320" y="358128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409720" y="3581280"/>
            <a:ext cx="7621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057400" y="3048120"/>
            <a:ext cx="3808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45320" y="2703600"/>
            <a:ext cx="186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rce 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388320" y="2362320"/>
            <a:ext cx="17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 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4114440" y="281952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i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= \x.\y.\b. b x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st = \p. p tru                        tru = \x.\y.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 = \p. p fls                       fls = \x.\y.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st (create tru fl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fst ((\x.\y.\b. b x y) tru fl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&gt;* fst (\b. b tru fl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2819520" y="3505320"/>
            <a:ext cx="304560" cy="304560"/>
          </a:xfrm>
          <a:prstGeom prst="rect">
            <a:avLst/>
          </a:prstGeom>
          <a:solidFill>
            <a:srgbClr val="ff99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3200400" y="3505320"/>
            <a:ext cx="304920" cy="304560"/>
          </a:xfrm>
          <a:prstGeom prst="rect">
            <a:avLst/>
          </a:prstGeom>
          <a:solidFill>
            <a:srgbClr val="ff99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1981080" y="3809880"/>
            <a:ext cx="685800" cy="304920"/>
          </a:xfrm>
          <a:prstGeom prst="rect">
            <a:avLst/>
          </a:prstGeom>
          <a:solidFill>
            <a:srgbClr val="ff99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i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= \x.\y.\b. b x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st = \p. p tru                        tru = \x.\y.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 = \p. p fls                       fls = \x.\y.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st (create tru fl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fst ((\x.\y.\b. b x y) tru fl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&gt;* fst (\b. b tru fl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(\p.p tru) (\b. b tru fl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990720" y="3809880"/>
            <a:ext cx="304560" cy="304920"/>
          </a:xfrm>
          <a:prstGeom prst="rect">
            <a:avLst/>
          </a:prstGeom>
          <a:solidFill>
            <a:srgbClr val="ff99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62120" y="4191120"/>
            <a:ext cx="990360" cy="304560"/>
          </a:xfrm>
          <a:prstGeom prst="rect">
            <a:avLst/>
          </a:prstGeom>
          <a:solidFill>
            <a:srgbClr val="ff99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i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= \x.\y.\b. b x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st = \p. p tru                        tru = \x.\y.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 = \p. p fls                       fls = \x.\y.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st (create tru fl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fst ((\x.\y.\b. b x y) tru fl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&gt;* fst (\b. b tru fl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(\p.p tru) (\b. b tru fl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&gt; (\b. b tru fls) t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1752480" y="4191120"/>
            <a:ext cx="1371600" cy="304560"/>
          </a:xfrm>
          <a:prstGeom prst="rect">
            <a:avLst/>
          </a:prstGeom>
          <a:solidFill>
            <a:srgbClr val="ff99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914400" y="4572000"/>
            <a:ext cx="1371600" cy="304920"/>
          </a:xfrm>
          <a:prstGeom prst="rect">
            <a:avLst/>
          </a:prstGeom>
          <a:solidFill>
            <a:srgbClr val="ff99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i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= \x.\y.\b. b x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st = \p. p tru                        tru = \x.\y.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 = \p. p fls                       fls = \x.\y.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st (create tru fl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fst ((\x.\y.\b. b x y) tru fl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&gt;* fst (\b. b tru fl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(\p.p tru) (\b. b tru fl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&gt; (\b. b tru fls) t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&gt; tru tru f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(\x.\y.x) tru f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&gt; (\y.tru) f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&gt; t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we can go on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ithmetic expressions (+, -, *,..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s, trees and data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ptions, loops,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eneral tric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ues will be functions – construct these functions so that they return the appropriate information when called by an op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6095880" y="152280"/>
            <a:ext cx="2895840" cy="2286000"/>
          </a:xfrm>
          <a:prstGeom prst="rect">
            <a:avLst/>
          </a:prstGeom>
          <a:solidFill>
            <a:srgbClr val="bbe0e3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olean trans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late(test true s1 s2) = (\x.\y.\z.x y z) (\x.\y.x) v1 v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where v1 = translate s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v2 = translate s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27000" y="990720"/>
            <a:ext cx="178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--&gt; e1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e2 --&gt; e1’ 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248520" y="129528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78560" y="175248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2 --&gt;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 e2 --&gt; v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2057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24120" y="457200"/>
            <a:ext cx="19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\x.e) v --&gt; e [v/x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400800" y="457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224920" y="2430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149680" y="108108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pp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921080" y="18432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pp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6095880" y="152280"/>
            <a:ext cx="2895840" cy="2286000"/>
          </a:xfrm>
          <a:prstGeom prst="rect">
            <a:avLst/>
          </a:prstGeom>
          <a:solidFill>
            <a:srgbClr val="bbe0e3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olean trans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late(test true s1 s2) = (\x.\y.\z.x y z) (\x.\y.x) v1 v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where v1 = translate s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v2 = translate s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source language we hav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true s1 s2 --&gt; s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327000" y="990720"/>
            <a:ext cx="178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--&gt; e1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e2 --&gt; e1’ 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129528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478560" y="175248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2 --&gt;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 e2 --&gt; v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553080" y="2057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324120" y="457200"/>
            <a:ext cx="19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\x.e) v --&gt; e [v/x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400800" y="457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224920" y="2430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149680" y="108108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pp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921080" y="18432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pp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80880" y="4724280"/>
            <a:ext cx="2819520" cy="381240"/>
          </a:xfrm>
          <a:prstGeom prst="rect">
            <a:avLst/>
          </a:prstGeom>
          <a:solidFill>
            <a:srgbClr val="ff99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095880" y="152280"/>
            <a:ext cx="2895840" cy="2286000"/>
          </a:xfrm>
          <a:prstGeom prst="rect">
            <a:avLst/>
          </a:prstGeom>
          <a:solidFill>
            <a:srgbClr val="bbe0e3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olean trans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late(test true s1 s2) = (\x.\y.\z.x y z) (\x.\y.x) v1 v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where v1 = translate s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v2 = translate s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source language we hav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true s1 s2 --&gt; s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 in the target we wa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\x.\y.\z.x y z) (\x.\y.x) v1 v2 --&gt; v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327000" y="990720"/>
            <a:ext cx="178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--&gt; e1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e2 --&gt; e1’ 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248520" y="129528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478560" y="175248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2 --&gt;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 e2 --&gt; v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553080" y="2057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24120" y="457200"/>
            <a:ext cx="19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\x.e) v --&gt; e [v/x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400800" y="457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224920" y="2430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149680" y="108108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pp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921080" y="18432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pp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0880" y="4724280"/>
            <a:ext cx="2819520" cy="381240"/>
          </a:xfrm>
          <a:prstGeom prst="rect">
            <a:avLst/>
          </a:prstGeom>
          <a:solidFill>
            <a:srgbClr val="ff99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0880" y="6019920"/>
            <a:ext cx="4572000" cy="380880"/>
          </a:xfrm>
          <a:prstGeom prst="rect">
            <a:avLst/>
          </a:prstGeom>
          <a:solidFill>
            <a:srgbClr val="ff99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04920" y="4648320"/>
            <a:ext cx="2057400" cy="6094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28600" y="5943600"/>
            <a:ext cx="3962520" cy="6094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90440" y="5257800"/>
            <a:ext cx="343080" cy="838080"/>
          </a:xfrm>
          <a:custGeom>
            <a:avLst/>
            <a:gdLst/>
            <a:ahLst/>
            <a:rect l="l" t="t" r="r" b="b"/>
            <a:pathLst>
              <a:path w="216" h="528">
                <a:moveTo>
                  <a:pt x="216" y="0"/>
                </a:moveTo>
                <a:cubicBezTo>
                  <a:pt x="132" y="52"/>
                  <a:pt x="48" y="104"/>
                  <a:pt x="24" y="192"/>
                </a:cubicBezTo>
                <a:cubicBezTo>
                  <a:pt x="0" y="280"/>
                  <a:pt x="36" y="404"/>
                  <a:pt x="72" y="52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6095880" y="152280"/>
            <a:ext cx="2895840" cy="2286000"/>
          </a:xfrm>
          <a:prstGeom prst="rect">
            <a:avLst/>
          </a:prstGeom>
          <a:solidFill>
            <a:srgbClr val="bbe0e3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olean trans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late(test true s1 s2) = (\x.\y.\z.x y z) (\x.\y.x) v1 v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where v1 = translate s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v2 = translate s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source language we hav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true s1 s2 --&gt; s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 in the target we wa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\x.\y.\z.x y z) (\x.\y.x) v1 v2 --&gt; v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327000" y="990720"/>
            <a:ext cx="178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--&gt; e1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e2 --&gt; e1’ 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248520" y="129528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478560" y="175248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2 --&gt;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 e2 --&gt; v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553080" y="2057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120" y="457200"/>
            <a:ext cx="19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\x.e) v --&gt; e [v/x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400800" y="457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224920" y="2430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149680" y="108108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pp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921080" y="18432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pp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0880" y="4724280"/>
            <a:ext cx="2819520" cy="381240"/>
          </a:xfrm>
          <a:prstGeom prst="rect">
            <a:avLst/>
          </a:prstGeom>
          <a:solidFill>
            <a:srgbClr val="ff99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0880" y="6019920"/>
            <a:ext cx="4572000" cy="380880"/>
          </a:xfrm>
          <a:prstGeom prst="rect">
            <a:avLst/>
          </a:prstGeom>
          <a:solidFill>
            <a:srgbClr val="ff99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743200" y="4648320"/>
            <a:ext cx="533520" cy="6094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495680" y="5943600"/>
            <a:ext cx="533520" cy="6094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5105520"/>
            <a:ext cx="1371600" cy="838080"/>
          </a:xfrm>
          <a:custGeom>
            <a:avLst/>
            <a:gdLst/>
            <a:ahLst/>
            <a:rect l="l" t="t" r="r" b="b"/>
            <a:pathLst>
              <a:path w="864" h="528">
                <a:moveTo>
                  <a:pt x="0" y="0"/>
                </a:moveTo>
                <a:cubicBezTo>
                  <a:pt x="168" y="4"/>
                  <a:pt x="336" y="8"/>
                  <a:pt x="480" y="96"/>
                </a:cubicBezTo>
                <a:cubicBezTo>
                  <a:pt x="624" y="184"/>
                  <a:pt x="744" y="356"/>
                  <a:pt x="864" y="52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04920" y="4648320"/>
            <a:ext cx="2057400" cy="6094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28600" y="5943600"/>
            <a:ext cx="3962520" cy="6094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0440" y="5257800"/>
            <a:ext cx="343080" cy="838080"/>
          </a:xfrm>
          <a:custGeom>
            <a:avLst/>
            <a:gdLst/>
            <a:ahLst/>
            <a:rect l="l" t="t" r="r" b="b"/>
            <a:pathLst>
              <a:path w="216" h="528">
                <a:moveTo>
                  <a:pt x="216" y="0"/>
                </a:moveTo>
                <a:cubicBezTo>
                  <a:pt x="132" y="52"/>
                  <a:pt x="48" y="104"/>
                  <a:pt x="24" y="192"/>
                </a:cubicBezTo>
                <a:cubicBezTo>
                  <a:pt x="0" y="280"/>
                  <a:pt x="36" y="404"/>
                  <a:pt x="72" y="52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6095880" y="152280"/>
            <a:ext cx="2895840" cy="2286000"/>
          </a:xfrm>
          <a:prstGeom prst="rect">
            <a:avLst/>
          </a:prstGeom>
          <a:solidFill>
            <a:srgbClr val="bbe0e3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olean trans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orem (Translation Preserves Semantics)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1 --&gt; s2         (in the lambda calculus with boolea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ranslate(s1)) --&gt; (translate(s2))        (in the pure lambda cal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7000" y="990720"/>
            <a:ext cx="178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--&gt; e1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e2 --&gt; e1’ 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248520" y="129528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478560" y="175248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2 --&gt;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 e2 --&gt; v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553080" y="2057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324120" y="457200"/>
            <a:ext cx="19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\x.e) v --&gt; e [v/x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400800" y="457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8224920" y="2430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149680" y="108108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pp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921080" y="18432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pp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2T01:02:29Z</dcterms:created>
  <dc:creator>Preferred Customer</dc:creator>
  <dc:description/>
  <dc:language>en-US</dc:language>
  <cp:lastModifiedBy>dpw</cp:lastModifiedBy>
  <dcterms:modified xsi:type="dcterms:W3CDTF">2008-10-03T15:17:53Z</dcterms:modified>
  <cp:revision>23</cp:revision>
  <dc:subject/>
  <dc:title>the lambda calculus</dc:title>
</cp:coreProperties>
</file>