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C9C-8552-45AA-9A33-1C5107A3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A3D-F81F-49BF-9847-E14C38BE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02E-8BDB-468F-B4B0-594BB559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51A-7BC5-436E-A062-D4B671A7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297-077A-4282-974A-6F58CBFA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768-17F6-4C78-879A-DAED4BD5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80F-081D-4A29-AB8C-74807A6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42A-142D-450C-A11F-A6870906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6C6-ABCB-4B7B-B4B8-67711522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347-359F-41FA-839F-A740E7D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813-29FF-41FF-BAD9-AE3BB72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597-7FFD-4F49-9036-3AE71882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AB43-BE45-48EA-860C-589DD1AC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2209320" y="4419360"/>
            <a:ext cx="76320" cy="3429000"/>
          </a:xfrm>
          <a:custGeom>
            <a:avLst/>
            <a:gdLst>
              <a:gd name="textAreaLeft" fmla="*/ 0 w 76320"/>
              <a:gd name="textAreaRight" fmla="*/ 2736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0232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6200000">
            <a:off x="2133000" y="3352680"/>
            <a:ext cx="76320" cy="3429000"/>
          </a:xfrm>
          <a:custGeom>
            <a:avLst/>
            <a:gdLst>
              <a:gd name="textAreaLeft" fmla="*/ 0 w 76320"/>
              <a:gd name="textAreaRight" fmla="*/ 2736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67400" y="4662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172920" y="5042520"/>
            <a:ext cx="74520" cy="2209680"/>
          </a:xfrm>
          <a:custGeom>
            <a:avLst/>
            <a:gdLst>
              <a:gd name="textAreaLeft" fmla="*/ 0 w 74520"/>
              <a:gd name="textAreaRight" fmla="*/ 27000 w 745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90400" y="6186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--&gt;  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) v1 --&gt;  ___________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x y z [\x.\y.x / x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                   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(\x.\y.x) y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                   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(\x.\y.x) y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(\y.\z.(\x.\y.x) y z)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--&gt;  \y.\z.(\x.\y.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\y.\z.(\x.\y.x)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\y.\z.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true) = \t.\f. t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false) = \t.\f. f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) = \b.\c. b c (translate(fals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x) 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= (\b.\c. b c (\t.\f.f)) (\t.\f.t) (\t.\f.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true) = \t.\f. t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false) = \t.\f. f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) = \b.\c. b c (translate(fals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x) 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= (\b.\c. b c (\t.\f.f)) (\t.\f.t) (\t.\f.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=&gt; wow is that ever tough to rea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2209320" y="342864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6360" y="3505320"/>
            <a:ext cx="251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e: a and tr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meta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using to abbrev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ak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able the 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200400"/>
            <a:ext cx="75960" cy="457200"/>
          </a:xfrm>
          <a:custGeom>
            <a:avLst/>
            <a:gdLst>
              <a:gd name="textAreaLeft" fmla="*/ 0 w 75960"/>
              <a:gd name="textAreaRight" fmla="*/ 2736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(untyped)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nguage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::= x | \x.e | e1 e2           v ::= \x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different ways to evaluate lambda calculu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, we’ve studied left-to-right, call-by-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ingly, despite it’s minimalism, the lambda calculus is Turing complete and may serve as a foundation for al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733920"/>
            <a:ext cx="548640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5000" y="4572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876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3600" y="45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48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3720" y="4038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4520" y="382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77680" y="4662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6120" y="46483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(\f. tru)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(\f. tru)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v | e1 e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if e1 then e2 else e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\x.e | true |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13716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74720" y="2209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5880" y="2514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25920" y="29718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1840" y="1676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4852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072640" y="1461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997040" y="2300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768440" y="30621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6240" y="39625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1 then e2 else e3 --&gt; if e1’ then e2 else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39625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05760" y="37479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8840" y="484812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ue then e2 else e3 --&gt; e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79640" y="4862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53240" y="4648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35520" y="359568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94760" y="57294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lse then e2 else e3 --&gt;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24600" y="5500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= (\x.x x) (\x.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\x.x) true then \x.x els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if true then \x.x els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\x.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\x.e) = \x.(translate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e1 e2) = (translate e1) (translate e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st 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60200" y="228600"/>
            <a:ext cx="23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 lambda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 = \t.\f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s = \t.\f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 = \x.\y.\z.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666880" y="2362320"/>
            <a:ext cx="68580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66880" y="2743200"/>
            <a:ext cx="1752840" cy="3049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bda calculus with bool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true | false | test | \x.e | e1 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true | false | test | \x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581280"/>
            <a:ext cx="8534520" cy="32767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9040" y="39625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1 e2 e3 --&gt; test e1’ e2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9625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75560" y="3747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5720" y="36576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4960" y="489096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v1 e2 e3 --&gt; test v1 e2’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8909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1840" y="4676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2000" y="45864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8000" y="489096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v1 v2 e3 --&gt; test v1 v2 e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8909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85240" y="4676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5400" y="45864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3 --&gt; e3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4240" y="59580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rue v2 v3 --&gt;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943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8680" y="5743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-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0280" y="59580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alse v2 v3 --&gt; 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594360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2720" y="57294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-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3080" y="649116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ll the other lambda calculus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505320"/>
            <a:ext cx="106704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3505320"/>
            <a:ext cx="38088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4191120"/>
            <a:ext cx="16002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3505320"/>
            <a:ext cx="30492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4191120"/>
            <a:ext cx="38124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4572000"/>
            <a:ext cx="381240" cy="30492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4191120"/>
            <a:ext cx="22860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191120"/>
            <a:ext cx="22860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e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4572000"/>
            <a:ext cx="22860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38280" y="4572000"/>
            <a:ext cx="60984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3880" y="4952880"/>
            <a:ext cx="60984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4952880"/>
            <a:ext cx="1600200" cy="30492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5334120"/>
            <a:ext cx="1600200" cy="30456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5334120"/>
            <a:ext cx="1600200" cy="30456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5715000"/>
            <a:ext cx="1600200" cy="30492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aw this translation didn’t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translate e1) (translate e2) (translate e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delay execution of e2, e3 until the right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true) = \x.\y.(x (\x.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false) = \x.\y.(y (\x.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x.\y.\z. x y z) (translate e1) (\w.translate e2) (\w.translate e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other cas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19320" y="3505320"/>
            <a:ext cx="16002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124080"/>
            <a:ext cx="76212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: the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oolean into pu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true)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false)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test) = \x.\y.\z. x y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x)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\x.e) = \x.(translate(e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e1 e2) = translate(e1) translate(e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9568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3480" y="2590920"/>
            <a:ext cx="347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in the sourc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get translated int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832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35812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8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320" y="2703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88320" y="2362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114440" y="2819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30456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3505320"/>
            <a:ext cx="30492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81080" y="3809880"/>
            <a:ext cx="68580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3809880"/>
            <a:ext cx="30456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4191120"/>
            <a:ext cx="99036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b. b tru fls)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52480" y="4191120"/>
            <a:ext cx="13716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4572000"/>
            <a:ext cx="137160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b. b tru fls)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tru tru 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x.\y.x) tru f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y.tru) 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n the target we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v1 v2 --&gt;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019920"/>
            <a:ext cx="4572000" cy="3808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648320"/>
            <a:ext cx="2057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943600"/>
            <a:ext cx="3962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" y="5257800"/>
            <a:ext cx="343080" cy="838080"/>
          </a:xfrm>
          <a:custGeom>
            <a:avLst/>
            <a:gdLst/>
            <a:ahLst/>
            <a:rect l="l" t="t" r="r" b="b"/>
            <a:pathLst>
              <a:path w="216" h="528">
                <a:moveTo>
                  <a:pt x="216" y="0"/>
                </a:moveTo>
                <a:cubicBezTo>
                  <a:pt x="132" y="52"/>
                  <a:pt x="48" y="104"/>
                  <a:pt x="24" y="192"/>
                </a:cubicBezTo>
                <a:cubicBezTo>
                  <a:pt x="0" y="280"/>
                  <a:pt x="36" y="404"/>
                  <a:pt x="72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n the target we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v1 v2 --&gt;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6019920"/>
            <a:ext cx="4572000" cy="3808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4648320"/>
            <a:ext cx="533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943600"/>
            <a:ext cx="533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5105520"/>
            <a:ext cx="1371600" cy="83808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cubicBezTo>
                  <a:pt x="168" y="4"/>
                  <a:pt x="336" y="8"/>
                  <a:pt x="480" y="96"/>
                </a:cubicBezTo>
                <a:cubicBezTo>
                  <a:pt x="624" y="184"/>
                  <a:pt x="744" y="356"/>
                  <a:pt x="864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648320"/>
            <a:ext cx="2057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943600"/>
            <a:ext cx="3962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5257800"/>
            <a:ext cx="343080" cy="838080"/>
          </a:xfrm>
          <a:custGeom>
            <a:avLst/>
            <a:gdLst/>
            <a:ahLst/>
            <a:rect l="l" t="t" r="r" b="b"/>
            <a:pathLst>
              <a:path w="216" h="528">
                <a:moveTo>
                  <a:pt x="216" y="0"/>
                </a:moveTo>
                <a:cubicBezTo>
                  <a:pt x="132" y="52"/>
                  <a:pt x="48" y="104"/>
                  <a:pt x="24" y="192"/>
                </a:cubicBezTo>
                <a:cubicBezTo>
                  <a:pt x="0" y="280"/>
                  <a:pt x="36" y="404"/>
                  <a:pt x="72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 (Translation Preserves Semantics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--&gt; s2         (in the lambda calculus with bool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anslate(s1)) --&gt; (translate(s2))        (in the pure lambda ca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8-10-03T15:17:53Z</dcterms:modified>
  <cp:revision>23</cp:revision>
  <dc:subject/>
  <dc:title>the lambda calculus</dc:title>
</cp:coreProperties>
</file>