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DB0-843E-4EE6-83FF-65182E74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3466-AC70-42EE-AFFB-9248D569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D9F-EC19-4838-B462-2C948C89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E99-2321-4814-BD19-3F4F605A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4B0-155A-40CE-B277-475E62B9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88C-2A86-494C-8C53-9F187A8C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3B2-8530-4120-A6EF-DC82EEF5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725-3876-4A9D-A5AE-20648060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B33-A9D6-41F7-BCEC-02A445AC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AC04-A456-4171-84F9-26EECB47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131-4376-474C-AA79-770EFEFA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2A1-DADE-4277-8031-407B5081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08D6-7ACF-4128-8006-BFF45769B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\y.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it is simple to write non terminating computations i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can do every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can be used as an “assembly langu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show how to compile useful, high-level operations and language features into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adding high-level operations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ogrammers, bu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a computational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make your compiler intermediate language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3434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= lambda calculus +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9436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= lambda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0292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3440" y="5218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/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the lambda calculus was developed as a logic by Alonzo Church in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urch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There may, indeed, be other applications of the system than its use as a log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ve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I’ll s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e2) 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x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\x.e) = \x.translat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e1 e2) = (translate e1) (translate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ncode boo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represent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functions name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fine these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how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by a testing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 b then 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true and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the implementation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going to be able to do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apply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must distinguish themselves when they are appl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ru a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t.\f. t) a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u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ls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, 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every full-scale programming language has some notion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(pure) lambda calculus is a language compos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r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lambda calculus to study the essence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just as fundamental as Turing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:=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vari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\x.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unction; in ML: fn x =&gt; 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e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unction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 “\” will be written “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n a nice fon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t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otational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ssociate to the left (like in ML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z x”     is   “(y z)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a lambda extends as far as possible to the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 \z.x z x”     is     “\x.(x \z.(x z x)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x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523520" y="20574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8320" y="247500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x is the term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447920" y="4441680"/>
            <a:ext cx="2520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53080" y="527220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rm \x.x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854000" y="44737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7720" y="4890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erm \x.x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V 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ep, call-by-value OS: e --&gt; 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    v ::= \x.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 (beta reduc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 [v/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erm in which all free occurrences of x in t are replaced with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lacement operation is calle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efine it carefully later in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7920" y="36576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657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, evaluation is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13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4320" y="2743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dpw</cp:lastModifiedBy>
  <dcterms:modified xsi:type="dcterms:W3CDTF">2008-10-03T15:19:23Z</dcterms:modified>
  <cp:revision>11</cp:revision>
  <dc:subject/>
  <dc:title>the lambda calculus</dc:title>
</cp:coreProperties>
</file>