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511-C42F-4E9C-8B23-549104A5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DB3-D74C-488C-A129-86FE8340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78F-DCC4-42E5-9F41-CD69BFFC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21CA-EDD8-4E3F-BCA4-8C67701A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EF2-3305-484E-B8A4-A516B619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603-0056-4633-B811-0B6E452B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B23-62EB-4A44-8CD0-2EDE38D1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1FE-26C9-4CB5-8372-6CA3C9BF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004-A7DA-4A0F-9C42-91807340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342-06EE-4853-B762-44526088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CE2-1F07-477C-8FE9-4DD4EADB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02A-4FA3-49B0-B6BC-BA98E3E1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F4B6-8800-4999-959E-600FEF00A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4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\y.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it is simple to write non terminating computations in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can do every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can be used as an “assembly langu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show how to compile useful, high-level operations and language features into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adding high-level operations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en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rogrammers, bu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a computational neces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make your compiler intermediate language 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3434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= lambda calculus +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59436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= lambda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0292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3440" y="52182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/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the lambda calculus was developed as a logic by Alonzo Church in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urch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There may, indeed, be other applications of the system than its use as a logic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ve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I’ll s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e2) 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x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\x.e) = \x.translat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e1 e2) = (translate e1) (translate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encode bool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represent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s functions name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define these fun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how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be used by a testing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 b then 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true and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thing the implementation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going to be able to do with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apply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must distinguish themselves when they are appl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co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ru a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t.\f. t) a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u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ls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ce, 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every full-scale programming language has some notion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(pure) lambda calculus is a language compos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ir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lambda calculus to study the essence of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just as fundamental as Turing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::=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vari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\x.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unction; in ML: fn x =&gt; 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e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unction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 “\” will be written “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n a nice fon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ntit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notational con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ssociate to the left (like in ML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z x”     is   “(y z)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of a lambda extends as far as possible to the 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x \z.x z x”     is     “\x.(x \z.(x z x)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x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523520" y="20574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8320" y="247500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c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x is the term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447920" y="4441680"/>
            <a:ext cx="25200" cy="66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53080" y="5272200"/>
            <a:ext cx="19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rm \x.x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854000" y="44737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37720" y="4890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term \x.x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V 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tep, call-by-value OS: e --&gt; 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re     v ::= \x.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 (beta reduc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 [v/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term in which all free occurrences of x in t are replaced with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lacement operation is called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efine it carefully later in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7920" y="36576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657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, evaluation is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13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4320" y="27432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1:02:29Z</dcterms:created>
  <dc:creator>Preferred Customer</dc:creator>
  <dc:description/>
  <dc:language>en-US</dc:language>
  <cp:lastModifiedBy>dpw</cp:lastModifiedBy>
  <dcterms:modified xsi:type="dcterms:W3CDTF">2008-10-03T15:19:23Z</dcterms:modified>
  <cp:revision>11</cp:revision>
  <dc:subject/>
  <dc:title>the lambda calculus</dc:title>
</cp:coreProperties>
</file>