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603-647A-4D16-939C-D23718BA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893-026C-44D2-A3F1-68EC8324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63B-DA47-47B5-BAF2-351A7C6A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3C6-7687-4AE5-83B2-F33AAC41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CAD-07CC-40C1-B502-71C5D4D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E34-25C5-474A-AF56-B1BF5C3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475-99D5-4ED5-B762-396BCE2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30D-7CDA-4B3E-A260-698B57CE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19D-C98A-46C8-8DFA-3D2CE72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99-492B-40D4-9E0C-C248DB1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46E-7277-49BF-A4B4-EF569F6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BF0-946B-4CA1-9497-2094089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775A-35E1-44C2-A4AC-251B1A7A26E2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ications of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Programming Language Theory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A26-CA4A-458C-B33A-B8315F9661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891-7E52-4F26-B0A4-05336DB877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9F3-5DDB-40B6-B9C2-02485C66E01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C58-6DD9-4803-83EE-369FF7472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ummary so Fa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e’ve seen what privileges are and how to assign them to fragments of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ext: how does the system use privileges to enforce an access control policy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764-E634-4524-8B0C-96C19F1E3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7EE-6D81-49D7-A6FB-797936EFDB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“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2F9-D4E5-485E-8A75-C99045CCDA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24F-EAB8-49F8-AD83-92917B6BCB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1C5-7466-4A9D-B625-0CE6FDA9F2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9D1-4CC3-4EF8-BB99-B94C725D96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E60-1FD2-444B-AFC7-779A167ED0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038-B99B-4CB1-AE4E-7AF8D2AAD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973-BFDC-405A-898F-F47EC03B5F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81F-0644-4FEE-9659-DFB3DC0C9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440-619B-4EAB-BF9B-44E89CC6AC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 (“~dpw/grades.txt”,</a:t>
            </a:r>
            <a:r>
              <a:rPr b="0" lang="en-US" sz="16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“Nick: A+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B67-C610-4917-871F-E741D2B92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E67-E507-4F36-AEA3-C818F02718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BE6-3A16-49E3-8588-CEC5D554C7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D18-1C26-471C-9157-871B7D00B8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886-5D3D-4CFA-BF2C-C1134730EE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D1F-9A2A-4172-AE37-1FE24A1145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A3E-2AFE-466E-9975-F562ABC28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ast privileg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mplete mediation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14F-377C-49C7-B7EE-BBC010C32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Sets of  permissions (models an entit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AA8-4E7F-4DCC-BF6D-2B9C38CE8C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279-BA75-4F05-80F4-143F6F14C4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delling the Classloade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9D0-71A2-419D-AA7C-02DF535315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4160" y="144792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write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 Mono"/>
              </a:rPr>
              <a:t>System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“f2 contents” // primitive file 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0720" y="4503600"/>
            <a:ext cx="854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“f2 conte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465-0746-4445-ACA2-C7E95E9754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F70-F47D-43C2-9A24-BC0D5F5CF0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E11-8524-4E12-AF13-2462D0A297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614880" y="1371600"/>
            <a:ext cx="54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“f2 cont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7960" y="4038480"/>
            <a:ext cx="681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(E)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313-B725-46EB-83FB-CD54804B2D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0CC-A299-41AA-A1F8-528B9DBB8A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078-D58C-4CA3-A033-3901082CFD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196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19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0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945-DEB9-4FD7-AD3C-9392556F30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 (Bytecode Verificatio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191120"/>
            <a:ext cx="1981080" cy="990360"/>
          </a:xfrm>
          <a:prstGeom prst="wedgeRoundRectCallout">
            <a:avLst>
              <a:gd name="adj1" fmla="val -240384"/>
              <a:gd name="adj2" fmla="val -9278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438280"/>
            <a:ext cx="1981440" cy="1371600"/>
          </a:xfrm>
          <a:prstGeom prst="wedgeRoundRectCallout">
            <a:avLst>
              <a:gd name="adj1" fmla="val -140064"/>
              <a:gd name="adj2" fmla="val -51273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Most of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33E-85DB-46DC-A241-AC387318C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1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1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25D-B9F8-4326-964F-6DFC87E566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ason about optimization:  Which programs are equal?  (Is the optimized program the same as the unoptimized program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efine e = e’  i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 all C[], C[e] terminates whenever C[e’] term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What Can You Do with an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Operational Semantics?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345-D8B1-4A69-A278-DF454AEDA5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28F-DD20-4A44-847E-FB398ED4F7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632-FFF1-420B-808A-5F0B6738B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D38-57F4-4FA1-B96E-BC4E890AC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FAE-E040-44A3-8190-DE6DAA00C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rmissions are implemented by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java.security.Permission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class for which there are many subclass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32F-8ACB-40C4-8F18-713B141CA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BCD-7EAD-4788-A91D-04A4E72F0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8-12-12T17:15:17Z</dcterms:modified>
  <cp:revision>80</cp:revision>
  <dc:subject/>
  <dc:title>Observational Determinism for  Concurrent Program Security</dc:title>
</cp:coreProperties>
</file>