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0CD-0003-4842-8851-B3CEFF40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257-ED78-4334-A97F-8B1BE4A8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3B3-0250-4841-8FCB-A7722A49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F98-0B46-4C27-A19C-F59E0998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FD9-118E-4A50-A580-34DE2B03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E08-209B-4F7F-8C41-EBB8AEE4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DB2-BB08-453C-8872-02CCB499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CE54-1D40-4404-845F-598F2F9A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F3B4-4377-4A29-92D7-E470325E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4B67-8FA9-46A1-9F2B-B9A667E8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9D03-4173-42F0-BDD1-9E8F2163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FA7-29D2-4BB6-81E8-42F42A19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COS 4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FC7B-8554-4B4F-905B-8823582CF2AC}" type="slidenum"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pplications of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Programming Language Theory: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00120" y="3886200"/>
            <a:ext cx="434340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S 441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ith slides stolen from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eve Zdancew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University of Pennsylvani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4DE1-7C04-423E-AD24-0FF0FEF3BD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 order to pull new code into the virtual machine, we use an object from th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ClassLoader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 class loader will look in the file system, or across the network for a class file, or possibly dynamically generate the class 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hen loading the first class of an application, a new instance of the 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hen loading the first class of an applet, a new instance of the 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lass loaders are responsible for placing classes into their security domain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places classes in domains depending on where they are fr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Other ClassLoaders places classes in domains based on digital signatures, or origin (such as local file system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4FF-8649-4971-A2F5-5627187032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 Hierarchy 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6" name=""/>
          <p:cNvSpPr/>
          <p:nvPr/>
        </p:nvSpPr>
        <p:spPr>
          <a:xfrm>
            <a:off x="3326400" y="2973240"/>
            <a:ext cx="23385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9200" y="4038480"/>
            <a:ext cx="35668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ecure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33280" y="4038480"/>
            <a:ext cx="3044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9960" y="5105520"/>
            <a:ext cx="34876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124080" y="3505320"/>
            <a:ext cx="1371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3505320"/>
            <a:ext cx="1828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1447920"/>
            <a:ext cx="2590920" cy="1295280"/>
          </a:xfrm>
          <a:prstGeom prst="cloudCallout">
            <a:avLst>
              <a:gd name="adj1" fmla="val -14217"/>
              <a:gd name="adj2" fmla="val 19731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Primordial ClassLo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E32-FEC7-4EFE-AE3C-72FEFE3584B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Associating Privileges with Domains</a:t>
            </a:r>
            <a:endParaRPr b="1" lang="en-US" sz="32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5" name=""/>
          <p:cNvSpPr/>
          <p:nvPr/>
        </p:nvSpPr>
        <p:spPr>
          <a:xfrm>
            <a:off x="687240" y="1523880"/>
            <a:ext cx="7767720" cy="325764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http://www.l33t-hax0rz.com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file://$JAVA_HOME/lib/ext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security.AllPermis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signedBy “trusted-company.com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net.SocketPermission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5600" y="4800600"/>
            <a:ext cx="5392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Policy information stored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JAVA_HOME/lib/security/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USER_HOME/.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(or passed on command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363-8844-4615-8ABB-6A4AC0556A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ummary so Far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e’ve seen what privileges are and how to assign them to fragments of cod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Next: how does the system use privileges to enforce an access control policy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EE2-2E61-43FD-B17D-1215E21623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usted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0" name=""/>
          <p:cNvSpPr/>
          <p:nvPr/>
        </p:nvSpPr>
        <p:spPr>
          <a:xfrm>
            <a:off x="687240" y="1676520"/>
            <a:ext cx="7767720" cy="2527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String filename, String 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if (sm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filename,“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(native code)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throw new SecurityExcep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7240" y="4419720"/>
            <a:ext cx="7767720" cy="155412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ublic static void main(…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“/tmp/*”,“write,…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6960" y="1219320"/>
            <a:ext cx="70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ode in the System protection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7AC-5C14-4843-915C-C7EFE20188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lien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4" name=""/>
          <p:cNvSpPr/>
          <p:nvPr/>
        </p:nvSpPr>
        <p:spPr>
          <a:xfrm>
            <a:off x="687240" y="2438280"/>
            <a:ext cx="7767720" cy="228420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class UntrustedApple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~dpw/grades.txt”, “Nick: A+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32480" y="1371600"/>
            <a:ext cx="52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 code obtained fr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ttp://www.l33t-hax0rz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C4A-F9C0-4221-9A9E-E7258B2C5F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 frames are annotated with their protection domains and any enabled privileg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uring inspection, stack frames are searched from most to least recen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f a frame belonging to someone not authorized for privilege is encounter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itstream Vera Sans"/>
              </a:rPr>
              <a:t>succeed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f activated privilege is found in fra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541E-CD96-4847-8FAF-6B486B61E1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51814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3C9D-8077-4550-ACAA-FC729791B6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5102-0671-4F8D-9782-C921C7CB31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1814-CC03-470E-B277-C8B996E349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Mobile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odern languages like Java and C# have been designed for Internet applications and extensible system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DAs, Cell Phones, Smart Cards, …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"/>
          <p:cNvSpPr/>
          <p:nvPr/>
        </p:nvSpPr>
        <p:spPr>
          <a:xfrm>
            <a:off x="2905200" y="4649760"/>
            <a:ext cx="3332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05200" y="3963960"/>
            <a:ext cx="3332160" cy="5205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web browser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312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074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598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 rot="16200000">
            <a:off x="4332240" y="1258920"/>
            <a:ext cx="457200" cy="4648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5F0-1F6A-4D49-852D-D5E7832DF8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06E-DFF6-40AE-BAF6-D50225298A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358128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29640" y="4921200"/>
            <a:ext cx="1825200" cy="520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Bitstream Vera Sans"/>
              </a:rPr>
              <a:t>Succe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AEA-8C65-40C4-B951-9BC069F595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~dpw/grades.txt”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Nick: A+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A777-915F-41EC-B65C-06C1E60FDD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447920"/>
            <a:ext cx="6095880" cy="106740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 (“~dpw/grades.txt”,</a:t>
            </a:r>
            <a:r>
              <a:rPr b="0" lang="en-US" sz="1600" spc="-1" strike="noStrike">
                <a:solidFill>
                  <a:srgbClr val="336699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“Nick: A+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important.tx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write”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~dpw/grades.txt”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Nick: A+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84320" y="3581280"/>
            <a:ext cx="801000" cy="520560"/>
          </a:xfrm>
          <a:prstGeom prst="rect">
            <a:avLst/>
          </a:prstGeom>
          <a:solidFill>
            <a:srgbClr val="ff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935-8678-47FD-B891-D35B1C30F5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ther Possibiliti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ileWrit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method could enable the write permission itself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otentially dangerous, should not base the file to write on data from the appl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trusted piece of code could </a:t>
            </a: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disabl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 previously granted permiss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rminate the stack inspection earl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16A-E122-4E62-A64C-73E26937D7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Algorith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4" name=""/>
          <p:cNvSpPr/>
          <p:nvPr/>
        </p:nvSpPr>
        <p:spPr>
          <a:xfrm>
            <a:off x="1443960" y="1295280"/>
            <a:ext cx="675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checkPermission(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loop newest to oldest stack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reach stackFram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local policy forbids access to T by class executing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tack frame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en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turn;  // allow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dis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end of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Netscape || …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MS IE4.0 || JDK 1.2 || …) 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87CC-FB6E-46EC-8A59-B1B0336A13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wo Implement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n demand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n a checkPermission invocation, actually crawl down the stack, checking on the wa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Used in practic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agerly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Keep track of the current set of available permissions during execution (security-passing style Wallach &amp; Felten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+ more apparent (could print current perms.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Bitstream Ver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ore expensive (checkPermission occurs infrequently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59A3-3027-4446-96A8-840BA4B86D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ck inspection seems appealing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ine grained, flexible, configurable polici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istinguishes between code of varying degrees of tru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do we understand what the policy is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mantics tied to the operational behavior of the program (defined in terms of stacks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do we compare implementation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hanging the program (e.g. optimizing it) may change the security polic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Policy is distributed throughout the software, and is not apparent from the program interfa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s it any good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C22-0B9D-474C-852F-43D9D2C032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Literatur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ck Inspection: Theory and Variant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édric Fournet and Andrew D. Gord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se operational semantics like in clas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nderstanding Java Stack Inspec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an S. Wallach and Edward W. Felte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ormalize Java Stack Inspection using a special logic of authentic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F14E-60D8-40DB-BC62-CE35FA0D850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izing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8B8-C960-41BF-96F2-4369922FC9F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pplet Security Problem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 OS &amp; other valuable resourc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 no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rash browser or O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xecute “rm –rf /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able to exhaust resourc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able to access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system resources (e.g. to display a pictur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isolated from each othe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nciples of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least privileg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omplete mediation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ppl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A0E-D57E-46EA-BB45-9CAB09021D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bstract permiss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p,q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ermissions (left abstract in the theory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,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Sets of  permissions (models an entity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xamples: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ystem = {fileWrite(“f1”), fileWrite(“f2”),…}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Applet  = {fileWrite(“f1”)}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76C-D4A9-4005-BFC3-9365DED8CD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Syntax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nguage syntax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::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xpre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x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ri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1 e2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R{e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ramed exp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e1 else e2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check per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fail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 ::= x  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l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 ::= v  |  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454-1E0E-4BA0-87AE-7FB663069A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Modelling the Classloader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odels the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ssloader that marks the (unframed) code with its protection domain: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x)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x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x.e)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x. </a:t>
            </a:r>
            <a:r>
              <a:rPr b="1" lang="en-US" sz="2000" spc="-1" strike="noStrike">
                <a:solidFill>
                  <a:srgbClr val="990033"/>
                </a:solidFill>
                <a:latin typeface="Bitstream Vera Sans Mono"/>
              </a:rPr>
              <a:t>R{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Load(R,e) </a:t>
            </a:r>
            <a:r>
              <a:rPr b="1" lang="en-US" sz="2000" spc="-1" strike="noStrike">
                <a:solidFill>
                  <a:srgbClr val="990033"/>
                </a:solidFill>
                <a:latin typeface="Bitstream Vera Sans Mono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e1 e2)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Load(R,e1) Load(R,e2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enable p in e)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enable p in Load(R,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test p then e2 else e2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test p then Load(R,e1) else Load(R,e2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fail)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fa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E7A3-1058-4F3D-AB56-73409E6FCC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9" name=""/>
          <p:cNvSpPr/>
          <p:nvPr/>
        </p:nvSpPr>
        <p:spPr>
          <a:xfrm>
            <a:off x="704160" y="1447920"/>
            <a:ext cx="749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writeFile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 Mono"/>
              </a:rPr>
              <a:t>System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“f2 contents” // primitive file 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0720" y="4503600"/>
            <a:ext cx="854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write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--&gt;*   fail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writeFile “f2”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--&gt;*   “f2 conten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645-1715-4653-A1F6-F4AB86D79B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valuation contexts: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::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Ho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val 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val ar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ag on stack fr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{E}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Stack fra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models the control st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8C6-76CD-4783-A474-FD0613E2AF0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)   v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e{v/x}]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enable p in v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v]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R{v}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--&gt;  E[v]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fail]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fa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test p then e else f]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e]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if  Stack(E) |-- p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test p then e else f]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f]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(Stack(E) |-- p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A02-2A55-4CAB-B359-1FBB928E59A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6" name=""/>
          <p:cNvSpPr/>
          <p:nvPr/>
        </p:nvSpPr>
        <p:spPr>
          <a:xfrm>
            <a:off x="614880" y="1371600"/>
            <a:ext cx="5493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“f2 conten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7960" y="4038480"/>
            <a:ext cx="6811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en does stack(E) allow per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leWrite(“f2”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) |-- fileWrite(“f2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20E-959D-44CA-90EE-AFF9636F46E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9" name=""/>
          <p:cNvSpPr/>
          <p:nvPr/>
        </p:nvSpPr>
        <p:spPr>
          <a:xfrm>
            <a:off x="82080" y="2743200"/>
            <a:ext cx="913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ructure of Sta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 ::= .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Empty St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| s.R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Stack for code of principal 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| s.enable(p)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Privelege p enabl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E90-0F6D-40A8-9815-32C90DC8FD0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of an Eval.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1" name=""/>
          <p:cNvSpPr/>
          <p:nvPr/>
        </p:nvSpPr>
        <p:spPr>
          <a:xfrm>
            <a:off x="695520" y="1419120"/>
            <a:ext cx="841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[])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v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nable p in E) = enable(p).Stack(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R{E}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R.Stack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9160" y="3733920"/>
            <a:ext cx="561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Stack(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7F6-D370-498E-A0CD-5F721F5057F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4" name=""/>
          <p:cNvSpPr/>
          <p:nvPr/>
        </p:nvSpPr>
        <p:spPr>
          <a:xfrm>
            <a:off x="1349640" y="1676520"/>
            <a:ext cx="64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-- p                 empty stack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8320" y="2508120"/>
            <a:ext cx="2611440" cy="947160"/>
            <a:chOff x="1138320" y="2508120"/>
            <a:chExt cx="2611440" cy="947160"/>
          </a:xfrm>
        </p:grpSpPr>
        <p:sp>
          <p:nvSpPr>
            <p:cNvPr id="196" name=""/>
            <p:cNvSpPr/>
            <p:nvPr/>
          </p:nvSpPr>
          <p:spPr>
            <a:xfrm>
              <a:off x="1138320" y="2508120"/>
              <a:ext cx="2594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    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58840" y="29764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066680" y="3657600"/>
            <a:ext cx="3200400" cy="947160"/>
            <a:chOff x="1066680" y="3657600"/>
            <a:chExt cx="3200400" cy="947160"/>
          </a:xfrm>
        </p:grpSpPr>
        <p:sp>
          <p:nvSpPr>
            <p:cNvPr id="199" name=""/>
            <p:cNvSpPr/>
            <p:nvPr/>
          </p:nvSpPr>
          <p:spPr>
            <a:xfrm>
              <a:off x="1122480" y="365760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6680" y="411480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541040" y="27432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ion domain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39520" y="38750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q   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066680" y="4952880"/>
            <a:ext cx="3200400" cy="947160"/>
            <a:chOff x="1066680" y="4952880"/>
            <a:chExt cx="3200400" cy="947160"/>
          </a:xfrm>
        </p:grpSpPr>
        <p:sp>
          <p:nvSpPr>
            <p:cNvPr id="204" name=""/>
            <p:cNvSpPr/>
            <p:nvPr/>
          </p:nvSpPr>
          <p:spPr>
            <a:xfrm>
              <a:off x="1122480" y="495288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.enable(p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6680" y="541008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483080" y="510048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eck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F875-7439-4006-BAC4-519EF30616E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and C#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tic Type Systems (Bytecode Verification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Memory safety and jump safet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nforces encapsulation boundaries (e.g. private fields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un-time checks fo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rray index boun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owncas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ccess control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arbage Collect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liminates memory management err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ibrary suppor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ryptography, authentication, …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4191120"/>
            <a:ext cx="1981080" cy="990360"/>
          </a:xfrm>
          <a:prstGeom prst="wedgeRoundRectCallout">
            <a:avLst>
              <a:gd name="adj1" fmla="val -240384"/>
              <a:gd name="adj2" fmla="val -92787"/>
              <a:gd name="adj3" fmla="val 16667"/>
            </a:avLst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This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2438280"/>
            <a:ext cx="1981440" cy="1371600"/>
          </a:xfrm>
          <a:prstGeom prst="wedgeRoundRectCallout">
            <a:avLst>
              <a:gd name="adj1" fmla="val -140064"/>
              <a:gd name="adj2" fmla="val -51273"/>
              <a:gd name="adj3" fmla="val 16667"/>
            </a:avLst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Most of the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F4E-331E-43E5-AAD0-621C7795E6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8" name=""/>
          <p:cNvSpPr/>
          <p:nvPr/>
        </p:nvSpPr>
        <p:spPr>
          <a:xfrm>
            <a:off x="1270800" y="1676520"/>
            <a:ext cx="74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= p                  empty stack enables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447920" y="2514600"/>
            <a:ext cx="1903320" cy="947160"/>
            <a:chOff x="1447920" y="2514600"/>
            <a:chExt cx="1903320" cy="947160"/>
          </a:xfrm>
        </p:grpSpPr>
        <p:sp>
          <p:nvSpPr>
            <p:cNvPr id="210" name=""/>
            <p:cNvSpPr/>
            <p:nvPr/>
          </p:nvSpPr>
          <p:spPr>
            <a:xfrm>
              <a:off x="1581480" y="2514600"/>
              <a:ext cx="1619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7920" y="298296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429800" y="274320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able succ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066680" y="3808440"/>
            <a:ext cx="3124440" cy="1373760"/>
            <a:chOff x="1066680" y="3808440"/>
            <a:chExt cx="3124440" cy="1373760"/>
          </a:xfrm>
        </p:grpSpPr>
        <p:sp>
          <p:nvSpPr>
            <p:cNvPr id="214" name=""/>
            <p:cNvSpPr/>
            <p:nvPr/>
          </p:nvSpPr>
          <p:spPr>
            <a:xfrm>
              <a:off x="1122480" y="3808440"/>
              <a:ext cx="3007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66680" y="426564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574880" y="403848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CE1-D774-4792-8A35-B4E1EA09D2F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eason about optimization:  Which programs are equal?  (Is the optimized program the same as the unoptimized program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C[] be an arbitrary program con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efine e = e’  if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or all C[], C[e] terminates whenever C[e’] termin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What Can You Do with an 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Operational Semantics?</a:t>
            </a:r>
            <a:endParaRPr b="1" lang="en-US" sz="32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90D-A77A-4E7D-8EAA-4657CAD0CA4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nclu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at security properties does the Java security model guarantee?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at optimizations are legal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mal semantics helps us find the answers &amp; suggests improveme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5DBB-E39B-4AAE-B2C5-093A287CB12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ccess Control for Applet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hat level of granularity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s can touch some parts of the file system but not oth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s can make network connections to some locations but not oth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ifferent code has different levels of trustworthines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ww.l33t-hax0rs.com vs. www.java.sun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rusted code can call un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.g. to ask an applet to repaint its windo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Untrusted code can call 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.g. the paint routine may load a fon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How is the access control policy specified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2E0-D16D-42B9-A711-1A3FA0EE32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utlin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va Security Model   </a:t>
            </a:r>
            <a:r>
              <a:rPr b="0" lang="en-US" sz="1800" spc="-1" strike="noStrike">
                <a:solidFill>
                  <a:srgbClr val="808080"/>
                </a:solidFill>
                <a:latin typeface="Bitstream Vera Sans"/>
              </a:rPr>
              <a:t>(C# similar)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ncrete exampl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mantics from a PL perspectiv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ormalizing 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exactly does it work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easoning about programs that use 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4AF9-8177-4D5A-9E12-D39B4E9422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Security Model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133360"/>
            <a:ext cx="2057400" cy="28551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855160"/>
              <a:gd name="textAreaBottom" fmla="*/ 2754720 h 2855160"/>
            </a:gdLst>
            <a:ahLst/>
            <a:rect l="textAreaLeft" t="textAreaTop" r="textAreaRight" b="textAreaBottom"/>
            <a:pathLst>
              <a:path w="21600" h="29974">
                <a:moveTo>
                  <a:pt x="3600" y="0"/>
                </a:moveTo>
                <a:arcTo wR="3600" hR="3600" stAng="16200000" swAng="-5400000"/>
                <a:lnTo>
                  <a:pt x="0" y="26374"/>
                </a:lnTo>
                <a:arcTo wR="3600" hR="3600" stAng="10800000" swAng="-5400000"/>
                <a:lnTo>
                  <a:pt x="18000" y="299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a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b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c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d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e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50120" y="255276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50120" y="369108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25063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6439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925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2787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62320" y="274320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86000" y="289512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581280"/>
            <a:ext cx="1447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286000" y="3048120"/>
            <a:ext cx="144792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86000" y="39625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1981080"/>
            <a:ext cx="5333760" cy="3048120"/>
          </a:xfrm>
          <a:prstGeom prst="rect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83160" y="15238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ecurit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720" y="1523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V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6440" y="5867280"/>
            <a:ext cx="85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Bitstream Vera Sans"/>
              </a:rPr>
              <a:t>http://java.sun.com/j2se/1.4.2/docs/guide/security/spec/security-specTOC.fm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0800" y="4648320"/>
            <a:ext cx="2341800" cy="7038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lassloa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curity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C03-599A-4009-AB2C-B1E3F9AA85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Kinds of Permis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ermissions are implemented by th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java.security.Permission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class for which there are many subclass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 = new java.io.FilePermission("/tmp/abc","read");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security.AllPermission 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security.Security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security.Unresolved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awt.AWT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io.File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io.Serializable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lang.reflect.Reflect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lang.RuntimePermission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net.Net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java.net.SocketPermission 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AD5-4B6C-47EE-AF02-44D7BAA3E2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de Trustworthines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rotection domain the code is in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ource (e.g. local or applet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igital signatur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ermissions a protection domain has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nfigurable – administrator file or command li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forced by the classload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66E-C5E8-4096-BCCD-DDAAEE5860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9:38:53Z</dcterms:created>
  <dc:creator>Steve Zdancewic</dc:creator>
  <dc:description/>
  <dc:language>en-US</dc:language>
  <cp:lastModifiedBy>dpw</cp:lastModifiedBy>
  <dcterms:modified xsi:type="dcterms:W3CDTF">2008-12-12T17:15:17Z</dcterms:modified>
  <cp:revision>80</cp:revision>
  <dc:subject/>
  <dc:title>Observational Determinism for  Concurrent Program Security</dc:title>
</cp:coreProperties>
</file>