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011-93AB-406E-B481-07D029DD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FF8-25CC-4075-AEB4-E0F018B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812-4F11-4C16-85A5-077F150C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480-16F4-4868-936C-8981CD65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B00-E76E-427D-AEC0-BE087879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ABA-3008-4592-8D98-D99478B3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E42-1511-4136-9DA6-46B15EB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32C-B0C1-4A70-AC40-D16C1E20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B8A-62B3-493B-ABC9-EE3813CD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52E-F67B-4195-B0F4-92F38248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098-03B5-487C-B1F5-6962F1F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86D-B48E-42E9-8172-932F7E3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6528-9CB9-4D8D-8C00-DD7590410C74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ications of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Programming Language Theory: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9A6-E0A7-4419-95E7-D4C0E40BF8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 order to pull new code into the virtual machine, we use an object from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ClassLoader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class loader will look in the file system, or across the network for a class file, or possibly dynamically generate the class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 loaders are responsible for placing classes into their security 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places classes in domains depending on where they are fr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ther ClassLoaders places classes in domains based on digital signatures, or origin (such as local file system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5CC-13E4-4197-8214-278EE4A091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6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579-6D23-4DD3-9908-5C11A19C62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Associating Privileges with Domains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03B-2F99-4D23-BBEB-835F956596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ummary so Far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e’ve seen what privileges are and how to assign them to fragments of cod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ext: how does the system use privileges to enforce an access control policy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6D1-4B1B-48A9-A963-C735E4D813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BA8-1744-472C-A919-158A41398D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~dpw/grades.txt”, “Nick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645-1D82-4DF9-81AC-49B72D8A8A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6A7-67A9-4E01-B153-D8F476CAA9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059-2547-4155-91C7-7E786AC9C7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178-65F4-495A-967D-69F54901F8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74E-6EF6-4952-9752-BD123F13ED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7A0-746A-4C74-A13C-25B721112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C31-455D-46C9-97CA-F351A609BB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1D6-2D27-4561-B54D-A1EBB684A4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~dpw/grades.txt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Nick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C9A-7FFA-449B-B43E-721827320B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 (“~dpw/grades.txt”,</a:t>
            </a:r>
            <a:r>
              <a:rPr b="0" lang="en-US" sz="16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“Nick: A+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~dpw/grades.txt”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Nick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613-258D-4302-AF1C-CF828EE4C5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375-C3D8-4FEA-B4CA-E2C5552BAE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4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F76-8A2B-4D7D-96D8-FC59E83457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3EF-4F08-4A67-BBFA-5979A2C4EB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ED0-CEBA-467E-A369-0B1BC696C1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 operational semantics like in cla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rmalize Java Stack Inspection using a special logic of authent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5FF-7C1B-4E19-8511-97BB11FE2B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73D-9052-4D03-83F4-0BD3851042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ast privileg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mplete mediation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8B5-F5A6-47DC-B039-9B6FBD4FBD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 (left abstract in the theor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Sets of  permissions (models an entit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6F5-ED0D-4952-A8A0-DDF7547991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1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1 else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D25-6298-42C0-997F-A99E3A4642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delling the Classloader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x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e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R{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Load(R,e)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1 e2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Load(R,e1) Load(R,e2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nable p in e)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enable p in Load(R,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test p then e2 else 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test p then Load(R,e1) else Load(R,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fail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fa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656-1BA0-4E50-97F7-B6A386061B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704160" y="1447920"/>
            <a:ext cx="749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write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 Mono"/>
              </a:rPr>
              <a:t>System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“f2 contents” // primitive file 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0720" y="4503600"/>
            <a:ext cx="854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write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write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“f2 conte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840-72B2-477D-94A0-74A47EF344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Ho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a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ag on stack fr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Stack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EE4-8D2D-4D31-BF56-2FAF19850C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)  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{v/x}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enable p in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v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R{v}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--&gt;  E[v]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fail]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fa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]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 Stack(E) |-- p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f]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(Stack(E) |-- p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FB5-BAB5-4C7D-B4D4-8BF6315FB4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6" name=""/>
          <p:cNvSpPr/>
          <p:nvPr/>
        </p:nvSpPr>
        <p:spPr>
          <a:xfrm>
            <a:off x="614880" y="1371600"/>
            <a:ext cx="54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“f2 cont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7960" y="4038480"/>
            <a:ext cx="681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(E)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3D5-E7FF-45FA-99EF-2C3A917557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9" name=""/>
          <p:cNvSpPr/>
          <p:nvPr/>
        </p:nvSpPr>
        <p:spPr>
          <a:xfrm>
            <a:off x="82080" y="2743200"/>
            <a:ext cx="913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ructure of Sta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 ::= .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Empty S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R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Stack for code of principal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enable(p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Privelege p enab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AC2-D5BB-40A6-94BA-3D8D4E1269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1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1AB-DBA9-4C2B-8440-FF4F8F0CA5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4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8320" y="2508120"/>
            <a:ext cx="2611440" cy="947160"/>
            <a:chOff x="1138320" y="2508120"/>
            <a:chExt cx="2611440" cy="947160"/>
          </a:xfrm>
        </p:grpSpPr>
        <p:sp>
          <p:nvSpPr>
            <p:cNvPr id="196" name=""/>
            <p:cNvSpPr/>
            <p:nvPr/>
          </p:nvSpPr>
          <p:spPr>
            <a:xfrm>
              <a:off x="1138320" y="2508120"/>
              <a:ext cx="259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199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04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BC7-FDED-46B0-B66E-D12D0A3B8F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 (Bytecode Verificatio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nforces encapsulation boundaries (e.g. private field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191120"/>
            <a:ext cx="1981080" cy="990360"/>
          </a:xfrm>
          <a:prstGeom prst="wedgeRoundRectCallout">
            <a:avLst>
              <a:gd name="adj1" fmla="val -240384"/>
              <a:gd name="adj2" fmla="val -9278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438280"/>
            <a:ext cx="1981440" cy="1371600"/>
          </a:xfrm>
          <a:prstGeom prst="wedgeRoundRectCallout">
            <a:avLst>
              <a:gd name="adj1" fmla="val -140064"/>
              <a:gd name="adj2" fmla="val -51273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Most of the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F7E-2470-4646-827F-D83E1C2D20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8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10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429800" y="27432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214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C4E-6428-469B-A69E-D210F182C1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ason about optimization:  Which programs are equal?  (Is the optimized program the same as the unoptimized program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efine e = e’  i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r all C[], C[e] terminates whenever C[e’] term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What Can You Do with an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Operational Semantics?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F86-1AF9-46DC-943D-5BAE038CB5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operties does the Java security model guarantee?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optimizations are legal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mal semantics helps us find the answers &amp; suggests improvem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141-9573-484A-BE2E-1C720A7805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4B3-B20B-48B3-981E-5D4D42C245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exactly does it work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3B8-0D92-4F50-B641-B0C0CF945E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645-28AA-47F5-89B5-33B5818B37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ermissions are implemented by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java.security.Permission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class for which there are many subclass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746-3F08-4209-84DD-A515C33017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85B-65AD-4532-81E8-9F27CAD28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dpw</cp:lastModifiedBy>
  <dcterms:modified xsi:type="dcterms:W3CDTF">2008-12-12T17:15:17Z</dcterms:modified>
  <cp:revision>80</cp:revision>
  <dc:subject/>
  <dc:title>Observational Determinism for  Concurrent Program Security</dc:title>
</cp:coreProperties>
</file>