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D91-CBEF-4435-A80F-D7633B39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ECF-46BE-4FCC-9D2D-BEA80211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7D4-E66E-43D3-87D9-2AB4D8A6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23B-2A0A-4C25-8CD2-381147AB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62CE-9059-4315-9F62-290CAC37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2F9B-0EE5-4403-A206-3231AD32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E0C-37B6-4EEE-87EA-F9C0911B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577A-B286-4611-94C5-82A34834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7C68-A394-40A3-ADDE-E5883AAB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584F-91FC-40DC-8E15-05988BF2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153-22C7-43F3-92E1-DFBED87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112-04F4-4C81-8275-C176547E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5878-197B-45FF-A2DC-B2B6F8B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659C-243D-4E52-8D02-A7A98B1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B4A0-6233-4F35-B28D-0E5D74F3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7199-807F-4981-B99A-120CC878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E68A-8245-4170-B447-BAA886D9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D62-BDAC-44AC-8698-E9C24965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350-7259-4ABA-8D6E-1191CA0F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1DE-A7C2-4ECE-9775-CA7181D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856-92B5-42D1-BE1B-4BFA34BF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B20-C175-48BF-85F9-6799629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556-044A-401B-B494-3D48F26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62F-2C26-4740-929C-90C44CA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37B4-4D26-4744-9738-33BFE55EACA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222-A3EB-4DA9-A24E-1DE2E8383EA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33560" y="373392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b’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olymorphism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abstract typ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) ((a -&gt; b) * a list)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10920" y="2362320"/>
            <a:ext cx="642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= e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1676520"/>
            <a:ext cx="2438280" cy="6426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209680" y="2133720"/>
            <a:ext cx="190512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5715000"/>
            <a:ext cx="2895840" cy="916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(‘a * ‘a list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133360" y="4876920"/>
            <a:ext cx="990360" cy="761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04960" y="2438280"/>
            <a:ext cx="99036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2438280"/>
            <a:ext cx="83808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791320" y="4876920"/>
            <a:ext cx="76176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5105520"/>
            <a:ext cx="198144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3428640" y="4876920"/>
            <a:ext cx="76212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5105520"/>
            <a:ext cx="198108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5181480"/>
            <a:ext cx="838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-- walk over the program &amp; keep track of the type equations t1 = t2 that must hold in order to type check the expressions according to the normal typing rul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-- introduce new type variables for unknown types whenver necessar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8-11-19T16:54:51Z</dcterms:modified>
  <cp:revision>49</cp:revision>
  <dc:subject/>
  <dc:title>Type Inference</dc:title>
</cp:coreProperties>
</file>