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C969-B039-48B0-AF17-5EF4300D2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0C48-D264-4F90-BB7C-68B4FAB58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C3CE-C641-4A0E-AC08-7DA819149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BF46-671B-486C-8C0A-96CE2BC77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066DB-4D2F-4DCF-BF64-E7A272CBE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BCCCB-AA73-4593-912B-6ED04EAD4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879F9-1B50-4A91-BD34-B5BDE13B3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8660D-BA41-4592-903F-E3D31257B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297B2-9961-449F-8B86-99A22F289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9D6B5-A6B0-4A26-A9AE-EB153D830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CDF66-B046-4CD0-96C2-B354B99D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C08B-CC17-43EA-B492-550F7C48E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0F55D-7C34-4F8C-A1D6-A1CAA693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8CB14-1AF1-4A2E-9584-31FE25C6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32404-8052-434C-B6E3-3255A7AF8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203E5-AA01-4621-896B-29ADC10A5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848AB-B489-46D0-842A-49F84E2AB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03E8-803E-440F-A9AF-875B58A3C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02EE-DB54-4A0E-A548-77C77180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B988-EFB0-48EB-A721-BDCA9E4E0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9F3F-D461-46CE-A444-08231A182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E644-F9AF-45CA-931E-F48DBDF7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63C3-0115-4577-B57D-4731D947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82B1-8974-4B81-A6A6-D2AE7A0A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533D2-56B5-48B7-BE21-F91BFDBAC84E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750000"/>
            <a:chOff x="0" y="108000"/>
            <a:chExt cx="9101160" cy="6750000"/>
          </a:xfrm>
        </p:grpSpPr>
        <p:grpSp>
          <p:nvGrpSpPr>
            <p:cNvPr id="99" name=""/>
            <p:cNvGrpSpPr/>
            <p:nvPr/>
          </p:nvGrpSpPr>
          <p:grpSpPr>
            <a:xfrm>
              <a:off x="0" y="108000"/>
              <a:ext cx="9101160" cy="6489720"/>
              <a:chOff x="0" y="108000"/>
              <a:chExt cx="9101160" cy="648972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0" y="228600"/>
                <a:ext cx="9096480" cy="6369120"/>
                <a:chOff x="0" y="228600"/>
                <a:chExt cx="9096480" cy="63691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0" y="936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0" y="1731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0" y="25588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0" y="3354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0" y="4179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49752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5802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597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grpSp>
              <p:nvGrpSpPr>
                <p:cNvPr id="109" name=""/>
                <p:cNvGrpSpPr/>
                <p:nvPr/>
              </p:nvGrpSpPr>
              <p:grpSpPr>
                <a:xfrm>
                  <a:off x="766800" y="228600"/>
                  <a:ext cx="1547640" cy="6369120"/>
                  <a:chOff x="766800" y="228600"/>
                  <a:chExt cx="1547640" cy="6369120"/>
                </a:xfrm>
              </p:grpSpPr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766800" y="228600"/>
                    <a:ext cx="1547640" cy="1503360"/>
                    <a:chOff x="766800" y="228600"/>
                    <a:chExt cx="1547640" cy="150336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766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15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15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766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85572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169560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169560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85572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766800" y="1851120"/>
                    <a:ext cx="1547280" cy="1503360"/>
                    <a:chOff x="766800" y="1851120"/>
                    <a:chExt cx="1547280" cy="150336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7668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1562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1562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7668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85500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169524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169524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85500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8" name=""/>
                  <p:cNvGrpSpPr/>
                  <p:nvPr/>
                </p:nvGrpSpPr>
                <p:grpSpPr>
                  <a:xfrm>
                    <a:off x="766800" y="3471840"/>
                    <a:ext cx="1547280" cy="1503360"/>
                    <a:chOff x="766800" y="3471840"/>
                    <a:chExt cx="1547280" cy="1503360"/>
                  </a:xfrm>
                </p:grpSpPr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7668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1562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1562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7668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85500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69524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69524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85500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766800" y="5094360"/>
                    <a:ext cx="1547280" cy="1503360"/>
                    <a:chOff x="766800" y="5094360"/>
                    <a:chExt cx="1547280" cy="150336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7668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1562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1562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7668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85500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169524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169524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85500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2462040" y="228600"/>
                  <a:ext cx="1548000" cy="6369120"/>
                  <a:chOff x="2462040" y="228600"/>
                  <a:chExt cx="1548000" cy="636912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2462040" y="228600"/>
                    <a:ext cx="1548000" cy="1503360"/>
                    <a:chOff x="2462040" y="228600"/>
                    <a:chExt cx="1548000" cy="150336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24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32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32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24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25509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33908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33908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25509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2462040" y="1851120"/>
                    <a:ext cx="1548000" cy="1503360"/>
                    <a:chOff x="2462040" y="1851120"/>
                    <a:chExt cx="1548000" cy="150336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24620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2580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32580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24620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25502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3390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3390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25502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2462040" y="3471840"/>
                    <a:ext cx="1548000" cy="1503360"/>
                    <a:chOff x="2462040" y="3471840"/>
                    <a:chExt cx="1548000" cy="15033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24620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32580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32580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24620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25502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3390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3390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25502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462040" y="5094360"/>
                    <a:ext cx="1548000" cy="1503360"/>
                    <a:chOff x="2462040" y="5094360"/>
                    <a:chExt cx="1548000" cy="150336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4620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32580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32580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4620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25502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3390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3390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25502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4157640" y="228600"/>
                  <a:ext cx="1548000" cy="6369120"/>
                  <a:chOff x="4157640" y="228600"/>
                  <a:chExt cx="1548000" cy="6369120"/>
                </a:xfrm>
              </p:grpSpPr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4157640" y="228600"/>
                    <a:ext cx="1548000" cy="1503360"/>
                    <a:chOff x="4157640" y="228600"/>
                    <a:chExt cx="1548000" cy="150336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41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49528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49528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1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2465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50864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50864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42465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4157640" y="1851120"/>
                    <a:ext cx="1548000" cy="1503360"/>
                    <a:chOff x="4157640" y="1851120"/>
                    <a:chExt cx="1548000" cy="150336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1576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953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4953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41576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4245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086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086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4245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157640" y="3471840"/>
                    <a:ext cx="1548000" cy="1503360"/>
                    <a:chOff x="4157640" y="3471840"/>
                    <a:chExt cx="1548000" cy="1503360"/>
                  </a:xfrm>
                </p:grpSpPr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41576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4953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4953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41576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245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5086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5086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4245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4157640" y="5094360"/>
                    <a:ext cx="1548000" cy="1503360"/>
                    <a:chOff x="4157640" y="5094360"/>
                    <a:chExt cx="1548000" cy="1503360"/>
                  </a:xfrm>
                </p:grpSpPr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41576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4953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4953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41576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4245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5086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5086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245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5853240" y="228600"/>
                  <a:ext cx="1547640" cy="6369120"/>
                  <a:chOff x="5853240" y="228600"/>
                  <a:chExt cx="1547640" cy="6369120"/>
                </a:xfrm>
              </p:grpSpPr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5853240" y="228600"/>
                    <a:ext cx="1547640" cy="1503360"/>
                    <a:chOff x="5853240" y="228600"/>
                    <a:chExt cx="1547640" cy="150336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58532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66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66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58532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594216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67816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67816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94216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853240" y="1851120"/>
                    <a:ext cx="1547280" cy="1503360"/>
                    <a:chOff x="5853240" y="1851120"/>
                    <a:chExt cx="1547280" cy="1503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5853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66492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66492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5853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5941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678168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678168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5941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53240" y="3471840"/>
                    <a:ext cx="1547280" cy="1503360"/>
                    <a:chOff x="5853240" y="3471840"/>
                    <a:chExt cx="1547280" cy="150336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5853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66492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66492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5853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5941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678168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678168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5941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853240" y="5094360"/>
                    <a:ext cx="1547280" cy="1503360"/>
                    <a:chOff x="5853240" y="5094360"/>
                    <a:chExt cx="1547280" cy="1503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853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66492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66492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853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5941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678168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678168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5941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548480" y="228600"/>
                  <a:ext cx="1548000" cy="6369120"/>
                  <a:chOff x="7548480" y="228600"/>
                  <a:chExt cx="1548000" cy="6369120"/>
                </a:xfrm>
              </p:grpSpPr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7548480" y="228600"/>
                    <a:ext cx="1548000" cy="1503360"/>
                    <a:chOff x="7548480" y="228600"/>
                    <a:chExt cx="1548000" cy="150336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75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83440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83440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75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763740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84772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84772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763740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7548480" y="1851120"/>
                    <a:ext cx="1548000" cy="1503360"/>
                    <a:chOff x="7548480" y="1851120"/>
                    <a:chExt cx="1548000" cy="150336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75484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83444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83444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75484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76366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84772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84772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76366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7548480" y="3471840"/>
                    <a:ext cx="1548000" cy="1503360"/>
                    <a:chOff x="7548480" y="3471840"/>
                    <a:chExt cx="1548000" cy="150336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75484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83444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83444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5484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6366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84772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84772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76366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7548480" y="5094360"/>
                    <a:ext cx="1548000" cy="1503360"/>
                    <a:chOff x="7548480" y="5094360"/>
                    <a:chExt cx="1548000" cy="150336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75484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83444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83444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5484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76366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84772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84772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76366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94" name=""/>
              <p:cNvGrpSpPr/>
              <p:nvPr/>
            </p:nvGrpSpPr>
            <p:grpSpPr>
              <a:xfrm>
                <a:off x="4680" y="108000"/>
                <a:ext cx="9096480" cy="0"/>
                <a:chOff x="4680" y="108000"/>
                <a:chExt cx="9096480" cy="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6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6040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7002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55600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3955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2512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0911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9468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78672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6420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48196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"/>
            <p:cNvGrpSpPr/>
            <p:nvPr/>
          </p:nvGrpSpPr>
          <p:grpSpPr>
            <a:xfrm>
              <a:off x="533520" y="1905120"/>
              <a:ext cx="8076960" cy="1676160"/>
              <a:chOff x="533520" y="1905120"/>
              <a:chExt cx="8076960" cy="1676160"/>
            </a:xfrm>
          </p:grpSpPr>
          <p:sp>
            <p:nvSpPr>
              <p:cNvPr id="307" name=""/>
              <p:cNvSpPr/>
              <p:nvPr/>
            </p:nvSpPr>
            <p:spPr>
              <a:xfrm>
                <a:off x="4572000" y="1905120"/>
                <a:ext cx="403848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72000" y="2743200"/>
                <a:ext cx="403848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33520" y="2743200"/>
                <a:ext cx="403848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33520" y="1905120"/>
                <a:ext cx="403848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85800" y="2057400"/>
                <a:ext cx="777240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1334C-751B-4D1F-938A-FD3C8FA9EA3C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ype Inferenc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S 441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20720" y="1600200"/>
            <a:ext cx="177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020720" y="1600200"/>
            <a:ext cx="177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615040" y="55022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241960" y="548640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3352680" y="4876560"/>
            <a:ext cx="228600" cy="53316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 flipV="1">
            <a:off x="5790960" y="4876560"/>
            <a:ext cx="228600" cy="53316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 </a:t>
            </a: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: b’’’ list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020720" y="1600200"/>
            <a:ext cx="177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615040" y="55022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241960" y="548640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352680" y="4876560"/>
            <a:ext cx="228600" cy="53316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 flipV="1">
            <a:off x="5790960" y="4876560"/>
            <a:ext cx="228600" cy="53316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b’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, map (f, tl l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b’’’ list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7020720" y="1600200"/>
            <a:ext cx="1778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559560" y="556272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365440" y="5562720"/>
            <a:ext cx="8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5791320" y="4952880"/>
            <a:ext cx="0" cy="4572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H="1" flipV="1">
            <a:off x="7010280" y="4952880"/>
            <a:ext cx="152640" cy="4572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b’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a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, map (f, tl l)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c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020720" y="1600200"/>
            <a:ext cx="1778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134880" y="5562720"/>
            <a:ext cx="16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b’’ -&gt; a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2971440" y="4876560"/>
            <a:ext cx="304920" cy="60948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a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, map (f, tl l)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c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)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099920" y="1600200"/>
            <a:ext cx="1778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b’’ -&gt; a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080520" y="5562720"/>
            <a:ext cx="135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’ = c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2590920" y="4876560"/>
            <a:ext cx="457200" cy="6858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b’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a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, map (f, tl l)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c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)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099920" y="1600200"/>
            <a:ext cx="1778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b’’ -&gt; a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’ = c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72320" y="5791320"/>
            <a:ext cx="18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d list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1447920" y="4952880"/>
            <a:ext cx="304560" cy="9144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91960" y="3429000"/>
            <a:ext cx="1231920" cy="2362320"/>
          </a:xfrm>
          <a:custGeom>
            <a:avLst/>
            <a:gdLst/>
            <a:ahLst/>
            <a:rect l="l" t="t" r="r" b="b"/>
            <a:pathLst>
              <a:path w="776" h="1488">
                <a:moveTo>
                  <a:pt x="200" y="1488"/>
                </a:moveTo>
                <a:cubicBezTo>
                  <a:pt x="100" y="1236"/>
                  <a:pt x="0" y="984"/>
                  <a:pt x="8" y="768"/>
                </a:cubicBezTo>
                <a:cubicBezTo>
                  <a:pt x="16" y="552"/>
                  <a:pt x="120" y="320"/>
                  <a:pt x="248" y="192"/>
                </a:cubicBezTo>
                <a:cubicBezTo>
                  <a:pt x="376" y="64"/>
                  <a:pt x="576" y="32"/>
                  <a:pt x="776" y="0"/>
                </a:cubicBezTo>
              </a:path>
            </a:pathLst>
          </a:custGeom>
          <a:noFill/>
          <a:ln w="2556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d lis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101720" y="1600200"/>
            <a:ext cx="1887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b’’ -&gt; a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’ = c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d list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373840" y="6019920"/>
            <a:ext cx="134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d list = c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H="1" flipV="1">
            <a:off x="1599840" y="5257800"/>
            <a:ext cx="609480" cy="53352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886200" y="2590920"/>
            <a:ext cx="1879560" cy="3657600"/>
          </a:xfrm>
          <a:custGeom>
            <a:avLst/>
            <a:gdLst/>
            <a:ahLst/>
            <a:rect l="l" t="t" r="r" b="b"/>
            <a:pathLst>
              <a:path w="1232" h="2160">
                <a:moveTo>
                  <a:pt x="0" y="2160"/>
                </a:moveTo>
                <a:cubicBezTo>
                  <a:pt x="308" y="2096"/>
                  <a:pt x="616" y="2032"/>
                  <a:pt x="816" y="1824"/>
                </a:cubicBezTo>
                <a:cubicBezTo>
                  <a:pt x="1016" y="1616"/>
                  <a:pt x="1232" y="1216"/>
                  <a:pt x="1200" y="912"/>
                </a:cubicBezTo>
                <a:cubicBezTo>
                  <a:pt x="1168" y="608"/>
                  <a:pt x="896" y="304"/>
                  <a:pt x="624" y="0"/>
                </a:cubicBezTo>
              </a:path>
            </a:pathLst>
          </a:custGeom>
          <a:noFill/>
          <a:ln w="2556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01720" y="1606680"/>
            <a:ext cx="1887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fina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b’’ -&gt; a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’ = c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d list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d list = c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3:  Solv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48520" y="3581280"/>
            <a:ext cx="1778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fina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traint solution provides all possible solutions to type scheme annotations on term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795120" y="4114800"/>
            <a:ext cx="155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solutio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b’ -&gt; c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743200" y="4724280"/>
            <a:ext cx="838080" cy="457200"/>
          </a:xfrm>
          <a:custGeom>
            <a:avLst/>
            <a:gdLst>
              <a:gd name="textAreaLeft" fmla="*/ 130680 w 838080"/>
              <a:gd name="textAreaRight" fmla="*/ 733320 w 8380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abe9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433560" y="3733920"/>
            <a:ext cx="2210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map (f : b’ -&gt; c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x : b’ list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: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486400" y="4724280"/>
            <a:ext cx="838080" cy="457200"/>
          </a:xfrm>
          <a:custGeom>
            <a:avLst/>
            <a:gdLst>
              <a:gd name="textAreaLeft" fmla="*/ 130680 w 838080"/>
              <a:gd name="textAreaRight" fmla="*/ 733320 w 8380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abe9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riticisms of Typed Languag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Types overly constrain functions &amp; data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Polymorphism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makes typed constructs useful in more context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universal polymorphism =&gt; code reus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existential polymorphism =&gt; abstract type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Types clutter programs and slow down programmer productivity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Type inferenc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uninformative annotations may be omitted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4:  Generate typ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Generate types from type schem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ption 1: pick an instance of the most general type when we have completed type inference on the entire program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map : (int -&gt; int) -&gt; int list -&gt; int list</a:t>
            </a: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ption 2: generate polymorphic types for program parts and continue (polymorphic) type inferenc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map : All (a,b) ((a -&gt; b) * a list) -&gt; b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ype Inference Detail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Type constraints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are sets of equations between type schem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q ::= {s11 = s12, ..., sn1 = sn2}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g: {b = b’ list, a = b -&gt; c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nstraint Gener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yntax-directed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constraint generatio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ur algorithm crawls over abstract syntax of untyped expressions and generate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a term schem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a set of 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lgorithm defined as set of inference rules (as always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u =&gt; e : t, q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nstraint Gener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mple rule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x ==&gt; x : s,  { }      (if G(x) = s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3 ==&gt; 3 : int, { }    (same for other ints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true ==&gt; true : bool, { 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false ==&gt; false : bool, { 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perator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26960" y="2362320"/>
            <a:ext cx="833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==&gt; e1 : t1, q1             G |-- u2 ==&gt; e2 : t2, q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+ u2 ==&gt; e1 + e2 : int, q1 U q2 U {t1 = int, t2 = int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11840" y="4375080"/>
            <a:ext cx="858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==&gt; e1 : t1, q1             G |-- u2 ==&gt; e2 : t2, q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&lt; u2 ==&gt; e1 &lt; e2 : bool, q1 U q2 U {t1 = int, t2 = int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If stateme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30520" y="2362320"/>
            <a:ext cx="7468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==&gt; e1 : t1, q1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2 ==&gt; e2 : t2, q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3 ==&gt; e3 : t3, q3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if u1 then u2 else u3 ==&gt; if e1 then e2 else e3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              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: a, q1 U q2 U q3 U {t1 = bool, a = t2, a = t3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Function Applic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510920" y="2362320"/>
            <a:ext cx="642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==&gt; e1 : t1, q1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2 ==&gt; e2 : t2, q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u2==&gt; e1 e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              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: a, q1 U q2 U {t1 = t2 -&gt; a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Function Declar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10920" y="2362320"/>
            <a:ext cx="6423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, f : a -&gt; b, x : a |-- u ==&gt; e : t, q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fun f(x) = u  ==&gt; fun f (x : a) : b = e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              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: a -&gt; b, q U {t = b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(a,b are fresh type variables; not in G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olving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olution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to a system of type constraints is a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ubstitution 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a function from type variables to type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because some things get simpler, we assume substitutions are defined on all type variables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(a) = a     (for almost all variables a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(a) = s      (for some type scheme s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dom(S) = set of variables s.t. S(a) </a:t>
            </a:r>
            <a:r>
              <a:rPr b="0" lang="en-US" sz="2800" spc="-1" strike="noStrike">
                <a:solidFill>
                  <a:srgbClr val="8383ad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a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ubstit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Given a substitution S, we can define a function S* from type schemes (as opposed to type variables) to type scheme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*(int) = int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*(s1 -&gt; s2) = S*(s1) -&gt; S*(s2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*(a) = S(a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Due to laziness, I will write S(s) instead of S*(s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ype Inferenc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oday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generation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of type constraints from unannotated 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simply-typed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program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not ML ye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solving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type constraint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extbook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ierce 22: “Type Reconstruction”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mposition of Substit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Composition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(U o S) applies the substitution S and then applies the substitution U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(U o S)(a) = U(S(a)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will need to compare substitution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 &lt;= S if T is “more specific” than 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 &lt;= S if T is “less general” than 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Formally: T &lt;= S if and only if T = U o S for some U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mposition of Substit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xample 1: any substitution is less general than the identity substitution I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 &lt;= I because S = S o I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xample 2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(a) = int, S(b) = c -&gt; c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(a) = int, T(b) = int -&gt; int, T(c) = in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we conclude: T &lt;= 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f T(a) = int, T(b) = int -&gt; bool then T is unrelated to S (neither more nor less general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olving a Constrain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 |= q if S is a solution to the constraints q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183920" y="3200400"/>
            <a:ext cx="375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(s1) = S(s2)          S |= q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 |= {s1 = s2} U q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294560" y="3581280"/>
            <a:ext cx="120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 |= { 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1828800" y="4571640"/>
            <a:ext cx="76320" cy="60948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18760" y="5221440"/>
            <a:ext cx="335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any substitution i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a solution for the empty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set of 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6095880" y="4647960"/>
            <a:ext cx="152640" cy="60948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862160" y="5180040"/>
            <a:ext cx="38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a solution to an equatio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is a substitution that make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left and right sides equa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Most General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 is the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principal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(most general) solution of a constraint q if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 |= q                          (it is a solution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f T |= q then T &lt;= S   (it is the most general one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Lemma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:  If q has a solution, then it has a most general on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care about principal solutions since they will give us the most general types for term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q = {a=int, b=a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rincipal solution S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q = {a=int, b=a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rincipal solution S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(a) = S(b) = in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(c) = c    (for all c other than a,b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q = {a=int, b=a, b=bool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rincipal solution S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q = {a=int, b=a, b=bool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rincipal solution S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does not exist (there is no solution to q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rincipal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principal solutions give rise to most general reconstruction of typing information for a term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fun f(x:a):a = x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s a most general reconstructio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fun f(x:int):int = x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s no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Unification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:  An algorithm that provides the principal solution to a set of constraints (if one exists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f one exists, it will be principa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ype Schem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type scheme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contains type variables that may be filled in during type inferenc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 ::= a | int | bool | s1 -&gt; s2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 term scheme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is a term that contains type schemes rather than proper typ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 ::= ... | fun f (x:s1) : s2 = e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Unification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:  Unification systematically simplifies a set of constraints, yielding a substitutio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during simplification, we maintain (S,q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 is the solution so far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q are the constraints left to simplify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tarting state of unification process: (I,q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Final state of unification process: (S, { }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 Machin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can specify unification as a transition system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(S,q) -&gt; (S’,q’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Base types &amp; simple variable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910800" y="4419720"/>
            <a:ext cx="3358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int=int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bool=bool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545080" y="4876920"/>
            <a:ext cx="258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a=a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 Machin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ction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Variable definition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041200" y="2590920"/>
            <a:ext cx="415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s11 -&gt; s12= s21 -&gt; s22} U q) -&gt;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 {s11 = s21, s12 = s22} U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230920" y="4419720"/>
            <a:ext cx="562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- (a not in FV(s)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a=s} U q) -&gt; ([a=s] o S, [s/a]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302560" y="5638680"/>
            <a:ext cx="55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 (a not in FV(s)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s=a} U q) -&gt; ([a=s] o S, [s/a]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ccurs Check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hat is the solution to {a = a -&gt; a}?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ccurs Check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hat is the solution to {a = a -&gt; a}?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here is none!  (Remember your homework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he occurs check detects this situation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693080" y="4724280"/>
            <a:ext cx="55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 (a not in FV(s)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s=a} U q) -&gt; ([a=s] o S, [s/a]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 flipV="1">
            <a:off x="6781320" y="5181120"/>
            <a:ext cx="685800" cy="76212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94920" y="594216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occurs check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Irreducible Stat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Recall: final states have the form (S, { }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tuck states (S,q) are such that every equation in q has the form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nt = boo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1 -&gt; s2 = s   (s not function type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a = s              (s contains a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r is symmetric to one of the abov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tuck states arise when constraints are unsolvabl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ermin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want unification to terminate (to give us a type reconstruction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algorithm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n other words, we want to show that there is no infinite sequence of stat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(S1,q1) -&gt; (S2,q2) -&gt; ..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ermin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associate an ordering with constraint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q &lt; q’ if and only if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q contains fewer variables than q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q contains the same number of variables as q’ but fewer type constructors (ie: fewer occurrences of int, bool, or “-&gt;”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his is a 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lexacographic ordering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here is no infinite decreasing sequence of 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o prove termination, we must demonstrate that every step of the algorithm reduces the size of q according to this ordering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ermin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emma: Every step reduces the size of q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roof:  By cases (ie: induction) on the definition of the reduction relation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05880" y="3581280"/>
            <a:ext cx="3358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int=int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bool=bool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68520" y="5470560"/>
            <a:ext cx="258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a=a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479480" y="3581280"/>
            <a:ext cx="415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s11 -&gt; s12= s21 -&gt; s22} U q) -&gt;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 {s11 = s21, s12 = s22} U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566960" y="5181480"/>
            <a:ext cx="3897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 (a not in FV(s)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a=s} U q) -&gt;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[a=s] o S, [s/a]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mplete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complete solution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for (S,q) is a substitution T such th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 &lt;= 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 |= q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ntuition: T  extends S and solves q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principal solution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T for (S,q) is complete for (S,q) a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for all T’ such that </a:t>
            </a:r>
            <a:r>
              <a:rPr b="0" lang="en-US" sz="2400" spc="-1" strike="noStrike">
                <a:solidFill>
                  <a:srgbClr val="c09e4a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c09e4a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hold, T’ &lt;= T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, l)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roperties of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emma 1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very final state (S, { }) has a complete solution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t is S: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 &lt;= 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 |= { }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roperties of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emma 2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No stuck state has a complete solution (or any solution at all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t is impossible for a substitution to make the necessary equations equa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int </a:t>
            </a:r>
            <a:r>
              <a:rPr b="0" lang="en-US" sz="2000" spc="-1" strike="noStrike">
                <a:solidFill>
                  <a:srgbClr val="8383ad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 boo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int </a:t>
            </a:r>
            <a:r>
              <a:rPr b="0" lang="en-US" sz="2000" spc="-1" strike="noStrike">
                <a:solidFill>
                  <a:srgbClr val="8383ad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 t1 -&gt; t2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roperties of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emma 3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f (S,q) -&gt; (S’,q’) then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 is complete for (S,q) iff T is complete for (S’,q’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 is principal for (S,q) iff T is principal for (S’,q’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n the forward direction, this is the preservation theorem for the unification machine!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ummary: Unific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By termination, (I,q) -&gt;* (S,q’) where (S,q’) is irreducible.  Moreover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f q’ = { } then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(S,q’) is final (by definition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 is a principal solution for q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Consider any T such that T is a solution to q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Now notice, S is principal for (S,q’) (by lemma 1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 is principal for (I,q) (by lemma 3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ince S is principal for (I,q), we know T &lt;= S and therefore S is a principal solution for q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ummary:  Unification (cont.)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... Moreover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f q’ is not { } (and (I,q) -&gt;* (S,q’) where (S,q’) is irreducible) then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(S,q) is stuck.  Consequently, (S,q) has no complete solution.  By lemma 3, even (I,q) has no complete solution and therefore q has no solution at all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ummary: Type Inferenc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ype inference algorithm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iven a context G, and untyped term u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Find e, t, q such that G |- u ==&gt; e : t, q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Find principal solution S of q via unificatio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if no solution exists, there is no reconstruction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Apply S to e, ie our solution is S(e)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(e) contains schematic type variables a,b,c, etc that may be instantiated with any type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ince S is principal, S(e) characterizes all reconstructions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nd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, l)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191120" y="1676520"/>
            <a:ext cx="2438280" cy="64260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imes New Roman"/>
              </a:rPr>
              <a:t>library functions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imes New Roman"/>
              </a:rPr>
              <a:t>argument type is ‘a list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2209680" y="2133720"/>
            <a:ext cx="1905120" cy="53316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895480" y="5715000"/>
            <a:ext cx="2895840" cy="91692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imes New Roman"/>
              </a:rPr>
              <a:t>library function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imes New Roman"/>
              </a:rPr>
              <a:t>argument type is (‘a * ‘a list)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imes New Roman"/>
              </a:rPr>
              <a:t>result type is ‘a list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 flipV="1">
            <a:off x="2133360" y="4876920"/>
            <a:ext cx="990360" cy="76176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3504960" y="2438280"/>
            <a:ext cx="990360" cy="198144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800600" y="2438280"/>
            <a:ext cx="838080" cy="198144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 flipV="1">
            <a:off x="5791320" y="4876920"/>
            <a:ext cx="761760" cy="30456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553080" y="5105520"/>
            <a:ext cx="1981440" cy="36828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imes New Roman"/>
              </a:rPr>
              <a:t>result type is ‘a list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H="1" flipV="1">
            <a:off x="3428640" y="4876920"/>
            <a:ext cx="762120" cy="30456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191120" y="5105520"/>
            <a:ext cx="1981080" cy="36828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imes New Roman"/>
              </a:rPr>
              <a:t>result type is ‘a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1:  Add Type Schem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 flipV="1">
            <a:off x="4799160" y="2585520"/>
            <a:ext cx="534960" cy="5382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H="1" flipV="1">
            <a:off x="4038480" y="2590560"/>
            <a:ext cx="1292400" cy="84132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274360" y="3040200"/>
            <a:ext cx="214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type scheme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on function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80880" y="5181480"/>
            <a:ext cx="8382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Tahoma"/>
              </a:rPr>
              <a:t>-- walk over the program &amp; keep track of the type equations t1 = t2 that must hold in order to type check the expressions according to the normal typing rule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Tahoma"/>
              </a:rPr>
              <a:t>-- introduce new type variables for unknown types whenver necessary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 flipV="1">
            <a:off x="2514600" y="3162240"/>
            <a:ext cx="1371600" cy="53352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056840" y="342900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0T11:06:27Z</dcterms:created>
  <dc:creator>David Walker</dc:creator>
  <dc:description/>
  <dc:language>en-US</dc:language>
  <cp:lastModifiedBy>dpw</cp:lastModifiedBy>
  <dcterms:modified xsi:type="dcterms:W3CDTF">2008-11-19T16:54:51Z</dcterms:modified>
  <cp:revision>49</cp:revision>
  <dc:subject/>
  <dc:title>Type Inference</dc:title>
</cp:coreProperties>
</file>