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995A-0BEF-45D5-B4CD-6B783144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4689-D98C-4E9A-8D5D-5E8BEA46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4639-A1B1-4C36-B9AC-F2440137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7E50-30CD-4F81-93B1-5044B35A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A1CB-4C61-4562-94FF-74F82DD9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3749-A41F-47DC-A78A-CA656988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FCA7-8C11-4546-B5F3-3C835030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6195-5DA7-436A-825D-1850FE9F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9589-5799-434E-9990-19424C20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E87B-48E9-4D78-991B-BEEC5774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B5BE-03A6-4ADB-BB35-C71E8E63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B8DE-7593-4A38-AB6B-7F6E138B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D1D0-633A-4C3F-9D81-4903A4D2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7028-24F7-4E59-B87B-09959C8B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E43D-8486-4C05-B913-AE960D83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76DB-2580-41EF-959E-42B943DA5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5865-70E9-4E98-BC4A-79BBBE1E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8A5D-76FE-44DE-A5E8-31705BD5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731A-296E-468A-AA7A-AC37B0E4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F8AA-8C69-40D8-963F-B0644FB2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33E6-868C-40E5-A7B1-02685221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EB15-17DC-4164-81A1-7E9D4EED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416-F5E0-4DED-AF13-EC66C03B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CCBB-BCB1-452B-9AE3-49564427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2AC9-8E82-4B87-989B-7DB71916453F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3C0B-E335-427C-8C3E-0178C583E9F3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S 44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615040" y="55022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241960" y="548640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35268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 flipV="1">
            <a:off x="579096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: b’’’ list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615040" y="55022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241960" y="548640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35268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579096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, map (f, tl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’ list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020720" y="1600200"/>
            <a:ext cx="177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559560" y="556272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65440" y="556272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5791320" y="4952880"/>
            <a:ext cx="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7010280" y="4952880"/>
            <a:ext cx="15264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20720" y="1600200"/>
            <a:ext cx="177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134880" y="556272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2971440" y="4876560"/>
            <a:ext cx="30492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099920" y="160020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080520" y="5562720"/>
            <a:ext cx="13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2590920" y="4876560"/>
            <a:ext cx="4572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099920" y="1600200"/>
            <a:ext cx="1778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72320" y="579132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1447920" y="4952880"/>
            <a:ext cx="304560" cy="9144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91960" y="3429000"/>
            <a:ext cx="1231920" cy="2362320"/>
          </a:xfrm>
          <a:custGeom>
            <a:avLst/>
            <a:gdLst/>
            <a:ahLst/>
            <a:rect l="l" t="t" r="r" b="b"/>
            <a:pathLst>
              <a:path w="776" h="1488">
                <a:moveTo>
                  <a:pt x="200" y="1488"/>
                </a:moveTo>
                <a:cubicBezTo>
                  <a:pt x="100" y="1236"/>
                  <a:pt x="0" y="984"/>
                  <a:pt x="8" y="768"/>
                </a:cubicBezTo>
                <a:cubicBezTo>
                  <a:pt x="16" y="552"/>
                  <a:pt x="120" y="320"/>
                  <a:pt x="248" y="192"/>
                </a:cubicBezTo>
                <a:cubicBezTo>
                  <a:pt x="376" y="64"/>
                  <a:pt x="576" y="32"/>
                  <a:pt x="776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d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01720" y="1600200"/>
            <a:ext cx="1887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373840" y="601992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1599840" y="5257800"/>
            <a:ext cx="60948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886200" y="2590920"/>
            <a:ext cx="1879560" cy="3657600"/>
          </a:xfrm>
          <a:custGeom>
            <a:avLst/>
            <a:gdLst/>
            <a:ahLst/>
            <a:rect l="l" t="t" r="r" b="b"/>
            <a:pathLst>
              <a:path w="1232" h="2160">
                <a:moveTo>
                  <a:pt x="0" y="2160"/>
                </a:moveTo>
                <a:cubicBezTo>
                  <a:pt x="308" y="2096"/>
                  <a:pt x="616" y="2032"/>
                  <a:pt x="816" y="1824"/>
                </a:cubicBezTo>
                <a:cubicBezTo>
                  <a:pt x="1016" y="1616"/>
                  <a:pt x="1232" y="1216"/>
                  <a:pt x="1200" y="912"/>
                </a:cubicBezTo>
                <a:cubicBezTo>
                  <a:pt x="1168" y="608"/>
                  <a:pt x="896" y="304"/>
                  <a:pt x="624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01720" y="1606680"/>
            <a:ext cx="188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3:  Solv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48520" y="358128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traint solution provides all possible solutions to type scheme annotations on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795120" y="4114800"/>
            <a:ext cx="155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solu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 -&gt;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7432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433560" y="3733920"/>
            <a:ext cx="221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map (f : b’ -&gt;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x : b’ list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4864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riticisms of Typed Languag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ypes overly constrain functions &amp; data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Polymorphism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makes typed constructs useful in more contex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versal polymorphism =&gt; code reus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xistential polymorphism =&gt; abstract typ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ypes clutter programs and slow down programmer productivit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nformative annotations may be omitt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4:  Generate typ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enerate types from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1: pick an instance of the most general type when we have completed type inference on the entire progra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(int -&gt; int) -&gt; int list -&gt; int list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2: generate polymorphic types for program parts and continue (polymorphic) 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All (a,b) ((a -&gt; b) * a list) -&gt; b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 Detail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ype constraints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are sets of equations between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::= {s11 = s12, ..., sn1 = sn2}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g: {b = b’ list, a = b -&gt; c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yntax-directed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constraint genera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ur algorithm crawls over abstract syntax of untyped expressions and generat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term schem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lgorithm defined as set of inference rules (as alway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u =&gt; e : t,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mple ru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x ==&gt; x : s,  { }      (if G(x) = 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3 ==&gt; 3 : int, { }    (same for other int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true ==&gt; tru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false ==&gt; fals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26960" y="2362320"/>
            <a:ext cx="833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             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 e1 + e2 : int, q1 U q2 U {t1 = int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11840" y="4375080"/>
            <a:ext cx="858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             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&lt; u2 ==&gt; e1 &lt; e2 : bool, q1 U q2 U {t1 = int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f state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30520" y="2362320"/>
            <a:ext cx="7468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3 ==&gt; e3 : t3, q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if u1 then u2 else u3 ==&gt; if e1 then e2 else e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q3 U {t1 = bool, a = t2, a = t3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Appl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510920" y="2362320"/>
            <a:ext cx="642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u2==&gt; e1 e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{t1 = t2 -&gt; a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Decla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10920" y="2362320"/>
            <a:ext cx="6423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, f : a -&gt; b, x : a |-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fun f(x) = u  ==&gt; fun f (x : a) : b = e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 -&gt; b, q U {t = b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(a,b are fresh type variables; not in G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to a system of type constraints is 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ubstitution 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function from type variables to typ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because some things get simpler, we assume substitutions are defined on all type variable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a     (for almost all variables a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s      (for some type scheme s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om(S) = set of variables s.t. S(a) </a:t>
            </a:r>
            <a:r>
              <a:rPr b="0" lang="en-US" sz="28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iven a substitution S, we can define a function S* from type schemes (as opposed to type variables) to type schem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int) = in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s1 -&gt; s2) = S*(s1) -&gt; S*(s2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a) = S(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e to laziness, I will write S(s) instead of S*(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eneration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of type constraints from unannotated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imply-typed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program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not ML ye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olving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type constrain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extbook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ierce 22: “Type Reconstruction”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osition of 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omposi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(U o S) applies the substitution S and then applies the substitution U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U o S)(a) = U(S(a)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ill need to compare substitu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 if T is “more specific” tha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 if T is “less general” tha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rmally: T &lt;= S if and only if T = U o S for some U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osition of 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ample 1: any substitution is less general than the identity substitution I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&lt;= I because S = S o I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ample 2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int, S(b) = c -&gt;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(a) = int, T(b) = int -&gt; int, T(c) =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e conclude: T &lt;= 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f T(a) = int, T(b) = int -&gt; bool then T is unrelated to S (neither more nor less general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a Constrain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|= q if S is a solution to the constraints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183920" y="3200400"/>
            <a:ext cx="375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s1) = S(s2)          S |=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|= {s1 = s2} U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94560" y="3581280"/>
            <a:ext cx="120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1828800" y="4571640"/>
            <a:ext cx="7632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18760" y="5221440"/>
            <a:ext cx="335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ny substitution i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 solution for the empt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6095880" y="4647960"/>
            <a:ext cx="15264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862160" y="5180040"/>
            <a:ext cx="38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 solution to an equ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is a substitution that mak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left and right side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st Gener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is the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incipal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(most general) solution of a constraint q if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|= q                          (it is a solution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T |= q then T &lt;= S   (it is the most general on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Lemma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If q has a solution, then it has a most general on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re about principal solutions since they will give us the most general types for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S(b) =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c) = c    (for all c other than a,b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, b=bool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, b=bool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does not exist (there is no solution to 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incip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rincipal solutions give rise to most general reconstruction of typing information for a te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a):a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a most general reconstruc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int):int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no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An algorithm that provides the principal solution to a set of constraints (if one exist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one exists, it will be princip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ype scheme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contains type variables that may be filled in during type inferenc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::= a | int | bool | s1 -&gt; s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 term scheme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is a term that contains type schemes rather than proper typ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 ::= ... | fun f (x:s1) : s2 = e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Unification systematically simplifies a set of constraints, yielding a substitu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ring simplification, we maintain (S,q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the solution so far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are the constraints left to simplif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tarting state of unification process: (I,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al state of unification process: (S, { }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n specify unification as a transition syste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,q) -&gt; (S’,q’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ase types &amp; simple variab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10800" y="4419720"/>
            <a:ext cx="3358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45080" y="487692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ction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Variable defini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041200" y="259092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230920" y="4419720"/>
            <a:ext cx="56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302560" y="56386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re is none!  (Remember your homework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 occurs check detects this situ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693080" y="47242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 flipV="1">
            <a:off x="6781320" y="5181120"/>
            <a:ext cx="685800" cy="7621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94920" y="594216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occurs check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rreducible Stat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Recall: final states have the form (S, { }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(S,q) are such that every equation in q has the fo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t = boo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1 -&gt; s2 = s   (s not function typ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= s              (s contains 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r is symmetric to one of the abov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arise when constraints are unsolvabl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ant unification to terminate (to give us a type reconstruction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lgorithm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 other words, we want to show that there is no infinite sequence of stat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1,q1) -&gt; (S2,q2) -&gt; ..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associate an ordering with constrain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&lt; q’ if and only if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fewer variables than q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the same number of variables as q’ but fewer type constructors (ie: fewer occurrences of int, bool, or “-&gt;”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is is a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exacographic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ere is no infinite decreasing sequence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o prove termination, we must demonstrate that every step of the algorithm reduces the size of q according to this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: Every step reduces the size of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of:  By cases (ie: induction) on the definition of the reduction rela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05880" y="3581280"/>
            <a:ext cx="33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8520" y="547056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479480" y="358128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566960" y="5181480"/>
            <a:ext cx="389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lete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omplete 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for (S,q) is a substitution T such th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|=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tuition: T  extends S and solves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incipal 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T for (S,q) is complete for (S,q) a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r all T’ such that </a:t>
            </a: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hold, T’ &lt;= 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, l)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1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ery final state (S, { }) has a complete solu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S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&lt;= 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o stuck state has a complete solution (or any solution at all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impossible for a substitution to make the necessary equation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boo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t1 -&gt; t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3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(S,q) -&gt; (S’,q’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 is complete for (S,q) iff T is complete for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 is principal for (S,q) iff T is principal for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n the forward direction, this is the preservation theorem for the unification machine!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y termination, (I,q) -&gt;* (S,q’) where (S,q’) is irreducible. 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= { }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’) is final (by definition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a principal solution for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onsider any T such that T is a solution to q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Now notice, S is principal for (S,q’) (by lemma 1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is principal for (I,q) (by lemma 3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nce S is principal for (I,q), we know T &lt;= S and therefore S is a principal solution for q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 Unification (cont.)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...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is not { } (and (I,q) -&gt;* (S,q’) where (S,q’) is irreducible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) is stuck.  Consequently, (S,q) has no complete solution.  By lemma 3, even (I,q) has no complete solution and therefore q has no solution at all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inference algorithm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a context G, and untyped term u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e, t, q such that G |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principal solution S of q via unific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f no solution exists, there is no reconstruc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pply S to e, ie our solution is S(e)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(e) contains schematic type variables a,b,c, etc that may be instantiated with any typ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ince S is principal, S(e) characterizes all reconstruction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, l)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191120" y="1676520"/>
            <a:ext cx="2438280" cy="6426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library function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argument type is ‘a lis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209680" y="2133720"/>
            <a:ext cx="190512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95480" y="5715000"/>
            <a:ext cx="2895840" cy="9169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library function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argument type is (‘a * ‘a list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result type is ‘a list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2133360" y="4876920"/>
            <a:ext cx="990360" cy="7617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504960" y="2438280"/>
            <a:ext cx="990360" cy="198144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800600" y="2438280"/>
            <a:ext cx="838080" cy="198144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5791320" y="4876920"/>
            <a:ext cx="761760" cy="3045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553080" y="5105520"/>
            <a:ext cx="1981440" cy="36828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result type is ‘a lis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3428640" y="4876920"/>
            <a:ext cx="762120" cy="3045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191120" y="5105520"/>
            <a:ext cx="1981080" cy="36828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result type is ‘a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1:  Add 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4799160" y="2585520"/>
            <a:ext cx="534960" cy="538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4038480" y="2590560"/>
            <a:ext cx="1292400" cy="8413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74360" y="3040200"/>
            <a:ext cx="214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type schem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on functio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0880" y="5181480"/>
            <a:ext cx="8382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-- walk over the program &amp; keep track of the type equations t1 = t2 that must hold in order to type check the expressions according to the normal typing rule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-- introduce new type variables for unknown types whenver necessary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2514600" y="3162240"/>
            <a:ext cx="137160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056840" y="3429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11:06:27Z</dcterms:created>
  <dc:creator>David Walker</dc:creator>
  <dc:description/>
  <dc:language>en-US</dc:language>
  <cp:lastModifiedBy>dpw</cp:lastModifiedBy>
  <dcterms:modified xsi:type="dcterms:W3CDTF">2008-11-19T16:54:51Z</dcterms:modified>
  <cp:revision>49</cp:revision>
  <dc:subject/>
  <dc:title>Type Inference</dc:title>
</cp:coreProperties>
</file>