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935-BDB7-46F2-8E9A-BED9F78E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308-6DE4-405E-AFF4-4640D93C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3A3-C21A-4D70-9091-2436176A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BAF-37F5-4A81-BDFF-05E3799E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2AC-19F5-445E-A595-81986B3B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5EC-8276-42F6-860E-9497380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612-2B51-4F8D-BD3E-8721CDB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EE8-9A85-4B7D-B2E7-EA06A27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E4F-1010-4E61-82A0-5AF71DC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8FE8-795D-47D0-81EE-AEF85A3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F7BE-6570-490E-8C2A-397C393E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5FC-1935-4804-B98B-15CF647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33D-D315-4B61-98D9-86ECC33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94F-79FF-4A09-8E5E-AC87DF7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AB6D-D16A-45EE-B69B-FCA0753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9C8-A755-4330-BB66-3FC49EFA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19F2-E80B-4319-B2CE-65BC0CF0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C5B-85AF-4766-9F41-AFD5EC3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C14-96D8-49D7-9D74-4EB8AFC3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0D9-CB0D-438E-840F-0C543BE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830-9EE6-4C53-BF13-13EC110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BAD-90A4-4EB8-8033-6FBAFD9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0E0-F5ED-4621-848D-78EF36A1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858-94F5-47DB-87F1-D150DFF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16B8-FF65-44B7-A744-AB427B3FB4C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DC73-DC23-4477-855B-C66C1CB145A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“occurs check”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rrectn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know the algorithm termin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to prove that a series of step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(I,q1) -&gt; (S2,q2) -&gt; (S3,q3) -&gt; ... -&gt; (S,{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ves the initial constraints q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’ll do that by induction on the length of the sequence, but we’ll need to define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varia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hat are preserved from step to ste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fining the invaria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is the most general solution (it’s the least restrictive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t is S since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895120" y="4952880"/>
            <a:ext cx="76212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13400" y="560376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every substitution is a 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o the empty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(S,q) -&gt; (S’,q’) the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1. T is complete for (S,q) iff T is complete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2. T is principal for (S,q) iff T is principal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: By induction (cases) on the definition of (S,q) -&gt; (S’, 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If T is complete for (S,{int=int} U q) then (by definition)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1) T &lt;= S and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2) T |= {int=int} U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o prove T is complete for (S,q), we show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&lt;= S  (by (1)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50720" y="2133720"/>
            <a:ext cx="292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T is complete for (S, {a=s} U q) then (by definition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1) T &lt;=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2) T |= {a=s} U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o prove T is complete for ([a=s] o S, q[s/a]), we show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[s/a] o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ow?  Maybe for homework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50160" y="2057400"/>
            <a:ext cx="57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{}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 is more general than any other solution T for q such that T &lt;= I.  Since all T &lt;= I, T &lt;= S for all solutions to q.  Hence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21T14:59:06Z</dcterms:modified>
  <cp:revision>48</cp:revision>
  <dc:subject/>
  <dc:title>Type Inference</dc:title>
</cp:coreProperties>
</file>