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0A9B-3F33-4DB8-9F6F-0C6F1DEA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B76-7637-4FB7-A010-F9B496E5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FDBF-8B3E-4C77-8F44-1E9EC850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4A38-4DB2-4195-90E2-1EAACF0E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40D2-3ED2-44B2-B67F-FAD3A3FE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E583-9B71-4857-BA55-1C4D93C4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9714-2960-4E94-889D-F2F0812A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991D-6B17-436D-A848-12E122FF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F001-D708-4063-A139-2066D6C7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E2A4-7349-46E1-8CF3-2E1C05F1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468B-8FF1-41F9-BE69-577AB5EC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C0B-1C89-4DAC-90DA-3F0786B1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8AA5-1211-442B-A7B5-F147510C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55EC-9DFD-4A17-A921-ADCD8570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E9E5-FA33-4FA4-BFA5-501648C2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13FB-E1D7-4B56-8A45-C441B494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4E8C-49BA-4DB0-AAF1-D4DBE8BA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FF8-43C2-43B5-9F9D-FFC70523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88B-BDBE-468C-9B5C-0C2C16F7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290-ABFE-478D-A386-B404B84F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D56F-5B12-416D-91D4-30362A27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9BE5-3499-4CDD-92AD-7D6C3697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2A1-43AF-48E1-B0A2-12B0D254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566-01BA-44C3-ACEF-DBD1F153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ABF0-FEC4-463C-B541-3495E0410CEF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134E-2884-44B4-9DD0-38AFA212B3C1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I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S 44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one exists, it will be princip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Unification systematically simplifies a set of constraints, yielding a substitu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ring simplification, we maintain (S,q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the solution so fa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are the constraints left to simplif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477120" y="4419720"/>
            <a:ext cx="121896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633440" y="3809880"/>
            <a:ext cx="161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identity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substitu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is mo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enera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transition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0800" y="441972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45080" y="487692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30920" y="4419720"/>
            <a:ext cx="56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s/a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302560" y="56386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s/a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“occurs check”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693080" y="47242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94920" y="59421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rreducible Sta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exi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o prove termination, we must demonstrate that every step of the algorithm reduces the size of q according to this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By cases (ie: induction) on the definition of the reduction rela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[s/a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unannotated program, find its type or report it does not type check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Overview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enerat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ype constraints (equations) from unannotated program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v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equat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rrectnes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know the algorithm termin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to prove that a series of step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(I,q1) -&gt; (S2,q2) -&gt; (S3,q3) -&gt; ... -&gt; (S,{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olves the initial constraints q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’ll do that by induction on the length of the sequence, but we’ll need to define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invariants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hat are preserved from step to step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Defining the invaria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omplete solution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for (S,q) is a substitution T such tha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 &lt;= 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 |= q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tuition: T  extends S and solves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rincipal solution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T for (S,q) is complete for (S,q) a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09e4a"/>
              </a:buClr>
              <a:buSzPct val="7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r all T’ such that </a:t>
            </a:r>
            <a:r>
              <a:rPr b="0" lang="en-US" sz="2000" spc="-1" strike="noStrike">
                <a:solidFill>
                  <a:srgbClr val="c09e4a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c09e4a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hold, T’ &lt;= 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tuition: T is the most general solution (it’s the least restrictive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1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final state (S, { }) has a complete sol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t is S since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&lt;= 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2895120" y="4952880"/>
            <a:ext cx="76212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713400" y="5603760"/>
            <a:ext cx="39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every substitution is a s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o the empty 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o stuck state has a complete solution (or any solution at al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impossible for a substitution to make the necessary equation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1 -&gt; t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f (S,q) -&gt; (S’,q’) the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1. T is complete for (S,q) iff T is complete for (S’,q’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2. T is principal for (S,q) iff T is principal for (S’,q’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roof: By induction (cases) on the definition of (S,q) -&gt; (S’, 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96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 the forward direction, this is the preservation theorem for the unification machin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of cas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057400" y="38095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If T is complete for (S,{int=int} U q) then (by definition):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(1) T &lt;= S and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(2) T |= {int=int} U q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To prove T is complete for (S,q), we show: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T &lt;= S  (by (1)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T |= q    (by (2) and definition of |= 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150720" y="2133720"/>
            <a:ext cx="292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of cas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327672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T is complete for (S, {a=s} U q) then (by definition)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(1) T &lt;= S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(2) T |= {a=s} U q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o prove T is complete for ([a=s] o S, q[s/a]), we show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 &lt;= [s/a] o S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 |= q    (by (2) and definition of |= 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How?  Maybe for homework!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550160" y="2057400"/>
            <a:ext cx="570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s/a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termination, (I,q) -&gt;* (S,q’) where (S,q’) is irreducible. 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= { }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S,{}) (by lemma 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I,q) (by lemma 3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nce S is principal for (I,q), S is more general than any other solution T for q such that T &lt;= I.  Since all T &lt;= I, T &lt;= S for all solutions to q.  Hence, S is a principal solution for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 Unification (cont.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is not { } (and (I,q) -&gt;* (S,q’) where (S,q’) is irreducible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is stuck.  Consequently, (S,q) has no complete solution.  By lemma 3, even (I,q) has no complete solution and therefore q has no solution at all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reconstruc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reconstruction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ing rules for annotated program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G |-- e : 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Note: given G and e, at most one type 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ing rules for unannotated program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G |-- u =&gt; e : t, q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Note: given G and u, there may be many possible types for u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the many possibilities represented using type scheme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u has a type t if q has a solutio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Remember:  fun f (x) = f x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ule comparis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19400" y="4267080"/>
            <a:ext cx="6258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 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u2 ==&gt; e2 : t2, q2        G |-- u3 ==&gt; e3 : t3, q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31760" y="2651040"/>
            <a:ext cx="5537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e1 : bool          G |-- e2 : t          G |-- e3 : 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if e1 then e2 else e3 : 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648320" y="2286000"/>
            <a:ext cx="2209680" cy="4413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400800" y="2438280"/>
            <a:ext cx="457200" cy="2127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56560" y="1371600"/>
            <a:ext cx="186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implicit equality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easy to implemen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because t can’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contain variable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486040" y="5425920"/>
            <a:ext cx="1523880" cy="4413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324120" y="5578560"/>
            <a:ext cx="685800" cy="2887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009920" y="4511520"/>
            <a:ext cx="221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equality harder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to implemen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because t2, t3 ca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contain variable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that may be further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constrained elsewher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on-local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85240" y="4876920"/>
            <a:ext cx="353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x + y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60520" y="4784760"/>
            <a:ext cx="340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x + (if y then 3 else 4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03120" y="1828800"/>
            <a:ext cx="3198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Does this type check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...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50960" y="396864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It depends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on-local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2600" y="3505320"/>
            <a:ext cx="353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:int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:int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x + y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60520" y="3429000"/>
            <a:ext cx="340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:int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:bool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x + (if y then 3 else 4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20680" y="2133720"/>
            <a:ext cx="472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But remember, it was easy to check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when types were declared in advance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ution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o a system of type constraint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ubstitutio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 |= q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    iff  applying S makes left- &amp; right-hand sid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of each equation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solution S is better than T if it is “more general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uition: S makes fewer or less-defined substitutions (leaves more variables alone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 &lt;= S if and only if T = U o S for some U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st Gener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is the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most general) solution of a constraint q if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|= q                          (it is a solution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T |= q then T &lt;= S   (it is the most general on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Lemma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If q has a solution, then it has a most general o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re about principal solutions since they will give us the most general types for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incip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rincipal solutions give rise to most general reconstruction of typing information for a te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a):a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a most general reconstruc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int):int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no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dpw</cp:lastModifiedBy>
  <dcterms:modified xsi:type="dcterms:W3CDTF">2008-11-21T14:59:06Z</dcterms:modified>
  <cp:revision>48</cp:revision>
  <dc:subject/>
  <dc:title>Type Inference</dc:title>
</cp:coreProperties>
</file>