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E90-2483-4C6F-88EE-0AFC42C8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965-952F-4A3B-8F92-81BE8B26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652-5373-460B-9DDA-1B93D35A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39B-C244-4805-8689-71F82D18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714A-4AEB-40A2-92CE-533705DF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3D13-F5E0-4B0C-8DE2-680C990A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B937-A9E2-402C-BDA4-56B8B81C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6594-680A-4FF1-8086-DA3B1940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71E6-DD9D-427B-99BD-C754C5F8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3922-CD35-456A-92C1-341F5781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54D3-033E-4F79-B59B-1D33D22D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E09-9ED7-43C8-9A8E-5080D29B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EAD9-2026-4BF3-956E-6A0C510E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984E-AC31-47B3-9179-A41363E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449D-AD72-429D-831A-55D629DF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E4CF-66AA-443D-A4B5-13EFAD4F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5053-2330-41CC-B571-E81C26CC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83A-1D41-46E8-BF12-C550E1DD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CE8-47B0-456D-95E8-2C01029A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8D0-8A69-4A78-BDE6-58027B7E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869-E8AF-437C-8A6A-5C60EF48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84B-ABBA-476B-817E-22473A8C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E73-3C3C-41D7-A995-156A5A4D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6A0-6849-4B72-AC80-87FED09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7429-A79F-4480-94AA-263C068FE67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3DCB-6E7D-4CEB-8E02-1B9DE01CA6FA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7120" y="4419720"/>
            <a:ext cx="121896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33440" y="3809880"/>
            <a:ext cx="161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dentit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substitu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s m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enera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“occurs check”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i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unannotated program, find its type or report it does not type chec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verview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 (equations) from unannotated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equa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rrectnes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know the algorithm termin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to prove that a series of step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(I,q1) -&gt; (S2,q2) -&gt; (S3,q3) -&gt; ... -&gt; (S,{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olves the initial constraints q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’ll do that by induction on the length of the sequence, but we’ll need to define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varia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hat are preserved from step to ste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efining the invaria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0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tuition: T is the most general solution (it’s the least restrictive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t is S since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895120" y="4952880"/>
            <a:ext cx="76212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13400" y="5603760"/>
            <a:ext cx="39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every substitution is a 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o the empty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(S,q) -&gt; (S’,q’) the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1. T is complete for (S,q) iff T is complete for (S’,q’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2. T is principal for (S,q) iff T is principal for (S’,q’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of: By induction (cases) on the definition of (S,q) -&gt; (S’, 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of cas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If T is complete for (S,{int=int} U q) then (by definition)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(1) T &lt;= S and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(2) T |= {int=int} U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o prove T is complete for (S,q), we show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 &lt;= S  (by (1)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 |= q    (by (2) and definition of |= 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150720" y="2133720"/>
            <a:ext cx="292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of cas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T is complete for (S, {a=s} U q) then (by definition)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(1) T &lt;= S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(2) T |= {a=s} U q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o prove T is complete for ([a=s] o S, q[s/a]), we show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[s/a] o S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|= q    (by (2) and definition of |= 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How?  Maybe for homework!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50160" y="2057400"/>
            <a:ext cx="570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S,{}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S is more general than any other solution T for q such that T &lt;= I.  Since all T &lt;= I, T &lt;= S for all solutions to q.  Hence,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e :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e, at most one type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un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u, there may be many possible types for u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he many possibilities represented using type schem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u has a type t if q has a solu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Remember:  fun f (x) = f x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ule comparis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400" y="4267080"/>
            <a:ext cx="625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2 ==&gt; e2 : t2, q2        G |-- u3 ==&gt; e3 : t3, q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31760" y="2651040"/>
            <a:ext cx="553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e1 : bool          G |-- e2 : t          G |--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e1 then e2 else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648320" y="2286000"/>
            <a:ext cx="22096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400800" y="2438280"/>
            <a:ext cx="457200" cy="212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6560" y="1371600"/>
            <a:ext cx="18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implicit equalit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asy 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 can’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486040" y="5425920"/>
            <a:ext cx="15238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324120" y="5578560"/>
            <a:ext cx="685800" cy="2887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09920" y="4511520"/>
            <a:ext cx="221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quality harder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2, t3 ca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hat may be furth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strained elsewher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5240" y="48769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60520" y="478476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03120" y="1828800"/>
            <a:ext cx="3198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Does this type check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...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50960" y="396864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It depen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2600" y="35053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60520" y="342900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bool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20680" y="2133720"/>
            <a:ext cx="472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But remember, it was easy to chec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when types were declared in advance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 |= q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iff  applying S makes left- &amp; right-hand sid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of each equation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solution S is better than T if it is “more general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uition: S makes fewer or less-defined substitutions (leaves more variables alone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S if and only if T = U o S for some U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8-11-21T14:59:06Z</dcterms:modified>
  <cp:revision>48</cp:revision>
  <dc:subject/>
  <dc:title>Type Inference</dc:title>
</cp:coreProperties>
</file>