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29B-326D-4A54-86B8-E5E53717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E63-B2EF-4978-9B15-A60E2E5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61E-A920-446C-8501-26A5D67A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38E-9795-404A-BC90-52F7F914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8C9-5938-4CBB-B1E7-D500BF83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FFB-331A-4708-852B-84D9A73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B9A-1320-44A0-BD8B-896AA94E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436-2A5B-48EB-B7D1-8D5243C7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502-DF18-4A1F-8BDA-99BB15FF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B12-388A-4BA3-8180-F381D7E7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9B4-7FB7-4D6E-A80D-F82D1D9F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B6D-2791-4C16-8AC3-5D3A604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69A-B1A0-478C-9086-0A5FD4F4E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valuation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\x.x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(\y.y z)[x/z] = \y.y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4267080"/>
            <a:ext cx="1143000" cy="0"/>
          </a:xfrm>
          <a:prstGeom prst="line">
            <a:avLst/>
          </a:prstGeom>
          <a:ln w="44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715000"/>
            <a:ext cx="2438280" cy="541440"/>
          </a:xfrm>
          <a:custGeom>
            <a:avLst/>
            <a:gdLst/>
            <a:ahLst/>
            <a:rect l="l" t="t" r="r" b="b"/>
            <a:pathLst>
              <a:path w="1536" h="341">
                <a:moveTo>
                  <a:pt x="0" y="0"/>
                </a:moveTo>
                <a:cubicBezTo>
                  <a:pt x="65" y="49"/>
                  <a:pt x="188" y="243"/>
                  <a:pt x="388" y="292"/>
                </a:cubicBezTo>
                <a:cubicBezTo>
                  <a:pt x="588" y="341"/>
                  <a:pt x="1009" y="341"/>
                  <a:pt x="1200" y="292"/>
                </a:cubicBezTo>
                <a:cubicBezTo>
                  <a:pt x="1391" y="243"/>
                  <a:pt x="1466" y="61"/>
                  <a:pt x="1536" y="0"/>
                </a:cubicBezTo>
              </a:path>
            </a:pathLst>
          </a:custGeom>
          <a:noFill/>
          <a:ln w="38160">
            <a:solidFill>
              <a:srgbClr val="66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" y="6284880"/>
            <a:ext cx="87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alpha-equivalent expre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same except for consistent renaming of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” substitu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gnoring capture issu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e1 [[e/x]] assuming FV(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s(e1) = { 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[e/x]]) (e2 [[e/x]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[e/x]]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ncipl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Bound Variable Names Don’t Matt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x = 3 in x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ssume you can change the declaration of x to a declaration of y (or other name) provided you systematically change the uses of x.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y = 3 in y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hat the name you pick doesn’t conflict with the free variables of the expression.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global = 3 in global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                  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502920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void variable clashes, it is very convenient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lpha-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s so that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ound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n’t get in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to alpha-convert \x.e w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z such that z not in Vars(\x.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\z.(e[[z/x]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ust defined this form of substitution e[[z/x]] so it is a total function when z is not in Vars(\x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:  Expressions e1 and e2 are called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lpha-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y are the same after alpha-converting some of their boun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apture-avoi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ductively on the structure of exp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e/x]) (e2 [e/x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z.((e1[[z/y]])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z such that 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 U Vars(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95880" y="449532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540972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it Alpha-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rritating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pha-convert all the time in our definitions.  ie: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 down that before doing something like substitution (or type checking) that we are going to pick some new variable z that doesn’t interfere with any other variables in the current context and alpha-convert the given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we are going to take a short-cut:  implicit alpha-conversion.  When dealing with a bound variable as in \x.e, we’ll just assume that x is any variable we like other than one of the free variables in 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-avoiding substit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short-cut defin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e/x]) (e2 [e/x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, we left out the case for \y.e1 [e/x] when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.  We’ll implicitly alpha-convert \y.e1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z.e1[[z/y]] for some z that doesn’t appear in e1 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satisfy the free variable side con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248520" y="380952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3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3280" y="21337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1) e2 --&gt; e1 [e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133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21337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1) e2 --&gt; e1 [e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133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 Chapter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intro, op. sem., evaluatio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: encodings of booleans, pairs, numbers, recu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1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step Op. 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ingle step op sem.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extend it to a multi-step relation by taking its “reflexive, transitive closure: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00" y="499284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4648320"/>
            <a:ext cx="34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41320" y="25909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76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407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5000" y="5181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2280" y="51814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ng Theorems About O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by-value o.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property P of e1 --&gt; e2, there are 3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6760" y="20574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9760" y="21337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9464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040" y="23623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9840" y="37339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2720" y="47242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029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4240" y="6064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89120" y="6369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06040" y="476892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1 --&gt; e1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e2 --&gt; e1’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0800" y="606420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2 --&gt; e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v e2 --&gt; v e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2960" y="3747960"/>
            <a:ext cx="40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(\x.e) v --&gt; e [v/x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Often requires a related proper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on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ng Theorems About O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by-value o.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property P of e1 --&gt;* e2, given you’ve already proven property P’ of e1 --&gt; e2, there are 2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3320" y="5715000"/>
            <a:ext cx="305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2 --&gt;* 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vailable:  P’(e1 --&gt;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--&gt;* 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800" y="210168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91080" y="1825560"/>
            <a:ext cx="26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5480" y="2438280"/>
            <a:ext cx="1197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91080" y="2438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90080" y="221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36440" y="2209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6040" y="411480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39720" y="4451400"/>
            <a:ext cx="1197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2640" y="428148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--&gt;* e1)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638680"/>
            <a:ext cx="26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51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n expression e is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V(e) = { 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1 is closed and e1 --&gt;* e2 then e2 is 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: by induction on derivation of e1 --&gt;* e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/terminology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-avoiding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-equivalence; alpha-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-by-value, call-by-name, full beta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call-by-value operational semantics, we need t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 [v/x]    where v contains no fre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ther operational semantics,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 [e2/x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 :  Given an expression, compute its fre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 :  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e1 e2) = FV(e1) U FV(e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e) = FV(e) –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V as an inductive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0880" y="1600200"/>
            <a:ext cx="413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 e2) = FV(e1) U FV(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\x.e) = FV(e) –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8040" y="4038480"/>
            <a:ext cx="433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) = S1          FV(e2) =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 e2) = S1 U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\x.e) = S –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5120" y="4111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5120" y="5181480"/>
            <a:ext cx="42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5120" y="6248520"/>
            <a:ext cx="23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2560" y="220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s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680" y="50292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765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962520"/>
            <a:ext cx="152640" cy="2666880"/>
          </a:xfrm>
          <a:custGeom>
            <a:avLst/>
            <a:gdLst>
              <a:gd name="textAreaLeft" fmla="*/ 97560 w 152640"/>
              <a:gd name="textAreaRight" fmla="*/ 153000 w 1526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11120" y="1967040"/>
            <a:ext cx="485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e1 e2) = Vars(e1) U Vars(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\x.e) = Vars(e) U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\x.x x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3:37:12Z</dcterms:created>
  <dc:creator>dpw</dc:creator>
  <dc:description/>
  <dc:language>en-US</dc:language>
  <cp:lastModifiedBy>dpw</cp:lastModifiedBy>
  <dcterms:modified xsi:type="dcterms:W3CDTF">2008-10-06T17:01:13Z</dcterms:modified>
  <cp:revision>11</cp:revision>
  <dc:subject/>
  <dc:title>Substitution  &amp; Evaluation Order</dc:title>
</cp:coreProperties>
</file>