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B78-B756-4BBC-9AD1-63F45B05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E03-9DF9-47B6-B6E7-F38528D0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3A0-64B6-4364-A90E-09291F56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724-A78F-4E61-AE87-D34B90BB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5779-2153-4AA3-878E-AF0F27D4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271-70E4-486C-BF50-A38EA145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B1F-0305-4C4C-A333-7ABC559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ACC-3608-4715-A366-B973E356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477-237B-4839-AB94-6B608171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D07-612C-4EC9-9578-E589FB6B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4BB-7D97-46F4-919A-642C622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144-C86F-4E85-8C72-4EF2E35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F811-74D0-43EB-9195-17498EF4E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Evaluation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z.z z)[\w.w/z] = \x.\z.z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x z)[x/z] = \x.x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x z)[x/z] = (\y.y z)[x/z] = \y.y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95120" y="4267080"/>
            <a:ext cx="1143000" cy="0"/>
          </a:xfrm>
          <a:prstGeom prst="line">
            <a:avLst/>
          </a:prstGeom>
          <a:ln w="442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5715000"/>
            <a:ext cx="2438280" cy="541440"/>
          </a:xfrm>
          <a:custGeom>
            <a:avLst/>
            <a:gdLst/>
            <a:ahLst/>
            <a:rect l="l" t="t" r="r" b="b"/>
            <a:pathLst>
              <a:path w="1536" h="341">
                <a:moveTo>
                  <a:pt x="0" y="0"/>
                </a:moveTo>
                <a:cubicBezTo>
                  <a:pt x="65" y="49"/>
                  <a:pt x="188" y="243"/>
                  <a:pt x="388" y="292"/>
                </a:cubicBezTo>
                <a:cubicBezTo>
                  <a:pt x="588" y="341"/>
                  <a:pt x="1009" y="341"/>
                  <a:pt x="1200" y="292"/>
                </a:cubicBezTo>
                <a:cubicBezTo>
                  <a:pt x="1391" y="243"/>
                  <a:pt x="1466" y="61"/>
                  <a:pt x="1536" y="0"/>
                </a:cubicBezTo>
              </a:path>
            </a:pathLst>
          </a:custGeom>
          <a:noFill/>
          <a:ln w="38160">
            <a:solidFill>
              <a:srgbClr val="66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3200" y="6284880"/>
            <a:ext cx="873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alpha-equivalent expres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he same except for consistent renaming of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” substitu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ignoring capture issu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e1 [[e/x]] assuming FV(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s(e1) = { 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e2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e1 [[e/x]]) (e2 [[e/x]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e1)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[e/x]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y.(e1 [[e/x]]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incipl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Bound Variable Names Don’t Matte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let val x = 3 in x + global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ssume you can change the declaration of x to a declaration of y (or other name) provided you systematically change the uses of x. 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let val y = 3 in y + global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that the name you pick doesn’t conflict with the free variables of the expression. 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let val global = 3 in global + global 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                  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5029200"/>
            <a:ext cx="1447920" cy="228600"/>
          </a:xfrm>
          <a:prstGeom prst="leftArrow">
            <a:avLst>
              <a:gd name="adj1" fmla="val 50000"/>
              <a:gd name="adj2" fmla="val 1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-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avoid variable clashes, it is very convenient to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alpha-con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s so that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bound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n’t get in th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to alpha-convert \x.e w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z such that z not in Vars(\x.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469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\z.(e[[z/x]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just defined this form of substitution e[[z/x]] so it is a total function when z is not in Vars(\x.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:  Expressions e1 and e2 are called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alpha-equival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y are the same after alpha-converting some of their boun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ff"/>
                </a:solidFill>
                <a:latin typeface="Arial"/>
              </a:rPr>
              <a:t>capture-avoi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ductively on the structure of exp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e2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e1 [e/x]) (e2 [e/x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y.(e1 [e/x])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z.((e1[[z/y]]) [e/x])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ome z such that 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 U Vars(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95880" y="449532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095880" y="5409720"/>
            <a:ext cx="15264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it Alpha-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rritating to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pha-convert all the time in our definitions.  ie: to </a:t>
            </a: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ite down that before doing something like substitution (or type checking) that we are going to pick some new variable z that doesn’t interfere with any other variables in the current context and alpha-convert the given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we are going to take a short-cut:  implicit alpha-conversion.  When dealing with a bound variable as in \x.e, we’ll just assume that x is any variable we like other than one of the free variables in 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ure-avoiding substitu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he short-cut defin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e2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e1 [e/x]) (e2 [e/x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y.e1) [e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y.(e1 [e/x])  (if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, we left out the case for \y.e1 [e/x] when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V(e).  We’ll implicitly alpha-convert \y.e1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z.e1[[z/y]] for some z that doesn’t appear in e1 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satisfy the free variable side condi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248520" y="3809520"/>
            <a:ext cx="1522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3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5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3280" y="213372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1) e2 --&gt; e1 [e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2133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5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73280" y="213372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1) e2 --&gt; e1 [e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133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 Chapter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: intro, op. sem., evaluatio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: encodings of booleans, pairs, numbers, recu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: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5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48160" y="2209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step Op. S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single step op sem.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extend it to a multi-step relation by taking its “reflexive, transitive closure: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6000" y="4992840"/>
            <a:ext cx="15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* 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87160" y="4648320"/>
            <a:ext cx="344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 e2        e2 --&gt;* 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* 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41320" y="25909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1 --&gt;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76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54072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5000" y="51814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flex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2280" y="51814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nsi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ng Theorems About O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-by-value o.s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property P of e1 --&gt; e2, there are 3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6760" y="20574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19760" y="21337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9464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040" y="23623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9840" y="37339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2720" y="47242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50292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14240" y="6064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89120" y="6369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06040" y="4768920"/>
            <a:ext cx="341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 = P(e1 --&gt; e1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e1 e2 --&gt; e1’ 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0800" y="6064200"/>
            <a:ext cx="31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 = P(e2 --&gt; e2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v e2 --&gt; v e2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22960" y="3747960"/>
            <a:ext cx="40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(\x.e) v --&gt; e [v/x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Often requires a related proper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ion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ng Theorems About O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-by-value o.s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property P of e1 --&gt;* e2, given you’ve already proven property P’ of e1 --&gt; e2, there are 2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3320" y="5715000"/>
            <a:ext cx="305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 = P(e2 --&gt;* e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vailable:  P’(e1 --&gt; 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e1 --&gt;* e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1800" y="210168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91080" y="1825560"/>
            <a:ext cx="26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2        e2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55480" y="2438280"/>
            <a:ext cx="1197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91080" y="2438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90080" y="221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flex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36440" y="2209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nsi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6040" y="411480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539720" y="4451400"/>
            <a:ext cx="1197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72640" y="428148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prove:  P(e1 --&gt;* e1)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5638680"/>
            <a:ext cx="26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2        e2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*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6251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 An expression e is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cl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V(e) = { 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1 is closed and e1 --&gt;* e2 then e2 is cl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: by induction on derivation of e1 --&gt;* e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/terminology to rememb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-avoiding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-equivalence; alpha-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-by-value, call-by-name, full beta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call-by-value operational semantics, we need to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1 [v/x]    where v contains no fre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ther operational semantics, we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1 [e2/x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 :  Given an expression, compute its free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 :  lambda express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e1 e2) = FV(e1) U FV(e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e) = FV(e) –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V as an inductive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10880" y="1600200"/>
            <a:ext cx="413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1 e2) = FV(e1) U FV(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\x.e) = FV(e) –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8040" y="4038480"/>
            <a:ext cx="433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1) = S1          FV(e2) = 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1 e2) = S1 U 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e) =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V(\x.e) = S –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5120" y="4111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5120" y="5181480"/>
            <a:ext cx="42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5120" y="6248520"/>
            <a:ext cx="2390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2560" y="22096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s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7680" y="502920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7652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962520"/>
            <a:ext cx="152640" cy="2666880"/>
          </a:xfrm>
          <a:custGeom>
            <a:avLst/>
            <a:gdLst>
              <a:gd name="textAreaLeft" fmla="*/ 97560 w 152640"/>
              <a:gd name="textAreaRight" fmla="*/ 153000 w 1526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11120" y="1967040"/>
            <a:ext cx="485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(x) =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(e1 e2) = Vars(e1) U Vars(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s(\x.e) = Vars(e) U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z.z z)[\w.w/z] = \x.\z.z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y.z z)[\w.w/z] = \x.\y.(\w.w) (\w.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\z.z z)[\w.w/z] = \x.\z.z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x z)[x/z] = \x.x x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3:37:12Z</dcterms:created>
  <dc:creator>dpw</dc:creator>
  <dc:description/>
  <dc:language>en-US</dc:language>
  <cp:lastModifiedBy>dpw</cp:lastModifiedBy>
  <dcterms:modified xsi:type="dcterms:W3CDTF">2008-10-06T17:01:13Z</dcterms:modified>
  <cp:revision>11</cp:revision>
  <dc:subject/>
  <dc:title>Substitution  &amp; Evaluation Order</dc:title>
</cp:coreProperties>
</file>