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F1B2-FF19-457A-A2ED-860F127D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A63B-3CED-433D-ABF3-FB8C452F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0A4B-8823-4B75-BC6F-683E3B8B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DDEC-4390-4BAD-BDF9-4CA2F5325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9CC1-6434-4457-8B37-251BDECF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F3E4-2B21-4AC0-9A4D-0367B179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22C4-1F53-4056-9127-6719C6DC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B4D2-FFEE-4971-B7A0-9AB19417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4677-4459-4F87-9B27-4BA2EE26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4227-136E-4C23-A6D0-9BC49A90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C991-FEDF-4700-94F9-842196B5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1B20-7172-4EBF-800A-9F083CB1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A882-1429-4C63-9906-E398DA2FE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mbda calc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4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y. y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y. y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y [\y. y / y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y. y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y [\y. y / y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\y.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x. x x/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x. x x/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ther words, it is simple to write non terminating computations in the lambda calc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lse can w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can do every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mbda calculus can be used as an “assembly langua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show how to compile useful, high-level operations and language features into the lambda calc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= adding high-level operations i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ven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programmers, but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t a computational neces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= make your compiler intermediate language simp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4343400"/>
            <a:ext cx="33526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= lambda calculus +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5943600"/>
            <a:ext cx="33526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= lambda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502920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83440" y="521820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/comp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mbda calc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ly, the lambda calculus was developed as a logic by Alonzo Church in 19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urch say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There may, indeed, be other applications of the system than its use as a logic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ave say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I’ll sa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anslate (let x = e1 in e2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\x.e2) e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anslate (let x = e1 in e2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\x. translate e2) (translate e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let x = e1 in e2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\x. translate e2) (translate e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x)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\x.e) = \x.translate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e1 e2) = (translate e1) (translate e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encode bool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represent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s functions name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define these func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how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can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an be used by a testing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est b then 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returns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if b is true and returns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if b is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nly thing the implementation of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going to be able to do with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o apply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s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must distinguish themselves when they are appli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co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= \x.\then.\else. x then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             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= \x.\then.\else. x then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tru (\x.t1) (\x.t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(\t.\f. t) (\x.t1) (\x.t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\x.t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             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= \b.\c. b c f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ru tr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tru tru f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t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             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= \b.\c. b c f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fls tr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fls tru f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f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wrong with the following transl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true = t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false = f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(if e1 then e2 else e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test (translate e1) (translate e2) (translate e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wrong with the following transl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true = t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false = f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(if e1 then e2 else e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test (translate e1) (translate e2) (translate e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426672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324480" y="4190760"/>
            <a:ext cx="1905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20360" y="4876920"/>
            <a:ext cx="494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e2 and e3 will both be evaluated regard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whether e1 is true or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the target program might not termin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ome cases when the source program w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rce, Chapter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like to encode the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e1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t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rs will b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function is used in the fst or sec operation it should reveal its first or second component resp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= \fst.\sec.\bool. bool fst 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t = \p. p t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 = \p. p f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t (create tru f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fst (\bool. bool tru f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(\bool. bool tru fls) t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t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we can go o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thmetic expressions (+, -, *,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, trees and data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ions, loops,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eral tri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will be functions – construct these functions so that they return the appropriate information when called by an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be precise about the operational semantics of the lambda calculus, we need to defin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ubstitu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he primary evaluation ru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98960" y="45100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4510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: a first 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finition is given inductiv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y    (if 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\y.t’ [t/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1 t2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t1 [t/x]) (t2 [t/x]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: a first 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orks well 50% of th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s miserably the rest of the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x. x) [y/x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\x.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x in the body of (\x. x) refers to the argument of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stitution should not replace th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got “unlucky” with our choice of variable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: a first 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orks well 50% of th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s miserably the rest of the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x. z) [x/z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\x.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z in the body of (\x. z)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oes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er to the argument of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substitution, it does refer to the argu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got “unlucky” with our choice of variable names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free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fine substitution properly, we must be able to calculate the free variables precis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(x) = {x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(\x.t) = FV(t) / {x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(t1 t2) = FV(t1)  U  FV(t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[t/x] = t                       y [t/x] = y    (if 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= \y.t’            (if 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=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= \y.t’ [t/x]     (if 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 and y </a:t>
            </a:r>
            <a:r>
              <a:rPr b="0" lang="en-US" sz="3200" spc="-1" strike="noStrike">
                <a:solidFill>
                  <a:srgbClr val="009999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FV(t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1 t2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t1 [t/x]) (t2 [t/x]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!  But the definition is not exhaus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 and y </a:t>
            </a:r>
            <a:r>
              <a:rPr b="0" lang="en-US" sz="3200" spc="-1" strike="noStrike">
                <a:solidFill>
                  <a:srgbClr val="009999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FV(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case for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= \y.t’            (if 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=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= \y.t’ [t/x]     (if 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 and y </a:t>
            </a:r>
            <a:r>
              <a:rPr b="0" lang="en-US" sz="3200" spc="-1" strike="noStrike">
                <a:solidFill>
                  <a:srgbClr val="009999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FV(t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ly every full-scale programming language has some notion of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(pure) lambda calculus is a language composed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ntir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the lambda calculus to study the essence of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just as fundamental as Turing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pha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mes of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b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riables are unimportant (as far as the meaning of the computation go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L, there is no difference 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n x =&gt;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nd 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n y =&gt;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treat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\x. 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\y. 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if they are (absolutely and totally) indistinguishable so we can always use one in place of the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pha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, we will adopt the convention that terms that differ only in the names of bound variables are interchang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: \x.t == \y. t[y/x]  (where this is the latest version of substitu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the name of a bound variable is called alpha c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, fi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[t/x] = t                       y [t/x] = y    (if 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= \y.t’ [t/x]     (if 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 and y </a:t>
            </a:r>
            <a:r>
              <a:rPr b="0" lang="en-US" sz="3200" spc="-1" strike="noStrike">
                <a:solidFill>
                  <a:srgbClr val="009999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FV(t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1 t2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t1 [t/x]) (t2 [t/x]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705360" y="3429000"/>
            <a:ext cx="2286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18040" y="5334120"/>
            <a:ext cx="364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use alpha-equivalent terms 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onstraint can always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isfied.  We pick y as we 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is is tr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al semantics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the only possible operational seman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3132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4320" y="324468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3549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752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5044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38280" y="45403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12800" y="4844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64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74720" y="316872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3473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71120" y="213372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e --&gt; t [e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2133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35680" y="56754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27720" y="571500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5044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38280" y="45403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12800" y="4844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464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74720" y="27432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95880" y="3048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71120" y="213372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e --&gt; t [e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5880" y="2133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35680" y="56754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04440" y="57150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beta-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74720" y="36576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962520"/>
            <a:ext cx="158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880" y="4724280"/>
            <a:ext cx="13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--&gt;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x.e --&gt; \x.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5029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5044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38280" y="45403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12800" y="4844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464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920" y="2743200"/>
            <a:ext cx="21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      e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30481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71120" y="213372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e --&gt; t [e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2133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35680" y="56754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05160" y="5715000"/>
            <a:ext cx="24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-order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73640" y="36576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3962520"/>
            <a:ext cx="158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48880" y="4724280"/>
            <a:ext cx="13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--&gt;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x.e --&gt; \x.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24480" y="5029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5044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7160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38280" y="45403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12800" y="4844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464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35680" y="56754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04800" y="571500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to-left 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249960" y="324468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v --&gt; e1’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3581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39960" y="454032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24480" y="4876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470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722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mbda calculus is a language of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ing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encode many high-level languag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perational seman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rule: beta-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upon careful definition of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valuation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,e ::= 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variabl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\x.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unction; in ML: fn x =&gt; 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e 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unction ap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ntity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\x.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notational conven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ssociate to the left (like in ML)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z x”     is   “(y z) 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dy of a lambda extends as far as possible to the r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\x.x \z.x z x”     is     “\x.(x \z.(x z x))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x.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x.x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1523520" y="20574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7960" y="247500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co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x is the term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1447920" y="4441680"/>
            <a:ext cx="25200" cy="66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53080" y="5272200"/>
            <a:ext cx="19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is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b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term \x.x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1854000" y="447372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37720" y="489096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is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f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term \x.x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BV operational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-step, call-by-value OS: t --&gt; t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are     v ::= \x.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rule (beta reductio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 [v/x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term in which all free occurrences of x in t are replaced with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placement operation is called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define it carefully later in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36840" y="365760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36576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al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ce, evaluation is left to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31320" y="27432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3048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54320" y="27432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3048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2T01:02:29Z</dcterms:created>
  <dc:creator>Preferred Customer</dc:creator>
  <dc:description/>
  <dc:language>en-US</dc:language>
  <cp:lastModifiedBy>dpw</cp:lastModifiedBy>
  <dcterms:modified xsi:type="dcterms:W3CDTF">2005-10-03T20:52:02Z</dcterms:modified>
  <cp:revision>9</cp:revision>
  <dc:subject/>
  <dc:title>the lambda calculus</dc:title>
</cp:coreProperties>
</file>