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EA8-9FCC-4D75-904B-6D6072E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EA2-52A2-491B-B6AA-104F670D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8B4-AEFB-46D1-B9FD-430E7A19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9BD-E494-4795-A348-B683426C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A7C-BDFC-4464-B20A-39712B8D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391-4914-4D9F-AEE2-B3FF20DE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5E2-C7E4-4FC4-AD65-66B06C58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767-10D0-46F0-AA9A-FCEC84CE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5EE-DA72-492B-A725-9A5867D1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5AD-D835-4E2D-B06A-08E9DA3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A55-D5FB-4AE7-BFFC-C03D66F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5EA-61D8-4521-BE92-561D368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DED-7E89-4690-9D40-B39244A0D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5-10-03T20:52:02Z</dcterms:modified>
  <cp:revision>9</cp:revision>
  <dc:subject/>
  <dc:title>the lambda calculus</dc:title>
</cp:coreProperties>
</file>