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2C8-44C3-413B-A09F-DC57B584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941-1076-456F-B228-D84C724D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B1E-B4EE-4387-91E2-02CFEBC2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F8C-39A0-47DC-808C-A671D98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516-CB10-4A96-AD85-DAB71D9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663-2BDF-4CE7-AAFE-2A80EC3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894-8609-46DC-A2DA-C032FD7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671-CAD1-4BE6-9C97-AA39D7C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65A-F334-4F0B-BE36-5E86F78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E2B-90B0-47F9-BA22-F441D6F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A45-6218-416F-83C0-F8A42BFB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747-EAEB-499C-91E4-0115C26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43A-0351-4D90-92D5-48651ECF2F37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1932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S 441 Exam Stuff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-Based Protection (JVM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98F-780C-4770-9D92-E46C3F13E1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computing base includes J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ormal spec (when we started with T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EB-DA2B-4A27-88B2-D3EF53B6B9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6640" y="190512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752480"/>
            <a:ext cx="17524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5920" y="304812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954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9520" y="42847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114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5360" y="548640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5257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67652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752480"/>
            <a:ext cx="1752480" cy="60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1828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182880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8280" y="182880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171840" y="2133360"/>
            <a:ext cx="3049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2480" y="30481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68920" y="287820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362320"/>
            <a:ext cx="68580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243792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440" y="3124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832-0977-4B1E-AB47-9C235C0BDE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t of the Lecture: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 core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tes, tuples, code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-Flow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ing conventions, stacks, ex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n’t get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ures, objects, modules, type analysi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93B-06FC-4F6F-8E22-78C3D236D5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Built-In 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b1, b2, b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a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turn type because code doesn’t really return, just jumps somewhere els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572-F76A-4D5A-BF7B-D6CB3CF4D5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CEE-29C1-4265-BFA3-B67D1656F5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llocation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kpai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bx:{eax:(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8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b4, b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0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4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CA-5A30-4D29-AAA2-00B42F773A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llee-Saves Registe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bx: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x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b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3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bx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main’s return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,done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{eax:b4}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ec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220-A50C-49B7-8273-9175A67BB7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 General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to save more stuff (e.g., local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4n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frame for sto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0],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lo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4n-4],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76212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410080"/>
            <a:ext cx="7621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648320"/>
            <a:ext cx="7617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29" idx="1"/>
          </p:cNvCxnSpPr>
          <p:nvPr/>
        </p:nvCxnSpPr>
        <p:spPr>
          <a:xfrm>
            <a:off x="1599840" y="4915080"/>
            <a:ext cx="61020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2971440" y="4914720"/>
            <a:ext cx="76284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79520" y="4800600"/>
            <a:ext cx="28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p-Al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9DB-A387-4078-9B62-799A28F5BD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 to use stack for activation fra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= nil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@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8A8-4702-421B-BF92-1AEAEE13FC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gistic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-home exam will become available on the course web site Jan 15-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when you download &amp; when you turn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ail to kenny or deliver to his office by h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have 24 hours to complete the ex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: anything from class, assignments, or assigned textbook rea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064-F8F8-4F95-BAE1-A025D03EF1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ing Stack Oper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esp,i*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add esp,i*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esp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[esp+i*4],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push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r,[esp+i*4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pop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E8D-B54A-472A-8422-DEE654897B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cursion thru Stack Variab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b4: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C2A-50A3-4405-859D-4E51B81274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act Fac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bstract, fact cannot read or write this portion of the s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er’s frame is protected from calle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E68-BD4A-4DDF-B00F-344B23DBB3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ope, Closures, and Objec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: unit -&gt; int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ed = ref 42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f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) -&gt; (seed := !seed + 1; !se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seed = 42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foo() {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eed++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both cases, seed is private to the code f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2C4-729D-4E74-AD03-423CAF26E1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coding “Private” Data: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endParaRPr b="0" lang="en-US" sz="4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foo is a pair of a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nd a cod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 code requires th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s 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no othe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s can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.e., you can’t forge the private dat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2DB-A9E1-4C42-893A-D65DD74B47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lf” and Recursive Closures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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at is, the code takes the whole objec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4AA-5BD1-4355-9B33-99DDC7131D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 type/datatype sup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ncy arrays/vector typ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ult tolerance chec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people still writing papers about more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B8D-304D-4254-BB47-0A03E5B205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ng Term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-level, portable, safe langu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-support of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ng support of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 control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running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ptimizations expressible in the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research working on a new compiler (Phoenix) to generate 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D29-8F47-4A4A-B04C-BB67507DCD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re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dgments, inductive definitions, proofs by induction (Chapter 3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uitionistic logic: formulas, proofs, proof checking &amp; the Curry-Howard isomorph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typed lambda calculus, operational semantics, properties, encodings (Chapter 5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lambda calculus: syntax, operational semantics, typing rules, properties including type safety, progress, preservation, canonical forms, substitution, inversion principles, etc. (Chapter 8,9,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datastructures: tuples, sums (Chapter 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programming language concepts (syntax, substitution, operational semantics, type check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622-9AAF-4846-86B1-BF947F1A23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ost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ve types (Chap 20.1, 20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ful computations:  references, exceptions, semantics using evaluation contexts (Chap 13,14; evaluation contexts note abov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ified types:  universal polymorphism, existential types, type inference (Chap 22.1-22.6, 23.1-23.5, 24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yping: subtyping relations, co-, contra-, and in-variance, subsumption rule, proving soundness of declarative system, showing subtyping rules are “bad”, don’t worry about relating declarative and algorithmic subtyping formally (Chap 15.1-5, 16.1-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-based, object-oriented languages:  featherweight Java (Chap 19.1-19.5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of operational semantics &amp; type systems:  stack insp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ff we cover today in l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of any of the concepts abo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63-10E3-43CD-9A60-992CAA5354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d Assembly Langu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ides stolen fro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eg Morrise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s for programming languages are a syntactic mechanism for enforcing abstractio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J. Reyno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D4D-A747-490A-96C7-FC1C127751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TAL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ype system for assembly language(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t-in abstractions (tuple,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s to build new abstractions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s on assembl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bstraction che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m: well-annotated code cannot vi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tr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7DB-1180-4051-8211-37B1D4B90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We Di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popl 98, toplas 99 &amp; others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RISC-style assembly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r from System F to 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and preservation theor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IA32 (32-bit Intel x8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ype construct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thing you can think of and m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C compi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40,000LOC &amp; compile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A1A-EBBC-49AA-9AFB-FC8D62FAF7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y Type Assembly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ies proofs of compiler correct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eper understanding of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er debug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-based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51-A9DE-4FF3-B925-AD23DC9725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pw</cp:lastModifiedBy>
  <dcterms:modified xsi:type="dcterms:W3CDTF">2007-12-18T14:46:32Z</dcterms:modified>
  <cp:revision>21</cp:revision>
  <dc:subject/>
  <dc:title>Typed Assembly Language</dc:title>
</cp:coreProperties>
</file>