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FF8-CFC0-40D8-9A98-3A2B8B1C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FFF-06D8-4C5A-93C8-D38E61A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AC1-611A-4483-A088-EFEB0548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140-6A21-4B5D-BCCE-116A9B0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796-3747-40EF-9BE7-C961353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A4-8DF7-4AEB-BD2B-9B273A9F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1F3-A452-480F-8FED-3361FE2E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0C0-69A9-4CFB-AE7C-5A146944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2FA-E149-4FB3-8BD7-806879C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A1A-D42B-46A3-911A-87EEAD0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6CB-53B3-4227-AF31-86C6260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ABB-A9B1-47CC-A694-A2AA9EA7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5897-B824-41A3-9EF2-D676EA0C2755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1932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S 441 Exam Stuff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-Based Protection (JVM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642-0D96-4587-8851-728715AA19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computing base includes J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ormal spec (when we started with T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87B-FA92-4211-80E0-F71ECD5379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6640" y="190512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752480"/>
            <a:ext cx="17524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5920" y="304812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954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9520" y="42847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114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5360" y="548640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5257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67652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752480"/>
            <a:ext cx="1752480" cy="60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1828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182880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8280" y="182880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171840" y="2133360"/>
            <a:ext cx="3049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2480" y="30481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68920" y="287820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362320"/>
            <a:ext cx="68580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243792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440" y="3124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20E-202F-4DE9-BBB8-625DCC73E2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t of the Lecture: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 core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tes, tuples, code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-Flow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ing conventions, stacks, ex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n’t get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ures, objects, modules, type analysi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1B7-7B10-4DEA-B5E2-7D0CE026D4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Built-In 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b1, b2, b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a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turn type because code doesn’t really return, just jumps somewhere els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44E-A64A-43FA-AE81-DA3873BB73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C37-6B31-4B17-B223-EFB53E41DD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llocation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kpai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bx:{eax:(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8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b4, b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0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4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A5C-A3A9-4069-A126-539B369766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llee-Saves Registe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bx: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x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b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3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bx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main’s return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,done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{eax:b4}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ec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AB5-561C-4221-AB9C-04D838C509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 General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to save more stuff (e.g., local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4n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frame for sto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0],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lo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4n-4],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76212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410080"/>
            <a:ext cx="7621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648320"/>
            <a:ext cx="7617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29" idx="1"/>
          </p:cNvCxnSpPr>
          <p:nvPr/>
        </p:nvCxnSpPr>
        <p:spPr>
          <a:xfrm>
            <a:off x="1599840" y="4915080"/>
            <a:ext cx="61020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2971440" y="4914720"/>
            <a:ext cx="76284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79520" y="4800600"/>
            <a:ext cx="28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p-Al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2E6-3CCC-45B9-9FF9-9F88EB6ACE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 to use stack for activation fra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= nil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@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A37-3AE2-495A-BACE-1F4A36089A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gistic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-home exam will become available on the course web site Jan 15-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when you download &amp; when you turn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ail to kenny or deliver to his office by h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have 24 hours to complete the ex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: anything from class, assignments, or assigned textbook rea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4C9-15BC-4875-A100-0A552CF1D3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ing Stack Oper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esp,i*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add esp,i*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esp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[esp+i*4],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push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r,[esp+i*4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pop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1C4-BDA5-489C-917E-9E60436122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cursion thru Stack Variab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b4: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C79-C42C-47E1-A164-9BA43C9914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act Fac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bstract, fact cannot read or write this portion of the s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er’s frame is protected from calle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CB4-553C-448D-8850-90447A6FC6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ope, Closures, and Objec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: unit -&gt; int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ed = ref 42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f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) -&gt; (seed := !seed + 1; !se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seed = 42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foo() {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eed++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both cases, seed is private to the code f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AAC-162C-4A4B-890B-A5693D45BD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coding “Private” Data: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endParaRPr b="0" lang="en-US" sz="4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foo is a pair of a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nd a cod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 code requires th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s 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no othe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s can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.e., you can’t forge the private dat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DDF-16EE-4DCE-A76E-5703CE0988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lf” and Recursive Closures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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at is, the code takes the whole objec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E30-45C0-49E7-AC11-FF480E2647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 type/datatype sup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ncy arrays/vector typ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ult tolerance chec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people still writing papers about more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FB6-2741-42F3-8591-8C14C14203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ng Term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-level, portable, safe langu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-support of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ng support of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 control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running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ptimizations expressible in the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research working on a new compiler (Phoenix) to generate 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508-AD32-4081-BD1E-20737B63EB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re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dgments, inductive definitions, proofs by induction (Chapter 3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uitionistic logic: formulas, proofs, proof checking &amp; the Curry-Howard isomorph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typed lambda calculus, operational semantics, properties, encodings (Chapter 5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lambda calculus: syntax, operational semantics, typing rules, properties including type safety, progress, preservation, canonical forms, substitution, inversion principles, etc. (Chapter 8,9,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datastructures: tuples, sums (Chapter 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programming language concepts (syntax, substitution, operational semantics, type check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2AA-F8BE-4927-BCCD-AF649C385C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ost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ve types (Chap 20.1, 20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ful computations:  references, exceptions, semantics using evaluation contexts (Chap 13,14; evaluation contexts note abov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ified types:  universal polymorphism, existential types, type inference (Chap 22.1-22.6, 23.1-23.5, 24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yping: subtyping relations, co-, contra-, and in-variance, subsumption rule, proving soundness of declarative system, showing subtyping rules are “bad”, don’t worry about relating declarative and algorithmic subtyping formally (Chap 15.1-5, 16.1-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-based, object-oriented languages:  featherweight Java (Chap 19.1-19.5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of operational semantics &amp; type systems:  stack insp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ff we cover today in l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of any of the concepts abo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DF5-76E3-4D10-993B-81E92A791F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d Assembly Langu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ides stolen fro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eg Morrise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s for programming languages are a syntactic mechanism for enforcing abstractio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J. Reyno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473-D241-4EDF-8B36-C048CDBD5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TAL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ype system for assembly language(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t-in abstractions (tuple,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s to build new abstractions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s on assembl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bstraction che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m: well-annotated code cannot vi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tr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C27-B0D3-4979-994E-668A67C7D8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We Di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popl 98, toplas 99 &amp; others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RISC-style assembly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r from System F to 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and preservation theor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IA32 (32-bit Intel x8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ype construct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thing you can think of and m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C compi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40,000LOC &amp; compile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3FA-3042-4286-A756-CDAC91D803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y Type Assembly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ies proofs of compiler correct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eper understanding of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er debug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-based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F21-1635-4788-A046-5E94AADAD9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pw</cp:lastModifiedBy>
  <dcterms:modified xsi:type="dcterms:W3CDTF">2007-12-18T14:46:32Z</dcterms:modified>
  <cp:revision>21</cp:revision>
  <dc:subject/>
  <dc:title>Typed Assembly Language</dc:title>
</cp:coreProperties>
</file>