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8313-9CE0-422E-B09E-54500303C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305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E2BF-2611-4F93-918A-A4CDC3DB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3480" y="394848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D0DB-FB42-41D7-B52F-6184B9DD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7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5920" y="1600200"/>
            <a:ext cx="267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4280" y="1600200"/>
            <a:ext cx="267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7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5920" y="3948480"/>
            <a:ext cx="267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4280" y="3948480"/>
            <a:ext cx="2674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669B-B3A6-4426-A1C2-BF7FE563D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A88E-BD68-476A-A79F-61F90300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F992-BC39-4F49-B923-36F309AD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CCD8-063A-42C4-B865-BAB0F625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1D61-254D-4839-BC93-5197C28B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5946-388A-4C79-9EA3-113ABBBC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EA38-90CC-4171-B2CF-ECB959DB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3480" y="394848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9D3B-7744-424E-8474-7EA7DC38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305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0CCF-69EF-4DC2-AB22-CC59D569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BE03-B13F-479E-B785-6E93B9F34BCB}" type="slidenum">
              <a:rPr b="0" lang="en-US" sz="1400" spc="-1" strike="noStrike">
                <a:solidFill>
                  <a:srgbClr val="3333cc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19320"/>
            <a:ext cx="8381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OS 441 Exam Stuff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avid Walk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172200"/>
            <a:ext cx="83055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Type-Based Protection (JVM)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2895480"/>
            <a:ext cx="2514600" cy="2667240"/>
          </a:xfrm>
          <a:prstGeom prst="rect">
            <a:avLst/>
          </a:prstGeom>
          <a:solidFill>
            <a:srgbClr val="66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1676520"/>
            <a:ext cx="4114800" cy="4419360"/>
          </a:xfrm>
          <a:prstGeom prst="rect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124080"/>
            <a:ext cx="190512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4343400"/>
            <a:ext cx="213336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41360" y="3352680"/>
            <a:ext cx="15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ava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4038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23240" y="3962520"/>
            <a:ext cx="7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av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25360" y="4572000"/>
            <a:ext cx="19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VM byte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200400" y="2362320"/>
            <a:ext cx="1066680" cy="2286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905120"/>
            <a:ext cx="175248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39160" y="1981080"/>
            <a:ext cx="15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VM ver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1981080"/>
            <a:ext cx="1828800" cy="8384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81960" y="1981080"/>
            <a:ext cx="12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095520" y="2286000"/>
            <a:ext cx="304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5105520"/>
            <a:ext cx="144792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17440" y="5381640"/>
            <a:ext cx="9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43400" y="3886200"/>
            <a:ext cx="1905120" cy="762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56960" y="403848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timi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2771640"/>
            <a:ext cx="1905120" cy="762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44920" y="297180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w-Level 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57800" y="2514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4120" y="3505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41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06160" y="5076720"/>
            <a:ext cx="10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92960" y="4906800"/>
            <a:ext cx="167616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43600" y="54864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7280" y="33670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rne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E306-A276-4460-983F-F83CA5B08E8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JVM Pros &amp; Con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rt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ype: $, tools, libraries, books, trai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usted computing base includes J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quires many run-time tes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wn” casts, arrays, null pointers, et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ly suitable for Java (too high-leve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formal spec (when we started with TA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7C7F-8FA8-4A6B-B411-F26D108FDB9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Ideally: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600200"/>
            <a:ext cx="2286000" cy="457200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16640" y="1905120"/>
            <a:ext cx="172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r favo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1752480"/>
            <a:ext cx="175248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15920" y="3048120"/>
            <a:ext cx="165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w-Level 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S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2895480"/>
            <a:ext cx="1905120" cy="9144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99520" y="428472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timi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4114800"/>
            <a:ext cx="1752480" cy="838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45360" y="548640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chin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5257800"/>
            <a:ext cx="1752480" cy="838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1676520"/>
            <a:ext cx="4114800" cy="2514600"/>
          </a:xfrm>
          <a:prstGeom prst="rect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1752480"/>
            <a:ext cx="1752480" cy="609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62440" y="1828800"/>
            <a:ext cx="102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r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1828800"/>
            <a:ext cx="1828800" cy="838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58280" y="1828800"/>
            <a:ext cx="12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6171840" y="2133360"/>
            <a:ext cx="304920" cy="7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82480" y="3048120"/>
            <a:ext cx="10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68920" y="2878200"/>
            <a:ext cx="167652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2362320"/>
            <a:ext cx="685800" cy="838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819520" y="2437920"/>
            <a:ext cx="1600200" cy="3048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2666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38098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49528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54440" y="31240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rne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2CA6-BC15-40FE-809A-C17FFB7C681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Rest of the Lecture: Exampl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 core typ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ytes, tuples, code,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rol-Flow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ling conventions, stacks, ex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on’t get t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osures, objects, modules, type analysis, AD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0CE6-2601-400D-A4F2-ECCFC096107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imple Built-In Typ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tes:  b1, b2, b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uples: 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…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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de: {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…,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ke a pre-condi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gument type of fun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return type because code doesn’t really return, just jumps somewhere else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lymorphic types: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DEC1-2350-43B1-AB63-1C5D2FF010D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imple Loop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ecx:b4, ebx:{eax:b4}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int sum(int x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x,0   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 int a = 0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m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     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p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eax:b4, ecx:b4, ebx:{eax:b4}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 while(!x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x,ecx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   a += x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cx      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    x--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LTHR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eax:b4, ecx:b4, ebx:{eax:b4}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cx,0   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p      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return(a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m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bx                  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ABC4-A142-4263-8284-6401366F0B2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llocation: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kpair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eax:b4, ebx:{eax:(b4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 b4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}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cx,ea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x,8,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b4, b4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eax : (b4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, b4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eax+0],ecx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eax : (b4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, b4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eax+4],ecx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 eax : (b4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, b4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m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b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3B75-A236-40A0-ACDF-11BCDBFF69D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allee-Saves Register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one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.{eax:b4, ecx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 ebx:{eax:b4, ecx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x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x+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m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bx     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retur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ebx:{eax:b4}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x,3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cx,ebx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save main’s return addr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bx,done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m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on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[{eax:b4}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ne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eax:b4,ecx:{eax:b4}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m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c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7B85-1D32-402A-92AE-F070EBE7134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In General: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ed to save more stuff (e.g., locals)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LLOC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cx,4n,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…,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frame for stor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ecx+0],r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;  save loc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ecx+4n-4],r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m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on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[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…,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762120" cy="5331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5410080"/>
            <a:ext cx="762120" cy="5335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33920" y="4648320"/>
            <a:ext cx="761760" cy="5331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8" idx="3"/>
            <a:endCxn id="129" idx="1"/>
          </p:cNvCxnSpPr>
          <p:nvPr/>
        </p:nvCxnSpPr>
        <p:spPr>
          <a:xfrm>
            <a:off x="1599840" y="4915080"/>
            <a:ext cx="610200" cy="762480"/>
          </a:xfrm>
          <a:prstGeom prst="curvedConnector5">
            <a:avLst>
              <a:gd name="adj1" fmla="val 50000"/>
              <a:gd name="adj2" fmla="val 49976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9" idx="3"/>
            <a:endCxn id="130" idx="1"/>
          </p:cNvCxnSpPr>
          <p:nvPr/>
        </p:nvCxnSpPr>
        <p:spPr>
          <a:xfrm flipV="1">
            <a:off x="2971440" y="4914720"/>
            <a:ext cx="762840" cy="762480"/>
          </a:xfrm>
          <a:prstGeom prst="curvedConnector5">
            <a:avLst>
              <a:gd name="adj1" fmla="val 50000"/>
              <a:gd name="adj2" fmla="val 49976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4979520" y="4800600"/>
            <a:ext cx="28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ap-Allo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tivation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BD09-9487-408C-A582-8D2D6133804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tack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nt to use stack for activation fram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ck typ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:= nil 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: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@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2973-75A5-4896-84DE-83AD9745237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Logistic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ke-home exam will become available on the course web site Jan 15-1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down when you download &amp; when you turn i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ail to kenny or deliver to his office by h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have 24 hours to complete the exa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ent: anything from class, assignments, or assigned textbook readin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349E-67BD-4CA8-B195-9EB57E8CAC0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Typing Stack Operation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 esp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}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{ esp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…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 esp,i*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add esp,i*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 esp: b4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b4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…::b4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}        { esp 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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 r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 esp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…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}       { r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 esp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 [esp+i*4],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push 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 r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 esp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…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}        { r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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sp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 esp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…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}              { esp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}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 r,[esp+i*4]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pop 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{ r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 esp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…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}      { r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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sp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C756-D0A6-45AD-8018-CF3F5E4124D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Recursion thru Stack Variabl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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.{eax:b4, esp:{eax:b4, esp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}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x,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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’.{eax:b4, esp:{eax:b4, esp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’}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’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s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x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[b4::{eax:b4, esp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’}::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’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c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u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x,ec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CE65-4F6A-429B-B671-7D680483722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act Fac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t: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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{eax:b4, esp:{eax:b4, esp: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}::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cause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cc99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abstract, fact cannot read or write this portion of the stac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ler’s frame is protected from callee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CA1D-209C-4683-9967-F902C3BF714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cope, Closures, and Object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o : unit -&gt; int =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ed = ref 42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fu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) -&gt; (seed := !seed + 1; !see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nal clas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o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 seed = 42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 foo() {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seed++);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both cases, seed is private to the code fo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F283-E910-4D0C-B9CB-E431C6E1200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Encoding “Private” Data: </a:t>
            </a:r>
            <a:r>
              <a:rPr b="1" lang="en-US" sz="48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endParaRPr b="0" lang="en-US" sz="4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o</a:t>
            </a:r>
            <a:r>
              <a:rPr b="0" lang="en-US" sz="2800" spc="-1" strike="noStrike">
                <a:solidFill>
                  <a:srgbClr val="00cc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: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(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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{eax: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esp:{eax:b4,esp: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}::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} 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d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there is some (abstract) type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foo is a pair of an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value and a code poin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the code requires the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value as an argu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no other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values can exi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i.e., you can’t forge the private data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93AD-8859-42DD-A637-3D9730DA28B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elf” and Recursive Closures: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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(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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{eax: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esp:{eax:b4,esp: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}::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d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there is some (abstract) type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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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{eax: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esp:{eax:b4,esp: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}::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that is, the code takes the whole object a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argu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34DE-D93E-4662-BC9A-5F3CABDE39F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Other TAL Featur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ule syst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faces, implementations, AD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m type/datatype suppor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ncy arrays/vector typ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Higher Order) Type construct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Fault tolerance check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ther people still writing papers about more 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3CA7-CEDA-44E7-8883-740BBA0E0DE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Long Term?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w-level, portable, safe languag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O-support of Ja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ing support of 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ammer control of 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od model of sp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od model of running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ny optimizations expressible in the langu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crosoft research working on a new compiler (Phoenix) to generate T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DF26-3C6B-4DB6-B2C1-9E0F5597E45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ontent: Pre-midterm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udgments, inductive definitions, proofs by induction (Chapter 3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uitionistic logic: formulas, proofs, proof checking &amp; the Curry-Howard isomorphis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typed lambda calculus, operational semantics, properties, encodings (Chapter 5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d lambda calculus: syntax, operational semantics, typing rules, properties including type safety, progress, preservation, canonical forms, substitution, inversion principles, etc. (Chapter 8,9,11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d datastructures: tuples, sums (Chapter 11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ation of programming language concepts (syntax, substitution, operational semantics, type checking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B2CC-E404-4C62-8C0F-F09F7DBD23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ontent: Post-midterm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ursive types (Chap 20.1, 20.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ffectful computations:  references, exceptions, semantics using evaluation contexts (Chap 13,14; evaluation contexts note above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antified types:  universal polymorphism, existential types, type inference (Chap 22.1-22.6, 23.1-23.5, 24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btyping: subtyping relations, co-, contra-, and in-variance, subsumption rule, proving soundness of declarative system, showing subtyping rules are “bad”, don’t worry about relating declarative and algorithmic subtyping formally (Chap 15.1-5, 16.1-3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-based, object-oriented languages:  featherweight Java (Chap 19.1-19.5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ications of operational semantics &amp; type systems:  stack inspectio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ff we cover today in lec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lementation of any of the concepts abov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CE8C-FBE1-46A8-8C18-5AED396E10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Typed Assembly Languag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avid Walk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lides stolen from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reg Morriset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6172200"/>
            <a:ext cx="83055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Typ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ype systems for programming languages are a syntactic mechanism for enforcing abstraction.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J. Reynol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0F5C-FD21-4718-9D07-300B6F6111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What is TAL?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type system for assembly language(s)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ilt-in abstractions (tuple,cod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tors to build new abstractions (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notations on assembly co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abstraction check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m: well-annotated code cannot viol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bstractio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E6BF-9781-4277-A5D2-2D989845C9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What We Did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[popl 98, toplas 99 &amp; others]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ory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mall RISC-style assembly langu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iler from System F to T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undness and preservation theor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actic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st of IA32 (32-bit Intel x86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re type constructo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erything you can think of and mo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 C compil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~40,000LOC &amp; compiles itsel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CC3D-36D2-4CED-BD14-646CE95D096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Why Type Assembly?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or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fies proofs of compiler correctn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eper understanding of compil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actic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iler debugg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ftware-based prote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8AB3-341F-4033-9171-48B4ACABD1B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9T20:09:06Z</dcterms:created>
  <dc:creator>Greg Morrisett</dc:creator>
  <dc:description/>
  <dc:language>en-US</dc:language>
  <cp:lastModifiedBy>dpw</cp:lastModifiedBy>
  <dcterms:modified xsi:type="dcterms:W3CDTF">2007-12-18T14:46:32Z</dcterms:modified>
  <cp:revision>21</cp:revision>
  <dc:subject/>
  <dc:title>Typed Assembly Language</dc:title>
</cp:coreProperties>
</file>