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5F2-52A2-425A-8E6B-60855E38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252-4373-48EF-9224-3C397832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799-87E0-40CC-BA35-5328EF55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E5D-0CFC-41D5-A016-33DB6B94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9DF-1CE2-4BA5-B477-115BC036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9E4-38B9-402F-9212-4AC6998E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72D-0EE1-46E1-998D-C63594CF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8C7-E07E-4487-9CF6-28A8C6A3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444-8CA4-4F2A-AF29-38A7F76F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36A-1133-4BEB-B852-75A48835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866-28BF-4E9D-BD5A-6B16F79C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D52-7250-4395-8DDB-820741FD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COS 4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A2C0-574A-4F95-9DEE-7E4AF9E41E68}" type="slidenum"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urrent Techniques in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Language-based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S 441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ith slides stolen from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B51-FC32-4D98-A14C-2B58121BF0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 order to pull new code into the virtual machine, we use an object from th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ClassLoader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 class loader will look in the file system, or across the network for a class file, or possibly dynamically generate the class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ication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et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 loaders are responsible for placing classes into their security domai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ClassLoader places classes in domains depending on where they are fr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Other ClassLoaders places classes in domains based on digital signatures, or origin (such as local file system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CB0-1116-440F-82FC-53C9A333E6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 Hierarchy 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3326400" y="2973240"/>
            <a:ext cx="23385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200" y="4038480"/>
            <a:ext cx="35668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ecure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3280" y="4038480"/>
            <a:ext cx="3044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9960" y="5105520"/>
            <a:ext cx="34876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124080" y="3505320"/>
            <a:ext cx="1371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350532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447920"/>
            <a:ext cx="2590920" cy="1295280"/>
          </a:xfrm>
          <a:prstGeom prst="cloudCallout">
            <a:avLst>
              <a:gd name="adj1" fmla="val -14217"/>
              <a:gd name="adj2" fmla="val 1973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Primordial ClassLo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F5E-EABA-461A-86DF-E3EE17F5512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Associating Privileges with Domains</a:t>
            </a:r>
            <a:endParaRPr b="1" lang="en-US" sz="32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1523880"/>
            <a:ext cx="7767720" cy="325764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http://www.l33t-hax0rz.com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file://$JAVA_HOME/lib/ext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security.AllPermi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signedBy “trusted-company.com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net.SocketPermission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75600" y="4800600"/>
            <a:ext cx="5392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olicy information stored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JAVA_HOME/lib/security/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USER_HOME/.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(or passed on command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E69-7792-408D-A35D-769ACFDC1C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uste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7" name=""/>
          <p:cNvSpPr/>
          <p:nvPr/>
        </p:nvSpPr>
        <p:spPr>
          <a:xfrm>
            <a:off x="687240" y="1676520"/>
            <a:ext cx="7767720" cy="2527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String filename, String 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if (sm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filename,“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(native code)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throw new SecurityExcep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240" y="4419720"/>
            <a:ext cx="7767720" cy="155412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ublic static void main(…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“/tmp/*”,“write,…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6960" y="121932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ode in the System protection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6B2-2B04-4B69-ADBF-DB0A98C387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lien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687240" y="2438280"/>
            <a:ext cx="7767720" cy="228420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class UntrustedAppl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dpw/grades.txt”, “Ginsburg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2480" y="137160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 code obtained 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ttp://www.l33t-hax0rz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EF2-D896-4B58-B6CC-E482FB000F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 frames are annotated with their protection domains and any enabled privileg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uring inspection, stack frames are searched from most to least recen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 frame belonging to someone not authorized for privilege is encounter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itstream Vera Sans"/>
              </a:rPr>
              <a:t>succeed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ctivated privilege is found in fra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958-761B-4082-8F51-FF829E6DA1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51814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92B-7BE0-4105-ABC6-B98BD744E4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11C-7843-4856-BCE3-60789CF107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AEB-C8BD-459A-9D1A-11CACCA9B5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18F-2F56-423B-AB32-80697869D6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bile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rn languages like Java and C# have been designed for Internet applications and extensible system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DAs, Cell Phones, Smart Cards, …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"/>
          <p:cNvSpPr/>
          <p:nvPr/>
        </p:nvSpPr>
        <p:spPr>
          <a:xfrm>
            <a:off x="2905200" y="4649760"/>
            <a:ext cx="3332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05200" y="3963960"/>
            <a:ext cx="3332160" cy="5205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web browser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312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074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598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 rot="16200000">
            <a:off x="4332240" y="1258920"/>
            <a:ext cx="457200" cy="4648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ED68-4597-4993-85BE-FAC878D03F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58128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29640" y="4921200"/>
            <a:ext cx="1825200" cy="520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Bitstream Vera Sans"/>
              </a:rPr>
              <a:t>Succe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304-2769-41F4-9223-3A97A6EBE0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dpw/grades.txt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insburg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BE1-F967-4EF6-BDDA-6CF02F6077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6095880" cy="106740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…/important.txt”, “kwijibo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important.tx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write”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dpw/grades.txt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insburg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84320" y="3581280"/>
            <a:ext cx="801000" cy="520560"/>
          </a:xfrm>
          <a:prstGeom prst="rect">
            <a:avLst/>
          </a:prstGeom>
          <a:solidFill>
            <a:srgbClr val="ff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7CE-EED5-40D4-B1B8-8B81B4122F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ther Possibiliti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ileWrit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method could enable the write permission itself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otentially dangerous, should not base the file to write on data from the appl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ut no enforcement in Jav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trusted piece of code could </a:t>
            </a: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disabl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 previously granted permiss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rminate the stack inspection earl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922E-C851-49BA-BCF0-F8CE4DFED0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Algorith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1443960" y="1295280"/>
            <a:ext cx="675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heckPermission(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loop newest to oldest 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each stackFram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local policy forbids access to T by class executing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tack frame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en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;  // allow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dis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end of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Netscape || …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MS IE4.0 || JDK 1.2 || …) 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703-6605-4F47-BE5C-513756E2B0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wo Implement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n demand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n a checkPermission invocation, actually crawl down the stack, checking on the wa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sed in practic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agerly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Keep track of the current set of available permissions during execution (security-passing style Wallach &amp; Felten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+ more apparent (could print current perms.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Bitstream Ver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re expensive (checkPermission occurs infrequentl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A0A1-87C1-465C-96B6-E49BFE7705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 seems appealing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ine grained, flexible, configurable polici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istinguishes between code of varying degrees of tru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understand what the policy i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mantics tied to the operational behavior of the program (defined in terms of stacks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compare implementation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hanging the program (e.g. optimizing it) may change the security polic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Policy is distributed throughout the software, and is not apparent from the program interfa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s it any goo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20A-947B-4BFB-90B7-E8B8D2507F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Literatur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ck Inspection: Theory and Varia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édric Fournet and Andrew D. Gord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se operational semantics like in clas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nderstanding Java Stack Inspec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an S. Wallach and Edward W. Felte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ormalize Java Stack Inspection using a special logic of authentic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646-9BE1-489E-BE50-5D527DB90E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izing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2F2-5F79-41E1-963F-9F8345FCFC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bstract permis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p,q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ermissions (left abstract in the theor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,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rincipals (sets of  permissions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ide the details of classloading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amples: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ystem = {fileWrite(“f1”), fileWrite(“f2”),…}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Applet  = {fileWrite(“f1”)}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D60-618E-4702-91E7-8467E2866D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pplet Security Problem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 OS &amp; other valuable resourc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 no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rash browser or O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xecute “rm –rf /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exhaust resourc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access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system resources (e.g. to display a pictur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isolated from each othe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nciples of least privileges and complete mediation appl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76A-1C4B-4F00-AC5C-8106782EE0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Syntax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1 e2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R{e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ramed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e1 else e2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check pe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::= x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l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 ::= v  |  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A8E-3FFD-4D66-B614-98FBDB5961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raming a Ter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dels the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ssloader that marks the (unframed) code with its protection domain: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x)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x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x.e)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x. </a:t>
            </a:r>
            <a:r>
              <a:rPr b="1" lang="en-US" sz="2000" spc="-1" strike="noStrike">
                <a:solidFill>
                  <a:srgbClr val="990033"/>
                </a:solidFill>
                <a:latin typeface="Bitstream Vera Sans Mono"/>
              </a:rPr>
              <a:t>R{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Load(R,e) </a:t>
            </a:r>
            <a:r>
              <a:rPr b="1" lang="en-US" sz="2000" spc="-1" strike="noStrike">
                <a:solidFill>
                  <a:srgbClr val="990033"/>
                </a:solidFill>
                <a:latin typeface="Bitstream Vera Sans Mono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e1 e2)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Load(R,e1) Load(R,e2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enable p in e)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enable p in Load(R,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test p then e2 else e2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test p then Load(R,e1) else Load(R,e2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fail)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fa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B1A-C294-48F8-AE65-2DE590860E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732600" y="1447920"/>
            <a:ext cx="76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eadFile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960" y="4503600"/>
            <a:ext cx="855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--&gt;*   fail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--&gt;*   &lt;f2 content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0D0-09B5-4DD8-82B9-650EEFBE72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aluation contexts: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Ho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val 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val ar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ag on stack fr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{E}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Stack fra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models the control st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19B-7D57-4F0A-9B67-7A101DAF61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(lx.e)   v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e{v/x}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enable p in v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v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R{v}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--&gt;  E[v]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fail]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fa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test p then e else f]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e]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if  Stack(E) |-- p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test p then e else f]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f]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(Stack(E) |-- p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C47-B486-401D-8801-57C91DAE05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3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7240" y="320040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readfile “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83A-853A-435A-8743-AB79F5B485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6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E8C-1EB3-4DD0-B753-7986E354CE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9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C74-E1B4-488D-BF77-2B7557BA75C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2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949-B998-48AA-A7E4-9BBAFAB2A2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4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5400" y="38862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F65-424C-409A-BA01-4AA484C1F71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and C#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tic Type System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Memory safety and jump safet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un-time checks fo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rray index boun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owncas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ccess contro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Virtual Machine / JIT compila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Bytecode verific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nforces encapsulation boundaries (e.g. private field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arbage Collect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liminates memory management err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ibrary suppor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ryptography, authentication, …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2209680"/>
            <a:ext cx="1981080" cy="990720"/>
          </a:xfrm>
          <a:prstGeom prst="wedgeRoundRectCallout">
            <a:avLst>
              <a:gd name="adj1" fmla="val -135337"/>
              <a:gd name="adj2" fmla="val 49837"/>
              <a:gd name="adj3" fmla="val 16667"/>
            </a:avLst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These l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85E-C349-4424-9E63-5CBD34CCE8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7" name=""/>
          <p:cNvSpPr/>
          <p:nvPr/>
        </p:nvSpPr>
        <p:spPr>
          <a:xfrm>
            <a:off x="-450360" y="13716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3640" y="4038480"/>
            <a:ext cx="675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en does stack E’ allow per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leWrite(“f2”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 |-- fileWrite(“f2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681-7E3A-4ECA-940B-AF8B0185C03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0" name=""/>
          <p:cNvSpPr/>
          <p:nvPr/>
        </p:nvSpPr>
        <p:spPr>
          <a:xfrm>
            <a:off x="82080" y="2743200"/>
            <a:ext cx="913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ructure of Sta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 ::= .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Empty St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| s.R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Stack for code of principal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| s.enable(p)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Privelege p enab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899-B5C5-4C39-A887-7876B90D614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of an Eval.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2" name=""/>
          <p:cNvSpPr/>
          <p:nvPr/>
        </p:nvSpPr>
        <p:spPr>
          <a:xfrm>
            <a:off x="695520" y="1419120"/>
            <a:ext cx="841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[])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v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nable p in E) = enable(p).Stack(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R{E}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R.Stack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9160" y="3733920"/>
            <a:ext cx="561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Stack(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D7D-98A9-462F-98B3-3F2A44C5EBC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5" name=""/>
          <p:cNvSpPr/>
          <p:nvPr/>
        </p:nvSpPr>
        <p:spPr>
          <a:xfrm>
            <a:off x="1349640" y="1676520"/>
            <a:ext cx="64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-- p                 empty stack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38320" y="2508120"/>
            <a:ext cx="2611440" cy="947160"/>
            <a:chOff x="1138320" y="2508120"/>
            <a:chExt cx="2611440" cy="947160"/>
          </a:xfrm>
        </p:grpSpPr>
        <p:sp>
          <p:nvSpPr>
            <p:cNvPr id="207" name=""/>
            <p:cNvSpPr/>
            <p:nvPr/>
          </p:nvSpPr>
          <p:spPr>
            <a:xfrm>
              <a:off x="1138320" y="2508120"/>
              <a:ext cx="2594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    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58840" y="2976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066680" y="3657600"/>
            <a:ext cx="3200400" cy="947160"/>
            <a:chOff x="1066680" y="3657600"/>
            <a:chExt cx="3200400" cy="947160"/>
          </a:xfrm>
        </p:grpSpPr>
        <p:sp>
          <p:nvSpPr>
            <p:cNvPr id="210" name=""/>
            <p:cNvSpPr/>
            <p:nvPr/>
          </p:nvSpPr>
          <p:spPr>
            <a:xfrm>
              <a:off x="1122480" y="365760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66680" y="41148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541040" y="27432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ion domain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39520" y="3875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q   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066680" y="4952880"/>
            <a:ext cx="3200400" cy="947160"/>
            <a:chOff x="1066680" y="4952880"/>
            <a:chExt cx="3200400" cy="947160"/>
          </a:xfrm>
        </p:grpSpPr>
        <p:sp>
          <p:nvSpPr>
            <p:cNvPr id="215" name=""/>
            <p:cNvSpPr/>
            <p:nvPr/>
          </p:nvSpPr>
          <p:spPr>
            <a:xfrm>
              <a:off x="1122480" y="495288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enable(p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66680" y="541008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83080" y="510048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eck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D83-BE15-48C1-A6AA-99D920AF12E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19" name=""/>
          <p:cNvSpPr/>
          <p:nvPr/>
        </p:nvSpPr>
        <p:spPr>
          <a:xfrm>
            <a:off x="1270800" y="1676520"/>
            <a:ext cx="74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= p                  empty stack enables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447920" y="2514600"/>
            <a:ext cx="1903320" cy="947160"/>
            <a:chOff x="1447920" y="2514600"/>
            <a:chExt cx="1903320" cy="947160"/>
          </a:xfrm>
        </p:grpSpPr>
        <p:sp>
          <p:nvSpPr>
            <p:cNvPr id="221" name=""/>
            <p:cNvSpPr/>
            <p:nvPr/>
          </p:nvSpPr>
          <p:spPr>
            <a:xfrm>
              <a:off x="1581480" y="2514600"/>
              <a:ext cx="161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47920" y="298296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429800" y="27432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able succ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066680" y="3808440"/>
            <a:ext cx="3124440" cy="1373760"/>
            <a:chOff x="1066680" y="3808440"/>
            <a:chExt cx="3124440" cy="1373760"/>
          </a:xfrm>
        </p:grpSpPr>
        <p:sp>
          <p:nvSpPr>
            <p:cNvPr id="225" name=""/>
            <p:cNvSpPr/>
            <p:nvPr/>
          </p:nvSpPr>
          <p:spPr>
            <a:xfrm>
              <a:off x="1122480" y="3808440"/>
              <a:ext cx="3007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66680" y="426564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4880" y="403848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1CD-C337-4C6C-B630-EB63B3E68F8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29" name=""/>
          <p:cNvSpPr/>
          <p:nvPr/>
        </p:nvSpPr>
        <p:spPr>
          <a:xfrm>
            <a:off x="664560" y="2133720"/>
            <a:ext cx="7762680" cy="3080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iff  there exists o such that e --&gt;*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be an arbitrary program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ay that   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007-667E-41C9-95E1-FEA87878D67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Inequal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1" name=""/>
          <p:cNvSpPr/>
          <p:nvPr/>
        </p:nvSpPr>
        <p:spPr>
          <a:xfrm>
            <a:off x="-124560" y="1447920"/>
            <a:ext cx="8336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oop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        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(note:   loop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g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(x 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aim: f ≠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=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 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162560" y="2362320"/>
            <a:ext cx="261720" cy="3189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B19-8F59-40E3-9A4F-CB10F02BB13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4" name=""/>
          <p:cNvSpPr/>
          <p:nvPr/>
        </p:nvSpPr>
        <p:spPr>
          <a:xfrm>
            <a:off x="732240" y="1214280"/>
            <a:ext cx="8130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f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)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60840" y="3530520"/>
            <a:ext cx="1911240" cy="1330560"/>
          </a:xfrm>
          <a:custGeom>
            <a:avLst/>
            <a:gdLst/>
            <a:ahLst/>
            <a:rect l="l" t="t" r="r" b="b"/>
            <a:pathLst>
              <a:path w="1204" h="838">
                <a:moveTo>
                  <a:pt x="0" y="0"/>
                </a:moveTo>
                <a:cubicBezTo>
                  <a:pt x="51" y="19"/>
                  <a:pt x="191" y="109"/>
                  <a:pt x="321" y="116"/>
                </a:cubicBezTo>
                <a:cubicBezTo>
                  <a:pt x="451" y="123"/>
                  <a:pt x="638" y="18"/>
                  <a:pt x="780" y="44"/>
                </a:cubicBezTo>
                <a:cubicBezTo>
                  <a:pt x="922" y="70"/>
                  <a:pt x="1144" y="138"/>
                  <a:pt x="1174" y="270"/>
                </a:cubicBezTo>
                <a:cubicBezTo>
                  <a:pt x="1204" y="402"/>
                  <a:pt x="1006" y="720"/>
                  <a:pt x="962" y="8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53560" y="4976640"/>
            <a:ext cx="2759400" cy="10087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stack(</a:t>
            </a:r>
            <a:r>
              <a:rPr b="1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{ [ ] }) = ..</a:t>
            </a:r>
            <a:r>
              <a:rPr b="1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..</a:t>
            </a:r>
            <a:r>
              <a:rPr b="0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 |-- p  is not 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8FA-0848-4436-86E5-AD5D5DB5253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8" name=""/>
          <p:cNvSpPr/>
          <p:nvPr/>
        </p:nvSpPr>
        <p:spPr>
          <a:xfrm>
            <a:off x="-41400" y="1263600"/>
            <a:ext cx="8231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[g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st p then loop els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96000" y="5521320"/>
            <a:ext cx="1203120" cy="1000080"/>
          </a:xfrm>
          <a:custGeom>
            <a:avLst/>
            <a:gdLst/>
            <a:ahLst/>
            <a:rect l="l" t="t" r="r" b="b"/>
            <a:pathLst>
              <a:path w="758" h="630">
                <a:moveTo>
                  <a:pt x="0" y="0"/>
                </a:moveTo>
                <a:cubicBezTo>
                  <a:pt x="56" y="17"/>
                  <a:pt x="246" y="11"/>
                  <a:pt x="336" y="102"/>
                </a:cubicBezTo>
                <a:cubicBezTo>
                  <a:pt x="426" y="193"/>
                  <a:pt x="470" y="464"/>
                  <a:pt x="540" y="547"/>
                </a:cubicBezTo>
                <a:cubicBezTo>
                  <a:pt x="610" y="630"/>
                  <a:pt x="713" y="588"/>
                  <a:pt x="758" y="59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53400" y="6067440"/>
            <a:ext cx="200808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stack([ ] ) =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. |-- p  is vali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45480" y="4572000"/>
            <a:ext cx="879480" cy="358920"/>
          </a:xfrm>
          <a:custGeom>
            <a:avLst/>
            <a:gdLst/>
            <a:ahLst/>
            <a:rect l="l" t="t" r="r" b="b"/>
            <a:pathLst>
              <a:path w="554" h="226">
                <a:moveTo>
                  <a:pt x="0" y="0"/>
                </a:moveTo>
                <a:cubicBezTo>
                  <a:pt x="67" y="18"/>
                  <a:pt x="309" y="71"/>
                  <a:pt x="401" y="109"/>
                </a:cubicBezTo>
                <a:cubicBezTo>
                  <a:pt x="493" y="147"/>
                  <a:pt x="522" y="202"/>
                  <a:pt x="554" y="22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36080" y="4952880"/>
            <a:ext cx="285084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return from fun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==&gt; pop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B465-D4D2-473F-BB19-2AB504CD957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Applic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3043080"/>
            <a:ext cx="6264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liminate redundant  anno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0320" y="4713120"/>
            <a:ext cx="6723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rease stack inspection co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test p then (enable p in e) els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2400" y="1360440"/>
            <a:ext cx="838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Formal reasoning about the semantic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ck inspection makes it possible to per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afe optimiz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4A4-DB8F-41DB-BB8F-76C5842A609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ccess Control for Applet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hat level of granularity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touch some parts of the file system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make network connections to some locations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fferent code has different levels of trustworthine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ww.l33t-hax0rs.com vs. www.java.sun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rusted code can call un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o ask an applet to repaint its windo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ntrusted code can call 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he paint routine may load a fon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How is the access control policy specified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FBB-92DB-406A-9B97-7FA91FD43B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xiomatic Equivalenc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48" name=""/>
          <p:cNvSpPr/>
          <p:nvPr/>
        </p:nvSpPr>
        <p:spPr>
          <a:xfrm>
            <a:off x="225000" y="1289160"/>
            <a:ext cx="75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n give a sound set of equa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aracterize =.     Example axi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3600" y="2286000"/>
            <a:ext cx="6482160" cy="344664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e) 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e{v/x}     (beta equival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fv(v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(enable q in e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enable q in (enable p in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p}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any, man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5943600"/>
            <a:ext cx="2225520" cy="9471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mplie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A97-0D60-4364-BC95-ED01D4F0856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2" name=""/>
          <p:cNvSpPr/>
          <p:nvPr/>
        </p:nvSpPr>
        <p:spPr>
          <a:xfrm>
            <a:off x="514080" y="1295280"/>
            <a:ext cx="827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main = System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.(h ok ok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=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  System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c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c (readFile s)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leak = Applet[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s.output 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7EE-54F1-4622-AEFB-E775168B2E9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4" name=""/>
          <p:cNvSpPr/>
          <p:nvPr/>
        </p:nvSpPr>
        <p:spPr>
          <a:xfrm>
            <a:off x="-69840" y="1376280"/>
            <a:ext cx="920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System{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}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&lt;f2 contents&gt;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output &lt;f2 contents&gt;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9F4-9201-4DF7-9D79-BFB0893C1709}" type="slidenum">
              <a:t>52</a:t>
            </a:fld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ther Problem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returning closures can circumvent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ssible solution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Values of the form: R{v}  (i.e. keep track of the protection domain of the sourc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imilarly, one could have closures capture their current security contex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tegrity analysis (i.e. where data comes from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net &amp; Gordon prove some properties of strengthened versions of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8FD-E656-4F90-B864-D5E04D68188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nclu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security properties does the Java security model guarantee?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optimizations are legal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mal semantics helps us find the answers &amp; suggests improveme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8C9-EBBF-4BE8-851A-D63AD9F509B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utlin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 Security Model   </a:t>
            </a:r>
            <a:r>
              <a:rPr b="0" lang="en-US" sz="1800" spc="-1" strike="noStrike">
                <a:solidFill>
                  <a:srgbClr val="808080"/>
                </a:solidFill>
                <a:latin typeface="Bitstream Vera Sans"/>
              </a:rPr>
              <a:t>(C# similar)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crete exampl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o discuss: what security principles does the Java security model obey or not obey?  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mantics from a PL perspectiv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ormalizing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exactly does it work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easoning about programs that use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559-BE52-4575-94BA-DD4DAB3ECC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Security Model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133360"/>
            <a:ext cx="2057400" cy="28551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855160"/>
              <a:gd name="textAreaBottom" fmla="*/ 2754720 h 2855160"/>
            </a:gdLst>
            <a:ahLst/>
            <a:rect l="textAreaLeft" t="textAreaTop" r="textAreaRight" b="textAreaBottom"/>
            <a:pathLst>
              <a:path w="21600" h="29974">
                <a:moveTo>
                  <a:pt x="3600" y="0"/>
                </a:moveTo>
                <a:arcTo wR="3600" hR="3600" stAng="16200000" swAng="-5400000"/>
                <a:lnTo>
                  <a:pt x="0" y="26374"/>
                </a:lnTo>
                <a:arcTo wR="3600" hR="3600" stAng="10800000" swAng="-5400000"/>
                <a:lnTo>
                  <a:pt x="18000" y="29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a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b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c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d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e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50120" y="255276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50120" y="369108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25063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36439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925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2787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362320" y="2743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86000" y="289512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581280"/>
            <a:ext cx="1447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3048120"/>
            <a:ext cx="14479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286000" y="39625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981080"/>
            <a:ext cx="5333760" cy="3048120"/>
          </a:xfrm>
          <a:prstGeom prst="rect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83160" y="1523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ecurit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720" y="1523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V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6440" y="5867280"/>
            <a:ext cx="85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Bitstream Vera Sans"/>
              </a:rPr>
              <a:t>http://java.sun.com/j2se/1.4.2/docs/guide/security/spec/security-specTOC.fm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0800" y="4648320"/>
            <a:ext cx="2341800" cy="7038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lassloa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curity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5E5-DBEF-4266-9439-DAD9987B01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Kinds of Permis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.security.Permission  Clas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perm = new java.io.FilePermission("/tmp/abc","read"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AllPermission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Security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Unresolved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awt.AW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io.File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io.Serializable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lang.reflect.Reflec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lang.RuntimePermiss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net.Ne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net.Socke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CE4-046E-4BF3-AB0B-F730E0DEFD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de Trustworthines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rotection domain the code is in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ource (e.g. local or applet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# calls this “evidence based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ermissions a protection domain has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figurable – administrator file or command li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forced by the classload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CCF-A402-46AB-8A78-A54BFA3914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9:38:53Z</dcterms:created>
  <dc:creator>Steve Zdancewic</dc:creator>
  <dc:description/>
  <dc:language>en-US</dc:language>
  <cp:lastModifiedBy>dpw</cp:lastModifiedBy>
  <dcterms:modified xsi:type="dcterms:W3CDTF">2007-12-12T16:40:12Z</dcterms:modified>
  <cp:revision>71</cp:revision>
  <dc:subject/>
  <dc:title>Observational Determinism for  Concurrent Program Security</dc:title>
</cp:coreProperties>
</file>