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4D6A-6AA2-42FB-81EE-8252A874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DD66-18C3-45C5-A51B-51D6687E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968-0488-4199-9185-A398E430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649-CC94-40DA-AE00-DA63F5E1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84D-612F-4676-BF8A-0409527E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714-810F-4B40-AAD7-98DACFD7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A3F-EF47-4C0E-A54F-56F4FA18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6DA-507E-4035-A0C1-4B9BCDC4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0C6-45EC-4FC8-B025-BA495BA7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DFF-2A86-4890-A7D2-5DB636DB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BAF-A77F-4474-993F-03E45EAE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14E-93D0-4199-9834-A98DEC0E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COS 4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AD58-2BE8-449F-9B60-6459F7B2AB3B}" type="slidenum"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urrent Techniques in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Language-based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00120" y="3886200"/>
            <a:ext cx="4343400" cy="9907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S 441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ith slides stolen from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eve Zdancew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University of Pennsylvani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223-6F22-4C1B-85CD-123D3E5650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assloader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 order to pull new code into the virtual machine, we use an object from th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ClassLoader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 class loader will look in the file system, or across the network for a class file, or possibly dynamically generate the class 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hen loading the first class of an application, a new instance of the 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URL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is use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hen loading the first class of an applet, a new instance of the 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is use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lass loaders are responsible for placing classes into their security domain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ClassLoader places classes in domains depending on where they are fr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Other ClassLoaders places classes in domains based on digital signatures, or origin (such as local file system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BA8-2467-4F36-A936-F1604958EA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assloader Hierarchy 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5" name=""/>
          <p:cNvSpPr/>
          <p:nvPr/>
        </p:nvSpPr>
        <p:spPr>
          <a:xfrm>
            <a:off x="3326400" y="2973240"/>
            <a:ext cx="23385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200" y="4038480"/>
            <a:ext cx="356688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ecure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3280" y="4038480"/>
            <a:ext cx="30441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RL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9960" y="5105520"/>
            <a:ext cx="348768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124080" y="3505320"/>
            <a:ext cx="1371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3505320"/>
            <a:ext cx="1828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1447920"/>
            <a:ext cx="2590920" cy="1295280"/>
          </a:xfrm>
          <a:prstGeom prst="cloudCallout">
            <a:avLst>
              <a:gd name="adj1" fmla="val -14217"/>
              <a:gd name="adj2" fmla="val 19731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Primordial ClassLo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FE4-A566-46A5-8982-725B65A80DC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Associating Privileges with Domains</a:t>
            </a:r>
            <a:endParaRPr b="1" lang="en-US" sz="32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4" name=""/>
          <p:cNvSpPr/>
          <p:nvPr/>
        </p:nvSpPr>
        <p:spPr>
          <a:xfrm>
            <a:off x="687240" y="1523880"/>
            <a:ext cx="7767720" cy="325764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codeBase “http://www.l33t-hax0rz.com/*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io.FilePermission(“/tmp/*”, “read,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codeBase “file://$JAVA_HOME/lib/ext/*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security.AllPermis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signedBy “trusted-company.com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net.SocketPermission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io.FilePermission(“/tmp/*”, “read,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75600" y="4800600"/>
            <a:ext cx="5392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Policy information stored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$JAVA_HOME/lib/security/java.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$USER_HOME/.java.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"/>
              </a:rPr>
              <a:t>(or passed on command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95D-C63C-49D6-B95B-9A3B1D241D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usted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7" name=""/>
          <p:cNvSpPr/>
          <p:nvPr/>
        </p:nvSpPr>
        <p:spPr>
          <a:xfrm>
            <a:off x="687240" y="1676520"/>
            <a:ext cx="7767720" cy="2527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String filename, String 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ecurityManager sm = System.getSecurity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if (sm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ilePermission fp = new FilePermission(filename,“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(native code)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throw new SecurityExcep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240" y="4419720"/>
            <a:ext cx="7767720" cy="155412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ublic static void main(…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ecurityManager sm = System.getSecurity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ilePermission fp = new FilePermission(“/tmp/*”,“write,…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6960" y="1219320"/>
            <a:ext cx="70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ode in the System protection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F1E6-DDF4-4527-A687-2AB1CDB3C1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lien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1" name=""/>
          <p:cNvSpPr/>
          <p:nvPr/>
        </p:nvSpPr>
        <p:spPr>
          <a:xfrm>
            <a:off x="687240" y="2438280"/>
            <a:ext cx="7767720" cy="228420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class UntrustedApple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dpw/grades.txt”, “Ginsburg: A+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2480" y="1371600"/>
            <a:ext cx="52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et code obtained fr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ttp://www.l33t-hax0rz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DAF-D2F3-4EE5-9BC8-E734E3B9C5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 frames are annotated with their protection domains and any enabled privileg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uring inspection, stack frames are searched from most to least recen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f a frame belonging to someone not authorized for privilege is encounter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itstream Vera Sans"/>
              </a:rPr>
              <a:t>succeed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f activated privilege is found in fra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AAB-F882-4D4D-B04E-327D70C896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51814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C8E-2349-4AC1-9585-CD03BED4CA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D17-7547-4D2F-AA9E-FE878A3678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9E6-3503-49A4-A453-A1A396E7C0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447920"/>
            <a:ext cx="6095880" cy="131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/tmp/foo.txt”, “Hello!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foo.txt”,“write”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CA1-C856-4D4B-8581-0EBA2A1F4F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Mobile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odern languages like Java and C# have been designed for Internet applications and extensible system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DAs, Cell Phones, Smart Cards, …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" name=""/>
          <p:cNvSpPr/>
          <p:nvPr/>
        </p:nvSpPr>
        <p:spPr>
          <a:xfrm>
            <a:off x="2905200" y="4649760"/>
            <a:ext cx="33321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05200" y="3963960"/>
            <a:ext cx="3332160" cy="5205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web browser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312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0744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5984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 rot="16200000">
            <a:off x="4332240" y="1258920"/>
            <a:ext cx="457200" cy="4648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5C3-63CE-4C06-B2CD-93021FB66F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447920"/>
            <a:ext cx="6095880" cy="131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/tmp/foo.txt”, “Hello!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foo.txt”,“write”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182880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58128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9810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34290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29640" y="4921200"/>
            <a:ext cx="1825200" cy="520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Bitstream Vera Sans"/>
              </a:rPr>
              <a:t>Succe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7481-1B63-4329-A3C5-1751305302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dpw/grades.txt”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insburg: A+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4A7-FE0C-497A-89A7-EA9022C091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447920"/>
            <a:ext cx="6095880" cy="106740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…/important.txt”, “kwijibo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important.tx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write”)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dpw/grades.txt”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insburg: A+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182880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19810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34290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84320" y="3581280"/>
            <a:ext cx="801000" cy="520560"/>
          </a:xfrm>
          <a:prstGeom prst="rect">
            <a:avLst/>
          </a:prstGeom>
          <a:solidFill>
            <a:srgbClr val="ff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F2C-05F1-475C-AE4E-3BD7AB7D41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ther Possibiliti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fileWrit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method could enable the write permission itself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otentially dangerous, should not base the file to write on data from the appl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ut no enforcement in Jav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trusted piece of code could </a:t>
            </a: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disabl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 previously granted permiss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rminate the stack inspection earl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1A3-A684-48E7-AA18-0018194553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Algorith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1" name=""/>
          <p:cNvSpPr/>
          <p:nvPr/>
        </p:nvSpPr>
        <p:spPr>
          <a:xfrm>
            <a:off x="1443960" y="1295280"/>
            <a:ext cx="675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checkPermission(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// loop newest to oldest stack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reach stackFram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local policy forbids access to T by class executing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tack frame) 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stackFrame has enabled privilege for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turn;  // allow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stackFrame has disabled privilege for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// end of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Netscape || …) 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MS IE4.0 || JDK 1.2 || …) 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7E9C-4595-4021-A883-E549B5A205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wo Implementat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n demand 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n a checkPermission invocation, actually crawl down the stack, checking on the wa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Used in practic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agerly 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Keep track of the current set of available permissions during execution (security-passing style Wallach &amp; Felten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+ more apparent (could print current perms.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Bitstream Ver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ore expensive (checkPermission occurs infrequently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757-22C5-4CD5-AAE5-3DA7110DB3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ck inspection seems appealing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ine grained, flexible, configurable polici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istinguishes between code of varying degrees of tru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do we understand what the policy is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mantics tied to the operational behavior of the program (defined in terms of stacks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do we compare implementation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hanging the program (e.g. optimizing it) may change the security polic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Policy is distributed throughout the software, and is not apparent from the program interfa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s it any good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E3A-0F84-4B30-8B6D-AAD1DF915D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Literatur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ck Inspection: Theory and Variant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édric Fournet and Andrew D. Gord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Use operational semantics like in clas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nderstanding Java Stack Inspec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an S. Wallach and Edward W. Felte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ormalize Java Stack Inspection using a special logic of authentic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E7D-C410-48C1-89D8-5D9CAA79D9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izing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757-27EE-4D76-A0D8-B0FC937509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bstract permiss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p,q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ermissions (left abstract in the theory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,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rincipals (sets of  permissions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ide the details of classloading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xamples: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ystem = {fileWrite(“f1”), fileWrite(“f2”),…}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Applet  = {fileWrite(“f1”)}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2D3-9B64-418A-8836-366F5278C52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pplet Security Problem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 OS &amp; other valuable resourc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should no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rash browser or O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xecute “rm –rf /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able to exhaust resourc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should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able to access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system resources (e.g. to display a pictur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isolated from each othe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nciples of least privileges and complete mediation appl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6D8-185B-4E64-9FBC-5D451FACA1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Syntax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nguage syntax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::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xpre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x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ri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1 e2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R{e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ramed exp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nable p in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e1 else e2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check per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fail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 ::= x  |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l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 ::= v  |  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602-9678-46EC-A07D-B74FB06166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raming a Ter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odels the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ssloader that marks the (unframed) code with its protection domain: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x)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x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x.e)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x. </a:t>
            </a:r>
            <a:r>
              <a:rPr b="1" lang="en-US" sz="2000" spc="-1" strike="noStrike">
                <a:solidFill>
                  <a:srgbClr val="990033"/>
                </a:solidFill>
                <a:latin typeface="Bitstream Vera Sans Mono"/>
              </a:rPr>
              <a:t>R{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Load(R,e) </a:t>
            </a:r>
            <a:r>
              <a:rPr b="1" lang="en-US" sz="2000" spc="-1" strike="noStrike">
                <a:solidFill>
                  <a:srgbClr val="990033"/>
                </a:solidFill>
                <a:latin typeface="Bitstream Vera Sans Mono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e1 e2)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Load(R,e1) Load(R,e2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enable p in e)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enable p in Load(R,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test p then e2 else e2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test p then Load(R,e1) else Load(R,e2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fail)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fa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751-E949-4BBE-B524-59F09451A54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6" name=""/>
          <p:cNvSpPr/>
          <p:nvPr/>
        </p:nvSpPr>
        <p:spPr>
          <a:xfrm>
            <a:off x="732600" y="1447920"/>
            <a:ext cx="767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eadFile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6960" y="4503600"/>
            <a:ext cx="855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--&gt;*   fail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--&gt;*   &lt;f2 content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F03-AC31-4FA8-B6EB-1102ABEC78C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valuation contexts: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::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Ho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val 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val ar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 p in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ag on stack fr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{E}  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Stack fra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models the control st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ED4-187B-4ED4-A20F-FBBEE66160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(lx.e)   v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e{v/x}]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enable p in v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v]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R{v}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--&gt;  E[v]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fail]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fa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test p then e else f]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e]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if  Stack(E) |-- p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test p then e else f]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f]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(Stack(E) |-- p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935-0583-405A-9C22-902AE51C146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3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7240" y="320040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readfile “f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2202-552B-4171-95D8-782D65BE2E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6" name=""/>
          <p:cNvSpPr/>
          <p:nvPr/>
        </p:nvSpPr>
        <p:spPr>
          <a:xfrm>
            <a:off x="733680" y="2819520"/>
            <a:ext cx="804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f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0CA6-B270-48E7-9D78-46DF2A2178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9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3680" y="2819520"/>
            <a:ext cx="804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7199-CEBE-494B-898B-3F351A804A8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2" name=""/>
          <p:cNvSpPr/>
          <p:nvPr/>
        </p:nvSpPr>
        <p:spPr>
          <a:xfrm>
            <a:off x="549720" y="1447920"/>
            <a:ext cx="8044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7B1-13C5-44DF-89D8-BEADBED29BA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4" name=""/>
          <p:cNvSpPr/>
          <p:nvPr/>
        </p:nvSpPr>
        <p:spPr>
          <a:xfrm>
            <a:off x="549720" y="1447920"/>
            <a:ext cx="8044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5400" y="3886200"/>
            <a:ext cx="8044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FB3D-38DC-4F5B-A170-CEC553BC115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and C#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tic Type System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Memory safety and jump safet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un-time checks fo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rray index boun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owncas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ccess control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Virtual Machine / JIT compila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Bytecode verific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nforces encapsulation boundaries (e.g. private field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Garbage Collect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liminates memory management err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ibrary suppor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ryptography, authentication, …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2209680"/>
            <a:ext cx="1981080" cy="990720"/>
          </a:xfrm>
          <a:prstGeom prst="wedgeRoundRectCallout">
            <a:avLst>
              <a:gd name="adj1" fmla="val -135337"/>
              <a:gd name="adj2" fmla="val 49837"/>
              <a:gd name="adj3" fmla="val 16667"/>
            </a:avLst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These l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061-14D6-46C4-BAF9-DBD2165AA9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7" name=""/>
          <p:cNvSpPr/>
          <p:nvPr/>
        </p:nvSpPr>
        <p:spPr>
          <a:xfrm>
            <a:off x="-450360" y="1371600"/>
            <a:ext cx="8044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3640" y="4038480"/>
            <a:ext cx="675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en does stack E’ allow per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leWrite(“f2”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 |-- fileWrite(“f2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7AA-CB8E-4E96-8C01-4CF15B6F8B4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0" name=""/>
          <p:cNvSpPr/>
          <p:nvPr/>
        </p:nvSpPr>
        <p:spPr>
          <a:xfrm>
            <a:off x="82080" y="2743200"/>
            <a:ext cx="913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ructure of Sta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 ::= .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Empty St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| s.R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Stack for code of principal 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| s.enable(p)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Privelege p enabl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7BFD-44ED-4495-8418-0B43DF738B1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of an Eval.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2" name=""/>
          <p:cNvSpPr/>
          <p:nvPr/>
        </p:nvSpPr>
        <p:spPr>
          <a:xfrm>
            <a:off x="695520" y="1419120"/>
            <a:ext cx="841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[])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v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nable p in E) = enable(p).Stack(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R{E}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R.Stack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9160" y="3733920"/>
            <a:ext cx="561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Stack(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B447-8325-4730-9772-F35E06D6791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5" name=""/>
          <p:cNvSpPr/>
          <p:nvPr/>
        </p:nvSpPr>
        <p:spPr>
          <a:xfrm>
            <a:off x="1349640" y="1676520"/>
            <a:ext cx="64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-- p                 empty stack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38320" y="2508120"/>
            <a:ext cx="2611440" cy="947160"/>
            <a:chOff x="1138320" y="2508120"/>
            <a:chExt cx="2611440" cy="947160"/>
          </a:xfrm>
        </p:grpSpPr>
        <p:sp>
          <p:nvSpPr>
            <p:cNvPr id="207" name=""/>
            <p:cNvSpPr/>
            <p:nvPr/>
          </p:nvSpPr>
          <p:spPr>
            <a:xfrm>
              <a:off x="1138320" y="2508120"/>
              <a:ext cx="2594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    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58840" y="29764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066680" y="3657600"/>
            <a:ext cx="3200400" cy="947160"/>
            <a:chOff x="1066680" y="3657600"/>
            <a:chExt cx="3200400" cy="947160"/>
          </a:xfrm>
        </p:grpSpPr>
        <p:sp>
          <p:nvSpPr>
            <p:cNvPr id="210" name=""/>
            <p:cNvSpPr/>
            <p:nvPr/>
          </p:nvSpPr>
          <p:spPr>
            <a:xfrm>
              <a:off x="1122480" y="365760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66680" y="411480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541040" y="27432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ion domain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39520" y="38750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q   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066680" y="4952880"/>
            <a:ext cx="3200400" cy="947160"/>
            <a:chOff x="1066680" y="4952880"/>
            <a:chExt cx="3200400" cy="947160"/>
          </a:xfrm>
        </p:grpSpPr>
        <p:sp>
          <p:nvSpPr>
            <p:cNvPr id="215" name=""/>
            <p:cNvSpPr/>
            <p:nvPr/>
          </p:nvSpPr>
          <p:spPr>
            <a:xfrm>
              <a:off x="1122480" y="495288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.enable(p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66680" y="541008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483080" y="510048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eck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06E-45AF-41ED-88B4-DF8B435E7C9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19" name=""/>
          <p:cNvSpPr/>
          <p:nvPr/>
        </p:nvSpPr>
        <p:spPr>
          <a:xfrm>
            <a:off x="1270800" y="1676520"/>
            <a:ext cx="74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= p                  empty stack enables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447920" y="2514600"/>
            <a:ext cx="1903320" cy="947160"/>
            <a:chOff x="1447920" y="2514600"/>
            <a:chExt cx="1903320" cy="947160"/>
          </a:xfrm>
        </p:grpSpPr>
        <p:sp>
          <p:nvSpPr>
            <p:cNvPr id="221" name=""/>
            <p:cNvSpPr/>
            <p:nvPr/>
          </p:nvSpPr>
          <p:spPr>
            <a:xfrm>
              <a:off x="1581480" y="2514600"/>
              <a:ext cx="1619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47920" y="298296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429800" y="274320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able succ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066680" y="3808440"/>
            <a:ext cx="3124440" cy="1373760"/>
            <a:chOff x="1066680" y="3808440"/>
            <a:chExt cx="3124440" cy="1373760"/>
          </a:xfrm>
        </p:grpSpPr>
        <p:sp>
          <p:nvSpPr>
            <p:cNvPr id="225" name=""/>
            <p:cNvSpPr/>
            <p:nvPr/>
          </p:nvSpPr>
          <p:spPr>
            <a:xfrm>
              <a:off x="1122480" y="3808440"/>
              <a:ext cx="3007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66680" y="426564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74880" y="403848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DE7-D6E6-4772-92C0-DE4C8096876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quational Reasoning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29" name=""/>
          <p:cNvSpPr/>
          <p:nvPr/>
        </p:nvSpPr>
        <p:spPr>
          <a:xfrm>
            <a:off x="664560" y="2133720"/>
            <a:ext cx="7762680" cy="3080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iff  there exists o such that e --&gt;*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C[] be an arbitrary program con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ay that   e = e’  i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 all C[], if C[e] and C[e’] are close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e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iff  C[e’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E8A9-4B69-4E9B-9A4C-03D8FA3DF85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Inequal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1" name=""/>
          <p:cNvSpPr/>
          <p:nvPr/>
        </p:nvSpPr>
        <p:spPr>
          <a:xfrm>
            <a:off x="-124560" y="1447920"/>
            <a:ext cx="8336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oop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 x)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 x)        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(note:   loop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 let z = x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g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 let z = x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(x o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aim: f ≠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C[] =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 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7162560" y="2362320"/>
            <a:ext cx="261720" cy="3189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1CE-5D0E-4B0D-8094-215EE8C74A1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ontinued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4" name=""/>
          <p:cNvSpPr/>
          <p:nvPr/>
        </p:nvSpPr>
        <p:spPr>
          <a:xfrm>
            <a:off x="732240" y="1214280"/>
            <a:ext cx="8130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f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) ok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test p then loop else o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ok)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60840" y="3530520"/>
            <a:ext cx="1911240" cy="1330560"/>
          </a:xfrm>
          <a:custGeom>
            <a:avLst/>
            <a:gdLst/>
            <a:ahLst/>
            <a:rect l="l" t="t" r="r" b="b"/>
            <a:pathLst>
              <a:path w="1204" h="838">
                <a:moveTo>
                  <a:pt x="0" y="0"/>
                </a:moveTo>
                <a:cubicBezTo>
                  <a:pt x="51" y="19"/>
                  <a:pt x="191" y="109"/>
                  <a:pt x="321" y="116"/>
                </a:cubicBezTo>
                <a:cubicBezTo>
                  <a:pt x="451" y="123"/>
                  <a:pt x="638" y="18"/>
                  <a:pt x="780" y="44"/>
                </a:cubicBezTo>
                <a:cubicBezTo>
                  <a:pt x="922" y="70"/>
                  <a:pt x="1144" y="138"/>
                  <a:pt x="1174" y="270"/>
                </a:cubicBezTo>
                <a:cubicBezTo>
                  <a:pt x="1204" y="402"/>
                  <a:pt x="1006" y="720"/>
                  <a:pt x="962" y="83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53560" y="4976640"/>
            <a:ext cx="2759400" cy="10087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stack(</a:t>
            </a:r>
            <a:r>
              <a:rPr b="1" lang="en-US" sz="20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{ [ ] }) = ..</a:t>
            </a:r>
            <a:r>
              <a:rPr b="1" lang="en-US" sz="20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..</a:t>
            </a:r>
            <a:r>
              <a:rPr b="0" lang="en-US" sz="20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 |-- p  is not 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67E-FAB0-45E5-B26A-827AD7CF8D6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ontinued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8" name=""/>
          <p:cNvSpPr/>
          <p:nvPr/>
        </p:nvSpPr>
        <p:spPr>
          <a:xfrm>
            <a:off x="-41400" y="1263600"/>
            <a:ext cx="8231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[g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=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test p then loop else o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st p then loop else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96000" y="5521320"/>
            <a:ext cx="1203120" cy="1000080"/>
          </a:xfrm>
          <a:custGeom>
            <a:avLst/>
            <a:gdLst/>
            <a:ahLst/>
            <a:rect l="l" t="t" r="r" b="b"/>
            <a:pathLst>
              <a:path w="758" h="630">
                <a:moveTo>
                  <a:pt x="0" y="0"/>
                </a:moveTo>
                <a:cubicBezTo>
                  <a:pt x="56" y="17"/>
                  <a:pt x="246" y="11"/>
                  <a:pt x="336" y="102"/>
                </a:cubicBezTo>
                <a:cubicBezTo>
                  <a:pt x="426" y="193"/>
                  <a:pt x="470" y="464"/>
                  <a:pt x="540" y="547"/>
                </a:cubicBezTo>
                <a:cubicBezTo>
                  <a:pt x="610" y="630"/>
                  <a:pt x="713" y="588"/>
                  <a:pt x="758" y="59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53400" y="6067440"/>
            <a:ext cx="2008080" cy="703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stack([ ] ) =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. |-- p  is vali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45480" y="4572000"/>
            <a:ext cx="879480" cy="358920"/>
          </a:xfrm>
          <a:custGeom>
            <a:avLst/>
            <a:gdLst/>
            <a:ahLst/>
            <a:rect l="l" t="t" r="r" b="b"/>
            <a:pathLst>
              <a:path w="554" h="226">
                <a:moveTo>
                  <a:pt x="0" y="0"/>
                </a:moveTo>
                <a:cubicBezTo>
                  <a:pt x="67" y="18"/>
                  <a:pt x="309" y="71"/>
                  <a:pt x="401" y="109"/>
                </a:cubicBezTo>
                <a:cubicBezTo>
                  <a:pt x="493" y="147"/>
                  <a:pt x="522" y="202"/>
                  <a:pt x="554" y="22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36080" y="4952880"/>
            <a:ext cx="2850840" cy="703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return from fun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==&gt; pop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7DC-C0F5-4CBA-8393-F80EB025C82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Applicat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3043080"/>
            <a:ext cx="626436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liminate redundant  anno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0320" y="4713120"/>
            <a:ext cx="672336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rease stack inspection co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test p then (enable p in e) els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2400" y="1360440"/>
            <a:ext cx="838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Formal reasoning about the semantic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ck inspection makes it possible to per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afe optimiz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2DC3-B5F1-4B11-A6C7-475370CC846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ccess Control for Applet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hat level of granularity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s can touch some parts of the file system but not oth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s can make network connections to some locations but not oth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ifferent code has different levels of trustworthines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ww.l33t-hax0rs.com vs. www.java.sun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rusted code can call untrusted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.g. to ask an applet to repaint its windo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Untrusted code can call trusted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.g. the paint routine may load a fon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How is the access control policy specified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1B1E-AAB7-4D11-887D-FFCA4D5BC8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xiomatic Equivalenc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48" name=""/>
          <p:cNvSpPr/>
          <p:nvPr/>
        </p:nvSpPr>
        <p:spPr>
          <a:xfrm>
            <a:off x="225000" y="1289160"/>
            <a:ext cx="75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n give a sound set of equatio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aracterize =.     Example axi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3600" y="2286000"/>
            <a:ext cx="6482160" cy="344664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e) 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e{v/x}     (beta equival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fv(v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(enable q in e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enable q in (enable p in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p}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any, many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62720" y="5943600"/>
            <a:ext cx="2225520" cy="9471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mplies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0F9-569A-40AF-95DA-B4229648985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Higher-order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2" name=""/>
          <p:cNvSpPr/>
          <p:nvPr/>
        </p:nvSpPr>
        <p:spPr>
          <a:xfrm>
            <a:off x="514080" y="1295280"/>
            <a:ext cx="827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main = System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[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.(h ok ok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fileHandler =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  System[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.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c.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_.c (readFile s)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leak = Applet[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s.output 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main(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_.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E1A-83E6-4814-AD59-2EBF519578D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Higher-order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4" name=""/>
          <p:cNvSpPr/>
          <p:nvPr/>
        </p:nvSpPr>
        <p:spPr>
          <a:xfrm>
            <a:off x="-69840" y="1376280"/>
            <a:ext cx="920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main(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System{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(readFile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}}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(readFile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}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&lt;f2 contents&gt;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output &lt;f2 contents&gt;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ok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F18-166C-44A3-9CAF-022C8761AC0C}" type="slidenum">
              <a:t>52</a:t>
            </a:fld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ther Problem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returning closures can circumvent stack inspect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ssible solution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Values of the form: R{v}  (i.e. keep track of the protection domain of the sourc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imilarly, one could have closures capture their current security contex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tegrity analysis (i.e. where data comes from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net &amp; Gordon prove some properties of strengthened versions of stack inspect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E95-0BB8-469F-BEF0-0F5D98DF3D7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nclu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at security properties does the Java security model guarantee?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at optimizations are legal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mal semantics helps us find the answers &amp; suggests improveme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352E-DE07-44DB-B4DB-9C00FAE3C44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utlin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va Security Model   </a:t>
            </a:r>
            <a:r>
              <a:rPr b="0" lang="en-US" sz="1800" spc="-1" strike="noStrike">
                <a:solidFill>
                  <a:srgbClr val="808080"/>
                </a:solidFill>
                <a:latin typeface="Bitstream Vera Sans"/>
              </a:rPr>
              <a:t>(C# similar)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ncrete exampl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o discuss: what security principles does the Java security model obey or not obey?   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mantics from a PL perspectiv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ormalizing 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exactly does it work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easoning about programs that use 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36E-CC3F-4756-A6DA-F73B8C1242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Security Model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133360"/>
            <a:ext cx="2057400" cy="28551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855160"/>
              <a:gd name="textAreaBottom" fmla="*/ 2754720 h 2855160"/>
            </a:gdLst>
            <a:ahLst/>
            <a:rect l="textAreaLeft" t="textAreaTop" r="textAreaRight" b="textAreaBottom"/>
            <a:pathLst>
              <a:path w="21600" h="29974">
                <a:moveTo>
                  <a:pt x="3600" y="0"/>
                </a:moveTo>
                <a:arcTo wR="3600" hR="3600" stAng="16200000" swAng="-5400000"/>
                <a:lnTo>
                  <a:pt x="0" y="26374"/>
                </a:lnTo>
                <a:arcTo wR="3600" hR="3600" stAng="10800000" swAng="-5400000"/>
                <a:lnTo>
                  <a:pt x="18000" y="299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a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b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c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d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e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50120" y="2552760"/>
            <a:ext cx="1643760" cy="45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Doma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50120" y="3691080"/>
            <a:ext cx="1643760" cy="45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Domai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2506320"/>
            <a:ext cx="2674800" cy="563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3643920"/>
            <a:ext cx="2674800" cy="563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925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2787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362320" y="274320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86000" y="289512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3581280"/>
            <a:ext cx="1447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86000" y="3048120"/>
            <a:ext cx="144792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286000" y="39625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981080"/>
            <a:ext cx="5333760" cy="3048120"/>
          </a:xfrm>
          <a:prstGeom prst="rect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83160" y="15238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ecurit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720" y="1523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V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6440" y="5867280"/>
            <a:ext cx="85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Bitstream Vera Sans"/>
              </a:rPr>
              <a:t>http://java.sun.com/j2se/1.4.2/docs/guide/security/spec/security-specTOC.fm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0800" y="4648320"/>
            <a:ext cx="2341800" cy="7038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lassloa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curity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DD6-D408-4935-8519-649813A326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Kinds of Permis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va.security.Permission  Clas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perm = new java.io.FilePermission("/tmp/abc","read")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AllPermission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Security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Unresolved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awt.AW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io.File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io.Serializable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lang.reflect.Reflec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lang.RuntimePermissi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net.Ne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net.Socke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364-E470-4D25-BFF9-14A6A6B2BB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de Trustworthines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does one decide what protection domain the code is in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ource (e.g. local or applet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igital signatur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# calls this “evidence based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does one decide what permissions a protection domain has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nfigurable – administrator file or command li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forced by the classload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BC0-9799-4E39-B356-D4918298D5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9:38:53Z</dcterms:created>
  <dc:creator>Steve Zdancewic</dc:creator>
  <dc:description/>
  <dc:language>en-US</dc:language>
  <cp:lastModifiedBy>dpw</cp:lastModifiedBy>
  <dcterms:modified xsi:type="dcterms:W3CDTF">2007-12-12T16:40:12Z</dcterms:modified>
  <cp:revision>71</cp:revision>
  <dc:subject/>
  <dc:title>Observational Determinism for  Concurrent Program Security</dc:title>
</cp:coreProperties>
</file>