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445E-CECC-4204-AE70-F49FD1EA7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84624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B468-450E-4B76-92C8-F84DE095D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84624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84624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B0DB-8B5F-40FB-876A-F11D63189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1932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1932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84624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84624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84624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3D20-E00D-466E-A3F7-D0E2AE885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6666-DAC5-4869-8F5F-134234A1E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CAE0-5BE6-4F4A-B77A-0FBEE3045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FCB7-B506-43D2-8C9F-AF7573FFB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A648-56F0-43AC-A4B3-A186C15AB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A170-5A98-42D3-BF1E-17660755B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84624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F934-E231-44C0-94B7-0726EB3CA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84624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0DF1-8232-4B3F-914F-D31345172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84624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28C5-B127-4F0B-AD0E-F0F8DA168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Click to edit the title text format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Bitstream Ver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Bitstream Ver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Bitstream Ver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Bitstream Ver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Vera Sans"/>
              </a:rPr>
              <a:t>COS 44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013AF-FAE2-4C12-AE8B-E1F0633ECC08}" type="slidenum">
              <a:rPr b="0" lang="en-US" sz="1400" spc="-1" strike="noStrike">
                <a:solidFill>
                  <a:srgbClr val="000000"/>
                </a:solidFill>
                <a:latin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24382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Current Techniques in </a:t>
            </a:r>
            <a:br>
              <a:rPr sz="3600"/>
            </a:b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Language-based Security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400120" y="3886200"/>
            <a:ext cx="4343400" cy="99072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David Walker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COS 441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With slides stolen from: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Steve Zdancewic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"/>
              </a:rPr>
              <a:t>University of Pennsylvania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1A1E-3395-407E-9EBA-34D2AABF202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Classloaders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In order to pull new code into the virtual machine, we use an object from the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ClassLoader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class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A class loader will look in the file system, or across the network for a class file, or possibly dynamically generate the class  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When loading the first class of an application, a new instance of the </a:t>
            </a:r>
            <a:r>
              <a:rPr b="0" lang="en-US" sz="2000" spc="-1" strike="noStrike">
                <a:solidFill>
                  <a:srgbClr val="336699"/>
                </a:solidFill>
                <a:latin typeface="Bitstream Vera Sans"/>
              </a:rPr>
              <a:t>URLClassLoader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 is used.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When loading the first class of an applet, a new instance of the </a:t>
            </a:r>
            <a:r>
              <a:rPr b="0" lang="en-US" sz="2000" spc="-1" strike="noStrike">
                <a:solidFill>
                  <a:srgbClr val="336699"/>
                </a:solidFill>
                <a:latin typeface="Bitstream Vera Sans"/>
              </a:rPr>
              <a:t>AppletClassLoader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 is used.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Class loaders are responsible for placing classes into their security domains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AppletClassLoader places classes in domains depending on where they are from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Other ClassLoaders places classes in domains based on digital signatures, or origin (such as local file system)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864B-268D-459F-9FDA-9169D1C54FE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Classloader Hierarchy 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85" name=""/>
          <p:cNvSpPr/>
          <p:nvPr/>
        </p:nvSpPr>
        <p:spPr>
          <a:xfrm>
            <a:off x="3326400" y="2973240"/>
            <a:ext cx="2338560" cy="520560"/>
          </a:xfrm>
          <a:prstGeom prst="rect">
            <a:avLst/>
          </a:prstGeom>
          <a:solidFill>
            <a:srgbClr val="ccccff"/>
          </a:solidFill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ClassLoa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9200" y="4038480"/>
            <a:ext cx="3566880" cy="520560"/>
          </a:xfrm>
          <a:prstGeom prst="rect">
            <a:avLst/>
          </a:prstGeom>
          <a:solidFill>
            <a:srgbClr val="ccccff"/>
          </a:solidFill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SecureClassLoa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733280" y="4038480"/>
            <a:ext cx="3044160" cy="520560"/>
          </a:xfrm>
          <a:prstGeom prst="rect">
            <a:avLst/>
          </a:prstGeom>
          <a:solidFill>
            <a:srgbClr val="ccccff"/>
          </a:solidFill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URLClassLoa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809960" y="5105520"/>
            <a:ext cx="3487680" cy="520560"/>
          </a:xfrm>
          <a:prstGeom prst="rect">
            <a:avLst/>
          </a:prstGeom>
          <a:solidFill>
            <a:srgbClr val="ccccff"/>
          </a:solidFill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AppletClassLoa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124080" y="3505320"/>
            <a:ext cx="1371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495680" y="3505320"/>
            <a:ext cx="18288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324480" y="45720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124080" y="1447920"/>
            <a:ext cx="2590920" cy="1295280"/>
          </a:xfrm>
          <a:prstGeom prst="cloudCallout">
            <a:avLst>
              <a:gd name="adj1" fmla="val -14217"/>
              <a:gd name="adj2" fmla="val 19731"/>
            </a:avLst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Bitstream Vera Sans"/>
              </a:rPr>
              <a:t>Primordial ClassLo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C591-C156-4986-ACBE-E26A4283E27E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Bitstream Vera Sans"/>
              </a:rPr>
              <a:t>Associating Privileges with Domains</a:t>
            </a:r>
            <a:endParaRPr b="1" lang="en-US" sz="32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94" name=""/>
          <p:cNvSpPr/>
          <p:nvPr/>
        </p:nvSpPr>
        <p:spPr>
          <a:xfrm>
            <a:off x="687240" y="1523880"/>
            <a:ext cx="7767720" cy="3257640"/>
          </a:xfrm>
          <a:prstGeom prst="rect">
            <a:avLst/>
          </a:prstGeom>
          <a:solidFill>
            <a:srgbClr val="dddddd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grant codeBase “http://www.l33t-hax0rz.com/*”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permission java.io.FilePermission(“/tmp/*”, “read,write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grant codeBase “file://$JAVA_HOME/lib/ext/*”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permission java.security.AllPermission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grant signedBy “trusted-company.com”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permission java.net.SocketPermission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permission java.io.FilePermission(“/tmp/*”, “read,write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75600" y="4800600"/>
            <a:ext cx="539280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Policy information stored i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Bitstream Vera Sans Mono"/>
              </a:rPr>
              <a:t>   </a:t>
            </a:r>
            <a:r>
              <a:rPr b="0" lang="en-US" sz="1800" spc="-1" strike="noStrike">
                <a:solidFill>
                  <a:srgbClr val="336699"/>
                </a:solidFill>
                <a:latin typeface="Bitstream Vera Sans Mono"/>
              </a:rPr>
              <a:t>$JAVA_HOME/lib/security/java.poli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Bitstream Vera Sans Mono"/>
              </a:rPr>
              <a:t>   </a:t>
            </a:r>
            <a:r>
              <a:rPr b="0" lang="en-US" sz="1800" spc="-1" strike="noStrike">
                <a:solidFill>
                  <a:srgbClr val="336699"/>
                </a:solidFill>
                <a:latin typeface="Bitstream Vera Sans Mono"/>
              </a:rPr>
              <a:t>$USER_HOME/.java.poli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Bitstream Vera Sans"/>
              </a:rPr>
              <a:t>      </a:t>
            </a:r>
            <a:r>
              <a:rPr b="0" lang="en-US" sz="1800" spc="-1" strike="noStrike">
                <a:solidFill>
                  <a:srgbClr val="336699"/>
                </a:solidFill>
                <a:latin typeface="Bitstream Vera Sans"/>
              </a:rPr>
              <a:t>(or passed on command lin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449F-B48D-4BCE-8672-7E37F410CD5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Example Trusted Code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97" name=""/>
          <p:cNvSpPr/>
          <p:nvPr/>
        </p:nvSpPr>
        <p:spPr>
          <a:xfrm>
            <a:off x="687240" y="1676520"/>
            <a:ext cx="7767720" cy="2527560"/>
          </a:xfrm>
          <a:prstGeom prst="rect">
            <a:avLst/>
          </a:prstGeom>
          <a:solidFill>
            <a:srgbClr val="ccccff"/>
          </a:solidFill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void fileWrite(String filename, String s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SecurityManager sm = System.getSecurityManager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if (sm != null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FilePermission fp = new FilePermission(filename,“write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sm.checkPermission(fp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/* … write s to file filename (native code) …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} else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throw new SecurityException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7240" y="4419720"/>
            <a:ext cx="7767720" cy="1554120"/>
          </a:xfrm>
          <a:prstGeom prst="rect">
            <a:avLst/>
          </a:prstGeom>
          <a:solidFill>
            <a:srgbClr val="ccccff"/>
          </a:solidFill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public static void main(…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SecurityManager sm = System.getSecurityManager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FilePermission fp = new FilePermission(“/tmp/*”,“write,…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sm.enablePrivilege(fp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UntrustedApplet.run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146960" y="1219320"/>
            <a:ext cx="703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Code in the System protection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2F2E-4DF5-4C41-8AB5-CBBFD024B82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Example Client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01" name=""/>
          <p:cNvSpPr/>
          <p:nvPr/>
        </p:nvSpPr>
        <p:spPr>
          <a:xfrm>
            <a:off x="687240" y="2438280"/>
            <a:ext cx="7767720" cy="2284200"/>
          </a:xfrm>
          <a:prstGeom prst="rect">
            <a:avLst/>
          </a:prstGeom>
          <a:solidFill>
            <a:srgbClr val="ffcc99"/>
          </a:solidFill>
          <a:ln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class UntrustedApplet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void run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s.FileWrite(“/tmp/foo.txt”, “Hello!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s.FileWrite(“/home/dpw/grades.txt”, “Ginsburg: A+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32480" y="1371600"/>
            <a:ext cx="5276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Applet code obtained fro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http://www.l33t-hax0rz.com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7E75-6FB4-42FD-BF79-F6095180420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Stack Inspection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Stack frames are annotated with their protection domains and any enabled privileges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During inspection, stack frames are searched from most to least recent: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Bitstream Vera Sans"/>
              </a:rPr>
              <a:t>fail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if a frame belonging to someone not authorized for privilege is encountered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Bitstream Vera Sans"/>
              </a:rPr>
              <a:t>succeed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if activated privilege is found in frame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A2C4-CFE2-47F3-98CF-98950C5E27F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Stack Inspection Example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06" name=""/>
          <p:cNvSpPr/>
          <p:nvPr/>
        </p:nvSpPr>
        <p:spPr>
          <a:xfrm>
            <a:off x="685800" y="4648320"/>
            <a:ext cx="6095880" cy="1465560"/>
          </a:xfrm>
          <a:prstGeom prst="rect">
            <a:avLst/>
          </a:prstGeom>
          <a:solidFill>
            <a:srgbClr val="ccccff"/>
          </a:solidFill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main(…)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fp = new FilePermission(“/tmp/*”,“write,…”);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m.enablePrivilege(fp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UntrustedApplet.run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781680" y="5181480"/>
            <a:ext cx="1219320" cy="304920"/>
          </a:xfrm>
          <a:prstGeom prst="leftRightArrow">
            <a:avLst>
              <a:gd name="adj1" fmla="val 50000"/>
              <a:gd name="adj2" fmla="val 79606"/>
            </a:avLst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5400000">
            <a:off x="6207840" y="3473640"/>
            <a:ext cx="4114800" cy="520560"/>
          </a:xfrm>
          <a:prstGeom prst="rect">
            <a:avLst/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Bitstream Vera Sans"/>
              </a:rPr>
              <a:t>Policy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325B-861E-4A28-98BE-6A2245768B9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Stack Inspection Example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4648320"/>
            <a:ext cx="6095880" cy="1465560"/>
          </a:xfrm>
          <a:prstGeom prst="rect">
            <a:avLst/>
          </a:prstGeom>
          <a:solidFill>
            <a:srgbClr val="ccccff"/>
          </a:solidFill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main(…)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fp = new FilePermission(“/tmp/*”,“write,…”);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m.enablePrivilege(fp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UntrustedApplet.run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781680" y="4648320"/>
            <a:ext cx="685800" cy="14655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f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rot="5400000">
            <a:off x="6207840" y="3473640"/>
            <a:ext cx="4114800" cy="520560"/>
          </a:xfrm>
          <a:prstGeom prst="rect">
            <a:avLst/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Bitstream Vera Sans"/>
              </a:rPr>
              <a:t>Policy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5C3B-79BA-41F9-BF8C-2CC423A1291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Stack Inspection Example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" y="4648320"/>
            <a:ext cx="6095880" cy="1465560"/>
          </a:xfrm>
          <a:prstGeom prst="rect">
            <a:avLst/>
          </a:prstGeom>
          <a:solidFill>
            <a:srgbClr val="ccccff"/>
          </a:solidFill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main(…)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fp = new FilePermission(“/tmp/*”,“write,…”);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m.enablePrivilege(fp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UntrustedApplet.run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2895480"/>
            <a:ext cx="6095880" cy="1310760"/>
          </a:xfrm>
          <a:prstGeom prst="rect">
            <a:avLst/>
          </a:prstGeom>
          <a:solidFill>
            <a:srgbClr val="ffcc99"/>
          </a:solidFill>
          <a:ln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void run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s.FileWrite(“/tmp/foo.txt”, “Hello!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781680" y="4648320"/>
            <a:ext cx="685800" cy="14655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f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09960" y="4114800"/>
            <a:ext cx="1447920" cy="609480"/>
          </a:xfrm>
          <a:prstGeom prst="upArrow">
            <a:avLst>
              <a:gd name="adj1" fmla="val 54167"/>
              <a:gd name="adj2" fmla="val 55417"/>
            </a:avLst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rot="5400000">
            <a:off x="6207840" y="3473640"/>
            <a:ext cx="4114800" cy="520560"/>
          </a:xfrm>
          <a:prstGeom prst="rect">
            <a:avLst/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Bitstream Vera Sans"/>
              </a:rPr>
              <a:t>Policy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595F-00E9-4C6C-AF34-4DB37E1E7C4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Stack Inspection Example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" y="4648320"/>
            <a:ext cx="6095880" cy="1465560"/>
          </a:xfrm>
          <a:prstGeom prst="rect">
            <a:avLst/>
          </a:prstGeom>
          <a:solidFill>
            <a:srgbClr val="ccccff"/>
          </a:solidFill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main(…)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fp = new FilePermission(“/tmp/*”,“write,…”);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m.enablePrivilege(fp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UntrustedApplet.run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895480"/>
            <a:ext cx="6095880" cy="1310760"/>
          </a:xfrm>
          <a:prstGeom prst="rect">
            <a:avLst/>
          </a:prstGeom>
          <a:solidFill>
            <a:srgbClr val="ffcc99"/>
          </a:solidFill>
          <a:ln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void run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s.FileWrite(“/tmp/foo.txt”, “Hello!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1447920"/>
            <a:ext cx="6095880" cy="1310760"/>
          </a:xfrm>
          <a:prstGeom prst="rect">
            <a:avLst/>
          </a:prstGeom>
          <a:solidFill>
            <a:srgbClr val="ccccff"/>
          </a:solidFill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void fileWrite(“/tmp/foo.txt”, “Hello!”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fp = new FilePermission(“/tmp/foo.txt”,“write”)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sm.checkPermission(fp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/* … write s to file filename …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781680" y="4648320"/>
            <a:ext cx="685800" cy="14655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f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09960" y="4114800"/>
            <a:ext cx="1447920" cy="609480"/>
          </a:xfrm>
          <a:prstGeom prst="upArrow">
            <a:avLst>
              <a:gd name="adj1" fmla="val 54167"/>
              <a:gd name="adj2" fmla="val 55417"/>
            </a:avLst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009960" y="2438280"/>
            <a:ext cx="1447920" cy="609840"/>
          </a:xfrm>
          <a:prstGeom prst="upArrow">
            <a:avLst>
              <a:gd name="adj1" fmla="val 54167"/>
              <a:gd name="adj2" fmla="val 55417"/>
            </a:avLst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rot="5400000">
            <a:off x="6207840" y="3473640"/>
            <a:ext cx="4114800" cy="520560"/>
          </a:xfrm>
          <a:prstGeom prst="rect">
            <a:avLst/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Bitstream Vera Sans"/>
              </a:rPr>
              <a:t>Policy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5BBD-1D8B-4D48-8786-6796EEDD3EE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Mobile Code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Modern languages like Java and C# have been designed for Internet applications and extensible systems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PDAs, Cell Phones, Smart Cards, …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5" name=""/>
          <p:cNvSpPr/>
          <p:nvPr/>
        </p:nvSpPr>
        <p:spPr>
          <a:xfrm>
            <a:off x="2905200" y="4649760"/>
            <a:ext cx="3332160" cy="520560"/>
          </a:xfrm>
          <a:prstGeom prst="rect">
            <a:avLst/>
          </a:prstGeom>
          <a:solidFill>
            <a:srgbClr val="ccccff"/>
          </a:solidFill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operating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905200" y="3963960"/>
            <a:ext cx="3332160" cy="520560"/>
          </a:xfrm>
          <a:prstGeom prst="rect">
            <a:avLst/>
          </a:prstGeom>
          <a:solidFill>
            <a:srgbClr val="dddddd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    </a:t>
            </a:r>
            <a:r>
              <a:rPr b="0" lang="en-US" sz="2800" spc="-1" strike="noStrike">
                <a:solidFill>
                  <a:srgbClr val="808080"/>
                </a:solidFill>
                <a:latin typeface="Bitstream Vera Sans"/>
              </a:rPr>
              <a:t>web browser 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83120" y="2744640"/>
            <a:ext cx="1305360" cy="520560"/>
          </a:xfrm>
          <a:prstGeom prst="rect">
            <a:avLst/>
          </a:prstGeom>
          <a:solidFill>
            <a:srgbClr val="ffcc99"/>
          </a:solidFill>
          <a:ln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appl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907440" y="2744640"/>
            <a:ext cx="1305360" cy="520560"/>
          </a:xfrm>
          <a:prstGeom prst="rect">
            <a:avLst/>
          </a:prstGeom>
          <a:solidFill>
            <a:srgbClr val="ffcc99"/>
          </a:solidFill>
          <a:ln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appl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559840" y="2744640"/>
            <a:ext cx="1305360" cy="520560"/>
          </a:xfrm>
          <a:prstGeom prst="rect">
            <a:avLst/>
          </a:prstGeom>
          <a:solidFill>
            <a:srgbClr val="ffcc99"/>
          </a:solidFill>
          <a:ln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appl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 rot="16200000">
            <a:off x="4332240" y="1258920"/>
            <a:ext cx="457200" cy="4648320"/>
          </a:xfrm>
          <a:custGeom>
            <a:avLst/>
            <a:gdLst>
              <a:gd name="textAreaLeft" fmla="*/ 292320 w 457200"/>
              <a:gd name="textAreaRight" fmla="*/ 457560 w 457200"/>
              <a:gd name="textAreaTop" fmla="*/ 120960 h 4648320"/>
              <a:gd name="textAreaBottom" fmla="*/ 4527360 h 4648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D6A2-D8A7-4EB0-BC91-033D7952F2E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Stack Inspection Example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" y="4648320"/>
            <a:ext cx="6095880" cy="1465560"/>
          </a:xfrm>
          <a:prstGeom prst="rect">
            <a:avLst/>
          </a:prstGeom>
          <a:solidFill>
            <a:srgbClr val="ccccff"/>
          </a:solidFill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main(…)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fp = new FilePermission(“/tmp/*”,“write,…”);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m.enablePrivilege(fp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UntrustedApplet.run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2895480"/>
            <a:ext cx="6095880" cy="1310760"/>
          </a:xfrm>
          <a:prstGeom prst="rect">
            <a:avLst/>
          </a:prstGeom>
          <a:solidFill>
            <a:srgbClr val="ffcc99"/>
          </a:solidFill>
          <a:ln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void run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s.FileWrite(“/tmp/foo.txt”, “Hello!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" y="1447920"/>
            <a:ext cx="6095880" cy="1310760"/>
          </a:xfrm>
          <a:prstGeom prst="rect">
            <a:avLst/>
          </a:prstGeom>
          <a:solidFill>
            <a:srgbClr val="ccccff"/>
          </a:solidFill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void fileWrite(“/tmp/foo.txt”, “Hello!”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fp = new FilePermission(“/tmp/foo.txt”,“write”)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sm.checkPermission(fp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/* … write s to file filename …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781680" y="4648320"/>
            <a:ext cx="685800" cy="14655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f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009960" y="4114800"/>
            <a:ext cx="1447920" cy="609480"/>
          </a:xfrm>
          <a:prstGeom prst="upArrow">
            <a:avLst>
              <a:gd name="adj1" fmla="val 54167"/>
              <a:gd name="adj2" fmla="val 55417"/>
            </a:avLst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009960" y="2438280"/>
            <a:ext cx="1447920" cy="609840"/>
          </a:xfrm>
          <a:prstGeom prst="upArrow">
            <a:avLst>
              <a:gd name="adj1" fmla="val 54167"/>
              <a:gd name="adj2" fmla="val 55417"/>
            </a:avLst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81680" y="1828800"/>
            <a:ext cx="533520" cy="1828800"/>
          </a:xfrm>
          <a:custGeom>
            <a:avLst/>
            <a:gdLst>
              <a:gd name="textAreaLeft" fmla="*/ 71280 w 533520"/>
              <a:gd name="textAreaRight" fmla="*/ 462240 w 533520"/>
              <a:gd name="textAreaTop" fmla="*/ 320040 h 1828800"/>
              <a:gd name="textAreaBottom" fmla="*/ 13258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ccffcc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781680" y="3581280"/>
            <a:ext cx="533520" cy="1828800"/>
          </a:xfrm>
          <a:custGeom>
            <a:avLst/>
            <a:gdLst>
              <a:gd name="textAreaLeft" fmla="*/ 71280 w 533520"/>
              <a:gd name="textAreaRight" fmla="*/ 462240 w 533520"/>
              <a:gd name="textAreaTop" fmla="*/ 320040 h 1828800"/>
              <a:gd name="textAreaBottom" fmla="*/ 13258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ccffcc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rot="5400000">
            <a:off x="6207840" y="3473640"/>
            <a:ext cx="4114800" cy="520560"/>
          </a:xfrm>
          <a:prstGeom prst="rect">
            <a:avLst/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Bitstream Vera Sans"/>
              </a:rPr>
              <a:t>Policy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781680" y="1981080"/>
            <a:ext cx="1219320" cy="304920"/>
          </a:xfrm>
          <a:prstGeom prst="leftRightArrow">
            <a:avLst>
              <a:gd name="adj1" fmla="val 50000"/>
              <a:gd name="adj2" fmla="val 79606"/>
            </a:avLst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781680" y="3429000"/>
            <a:ext cx="1219320" cy="304920"/>
          </a:xfrm>
          <a:prstGeom prst="leftRightArrow">
            <a:avLst>
              <a:gd name="adj1" fmla="val 50000"/>
              <a:gd name="adj2" fmla="val 79606"/>
            </a:avLst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29640" y="4921200"/>
            <a:ext cx="1825200" cy="5205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Bitstream Vera Sans"/>
              </a:rPr>
              <a:t>Succeed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6090-6E3F-4DDE-A7C2-98F7EFAE849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Stack Inspection Example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" y="4648320"/>
            <a:ext cx="6095880" cy="1465560"/>
          </a:xfrm>
          <a:prstGeom prst="rect">
            <a:avLst/>
          </a:prstGeom>
          <a:solidFill>
            <a:srgbClr val="ccccff"/>
          </a:solidFill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main(…)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fp = new FilePermission(“/tmp/*”,“write,…”);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m.enablePrivilege(fp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UntrustedApplet.run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" y="2895480"/>
            <a:ext cx="6095880" cy="1310760"/>
          </a:xfrm>
          <a:prstGeom prst="rect">
            <a:avLst/>
          </a:prstGeom>
          <a:solidFill>
            <a:srgbClr val="ffcc99"/>
          </a:solidFill>
          <a:ln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void run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s.FileWrite(“/home/dpw/grades.txt”,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            “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Ginsburg: A+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81680" y="4648320"/>
            <a:ext cx="685800" cy="14655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f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009960" y="4114800"/>
            <a:ext cx="1447920" cy="609480"/>
          </a:xfrm>
          <a:prstGeom prst="upArrow">
            <a:avLst>
              <a:gd name="adj1" fmla="val 54167"/>
              <a:gd name="adj2" fmla="val 55417"/>
            </a:avLst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rot="5400000">
            <a:off x="6207840" y="3473640"/>
            <a:ext cx="4114800" cy="520560"/>
          </a:xfrm>
          <a:prstGeom prst="rect">
            <a:avLst/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Bitstream Vera Sans"/>
              </a:rPr>
              <a:t>Policy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8BA9-924C-4328-A589-FC37F59F26C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Stack Inspection Example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4648320"/>
            <a:ext cx="6095880" cy="1465560"/>
          </a:xfrm>
          <a:prstGeom prst="rect">
            <a:avLst/>
          </a:prstGeom>
          <a:solidFill>
            <a:srgbClr val="ccccff"/>
          </a:solidFill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main(…)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fp = new FilePermission(“/tmp/*”,“write,…”);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m.enablePrivilege(fp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UntrustedApplet.run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1447920"/>
            <a:ext cx="6095880" cy="1067400"/>
          </a:xfrm>
          <a:prstGeom prst="rect">
            <a:avLst/>
          </a:prstGeom>
          <a:solidFill>
            <a:srgbClr val="ccccff"/>
          </a:solidFill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void fileWrite(“…/important.txt”, “kwijibo”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fp = new FilePermission(“important.txt”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                       “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write”);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sm.checkPermission(fp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781680" y="4648320"/>
            <a:ext cx="685800" cy="14655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f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rot="5400000">
            <a:off x="6207840" y="3473640"/>
            <a:ext cx="4114800" cy="520560"/>
          </a:xfrm>
          <a:prstGeom prst="rect">
            <a:avLst/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Bitstream Vera Sans"/>
              </a:rPr>
              <a:t>Policy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5800" y="2895480"/>
            <a:ext cx="6095880" cy="1310760"/>
          </a:xfrm>
          <a:prstGeom prst="rect">
            <a:avLst/>
          </a:prstGeom>
          <a:solidFill>
            <a:srgbClr val="ffcc99"/>
          </a:solidFill>
          <a:ln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void run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s.FileWrite(“/home/dpw/grades.txt”,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            “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Ginsburg: A+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009960" y="2438280"/>
            <a:ext cx="1447920" cy="609840"/>
          </a:xfrm>
          <a:prstGeom prst="upArrow">
            <a:avLst>
              <a:gd name="adj1" fmla="val 54167"/>
              <a:gd name="adj2" fmla="val 55417"/>
            </a:avLst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009960" y="4114800"/>
            <a:ext cx="1447920" cy="609480"/>
          </a:xfrm>
          <a:prstGeom prst="upArrow">
            <a:avLst>
              <a:gd name="adj1" fmla="val 54167"/>
              <a:gd name="adj2" fmla="val 55417"/>
            </a:avLst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781680" y="1828800"/>
            <a:ext cx="533520" cy="1828800"/>
          </a:xfrm>
          <a:custGeom>
            <a:avLst/>
            <a:gdLst>
              <a:gd name="textAreaLeft" fmla="*/ 71280 w 533520"/>
              <a:gd name="textAreaRight" fmla="*/ 462240 w 533520"/>
              <a:gd name="textAreaTop" fmla="*/ 320040 h 1828800"/>
              <a:gd name="textAreaBottom" fmla="*/ 13258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ccffcc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781680" y="1981080"/>
            <a:ext cx="1219320" cy="304920"/>
          </a:xfrm>
          <a:prstGeom prst="leftRightArrow">
            <a:avLst>
              <a:gd name="adj1" fmla="val 50000"/>
              <a:gd name="adj2" fmla="val 79606"/>
            </a:avLst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781680" y="3429000"/>
            <a:ext cx="1219320" cy="304920"/>
          </a:xfrm>
          <a:prstGeom prst="leftRightArrow">
            <a:avLst>
              <a:gd name="adj1" fmla="val 50000"/>
              <a:gd name="adj2" fmla="val 79606"/>
            </a:avLst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484320" y="3581280"/>
            <a:ext cx="801000" cy="520560"/>
          </a:xfrm>
          <a:prstGeom prst="rect">
            <a:avLst/>
          </a:prstGeom>
          <a:solidFill>
            <a:srgbClr val="ffcccc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Bitstream Vera Sans"/>
              </a:rPr>
              <a:t>Fa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1D98-D211-46C4-9B1A-D55DB3BDA02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Other Possibilities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fileWrite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method could enable the write permission itself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Potentially dangerous, should not base the file to write on data from the applet 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but no enforcement in Java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A trusted piece of code could </a:t>
            </a:r>
            <a:r>
              <a:rPr b="0" i="1" lang="en-US" sz="2800" spc="-1" strike="noStrike">
                <a:solidFill>
                  <a:srgbClr val="000000"/>
                </a:solidFill>
                <a:latin typeface="Bitstream Vera Sans"/>
              </a:rPr>
              <a:t>disable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a previously granted permission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Terminate the stack inspection early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89B2-AEE7-4099-BB68-772902D1F1A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Stack Inspection Algorithm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61" name=""/>
          <p:cNvSpPr/>
          <p:nvPr/>
        </p:nvSpPr>
        <p:spPr>
          <a:xfrm>
            <a:off x="1443960" y="1295280"/>
            <a:ext cx="67582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checkPermission(T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// loop newest to oldest stack fr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foreach stackFram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if (local policy forbids access to T by class executing 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stack frame) throw ForbiddenException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if (stackFrame has enabled privilege for 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return;  // allow ac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if (stackFrame has disabled privilege for 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throw ForbiddenException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// end of st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if (Netscape || …) throw ForbiddenException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if (MS IE4.0 || JDK 1.2 || …) return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A2F7-D2A3-4CFE-9ED0-53900E3CF2D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Two Implementations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On demand –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On a checkPermission invocation, actually crawl down the stack, checking on the way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Used in practice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agerly –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Keep track of the current set of available permissions during execution (security-passing style Wallach &amp; Felten)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+ more apparent (could print current perms.)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Bitstream Vera 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more expensive (checkPermission occurs infrequently)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B658-F68F-4A88-B243-76AD78D6993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Stack Inspection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Stack inspection seems appealing: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Fine grained, flexible, configurable policie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Distinguishes between code of varying degrees of trust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But…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How do we understand what the policy is?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Semantics tied to the operational behavior of the program (defined in terms of stacks!)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How do we compare implementation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Changing the program (e.g. optimizing it) may change the security policy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Policy is distributed throughout the software, and is not apparent from the program interfaces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Is it any good?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C94F-705D-47F5-A03C-4C01B93399C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Stack Inspection Literature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Stack Inspection: Theory and Variants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Cédric Fournet and Andrew D. Gordon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Use operational semantics like in clas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Understanding Java Stack Inspection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Dan S. Wallach and Edward W. Felten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Formalize Java Stack Inspection using a special logic of authentication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59C5-2FED-4497-BBD8-CC439206C84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24382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Formalizing Stack Inspection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312D-5EA2-4298-8AF8-C46E72E4810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Abstract Stack Inspection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Abstract permission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p,q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    Permissions (left abstract in the theory)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R,S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    Principals (sets of  permissions)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Hide the details of classloading, etc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xamples:</a:t>
            </a:r>
            <a:br>
              <a:rPr sz="2800"/>
            </a:b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System = {fileWrite(“f1”), fileWrite(“f2”),…}</a:t>
            </a:r>
            <a:br>
              <a:rPr sz="2400"/>
            </a:br>
            <a:r>
              <a:rPr b="0" lang="en-US" sz="2400" spc="-1" strike="noStrike">
                <a:solidFill>
                  <a:srgbClr val="cc6600"/>
                </a:solidFill>
                <a:latin typeface="Bitstream Vera Sans"/>
              </a:rPr>
              <a:t>Applet  = {fileWrite(“f1”)}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C802-D03F-4A5B-81E1-C81525EAFF4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Applet Security Problems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Protect OS &amp; other valuable resources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Applets should not: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crash browser or OS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execute “rm –rf /”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be able to exhaust resources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Applets should: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be able to access </a:t>
            </a:r>
            <a:r>
              <a:rPr b="0" i="1" lang="en-US" sz="2400" spc="-1" strike="noStrike">
                <a:solidFill>
                  <a:srgbClr val="000000"/>
                </a:solidFill>
                <a:latin typeface="Bitstream Vera Sans"/>
              </a:rPr>
              <a:t>some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system resources (e.g. to display a picture)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be isolated from each other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Principles of least privileges and complete mediation apply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EBCD-A3D3-4D6C-8ECF-F06607D2EA9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6699"/>
                </a:solidFill>
                <a:latin typeface="Symbol"/>
                <a:ea typeface="Symbol"/>
              </a:rPr>
              <a:t></a:t>
            </a:r>
            <a:r>
              <a:rPr b="1" lang="en-US" sz="3200" spc="-1" strike="noStrike">
                <a:solidFill>
                  <a:srgbClr val="336699"/>
                </a:solidFill>
                <a:latin typeface="Bitstream Vera Sans"/>
              </a:rPr>
              <a:t>sec</a:t>
            </a: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 Syntax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Language syntax:</a:t>
            </a:r>
            <a:br>
              <a:rPr sz="28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e ::=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expressio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x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variabl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x.e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fun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e1 e2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applica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R{e}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framed exp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enable p in e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enabl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test p then e1 else e2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check perm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fail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failu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v ::= x  |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x.e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valu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o ::= v  |  fail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outcome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0891-13F4-4AA1-BC63-3A819657289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Framing a Term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Models the 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assloader that marks the (unframed) code with its protection domain:</a:t>
            </a:r>
            <a:br>
              <a:rPr sz="24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Bitstream Vera Sans Mono"/>
              </a:rPr>
              <a:t>Load(R,x) 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 Mono"/>
              </a:rPr>
              <a:t>=  x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Bitstream Vera Sans Mono"/>
              </a:rPr>
              <a:t>Load(R,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 Mono"/>
              </a:rPr>
              <a:t>x.e)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 Mono"/>
              </a:rPr>
              <a:t>=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 Mono"/>
              </a:rPr>
              <a:t>x. </a:t>
            </a:r>
            <a:r>
              <a:rPr b="1" lang="en-US" sz="2000" spc="-1" strike="noStrike">
                <a:solidFill>
                  <a:srgbClr val="990033"/>
                </a:solidFill>
                <a:latin typeface="Bitstream Vera Sans Mono"/>
              </a:rPr>
              <a:t>R{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 Mono"/>
              </a:rPr>
              <a:t> Load(R,e) </a:t>
            </a:r>
            <a:r>
              <a:rPr b="1" lang="en-US" sz="2000" spc="-1" strike="noStrike">
                <a:solidFill>
                  <a:srgbClr val="990033"/>
                </a:solidFill>
                <a:latin typeface="Bitstream Vera Sans Mono"/>
              </a:rPr>
              <a:t>}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 Mono"/>
              </a:rPr>
              <a:t>Load(R,e1 e2)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 Mono"/>
              </a:rPr>
              <a:t>=  Load(R,e1) Load(R,e2)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 Mono"/>
              </a:rPr>
              <a:t>Load(R,enable p in e)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 Mono"/>
              </a:rPr>
              <a:t>= enable p in Load(R,e)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 Mono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 Mono"/>
              </a:rPr>
              <a:t>Load(R,test p then e2 else e2)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 Mono"/>
              </a:rPr>
              <a:t>= test p then Load(R,e1) else Load(R,e2)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 Mono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 Mono"/>
              </a:rPr>
              <a:t>Load(R,fail) 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 Mono"/>
              </a:rPr>
              <a:t>=  fail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6D91-5F6C-4233-A915-9CC0B9572FC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Example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76" name=""/>
          <p:cNvSpPr/>
          <p:nvPr/>
        </p:nvSpPr>
        <p:spPr>
          <a:xfrm>
            <a:off x="732600" y="1447920"/>
            <a:ext cx="7678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readFile =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fileName.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System{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  test fileWrite(fileName) the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… // primitive file IO (native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else f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}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6960" y="4503600"/>
            <a:ext cx="855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Bitstream Vera Sans Mono"/>
              </a:rPr>
              <a:t>Applet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readFile “f2”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 Mono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--&gt;*   fail </a:t>
            </a:r>
            <a:br>
              <a:rPr sz="2800"/>
            </a:br>
            <a:r>
              <a:rPr b="0" lang="en-US" sz="2800" spc="-1" strike="noStrike">
                <a:solidFill>
                  <a:srgbClr val="336699"/>
                </a:solidFill>
                <a:latin typeface="Bitstream Vera Sans Mono"/>
              </a:rPr>
              <a:t>System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readFile “f2”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 Mono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--&gt;*   &lt;f2 contents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6D71-114C-4DCA-9210-F6EBF4A0043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6699"/>
                </a:solidFill>
                <a:latin typeface="Symbol"/>
                <a:ea typeface="Symbol"/>
              </a:rPr>
              <a:t></a:t>
            </a:r>
            <a:r>
              <a:rPr b="1" lang="en-US" sz="3200" spc="-1" strike="noStrike">
                <a:solidFill>
                  <a:srgbClr val="336699"/>
                </a:solidFill>
                <a:latin typeface="Bitstream Vera Sans"/>
              </a:rPr>
              <a:t>sec</a:t>
            </a: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 Operational Semantics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valuation contexts:</a:t>
            </a:r>
            <a:br>
              <a:rPr sz="2800"/>
            </a:b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E ::=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[]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Hol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E e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Eval fun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v E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Eval ar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enable p in E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Tag on stack fram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R{E}          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Stack frame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 models the control stack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BDB3-5336-4059-8513-2F5FC21E340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6699"/>
                </a:solidFill>
                <a:latin typeface="Symbol"/>
                <a:ea typeface="Symbol"/>
              </a:rPr>
              <a:t></a:t>
            </a:r>
            <a:r>
              <a:rPr b="1" lang="en-US" sz="3200" spc="-1" strike="noStrike">
                <a:solidFill>
                  <a:srgbClr val="336699"/>
                </a:solidFill>
                <a:latin typeface="Bitstream Vera Sans"/>
              </a:rPr>
              <a:t>sec</a:t>
            </a: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 Operational Semantics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E[(lx.e)   v]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--&gt;  E[e{v/x}]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E[enable p in v]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--&gt;  E[v]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E[R{v}]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   --&gt;  E[v]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E[fail]        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--&gt;  fail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E[test p then e else f] 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--&gt;  E[e]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 Mono"/>
              </a:rPr>
              <a:t>if  Stack(E) |-- p</a:t>
            </a: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E[test p then e else f] 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--&gt;  E[f] 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 Mono"/>
              </a:rPr>
              <a:t>if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 Mono"/>
              </a:rPr>
              <a:t>(Stack(E) |-- p)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4467-2C10-4385-A151-E74B6793BC9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Example Evaluation Context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83" name=""/>
          <p:cNvSpPr/>
          <p:nvPr/>
        </p:nvSpPr>
        <p:spPr>
          <a:xfrm>
            <a:off x="2240280" y="1828800"/>
            <a:ext cx="466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Bitstream Vera Sans Mono"/>
              </a:rPr>
              <a:t>Applet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readFile “f2”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 Mono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667240" y="3200400"/>
            <a:ext cx="3807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E = 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 Mono"/>
              </a:rPr>
              <a:t>Applet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[]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 Mono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r = readfile “f2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EBEF-39A1-4EBE-81E1-17134DCF65D8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Example Evaluation Context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86" name=""/>
          <p:cNvSpPr/>
          <p:nvPr/>
        </p:nvSpPr>
        <p:spPr>
          <a:xfrm>
            <a:off x="733680" y="2819520"/>
            <a:ext cx="8044560" cy="28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E = 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 Mono"/>
              </a:rPr>
              <a:t>Applet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[]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 Mono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r =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fileName.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System{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    test fileWrite(fileName) the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… // primitive file IO (native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else f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   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}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   “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f2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240280" y="1828800"/>
            <a:ext cx="466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Bitstream Vera Sans Mono"/>
              </a:rPr>
              <a:t>Applet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readFile “f2”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 Mono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EA35-FED7-4CEA-BD93-E99C5659000F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Example Evaluation Context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89" name=""/>
          <p:cNvSpPr/>
          <p:nvPr/>
        </p:nvSpPr>
        <p:spPr>
          <a:xfrm>
            <a:off x="2240280" y="1828800"/>
            <a:ext cx="466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Bitstream Vera Sans Mono"/>
              </a:rPr>
              <a:t>Applet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readFile “f2”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 Mono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33680" y="2819520"/>
            <a:ext cx="8044560" cy="28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E = 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 Mono"/>
              </a:rPr>
              <a:t>Applet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[]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 Mono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r =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System{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    test fileWrite(“f2”) the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… // primitive file IO (native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else f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  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}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4174-DF39-40DE-A6B7-9B0746E89D56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Example Evaluation Context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92" name=""/>
          <p:cNvSpPr/>
          <p:nvPr/>
        </p:nvSpPr>
        <p:spPr>
          <a:xfrm>
            <a:off x="549720" y="1447920"/>
            <a:ext cx="804456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Bitstream Vera Sans Mono"/>
              </a:rPr>
              <a:t>Applet{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 Mono"/>
              </a:rPr>
              <a:t>System{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test fileWrite(“f2”) the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… // primitive file IO (native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else f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     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 Mono"/>
              </a:rPr>
              <a:t>}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 Mono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7061-09A7-4DF4-B1EB-D02A9A8E0693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Example Evaluation Context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94" name=""/>
          <p:cNvSpPr/>
          <p:nvPr/>
        </p:nvSpPr>
        <p:spPr>
          <a:xfrm>
            <a:off x="549720" y="1447920"/>
            <a:ext cx="804456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Bitstream Vera Sans Mono"/>
              </a:rPr>
              <a:t>Applet{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 Mono"/>
              </a:rPr>
              <a:t>System{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test fileWrite(“f2”) the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… // primitive file IO (native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else f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     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 Mono"/>
              </a:rPr>
              <a:t>}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 Mono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35400" y="3886200"/>
            <a:ext cx="804456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’ = 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Applet{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System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[]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}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}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r’ =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test fileWrite(“f2”) the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… // primitive file IO (native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else f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36A2-E3BE-4294-972C-5A684E4C22B8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Java and C# Security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Static Type Systems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Memory safety and jump safety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Run-time checks for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Array index bound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Downcast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Access control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Virtual Machine / JIT compilation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Bytecode verification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Enforces encapsulation boundaries (e.g. private field)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Garbage Collected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Eliminates memory management error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Library support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Cryptography, authentication, …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2209680"/>
            <a:ext cx="1981080" cy="990720"/>
          </a:xfrm>
          <a:prstGeom prst="wedgeRoundRectCallout">
            <a:avLst>
              <a:gd name="adj1" fmla="val -135337"/>
              <a:gd name="adj2" fmla="val 49837"/>
              <a:gd name="adj3" fmla="val 16667"/>
            </a:avLst>
          </a:prstGeom>
          <a:solidFill>
            <a:srgbClr val="ffcc99"/>
          </a:solidFill>
          <a:ln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These lec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2F37-9D87-4FA3-8AB6-D1CFCD412D0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Formal Stack Inspection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97" name=""/>
          <p:cNvSpPr/>
          <p:nvPr/>
        </p:nvSpPr>
        <p:spPr>
          <a:xfrm>
            <a:off x="-450360" y="1371600"/>
            <a:ext cx="804456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’ = 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Applet{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System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[]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}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}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r’ =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test fileWrite(“f2”) the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… // primitive file IO (native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else f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13640" y="4038480"/>
            <a:ext cx="6759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When does stack E’ allow permiss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fileWrite(“f2”)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Stack(E’) |-- fileWrite(“f2”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A867-E1B5-4A16-8142-96094FC98B33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Formal Stack Inspection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200" name=""/>
          <p:cNvSpPr/>
          <p:nvPr/>
        </p:nvSpPr>
        <p:spPr>
          <a:xfrm>
            <a:off x="82080" y="2743200"/>
            <a:ext cx="91310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Structure of Stack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s ::= .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(Empty Stac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| s.R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(Stack for code of principal 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| s.enable(p)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(Privelege p enabl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8939-3B86-477B-912C-AC218DE75856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Stack of an Eval. Context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202" name=""/>
          <p:cNvSpPr/>
          <p:nvPr/>
        </p:nvSpPr>
        <p:spPr>
          <a:xfrm>
            <a:off x="695520" y="1419120"/>
            <a:ext cx="841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Stack([]) 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=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Stack(E e)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= Stack(E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Stack(v E)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= Stack(E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Stack(enable p in E) = enable(p).Stack(E)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Stack(R{E})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= R.Stack(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379160" y="3733920"/>
            <a:ext cx="5615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Stack(E’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= Stack(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Applet{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System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[]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}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= 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Applet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.Stack(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System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[]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= 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Applet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.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System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.Stack([]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= 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Applet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.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System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DE49-0F54-4219-85B1-B6BE33B03933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Abstract Stack Inspection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205" name=""/>
          <p:cNvSpPr/>
          <p:nvPr/>
        </p:nvSpPr>
        <p:spPr>
          <a:xfrm>
            <a:off x="1349640" y="1676520"/>
            <a:ext cx="643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Bitstream Vera Sans"/>
              </a:rPr>
              <a:t>. |-- p                 empty stack axi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1138320" y="2508120"/>
            <a:ext cx="2611440" cy="947160"/>
            <a:chOff x="1138320" y="2508120"/>
            <a:chExt cx="2611440" cy="947160"/>
          </a:xfrm>
        </p:grpSpPr>
        <p:sp>
          <p:nvSpPr>
            <p:cNvPr id="207" name=""/>
            <p:cNvSpPr/>
            <p:nvPr/>
          </p:nvSpPr>
          <p:spPr>
            <a:xfrm>
              <a:off x="1138320" y="2508120"/>
              <a:ext cx="25945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s</a:t>
              </a:r>
              <a:r>
                <a:rPr b="0" lang="en-US" sz="2800" spc="-1" strike="noStrike">
                  <a:solidFill>
                    <a:srgbClr val="336699"/>
                  </a:solidFill>
                  <a:latin typeface="Bitstream Vera Sans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|-- p    p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 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s.R</a:t>
              </a:r>
              <a:r>
                <a:rPr b="0" lang="en-US" sz="2800" spc="-1" strike="noStrike">
                  <a:solidFill>
                    <a:srgbClr val="336699"/>
                  </a:solidFill>
                  <a:latin typeface="Bitstream Vera Sans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|-- p</a:t>
              </a:r>
              <a:r>
                <a:rPr b="0" lang="en-US" sz="2800" spc="-1" strike="noStrike">
                  <a:solidFill>
                    <a:srgbClr val="336699"/>
                  </a:solidFill>
                  <a:latin typeface="Bitstream Vera Sans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158840" y="2976480"/>
              <a:ext cx="2590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1066680" y="3657600"/>
            <a:ext cx="3200400" cy="947160"/>
            <a:chOff x="1066680" y="3657600"/>
            <a:chExt cx="3200400" cy="947160"/>
          </a:xfrm>
        </p:grpSpPr>
        <p:sp>
          <p:nvSpPr>
            <p:cNvPr id="210" name=""/>
            <p:cNvSpPr/>
            <p:nvPr/>
          </p:nvSpPr>
          <p:spPr>
            <a:xfrm>
              <a:off x="1122480" y="3657600"/>
              <a:ext cx="30826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s</a:t>
              </a:r>
              <a:r>
                <a:rPr b="0" lang="en-US" sz="2800" spc="-1" strike="noStrike">
                  <a:solidFill>
                    <a:srgbClr val="336699"/>
                  </a:solidFill>
                  <a:latin typeface="Bitstream Vera Sans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|-- 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s.enable(q)</a:t>
              </a:r>
              <a:r>
                <a:rPr b="0" lang="en-US" sz="2800" spc="-1" strike="noStrike">
                  <a:solidFill>
                    <a:srgbClr val="336699"/>
                  </a:solidFill>
                  <a:latin typeface="Bitstream Vera Sans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|-- p</a:t>
              </a:r>
              <a:r>
                <a:rPr b="0" lang="en-US" sz="2800" spc="-1" strike="noStrike">
                  <a:solidFill>
                    <a:srgbClr val="336699"/>
                  </a:solidFill>
                  <a:latin typeface="Bitstream Vera Sans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066680" y="4114800"/>
              <a:ext cx="3200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4541040" y="2743200"/>
            <a:ext cx="460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protection domain che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439520" y="3875040"/>
            <a:ext cx="451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q   irrelevant en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1066680" y="4952880"/>
            <a:ext cx="3200400" cy="947160"/>
            <a:chOff x="1066680" y="4952880"/>
            <a:chExt cx="3200400" cy="947160"/>
          </a:xfrm>
        </p:grpSpPr>
        <p:sp>
          <p:nvSpPr>
            <p:cNvPr id="215" name=""/>
            <p:cNvSpPr/>
            <p:nvPr/>
          </p:nvSpPr>
          <p:spPr>
            <a:xfrm>
              <a:off x="1122480" y="4952880"/>
              <a:ext cx="30826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s</a:t>
              </a:r>
              <a:r>
                <a:rPr b="0" lang="en-US" sz="2800" spc="-1" strike="noStrike">
                  <a:solidFill>
                    <a:srgbClr val="336699"/>
                  </a:solidFill>
                  <a:latin typeface="Bitstream Vera Sans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|= 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s.enable(p)</a:t>
              </a:r>
              <a:r>
                <a:rPr b="0" lang="en-US" sz="2800" spc="-1" strike="noStrike">
                  <a:solidFill>
                    <a:srgbClr val="336699"/>
                  </a:solidFill>
                  <a:latin typeface="Bitstream Vera Sans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|-- p</a:t>
              </a:r>
              <a:r>
                <a:rPr b="0" lang="en-US" sz="2800" spc="-1" strike="noStrike">
                  <a:solidFill>
                    <a:srgbClr val="336699"/>
                  </a:solidFill>
                  <a:latin typeface="Bitstream Vera Sans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066680" y="5410080"/>
              <a:ext cx="3200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7" name=""/>
          <p:cNvSpPr/>
          <p:nvPr/>
        </p:nvSpPr>
        <p:spPr>
          <a:xfrm>
            <a:off x="4483080" y="5100480"/>
            <a:ext cx="253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check en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ACD0-A277-4490-90E2-51B6A7D5AE43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Abstract Stack Inspection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219" name=""/>
          <p:cNvSpPr/>
          <p:nvPr/>
        </p:nvSpPr>
        <p:spPr>
          <a:xfrm>
            <a:off x="1270800" y="1676520"/>
            <a:ext cx="741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Bitstream Vera Sans"/>
              </a:rPr>
              <a:t>. |= p                  empty stack enables 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1447920" y="2514600"/>
            <a:ext cx="1903320" cy="947160"/>
            <a:chOff x="1447920" y="2514600"/>
            <a:chExt cx="1903320" cy="947160"/>
          </a:xfrm>
        </p:grpSpPr>
        <p:sp>
          <p:nvSpPr>
            <p:cNvPr id="221" name=""/>
            <p:cNvSpPr/>
            <p:nvPr/>
          </p:nvSpPr>
          <p:spPr>
            <a:xfrm>
              <a:off x="1581480" y="2514600"/>
              <a:ext cx="16192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p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 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x.R</a:t>
              </a:r>
              <a:r>
                <a:rPr b="0" lang="en-US" sz="2800" spc="-1" strike="noStrike">
                  <a:solidFill>
                    <a:srgbClr val="336699"/>
                  </a:solidFill>
                  <a:latin typeface="Bitstream Vera Sans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|= 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447920" y="2982960"/>
              <a:ext cx="1903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4429800" y="2743200"/>
            <a:ext cx="314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nable succee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1066680" y="3808440"/>
            <a:ext cx="3124440" cy="1373760"/>
            <a:chOff x="1066680" y="3808440"/>
            <a:chExt cx="3124440" cy="1373760"/>
          </a:xfrm>
        </p:grpSpPr>
        <p:sp>
          <p:nvSpPr>
            <p:cNvPr id="225" name=""/>
            <p:cNvSpPr/>
            <p:nvPr/>
          </p:nvSpPr>
          <p:spPr>
            <a:xfrm>
              <a:off x="1122480" y="3808440"/>
              <a:ext cx="300780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x</a:t>
              </a:r>
              <a:r>
                <a:rPr b="0" lang="en-US" sz="2800" spc="-1" strike="noStrike">
                  <a:solidFill>
                    <a:srgbClr val="336699"/>
                  </a:solidFill>
                  <a:latin typeface="Bitstream Vera Sans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|= 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x.enable(q)</a:t>
              </a:r>
              <a:r>
                <a:rPr b="0" lang="en-US" sz="2800" spc="-1" strike="noStrike">
                  <a:solidFill>
                    <a:srgbClr val="336699"/>
                  </a:solidFill>
                  <a:latin typeface="Bitstream Vera Sans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|= 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066680" y="4265640"/>
              <a:ext cx="3124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4574880" y="4038480"/>
            <a:ext cx="321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irrelevant en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D395-2DAE-4F8F-9282-C743E7F2403E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Equational Reasoning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229" name=""/>
          <p:cNvSpPr/>
          <p:nvPr/>
        </p:nvSpPr>
        <p:spPr>
          <a:xfrm>
            <a:off x="664560" y="2133720"/>
            <a:ext cx="7762680" cy="3080160"/>
          </a:xfrm>
          <a:prstGeom prst="rect">
            <a:avLst/>
          </a:prstGeom>
          <a:solidFill>
            <a:srgbClr val="dddddd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 iff  there exists o such that e --&gt;* 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Let C[] be an arbitrary program contex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Say that   e = e’  if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for all C[], if C[e] and C[e’] are closed t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            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C[e]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iff  C[e’]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D900-1335-49DF-AC9F-62E8C46899EC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Example Inequality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231" name=""/>
          <p:cNvSpPr/>
          <p:nvPr/>
        </p:nvSpPr>
        <p:spPr>
          <a:xfrm>
            <a:off x="-124560" y="1447920"/>
            <a:ext cx="83361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ok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x.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loop =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x.x x)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x.x x)             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(note:   loop </a:t>
            </a:r>
            <a:r>
              <a:rPr b="0" lang="en-US" sz="2800" spc="-1" strike="noStrike">
                <a:solidFill>
                  <a:srgbClr val="336699"/>
                </a:solidFill>
                <a:latin typeface="Symbol"/>
                <a:ea typeface="Symbol"/>
              </a:rPr>
              <a:t>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f 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x. let z = x ok i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_.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g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x. let z = x ok i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_.(x o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Claim: f ≠ 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Proof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Let C[] = </a:t>
            </a:r>
            <a:r>
              <a:rPr b="1" lang="en-US" sz="2800" spc="-1" strike="noStrike">
                <a:solidFill>
                  <a:srgbClr val="cc66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[ ]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_.test p then loop else ok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}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7162560" y="2362320"/>
            <a:ext cx="261720" cy="31896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0232-E063-44A3-91DF-0A5136C27D05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Example Continued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234" name=""/>
          <p:cNvSpPr/>
          <p:nvPr/>
        </p:nvSpPr>
        <p:spPr>
          <a:xfrm>
            <a:off x="732240" y="1214280"/>
            <a:ext cx="81302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C[f]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=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 </a:t>
            </a:r>
            <a:r>
              <a:rPr b="1" lang="en-US" sz="2800" spc="-1" strike="noStrike">
                <a:solidFill>
                  <a:srgbClr val="cc66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_.test p then loop else ok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}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ok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itstream Ver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itstream Vera Sans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1" lang="en-US" sz="2800" spc="-1" strike="noStrike">
                <a:solidFill>
                  <a:srgbClr val="cc66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let z =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             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_.test p then loop else ok) ok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             i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_.z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}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itstream Ver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itstream Vera Sans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1" lang="en-US" sz="2800" spc="-1" strike="noStrike">
                <a:solidFill>
                  <a:srgbClr val="cc66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let z = test p then loop else ok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              i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_.z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}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itstream Ver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itstream Vera Sans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1" lang="en-US" sz="2800" spc="-1" strike="noStrike">
                <a:solidFill>
                  <a:srgbClr val="cc66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let z = ok i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_.z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}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itstream Ver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itstream Vera Sans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1" lang="en-US" sz="2800" spc="-1" strike="noStrike">
                <a:solidFill>
                  <a:srgbClr val="cc66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{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_.ok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}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itstream Ver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itstream Vera Sans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_.ok)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itstream Ver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itstream Vera Sans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560840" y="3530520"/>
            <a:ext cx="1911240" cy="1330560"/>
          </a:xfrm>
          <a:custGeom>
            <a:avLst/>
            <a:gdLst/>
            <a:ahLst/>
            <a:rect l="l" t="t" r="r" b="b"/>
            <a:pathLst>
              <a:path w="1204" h="838">
                <a:moveTo>
                  <a:pt x="0" y="0"/>
                </a:moveTo>
                <a:cubicBezTo>
                  <a:pt x="51" y="19"/>
                  <a:pt x="191" y="109"/>
                  <a:pt x="321" y="116"/>
                </a:cubicBezTo>
                <a:cubicBezTo>
                  <a:pt x="451" y="123"/>
                  <a:pt x="638" y="18"/>
                  <a:pt x="780" y="44"/>
                </a:cubicBezTo>
                <a:cubicBezTo>
                  <a:pt x="922" y="70"/>
                  <a:pt x="1144" y="138"/>
                  <a:pt x="1174" y="270"/>
                </a:cubicBezTo>
                <a:cubicBezTo>
                  <a:pt x="1204" y="402"/>
                  <a:pt x="1006" y="720"/>
                  <a:pt x="962" y="83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453560" y="4976640"/>
            <a:ext cx="2759400" cy="1008720"/>
          </a:xfrm>
          <a:prstGeom prst="rect">
            <a:avLst/>
          </a:prstGeom>
          <a:noFill/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Bitstream Vera Sans"/>
              </a:rPr>
              <a:t>stack(</a:t>
            </a:r>
            <a:r>
              <a:rPr b="1" lang="en-US" sz="2000" spc="-1" strike="noStrike">
                <a:solidFill>
                  <a:srgbClr val="336699"/>
                </a:solidFill>
                <a:latin typeface="Symbol"/>
                <a:ea typeface="Symbol"/>
              </a:rPr>
              <a:t></a:t>
            </a:r>
            <a:r>
              <a:rPr b="0" lang="en-US" sz="2000" spc="-1" strike="noStrike">
                <a:solidFill>
                  <a:srgbClr val="336699"/>
                </a:solidFill>
                <a:latin typeface="Bitstream Vera Sans"/>
              </a:rPr>
              <a:t>{ [ ] }) = ..</a:t>
            </a:r>
            <a:r>
              <a:rPr b="1" lang="en-US" sz="2000" spc="-1" strike="noStrike">
                <a:solidFill>
                  <a:srgbClr val="336699"/>
                </a:solidFill>
                <a:latin typeface="Symbol"/>
                <a:ea typeface="Symbol"/>
              </a:rPr>
              <a:t>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Bitstream Vera Sans"/>
              </a:rPr>
              <a:t>..</a:t>
            </a:r>
            <a:r>
              <a:rPr b="0" lang="en-US" sz="2000" spc="-1" strike="noStrike">
                <a:solidFill>
                  <a:srgbClr val="336699"/>
                </a:solidFill>
                <a:latin typeface="Symbol"/>
                <a:ea typeface="Symbol"/>
              </a:rPr>
              <a:t></a:t>
            </a:r>
            <a:r>
              <a:rPr b="0" lang="en-US" sz="2000" spc="-1" strike="noStrike">
                <a:solidFill>
                  <a:srgbClr val="336699"/>
                </a:solidFill>
                <a:latin typeface="Bitstream Vera Sans"/>
              </a:rPr>
              <a:t> |-- p  is not val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2C8A-0138-4229-8966-94F7C8DFBA0F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Example Continued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238" name=""/>
          <p:cNvSpPr/>
          <p:nvPr/>
        </p:nvSpPr>
        <p:spPr>
          <a:xfrm>
            <a:off x="-41400" y="1263600"/>
            <a:ext cx="82314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C[g]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=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 </a:t>
            </a:r>
            <a:r>
              <a:rPr b="1" lang="en-US" sz="2400" spc="-1" strike="noStrike">
                <a:solidFill>
                  <a:srgbClr val="cc6600"/>
                </a:solidFill>
                <a:latin typeface="Symbol"/>
                <a:ea typeface="Symbol"/>
              </a:rPr>
              <a:t>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g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_.test p then loop else ok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"/>
              </a:rPr>
              <a:t>}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itstream Ver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itstream Vera Sans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1" lang="en-US" sz="2400" spc="-1" strike="noStrike">
                <a:solidFill>
                  <a:srgbClr val="cc6600"/>
                </a:solidFill>
                <a:latin typeface="Symbol"/>
                <a:ea typeface="Symbol"/>
              </a:rPr>
              <a:t>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let z =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              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_.test p then loop else ok) o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               i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_.(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_.test p then loop else ok) ok)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"/>
              </a:rPr>
              <a:t>}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itstream Ver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itstream Vera Sans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1" lang="en-US" sz="2400" spc="-1" strike="noStrike">
                <a:solidFill>
                  <a:srgbClr val="cc6600"/>
                </a:solidFill>
                <a:latin typeface="Symbol"/>
                <a:ea typeface="Symbol"/>
              </a:rPr>
              <a:t>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let z = test p then loop else ok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               i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_. (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_.test p then loop else ok) ok)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"/>
              </a:rPr>
              <a:t>}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itstream Ver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itstream Vera Sans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1" lang="en-US" sz="2400" spc="-1" strike="noStrike">
                <a:solidFill>
                  <a:srgbClr val="cc6600"/>
                </a:solidFill>
                <a:latin typeface="Symbol"/>
                <a:ea typeface="Symbol"/>
              </a:rPr>
              <a:t>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let z = o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               i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_. (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_.test p then loop else ok) ok)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"/>
              </a:rPr>
              <a:t>}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itstream Ver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itstream Vera Sans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1" lang="en-US" sz="2400" spc="-1" strike="noStrike">
                <a:solidFill>
                  <a:srgbClr val="cc6600"/>
                </a:solidFill>
                <a:latin typeface="Symbol"/>
                <a:ea typeface="Symbol"/>
              </a:rPr>
              <a:t>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_. (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_.test p then loop else ok) ok)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"/>
              </a:rPr>
              <a:t>}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itstream Ver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itstream Vera Sans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_. (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_.test p then loop else ok) ok))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itstream Ver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itstream Vera Sans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_.test p then loop else ok) 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itstream Ver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itstream Vera Sans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test p then loop else 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itstream Ver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itstream Vera Sans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loop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loop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loop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96000" y="5521320"/>
            <a:ext cx="1203120" cy="1000080"/>
          </a:xfrm>
          <a:custGeom>
            <a:avLst/>
            <a:gdLst/>
            <a:ahLst/>
            <a:rect l="l" t="t" r="r" b="b"/>
            <a:pathLst>
              <a:path w="758" h="630">
                <a:moveTo>
                  <a:pt x="0" y="0"/>
                </a:moveTo>
                <a:cubicBezTo>
                  <a:pt x="56" y="17"/>
                  <a:pt x="246" y="11"/>
                  <a:pt x="336" y="102"/>
                </a:cubicBezTo>
                <a:cubicBezTo>
                  <a:pt x="426" y="193"/>
                  <a:pt x="470" y="464"/>
                  <a:pt x="540" y="547"/>
                </a:cubicBezTo>
                <a:cubicBezTo>
                  <a:pt x="610" y="630"/>
                  <a:pt x="713" y="588"/>
                  <a:pt x="758" y="59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053400" y="6067440"/>
            <a:ext cx="2008080" cy="703800"/>
          </a:xfrm>
          <a:prstGeom prst="rect">
            <a:avLst/>
          </a:prstGeom>
          <a:noFill/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Bitstream Vera Sans"/>
              </a:rPr>
              <a:t>stack([ ] ) =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Bitstream Vera Sans"/>
              </a:rPr>
              <a:t>. |-- p  is valid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945480" y="4572000"/>
            <a:ext cx="879480" cy="358920"/>
          </a:xfrm>
          <a:custGeom>
            <a:avLst/>
            <a:gdLst/>
            <a:ahLst/>
            <a:rect l="l" t="t" r="r" b="b"/>
            <a:pathLst>
              <a:path w="554" h="226">
                <a:moveTo>
                  <a:pt x="0" y="0"/>
                </a:moveTo>
                <a:cubicBezTo>
                  <a:pt x="67" y="18"/>
                  <a:pt x="309" y="71"/>
                  <a:pt x="401" y="109"/>
                </a:cubicBezTo>
                <a:cubicBezTo>
                  <a:pt x="493" y="147"/>
                  <a:pt x="522" y="202"/>
                  <a:pt x="554" y="22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436080" y="4952880"/>
            <a:ext cx="2850840" cy="703800"/>
          </a:xfrm>
          <a:prstGeom prst="rect">
            <a:avLst/>
          </a:prstGeom>
          <a:noFill/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Bitstream Vera Sans"/>
              </a:rPr>
              <a:t>return from func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Bitstream Vera Sans"/>
              </a:rPr>
              <a:t>==&gt; pop fr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4730-A55B-461E-ACDE-3FCA1A2DD8BF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Example Applications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244" name=""/>
          <p:cNvSpPr/>
          <p:nvPr/>
        </p:nvSpPr>
        <p:spPr>
          <a:xfrm>
            <a:off x="1371600" y="3043080"/>
            <a:ext cx="6264360" cy="1373760"/>
          </a:xfrm>
          <a:prstGeom prst="rect">
            <a:avLst/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liminate redundant  annot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x.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R{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y.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R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}}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x.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y.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R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210320" y="4713120"/>
            <a:ext cx="6723360" cy="1373760"/>
          </a:xfrm>
          <a:prstGeom prst="rect">
            <a:avLst/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Decrease stack inspection cos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 = test p then (enable p in e) else 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82400" y="1360440"/>
            <a:ext cx="8385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Formal reasoning about the semantics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stack inspection makes it possible to perfor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safe optimiz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0F68-7E61-490C-9EC6-A84560CA77EB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Access Control for Applets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What level of granularity?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480" indent="-28296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Applets can touch some parts of the file system but not other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480" indent="-28296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Applets can make network connections to some locations but not other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Different code has different levels of trustworthiness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480" indent="-28296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www.l33t-hax0rs.com vs. www.java.sun.com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Trusted code can call untrusted code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480" indent="-28296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e.g. to ask an applet to repaint its window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Untrusted code can call trusted code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480" indent="-28296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e.g. the paint routine may load a font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How is the access control policy specified?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C96D-C746-461D-BC2C-6BAAD38C921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Axiomatic Equivalence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248" name=""/>
          <p:cNvSpPr/>
          <p:nvPr/>
        </p:nvSpPr>
        <p:spPr>
          <a:xfrm>
            <a:off x="225000" y="1289160"/>
            <a:ext cx="7576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Can give a sound set of equation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tha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characterize =.     Example axio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43600" y="2286000"/>
            <a:ext cx="6482160" cy="3446640"/>
          </a:xfrm>
          <a:prstGeom prst="rect">
            <a:avLst/>
          </a:prstGeom>
          <a:solidFill>
            <a:srgbClr val="dddddd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Bitstream Ver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x.e) v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e{v/x}     (beta equivalen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itstream Ver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fv(v)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x.v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itstream Ver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enable p in 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itstream Ver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enable p in (enable q in e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  enable q in (enable p in 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itstream Ver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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R{S{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e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}}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S{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e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itstream Ver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R{S{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enable p in e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}}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 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R</a:t>
            </a:r>
            <a:r>
              <a:rPr b="0" lang="en-US" sz="2400" spc="-1" strike="noStrike">
                <a:solidFill>
                  <a:srgbClr val="336699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{p}{S{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enable p in e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}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itstream Ver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…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many, many m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562720" y="5943600"/>
            <a:ext cx="2225520" cy="947160"/>
          </a:xfrm>
          <a:prstGeom prst="rect">
            <a:avLst/>
          </a:prstGeom>
          <a:solidFill>
            <a:srgbClr val="ccccff"/>
          </a:solidFill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Implies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B849-234F-4622-9902-C564769D2F01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Example: Higher-order Code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252" name=""/>
          <p:cNvSpPr/>
          <p:nvPr/>
        </p:nvSpPr>
        <p:spPr>
          <a:xfrm>
            <a:off x="514080" y="1295280"/>
            <a:ext cx="82702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main = System 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 Mono"/>
              </a:rPr>
              <a:t>[</a:t>
            </a:r>
            <a:r>
              <a:rPr b="0" lang="en-US" sz="2800" spc="-1" strike="noStrike">
                <a:solidFill>
                  <a:srgbClr val="336699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h.(h ok ok)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 Mono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 Mono"/>
              </a:rPr>
              <a:t>fileHandler = </a:t>
            </a:r>
            <a:br>
              <a:rPr sz="2800"/>
            </a:br>
            <a:r>
              <a:rPr b="0" lang="en-US" sz="2800" spc="-1" strike="noStrike">
                <a:solidFill>
                  <a:srgbClr val="336699"/>
                </a:solidFill>
                <a:latin typeface="Bitstream Vera Sans Mono"/>
              </a:rPr>
              <a:t>  System[</a:t>
            </a:r>
            <a:r>
              <a:rPr b="0" lang="en-US" sz="2800" spc="-1" strike="noStrike">
                <a:solidFill>
                  <a:srgbClr val="336699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 Mono"/>
              </a:rPr>
              <a:t>s.</a:t>
            </a:r>
            <a:r>
              <a:rPr b="0" lang="en-US" sz="2800" spc="-1" strike="noStrike">
                <a:solidFill>
                  <a:srgbClr val="336699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 Mono"/>
              </a:rPr>
              <a:t>c.</a:t>
            </a:r>
            <a:r>
              <a:rPr b="0" lang="en-US" sz="2800" spc="-1" strike="noStrike">
                <a:solidFill>
                  <a:srgbClr val="336699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 Mono"/>
              </a:rPr>
              <a:t>_.c (readFile s)]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Bitstream Vera Sans Mono"/>
              </a:rPr>
              <a:t>leak = Applet[</a:t>
            </a:r>
            <a:r>
              <a:rPr b="0" lang="en-US" sz="2800" spc="-1" strike="noStrike">
                <a:solidFill>
                  <a:srgbClr val="cc66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 Mono"/>
              </a:rPr>
              <a:t>s.output s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 Mono"/>
              </a:rPr>
              <a:t>main(</a:t>
            </a:r>
            <a:r>
              <a:rPr b="0" lang="en-US" sz="2800" spc="-1" strike="noStrike">
                <a:solidFill>
                  <a:srgbClr val="336699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 Mono"/>
              </a:rPr>
              <a:t>_.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 Mono"/>
              </a:rPr>
              <a:t>Applet{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 Mono"/>
              </a:rPr>
              <a:t>fileHandler 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 Mono"/>
              </a:rPr>
              <a:t>“f2” leak}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 Mo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954F-E8A9-48D9-8EC9-849BFD15BC39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Example: Higher-order Code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254" name=""/>
          <p:cNvSpPr/>
          <p:nvPr/>
        </p:nvSpPr>
        <p:spPr>
          <a:xfrm>
            <a:off x="-69840" y="1376280"/>
            <a:ext cx="92055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Bitstream Vera Sans Mo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itstream Vera Sans Mono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main(</a:t>
            </a:r>
            <a:r>
              <a:rPr b="0" lang="en-US" sz="2400" spc="-1" strike="noStrike">
                <a:solidFill>
                  <a:srgbClr val="336699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_.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 Mono"/>
              </a:rPr>
              <a:t>Applet{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fileHandler 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 Mono"/>
              </a:rPr>
              <a:t>“f2” leak}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itstream Vera Sans Mo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itstream Vera Sans Mono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*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System{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 Mono"/>
              </a:rPr>
              <a:t>Applet{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fileHandler 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 Mono"/>
              </a:rPr>
              <a:t>“f2” leak}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 okS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itstream Vera Sans Mo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itstream Vera Sans Mono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*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System{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 Mono"/>
              </a:rPr>
              <a:t>Applet{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System{System{</a:t>
            </a:r>
            <a:br>
              <a:rPr sz="2400"/>
            </a:b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     </a:t>
            </a:r>
            <a:r>
              <a:rPr b="0" lang="en-US" sz="2400" spc="-1" strike="noStrike">
                <a:solidFill>
                  <a:srgbClr val="336699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_.System{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 Mono"/>
              </a:rPr>
              <a:t>leak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 (readFile 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 Mono"/>
              </a:rPr>
              <a:t>“f2”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)}}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 Mono"/>
              </a:rPr>
              <a:t>}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} okS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itstream Vera Sans Mo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itstream Vera Sans Mono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*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System{</a:t>
            </a:r>
            <a:r>
              <a:rPr b="0" lang="en-US" sz="2400" spc="-1" strike="noStrike">
                <a:solidFill>
                  <a:srgbClr val="336699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_.System{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 Mono"/>
              </a:rPr>
              <a:t>leak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 (readFile 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 Mono"/>
              </a:rPr>
              <a:t>“f2”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)} okS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itstream Vera Sans Mo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itstream Vera Sans Mono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* System{System{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 Mono"/>
              </a:rPr>
              <a:t>leak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 &lt;f2 contents&gt;}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itstream Vera Sans Mo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itstream Vera Sans Mono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* System{System{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 Mono"/>
              </a:rPr>
              <a:t>Applet{output &lt;f2 contents&gt;}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}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itstream Vera Sans Mo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itstream Vera Sans Mono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* System{System{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 Mono"/>
              </a:rPr>
              <a:t>Applet{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ok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 Mono"/>
              </a:rPr>
              <a:t>}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}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itstream Vera Sans Mo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itstream Vera Sans Mono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* 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D724-AE43-4860-A7DD-A39494F84C09}" type="slidenum">
              <a:t>52</a:t>
            </a:fld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Other Problems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Applets returning closures can circumvent stack inspection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Possible solution: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Values of the form: R{v}  (i.e. keep track of the protection domain of the source)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Similarly, one could have closures capture their current security context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Integrity analysis (i.e. where data comes from)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Fournet &amp; Gordon prove some properties of strengthened versions of stack inspection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1345-DD9F-4658-BA27-32E8FACBB6DF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Conclusions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What security properties does the Java security model guarantee? 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What optimizations are legal?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Formal semantics helps us find the answers &amp; suggests improvements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F733-2EFC-44B2-858B-9A2F2DF1C2E8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Outline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Java Security Model   </a:t>
            </a:r>
            <a:r>
              <a:rPr b="0" lang="en-US" sz="1800" spc="-1" strike="noStrike">
                <a:solidFill>
                  <a:srgbClr val="808080"/>
                </a:solidFill>
                <a:latin typeface="Bitstream Vera Sans"/>
              </a:rPr>
              <a:t>(C# similar)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Stack inspection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Concrete examples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To discuss: what security principles does the Java security model obey or not obey?    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Semantics from a PL perspective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Formalizing stack inspection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how exactly does it work?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Reasoning about programs that use stack inspection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C516-9E86-4E4C-AB37-AE2B27529D1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Java Security Model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61" name=""/>
          <p:cNvSpPr/>
          <p:nvPr/>
        </p:nvSpPr>
        <p:spPr>
          <a:xfrm>
            <a:off x="609480" y="2133360"/>
            <a:ext cx="2057400" cy="285516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855160"/>
              <a:gd name="textAreaBottom" fmla="*/ 2754720 h 2855160"/>
            </a:gdLst>
            <a:ahLst/>
            <a:rect l="textAreaLeft" t="textAreaTop" r="textAreaRight" b="textAreaBottom"/>
            <a:pathLst>
              <a:path w="21600" h="29974">
                <a:moveTo>
                  <a:pt x="3600" y="0"/>
                </a:moveTo>
                <a:arcTo wR="3600" hR="3600" stAng="16200000" swAng="-5400000"/>
                <a:lnTo>
                  <a:pt x="0" y="26374"/>
                </a:lnTo>
                <a:arcTo wR="3600" hR="3600" stAng="10800000" swAng="-5400000"/>
                <a:lnTo>
                  <a:pt x="18000" y="2997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ccff"/>
          </a:solidFill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a.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b.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c.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d.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e.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750120" y="2552760"/>
            <a:ext cx="1643760" cy="459720"/>
          </a:xfrm>
          <a:prstGeom prst="rect">
            <a:avLst/>
          </a:prstGeom>
          <a:solidFill>
            <a:srgbClr val="dddddd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Domain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50120" y="3691080"/>
            <a:ext cx="1643760" cy="459720"/>
          </a:xfrm>
          <a:prstGeom prst="rect">
            <a:avLst/>
          </a:prstGeom>
          <a:solidFill>
            <a:srgbClr val="dddddd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Domain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715000" y="2506320"/>
            <a:ext cx="2674800" cy="56376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 Mono"/>
              </a:rPr>
              <a:t>Permis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715000" y="3643920"/>
            <a:ext cx="2674800" cy="56376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 Mono"/>
              </a:rPr>
              <a:t>Permis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410080" y="39258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410080" y="27874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2362320" y="2743200"/>
            <a:ext cx="1371600" cy="76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2286000" y="289512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86000" y="3581280"/>
            <a:ext cx="14479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286000" y="3048120"/>
            <a:ext cx="144792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286000" y="3962520"/>
            <a:ext cx="144792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276720" y="1981080"/>
            <a:ext cx="5333760" cy="3048120"/>
          </a:xfrm>
          <a:prstGeom prst="rect">
            <a:avLst/>
          </a:prstGeom>
          <a:noFill/>
          <a:ln w="1260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583160" y="1523880"/>
            <a:ext cx="29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Security Poli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93720" y="152388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VM Run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16440" y="5867280"/>
            <a:ext cx="851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Bitstream Vera Sans"/>
              </a:rPr>
              <a:t>http://java.sun.com/j2se/1.4.2/docs/guide/security/spec/security-specTOC.fm.ht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60800" y="4648320"/>
            <a:ext cx="2341800" cy="703800"/>
          </a:xfrm>
          <a:prstGeom prst="rect">
            <a:avLst/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Classload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SecurityMana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18A0-8153-4D60-B0EA-C248F7A9DBB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Kinds of Permissions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java.security.Permission  Class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perm = new java.io.FilePermission("/tmp/abc","read")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java.security.AllPermission 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java.security.SecurityPermission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java.security.UnresolvedPermission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java.awt.AWTPermission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java.io.FilePermission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java.io.SerializablePermission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java.lang.reflect.ReflectPermission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java.lang.RuntimePermission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java.net.NetPermission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java.net.SocketPermission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EBC0-AA47-4784-BC53-B47EA40E9AA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Code Trustworthiness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How does one decide what protection domain the code is in?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Source (e.g. local or applet)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Digital signatures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C# calls this “evidence based”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How does one decide what permissions a protection domain has?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Configurable – administrator file or command line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nforced by the classloader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D64D-FEEF-4552-8673-0798B606BA9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0T19:38:53Z</dcterms:created>
  <dc:creator>Steve Zdancewic</dc:creator>
  <dc:description/>
  <dc:language>en-US</dc:language>
  <cp:lastModifiedBy>dpw</cp:lastModifiedBy>
  <dcterms:modified xsi:type="dcterms:W3CDTF">2007-12-12T16:40:12Z</dcterms:modified>
  <cp:revision>71</cp:revision>
  <dc:subject/>
  <dc:title>Observational Determinism for  Concurrent Program Security</dc:title>
</cp:coreProperties>
</file>