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F5F-F3F9-417A-8F57-F820E9CB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80E-D88A-42AC-9B9F-EE6B4703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660-55A5-4D11-ADF9-1AF70577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0BA-4650-498F-9BA6-A733B19DB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0B4B-CABB-4F14-A113-65411FAE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61D1-B71C-4B0C-89EA-5FBC07A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C9B-6591-4649-AA67-CF26DC68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7D72-4483-4E5F-BC6C-CFEEA00B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63F6-D612-47C8-BA35-B0C10D96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BCA-690D-4B85-BBDC-BB1862B5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8ABF-C1FA-4754-BE7A-8EB2EEE2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3CF-400B-4BD0-9E23-1ED60590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9397-CECC-46D5-A37D-08F4034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AE0E-0292-4226-8589-047DC0EA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6DFE-444B-4A99-A97D-74FE98E7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7C1C-BB64-447E-A6B2-C3CE9A0E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28AC-369B-43B3-AF33-128DE9FA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837-41BC-4290-A03F-9BE5CF67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8699-A83E-422A-BC77-343D6C52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9AB-59AE-4378-80DF-0EC4987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19C-0327-49B0-9F8F-8308656E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56B-ED34-4DCA-968B-BDB0B50B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790-68A1-4C70-8447-03A49B12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CDB2-DDF2-4D74-97E7-B821C261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CA12-6AED-4A6C-8554-D0488527E6D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D7B-FDEC-4489-8A58-637F7E700BAF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33560" y="3733920"/>
            <a:ext cx="22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b’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&lt;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10920" y="2362320"/>
            <a:ext cx="642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= u  ==&gt; fun f (x : a) : b = e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1676520"/>
            <a:ext cx="2438280" cy="6426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209680" y="2133720"/>
            <a:ext cx="190512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5715000"/>
            <a:ext cx="2895840" cy="916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library func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argument type is (‘a * ‘a list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2133360" y="4876920"/>
            <a:ext cx="990360" cy="761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504960" y="2438280"/>
            <a:ext cx="99036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2438280"/>
            <a:ext cx="838080" cy="198144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5791320" y="4876920"/>
            <a:ext cx="76176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5105520"/>
            <a:ext cx="198144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 lis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3428640" y="4876920"/>
            <a:ext cx="762120" cy="3045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5105520"/>
            <a:ext cx="1981080" cy="36828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imes New Roman"/>
              </a:rPr>
              <a:t>result type is ‘a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=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7-11-26T16:00:56Z</dcterms:modified>
  <cp:revision>43</cp:revision>
  <dc:subject/>
  <dc:title>Type Inference</dc:title>
</cp:coreProperties>
</file>