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803-133E-4DCB-B02A-AF92ECC5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F22-DD6E-4B20-9051-866BC741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3AE-D24F-4566-B0A5-360433D0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FD2F-BE40-425A-95D0-F7C91A50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6D86-9582-472E-9D06-D2516E8E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D72B-3A95-456A-A2A2-0210D360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4127-53A8-425B-AFBB-E2528662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4954-8973-4779-8383-9576B872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57BB-977D-4CA2-BDBF-964B49CA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103D-7931-4CC2-9EBF-EE92A8BF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B00E-490B-4A17-9173-DFF474A2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090B-8D66-41B5-AA8E-52B765C6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4E32-DCA1-4312-9E28-E663F933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1D2B-E898-46FE-96BC-E259FA5F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54D4-4A5B-419D-AFA7-389D0C97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7C5D-6A0A-4473-9A4A-C7B9478F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1CDC-835B-4125-8276-2D5DC42F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582-C8F6-4599-96AB-769A42EF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E51-A1D1-4F1A-89E6-37E32190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A8B-C1C5-4D01-BA0C-74BB2B96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436-811F-4717-8FD8-7444CDAA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B82-D757-44B2-8B25-A80C7CA7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B57-4977-4B08-885D-CC95B620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C3B-89DF-4535-8AE3-764F1472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BE74-3AAC-4C24-8E86-10B6F83AFE79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FB9B-CE2B-4DF5-9CC4-F46080BA8D30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S 44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, map (f, tl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20720" y="160020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4419360" y="2590920"/>
            <a:ext cx="2514600" cy="1828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086240" y="3200400"/>
            <a:ext cx="762120" cy="11430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559560" y="55627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65440" y="55627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791320" y="4952880"/>
            <a:ext cx="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7010280" y="4952880"/>
            <a:ext cx="15264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20720" y="16002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34880" y="5562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2971440" y="4876560"/>
            <a:ext cx="3049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99920" y="160020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80520" y="556272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2590920" y="4876560"/>
            <a:ext cx="4572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099920" y="1600200"/>
            <a:ext cx="177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72320" y="5791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447920" y="4952880"/>
            <a:ext cx="304560" cy="914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91960" y="3429000"/>
            <a:ext cx="1231920" cy="2362320"/>
          </a:xfrm>
          <a:custGeom>
            <a:avLst/>
            <a:gdLst/>
            <a:ahLst/>
            <a:rect l="l" t="t" r="r" b="b"/>
            <a:pathLst>
              <a:path w="776" h="1488">
                <a:moveTo>
                  <a:pt x="200" y="1488"/>
                </a:moveTo>
                <a:cubicBezTo>
                  <a:pt x="100" y="1236"/>
                  <a:pt x="0" y="984"/>
                  <a:pt x="8" y="768"/>
                </a:cubicBezTo>
                <a:cubicBezTo>
                  <a:pt x="16" y="552"/>
                  <a:pt x="120" y="320"/>
                  <a:pt x="248" y="192"/>
                </a:cubicBezTo>
                <a:cubicBezTo>
                  <a:pt x="376" y="64"/>
                  <a:pt x="576" y="32"/>
                  <a:pt x="776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d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01720" y="1600200"/>
            <a:ext cx="188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73840" y="60199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1599840" y="5257800"/>
            <a:ext cx="60948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86200" y="2590920"/>
            <a:ext cx="1879560" cy="3657600"/>
          </a:xfrm>
          <a:custGeom>
            <a:avLst/>
            <a:gdLst/>
            <a:ahLst/>
            <a:rect l="l" t="t" r="r" b="b"/>
            <a:pathLst>
              <a:path w="1232" h="2160">
                <a:moveTo>
                  <a:pt x="0" y="2160"/>
                </a:moveTo>
                <a:cubicBezTo>
                  <a:pt x="308" y="2096"/>
                  <a:pt x="616" y="2032"/>
                  <a:pt x="816" y="1824"/>
                </a:cubicBezTo>
                <a:cubicBezTo>
                  <a:pt x="1016" y="1616"/>
                  <a:pt x="1232" y="1216"/>
                  <a:pt x="1200" y="912"/>
                </a:cubicBezTo>
                <a:cubicBezTo>
                  <a:pt x="1168" y="608"/>
                  <a:pt x="896" y="304"/>
                  <a:pt x="624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101720" y="1606680"/>
            <a:ext cx="18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3:  Solv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8520" y="358128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traint solution provides all possible solutions to type scheme annotations on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95120" y="4114800"/>
            <a:ext cx="15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7432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33560" y="3733920"/>
            <a:ext cx="221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map (f :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x : b’ li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4864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4:  Generate typ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te types from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1: pick an instance of the most general type when we have completed type inference on the entire progra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(int -&gt; int) -&gt; int list -&gt; int list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2: generate polymorphic types for program parts and continue (polymorphic)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All (a,b,c) (a -&gt; b) -&gt; a list -&gt;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Detai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constraints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are sets of equations between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::= {s11 = s12, ..., sn1 = sn2}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g: {b = b’ list, a = b -&gt; c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iticisms of Typed Langua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overly constrain functions &amp; d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olymorphism makes typed constructs useful in more contex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versal polymorphism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istential polymorphism =&gt; rep. independe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btyping =&gt; coming so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clutter programs and slow down programmer productiv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nformative annotations may be omitt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yntax-directed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straint gene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ur algorithm crawls over abstract syntax of untyped expressions and gene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term sche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gorithm defined as set of inference rules (as alway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mple ru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    (same for other int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6960" y="2362320"/>
            <a:ext cx="83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840" y="43750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&lt; e2 : bool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30520" y="236232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{t1 = t2 -&gt; a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10920" y="2362320"/>
            <a:ext cx="642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= u  ==&gt; fun f (x : a) : b = e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 -&gt; b, q U {t = b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(a,b are fresh type variables; not in G, t,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o a system of type constraints is 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ubstitution 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function from type variables to typ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ecause some things get simpler, we assume substitutions are defined on all type variable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a     (for almost all variables a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      (for some type scheme s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m(S) = set of variables s.t. S(a) </a:t>
            </a:r>
            <a:r>
              <a:rPr b="0" lang="en-US" sz="28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iven a substitution S, we can define a function S* from type schemes (as opposed to type variables) to type schem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int) = i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s1 -&gt; s2) = S*(s1) -&gt; S*(s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a) = S(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e to laziness, I will write S(s) instead of S*(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osi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U o S) applies the substitution S and then applies the substitution U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U o S)(a) = U(S(a)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ill need to compare substitu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more specific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less general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mally: T &lt;= S if and only if T = U o S for some U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1: any substitution is less general than the identity substitution I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&lt;= I because S = S o 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int, S(b) = c -&gt;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(a) = int, T(b) = int -&gt; int, T(c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onclude: T &lt;= 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f T(a) = int, T(b) = int -&gt; bool then T is unrelated to S (neither more nor less gener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of type constraints from unannotated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imply-typed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t ML ye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ving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ype constrai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ierce 22: “Type Reconstruction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a Constrai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|= q if S is a solution to the constraint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83920" y="32004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s1) = S(s2)          S |=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s1 = s2} U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94560" y="3581280"/>
            <a:ext cx="12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828800" y="4571640"/>
            <a:ext cx="763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8760" y="5221440"/>
            <a:ext cx="335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ny substitution 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for the emp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6095880" y="4647960"/>
            <a:ext cx="15264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62160" y="5180040"/>
            <a:ext cx="38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to an equ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is a substitution that mak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eft and right side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Lemma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(b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c) = c    (for all c other than a,b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es not exist (there is no solution to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incip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incipal solutions give rise to most general reconstruction of typing information for a te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a):a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a most general reconstru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int):int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one exists, it will be princip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Unification systematically simplifies a set of constraints, yielding a substitu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ring simplification, we maintain (S,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the solution so fa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are the constraints left to simplif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tains type variables that may be filled in during type infere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::= a | int | bool | s1 -&gt; s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term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is a term that contains type schemes rather than proper typ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 ::= ... | fun f (x:s1) : s2 is e en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 (Remember your homework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occurs check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694920" y="59421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exa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 prove termination, we must demonstrate that every step of the algorithm reduces the size of q according to this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lete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lete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for (S,q) is a substitution T such th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tuition: T  extends S and solve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 for (S,q) is complete for (S,q) a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 all T’ such that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hold, T’ &lt;= 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3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(S,q) -&gt; (S’,q’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complete for (S,q) iff T is complete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principal for (S,q) iff T is principal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’) is final (by defini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principal solution for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nsider any T such that T is a solution to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ow notice, S is principal for (S,q’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principal for (I,q), we know T &lt;= S and therefore S is a principal solution for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91120" y="1676520"/>
            <a:ext cx="2438280" cy="6426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library function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argument type is ‘a li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209680" y="2133720"/>
            <a:ext cx="190512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5715000"/>
            <a:ext cx="2895840" cy="9169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library functio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argument type is (‘a * ‘a list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 list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2133360" y="4876920"/>
            <a:ext cx="990360" cy="7617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504960" y="2438280"/>
            <a:ext cx="990360" cy="19814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2438280"/>
            <a:ext cx="838080" cy="19814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5791320" y="4876920"/>
            <a:ext cx="761760" cy="3045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553080" y="5105520"/>
            <a:ext cx="1981440" cy="3682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 li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3428640" y="4876920"/>
            <a:ext cx="762120" cy="3045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91120" y="5105520"/>
            <a:ext cx="1981080" cy="3682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1:  Add 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4799160" y="2585520"/>
            <a:ext cx="534960" cy="538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4038480" y="2590560"/>
            <a:ext cx="1292400" cy="8413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74360" y="30402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on func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2514600" y="3162240"/>
            <a:ext cx="137160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056840" y="3429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pw</cp:lastModifiedBy>
  <dcterms:modified xsi:type="dcterms:W3CDTF">2007-11-26T16:00:56Z</dcterms:modified>
  <cp:revision>43</cp:revision>
  <dc:subject/>
  <dc:title>Type Inference</dc:title>
</cp:coreProperties>
</file>