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B50-3A40-4723-AD1D-4345FB23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3DC-099E-4D02-A4A6-193A8BCE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E68-C9F5-4E94-830C-A9468B06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E92-26E5-4851-81A6-C19B076B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2A49-EA14-4F71-98BF-39C81CB7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017F-9519-4CF8-AA7F-A6C9EC34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AABD-DEA0-4EDC-97D5-A182D9F6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F21D-77AF-4703-A76E-41A9C4D0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063A-1872-4908-996A-101BF6B6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B37A-B3EE-4F43-A353-C525B05A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7C84-A1EC-4EA0-88DF-E91FE3E9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00B-4719-44EC-B923-8A32D0EC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F6EC-B934-4FDE-BDDA-B7CB1F1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E564-0D19-4402-99EE-B2879621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E7BD-6BA2-4DA1-8B39-5A97F62C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9E9A-4D36-4597-B765-CDB5F6A3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20F9-4D8F-4812-B057-C590E28D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42A-F29B-4C25-9C1A-36C19BF9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B94-3EAE-4B21-BDCE-EA259974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1C5-1E18-47CD-AA5B-7DAE2F79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A79-B0E1-4AAD-8DE1-F7F459EC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AD0-B6FC-43FD-B090-BD4E555D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E16-2D6F-4EFE-B068-AB7A475E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B14-22ED-4811-B288-74D80F3F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19BA-B044-4859-A119-EDFBA399C63A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559F-9685-41E8-A23E-85C5181CEBB2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33560" y="3733920"/>
            <a:ext cx="221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b’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constrai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rep. independ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ming so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yntax-directed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&lt;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10920" y="2362320"/>
            <a:ext cx="642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= u  ==&gt; fun f (x : a) : b = 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(a,b are fresh type variables; not in G, t,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, T(c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of type constraints from unannotated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imply-typed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 ML y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ing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ierce 22: “Type Reconstruction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8760" y="522144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62160" y="5180040"/>
            <a:ext cx="38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term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is e en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we know T &lt;= S and therefore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91120" y="1676520"/>
            <a:ext cx="2438280" cy="6426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library function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argument type is ‘a li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209680" y="2133720"/>
            <a:ext cx="190512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5715000"/>
            <a:ext cx="2895840" cy="916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library func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argument type is (‘a * ‘a list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 list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2133360" y="4876920"/>
            <a:ext cx="990360" cy="761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504960" y="2438280"/>
            <a:ext cx="990360" cy="19814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2438280"/>
            <a:ext cx="838080" cy="19814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5791320" y="4876920"/>
            <a:ext cx="761760" cy="304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5105520"/>
            <a:ext cx="1981440" cy="368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 li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3428640" y="4876920"/>
            <a:ext cx="762120" cy="304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5105520"/>
            <a:ext cx="1981080" cy="368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7-11-26T16:00:56Z</dcterms:modified>
  <cp:revision>43</cp:revision>
  <dc:subject/>
  <dc:title>Type Inference</dc:title>
</cp:coreProperties>
</file>