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493-02B1-4B54-991B-55DA190C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1EA-DBFF-4603-A253-6D7E4E03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D1E-954B-40D1-84EE-1D42BDAF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B76-F083-4DC3-AA7F-6E6F63F5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4CFD-54FE-425C-A9E6-EF161D62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427E-39A0-4C88-97A4-709B0E4C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FD8C-4E60-480D-BDC6-22FE79A0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FAD9-F8CF-406A-9634-F0359477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A4C4-F422-4FBE-A179-4C7A5888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04CD-1D8C-4CE2-A989-C77FFA9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373C-105A-45FB-B3FE-3DDA654F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3F3-3E90-4595-94EA-97558580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793C-182C-452A-8E3D-76C242C1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131C-E62D-4B88-B996-A8B3EC04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A3E6-5C95-48A0-9E3F-40EEB303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1452-BF4E-4600-8DC7-70830E92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4100-1EF8-412D-87AB-2E1EC661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929-536E-44AA-83DD-9B4E4742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975-1BB4-40FA-8823-E935231E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189-0D3D-4156-ABA2-D7006ACD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A49-DC1C-4F43-8DDB-D60474D8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EE3-1D3A-4518-B3CF-F3C12323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032-91DB-4506-B4B3-0E6F95C7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BCD-BB0E-485F-9346-254D3EC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E440-8BAC-42E3-9095-64E02FDB0EAB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F31E-7CE7-41E8-AF0C-965F5A4EC6B6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7120" y="4419720"/>
            <a:ext cx="121896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33440" y="3809880"/>
            <a:ext cx="161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dentit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substitu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s m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enera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i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unannotated program, find its type or report it does not type chec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verview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 (equations) from unannotated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equa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.  Wh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since all possible solutions T &lt;= I,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e :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e, at most one type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un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u, there may be many possible types for u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he many possibilities represented using type schem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u has a type t if q has a solu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Remember:  fun f (x) = f x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ule comparis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400" y="4267080"/>
            <a:ext cx="6258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2 ==&gt; e2 : t2, q2        G |-- u3 ==&gt; e3 : t3, q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31760" y="2651040"/>
            <a:ext cx="553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e1 : bool          G |-- e2 : t          G |--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e1 then e2 else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648320" y="2286000"/>
            <a:ext cx="22096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400800" y="2438280"/>
            <a:ext cx="457200" cy="212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56560" y="1371600"/>
            <a:ext cx="18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implicit equalit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asy 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 can’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486040" y="5425920"/>
            <a:ext cx="15238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324120" y="5578560"/>
            <a:ext cx="685800" cy="2887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09920" y="4511520"/>
            <a:ext cx="221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quality harder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2, t3 ca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hat may be furth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strained elsewher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5240" y="48769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60520" y="478476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03120" y="1828800"/>
            <a:ext cx="3198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Does this type check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...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50960" y="396864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It depen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2600" y="35053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60520" y="342900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bool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20680" y="2133720"/>
            <a:ext cx="472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But remember, it was easy to chec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when types were declared in advance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 |= q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iff  applying S makes left- &amp; right-hand sid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of each equation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solution S is better than T if it is “more general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uition: S makes fewer or less-defined substitutions (leaves more variables alone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S if and only if T = U o S for some U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7-11-28T18:14:53Z</dcterms:modified>
  <cp:revision>44</cp:revision>
  <dc:subject/>
  <dc:title>Type Inference</dc:title>
</cp:coreProperties>
</file>