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098-FE27-4DF1-8695-AFF232FA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B37-43F9-4443-9E29-1EC4A92F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43A-8141-4570-823C-2D8A7EA0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379-1657-4B15-B7E6-1451EC12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FD35-D5AA-4EA2-9A20-6865FFA7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A1D6-036C-433E-80BE-C40989D0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8AEA-BDF8-4432-A67D-E0FA7539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2C3A-2DB3-4D34-AC53-17434E32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4DFF-87A8-4A9B-AD81-2DBCA3EB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CAC1-23EF-434F-9BB0-7EDB3A30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7E1A-BD9B-4EE4-94D7-FCB5855A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CEF-57E2-45FA-83C5-6AB7A8A5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2F21-890E-4324-A566-40448A5E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9E7E-5525-4938-ABD7-A26B61A9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D038-690F-4A4B-98EA-E9334249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C6B4-FA34-4555-B2E5-035D29A4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2EE1-D73C-43AC-B083-2D5DBD27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E58-CC88-47DD-8B9C-6739889F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557-90FB-4E9E-951B-9C1A13B0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2BC-D7BA-4A24-9E46-ACABE1F6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24D-0CCF-4625-82DA-4C025456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98C-F499-43E6-BE7F-BA7C576D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8DA-21AE-4787-A729-735BB15A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F13-B4B9-4B43-9780-2C99D315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10E-6C9E-406E-B074-B599EB4A6026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526B-21EB-47E7-A301-C0776F034EB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7120" y="4419720"/>
            <a:ext cx="121896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33440" y="3809880"/>
            <a:ext cx="161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dentit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substitu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s m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enera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i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unannotated program, find its type or report it does not type chec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verview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 (equations) from unannotated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equa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.  Wh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since all possible solutions T &lt;= I,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e :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e, at most one type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un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u, there may be many possible types for u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he many possibilities represented using type schem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u has a type t if q has a solu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Remember:  fun f (x) = f x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ule comparis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400" y="4267080"/>
            <a:ext cx="6258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2 ==&gt; e2 : t2, q2        G |-- u3 ==&gt; e3 : t3, q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31760" y="2651040"/>
            <a:ext cx="553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e1 : bool          G |-- e2 : t          G |--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e1 then e2 else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648320" y="2286000"/>
            <a:ext cx="22096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400800" y="2438280"/>
            <a:ext cx="457200" cy="212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56560" y="1371600"/>
            <a:ext cx="18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implicit equalit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asy 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 can’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486040" y="5425920"/>
            <a:ext cx="15238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324120" y="5578560"/>
            <a:ext cx="685800" cy="2887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09920" y="4511520"/>
            <a:ext cx="221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quality harder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2, t3 ca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hat may be furth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strained elsewher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5240" y="48769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60520" y="478476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03120" y="1828800"/>
            <a:ext cx="3198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Does this type check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...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50960" y="396864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It depen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2600" y="35053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60520" y="342900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bool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20680" y="2133720"/>
            <a:ext cx="472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But remember, it was easy to chec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when types were declared in advance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 |= q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iff  applying S makes left- &amp; right-hand sid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of each equation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solution S is better than T if it is “more general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uition: S makes fewer or less-defined substitutions (leaves more variables alone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S if and only if T = U o S for some U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7-11-28T18:14:53Z</dcterms:modified>
  <cp:revision>44</cp:revision>
  <dc:subject/>
  <dc:title>Type Inference</dc:title>
</cp:coreProperties>
</file>