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9D1-B144-4CDE-B816-F68793F5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D10-E0B1-465B-A2C4-F22AD7B7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B7C-D844-401F-8244-05675D09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E25-74EF-422E-B1F7-12FBAF25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CCD8-EDBB-4E55-9079-4CC86CB6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7109-8E50-4C9A-9114-0B766F02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8F5C-A314-447E-95D1-6318AE0D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71A0-F408-42AB-A80D-04AD56AE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5754-14B2-4E5B-A918-83046C68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B7EB-9B2B-40D2-AF48-F2D7C7BD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11EA-5AA6-495F-87CA-804F08FB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3BD-40BB-4B25-B91C-7340A3EF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EFE0-C13A-40B9-9698-98FEAD49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3364-DC7D-4DC0-A58C-91E659CD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0B44-6A52-44BE-B144-3ABCB09B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5CFF-EFD7-405B-B6A7-857106FF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B6E6-2F14-41B3-A15B-506D0280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1AA-8D98-4F90-99FF-FEEA2421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80F-1102-41B4-A34C-C918AB5C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1B5-FE70-4C8B-8093-F764B78E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70D-2BF5-4E17-9B8C-3956332B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53C-C667-4B0A-9714-15853B89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6B3-8825-44A6-829C-1D16FD8C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7AC-33B4-41BA-A181-0F47332A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3FE3-AE92-4F49-B0BD-C1BFCB770D05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939E-C901-4215-AC8D-D1CD7089FEDE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I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S 44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7120" y="4419720"/>
            <a:ext cx="121896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33440" y="3809880"/>
            <a:ext cx="161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identit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substitu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is mo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enera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i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unannotated program, find its type or report it does not type chec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verview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 (equations) from unannotated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equatio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.  Why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since all possible solutions T &lt;= I,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ing rules for annotated program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G |-- e :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Note: given G and e, at most one type 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ing rules for unannotated program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Note: given G and u, there may be many possible types for u;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the many possibilities represented using type schem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u has a type t if q has a solutio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Remember:  fun f (x) = f x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ule comparis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9400" y="4267080"/>
            <a:ext cx="6258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 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u2 ==&gt; e2 : t2, q2        G |-- u3 ==&gt; e3 : t3, q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31760" y="2651040"/>
            <a:ext cx="553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e1 : bool          G |-- e2 : t          G |-- e3 :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G |-- if e1 then e2 else e3 : 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648320" y="2286000"/>
            <a:ext cx="2209680" cy="441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400800" y="2438280"/>
            <a:ext cx="457200" cy="2127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56560" y="1371600"/>
            <a:ext cx="18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implicit equality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easy to implemen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because t can’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tain variabl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5486040" y="5425920"/>
            <a:ext cx="1523880" cy="4413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324120" y="5578560"/>
            <a:ext cx="685800" cy="2887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09920" y="4511520"/>
            <a:ext cx="221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equality harder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to implement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because t2, t3 can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tain variables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that may be further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imes New Roman"/>
              </a:rPr>
              <a:t>constrained elsewher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-local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5240" y="4876920"/>
            <a:ext cx="353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x + 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60520" y="4784760"/>
            <a:ext cx="34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+ (if y then 3 else 4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03120" y="1828800"/>
            <a:ext cx="3198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Does this type check?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...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50960" y="396864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It depends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on-local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2600" y="3505320"/>
            <a:ext cx="353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x + y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60520" y="3429000"/>
            <a:ext cx="3400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f (x:int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un g (y:bool) =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if true then x else y,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x + (if y then 3 else 4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20680" y="2133720"/>
            <a:ext cx="472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But remember, it was easy to chec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ahoma"/>
              </a:rPr>
              <a:t>when types were declared in advance: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 |= q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    iff  applying S makes left- &amp; right-hand sid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of each equation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solution S is better than T if it is “more general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uition: S makes fewer or less-defined substitutions (leaves more variables alone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T &lt;= S if and only if T = U o S for some U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dpw</cp:lastModifiedBy>
  <dcterms:modified xsi:type="dcterms:W3CDTF">2007-11-28T18:14:53Z</dcterms:modified>
  <cp:revision>44</cp:revision>
  <dc:subject/>
  <dc:title>Type Inference</dc:title>
</cp:coreProperties>
</file>