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2EB-F28B-41F1-9A05-195CCAF6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1D9-BC5C-4F25-90A8-D4C3397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65E-4E61-4212-B0DF-68FA712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0F1-2C06-4F0F-8B86-2D840052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1D8B-D860-480C-AE2E-702CA429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6C5-FA75-4756-8838-97A9FE7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9F8A-2AA8-486D-83D6-0401B3F6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215-776D-4B09-9B0D-A0D5877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A959-12E1-4F98-AEFF-052CCEE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A6EC-327A-43C6-8AEA-E04C948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5474-534F-47F0-BD9D-B741BDF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CDB-1C6A-48C1-B7CA-C59DD4E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A028-C0AF-444B-8B24-F843F610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000F-3EBB-4E1F-BF21-4DD453F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8A7-75CA-4411-BCC0-2B66604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0EE-9E05-4D86-BB9E-D1FEA5DF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319A-B106-433F-AB4D-C05A5FC8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A2F-9BA6-45E8-A9CA-97A8F0F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EBF-D419-422D-B4AE-F6710C5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F55-402D-4A7A-BA96-9299333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98D-B0EF-4C19-9DC9-E571A04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7B7-B332-4622-8AE5-3EF8E0F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226-3DD3-4F1C-9111-E5207E9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1C3-7A9F-43DF-87D9-F3CA149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D7E-0C77-4F8A-BB4F-D29318F00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779B-FA42-4E66-9952-D800199A6C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- 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94040" y="251460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22400" y="48769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74600" y="5791320"/>
            <a:ext cx="95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342440" y="22860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090440" y="4800600"/>
            <a:ext cx="1133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-1090440" y="2133720"/>
            <a:ext cx="1133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may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47242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570960" y="4724280"/>
            <a:ext cx="109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80200" y="251460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80200" y="2514600"/>
            <a:ext cx="67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4600" y="4711680"/>
            <a:ext cx="58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640" y="4071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06080" y="2514600"/>
            <a:ext cx="43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-55440" y="2133720"/>
            <a:ext cx="1023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9600" y="27432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028520" y="1905120"/>
            <a:ext cx="786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: {name = “george”, age = 35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put things together in a more complex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8200" y="190512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84680" y="32004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-84960" y="4572000"/>
            <a:ext cx="859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the source files for the 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992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Fo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old f init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l =&gt; i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x :: l =&gt; f (x, fold f init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es function f (x, y) on the elements of l and the result from previous application recurs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sum (x, y) = x +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oldr sum 0 [1,2,3,4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it = 10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864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112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7560" y="3733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1120" y="3886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9940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9484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7488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7680" y="2362320"/>
            <a:ext cx="49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960" y="238140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8880" y="574848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50920" y="582444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-132120" y="312408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364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484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152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7228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5336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-503280" y="3276720"/>
            <a:ext cx="511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5960" y="363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5600" y="592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0240" y="584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2280" y="462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664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396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4400" y="485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9504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6T15:11:29Z</dcterms:modified>
  <cp:revision>56</cp:revision>
  <dc:subject/>
  <dc:title>Introduction to ML</dc:title>
</cp:coreProperties>
</file>