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7BB-C53E-4284-9E9D-E33F175D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129-85FB-4981-BA49-7302B50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D1E-29F3-4572-AC60-99FD7E60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5C7-D4A5-4EDD-A39E-EFD745A0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81F5-03D5-4AE2-B5F5-E1019503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18F4-E3DC-4A11-A59E-F0431B6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C7DF-AD47-476E-B0C7-46C5FF6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3DEE-04AF-46F5-BE88-DB90E81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8E0A-8888-4BCD-B60C-88288BD1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9E3-1EA7-48F1-A346-23D57E3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3DC6-16A6-42A7-8F7E-D10F4B5D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E9C-7617-4510-BFCE-670AC63E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997-7B81-422B-8656-9B326BB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A9F2-515A-43E6-9827-1D3F519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3EFC-CA06-439F-80C1-6B978779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2E25-7506-4178-8F6F-2ACD29BB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C7C0-000C-4495-AC84-7B357F2B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878-8883-40DB-989F-D5C7E4E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4C34-85E0-47AA-983B-4A61569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60F-C9CF-47C9-BC7A-B602BAC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6BC-D50C-466E-93B6-1880D822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0CF-5F2D-4D68-ACF1-31A65C4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ECD-8655-40A6-A4CE-D1A766C3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119-3EBB-4429-9014-B9BB8DC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655-E5F5-4D4E-A4A9-CE6D6363D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0C93-4155-4ABC-8B49-1EB3489A57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 - 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ny Zh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094040" y="251460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22400" y="487692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174600" y="5791320"/>
            <a:ext cx="95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1342440" y="22860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_ =&gt;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1090440" y="4800600"/>
            <a:ext cx="1133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-1090440" y="2133720"/>
            <a:ext cx="11336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may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47242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535400" y="25146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570960" y="4724280"/>
            <a:ext cx="109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,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80200" y="251460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80200" y="2514600"/>
            <a:ext cx="676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74600" y="4711680"/>
            <a:ext cx="585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9640" y="407196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306080" y="2514600"/>
            <a:ext cx="438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-55440" y="2133720"/>
            <a:ext cx="10239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59600" y="274320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028520" y="1905120"/>
            <a:ext cx="786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s: {name = “george”, age = 35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put things together in a more complex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58200" y="190512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84680" y="32004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-84960" y="4572000"/>
            <a:ext cx="859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200" y="1905120"/>
            <a:ext cx="40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5840" y="32004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the source files for the interpre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992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on lists: Fo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5042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 fold f init l 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l =&gt; i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 x :: l =&gt; f (x, fold f init 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es function f (x, y) on the elements of l and the result from previous application recursiv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un sum (x, y) = x +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oldr sum 0 [1,2,3,4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 it = 10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864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112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37560" y="3733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31120" y="3886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99400" y="533412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9484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74880" y="53341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7680" y="2362320"/>
            <a:ext cx="49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29960" y="238140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48880" y="574848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250920" y="582444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-132120" y="312408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364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484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61520" y="3809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7228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53360" y="518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-503280" y="3276720"/>
            <a:ext cx="511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95960" y="363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667400"/>
            <a:ext cx="8161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5600" y="592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950240" y="5848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2280" y="462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6640" y="365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2200" y="3581280"/>
            <a:ext cx="94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13960" y="3657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4400" y="4857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9504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419360" y="27432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14600" y="5257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068920" y="3309840"/>
            <a:ext cx="34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5520" y="22431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274320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43360" y="2286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8360" y="5900760"/>
            <a:ext cx="60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Kenny Zhu</cp:lastModifiedBy>
  <dcterms:modified xsi:type="dcterms:W3CDTF">2007-09-26T15:11:29Z</dcterms:modified>
  <cp:revision>56</cp:revision>
  <dc:subject/>
  <dc:title>Introduction to ML</dc:title>
</cp:coreProperties>
</file>