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29A-06D5-44B8-8010-3BBAE55F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215-09A5-47DA-9040-939E93F6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7F3-EF8F-4ABC-8546-B0959618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A32-4929-4831-A928-2FFED747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BFE-F363-41F0-9C9A-F4AB0BD3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D217-C547-4D96-BCC2-9109233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84BE-853D-480E-98CA-716D9B7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9FB5-5EE8-4E53-8E3E-CC8843D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02B-C473-456A-B153-7AE0044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CA00-AC47-4827-8C66-143A6299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6924-0AEE-472D-A158-B37C557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F55-3B7C-4321-AE23-D19F3C9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2708-2005-4308-A630-1B5D2A5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C0D-B369-4D18-A33F-B26DEE8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8DCC-FF0B-41D3-AEF6-26DF293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66FF-8E05-41D0-957B-A4032A41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B667-93C2-4B46-9B14-C96F2D0B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46F-105C-4CA8-BE69-DA7A207E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375-E98A-4606-A966-834AF46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BE9-F008-40D8-A2F9-73C7B6E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7D3-CD54-46AF-8DE9-FE9E0F5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E70-7A41-4EF3-93FF-CBC6F38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62D-FBA4-45B1-9568-BD57100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66E-561A-41F7-AC87-10E4CB2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3F28-F08C-4778-9E6E-E7AF675C2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4E82-4C94-4597-B85F-19250F235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- 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94040" y="251460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22400" y="48769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74600" y="5791320"/>
            <a:ext cx="95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342440" y="22860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090440" y="4800600"/>
            <a:ext cx="1133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-1090440" y="2133720"/>
            <a:ext cx="1133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may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47242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570960" y="4724280"/>
            <a:ext cx="109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80200" y="251460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80200" y="2514600"/>
            <a:ext cx="67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4600" y="4711680"/>
            <a:ext cx="58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640" y="4071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06080" y="2514600"/>
            <a:ext cx="43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-55440" y="2133720"/>
            <a:ext cx="1023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9600" y="27432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028520" y="1905120"/>
            <a:ext cx="786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: {name = “george”, age = 35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put things together in a more complex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8200" y="190512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84680" y="32004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-84960" y="4572000"/>
            <a:ext cx="859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the source files for the 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992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Fo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old f init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l =&gt; i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x :: l =&gt; f (x, fold f init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es function f (x, y) on the elements of l and the result from previous application recurs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sum (x, y) = x +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oldr sum 0 [1,2,3,4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it = 10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864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112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7560" y="3733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1120" y="3886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9940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9484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7488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7680" y="2362320"/>
            <a:ext cx="49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960" y="238140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8880" y="574848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50920" y="582444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-132120" y="312408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364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484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152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7228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5336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-503280" y="3276720"/>
            <a:ext cx="511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5960" y="363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5600" y="592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0240" y="584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2280" y="462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664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396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4400" y="485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9504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6T15:11:29Z</dcterms:modified>
  <cp:revision>56</cp:revision>
  <dc:subject/>
  <dc:title>Introduction to ML</dc:title>
</cp:coreProperties>
</file>