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1621-9572-4341-B5A9-2EE29DD60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02C7-4356-41DC-AD4A-3E285C63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A68B-7E9A-4606-B38C-D9A518B6A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C30C-3CD8-4E57-AE72-FF0EEFD92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3854-8BA4-4C34-99C4-E20993D3D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9AA4-E7A3-4640-B3DF-A2FCDB50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5FF7-6C3E-4AE2-8D7C-AEB4BDBD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C33F-B468-4CAC-86CE-CADB1A5C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2DBC-C4ED-444B-863D-6204B121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9DD9-BEB6-4AD5-9EFA-F26325DE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1B66-FC64-4695-AC8E-0B1192DF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F80B-0843-49CE-BF28-1E5173F5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578D-7BC3-49BA-A9FA-727AC939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9F2E-F136-4B02-ABCE-C2435CB0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D825-7E53-4C28-8426-2F4F50D4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FEA2B-E084-4931-8147-E6F6029A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24AB-D501-4F3F-A69C-1967CC772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8FC0-4436-4D24-B4B0-2708E553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4288-26B7-477B-80F8-FC0AF7CB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14E2-EBF6-4CB0-85F9-78566968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48D5-9F78-439F-9C8F-F930A0D9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DA15-2A3F-4166-BB48-847A0E15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EF20-097D-469D-A4C3-ED41D5E6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4E1B-211E-4732-AE4D-EDA6FE85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93DC-04B0-42A3-BA3F-45141BF666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42D1-4E0E-45AD-966F-8893C41AC7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s.princeton.edu/courses/archive/fall07/cos441/assignments/a2.ht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ML – Part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nny Zh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 f (x, y) = x *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 f x y = x * y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curried fo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n (x:int, y:int) :int =&gt; x *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 f = fn x y =&gt; x *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 f pat_1 = exp_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 f pat_2 = exp_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 f pat_3 = exp_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 f _ = exp_de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Useful Expres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x&gt;0 then x-1 else x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se num o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 x -&gt; x div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 Real y -&gt; y / 2.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xpr_1; expr_2; …; expr_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ise SomeException “Fatal Error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_expr handle SomeExpection s =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nt 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en your program grows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ve mode is a good way to start learning and to debug programs, bu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 in a series of declarations into a “.sml”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use “foo.sml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opening foo.sml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804560" y="51213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ist of decla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ith their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971800" y="5562720"/>
            <a:ext cx="23623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rger Proj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L has its own built in interactive “mak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automatically does the dependency analysis for yo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razy makefile syntax to lea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difficult to interact with other languages or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ation Manag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2133720"/>
            <a:ext cx="15238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2438280"/>
            <a:ext cx="762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2438280"/>
            <a:ext cx="8384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57800" y="2438280"/>
            <a:ext cx="838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3352680"/>
            <a:ext cx="7925040" cy="35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% s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S.FileSys.chDir “~/courses/510/a2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M.make(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looks for “sources.cm”, analyzes depend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[compiling…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compiles files in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[wrote…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saves binaries in ./C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CM.make’ “myproj/”(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specify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1752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s.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19810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14800" y="19810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19810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.s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2209680"/>
            <a:ext cx="13716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.s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04776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27672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742840" y="5791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4419720" y="6324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ML/NJ Dem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ignment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princeton.edu/courses/archive/fall07/cos441/assignments/a2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e next Monday (Oct 1s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ecture: some basics on the SML language and how to interact with the SML/NJ run tim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lecture: implement more complex system using S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bert Harper’s “Programming in Standard M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ter Lee’s “Notes on using SML/NJ system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L/NJ Basis Libr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www.standardml.org/Basis/index.htm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course webpage for pointers and info about how to get the softwa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ndard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ML is a general-purpose functional programming language with type checking and type i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phasizes applications of functions, not state changes and mutable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 data stru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ory management like Ja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rojects with many modu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ced type system for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L Highligh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nteractiv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in expre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e and print res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 into binary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trongly-typ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expression has a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as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rtain errors cannot occu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ymorphic types provide 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L Highligh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High-level programming fea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tern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table data discoura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and fun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types and expres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: 3+5, 2*6, 100 div 2, 2-5, ~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: 3.1415, 100.0/3.0, ~1.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r: #”!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ing “abc”, “hello” ^ “ “ ^ “world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ol: true, false, (5&gt;6), (3&lt;&gt;4), a andalso b, c orelse 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t: 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ple: (“george”, 3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rd: {name = “george”, age = 35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::(2::(3::(4::nil))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::2::3::4::n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::2::3::4::[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::2::nil)@(3::4::ni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1,2,3,4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::2::[3,4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cla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x =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val a = 4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b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+ b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succ x = x +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SomeException &lt;of string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complex_num = (real * re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n = (3.0, 5.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type number = Int of int | Real of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n1 = Real ~8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8:39:45Z</dcterms:created>
  <dc:creator>Student Computing Services</dc:creator>
  <dc:description/>
  <dc:language>en-US</dc:language>
  <cp:lastModifiedBy>Kenny Zhu</cp:lastModifiedBy>
  <dcterms:modified xsi:type="dcterms:W3CDTF">2007-09-24T20:17:40Z</dcterms:modified>
  <cp:revision>53</cp:revision>
  <dc:subject/>
  <dc:title>Introduction to ML</dc:title>
</cp:coreProperties>
</file>