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D02-015E-40E0-8CD4-47465C31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839-B90D-468E-A907-5DA3C2C8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6D0-4E8C-4D4D-A402-2A11F91D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117-AED8-42BF-AFD5-DD126666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6D42-7222-4068-8B32-A3CBA93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BB89-3A3E-4337-86AD-A8F47E34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D4C0-0960-4763-A1B6-2F3F6682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64E5-5D04-4488-AA82-CA810DC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090-61BF-4026-9733-1189305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3EFA-14F4-4BE5-9910-74915CB9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BD5A-7F38-4169-AB5A-AAC3C79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8D5-D11E-465B-AE18-4B8067D5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FDD-DA97-4CC6-8220-3B6433C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9DF3-6A12-4868-8C7B-09923A3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B839-FF8F-4C4D-BBD2-F1D0898E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38B7-4D06-43B6-89AF-2AB1BA96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B6B-40B2-4938-B621-3381DB40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200-C184-4DDF-9C42-81FFCCC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6B8-E332-4D1C-A0E4-C1B84D50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C97-7C0D-47C5-BCF5-2C35152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FDB-07AE-4F18-B798-A4C8E7D8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F32-48B7-4626-A575-697F4E6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70C-3159-4EB7-9350-FF8E4162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E0F-9622-41E3-A6DD-DDD0C93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F2D-216A-470A-8594-23EEFA9AE2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729-D4B6-4737-B9F6-E0DA50F4D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fall07/cos441/assignments/a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– 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ny Z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(x, y) =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x y = x *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urried fo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n (x:int, y:int) :int =&gt;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f = fn x y =&gt;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pat_1 = exp_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pat_2 = exp_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pat_3 = exp_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_ = exp_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Useful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x&gt;0 then x-1 else x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num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x -&gt; x div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Real y -&gt; y / 2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pr_1; expr_2; …; expr_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se SomeException “Fatal Erro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_expr handle SomeExpection s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your program grow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804560" y="51213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352680"/>
            <a:ext cx="79250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L/NJ 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princeton.edu/courses/archive/fall07/cos441/assignments/a2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next Monday (Oct 1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cture: some basics on the SML language and how to interact with the SML/NJ run tim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lecture: implement more complex system using S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ert Harper’s “Programming in Standard M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er Lee’s “Notes on using SML/NJ syste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L/NJ Basis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standardml.org/Basis/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ML is a general-purpose functional programming language with type checking and type i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hasizes applications of functions, not state changes and mutabl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data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and print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 into binary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as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and fun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types and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: 3+5, 2*6, 100 div 2, 2-5, ~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: 3.1415, 100.0/3.0, ~1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: #”!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 “abc”, “hello” ^ “ “ ^ “worl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: true, false, (5&gt;6), (3&lt;&gt;4), a andalso b, c orel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: 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: (“george”, 3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: {name = “george”, age = 35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(2::(3::(4::nil)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3::4::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3::4::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::2::nil)@(3::4::n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,2,3,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[3,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x =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a = 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b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+ 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ucc x =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SomeException &lt;of string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omplex_num = (real * r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(3.0, 5.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number = Int of int | Real of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1 = Real ~8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Kenny Zhu</cp:lastModifiedBy>
  <dcterms:modified xsi:type="dcterms:W3CDTF">2007-09-24T20:17:40Z</dcterms:modified>
  <cp:revision>53</cp:revision>
  <dc:subject/>
  <dc:title>Introduction to ML</dc:title>
</cp:coreProperties>
</file>