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2BD-306E-433A-835E-B886042C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696-68AA-4F1E-B5C3-66E5203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DA6-F6A2-4E27-AF1E-0F2A9FB8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046-4DF6-45C4-8A21-D1D40806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DF78-E1A3-4783-BD81-CB3F9F33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913-C107-4101-8917-62B6E1E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C0B0-0DB1-443A-AEE9-F7C79BEC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3F83-556B-46EB-B8B5-FA1B08B9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6F36-8C50-4BF4-B03D-9C8BE712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31D1-8645-497E-BE8D-AE39089A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62FB-2343-47A0-9C3F-1D5BE8D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528-8DCF-4F28-9D27-470F01EA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002-5116-45CB-8045-AF6D9D5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CAC-1250-4DB4-9CB4-DBD0B09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3755-165E-43CD-9C0E-3BD616A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6B5-B862-4D22-8DDE-85FED25A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227F-7555-4118-A37F-388BFE26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41B-8D5B-4E7A-A735-10624F2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6D2-A802-4A0C-B09F-B9570392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9804-60B6-4EAF-9894-31EF7D72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236-8435-4544-9BAD-A3B5E787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2D3-3573-4047-A854-E021389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6F4-BBC3-4D5D-BF65-0C192C8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22E-E6D2-45C2-852E-4F60D5F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753-6429-4903-BE84-03186D8AF8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A24D-525D-4957-AA13-7C7AC6A52E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fall07/cos441/assignments/a2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– 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(x, y) =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x y = x * 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urried fo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n (x:int, y:int) :int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 f = fn x y =&gt; x *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 f pat_1 = exp_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2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pat_3 = exp_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f _ = exp_de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Useful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x&gt;0 then x-1 else x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num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 x -&gt; x div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Real y -&gt; y / 2.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xpr_1; expr_2; …; expr_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se SomeException “Fatal Error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_expr handle SomeExpection s =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your program grow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804560" y="51213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352680"/>
            <a:ext cx="79250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L/NJ 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princeton.edu/courses/archive/fall07/cos441/assignments/a2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next Monday (Oct 1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ecture: some basics on the SML language and how to interact with the SML/NJ run tim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lecture: implement more complex system using S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ert Harper’s “Programming in Standard M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er Lee’s “Notes on using SML/NJ syste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L/NJ Basis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www.standardml.org/Basis/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ML is a general-purpose functional programming language with type checking and type i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hasizes applications of functions, not state changes and mutabl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data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 type system for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and print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 into binary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as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Highli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and fun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types and expr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427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: 3+5, 2*6, 100 div 2, 2-5, ~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: 3.1415, 100.0/3.0, ~1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: #”!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ng “abc”, “hello” ^ “ “ ^ “worl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l: true, false, (5&gt;6), (3&lt;&gt;4), a andalso b, c orel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: 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: (“george”, 3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: {name = “george”, age = 35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(2::(3::(4::nil))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3::4::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::2::nil)@(3::4::ni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,2,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::2::[3,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la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x =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a = 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b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+ 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ucc x =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SomeException &lt;of string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omplex_num = (real * r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(3.0, 5.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number = Int of int | Real of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1 = Real ~8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4T20:17:40Z</dcterms:modified>
  <cp:revision>53</cp:revision>
  <dc:subject/>
  <dc:title>Introduction to ML</dc:title>
</cp:coreProperties>
</file>