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FFF-2413-493E-B651-68BF7187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353-4749-47D0-900B-F4A23A80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0DB-0303-4F66-B8C4-8D55AFD4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3B1-4EF2-4FB1-977B-BF1D48C0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F15-194E-4E5F-86D0-29FE93FA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6EF-A199-4AC8-8CEF-0C035F37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5E0-F125-4BBF-B723-4273F585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88D-1A4F-401D-B8A5-B1C509CF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47A-0DC8-4B6D-BB9B-C68A3368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19B-8259-4359-B5A9-818616BB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526-AB7B-4B55-8594-9F5B4BA8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E9B-4E53-47FA-ACC5-DD8F0613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1F69-5DAB-43F9-8C45-C7D60D999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\x.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= \fst.\sec.\bool. bool fst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= \p. p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= \p. p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st (\bool. bool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bool. bool tru fls)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primary evalua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98960" y="45100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5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is given inductiv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\y.t’ [t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x) [y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 in the body of (\x. x) refers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itution should not replace th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z) [x/z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\x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 in the body of (\x. z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ubstitution, it does refer to the arg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substitution properly, we must be able to calculate the free variables precis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t) = FV(t) /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t1 t2) = FV(t1)  U  FV(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!  But the definition is not exhau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ase for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s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 are unimportant (as far as the meaning of the computation go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L, there is no differenc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x =&gt;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y =&gt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rea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x.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y.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f they are (absolutely and totally) indistinguishable so we can always use one in place of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we will adopt the convention that terms that differ only in the names of bound variables are inter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: \x.t == \y. t[y/x]  (where this is the latest version of substit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name of a bound variable is called alpha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, 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05360" y="3429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18040" y="533412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alpha-equivalent terms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straint can always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d.  We pick y as we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is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52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920" y="274320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     e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5160" y="571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-order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3640" y="36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70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is a language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encode many high-level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,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7960" y="247500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t --&gt; 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6840" y="36576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5-10-03T20:52:02Z</dcterms:modified>
  <cp:revision>9</cp:revision>
  <dc:subject/>
  <dc:title>the lambda calculus</dc:title>
</cp:coreProperties>
</file>