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881-615C-48CA-ACA5-A48A4BA7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83A-316F-46C0-86CB-C71132CE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2F6-6EAF-4F75-832D-4002C39C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782-3EEB-4A82-8AFB-953640AC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2F1-3A74-46BE-B567-78FD773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903-BD36-4AE2-8E20-7FB7360B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FE1-DB31-4DF0-AFFB-CB5553ED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2F2-3F90-4961-9349-2736733A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154-454C-4900-84EB-1FAFD728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AD4-BBB8-4873-B110-5D7C3A6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5C7-82F1-4D42-9326-6FC4088B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132-45C2-43F2-98AA-6BF336A2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D4C6-7DBD-4709-B919-F7CFC85B2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\x.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= \fst.\sec.\bool. bool fst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= \p. p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= \p. p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st (\bool. bool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bool. bool tru fls)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primary evalua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8960" y="4510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5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is given inductiv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\y.t’ [t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x) [y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 in the body of (\x. x) refers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itution should not replace th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z) [x/z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\x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 in the body of (\x. z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ubstitution, it does refer to the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substitution properly, we must be able to calculate the free variables precis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t) = FV(t) /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t1 t2) = FV(t1)  U  FV(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!  But the definition is not exhau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ase for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s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 are unimportant (as far as the meaning of the computation go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L, there is no differenc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x =&gt;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y =&gt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rea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x.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y.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f they are (absolutely and totally) indistinguishable so we can always use one in place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we will adopt the convention that terms that differ only in the names of bound variables are inter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: \x.t == \y. t[y/x]  (where this is the latest version of substit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name of a bound variable is called alpha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,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05360" y="3429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18040" y="533412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alpha-equivalent terms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straint can always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.  We pick y as we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is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52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920" y="274320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     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5160" y="571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-orde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3640" y="36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70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is a language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encode many high-level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,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7960" y="24750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t --&gt; 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6840" y="36576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5-10-03T20:52:02Z</dcterms:modified>
  <cp:revision>9</cp:revision>
  <dc:subject/>
  <dc:title>the lambda calculus</dc:title>
</cp:coreProperties>
</file>