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5F6-4FCB-4C68-B892-C7940C59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897-8D0D-4BF0-9918-A74E9E77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56A-60D1-4431-9268-4DE30B00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A79-9EF7-4948-ACFE-17A728CE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C70D-286C-486A-B174-9D267232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76F5-85F8-43C6-AA09-92FAD8F6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AD91-6EA3-4484-9743-03F25FC0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10AA-DDF0-4440-B082-238F1C39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6545-D9BE-486D-9F18-817BB21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F5D-1192-4830-BA54-1946F97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372E-9964-4EC6-9EC5-E175EB9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31E-99DE-4858-9621-5A17C07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2BAE-CDB7-46FF-AFCE-1EE75D4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38BB-D2C0-411B-94FF-1136F1FC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329E-F72E-40D5-8CF9-5719ABA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D2FC-A1CB-4F1F-B29E-56008A07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B78E-0E35-4B42-AD35-6578043D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DE0-88F5-4CA5-8353-1B53ED64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ECE-C7D8-40BE-8C84-8AF5906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9B1-396D-4770-AC6C-706E0FF3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74F-6EEC-440D-9452-AED58191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BB8-1258-4F7C-AE2E-C81E77A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4B6-599B-43F6-9E38-57050D9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144-7D58-46C5-BB7B-676BF074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653-F63D-4B59-A38B-F46609697C8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A361-2852-4443-AD07-04808ABD9D2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s Course, Now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5-11-28T16:05:14Z</dcterms:modified>
  <cp:revision>39</cp:revision>
  <dc:subject/>
  <dc:title>Type Inference</dc:title>
</cp:coreProperties>
</file>