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BF1-2646-4234-B2EF-23A3499A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2FD-A597-47EC-A75C-1A9FAC50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879-7A18-4A85-B8DF-2011B1E7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E72-AFAD-440B-9CF2-517A53F2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11DE-2DBD-4469-A369-587D70E8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D516-1D2A-47C0-8BBB-C48E78C4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45E1-586A-4864-B82D-6E42F271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51F4-0068-4BB7-B081-250391B6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AC43-3351-4CC5-AB6D-A178DD35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AED9-B601-40B4-8ED6-23446BE2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D48F-839C-440E-B64D-84D4E292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8EE-EC41-4029-B6A1-0D074221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25BF-586B-4CFC-8518-FEAD9CD1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C680-0C9D-40DF-ACD9-117CAFA1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5F7E-AF13-4265-A921-5178E061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DAFA-EEE1-4531-9BD4-F459DD90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2D43-A202-4BBC-A8E1-3E76D9A7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DFE-067A-431D-B463-23489AD3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1F2-E8B0-4952-B8BA-719F32A1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ADD-77D8-4597-BDA5-88F87BC5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0B9-387A-4D30-8F00-92410B3E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82A-9BBD-4874-84FB-23CDD9B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DB1-6FFD-4D00-92B2-C37F9C6E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2B0-2A92-4B5B-8637-433A4A5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7313-E110-428D-92F3-E243052FE2AB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88BE-36AB-4F89-9DC8-95F1E95A4D9D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s Course, Now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19160" y="3733920"/>
            <a:ext cx="212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a -&gt;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a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constrai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yntax-directed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rep. independ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ming so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+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56400" y="2362320"/>
            <a:ext cx="693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is u end ==&gt; fun f (x : a) : b is e 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(a,b are fresh type variables; not in G, t,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, T(c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8760" y="522144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62160" y="5180040"/>
            <a:ext cx="38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ype constraints from unannotated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imply-typ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 ML y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ierce 22: “Type Reconstruction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term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is e en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we know T &lt;= S and therefore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5-11-28T16:05:14Z</dcterms:modified>
  <cp:revision>39</cp:revision>
  <dc:subject/>
  <dc:title>Type Inference</dc:title>
</cp:coreProperties>
</file>