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7A0-3A84-4FFC-90B6-B566F9F7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935-87E4-4E2C-89D9-14496CB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133-051D-4E04-844F-E1E6105F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FC0-2798-4157-8B1A-BE84A58E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EF8-3B2B-4048-A28A-DABFAD46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4FD-85C9-4462-B1D8-04A4A80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384-D692-4A66-B898-31C1773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10D9-A513-4F08-9CC3-12FE5A4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487-7267-4C7C-A912-579D1CC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4AA4-EBAC-4692-A064-E9EBFD03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6A79-F8C5-40DF-BA6D-20C9138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19B-4F33-4D31-BA94-47B2217D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E136-0D54-478A-8F5C-42C2911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D61-7648-4C70-8638-14A7706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F72A-AEC7-4086-8471-ABDEEA1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9976-00FF-473A-9A11-B0E59750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944D-6698-4081-8BF5-25363E1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14D-C4AE-4E42-9D88-84234FB6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272-51C5-4835-AAA7-1CA363A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E16-E9E4-43DB-BCB9-31A92E01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164-78D5-4EEA-92FD-544E930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A52-D7F0-4E29-BFC1-B2692B0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2C3-B785-407E-B1DF-E649131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3B2-1541-43C7-901F-20B3B99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C259-93B4-4B3D-B25D-22A8AC412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50BA-AA58-4267-87A3-81793F56A3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fall05/cos441/assignments/a1.ht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– 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nces Spal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51460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princeton.edu/courses/archive/fall05/cos441/assignments/a1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next Monday (Oc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’ve signed up for the mailing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731600" y="2286000"/>
            <a:ext cx="25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855440" y="2514600"/>
            <a:ext cx="50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 =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(Num t1,Num t2)  =&gt; t1 +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quinas will do a second class on ML on Thurs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ffrey Ullman “Elements of ML Programm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 Harper’s “an introduction to M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Frances Spalding</cp:lastModifiedBy>
  <dcterms:modified xsi:type="dcterms:W3CDTF">2005-09-26T02:12:22Z</dcterms:modified>
  <cp:revision>34</cp:revision>
  <dc:subject/>
  <dc:title>Introduction to ML</dc:title>
</cp:coreProperties>
</file>