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89A-D504-4A9F-8475-0C0E1399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4B6-5A12-4047-92D6-29C033D5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6F7-9BF5-479E-80F6-B7DA5E3F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E85-B048-4765-9C31-73B64BD5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4A3A-69CF-4625-B4B7-1441CCDD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9252-4116-45BD-9BFA-FB064AC7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34EE-8CF4-4DB6-B078-46DA2C65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6D7D-4BA3-44E5-B609-1EDA1FD0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80DB-B921-46A9-9E3B-0DAD348A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58C4-F035-45A0-9983-1C6073C0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05D6-A438-4567-B9ED-FFA70313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8D3F-413C-4B32-AE15-A2FD4194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56A7-AA51-4AE1-8BD8-D5EA417C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A278-4C9D-453E-B5C6-F5B2EBA3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622C-7EE0-4A2B-B164-BA0F19CA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1A75-E193-4A8A-B2CC-A63151FB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BFFD-153C-468A-8DF9-E3B632B4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E16-31B7-4480-AEBC-16E95A49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BB6-B6D0-4307-8190-B650D5C6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5E1-8725-46D2-B1F6-452BDEE8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33D-BD0F-4E71-992E-09267951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DEB-D121-4743-995C-83B609A6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ADC-31DE-413D-A0E2-90ED3F11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752-E237-473B-932B-9BA5E46A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F9C8-3DF5-49C8-92DE-AA5BEC17A9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3F1D-21DD-4034-9256-8E6590F268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princeton.edu/courses/archive/fall05/cos441/assignments/a1.ht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 – Part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nces Spal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domain: int *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nd:             int *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+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449568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div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ure : Di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 run-time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251460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() : un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like “void” in C (sort o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the uninteresting value/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tru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if it then 3+2 else 7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else” clause is always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7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 andalso loop_Forev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lso, or else short-circuit e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4533840"/>
            <a:ext cx="1003320" cy="266760"/>
          </a:xfrm>
          <a:custGeom>
            <a:avLst/>
            <a:gdLst/>
            <a:ahLst/>
            <a:rect l="l" t="t" r="r" b="b"/>
            <a:pathLst>
              <a:path w="632" h="168">
                <a:moveTo>
                  <a:pt x="0" y="24"/>
                </a:moveTo>
                <a:cubicBezTo>
                  <a:pt x="212" y="12"/>
                  <a:pt x="424" y="0"/>
                  <a:pt x="528" y="24"/>
                </a:cubicBezTo>
                <a:cubicBezTo>
                  <a:pt x="632" y="48"/>
                  <a:pt x="628" y="108"/>
                  <a:pt x="624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(if not true then 5 else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0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 division between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stat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“Dave” ^ “ “ ^ “Walker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“Dave Walker” : 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rint “foo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.1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.14 : r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190760" y="28951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ML/N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5321160" y="512136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st of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ei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971800" y="5562720"/>
            <a:ext cx="23623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3352680"/>
            <a:ext cx="792504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looks for “sources.cm”, analyzes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nex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L has a rich set of structured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s: (17, true, “stuff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s: {name = “Dave”, ssn = 332177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 3::4::5::nil or [3,4]@[5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than list all the details, we will write a couple of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 are usually implemented as a series of transform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480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0908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34400" y="373392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53880" y="3886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4736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6080" y="3886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3796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dd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princeton.edu/courses/archive/fall05/cos441/assignments/a1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e next Monday (Oct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you’ve signed up for the mailing 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985680" y="2362320"/>
            <a:ext cx="38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Num of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of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49080" y="2381400"/>
            <a:ext cx="280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capit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ke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ty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191120" y="36576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65480" y="5748480"/>
            <a:ext cx="37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eg: string *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524880" y="31240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the expression “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4320" y="24382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63200" y="25146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37339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636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37339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8340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51055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7660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51055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5804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4771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773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086240" y="30481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225000" y="3276720"/>
            <a:ext cx="366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rue then 0 else 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581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85160" y="36385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4667400"/>
            <a:ext cx="8161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19960" y="4667400"/>
            <a:ext cx="961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438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26200" y="5867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79920" y="592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00840" y="57913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54920" y="5848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59088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8500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162920" y="4114800"/>
            <a:ext cx="11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92480" y="45720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8520" y="46292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64080" y="3581280"/>
            <a:ext cx="708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78400" y="36576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3581280"/>
            <a:ext cx="94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5480" y="365760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15000" y="48006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68720" y="485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079680" y="411480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800240" y="4114800"/>
            <a:ext cx="777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23050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73520" y="23623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30840" y="2819520"/>
            <a:ext cx="60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2503800" y="3309840"/>
            <a:ext cx="26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419360" y="274320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514600" y="5257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503800" y="3309840"/>
            <a:ext cx="26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343040" y="274320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590920" y="5257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817280" y="2514600"/>
            <a:ext cx="403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:term) : 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48800" y="487692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53280" y="57913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does type inference =&gt; you need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e functions yourself (but it can be help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1731600" y="2286000"/>
            <a:ext cx="25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160" y="480060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4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80160" y="2133720"/>
            <a:ext cx="839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ly, ML will give you several errors in a r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1865160" y="2514600"/>
            <a:ext cx="22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6400" y="4724280"/>
            <a:ext cx="75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1855440" y="2514600"/>
            <a:ext cx="50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0 =&gt;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(Num t1,Num t2)  =&gt; t1 +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29440" y="47242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num is not capitalized (and has no argu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ML is a domain-specific language for building compi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data structures (abstract syntax, compiler intermediate for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management like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projects with many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type system for 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1789560" y="251460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789560" y="2514600"/>
            <a:ext cx="49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99640" y="4711680"/>
            <a:ext cx="44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4200" y="4071960"/>
            <a:ext cx="28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888200" y="2514600"/>
            <a:ext cx="322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708560" y="2133720"/>
            <a:ext cx="671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 val v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al t1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v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b =&gt; if b then (eval t2) else (eval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105520" y="380988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90640" y="2743200"/>
            <a:ext cx="265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reme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928520" y="1905120"/>
            <a:ext cx="606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eval v1, eval v2)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um n1, Num n2) =&gt; Num (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(_,_)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1897920" y="1905120"/>
            <a:ext cx="274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571640" y="3854520"/>
            <a:ext cx="2057400" cy="3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78360" y="320040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4800600" y="36576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601920" y="4572000"/>
            <a:ext cx="722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ill be responsible for learning ML on your ow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day I will cover som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quinas will do a second class on ML on Thurs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ffrey Ullman “Elements of ML Programm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ert Harper’s “an introduction to M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 Structur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mpi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type defin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ongly-typ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xpression has a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errors cannot occ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c types provide flex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lexible Modu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er-order modules (functo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teractiv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 in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e and print type and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 as we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igh-level programming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table data discourag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Frances Spalding</cp:lastModifiedBy>
  <dcterms:modified xsi:type="dcterms:W3CDTF">2005-09-26T02:12:22Z</dcterms:modified>
  <cp:revision>34</cp:revision>
  <dc:subject/>
  <dc:title>Introduction to ML</dc:title>
</cp:coreProperties>
</file>