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AE6D1-4CC9-4FAA-83A0-446F2A899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B34DF-DBDE-44BD-AAB8-C3C19D8F4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E807E-011C-434D-A40B-83C302A21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A7307-3092-4A71-9B5C-0AECF5F7A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2876E-F9A0-411F-974C-FF982D0D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A1CA3-55EF-4E4E-8598-2C1DBC7E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3E780-8052-4354-A66A-0821D76B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D8784-2507-47E1-A95C-C651458B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BBD80-F537-4293-B079-5AD049A4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ADC58-ADD4-4EE9-8BB3-1312A00B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80EF6-4F4B-4D00-BBC5-E1343232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CAC1D-4A0C-4F9A-8CCA-0F874D588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49C49-EF45-4593-892F-8078F7FA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70A47-2F25-47A3-8068-D9A1011D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CA8B8-658E-4AF5-B9E5-598E2BE9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37FC9-0A58-4051-9A1E-D02ED24A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8024D-EE42-47BE-A38B-1661F48A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84474-FD41-43B7-AEEB-21C9D8E0F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14662-EEC9-4255-B9C2-7BE1B856C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A4F9C-DA6B-4C80-805B-8F95D8E47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98A0C-BF12-4F09-957F-B7CB2D4AF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2AB6E-5041-4725-AFB5-B123E0A2F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F15E1-6D92-4679-B72F-1F8717ABD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0F319-6E42-4150-8703-78206F58C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85440" y="6400440"/>
            <a:ext cx="77547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848720" y="64008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8B3E-8EF8-4CE3-8C4D-A1F5EDFD60B4}" type="slidenum">
              <a:rPr b="0" lang="en-US" sz="1400" spc="-1" strike="noStrike">
                <a:solidFill>
                  <a:srgbClr val="33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0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f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f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f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f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3202-DDEF-4B34-BFF4-67E569E3835D}" type="slidenum">
              <a:rPr b="0" lang="en-US" sz="1400" spc="-1" strike="noStrike">
                <a:solidFill>
                  <a:srgbClr val="ff9f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95800" y="3581280"/>
            <a:ext cx="625248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Trebuchet MS"/>
              </a:rPr>
              <a:t>COS 597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Trebuchet MS"/>
              </a:rPr>
              <a:t>David Walk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Trebuchet MS"/>
              </a:rPr>
              <a:t>with slides stolen from Andrew Myers, Cornell Universit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66ff99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ec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ornell.edu/home/jgm/cs711sp02/maliciouscode.pdf" TargetMode="External"/><Relationship Id="rId2" Type="http://schemas.openxmlformats.org/officeDocument/2006/relationships/hyperlink" Target="http://www.cs.cornell.edu/home/jgm/cs711sp02/maliciouscode.pdf" TargetMode="External"/><Relationship Id="rId3" Type="http://schemas.openxmlformats.org/officeDocument/2006/relationships/hyperlink" Target="http://www.cs.cornell.edu/home/jgm/cs711sp02/maliciouscode.pdf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eb.mit.edu/Saltzer/www/publications/protection/index.html" TargetMode="External"/><Relationship Id="rId2" Type="http://schemas.openxmlformats.org/officeDocument/2006/relationships/hyperlink" Target="file:///C:/Documents%20and%20Settings/dpw/web/papers/hotos-jeremiad.ps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Security Propertie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ttack sampler #5: insider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verage cost of an outsider penetration is $56,000; average insider attack cost a company $2.7 million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(Computer Security Institute/FBI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63 percent of the companies surveyed reported insider misuse of their organization's computer systems.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(WarRoom Research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ome attacks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Backdoo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ogic bomb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olding data hostage with encryp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programming cash 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ttacks may use legitimately held privileges!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any attacks (90%?) go unreport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48CB9-0CBF-4843-B0A2-A1A6725D81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More attack samplers &amp; vulnerabilities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ake a look at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Attacking Malicious Code: A report to th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Infosec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"/>
              </a:rPr>
              <a:t> Research Counci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ary McGraw and Greg Morrisett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list of recent online attacks and defens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ake a look at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rust in Cyberspa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Fred Schneider edi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ate of security and vulnerability in power grid and communications infrastructu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B038C-1AA5-4F47-913B-03127016CD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Terminolog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Vulnerabilit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eakness that can be exploited in a syste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ttack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ethod for exploiting vulnerabil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reat / Threat mod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 power of the attacker (characterizes possible attack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.g., attacker can act as an ordinary user, read any data on disk, and monitor all network traff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rusted Computing Bas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t of system components that are depended on for secu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ually includes hardware, OS, some software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53730-0EF9-4858-BD2B-A3165CDA01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Who are the attackers?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perator/user blunder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ckers driven by intellectual challenge (or boredom)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nsiders: employees or customers seeking revenge or gai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riminals seeking financial gain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rganized crime seeking gain or hiding criminal activitie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rganized terrorist groups or nation states trying to influence national policy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oreign agents seeking information for economic, political, or military purpose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actical countermeasures intended to disrupt military capability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arge organized terrorist groups or nation-states intent on overthrowing the US government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295280"/>
            <a:ext cx="0" cy="426744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BDDF-4B09-4F26-967D-91A75B0385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What are the vulnerabilities?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oorly chosen password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oftware bugs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checked array access (buffer overflow attack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utomatically running active content: macros, scripts, Java program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Open ports: telnet, mai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correct configur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le permiss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dministrative privileg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ntrained users/system administrato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rap doors (intentional security hole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nencrypted communic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imited Resources (i.e. TCP connection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F13E0-2CA0-4902-B985-F3B48AA72B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What are the attacks?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assword Cracke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Viruses: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LoveYou (VBscript virus), Melissa (Word macro viru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orm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de Red: Port 80 (HTTP), Buffer overflow in IIS (Internet/Indexing Service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rojan Hors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ocial Engineering: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i, this is Joe from systems, I need your password to do an upgrade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acket sniffers: Etherea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nial of service: TCP SYN packet flood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616A-B2F8-4120-8757-663601A6F0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Social engineering attack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4121" t="24110" r="45133" b="42226"/>
          <a:stretch/>
        </p:blipFill>
        <p:spPr>
          <a:xfrm>
            <a:off x="1243080" y="1120680"/>
            <a:ext cx="6781680" cy="522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00D33-7B94-4501-B5AA-4B1C0A651B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Security vs. fault tolerance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ttacks vs. faul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liability community often assumes benign, random faul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ailstop failures = system hal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yzantine failure = system behaves arbitrarily badly (under control of adversary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ttackers go for the weakest link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t doesn’t help to have a $1000 lock on your door if the window is open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7376A-06CB-4B38-9D94-F91338613C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ssumptions and abstractio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rguments for security always rest on assumption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attacker does not have physical access to the hardware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code of the program cannot be modified during execution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sumptions are vulnerabiliti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ometimes known, sometimes no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sumptions arise from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bstrac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curity analysis only tractable on a simplification (abstraction) of actual syste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bstraction hides details (assumption: unimportant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A3B1A-46A6-4BE3-8F8A-B5548D340D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Risk management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st-benefit: high security may be more expensive than benefits obtain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curity measures interfere with intended u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reventing problems may be infeasible, unnecessary; deterrence may be sufficien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move the incentive to attac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ke it easier to attack someone el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ke it too costly to attac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0480" y="293544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59760" y="2552760"/>
            <a:ext cx="17884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200400"/>
            <a:ext cx="3886200" cy="0"/>
          </a:xfrm>
          <a:prstGeom prst="line">
            <a:avLst/>
          </a:prstGeom>
          <a:ln w="7632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3E3CC-AD57-4A30-BA3B-2DCD0C7FB0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Reading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The Protection of Information in Computer Systems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. Saltzer and Schroeder, Section I,A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. 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o these principles still apply today? 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re there more specific principles that apply to systems written in modern programming languages such as Java?  Are there modern systems where we need to take additional precautions?  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Exterminate all operating system abstractions.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awson R. Engler and M. Frans Kaashoek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. 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Is this a good idea from a security perspective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hat is the difference between what the ExoKernel means by "secure" and what an ordinary operating system means by "secure"? 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hat security principles does the ExoKernel abide by or not abide by?  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ould Microsoft want to deliver an ExoKernel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ink of your own controversial question to ask the class.  Come up with an interesting position to defend.  Be ready to discuss on Wednesday. 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2C4F9-FBE8-484D-A709-DBF9074A4C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When to enforce securit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ossible times to respond to security violation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Before execution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alyze, reject, rewri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uring execution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onitor, log, halt, chang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fter execution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oll back, restore, audit, sue, call poli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59720" y="3809880"/>
            <a:ext cx="1531800" cy="142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A449-462A-4451-856B-BE4D80EAF1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olicy vs. mechanism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hat is being protected (and from what) v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How it is being protect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access control, cryptography, …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ant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o know what we need to be protected fro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echanisms that can implement many polici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EA7A8-8C94-43F8-BC63-0EA153681A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What is being protected?</a:t>
            </a: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	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omething with valu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nformation with (usually indirect) impact on real worl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ifferent kinds of protection are needed for different information : ensure different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ecurity properti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nfidential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ntegr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vailabil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28F5A-2CA5-4723-94BD-6ED3EBA559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Integrit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o improper modification of dat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1828800"/>
            <a:ext cx="373356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2400480"/>
            <a:ext cx="2514600" cy="1295280"/>
          </a:xfrm>
          <a:prstGeom prst="rect">
            <a:avLst/>
          </a:prstGeom>
          <a:solidFill>
            <a:srgbClr val="140e60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94640" y="2723760"/>
            <a:ext cx="1164240" cy="649800"/>
          </a:xfrm>
          <a:prstGeom prst="ellipse">
            <a:avLst/>
          </a:prstGeom>
          <a:solidFill>
            <a:srgbClr val="3a5598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2362320"/>
            <a:ext cx="762120" cy="83808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lnTo>
                  <a:pt x="480" y="288"/>
                </a:lnTo>
                <a:lnTo>
                  <a:pt x="144" y="528"/>
                </a:lnTo>
              </a:path>
            </a:pathLst>
          </a:custGeom>
          <a:noFill/>
          <a:ln w="7632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2133720"/>
            <a:ext cx="914400" cy="53316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432" y="0"/>
                </a:moveTo>
                <a:lnTo>
                  <a:pt x="0" y="336"/>
                </a:lnTo>
                <a:lnTo>
                  <a:pt x="576" y="240"/>
                </a:lnTo>
              </a:path>
            </a:pathLst>
          </a:custGeom>
          <a:noFill/>
          <a:ln w="7632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419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.g., account balance is updated only by authorized transactions, only you can change your passwo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tegrity of security mechanisms is cruci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nforcement: access control, digital signatures,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E54B2-069D-4B77-840D-DFD471920C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Confidentialit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rotect information from improper releas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imit knowledge of data or action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.g. D-Day attack date, contract bid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lso: secrec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nforcement: access control, encryption,…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Hard to enforce after the fact…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1751040"/>
            <a:ext cx="373356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2322360"/>
            <a:ext cx="2514600" cy="1295640"/>
          </a:xfrm>
          <a:prstGeom prst="rect">
            <a:avLst/>
          </a:prstGeom>
          <a:solidFill>
            <a:srgbClr val="140e60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94640" y="2646000"/>
            <a:ext cx="1164240" cy="649800"/>
          </a:xfrm>
          <a:prstGeom prst="ellipse">
            <a:avLst/>
          </a:prstGeom>
          <a:solidFill>
            <a:srgbClr val="3a5598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351160"/>
            <a:ext cx="200160" cy="466560"/>
          </a:xfrm>
          <a:custGeom>
            <a:avLst/>
            <a:gdLst/>
            <a:ahLst/>
            <a:rect l="l" t="t" r="r" b="b"/>
            <a:pathLst>
              <a:path w="126" h="294">
                <a:moveTo>
                  <a:pt x="0" y="294"/>
                </a:moveTo>
                <a:lnTo>
                  <a:pt x="126" y="0"/>
                </a:lnTo>
              </a:path>
            </a:pathLst>
          </a:custGeom>
          <a:noFill/>
          <a:ln w="572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9920" y="3103560"/>
            <a:ext cx="752400" cy="324000"/>
          </a:xfrm>
          <a:custGeom>
            <a:avLst/>
            <a:gdLst/>
            <a:ahLst/>
            <a:rect l="l" t="t" r="r" b="b"/>
            <a:pathLst>
              <a:path w="474" h="204">
                <a:moveTo>
                  <a:pt x="474" y="0"/>
                </a:moveTo>
                <a:lnTo>
                  <a:pt x="0" y="102"/>
                </a:lnTo>
                <a:lnTo>
                  <a:pt x="252" y="204"/>
                </a:lnTo>
              </a:path>
            </a:pathLst>
          </a:custGeom>
          <a:noFill/>
          <a:ln w="572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E2ED7-207B-47C2-ACA1-FC79C59982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Privacy, anonymit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lated to confidentialit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rivacy: prevent misuse of personal inform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nonymity: prevent connection from being made between identity of actor and act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Keep identity secr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Keep actions secr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F3F0-DF0B-46EB-A5EB-C77E1A677D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Availabilit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asy way to ensure confidentiality, integrity: unplug computer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vailability: system must respond to reques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3276720"/>
            <a:ext cx="373392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3848040"/>
            <a:ext cx="2514600" cy="1295640"/>
          </a:xfrm>
          <a:prstGeom prst="rect">
            <a:avLst/>
          </a:prstGeom>
          <a:solidFill>
            <a:srgbClr val="140e60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42360" y="4171320"/>
            <a:ext cx="1164240" cy="649800"/>
          </a:xfrm>
          <a:prstGeom prst="ellipse">
            <a:avLst/>
          </a:prstGeom>
          <a:solidFill>
            <a:srgbClr val="3a5598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4191120"/>
            <a:ext cx="762120" cy="609480"/>
          </a:xfrm>
          <a:prstGeom prst="rect">
            <a:avLst/>
          </a:prstGeom>
          <a:solidFill>
            <a:srgbClr val="140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83200" y="4572000"/>
            <a:ext cx="243828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028840" y="4343400"/>
            <a:ext cx="243828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4178160"/>
            <a:ext cx="6094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800600"/>
            <a:ext cx="6094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A1D63-108C-4B58-BD8F-82BAD3E0A9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Nonrepudiatio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bility to convince a third party that an event occurred (e.g., sales receipt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eeded for external enforcement mechanisms (e.g., police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lated to integrit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E13F-3F1B-4985-8D28-63C5E8C224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 Safet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othing bad ever happens” (at a particular moment in time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 property that can be enforced using only history of program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menable to purely run-time enforcemen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ccess control (e.g. checking file permissions on file ope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emory safety (process does not read/write outside its own memory spac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ype safety (data accessed in accordance with typ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55A19-04A1-4005-8298-28DF0BD8FFD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 Livenes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omething good eventually happens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: availabilit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email server will always respond to mail requests in less than one second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Violated by denial of service attack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an’t enforce purely at run time – stopping the program violates the property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actic: restrict to a safety propert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eb server will respond to page requests in less than 10 sec or report that it is overloaded.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27D3B-388A-40B7-97CC-B9AE1F54A2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Outline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hat is computer security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tecting against worms and viruses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king sure programs obey their specifications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ill plenty of security problems even if these problems are solved…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440" y="6208560"/>
            <a:ext cx="79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cknowledgments: Andrew Myers, Steve Zdancewic, Fred Schnei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8F5BD-73E8-4580-AB6A-D496F9B8A4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Security Property Landscape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6" name=""/>
          <p:cNvSpPr/>
          <p:nvPr/>
        </p:nvSpPr>
        <p:spPr>
          <a:xfrm>
            <a:off x="1019520" y="49356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emory safe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71160" y="45370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ype safe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840" y="351936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iscretionary access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9760" y="397656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ference confin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21920" y="488160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vailabil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48680" y="397656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ault Toler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16360" y="585000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Safety propert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2360" y="585000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Liveness propert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4880" y="3062160"/>
            <a:ext cx="36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ndatory access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19720" y="2286000"/>
            <a:ext cx="57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ninterference (confidentiality, integrit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20320" y="16002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iva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21680" y="914400"/>
            <a:ext cx="70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stem does exactly what it should--and no mor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0960" y="53928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emory prote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71080" y="160020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igital righ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22720" y="306216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yzantine Fault Toler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246B0-A521-4464-8A72-41DB5C5773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0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Security Mechanism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Topic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undamental enforcement mechanisms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esign principles for secure system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perating system security mechanism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57C42-86B3-46A9-9D1E-4065ACF7C5B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echanisms: Authenticatio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f system attempts to perform action X, should it be allowed? (e.g., read a file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uthenticatio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uthoriz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thentication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what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incipal p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is system acting on behalf of? Is this an authentic request from p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asswords, biometrics, certificates…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3A344-AF50-43DD-9EFF-B619567B75F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al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 principal is an identity; an abstraction of privileg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cess ui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.g., a user (Bob), a group of users (Model airplane club), a role (Bob acting as president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E2806-C339-4D74-B95D-2274B9F0DC7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echanisms: Authorizatio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427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horization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is principal p authorized to perform action A?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ccess contro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mediates actions by principal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ample: file permissions (ACL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962600" y="2254320"/>
            <a:ext cx="349560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F9735-FA73-4858-9ED2-0D230608553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echanisms: Auditing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r after-the-fact enforcement, need to know what happened: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uditing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udit log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cords security-relevant actions (who, what, when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uthorization + Authentication + Audit = “The gold (Au) standard” : classic systems securit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 fourth kind of mechanism: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rogram analysis and verific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eded for extensible systems and strong security properties… more la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A730E-3C74-44D3-9BDF-8A5E555955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le: Complete Mediatio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mmon requirement: system must have ability to mediate all security-relevant operat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ngerous to assume op is not security-relevant.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ny places to mediate: hardware, compiler, …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sumption: mediation mechanism cannot be compromised (TCB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: operating system call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Kernel interface mediates access to files, memory pages, etc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other way to create/manipulate resourc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problem: covert timing channel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99D9-1843-4D01-9A47-F2376B859F4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le: Minimize TCB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trusted computing base (TCB):  those portions of the system that absolutely must be correct in order for the system to be “secure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bservation: Complex things are more likely not to work correct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nsequence: the TCB should be as small as possi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nsequence: Economy of Mechanism – don’t use three mechanisms when one will d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ings should be made as simple as possible–but no simpler.”                                        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-- A. Einstein</a:t>
            </a:r>
            <a:r>
              <a:rPr b="0" lang="en-US" sz="2000" spc="-1" strike="noStrike">
                <a:solidFill>
                  <a:srgbClr val="ffffcc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16E32-E7B2-4B99-9D37-DDFB6765318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le: Failsafe Default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ne of the most common programming or design errors is “forgetting to handle a case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s systems get larger, it becomes easier and  easier to forget to consider one element of the desig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f access is off by default, “forgetting a case” results in denial of servi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ed quickly by legitimate users and corr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f access is on by default, “forgetting a case” results in the possibility of illegitimate acces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detected by legitimate users and lingers as security vulner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0065B-F2B8-47E4-800C-53B37D0898F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What is security?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urity: prevent bad things from happening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nfidential information leak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mportant information damag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ritical services unavaila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lients not paying for servic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oney stole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mproper access to physical resourc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stem used to violate law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oss of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r at least make them less likel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Versus an adversary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2000D-9193-423B-9B3D-59E2129420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le: Least Privilege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 principal should be given only those privileges needed to accomplish its task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more, no les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hat is the minimal set of privileges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hat is the granularity of privileges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paration of privileges (read vs. write acces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How &amp; when do the privileges change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 violation: UNIX sendmail has root privileg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9B1A4-4CB7-44F2-990D-F52B3DBBFB1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le: Open Desig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uccess of mechanism should not depend on it being secre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o security through obscurity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evitably, the secret gets ou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siders will know the secre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creased assurance if many critic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me form of secret is necessary.  Make these secrets replaceable data rather than the algorithm itself.  eg: cryptographic key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n age-old controversy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pen design makes critics’ jobs easier, but also attackers’ job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alysis tends to concentrate on core functionality; vulnerabilities remain off the beaten path. (Ergo: small TCB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metimes there are economic reasons to keep secre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16BAA-0CE3-4276-9638-58723719163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le: Security is a Proces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very system has vulnerabiliti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mpossible to eliminate all of the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oal: assuran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ystems change over tim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curity requirements change over ti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ntext of mechanisms changes over ti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cure systems require maintenance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heck for defunct us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pdate virus softwar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atch security hol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est firewall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914400"/>
            <a:ext cx="7772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58F79-4454-4A34-8D26-E824AB27277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Attack Sampler #1:  Morris Worm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988: Penetrated an estimated 5 to 10 percent of the 6,000 machines on the internet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Used a number of clever methods to gain access to a host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rute force password guessi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ug in default sendmail configur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X windows vulnerabilities, rlogin, etc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uffer overrun in finger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mark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stem diversity helped to limit the sprea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oot kits” for cracking modern systems are easily available and largely use the same technique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0A21-6235-4220-BF77-079879F971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2002: MS-SQL Slammer worm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Jan. 25, 2002: SQL and MSDE servers on Internet turned into worm broadcaste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YAB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pread to most vulnerable servers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n the Internet in less than 10 min!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nial of Service attack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ffected databases un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ull-bandwidth network load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widespread service outag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orst attack ever” – brought down many sites, not Interne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n’t rely on patching!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fected SQL servers at Microsoft itsel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wners of most MSDE systems didn’t know they were running it…support for extensibil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541840" y="1620720"/>
            <a:ext cx="3170520" cy="21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40B48-B127-422D-8374-A446131212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Attack sampler #2: Love Bug, Melissa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999: Two email-based viruses that exploited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common mail client (MS Outlook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usting (i.e., uneducated) use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VB scripting extensions within messages to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 up addresses in the contacts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 a copy of the message to those cont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elissa: hit an estimated 1.2 million machine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Love Bug:  caused estimated $10B in damage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mark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passwords, crypto, or native code involv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B4836-FD5E-41BD-B29A-8475540C03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ttack sampler #3: Hotmail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999: All Hotmail email accounts fully accessible by anyone, without a passwor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Just change username in an access URL (no programming required!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lected other Hotmail headlines (1998-99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tmail bug allows password theft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tmail bug pops up with JavaScript code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licious hacker steals Hotmail password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ew security glitch for Hotmail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tmail bug fix not a cure-al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27D5B-5BF7-460F-907E-0AED8112FB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ttack sampler #4: Yorktow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998: “Smart Ship” USS Yorktown suffers propulsion system failure, is towed into Norfolk Naval Bas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ause: computer operator accidentally types a zero, causing divide-by-zero error that overflows database and crashes all conso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roblem fixed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wo days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later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D0772-68C5-4E18-9A00-BCC10F5BFC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03:52:07Z</dcterms:created>
  <dc:creator>Andrew Myers</dc:creator>
  <dc:description/>
  <dc:language>en-US</dc:language>
  <cp:lastModifiedBy>CS</cp:lastModifiedBy>
  <dcterms:modified xsi:type="dcterms:W3CDTF">2004-09-15T14:20:08Z</dcterms:modified>
  <cp:revision>121</cp:revision>
  <dc:subject/>
  <dc:title>Security Principles</dc:title>
</cp:coreProperties>
</file>