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227CC-A45D-4C9C-9E88-BFCB60E738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F96DB-77E3-49D1-8E63-194879BFE3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0FC96-19F6-413C-BDA2-61BFB0677B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D32EC-2E53-4CB9-ADBA-4A8622B9FE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C7195C-3542-4F5C-98EE-B32AD8AB6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ff9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53FFC1-AFBF-4275-93BB-24D222F40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6CF254-24AE-44DF-B3EE-7C86E8D11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0B84AF-FE07-4B8A-BC04-10296188D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960116-2703-446B-9AA1-E1CE09BDB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ff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E0DF60-B6FD-4994-A066-453AD9853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F9030E-F8FC-4982-8628-EB3B242A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ff9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C9527-C12C-44A5-9C11-A923381674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3F5190-ED18-4FF1-B3E5-3428E227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284C52-511C-4079-83B9-B8082169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D3FA4C-BCB4-4BE5-B4E8-C78C899B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965A35-286F-4723-B467-29958C0F8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91D731-1441-4792-BBDC-3317930AA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DD763-BB2D-47B4-AAED-15211D4258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02CD4-5800-441C-8D1D-73FAF83502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48170-A3AE-443D-AA4C-2BF9C3B153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ff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E3FBE-9028-42EF-BAD2-A800AEC126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C30E6-3A68-48A1-98C4-706F800E57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5A932-282B-4316-9958-FCAC14293E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D8E2D-312B-4B72-8DC9-C3CACA6AF9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685440" y="6400440"/>
            <a:ext cx="77547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cc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848720" y="640080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c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90FD5-2C8A-4942-9A44-8A55875E8CFE}" type="slidenum">
              <a:rPr b="0" lang="en-US" sz="1400" spc="-1" strike="noStrike">
                <a:solidFill>
                  <a:srgbClr val="33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018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f9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f9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f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f9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f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A55E5-5756-47DC-9CBB-A776D7D0D825}" type="slidenum">
              <a:rPr b="0" lang="en-US" sz="1400" spc="-1" strike="noStrike">
                <a:solidFill>
                  <a:srgbClr val="ff9f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95800" y="3581280"/>
            <a:ext cx="625248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99"/>
                </a:solidFill>
                <a:latin typeface="Trebuchet MS"/>
              </a:rPr>
              <a:t>COS 597B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99"/>
                </a:solidFill>
                <a:latin typeface="Trebuchet MS"/>
              </a:rPr>
              <a:t>David Walk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99"/>
                </a:solidFill>
                <a:latin typeface="Trebuchet MS"/>
              </a:rPr>
              <a:t>with slides stolen from Andrew Myers, Cornell University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99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66ff99"/>
              </a:solidFill>
              <a:latin typeface="Trebuchet MS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ccec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99cc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ornell.edu/home/jgm/cs711sp02/maliciouscode.pdf" TargetMode="External"/><Relationship Id="rId2" Type="http://schemas.openxmlformats.org/officeDocument/2006/relationships/hyperlink" Target="http://www.cs.cornell.edu/home/jgm/cs711sp02/maliciouscode.pdf" TargetMode="External"/><Relationship Id="rId3" Type="http://schemas.openxmlformats.org/officeDocument/2006/relationships/hyperlink" Target="http://www.cs.cornell.edu/home/jgm/cs711sp02/maliciouscode.pdf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eb.mit.edu/Saltzer/www/publications/protection/index.html" TargetMode="External"/><Relationship Id="rId2" Type="http://schemas.openxmlformats.org/officeDocument/2006/relationships/hyperlink" Target="file:///C:/Documents%20and%20Settings/dpw/web/papers/hotos-jeremiad.ps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018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Security Properties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ttack sampler #5: insiders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Average cost of an outsider penetration is $56,000; average insider attack cost a company $2.7 million </a:t>
            </a: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(Computer Security Institute/FBI)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63 percent of the companies surveyed reported insider misuse of their organization's computer systems. </a:t>
            </a: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(WarRoom Research)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Some attacks: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Backdoor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Logic bombs”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Holding data hostage with encrypti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Reprogramming cash flow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Attacks may use legitimately held privileges!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Many attacks (90%?) go unreported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8FB6C-57FA-48AF-8B0F-074F49B0927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More attack samplers &amp; vulnerabilities</a:t>
            </a:r>
            <a:endParaRPr b="1" lang="en-US" sz="36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Take a look at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1"/>
              </a:rPr>
              <a:t>Attacking Malicious Code: A report to the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2"/>
              </a:rPr>
              <a:t>Infosec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3"/>
              </a:rPr>
              <a:t> Research Council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. 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Gary McGraw and Greg Morrisett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 list of recent online attacks and defens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Take a look at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Trust in Cyberspace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 Fred Schneider edito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tate of security and vulnerability in power grid and communications infrastructur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FB09D-8C9B-43D3-A50B-AB8F8445B90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Terminology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Vulnerability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Weakness that can be exploited in a system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Attack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Method for exploiting vulnerabilit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Threat / Threat mod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The power of the attacker (characterizes possible attacks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.g., attacker can act as an ordinary user, read any data on disk, and monitor all network traffi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Trusted Computing Base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t of system components that are depended on for securit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ually includes hardware, OS, some software, 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44865-06AD-444F-B2CC-155F104F4CF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Who are the attackers?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143000"/>
            <a:ext cx="7238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Operator/user blunders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Hackers driven by intellectual challenge (or boredom)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Insiders: employees or customers seeking revenge or gain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Criminals seeking financial gain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Organized crime seeking gain or hiding criminal activities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Organized terrorist groups or nation states trying to influence national policy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Foreign agents seeking information for economic, political, or military purposes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Tactical countermeasures intended to disrupt military capability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Large organized terrorist groups or nation-states intent on overthrowing the US government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1295280"/>
            <a:ext cx="0" cy="4267440"/>
          </a:xfrm>
          <a:prstGeom prst="line">
            <a:avLst/>
          </a:prstGeom>
          <a:ln w="7632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732B0-29E0-4062-ADA4-57CC31B3564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What are the vulnerabilities?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Poorly chosen password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Software bugs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unchecked array access (buffer overflow attacks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Automatically running active content: macros, scripts, Java program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Open ports: telnet, mai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Incorrect configuration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le permission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dministrative privileg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Untrained users/system administrator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Trap doors (intentional security holes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Unencrypted communication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Limited Resources (i.e. TCP connections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D7399-D300-49E7-9194-B39ED0E3AA2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What are the attacks?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837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Password Cracker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Viruses: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LoveYou (VBscript virus), Melissa (Word macro virus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Worm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ode Red: Port 80 (HTTP), Buffer overflow in IIS (Internet/Indexing Service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Trojan Horse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Social Engineering: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Hi, this is Joe from systems, I need your password to do an upgrade”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Packet sniffers: Etherea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Denial of service: TCP SYN packet flood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682FE-9C3F-46C5-948E-52276CE4419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Social engineering attacks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24121" t="24110" r="45133" b="42226"/>
          <a:stretch/>
        </p:blipFill>
        <p:spPr>
          <a:xfrm>
            <a:off x="1243080" y="1120680"/>
            <a:ext cx="6781680" cy="522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F31BB-2B08-477E-8F55-D69AF29E4E0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Security vs. fault tolerance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ttacks vs. fault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Reliability community often assumes benign, random fault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Failstop failures = system halt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Byzantine failure = system behaves arbitrarily badly (under control of adversary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ttackers go for the weakest link!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t doesn’t help to have a $1000 lock on your door if the window is open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36178-47A7-4EF0-A10C-B1FC81FB94B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ssumptions and abstraction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rguments for security always rest on assumptions: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e attacker does not have physical access to the hardware”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e code of the program cannot be modified during execution”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ssumptions are vulnerabilitie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ometimes known, sometimes no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ssumptions arise from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abstraction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ecurity analysis only tractable on a simplification (abstraction) of actual system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bstraction hides details (assumption: unimportant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90333-F480-4C1F-838F-04F5C364EF6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Risk management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Cost-benefit: high security may be more expensive than benefits obtained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ecurity measures interfere with intended us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Preventing problems may be infeasible, unnecessary; deterrence may be sufficient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emove the incentive to attack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ake it easier to attack someone els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ake it too costly to attack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40480" y="293544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ecurit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59760" y="2552760"/>
            <a:ext cx="178848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functionalit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efficienc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os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438280" y="3200400"/>
            <a:ext cx="3886200" cy="0"/>
          </a:xfrm>
          <a:prstGeom prst="line">
            <a:avLst/>
          </a:prstGeom>
          <a:ln w="7632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D6085-382F-4A9A-AA0C-99712DBE09C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Reading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Read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  <a:hlinkClick r:id="rId1"/>
              </a:rPr>
              <a:t>The Protection of Information in Computer Systems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. Saltzer and Schroeder, Section I,A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. 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Do these principles still apply today? 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Are there more specific principles that apply to systems written in modern programming languages such as Java?  Are there modern systems where we need to take additional precautions?  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Read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  <a:hlinkClick r:id="rId2"/>
              </a:rPr>
              <a:t>Exterminate all operating system abstractions.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Dawson R. Engler and M. Frans Kaashoek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. 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Is this a good idea from a security perspective?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What is the difference between what the ExoKernel means by "secure" and what an ordinary operating system means by "secure"? 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What security principles does the ExoKernel abide by or not abide by?  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Would Microsoft want to deliver an ExoKernel?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Think of your own controversial question to ask the class.  Come up with an interesting position to defend.  Be ready to discuss on Wednesday. 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243B8-BF09-4F02-9E5C-26F5D5B57F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When to enforce security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Possible times to respond to security violations: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Before execution: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nalyze, reject, rewrit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During execution: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onitor, log, halt, chang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fter execution: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oll back, restore, audit, sue, call polic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759720" y="3809880"/>
            <a:ext cx="1531800" cy="142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128BD-AC72-4686-BF70-C6E561A93E6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Policy vs. mechanism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What is being protected (and from what) vs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How it is being protected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(access control, cryptography, …)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Want: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o know what we need to be protected from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echanisms that can implement many polici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B8521-927E-4DE9-B3CE-AB9AB7F3B32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What is being protected?</a:t>
            </a: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	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omething with value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Information with (usually indirect) impact on real world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Different kinds of protection are needed for different information : ensure different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security propertie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Confidentialit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Integrit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vailabilit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841F3-EC3A-4118-87D3-F0676B6D664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Properties: Integrity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No improper modification of data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819520" y="1828800"/>
            <a:ext cx="3733560" cy="2438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429000" y="2400480"/>
            <a:ext cx="2514600" cy="1295280"/>
          </a:xfrm>
          <a:prstGeom prst="rect">
            <a:avLst/>
          </a:prstGeom>
          <a:solidFill>
            <a:srgbClr val="140e60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94640" y="2723760"/>
            <a:ext cx="1164240" cy="649800"/>
          </a:xfrm>
          <a:prstGeom prst="ellipse">
            <a:avLst/>
          </a:prstGeom>
          <a:solidFill>
            <a:srgbClr val="3a5598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57400" y="2362320"/>
            <a:ext cx="762120" cy="838080"/>
          </a:xfrm>
          <a:custGeom>
            <a:avLst/>
            <a:gdLst/>
            <a:ahLst/>
            <a:rect l="l" t="t" r="r" b="b"/>
            <a:pathLst>
              <a:path w="480" h="528">
                <a:moveTo>
                  <a:pt x="0" y="0"/>
                </a:moveTo>
                <a:lnTo>
                  <a:pt x="480" y="288"/>
                </a:lnTo>
                <a:lnTo>
                  <a:pt x="144" y="528"/>
                </a:lnTo>
              </a:path>
            </a:pathLst>
          </a:custGeom>
          <a:noFill/>
          <a:ln w="7632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553080" y="2133720"/>
            <a:ext cx="914400" cy="533160"/>
          </a:xfrm>
          <a:custGeom>
            <a:avLst/>
            <a:gdLst/>
            <a:ahLst/>
            <a:rect l="l" t="t" r="r" b="b"/>
            <a:pathLst>
              <a:path w="576" h="336">
                <a:moveTo>
                  <a:pt x="432" y="0"/>
                </a:moveTo>
                <a:lnTo>
                  <a:pt x="0" y="336"/>
                </a:lnTo>
                <a:lnTo>
                  <a:pt x="576" y="240"/>
                </a:lnTo>
              </a:path>
            </a:pathLst>
          </a:custGeom>
          <a:noFill/>
          <a:ln w="7632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4419720"/>
            <a:ext cx="77724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E.g., account balance is updated only by authorized transactions, only you can change your passwor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Integrity of security mechanisms is cruci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Enforcement: access control, digital signatures,…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2743B-9240-44ED-BC62-E7926C8F99C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Properties: Confidentiality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3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Protect information from improper release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Limit knowledge of data or action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E.g. D-Day attack date, contract bid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Also: secrecy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Enforcement: access control, encryption,…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Hard to enforce after the fact…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819520" y="1751040"/>
            <a:ext cx="3733560" cy="2438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429000" y="2322360"/>
            <a:ext cx="2514600" cy="1295640"/>
          </a:xfrm>
          <a:prstGeom prst="rect">
            <a:avLst/>
          </a:prstGeom>
          <a:solidFill>
            <a:srgbClr val="140e60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094640" y="2646000"/>
            <a:ext cx="1164240" cy="649800"/>
          </a:xfrm>
          <a:prstGeom prst="ellipse">
            <a:avLst/>
          </a:prstGeom>
          <a:solidFill>
            <a:srgbClr val="3a5598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81480" y="2351160"/>
            <a:ext cx="200160" cy="466560"/>
          </a:xfrm>
          <a:custGeom>
            <a:avLst/>
            <a:gdLst/>
            <a:ahLst/>
            <a:rect l="l" t="t" r="r" b="b"/>
            <a:pathLst>
              <a:path w="126" h="294">
                <a:moveTo>
                  <a:pt x="0" y="294"/>
                </a:moveTo>
                <a:lnTo>
                  <a:pt x="126" y="0"/>
                </a:lnTo>
              </a:path>
            </a:pathLst>
          </a:custGeom>
          <a:noFill/>
          <a:ln w="5724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09920" y="3103560"/>
            <a:ext cx="752400" cy="324000"/>
          </a:xfrm>
          <a:custGeom>
            <a:avLst/>
            <a:gdLst/>
            <a:ahLst/>
            <a:rect l="l" t="t" r="r" b="b"/>
            <a:pathLst>
              <a:path w="474" h="204">
                <a:moveTo>
                  <a:pt x="474" y="0"/>
                </a:moveTo>
                <a:lnTo>
                  <a:pt x="0" y="102"/>
                </a:lnTo>
                <a:lnTo>
                  <a:pt x="252" y="204"/>
                </a:lnTo>
              </a:path>
            </a:pathLst>
          </a:custGeom>
          <a:noFill/>
          <a:ln w="5724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85240-C585-4E06-BEBB-3800B5C75BC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Properties: Privacy, anonymity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Related to confidentiality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Privacy: prevent misuse of personal information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nonymity: prevent connection from being made between identity of actor and action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Keep identity secre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Keep actions secre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98D03-E5FC-445F-9FB3-65A9FFA5456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Properties: Availability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Easy way to ensure confidentiality, integrity: unplug computer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vailability: system must respond to request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666880" y="3276720"/>
            <a:ext cx="3733920" cy="2438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3848040"/>
            <a:ext cx="2514600" cy="1295640"/>
          </a:xfrm>
          <a:prstGeom prst="rect">
            <a:avLst/>
          </a:prstGeom>
          <a:solidFill>
            <a:srgbClr val="140e60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42360" y="4171320"/>
            <a:ext cx="1164240" cy="649800"/>
          </a:xfrm>
          <a:prstGeom prst="ellipse">
            <a:avLst/>
          </a:prstGeom>
          <a:solidFill>
            <a:srgbClr val="3a5598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715000" y="4191120"/>
            <a:ext cx="762120" cy="609480"/>
          </a:xfrm>
          <a:prstGeom prst="rect">
            <a:avLst/>
          </a:prstGeom>
          <a:solidFill>
            <a:srgbClr val="140e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083200" y="4572000"/>
            <a:ext cx="2438280" cy="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5028840" y="4343400"/>
            <a:ext cx="2438280" cy="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91320" y="4178160"/>
            <a:ext cx="60948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91320" y="4800600"/>
            <a:ext cx="60948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81CB0-4CF0-4B0C-AF31-2B0EFCD918E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Properties: Nonrepudiation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bility to convince a third party that an event occurred (e.g., sales receipt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Needed for external enforcement mechanisms (e.g., police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Related to integrity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A6C45-80BE-44F8-9E00-4D1B182D77B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Properties:  Safety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Nothing bad ever happens” (at a particular moment in time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 property that can be enforced using only history of program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menable to purely run-time enforcement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ccess control (e.g. checking file permissions on file open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emory safety (process does not read/write outside its own memory space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ype safety (data accessed in accordance with type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4B65C-86ED-4FF8-AB8B-21FF4188044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Properties:  Liveness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omething good eventually happens”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Example: availability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e email server will always respond to mail requests in less than one second”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Violated by denial of service attack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Can’t enforce purely at run time – stopping the program violates the property!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Tactic: restrict to a safety property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web server will respond to page requests in less than 10 sec or report that it is overloaded.”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CF9F5-95F8-4C18-B9F9-3DB390163AB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Outline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What is computer security?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rotecting against worms and viruses?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aking sure programs obey their specifications?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till plenty of security problems even if these problems are solved…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86440" y="6208560"/>
            <a:ext cx="798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cknowledgments: Andrew Myers, Steve Zdancewic, Fred Schneide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60803-9CD9-41F6-90DE-DDF8DFD58A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Security Property Landscape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66" name=""/>
          <p:cNvSpPr/>
          <p:nvPr/>
        </p:nvSpPr>
        <p:spPr>
          <a:xfrm>
            <a:off x="1019520" y="4935600"/>
            <a:ext cx="218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emory safet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71160" y="453708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ype safet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1840" y="3519360"/>
            <a:ext cx="39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iscretionary access contro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9760" y="3976560"/>
            <a:ext cx="33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eference confinem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821920" y="4881600"/>
            <a:ext cx="161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vailabilit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548680" y="3976560"/>
            <a:ext cx="22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Fault Toleran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16360" y="5850000"/>
            <a:ext cx="24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Safety propert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022360" y="5850000"/>
            <a:ext cx="28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Liveness propert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4880" y="3062160"/>
            <a:ext cx="36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andatory access contro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19720" y="2286000"/>
            <a:ext cx="57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Noninterference (confidentiality, integrity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020320" y="160020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rivac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21680" y="914400"/>
            <a:ext cx="70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ystem does exactly what it should--and no mor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20960" y="5392800"/>
            <a:ext cx="27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emory protec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71080" y="160020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igital righ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22720" y="3062160"/>
            <a:ext cx="37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Byzantine Fault Toleran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EFAF3-FCD0-4241-B062-76F114E78BC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018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Security Mechanisms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Topics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Fundamental enforcement mechanisms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Design principles for secure system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Operating system security mechanism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AAEA0-A66B-4514-8002-A66D7D0E469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Mechanisms: Authentication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If system attempts to perform action X, should it be allowed? (e.g., read a file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authentication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authorizatio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uthentication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 what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principal p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 is system acting on behalf of? Is this an authentic request from p?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asswords, biometrics, certificates…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B47DB-1D5B-4661-8FB2-837C44EB039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Principals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 principal is an identity; an abstraction of privilege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rocess uid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E.g., a user (Bob), a group of users (Model airplane club), a role (Bob acting as president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30C9C-36FE-4A7A-A47C-AFA241B5DCE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Mechanisms: Authorization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427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uthorization: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is principal p authorized to perform action A?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Access control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mediates actions by principal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Example: file permissions (ACLs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962600" y="2254320"/>
            <a:ext cx="3495600" cy="428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35771-EC40-4DF5-8837-3EC36B880F8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Mechanisms: Auditing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For after-the-fact enforcement, need to know what happened: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auditing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Audit log 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records security-relevant actions (who, what, when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uthorization + Authentication + Audit = “The gold (Au) standard” : classic systems security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 fourth kind of mechanism:</a:t>
            </a:r>
            <a:br>
              <a:rPr sz="2800"/>
            </a:b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program analysis and verification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Needed for extensible systems and strong security properties… more lat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18D5C-6436-4DF4-A7A6-0D8DC8EC8D1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Principle: Complete Mediation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Common requirement: system must have ability to mediate all security-relevant operation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angerous to assume op is not security-relevant.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any places to mediate: hardware, compiler, …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ssumption: mediation mechanism cannot be compromised (TCB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Example: operating system call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Kernel interface mediates access to files, memory pages, etc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No other way to create/manipulate resourc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One problem: covert timing channel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67C8C-0555-4333-93E5-4AA96D7D9B6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Principle: Minimize TCB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The trusted computing base (TCB):  those portions of the system that absolutely must be correct in order for the system to be “secure”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Observation: Complex things are more likely not to work correctl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onsequence: the TCB should be as small as possibl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onsequence: Economy of Mechanism – don’t use three mechanisms when one will d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Things should be made as simple as possible–but no simpler.”                                         </a:t>
            </a:r>
            <a:r>
              <a:rPr b="0" i="1" lang="en-US" sz="2000" spc="-1" strike="noStrike">
                <a:solidFill>
                  <a:srgbClr val="ffffcc"/>
                </a:solidFill>
                <a:latin typeface="Arial"/>
              </a:rPr>
              <a:t>-- A. Einstein</a:t>
            </a:r>
            <a:r>
              <a:rPr b="0" lang="en-US" sz="2000" spc="-1" strike="noStrike">
                <a:solidFill>
                  <a:srgbClr val="ffffcc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A5116-EDEB-43A8-81EB-77E2A2E2A9D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Principle: Failsafe Defaults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One of the most common programming or design errors is “forgetting to handle a case”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s systems get larger, it becomes easier and  easier to forget to consider one element of the desig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f access is off by default, “forgetting a case” results in denial of servic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cted quickly by legitimate users and corre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f access is on by default, “forgetting a case” results in the possibility of illegitimate acces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detected by legitimate users and lingers as security vulnera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AFEF2-1E1B-4323-BDD7-7E3044E626B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What is security?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ecurity: prevent bad things from happening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onfidential information leaked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mportant information damaged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ritical services unavailabl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lients not paying for servic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oney stole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mproper access to physical resourc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ystem used to violate law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Loss of 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valu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or at least make them less likely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Versus an adversary!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B38EB-46E0-4DE0-B354-1E1D5755633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Principle: Least Privilege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 principal should be given only those privileges needed to accomplish its tasks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No more, no less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What is the minimal set of privileges?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What is the granularity of privileges?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eparation of privileges (read vs. write access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How &amp; when do the privileges change?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Example violation: UNIX sendmail has root privilege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92290-6BF7-41F0-AFF7-FEC1BA3845C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Principle: Open Design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Success of mechanism should not depend on it being secret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No security through obscurity”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nevitably, the secret gets ou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nsiders will know the secre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ncreased assurance if many critics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ome form of secret is necessary.  Make these secrets replaceable data rather than the algorithm itself.  eg: cryptographic key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An age-old controversy: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Open design makes critics’ jobs easier, but also attackers’ job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nalysis tends to concentrate on core functionality; vulnerabilities remain off the beaten path. (Ergo: small TCB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ometimes there are economic reasons to keep secret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8E83C-5409-4C03-9DA4-A8424F4B650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Principle: Security is a Process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Every system has vulnerabilitie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mpossible to eliminate all of them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Goal: assuranc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Systems change over time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curity requirements change over tim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ontext of mechanisms changes over tim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Secure systems require maintenance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heck for defunct user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Update virus softwar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Patch security hol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Test firewall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144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4400" y="914400"/>
            <a:ext cx="77724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F8227-02C0-4322-8EB5-1EE90C2E520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Attack Sampler #1:  Morris Worm</a:t>
            </a:r>
            <a:endParaRPr b="1" lang="en-US" sz="36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1988: Penetrated an estimated 5 to 10 percent of the 6,000 machines on the internet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Used a number of clever methods to gain access to a host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brute force password guessing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bug in default sendmail configuratio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X windows vulnerabilities, rlogin, etc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buffer overrun in fingerd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Remarks: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ystem diversity helped to limit the spread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oot kits” for cracking modern systems are easily available and largely use the same techniques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75C8E-BA88-47A7-A868-F3FEBB0BFD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2002: MS-SQL Slammer worm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Jan. 25, 2002: SQL and MSDE servers on Internet turned into worm broadcaster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YABO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pread to most vulnerable servers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on the Internet in less than 10 min!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Denial of Service attack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ffected databases unavailabl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ull-bandwidth network load 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widespread service outag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Worst attack ever” – brought down many sites, not Interne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Can’t rely on patching!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nfected SQL servers at Microsoft itself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Owners of most MSDE systems didn’t know they were running it…support for extensibilit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541840" y="1620720"/>
            <a:ext cx="3170520" cy="2192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03A75-6CD8-4532-9CF6-AC2331FB5E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Attack sampler #2: Love Bug, Melissa</a:t>
            </a:r>
            <a:endParaRPr b="1" lang="en-US" sz="36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1999: Two email-based viruses that exploited: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 common mail client (MS Outlook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rusting (i.e., uneducated) user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VB scripting extensions within messages to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ok up addresses in the contacts datab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d a copy of the message to those conta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Melissa: hit an estimated 1.2 million machines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Love Bug:  caused estimated $10B in damage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Remarks: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no passwords, crypto, or native code involved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05B81-FEED-4A78-902F-1104BBB545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ttack sampler #3: Hotmail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1999: All Hotmail email accounts fully accessible by anyone, without a password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Just change username in an access URL (no programming required!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elected other Hotmail headlines (1998-99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otmail bug allows password theft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otmail bug pops up with JavaScript code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alicious hacker steals Hotmail passwords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ew security glitch for Hotmail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otmail bug fix not a cure-all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FEECC-6094-4908-9779-EFF12F7C695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rebuchet MS"/>
              </a:rPr>
              <a:t>Attack sampler #4: Yorktown</a:t>
            </a:r>
            <a:endParaRPr b="1" lang="en-US" sz="40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1998: “Smart Ship” USS Yorktown suffers propulsion system failure, is towed into Norfolk Naval Base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Cause: computer operator accidentally types a zero, causing divide-by-zero error that overflows database and crashes all console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Problem fixed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wo days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 later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C7D8C-4200-4CC5-BDB3-92FEF51B2C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4T03:52:07Z</dcterms:created>
  <dc:creator>Andrew Myers</dc:creator>
  <dc:description/>
  <dc:language>en-US</dc:language>
  <cp:lastModifiedBy>CS</cp:lastModifiedBy>
  <dcterms:modified xsi:type="dcterms:W3CDTF">2004-09-15T14:20:08Z</dcterms:modified>
  <cp:revision>121</cp:revision>
  <dc:subject/>
  <dc:title>Security Principles</dc:title>
</cp:coreProperties>
</file>