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40B5-DE69-4213-873E-718E2512C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368C-4CD7-4DAE-8F05-24158BACA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58D5-096A-4C8E-8320-4535DB24D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8486-55F0-43C8-9C02-F46CFF9F9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837A-C435-43C8-995F-3D91AB5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C995-F163-44B8-B71F-FC779552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D95E5-E1A2-4E7C-8829-9F7CB066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82330-DE6F-4A33-8DC1-76B154F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8FAA4-C7D1-4507-8C84-3C1629E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69814-32FB-4054-B1CC-0DF3CD81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8AF9C-21DA-43C7-8676-66256F7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1B7D-E4D5-4C9C-BF41-C4143B588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31520-9505-4994-A665-7213D41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2D23-738D-453A-9A6C-699D99F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52846-0578-46DD-B854-C1878B63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602B2-7D85-4605-B4CF-C6F9D891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7DE89-5942-4042-A2FA-7F581B58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1C7B-3734-4D50-8355-EF5194AF2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702C-3295-43D5-B3B4-14E509B3C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C061-B05F-4E93-8A87-6F60187AE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8D04-47E7-43DA-BB9E-E81563120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3835-5563-4D66-94DA-00344E667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AE54-3AF5-404D-AC12-C3AACADB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02FF-2FD2-48BE-A938-D7FFA902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400440"/>
            <a:ext cx="77547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9FA7-BEA7-431F-8CB8-4A5FE3A8A28C}" type="slidenum">
              <a:rPr b="0" lang="en-US" sz="1400" spc="-1" strike="noStrike">
                <a:solidFill>
                  <a:srgbClr val="33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A5F-2357-4FFA-924D-C8122A6FA321}" type="slidenum"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5800" y="3581280"/>
            <a:ext cx="62524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OS 597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David Walk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Trebuchet MS"/>
              </a:rPr>
              <a:t>with slides stolen from Andrew Myers, Cornell Univers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ornell.edu/home/jgm/cs711sp02/maliciouscode.pdf" TargetMode="External"/><Relationship Id="rId2" Type="http://schemas.openxmlformats.org/officeDocument/2006/relationships/hyperlink" Target="http://www.cs.cornell.edu/home/jgm/cs711sp02/maliciouscode.pdf" TargetMode="External"/><Relationship Id="rId3" Type="http://schemas.openxmlformats.org/officeDocument/2006/relationships/hyperlink" Target="http://www.cs.cornell.edu/home/jgm/cs711sp02/maliciouscode.pdf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Saltzer/www/publications/protection/index.html" TargetMode="External"/><Relationship Id="rId2" Type="http://schemas.openxmlformats.org/officeDocument/2006/relationships/hyperlink" Target="file:///C:/Documents%20and%20Settings/dpw/web/papers/hotos-jeremiad.p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ie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5: insider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verage cost of an outsider penetration is $56,000; average insider attack cost a company $2.7 million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Computer Security Institute/FBI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 percent of the companies surveyed reported insider misuse of their organization's computer systems.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WarRoom Research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me attack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ackdo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ogic bomb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olding data hostage with encryp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programming cash 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s may use legitimately held privileges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ny attacks (90%?) go unreport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C73A-82D1-49EB-9978-1417D47671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re attack samplers &amp; vulnerabiliti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Attacking Malicious Code: A report to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Infosec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 Research Counci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ary McGraw and Greg Morrisett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list of recent online attacks and defen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st in Cyberspa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Fred Schneider ed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te of security and vulnerability in power grid and communications infrastruc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B2EC-2B84-459D-8F53-EA35717C8B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ulnerabil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eakness that can be exploited in a syst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thod for exploiting vulner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at / Threat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power of the attacker (characterizes possible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attacker can act as an ordinary user, read any data on disk, and monitor all network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usted Computing B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t of system components that are depended on for secu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includes hardware, OS, some software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CBF2-53D4-4FA1-8D33-20A210078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o are the attacker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perator/user blunder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ckers driven by intellectual challenge (or boredom)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siders: employees or customers seeking revenge or gai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iminals seeking financial gain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crime seeking gain or hiding criminal activ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terrorist groups or nation states trying to influence national polic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eign agents seeking information for economic, political, or military purpos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ctical countermeasures intended to disrupt military capabilit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arge organized terrorist groups or nation-states intent on overthrowing the US governmen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0" cy="42674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D4A7-F347-4A73-8853-257B1EC16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vulnerabilitie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orly chosen passwor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ftware bug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hecked array access (buffer overflow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utomatically running active content: macros, scripts, Java progra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pen ports: telnet, mai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orrect configu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le permiss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ministrative privile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trained users/system administr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ap doors (intentional security hol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encrypted commun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ed Resources (i.e. TCP connection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2450-CE3A-4EFC-B28C-A44C4EEE2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attack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ssword Crack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ruses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oveYou (VBscript virus), Melissa (Word macro viru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de Red: Port 80 (HTTP), Buffer overflow in IIS (Internet/Indexing Service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ojan Hor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cial Engineering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, this is Joe from systems, I need your password to do an upgrade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cket sniffers: Ethere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: TCP SYN packet floo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CF6B-2ABE-4939-BFC3-626692E3A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ocial engineering attack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4121" t="24110" r="45133" b="42226"/>
          <a:stretch/>
        </p:blipFill>
        <p:spPr>
          <a:xfrm>
            <a:off x="1243080" y="1120680"/>
            <a:ext cx="678168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354F-8CA6-465F-BCC1-3B47E7AE7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vs. fault toleranc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s vs.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iability community often assumes benign, random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ilstop failures = system hal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ilure = system behaves arbitrarily badly (under control of adversar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ers go for the weakest link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doesn’t help to have a $1000 lock on your door if the window is ope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683B-F213-4F5F-8D25-7E88FEE0F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ssumptions and abstrac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guments for security always rest on assump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ttacker does not have physical access to the hardwar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ode of the program cannot be modified during execution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e vulnerabil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etimes known, sometimes no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ise from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analysis only tractable on a simplification (abstraction) of actual syste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bstraction hides details (assumption: unimporta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89EB-DA5B-4388-80B9-56321A071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isk managemen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st-benefit: high security may be more expensive than benefits obtain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measures interfere with intended u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eventing problems may be infeasible, unnecessary; deterrence may be suffici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move the incentive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easier to attack someone el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too costly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0480" y="29354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9760" y="2552760"/>
            <a:ext cx="1788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200400"/>
            <a:ext cx="3886200" cy="0"/>
          </a:xfrm>
          <a:prstGeom prst="line">
            <a:avLst/>
          </a:prstGeom>
          <a:ln w="7632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6AED-B91A-4DD6-B416-709EC979FE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ead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The Protection of Information in Computer Systems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. Saltzer and Schroeder, Section I,A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o these principles still apply today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re there more specific principles that apply to systems written in modern programming languages such as Java?  Are there modern systems where we need to take additional precautions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Exterminate all operating system abstractions.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wson R. Engler and M. Frans Kaashoek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s this a good idea from a security perspective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is the difference between what the ExoKernel means by "secure" and what an ordinary operating system means by "secure"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security principles does the ExoKernel abide by or not abide by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ould Microsoft want to deliver an ExoKernel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nk of your own controversial question to ask the class.  Come up with an interesting position to defend.  Be ready to discuss on Wednesday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EA4E-3F5D-4F13-94C5-9A38FAEAE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en to enforce secu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sible times to respond to security viola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yze, reject, rewri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uring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itor, log, halt, chan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fter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ll back, restore, audit, sue, call pol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59720" y="3809880"/>
            <a:ext cx="1531800" cy="14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BBEF-7B0A-49BC-892C-C0CEDD0B8D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olicy vs. mechanis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being protected (and from what) v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it is being protect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access control, cryptography, …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ant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know what we need to be protected fr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chanisms that can implement many polic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8F5F-D245-4FEA-8288-A87BC02F79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being protected?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with val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formation with (usually indirect) impact on real worl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fferent kinds of protection are needed for different information : ensure different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curity proper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C51D-1884-45E8-B5FE-36DFDCB94C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Integ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improper modification of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82880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400480"/>
            <a:ext cx="2514600" cy="129528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4640" y="272376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362320"/>
            <a:ext cx="762120" cy="8380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480" y="288"/>
                </a:lnTo>
                <a:lnTo>
                  <a:pt x="144" y="528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2133720"/>
            <a:ext cx="914400" cy="53316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432" y="0"/>
                </a:moveTo>
                <a:lnTo>
                  <a:pt x="0" y="336"/>
                </a:lnTo>
                <a:lnTo>
                  <a:pt x="576" y="240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, account balance is updated only by authorized transactions, only you can change your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grity of security mechanisms is cru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digital signatures,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9FC4-3E9A-4127-A697-313156D23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Confidentia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tect information from improper rele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 knowledge of data or a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 D-Day attack date, contract bi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lso: secrec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encryption,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ard to enforce after the fact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5104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232236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4640" y="264600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51160"/>
            <a:ext cx="200160" cy="46656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126" y="0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9920" y="3103560"/>
            <a:ext cx="752400" cy="324000"/>
          </a:xfrm>
          <a:custGeom>
            <a:avLst/>
            <a:gdLst/>
            <a:ahLst/>
            <a:rect l="l" t="t" r="r" b="b"/>
            <a:pathLst>
              <a:path w="474" h="204">
                <a:moveTo>
                  <a:pt x="474" y="0"/>
                </a:moveTo>
                <a:lnTo>
                  <a:pt x="0" y="102"/>
                </a:lnTo>
                <a:lnTo>
                  <a:pt x="252" y="204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23E8-80FE-40E1-8DA8-93014C6114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Privacy, anonym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confidentia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ivacy: prevent misuse of personal inform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onymity: prevent connection from being made between identity of actor and ac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identity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actions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DA70-059C-47AD-81C6-369D7875DF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Availabi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asy way to ensure confidentiality, integrity: unplug compu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vailability: system must respond to requ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76720"/>
            <a:ext cx="373392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84804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2360" y="417132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191120"/>
            <a:ext cx="762120" cy="609480"/>
          </a:xfrm>
          <a:prstGeom prst="rect">
            <a:avLst/>
          </a:prstGeom>
          <a:solidFill>
            <a:srgbClr val="140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3200" y="45720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28840" y="43434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7816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80060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E052-5307-46B1-A0DD-A9E3633C24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Nonrepu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ility to convince a third party that an event occurred (e.g., sales receipt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eded for external enforcement mechanisms (e.g., polic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integ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3034-825A-40EE-BD2F-0B7AFB741B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Safe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thing bad ever happens” (at a particular moment in tim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operty that can be enforced using only history of progra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menable to purely run-time enforc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cess control (e.g. checking file permissions on file ope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 (process does not read/write outside its own memory spac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 (data accessed in accordance with typ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A2E0-E693-4A2B-9424-18F5C90E1D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Liven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good eventually happen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availabi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email server will always respond to mail requests in less than one second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iolated by denial of service attac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n’t enforce purely at run time – stopping the program violates the propert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ctic: restrict to a safety proper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b server will respond to page requests in less than 10 sec or report that it is overloaded.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AD9A-C828-4809-AFEA-69CF000CBF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computer security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tecting against worms and virus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ing sure programs obey their specification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ill plenty of security problems even if these problems are solved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440" y="620856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knowledgments: Andrew Myers, Steve Zdancewic, Fred Schnei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F9CC-A4E1-45AF-A143-962B2D0B8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y Landscap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6" name=""/>
          <p:cNvSpPr/>
          <p:nvPr/>
        </p:nvSpPr>
        <p:spPr>
          <a:xfrm>
            <a:off x="1019520" y="4935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1160" y="45370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840" y="3519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scretiona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760" y="39765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ference confin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21920" y="48816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48680" y="39765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360" y="58500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Safety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2360" y="58500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veness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880" y="306216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dato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19720" y="228600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ninterference (confidentiality, integr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032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1680" y="9144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oes exactly what it should--and no mor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0960" y="5392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pro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71080" y="16002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gital ri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2720" y="30621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A1A8-D16E-45EF-863C-EB8A24D2FC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Mechanism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opic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undamental enforcement mechanism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 principles for secure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perating system security mechanis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E73F-0366-46CB-AEC3-319C5C725F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entic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f system attempts to perform action X, should it be allowed? (e.g., read a fil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entic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oriz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henticatio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what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incipal 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is system acting on behalf of? Is this an authentic request from p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asswords, biometrics, certificates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DD90-0BA2-4959-ACB5-123EF512EC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al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is an identity; an abstraction of privileg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cess ui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, a user (Bob), a group of users (Model airplane club), a role (Bob acting as preside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A2EB-725C-47A0-B8EF-127344C183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oriz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27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horization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is principal p authorized to perform action A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ccess contro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ediates actions by principa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mple: file permissions (ACL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62600" y="2254320"/>
            <a:ext cx="349560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86BB-8027-4B9B-8656-C248BD877D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dit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after-the-fact enforcement, need to know what happened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 log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cords security-relevant actions (who, what, whe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uthorization + Authentication + Audit = “The gold (Au) standard” : classic systems secu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fourth kind of mechanism: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gram analysis and verifi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eded for extensible systems and strong security properties… more la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0461-37F0-4BDC-AE9E-82906C25E6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Complete Me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mon requirement: system must have ability to mediate all security-relevant oper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ngerous to assume op is not security-relevant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y places to mediate: hardware, compiler, 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: mediation mechanism cannot be compromised (TCB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operating system cal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rnel interface mediates access to files, memory pag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other way to create/manipulate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problem: covert timing channe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223A-5D7F-4DCC-B514-EECF2CC438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Minimize TCB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trusted computing base (TCB):  those portions of the system that absolutely must be correct in order for the system to be “secur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servation: Complex things are more likely not to work correct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the TCB should be as small as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Economy of Mechanism – don’t use three mechanisms when one will 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ings should be made as simple as possible–but no simpler.”                                        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-- A. Einstein</a:t>
            </a:r>
            <a:r>
              <a:rPr b="0" lang="en-US" sz="20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EA01-ED25-480B-9A3A-076A0DA00F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Failsafe Default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e of the most common programming or design errors is “forgetting to handle a cas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systems get larger, it becomes easier and  easier to forget to consider one element of the desig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ff by default, “forgetting a case” results in denial of serv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ed quickly by legitimate users and corr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n by default, “forgetting a case” results in the possibility of illegitimate ac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detected by legitimate users and lingers as security vulner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5E59-ECDF-4C54-91CE-6D520ED833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security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urity: prevent bad things from happen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fidential information leak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ortant information damag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itical services unavail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ents not paying for servi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ey stol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roper access to physical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used to violate law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ss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r at least make them less lik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sus an adversar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D3AE-D13C-4A07-B12D-C8794F996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Least Privileg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should be given only those privileges needed to accomplish its task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more, no le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minimal set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granularity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paration of privileges (read vs. write acces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&amp; when do the privileges change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 violation: UNIX sendmail has root privile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D111-881D-431C-A84A-A4894F6455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Open Desig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ccess of mechanism should not depend on it being secre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 security through obscurity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evitably, the secret gets ou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rs will know the secr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creased assurance if many critic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 form of secret is necessary.  Make these secrets replaceable data rather than the algorithm itself.  eg: cryptographic key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 age-old controversy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pen design makes critics’ jobs easier, but also attackers’ job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alysis tends to concentrate on core functionality; vulnerabilities remain off the beaten path. (Ergo: small TCB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times there are economic reasons to keep secre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2AF2-CCB4-4525-9BAE-B3911776EB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Security is a Proc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very system has vulnerabil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mpossible to eliminate all of th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oal: assura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stems change over t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curity requirements change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text of mechanisms changes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ure systems require maintenance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heck for defunct us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date virus softwa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tch security ho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st firewa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B80F-FBA9-4C5B-892A-DEFC112745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1:  Morris Worm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88: Penetrated an estimated 5 to 10 percent of the 6,000 machines on the interne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sed a number of clever methods to gain access to a hos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rute force password gues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g in default sendmail configur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X windows vulnerabilities, rlogin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ffer overrun in finge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iversity helped to limit the sprea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ot kits” for cracking modern systems are easily available and largely use the same techniqu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9264-383D-45BC-BED4-218C9D280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2002: MS-SQL Slammer wor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an. 25, 2002: SQL and MSDE servers on Internet turned into worm broadcast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YAB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pread to most vulnerable server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n the Internet in less than 10 min!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 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ffected databases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ull-bandwidth network load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widespread service out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orst attack ever” – brought down many sites, not Intern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’t rely on patching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fected SQL servers at Microsoft itsel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wners of most MSDE systems didn’t know they were running it…support for extensi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41840" y="1620720"/>
            <a:ext cx="31705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F26D-D2F6-4363-9B2D-7EC26EE5C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2: Love Bug, Melissa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Two email-based viruses that exploited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mmon mail client (MS Outlook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usting (i.e., uneducated) us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B scripting extensions within messages t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up addresses in the contac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a copy of the message to those cont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elissa: hit an estimated 1.2 million machin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ove Bug:  caused estimated $10B in damag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passwords, crypto, or native code involv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B168-E5C6-4601-8DCE-5DC67C22C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3: Hotmail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All Hotmail email accounts fully accessible by anyone, without a passwor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ust change username in an access URL (no programming required!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lected other Hotmail headlines (1998-99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allows password thef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pops up with JavaScript cod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licious hacker steals Hotmail password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w security glitch for Hotmail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fix not a cure-al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DC35-1FAE-4F21-B76A-405988C6B7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4: Yorktow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8: “Smart Ship” USS Yorktown suffers propulsion system failure, is towed into Norfolk Naval Ba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use: computer operator accidentally types a zero, causing divide-by-zero error that overflows database and crashes all conso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blem fixe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wo day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la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FA12-28DB-4175-B60B-872191E3A0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3:52:07Z</dcterms:created>
  <dc:creator>Andrew Myers</dc:creator>
  <dc:description/>
  <dc:language>en-US</dc:language>
  <cp:lastModifiedBy>CS</cp:lastModifiedBy>
  <dcterms:modified xsi:type="dcterms:W3CDTF">2004-09-15T14:20:08Z</dcterms:modified>
  <cp:revision>121</cp:revision>
  <dc:subject/>
  <dc:title>Security Principles</dc:title>
</cp:coreProperties>
</file>