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56BE-BDF9-4810-8B48-03B9BD007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462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5B1C-379C-4559-B641-76137956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C983-ABCE-4346-B537-49AD3A7A6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03B0-50FA-4BA5-B7B9-1BFFC3AEA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1D06-5089-4C82-985B-03C5CE4E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A257-BB0A-475F-A186-4CF5D3F9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AB46-7C56-4173-96D9-48152196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8F9E-C235-4B5B-B1FD-1C90593C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C866-DFAA-407E-91FF-AC3B0F79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33E5-96BB-480E-A8BB-297840FF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51AE-0AAB-4EA1-8DF4-FB5CF0A3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9A17-D9D8-44F1-8CB5-5E1519EC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Bitstream Ver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Bitstream Ver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Bitstream Ver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Bitstream Ver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Vera Sans"/>
              </a:rPr>
              <a:t>COS 597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EB25-5397-4018-9D45-5DDC12BAB7AB}" type="slidenum">
              <a:rPr b="0" lang="en-US" sz="14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438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urrent Techniques in </a:t>
            </a:r>
            <a:br>
              <a:rPr sz="3600"/>
            </a:b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Language-based Security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00120" y="3886200"/>
            <a:ext cx="4343400" cy="99072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avid Walker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S 597B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With slides stolen from: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teve Zdancewic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University of Pennsylvania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D272-F0F2-4E41-8B02-E58CA9BC505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epping Back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ave two formulations of stack inspection: “original” and “eager”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ave a translation to a language that manipulates sets of permissions explicitly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Includes the “administrative” reductions that just compute sets of permissions.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imilar computations can be done statically!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4B57-294F-4CEF-9969-066F22B05A0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Typing Judgment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66" name=""/>
          <p:cNvSpPr/>
          <p:nvPr/>
        </p:nvSpPr>
        <p:spPr>
          <a:xfrm>
            <a:off x="3305160" y="2590920"/>
            <a:ext cx="24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;S;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|-- e :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04920" y="1371600"/>
            <a:ext cx="7772400" cy="4191120"/>
            <a:chOff x="304920" y="1371600"/>
            <a:chExt cx="7772400" cy="4191120"/>
          </a:xfrm>
        </p:grpSpPr>
        <p:sp>
          <p:nvSpPr>
            <p:cNvPr id="68" name=""/>
            <p:cNvSpPr/>
            <p:nvPr/>
          </p:nvSpPr>
          <p:spPr>
            <a:xfrm>
              <a:off x="304920" y="3429000"/>
              <a:ext cx="2666880" cy="1447920"/>
            </a:xfrm>
            <a:prstGeom prst="wedgeRoundRectCallout">
              <a:avLst>
                <a:gd name="adj1" fmla="val 66902"/>
                <a:gd name="adj2" fmla="val -89254"/>
                <a:gd name="adj3" fmla="val 16667"/>
              </a:avLst>
            </a:prstGeom>
            <a:solidFill>
              <a:srgbClr val="ccccff"/>
            </a:solidFill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Current protection domai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38560" y="4114800"/>
              <a:ext cx="2666880" cy="1447920"/>
            </a:xfrm>
            <a:prstGeom prst="wedgeRoundRectCallout">
              <a:avLst>
                <a:gd name="adj1" fmla="val -22976"/>
                <a:gd name="adj2" fmla="val -118638"/>
                <a:gd name="adj3" fmla="val 16667"/>
              </a:avLst>
            </a:prstGeom>
            <a:solidFill>
              <a:srgbClr val="ccccff"/>
            </a:solidFill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Subset of current runtime perm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5120" y="1371600"/>
              <a:ext cx="2666880" cy="990720"/>
            </a:xfrm>
            <a:prstGeom prst="wedgeRoundRectCallout">
              <a:avLst>
                <a:gd name="adj1" fmla="val 39763"/>
                <a:gd name="adj2" fmla="val 73078"/>
                <a:gd name="adj3" fmla="val 16667"/>
              </a:avLst>
            </a:prstGeom>
            <a:solidFill>
              <a:srgbClr val="ccccff"/>
            </a:solidFill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Variable contex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48520" y="3429000"/>
              <a:ext cx="1676160" cy="685800"/>
            </a:xfrm>
            <a:prstGeom prst="wedgeRoundRectCallout">
              <a:avLst>
                <a:gd name="adj1" fmla="val -114013"/>
                <a:gd name="adj2" fmla="val -100925"/>
                <a:gd name="adj3" fmla="val 16667"/>
              </a:avLst>
            </a:prstGeom>
            <a:solidFill>
              <a:srgbClr val="ccccff"/>
            </a:solidFill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Ter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248520" y="1981080"/>
              <a:ext cx="1828800" cy="609840"/>
            </a:xfrm>
            <a:prstGeom prst="wedgeRoundRectCallout">
              <a:avLst>
                <a:gd name="adj1" fmla="val -80643"/>
                <a:gd name="adj2" fmla="val 63023"/>
                <a:gd name="adj3" fmla="val 16667"/>
              </a:avLst>
            </a:prstGeom>
            <a:solidFill>
              <a:srgbClr val="ccccff"/>
            </a:solidFill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Typ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5D3E-68EC-47E7-88D9-4695F9345D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Form of type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nly interesting (non administrative) change during compilation was for functions: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         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[[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e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]]R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</a:t>
            </a:r>
            <a:r>
              <a:rPr b="0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s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[[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]]R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ource type:    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u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arget type:     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u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itstream Vera Sans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argument, is always a set, so we “specialize” the type to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 –{S}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u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050E-C5FE-4895-A3F2-777FA248DE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Type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ypes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 ::=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yp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nt, string, …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ase typ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 –{S}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t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unc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17E1-826E-4202-AE72-2866F61EA1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imple Typing Rule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78" name=""/>
          <p:cNvSpPr/>
          <p:nvPr/>
        </p:nvSpPr>
        <p:spPr>
          <a:xfrm>
            <a:off x="4439520" y="1828800"/>
            <a:ext cx="298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;S;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|-- x : 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535040" y="3976560"/>
            <a:ext cx="5894640" cy="1206360"/>
            <a:chOff x="1535040" y="3976560"/>
            <a:chExt cx="5894640" cy="1206360"/>
          </a:xfrm>
        </p:grpSpPr>
        <p:sp>
          <p:nvSpPr>
            <p:cNvPr id="80" name=""/>
            <p:cNvSpPr/>
            <p:nvPr/>
          </p:nvSpPr>
          <p:spPr>
            <a:xfrm>
              <a:off x="1535040" y="4662360"/>
              <a:ext cx="541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R;S;</a:t>
              </a:r>
              <a:r>
                <a:rPr b="0" lang="en-US" sz="2800" spc="-1" strike="noStrike">
                  <a:solidFill>
                    <a:srgbClr val="336699"/>
                  </a:solidFill>
                  <a:latin typeface="Symbol"/>
                  <a:ea typeface="Symbol"/>
                </a:rPr>
                <a:t>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|-- </a:t>
              </a:r>
              <a:r>
                <a:rPr b="0" lang="en-US" sz="2800" spc="-1" strike="noStrike">
                  <a:solidFill>
                    <a:srgbClr val="336699"/>
                  </a:solidFill>
                  <a:latin typeface="Symbol"/>
                  <a:ea typeface="Symbol"/>
                </a:rPr>
                <a:t>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x.e  :  t1 –{S’}</a:t>
              </a:r>
              <a:r>
                <a:rPr b="0" lang="en-US" sz="2800" spc="-1" strike="noStrike">
                  <a:solidFill>
                    <a:srgbClr val="336699"/>
                  </a:solidFill>
                  <a:latin typeface="Wingdings"/>
                  <a:ea typeface="Wingdings"/>
                </a:rPr>
                <a:t>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t2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385360" y="3976560"/>
              <a:ext cx="390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R;S’;</a:t>
              </a:r>
              <a:r>
                <a:rPr b="0" lang="en-US" sz="2800" spc="-1" strike="noStrike">
                  <a:solidFill>
                    <a:srgbClr val="336699"/>
                  </a:solidFill>
                  <a:latin typeface="Symbol"/>
                  <a:ea typeface="Symbol"/>
                </a:rPr>
                <a:t>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,x:t1 |-- e  :  t2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714680" y="4584600"/>
              <a:ext cx="5715000" cy="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1068840" y="3352680"/>
            <a:ext cx="233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Abstra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4080" y="1828800"/>
            <a:ext cx="195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Vari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6BEB-7CB7-4B01-941A-DD2AAC17A8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More Simple Typing Rule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779280" y="1371600"/>
            <a:ext cx="4336200" cy="1739880"/>
            <a:chOff x="3779280" y="1371600"/>
            <a:chExt cx="4336200" cy="1739880"/>
          </a:xfrm>
        </p:grpSpPr>
        <p:sp>
          <p:nvSpPr>
            <p:cNvPr id="87" name=""/>
            <p:cNvSpPr/>
            <p:nvPr/>
          </p:nvSpPr>
          <p:spPr>
            <a:xfrm>
              <a:off x="3895200" y="2590920"/>
              <a:ext cx="277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R;S;</a:t>
              </a:r>
              <a:r>
                <a:rPr b="0" lang="en-US" sz="2800" spc="-1" strike="noStrike">
                  <a:solidFill>
                    <a:srgbClr val="336699"/>
                  </a:solidFill>
                  <a:latin typeface="Symbol"/>
                  <a:ea typeface="Symbol"/>
                </a:rPr>
                <a:t>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|-- e f : t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779280" y="1371600"/>
              <a:ext cx="422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R;S;</a:t>
              </a:r>
              <a:r>
                <a:rPr b="0" lang="en-US" sz="2800" spc="-1" strike="noStrike">
                  <a:solidFill>
                    <a:srgbClr val="336699"/>
                  </a:solidFill>
                  <a:latin typeface="Symbol"/>
                  <a:ea typeface="Symbol"/>
                </a:rPr>
                <a:t>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|-- e  :  t –{S}</a:t>
              </a:r>
              <a:r>
                <a:rPr b="0" lang="en-US" sz="2800" spc="-1" strike="noStrike">
                  <a:solidFill>
                    <a:srgbClr val="336699"/>
                  </a:solidFill>
                  <a:latin typeface="Wingdings"/>
                  <a:ea typeface="Wingdings"/>
                </a:rPr>
                <a:t>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t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038480" y="2513160"/>
              <a:ext cx="4077000" cy="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914640" y="1905120"/>
              <a:ext cx="2553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R;S;</a:t>
              </a:r>
              <a:r>
                <a:rPr b="0" lang="en-US" sz="2800" spc="-1" strike="noStrike">
                  <a:solidFill>
                    <a:srgbClr val="336699"/>
                  </a:solidFill>
                  <a:latin typeface="Symbol"/>
                  <a:ea typeface="Symbol"/>
                </a:rPr>
                <a:t>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|-- f  :  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067040" y="2057400"/>
            <a:ext cx="22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Applic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759120" y="3733920"/>
            <a:ext cx="4927680" cy="1739520"/>
            <a:chOff x="3759120" y="3733920"/>
            <a:chExt cx="4927680" cy="1739520"/>
          </a:xfrm>
        </p:grpSpPr>
        <p:sp>
          <p:nvSpPr>
            <p:cNvPr id="93" name=""/>
            <p:cNvSpPr/>
            <p:nvPr/>
          </p:nvSpPr>
          <p:spPr>
            <a:xfrm>
              <a:off x="3759120" y="4952880"/>
              <a:ext cx="439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R;S;</a:t>
              </a:r>
              <a:r>
                <a:rPr b="0" lang="en-US" sz="2800" spc="-1" strike="noStrike">
                  <a:solidFill>
                    <a:srgbClr val="336699"/>
                  </a:solidFill>
                  <a:latin typeface="Symbol"/>
                  <a:ea typeface="Symbol"/>
                </a:rPr>
                <a:t>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|-- let x = e in f : 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939120" y="3733920"/>
              <a:ext cx="250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R;S;</a:t>
              </a:r>
              <a:r>
                <a:rPr b="0" lang="en-US" sz="2800" spc="-1" strike="noStrike">
                  <a:solidFill>
                    <a:srgbClr val="336699"/>
                  </a:solidFill>
                  <a:latin typeface="Symbol"/>
                  <a:ea typeface="Symbol"/>
                </a:rPr>
                <a:t>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|-- e : 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38480" y="4875120"/>
              <a:ext cx="4648320" cy="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66400" y="4267080"/>
              <a:ext cx="322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R;S;</a:t>
              </a:r>
              <a:r>
                <a:rPr b="0" lang="en-US" sz="2800" spc="-1" strike="noStrike">
                  <a:solidFill>
                    <a:srgbClr val="336699"/>
                  </a:solidFill>
                  <a:latin typeface="Symbol"/>
                  <a:ea typeface="Symbol"/>
                </a:rPr>
                <a:t>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,x:u |-- f  :  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145160" y="4038480"/>
            <a:ext cx="85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L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6983-29B9-431D-BDE7-D9578B11FA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Rule for Check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99" name=""/>
          <p:cNvSpPr/>
          <p:nvPr/>
        </p:nvSpPr>
        <p:spPr>
          <a:xfrm>
            <a:off x="1172880" y="4662360"/>
            <a:ext cx="59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; S</a:t>
            </a:r>
            <a:r>
              <a:rPr b="1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{p};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|-- check p then e :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78880" y="4052880"/>
            <a:ext cx="36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; S</a:t>
            </a:r>
            <a:r>
              <a:rPr b="1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{p};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|-- e  :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57360" y="4584600"/>
            <a:ext cx="5881680" cy="1800"/>
          </a:xfrm>
          <a:prstGeom prst="line">
            <a:avLst/>
          </a:prstGeom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57280" y="1676520"/>
            <a:ext cx="622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Note that this typing rule requ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that the permission p is stat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known to be avail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C6D3-2B07-4664-A1E4-7BF9207A517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Typing Rules for Enab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04" name=""/>
          <p:cNvSpPr/>
          <p:nvPr/>
        </p:nvSpPr>
        <p:spPr>
          <a:xfrm>
            <a:off x="652680" y="4419720"/>
            <a:ext cx="21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Enable fai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5600" y="487692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;S;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|-- enable p in e :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90600" y="4191120"/>
            <a:ext cx="427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;S;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|-- e  : t       p </a:t>
            </a:r>
            <a:r>
              <a:rPr b="1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4799160"/>
            <a:ext cx="4952880" cy="1440"/>
          </a:xfrm>
          <a:prstGeom prst="line">
            <a:avLst/>
          </a:prstGeom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1880" y="1676520"/>
            <a:ext cx="30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Enable succe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40840" y="304812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;S;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|-- enable p in e :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61280" y="2362320"/>
            <a:ext cx="523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;S</a:t>
            </a:r>
            <a:r>
              <a:rPr b="1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{p};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|-- e  : t       p </a:t>
            </a:r>
            <a:r>
              <a:rPr b="1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71600" y="2970360"/>
            <a:ext cx="5881680" cy="1440"/>
          </a:xfrm>
          <a:prstGeom prst="line">
            <a:avLst/>
          </a:prstGeom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01000" y="5715000"/>
            <a:ext cx="771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-- latter should be flagged as useless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36F3-5ED2-4CCE-88D3-DF101FFA70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Rule for Tes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4662360"/>
            <a:ext cx="54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;S;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|-- test p then e else f: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43680" y="4038480"/>
            <a:ext cx="24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;S;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|-- f  :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4572000"/>
            <a:ext cx="7162560" cy="0"/>
          </a:xfrm>
          <a:prstGeom prst="line">
            <a:avLst/>
          </a:prstGeom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05800" y="3429000"/>
            <a:ext cx="36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; S</a:t>
            </a:r>
            <a:r>
              <a:rPr b="1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{p};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|-- e  :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44560" y="1600200"/>
            <a:ext cx="7454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Check the first branch under assum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that p is present, check the else branch 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under assumption that p is abs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D365-C121-48EA-A24F-38DEE98283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Rule for Protection Domain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20" name=""/>
          <p:cNvSpPr/>
          <p:nvPr/>
        </p:nvSpPr>
        <p:spPr>
          <a:xfrm>
            <a:off x="2764440" y="4052880"/>
            <a:ext cx="30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;S;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|-- S’{e}: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24920" y="3352680"/>
            <a:ext cx="324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’;S</a:t>
            </a:r>
            <a:r>
              <a:rPr b="1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’;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|-- e  :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14680" y="3962520"/>
            <a:ext cx="3733560" cy="0"/>
          </a:xfrm>
          <a:prstGeom prst="line">
            <a:avLst/>
          </a:prstGeom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67000" y="1523880"/>
            <a:ext cx="620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Intersect the permissions in the 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tatic protection domain with the 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current permission 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9D06-1352-44B2-8733-B8E2D78223B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ecurity Talks this Week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My Dad's Computer, Microsoft, and the Future of Internet Security.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Bill Cheswick, Lumeta, co-inventor of the Internet firewal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Today at 4PM (We’ll stop class early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xtensible Semantics for XrML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Vicky Weissman, Cornel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Friday at 2:30, CS 402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XrML (the eXtensible rights Markup Language) is a popular language in which to write software licenses.  See what it is all about and how to give it a semantic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3650-548B-4B5F-8630-6E13775081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Weakening (Subsumption)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209680" y="2666880"/>
            <a:ext cx="4724640" cy="1282680"/>
            <a:chOff x="2209680" y="2666880"/>
            <a:chExt cx="4724640" cy="1282680"/>
          </a:xfrm>
        </p:grpSpPr>
        <p:sp>
          <p:nvSpPr>
            <p:cNvPr id="126" name=""/>
            <p:cNvSpPr/>
            <p:nvPr/>
          </p:nvSpPr>
          <p:spPr>
            <a:xfrm>
              <a:off x="3248280" y="3429000"/>
              <a:ext cx="242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R;S;</a:t>
              </a:r>
              <a:r>
                <a:rPr b="0" lang="en-US" sz="2800" spc="-1" strike="noStrike">
                  <a:solidFill>
                    <a:srgbClr val="336699"/>
                  </a:solidFill>
                  <a:latin typeface="Symbol"/>
                  <a:ea typeface="Symbol"/>
                </a:rPr>
                <a:t>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|-- e : 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2455200" y="2666880"/>
              <a:ext cx="4066200" cy="520560"/>
              <a:chOff x="2455200" y="2666880"/>
              <a:chExt cx="4066200" cy="520560"/>
            </a:xfrm>
          </p:grpSpPr>
          <p:sp>
            <p:nvSpPr>
              <p:cNvPr id="128" name=""/>
              <p:cNvSpPr/>
              <p:nvPr/>
            </p:nvSpPr>
            <p:spPr>
              <a:xfrm>
                <a:off x="2455200" y="2666880"/>
                <a:ext cx="2533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336699"/>
                    </a:solidFill>
                    <a:latin typeface="Bitstream Vera Sans"/>
                  </a:rPr>
                  <a:t>R;S’;</a:t>
                </a:r>
                <a:r>
                  <a:rPr b="0" lang="en-US" sz="2800" spc="-1" strike="noStrike">
                    <a:solidFill>
                      <a:srgbClr val="336699"/>
                    </a:solidFill>
                    <a:latin typeface="Symbol"/>
                    <a:ea typeface="Symbol"/>
                  </a:rPr>
                  <a:t></a:t>
                </a:r>
                <a:r>
                  <a:rPr b="0" lang="en-US" sz="2800" spc="-1" strike="noStrike">
                    <a:solidFill>
                      <a:srgbClr val="336699"/>
                    </a:solidFill>
                    <a:latin typeface="Bitstream Vera Sans"/>
                  </a:rPr>
                  <a:t> |-- e : 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382000" y="2666880"/>
                <a:ext cx="1139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336699"/>
                    </a:solidFill>
                    <a:latin typeface="Bitstream Vera Sans"/>
                  </a:rPr>
                  <a:t>S’</a:t>
                </a:r>
                <a:r>
                  <a:rPr b="1" lang="en-US" sz="2800" spc="-1" strike="noStrike">
                    <a:solidFill>
                      <a:srgbClr val="336699"/>
                    </a:solidFill>
                    <a:latin typeface="Symbol"/>
                    <a:ea typeface="Symbol"/>
                  </a:rPr>
                  <a:t></a:t>
                </a:r>
                <a:r>
                  <a:rPr b="0" lang="en-US" sz="2800" spc="-1" strike="noStrike">
                    <a:solidFill>
                      <a:srgbClr val="336699"/>
                    </a:solidFill>
                    <a:latin typeface="Bitstream Vera Sans"/>
                  </a:rPr>
                  <a:t> 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209680" y="3276360"/>
              <a:ext cx="4724640" cy="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875880" y="1600200"/>
            <a:ext cx="73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It is always safe to “forget” permi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5E82-96E2-4C82-9403-92A537D465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Type Safety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heorem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f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P;P;</a:t>
            </a:r>
            <a:r>
              <a:rPr b="1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|-- e : t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hen either 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* v or 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iverge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n particular: e never fails.  (i.e. check always succeeds)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of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eservation &amp; Progres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0726-8CDA-4AC7-AAA0-AD8D9F9EA8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: Good Cod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35" name=""/>
          <p:cNvSpPr/>
          <p:nvPr/>
        </p:nvSpPr>
        <p:spPr>
          <a:xfrm>
            <a:off x="255960" y="1523880"/>
            <a:ext cx="7454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h = System{enable “f1” in 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    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{(</a:t>
            </a:r>
            <a:r>
              <a:rPr b="0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x.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       System{check “f1” then write x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)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   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“kwijibo”}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Then   P;S;</a:t>
            </a:r>
            <a:r>
              <a:rPr b="1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|-- h : unit    for any 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D1FA-3115-4A1D-B6BE-65070702ECB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: Bad Cod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37" name=""/>
          <p:cNvSpPr/>
          <p:nvPr/>
        </p:nvSpPr>
        <p:spPr>
          <a:xfrm>
            <a:off x="255960" y="1523880"/>
            <a:ext cx="7454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g = System{enable “f1” in 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    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{(</a:t>
            </a:r>
            <a:r>
              <a:rPr b="0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x.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       System{check “f2” then write x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)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   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“kwijibo”}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Then   R;S;</a:t>
            </a:r>
            <a:r>
              <a:rPr b="1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|-- g : t   is not derivable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for any R,S, and 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2286000"/>
            <a:ext cx="685800" cy="609480"/>
          </a:xfrm>
          <a:prstGeom prst="ellipse">
            <a:avLst/>
          </a:prstGeom>
          <a:noFill/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599D-CD15-48C1-92FA-AD057E4A31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tic vs. Dynamic Check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40" name=""/>
          <p:cNvSpPr/>
          <p:nvPr/>
        </p:nvSpPr>
        <p:spPr>
          <a:xfrm>
            <a:off x="464040" y="2590920"/>
            <a:ext cx="741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|-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check p in x  :  int –{p}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5000" y="1371600"/>
            <a:ext cx="610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Calling this function requires the </a:t>
            </a:r>
            <a:br>
              <a:rPr sz="2800"/>
            </a:br>
            <a:r>
              <a:rPr b="0" i="1" lang="en-US" sz="2800" spc="-1" strike="noStrike">
                <a:solidFill>
                  <a:srgbClr val="336699"/>
                </a:solidFill>
                <a:latin typeface="Bitstream Vera Sans"/>
              </a:rPr>
              <a:t>static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permission 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89120" y="3505320"/>
            <a:ext cx="7767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Only way to call it (assuming initial perms.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are empty) is to put it in the scope of a</a:t>
            </a:r>
            <a:br>
              <a:rPr sz="2800"/>
            </a:br>
            <a:r>
              <a:rPr b="0" i="1" lang="en-US" sz="2800" spc="-1" strike="noStrike">
                <a:solidFill>
                  <a:srgbClr val="336699"/>
                </a:solidFill>
                <a:latin typeface="Bitstream Vera Sans"/>
              </a:rPr>
              <a:t>dynamic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te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est p then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…can call it here…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lse 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…may not call it he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D55F-B420-4789-9C89-4F6FE21C383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pressivenes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This type system is very simpl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No subtyping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No polymorphis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Not algorithmic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Hard to do inferenc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an add all of these features…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ee François Pottier’s paper for a nice example.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Uses Didier Rémy’s row types to describe the sets of permission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Uses HM(X) – Hindley Milner with constraint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Also shows how to derive a type system for the source language from the translation!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91E7-06F5-46D6-9B17-87CE597DC29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onclusion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ack inspection is a complex security mechanism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n practice, useful for preventing some attack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ormal reasoning useful for understanding what optimizations preserve semantic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ype systems or program analysis have the potential to catch “obvious” security violations at compile time where they can easily be fixed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3268-F28B-4E8F-9283-72F2994BEDD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Types for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ant to do static checking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Bitstream Vera Sans"/>
              </a:rPr>
              <a:t>sec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cod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tatically detect security failures.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liminate redundant checks.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xample of nonstandard type system for enforcing security properties.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ype system based on work by Pottier, Skalka, and Smith: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A Systematic Approach to Static Access Control”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xplain the type system by taking a detour through “security-passing” style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Wallach’s &amp; Felten’s “Understanding Stack Inspection”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BE97-408D-46C5-9D7D-86B46B9609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ecurity-passing Sty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asic idea: Convert the “stack-crawling” form of stack inspection into a “permission-set passing style”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ompute the set of current permissions at any point in the code.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Make the set of permissions explicit as an extra parameter to functions (hence “security-passing style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arget language is a lambda calculus with a primitive datatype of set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82B8-9514-43F0-83F7-E9B5A0E7D1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Target Language: </a:t>
            </a:r>
            <a:r>
              <a:rPr b="1" lang="en-US" sz="54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e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anguage syntax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,f ::=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xpress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x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vari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x.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un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e f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appli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fail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ailu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let x = e in f            local dec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if p</a:t>
            </a:r>
            <a:r>
              <a:rPr b="1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se then e else f            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member test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  s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set expr.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se ::=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 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                         perm. set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  se </a:t>
            </a:r>
            <a:r>
              <a:rPr b="1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s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union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  se  </a:t>
            </a:r>
            <a:r>
              <a:rPr b="1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se                                 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intersection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  x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63A1-BB05-46CA-A483-FB49FBE6D0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Translation: </a:t>
            </a:r>
            <a:r>
              <a:rPr b="1" lang="en-US" sz="54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ec to </a:t>
            </a:r>
            <a:r>
              <a:rPr b="1" lang="en-US" sz="54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et 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52" name=""/>
          <p:cNvSpPr/>
          <p:nvPr/>
        </p:nvSpPr>
        <p:spPr>
          <a:xfrm>
            <a:off x="-513720" y="1371600"/>
            <a:ext cx="9739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= “translation of e in domain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with s = current permission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=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[[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x.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x.</a:t>
            </a:r>
            <a:r>
              <a:rPr b="0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s.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 f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= 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  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 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s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et x = e in f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 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et x =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in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nable p in 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=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let s = s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 ({p}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 R) in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R’{e}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=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let s = s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 R’ in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heck p 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=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if p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cc66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s then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test p then e1 else e2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=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if p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cc66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s then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1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els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2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Top level translation:   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   =  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P{P/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1FB2-F906-4BD8-BF14-AD81AC6E74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Transla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54" name=""/>
          <p:cNvSpPr/>
          <p:nvPr/>
        </p:nvSpPr>
        <p:spPr>
          <a:xfrm>
            <a:off x="407880" y="1447920"/>
            <a:ext cx="7454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= {“f1, “f2”, “f3”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  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= {“f1”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h = System{enable “f1” in 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    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{(</a:t>
            </a:r>
            <a:r>
              <a:rPr b="0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x.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       System{check “f1” then write x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)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   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“kwijibo”}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B37A-9E21-4A80-89E7-8B8B110842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Transla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295280"/>
            <a:ext cx="15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[[h]]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73040" y="1371600"/>
            <a:ext cx="6559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Bitstream Vera Sans"/>
              </a:rPr>
              <a:t>(* System 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let s = P </a:t>
            </a:r>
            <a:r>
              <a:rPr b="1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</a:t>
            </a:r>
            <a:r>
              <a:rPr b="1" lang="en-US" sz="24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{“f1”, “f2”, “f3”}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Bitstream Vera Sans"/>
              </a:rPr>
              <a:t>(* enable “f1” 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let s = s </a:t>
            </a:r>
            <a:r>
              <a:rPr b="1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({“f1”} </a:t>
            </a:r>
            <a:r>
              <a:rPr b="1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{“f1”, “f2”, “f3”})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Bitstream Vera Sans"/>
              </a:rPr>
              <a:t>(* Applet  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let s = s 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</a:t>
            </a:r>
            <a:r>
              <a:rPr b="1" lang="en-US" sz="2400" spc="-1" strike="noStrike">
                <a:solidFill>
                  <a:srgbClr val="cc66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{“f1”}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 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(</a:t>
            </a:r>
            <a:r>
              <a:rPr b="0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x.</a:t>
            </a:r>
            <a:r>
              <a:rPr b="0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s.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  </a:t>
            </a:r>
            <a:r>
              <a:rPr b="0" i="1" lang="en-US" sz="2400" spc="-1" strike="noStrike">
                <a:solidFill>
                  <a:srgbClr val="808080"/>
                </a:solidFill>
                <a:latin typeface="Bitstream Vera Sans"/>
              </a:rPr>
              <a:t>(* System  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let s = s </a:t>
            </a:r>
            <a:r>
              <a:rPr b="1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</a:t>
            </a:r>
            <a:r>
              <a:rPr b="1" lang="en-US" sz="24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{“f1”, “f2”, “f3”} in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  if “f1” </a:t>
            </a:r>
            <a:r>
              <a:rPr b="1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s then write x else fail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  “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kwijibo”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3BBE-D54F-4C76-97EB-9A8226B112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Transla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295280"/>
            <a:ext cx="15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[[h]]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78600" y="1371600"/>
            <a:ext cx="6559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Bitstream Vera Sans"/>
              </a:rPr>
              <a:t>(* System 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let s = P </a:t>
            </a:r>
            <a:r>
              <a:rPr b="1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</a:t>
            </a:r>
            <a:r>
              <a:rPr b="1" lang="en-US" sz="24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{“f1”, “f2”, “f3”}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Bitstream Vera Sans"/>
              </a:rPr>
              <a:t>(* enable “f1” 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let s = s </a:t>
            </a:r>
            <a:r>
              <a:rPr b="1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({“f1”} </a:t>
            </a:r>
            <a:r>
              <a:rPr b="1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{“f1”, “f2”, “f3”})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Bitstream Vera Sans"/>
              </a:rPr>
              <a:t>(* Applet  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let s = s 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</a:t>
            </a:r>
            <a:r>
              <a:rPr b="1" lang="en-US" sz="2400" spc="-1" strike="noStrike">
                <a:solidFill>
                  <a:srgbClr val="cc66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{“f1”}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 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(</a:t>
            </a:r>
            <a:r>
              <a:rPr b="0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x.</a:t>
            </a:r>
            <a:r>
              <a:rPr b="0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s.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  </a:t>
            </a:r>
            <a:r>
              <a:rPr b="0" i="1" lang="en-US" sz="2400" spc="-1" strike="noStrike">
                <a:solidFill>
                  <a:srgbClr val="808080"/>
                </a:solidFill>
                <a:latin typeface="Bitstream Vera Sans"/>
              </a:rPr>
              <a:t>(* System  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let s = s </a:t>
            </a:r>
            <a:r>
              <a:rPr b="1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</a:t>
            </a:r>
            <a:r>
              <a:rPr b="1" lang="en-US" sz="24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{“f1”, “f2”, “f3”} in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  if </a:t>
            </a:r>
            <a:r>
              <a:rPr b="0" lang="en-US" sz="2400" spc="-1" strike="noStrike">
                <a:solidFill>
                  <a:srgbClr val="ff0000"/>
                </a:solidFill>
                <a:latin typeface="Bitstream Vera Sans"/>
              </a:rPr>
              <a:t>“f3”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s then write x else fail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  “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kwijibo”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219320" y="5028840"/>
            <a:ext cx="1752480" cy="6858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560" y="5715000"/>
            <a:ext cx="34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Bitstream Vera Sans"/>
              </a:rPr>
              <a:t>Change permission ch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877C-AA52-415B-8440-628729DA3E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0T19:38:53Z</dcterms:created>
  <dc:creator>Steve Zdancewic</dc:creator>
  <dc:description/>
  <dc:language>en-US</dc:language>
  <cp:lastModifiedBy>CS</cp:lastModifiedBy>
  <dcterms:modified xsi:type="dcterms:W3CDTF">2004-10-20T18:33:42Z</dcterms:modified>
  <cp:revision>71</cp:revision>
  <dc:subject/>
  <dc:title>Observational Determinism for  Concurrent Program Security</dc:title>
</cp:coreProperties>
</file>