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090-A88A-4112-BF70-B53319CE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A1C-BA57-4E80-B50B-56BE6D8B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1D92-7DEC-4164-B641-D0AD7101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73CC-3C6C-495A-B12A-0660E94F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FE5-C874-41A6-AFE9-DE19609B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C6CF-94DD-40B7-AE53-B23587F7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227B-2692-4BDE-9478-73D86A5B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E67-7579-481E-8599-425E03BF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C02-86A8-4824-921E-22950C07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E53B-0111-4490-97B2-E6D90C66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D728-15D9-4801-B9C8-07586813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424-9EA4-4D46-9FC3-B61C5036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COS 597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5D42-4DEA-4C27-B65D-188AAFBC7BAB}" type="slidenum"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urrent Techniques in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Language-based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00120" y="3886200"/>
            <a:ext cx="4343400" cy="9907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S 597B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ith slides stolen from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eve Zdancew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University of Pennsylvani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A39-8057-44BB-9B8C-465E5F024F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epping Back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ve two formulations of stack inspection: “original” and “eager”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ave a translation to a language that manipulates sets of permissions explicitly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ncludes the “administrative” reductions that just compute sets of permissions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imilar computations can be done statically!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74A7-378C-4522-925B-C32B4DB7B0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yping Judgment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6" name=""/>
          <p:cNvSpPr/>
          <p:nvPr/>
        </p:nvSpPr>
        <p:spPr>
          <a:xfrm>
            <a:off x="3305160" y="2590920"/>
            <a:ext cx="24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04920" y="1371600"/>
            <a:ext cx="7772400" cy="4191120"/>
            <a:chOff x="304920" y="1371600"/>
            <a:chExt cx="7772400" cy="4191120"/>
          </a:xfrm>
        </p:grpSpPr>
        <p:sp>
          <p:nvSpPr>
            <p:cNvPr id="68" name=""/>
            <p:cNvSpPr/>
            <p:nvPr/>
          </p:nvSpPr>
          <p:spPr>
            <a:xfrm>
              <a:off x="304920" y="3429000"/>
              <a:ext cx="2666880" cy="1447920"/>
            </a:xfrm>
            <a:prstGeom prst="wedgeRoundRectCallout">
              <a:avLst>
                <a:gd name="adj1" fmla="val 66902"/>
                <a:gd name="adj2" fmla="val -89254"/>
                <a:gd name="adj3" fmla="val 16667"/>
              </a:avLst>
            </a:prstGeom>
            <a:solidFill>
              <a:srgbClr val="cccc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Current protection domai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38560" y="4114800"/>
              <a:ext cx="2666880" cy="1447920"/>
            </a:xfrm>
            <a:prstGeom prst="wedgeRoundRectCallout">
              <a:avLst>
                <a:gd name="adj1" fmla="val -22976"/>
                <a:gd name="adj2" fmla="val -118638"/>
                <a:gd name="adj3" fmla="val 16667"/>
              </a:avLst>
            </a:prstGeom>
            <a:solidFill>
              <a:srgbClr val="cccc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Subset of current runtime per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5120" y="1371600"/>
              <a:ext cx="2666880" cy="990720"/>
            </a:xfrm>
            <a:prstGeom prst="wedgeRoundRectCallout">
              <a:avLst>
                <a:gd name="adj1" fmla="val 39763"/>
                <a:gd name="adj2" fmla="val 73078"/>
                <a:gd name="adj3" fmla="val 16667"/>
              </a:avLst>
            </a:prstGeom>
            <a:solidFill>
              <a:srgbClr val="cccc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Variable contex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48520" y="3429000"/>
              <a:ext cx="1676160" cy="685800"/>
            </a:xfrm>
            <a:prstGeom prst="wedgeRoundRectCallout">
              <a:avLst>
                <a:gd name="adj1" fmla="val -114013"/>
                <a:gd name="adj2" fmla="val -100925"/>
                <a:gd name="adj3" fmla="val 16667"/>
              </a:avLst>
            </a:prstGeom>
            <a:solidFill>
              <a:srgbClr val="cccc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Ter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48520" y="1981080"/>
              <a:ext cx="1828800" cy="609840"/>
            </a:xfrm>
            <a:prstGeom prst="wedgeRoundRectCallout">
              <a:avLst>
                <a:gd name="adj1" fmla="val -80643"/>
                <a:gd name="adj2" fmla="val 63023"/>
                <a:gd name="adj3" fmla="val 16667"/>
              </a:avLst>
            </a:prstGeom>
            <a:solidFill>
              <a:srgbClr val="ccccff"/>
            </a:solidFill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Ty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308E-10B6-46A5-B319-E6BBC1697D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 of typ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nly interesting (non administrative) change during compilation was for functions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]]R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s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ource type:    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u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arget type:     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u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itstream Vera Sans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rgument, is always a set, so we “specialize” the type to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 –{S}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u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53EB-B0FC-4058-9D55-2B31D96DCB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yp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ype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 ::=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yp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t, string, …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ase typ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 –{S}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unc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48F3-0364-4DFB-A274-3FE9ED2810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imple Typing Rul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8" name=""/>
          <p:cNvSpPr/>
          <p:nvPr/>
        </p:nvSpPr>
        <p:spPr>
          <a:xfrm>
            <a:off x="4439520" y="1828800"/>
            <a:ext cx="29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x : 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535040" y="3976560"/>
            <a:ext cx="5894640" cy="1206360"/>
            <a:chOff x="1535040" y="3976560"/>
            <a:chExt cx="5894640" cy="1206360"/>
          </a:xfrm>
        </p:grpSpPr>
        <p:sp>
          <p:nvSpPr>
            <p:cNvPr id="80" name=""/>
            <p:cNvSpPr/>
            <p:nvPr/>
          </p:nvSpPr>
          <p:spPr>
            <a:xfrm>
              <a:off x="1535040" y="4662360"/>
              <a:ext cx="541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|-- 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x.e  :  t1 –{S’}</a:t>
              </a:r>
              <a:r>
                <a:rPr b="0" lang="en-US" sz="2800" spc="-1" strike="noStrike">
                  <a:solidFill>
                    <a:srgbClr val="336699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t2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85360" y="3976560"/>
              <a:ext cx="390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’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,x:t1 |-- e  :  t2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14680" y="4584600"/>
              <a:ext cx="5715000" cy="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068840" y="335268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bstr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4080" y="1828800"/>
            <a:ext cx="19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A83-872B-4666-B9B5-8C7504242A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More Simple Typing Rul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779280" y="1371600"/>
            <a:ext cx="4336200" cy="1739880"/>
            <a:chOff x="3779280" y="1371600"/>
            <a:chExt cx="4336200" cy="1739880"/>
          </a:xfrm>
        </p:grpSpPr>
        <p:sp>
          <p:nvSpPr>
            <p:cNvPr id="87" name=""/>
            <p:cNvSpPr/>
            <p:nvPr/>
          </p:nvSpPr>
          <p:spPr>
            <a:xfrm>
              <a:off x="3895200" y="2590920"/>
              <a:ext cx="277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|-- e f : t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79280" y="1371600"/>
              <a:ext cx="422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|-- e  :  t –{S}</a:t>
              </a:r>
              <a:r>
                <a:rPr b="0" lang="en-US" sz="2800" spc="-1" strike="noStrike">
                  <a:solidFill>
                    <a:srgbClr val="336699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t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38480" y="2513160"/>
              <a:ext cx="4077000" cy="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14640" y="1905120"/>
              <a:ext cx="255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|-- f  : 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067040" y="2057400"/>
            <a:ext cx="22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759120" y="3733920"/>
            <a:ext cx="4927680" cy="1739520"/>
            <a:chOff x="3759120" y="3733920"/>
            <a:chExt cx="4927680" cy="1739520"/>
          </a:xfrm>
        </p:grpSpPr>
        <p:sp>
          <p:nvSpPr>
            <p:cNvPr id="93" name=""/>
            <p:cNvSpPr/>
            <p:nvPr/>
          </p:nvSpPr>
          <p:spPr>
            <a:xfrm>
              <a:off x="3759120" y="4952880"/>
              <a:ext cx="439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|-- let x = e in f :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39120" y="3733920"/>
              <a:ext cx="250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|-- e : 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38480" y="4875120"/>
              <a:ext cx="4648320" cy="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66400" y="4267080"/>
              <a:ext cx="322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,x:u |-- f  : 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145160" y="403848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L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B798-8B37-46A2-82A8-6981D0D981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Rule for Check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9" name=""/>
          <p:cNvSpPr/>
          <p:nvPr/>
        </p:nvSpPr>
        <p:spPr>
          <a:xfrm>
            <a:off x="1172880" y="4662360"/>
            <a:ext cx="59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 S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{p}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check p then e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78880" y="4052880"/>
            <a:ext cx="36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 S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{p}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 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57360" y="4584600"/>
            <a:ext cx="5881680" cy="1800"/>
          </a:xfrm>
          <a:prstGeom prst="line">
            <a:avLst/>
          </a:prstGeom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7280" y="1676520"/>
            <a:ext cx="62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Note that this typing rule requ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that the permission p is sta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known to be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B89-C78E-4204-A394-80A21DEB9C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yping Rules for Enab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4" name=""/>
          <p:cNvSpPr/>
          <p:nvPr/>
        </p:nvSpPr>
        <p:spPr>
          <a:xfrm>
            <a:off x="652680" y="4419720"/>
            <a:ext cx="21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Enable fai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5600" y="487692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nable p in e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90600" y="4191120"/>
            <a:ext cx="427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  : t       p 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799160"/>
            <a:ext cx="4952880" cy="1440"/>
          </a:xfrm>
          <a:prstGeom prst="line">
            <a:avLst/>
          </a:prstGeom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1880" y="167652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Enable succe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40840" y="304812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nable p in e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61280" y="2362320"/>
            <a:ext cx="52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{p}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  : t       p 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71600" y="2970360"/>
            <a:ext cx="5881680" cy="1440"/>
          </a:xfrm>
          <a:prstGeom prst="line">
            <a:avLst/>
          </a:prstGeom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1000" y="5715000"/>
            <a:ext cx="77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-- latter should be flagged as useless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2B4-8A01-4FD2-AD81-788A1EAA57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Rule for Tes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466236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test p then e else f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43680" y="4038480"/>
            <a:ext cx="24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f 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4572000"/>
            <a:ext cx="7162560" cy="0"/>
          </a:xfrm>
          <a:prstGeom prst="line">
            <a:avLst/>
          </a:prstGeom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5800" y="3429000"/>
            <a:ext cx="36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 S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{p}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 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44560" y="1600200"/>
            <a:ext cx="745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heck the first branch under as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that p is present, check the else branch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nder assumption that p is abs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FA7-CC3B-40BB-925F-47C1210B0C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Rule for Protection Domai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0" name=""/>
          <p:cNvSpPr/>
          <p:nvPr/>
        </p:nvSpPr>
        <p:spPr>
          <a:xfrm>
            <a:off x="2764440" y="405288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;S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S’{e}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24920" y="3352680"/>
            <a:ext cx="32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’;S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’;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  :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14680" y="3962520"/>
            <a:ext cx="3733560" cy="0"/>
          </a:xfrm>
          <a:prstGeom prst="line">
            <a:avLst/>
          </a:prstGeom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67000" y="1523880"/>
            <a:ext cx="620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Intersect the permissions in the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tatic protection domain with the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urrent permission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95D-AF9B-4DAD-88A2-657062A59F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ecurity Talks this Week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y Dad's Computer, Microsoft, and the Future of Internet Security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Bill Cheswick, Lumeta, co-inventor of the Internet firewal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Today at 4PM (We’ll stop class early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xtensible Semantics for XrML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Vicky Weissman, Cornell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riday at 2:30, CS 402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XrML (the eXtensible rights Markup Language) is a popular language in which to write software licenses.  See what it is all about and how to give it a semantic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73F-8AFC-4DA7-BCCC-D0821523AA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Weakening (Subsumption)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09680" y="2666880"/>
            <a:ext cx="4724640" cy="1282680"/>
            <a:chOff x="2209680" y="2666880"/>
            <a:chExt cx="4724640" cy="1282680"/>
          </a:xfrm>
        </p:grpSpPr>
        <p:sp>
          <p:nvSpPr>
            <p:cNvPr id="126" name=""/>
            <p:cNvSpPr/>
            <p:nvPr/>
          </p:nvSpPr>
          <p:spPr>
            <a:xfrm>
              <a:off x="3248280" y="3429000"/>
              <a:ext cx="24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R;S;</a:t>
              </a:r>
              <a:r>
                <a:rPr b="0" lang="en-US" sz="2800" spc="-1" strike="noStrike">
                  <a:solidFill>
                    <a:srgbClr val="336699"/>
                  </a:solidFill>
                  <a:latin typeface="Symbol"/>
                  <a:ea typeface="Symbol"/>
                </a:rPr>
                <a:t>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|-- e :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455200" y="2666880"/>
              <a:ext cx="4066200" cy="520560"/>
              <a:chOff x="2455200" y="2666880"/>
              <a:chExt cx="4066200" cy="520560"/>
            </a:xfrm>
          </p:grpSpPr>
          <p:sp>
            <p:nvSpPr>
              <p:cNvPr id="128" name=""/>
              <p:cNvSpPr/>
              <p:nvPr/>
            </p:nvSpPr>
            <p:spPr>
              <a:xfrm>
                <a:off x="2455200" y="2666880"/>
                <a:ext cx="2533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6699"/>
                    </a:solidFill>
                    <a:latin typeface="Bitstream Vera Sans"/>
                  </a:rPr>
                  <a:t>R;S’;</a:t>
                </a:r>
                <a:r>
                  <a:rPr b="0" lang="en-US" sz="2800" spc="-1" strike="noStrike">
                    <a:solidFill>
                      <a:srgbClr val="336699"/>
                    </a:solidFill>
                    <a:latin typeface="Symbol"/>
                    <a:ea typeface="Symbol"/>
                  </a:rPr>
                  <a:t></a:t>
                </a:r>
                <a:r>
                  <a:rPr b="0" lang="en-US" sz="2800" spc="-1" strike="noStrike">
                    <a:solidFill>
                      <a:srgbClr val="336699"/>
                    </a:solidFill>
                    <a:latin typeface="Bitstream Vera Sans"/>
                  </a:rPr>
                  <a:t> |-- e : 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382000" y="2666880"/>
                <a:ext cx="1139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6699"/>
                    </a:solidFill>
                    <a:latin typeface="Bitstream Vera Sans"/>
                  </a:rPr>
                  <a:t>S’</a:t>
                </a:r>
                <a:r>
                  <a:rPr b="1" lang="en-US" sz="2800" spc="-1" strike="noStrike">
                    <a:solidFill>
                      <a:srgbClr val="336699"/>
                    </a:solidFill>
                    <a:latin typeface="Symbol"/>
                    <a:ea typeface="Symbol"/>
                  </a:rPr>
                  <a:t></a:t>
                </a:r>
                <a:r>
                  <a:rPr b="0" lang="en-US" sz="2800" spc="-1" strike="noStrike">
                    <a:solidFill>
                      <a:srgbClr val="336699"/>
                    </a:solidFill>
                    <a:latin typeface="Bitstream Vera Sans"/>
                  </a:rPr>
                  <a:t> 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209680" y="3276360"/>
              <a:ext cx="4724640" cy="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875880" y="1600200"/>
            <a:ext cx="73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It is always safe to “forget” permi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D726-5381-4A1F-BA50-A4BB2B9B20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ype Safe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eorem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f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P;P;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e : t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en either 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* v or 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iverg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particular: e never fails.  (i.e. check always succeeds)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of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eservation &amp; Progres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2EBC-F871-4B4B-85AC-05CD2AA4F0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Good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5" name=""/>
          <p:cNvSpPr/>
          <p:nvPr/>
        </p:nvSpPr>
        <p:spPr>
          <a:xfrm>
            <a:off x="255960" y="1523880"/>
            <a:ext cx="745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 = System{enable “f1” in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(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x.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  System{check “f1” then write x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)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“kwijibo”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Then   P;S;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h : unit    for any 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DD5-B7C1-4121-B192-4FF1A99767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Bad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37" name=""/>
          <p:cNvSpPr/>
          <p:nvPr/>
        </p:nvSpPr>
        <p:spPr>
          <a:xfrm>
            <a:off x="255960" y="1523880"/>
            <a:ext cx="7454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g = System{enable “f1” in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(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x.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  System{check “f2” then write x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)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“kwijibo”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Then   R;S;</a:t>
            </a:r>
            <a:r>
              <a:rPr b="1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|-- g : t   is not derivable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for any R,S, and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2286000"/>
            <a:ext cx="685800" cy="609480"/>
          </a:xfrm>
          <a:prstGeom prst="ellipse">
            <a:avLst/>
          </a:prstGeom>
          <a:noFill/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72F-34BC-4A98-BDFC-085E390B57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tic vs. Dynamic Check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0" name=""/>
          <p:cNvSpPr/>
          <p:nvPr/>
        </p:nvSpPr>
        <p:spPr>
          <a:xfrm>
            <a:off x="464040" y="2590920"/>
            <a:ext cx="74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;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|-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check p in x  :  int –{p}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5000" y="1371600"/>
            <a:ext cx="610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alling this function requires the </a:t>
            </a:r>
            <a:br>
              <a:rPr sz="2800"/>
            </a:br>
            <a:r>
              <a:rPr b="0" i="1" lang="en-US" sz="2800" spc="-1" strike="noStrike">
                <a:solidFill>
                  <a:srgbClr val="336699"/>
                </a:solidFill>
                <a:latin typeface="Bitstream Vera Sans"/>
              </a:rPr>
              <a:t>static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permission 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9120" y="3505320"/>
            <a:ext cx="7767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Only way to call it (assuming initial perms.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re empty) is to put it in the scope of a</a:t>
            </a:r>
            <a:br>
              <a:rPr sz="2800"/>
            </a:br>
            <a:r>
              <a:rPr b="0" i="1" lang="en-US" sz="2800" spc="-1" strike="noStrike">
                <a:solidFill>
                  <a:srgbClr val="336699"/>
                </a:solidFill>
                <a:latin typeface="Bitstream Vera Sans"/>
              </a:rPr>
              <a:t>dynamic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est p then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…can call it here…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lse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…may not call it he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24B-5AAF-45B5-9B6F-5E8BD15844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pressivenes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his type system is very simpl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No subtyping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No polymorphis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Not algorithmic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ard to do inference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an add all of these features…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ee François Pottier’s paper for a nice example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Uses Didier Rémy’s row types to describe the sets of permission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Uses HM(X) – Hindley Milner with constrain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lso shows how to derive a type system for the source language from the translation!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5AE-581A-49D3-8C06-C800919C23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nclu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 inspection is a complex security mechanism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n practice, useful for preventing some attack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mal reasoning useful for understanding what optimizations preserve semantic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ype systems or program analysis have the potential to catch “obvious” security violations at compile time where they can easily be fixed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7F46-6AF7-4871-924F-EBFF426541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ypes for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ant to do static checking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itstream Vera Sans"/>
              </a:rPr>
              <a:t>sec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cod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tically detect security failures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liminate redundant checks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xample of nonstandard type system for enforcing security properties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ype system based on work by Pottier, Skalka, and Smith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A Systematic Approach to Static Access Control”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xplain the type system by taking a detour through “security-passing” style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allach’s &amp; Felten’s “Understanding Stack Inspection”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86D-50F7-44AF-BB7B-FCD5CDE69A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ecurity-passing Sty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Basic idea: Convert the “stack-crawling” form of stack inspection into a “permission-set passing style”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ompute the set of current permissions at any point in the code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ake the set of permissions explicit as an extra parameter to functions (hence “security-passing styl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arget language is a lambda calculus with a primitive datatype of set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C9B3-57C4-4152-A289-01ABA20DE4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arget Language: </a:t>
            </a:r>
            <a:r>
              <a:rPr b="1" lang="en-US" sz="5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e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nguage syntax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,f ::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xpres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x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ri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 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fail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let x = e in f            local dec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if p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e then e else f          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member test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s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et expr.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e ::=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                         perm. set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 se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s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union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se 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se                               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intersection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x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C07C-9E81-4F12-8D95-E025941793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ranslation: </a:t>
            </a:r>
            <a:r>
              <a:rPr b="1" lang="en-US" sz="5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ec to </a:t>
            </a:r>
            <a:r>
              <a:rPr b="1" lang="en-US" sz="5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et 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2" name=""/>
          <p:cNvSpPr/>
          <p:nvPr/>
        </p:nvSpPr>
        <p:spPr>
          <a:xfrm>
            <a:off x="-513720" y="1371600"/>
            <a:ext cx="9739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“translation of e in domain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with s = current permission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s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 f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s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x = e in f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x =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n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let s = s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({p}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R) in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’{e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let s = s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R’ in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heck p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=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if p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s then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est p then e1 else e2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=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if p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s then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1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els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2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Top level translation:  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   =  [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]]P{P/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7BA-D44D-400F-8686-17567E648F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Transla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4" name=""/>
          <p:cNvSpPr/>
          <p:nvPr/>
        </p:nvSpPr>
        <p:spPr>
          <a:xfrm>
            <a:off x="407880" y="1447920"/>
            <a:ext cx="7454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= {“f1, “f2”, “f3”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= {“f1”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 = System{enable “f1” in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(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x.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   System{check “f1” then write x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)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  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“kwijibo”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DC37-2504-4E2D-96CA-029D668419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Transla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95280"/>
            <a:ext cx="15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[[h]]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73040" y="1371600"/>
            <a:ext cx="6559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System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let s = P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“f1”, “f2”, “f3”}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enable “f1”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let s = s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({“f1”}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{“f1”, “f2”, “f3”})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Applet 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let s = s 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“f1”}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x.</a:t>
            </a:r>
            <a:r>
              <a:rPr b="0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s.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System 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let s = s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“f1”, “f2”, “f3”} in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if “f1”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 then write x else fail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 “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kwijibo”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E458-2AB7-4FDE-9568-4A6771EADF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Transla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295280"/>
            <a:ext cx="15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[[h]]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78600" y="1371600"/>
            <a:ext cx="6559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System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let s = P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“f1”, “f2”, “f3”}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enable “f1”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let s = s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({“f1”}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{“f1”, “f2”, “f3”})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Applet 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let s = s 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“f1”}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x.</a:t>
            </a:r>
            <a:r>
              <a:rPr b="0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s.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i="1" lang="en-US" sz="2400" spc="-1" strike="noStrike">
                <a:solidFill>
                  <a:srgbClr val="808080"/>
                </a:solidFill>
                <a:latin typeface="Bitstream Vera Sans"/>
              </a:rPr>
              <a:t>(* System  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let s = s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“f1”, “f2”, “f3”} in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   if </a:t>
            </a:r>
            <a:r>
              <a:rPr b="0" lang="en-US" sz="2400" spc="-1" strike="noStrike">
                <a:solidFill>
                  <a:srgbClr val="ff0000"/>
                </a:solidFill>
                <a:latin typeface="Bitstream Vera Sans"/>
              </a:rPr>
              <a:t>“f3”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 then write x else fail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 “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kwijibo”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219320" y="5028840"/>
            <a:ext cx="175248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60" y="5715000"/>
            <a:ext cx="34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itstream Vera Sans"/>
              </a:rPr>
              <a:t>Change permission ch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0DA-0AE0-4001-B70B-FEF869D516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19:38:53Z</dcterms:created>
  <dc:creator>Steve Zdancewic</dc:creator>
  <dc:description/>
  <dc:language>en-US</dc:language>
  <cp:lastModifiedBy>CS</cp:lastModifiedBy>
  <dcterms:modified xsi:type="dcterms:W3CDTF">2004-10-20T18:33:42Z</dcterms:modified>
  <cp:revision>71</cp:revision>
  <dc:subject/>
  <dc:title>Observational Determinism for  Concurrent Program Security</dc:title>
</cp:coreProperties>
</file>