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5074-55F6-4E0D-84F6-346E12D14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4624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00B8-E2B0-4211-9B12-00B149FAC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462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462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A434-250C-444C-B39A-447A0CF3F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462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462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462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83B2-8AB4-4F86-AC1F-57901ADE6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0DEB-2A5D-47A9-966D-D3A8175EE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4D2F-2B5A-434C-AC7A-86FDDD8B5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F9B8-DA45-4E4E-8209-C0A7698F8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0D25-BF10-42FB-B760-75FC5E2DE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0C69-0E86-4AC4-A999-477988249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462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FEAD-C141-4C5F-BD66-04649B5D0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462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89E1-AF3C-4F09-8AD7-B465C8DC0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4624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25D5-985A-4ED4-9B9C-7509BB42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Click to edit the title text format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Bitstream Ver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Bitstream Ver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Bitstream Ver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Bitstream Ver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Vera Sans"/>
              </a:rPr>
              <a:t>COS 597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5A004-38E5-4E1A-B9A5-B942F718B2C9}" type="slidenum">
              <a:rPr b="0" lang="en-US" sz="14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24382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Current Techniques in </a:t>
            </a:r>
            <a:br>
              <a:rPr sz="3600"/>
            </a:b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Language-based Security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00120" y="3886200"/>
            <a:ext cx="4343400" cy="99072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avid Walker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S 597B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With slides stolen from: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Steve Zdancewic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"/>
              </a:rPr>
              <a:t>University of Pennsylvania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2373-1BAB-424D-ABC4-AE1F59CFA15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epping Back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Have two formulations of stack inspection: “original” and “eager”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Have a translation to a language that manipulates sets of permissions explicitly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Includes the “administrative” reductions that just compute sets of permissions.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Similar computations can be done statically!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0A8E-95F9-47E1-AFB1-0491D0AE7BB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Typing Judgment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66" name=""/>
          <p:cNvSpPr/>
          <p:nvPr/>
        </p:nvSpPr>
        <p:spPr>
          <a:xfrm>
            <a:off x="3305160" y="2590920"/>
            <a:ext cx="242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R;S;</a:t>
            </a:r>
            <a:r>
              <a:rPr b="0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|-- e :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304920" y="1371600"/>
            <a:ext cx="7772400" cy="4191120"/>
            <a:chOff x="304920" y="1371600"/>
            <a:chExt cx="7772400" cy="4191120"/>
          </a:xfrm>
        </p:grpSpPr>
        <p:sp>
          <p:nvSpPr>
            <p:cNvPr id="68" name=""/>
            <p:cNvSpPr/>
            <p:nvPr/>
          </p:nvSpPr>
          <p:spPr>
            <a:xfrm>
              <a:off x="304920" y="3429000"/>
              <a:ext cx="2666880" cy="1447920"/>
            </a:xfrm>
            <a:prstGeom prst="wedgeRoundRectCallout">
              <a:avLst>
                <a:gd name="adj1" fmla="val 66902"/>
                <a:gd name="adj2" fmla="val -89254"/>
                <a:gd name="adj3" fmla="val 16667"/>
              </a:avLst>
            </a:prstGeom>
            <a:solidFill>
              <a:srgbClr val="ccccff"/>
            </a:solidFill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Current protection domai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238560" y="4114800"/>
              <a:ext cx="2666880" cy="1447920"/>
            </a:xfrm>
            <a:prstGeom prst="wedgeRoundRectCallout">
              <a:avLst>
                <a:gd name="adj1" fmla="val -22976"/>
                <a:gd name="adj2" fmla="val -118638"/>
                <a:gd name="adj3" fmla="val 16667"/>
              </a:avLst>
            </a:prstGeom>
            <a:solidFill>
              <a:srgbClr val="ccccff"/>
            </a:solidFill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Subset of current runtime perm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5120" y="1371600"/>
              <a:ext cx="2666880" cy="990720"/>
            </a:xfrm>
            <a:prstGeom prst="wedgeRoundRectCallout">
              <a:avLst>
                <a:gd name="adj1" fmla="val 39763"/>
                <a:gd name="adj2" fmla="val 73078"/>
                <a:gd name="adj3" fmla="val 16667"/>
              </a:avLst>
            </a:prstGeom>
            <a:solidFill>
              <a:srgbClr val="ccccff"/>
            </a:solidFill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Variable contex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48520" y="3429000"/>
              <a:ext cx="1676160" cy="685800"/>
            </a:xfrm>
            <a:prstGeom prst="wedgeRoundRectCallout">
              <a:avLst>
                <a:gd name="adj1" fmla="val -114013"/>
                <a:gd name="adj2" fmla="val -100925"/>
                <a:gd name="adj3" fmla="val 16667"/>
              </a:avLst>
            </a:prstGeom>
            <a:solidFill>
              <a:srgbClr val="ccccff"/>
            </a:solidFill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Ter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248520" y="1981080"/>
              <a:ext cx="1828800" cy="609840"/>
            </a:xfrm>
            <a:prstGeom prst="wedgeRoundRectCallout">
              <a:avLst>
                <a:gd name="adj1" fmla="val -80643"/>
                <a:gd name="adj2" fmla="val 63023"/>
                <a:gd name="adj3" fmla="val 16667"/>
              </a:avLst>
            </a:prstGeom>
            <a:solidFill>
              <a:srgbClr val="ccccff"/>
            </a:solidFill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Typ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B9C6-71F1-4D4E-BCD8-5232092C772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Form of type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nly interesting (non administrative) change during compilation was for functions: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            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[[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x.e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]]R  =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x.</a:t>
            </a:r>
            <a:r>
              <a:rPr b="0" lang="en-US" sz="2800" spc="-1" strike="noStrike">
                <a:solidFill>
                  <a:srgbClr val="cc66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s.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[[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]]R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ource type:    t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u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Target type:     t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u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Bitstream Vera Sans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argument, is always a set, so we “specialize” the type to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t –{S}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u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B9DC-9826-4F88-8ADA-DCC063B83EE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Type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Types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t ::=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typ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int, string, …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base typ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t –{S}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t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unction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BC76-2BF8-4234-B6D7-AA8F25BBFF9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imple Typing Rule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78" name=""/>
          <p:cNvSpPr/>
          <p:nvPr/>
        </p:nvSpPr>
        <p:spPr>
          <a:xfrm>
            <a:off x="4439520" y="1828800"/>
            <a:ext cx="298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R;S;</a:t>
            </a:r>
            <a:r>
              <a:rPr b="0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|-- x : </a:t>
            </a:r>
            <a:r>
              <a:rPr b="0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535040" y="3976560"/>
            <a:ext cx="5894640" cy="1206360"/>
            <a:chOff x="1535040" y="3976560"/>
            <a:chExt cx="5894640" cy="1206360"/>
          </a:xfrm>
        </p:grpSpPr>
        <p:sp>
          <p:nvSpPr>
            <p:cNvPr id="80" name=""/>
            <p:cNvSpPr/>
            <p:nvPr/>
          </p:nvSpPr>
          <p:spPr>
            <a:xfrm>
              <a:off x="1535040" y="4662360"/>
              <a:ext cx="541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R;S;</a:t>
              </a:r>
              <a:r>
                <a:rPr b="0" lang="en-US" sz="2800" spc="-1" strike="noStrike">
                  <a:solidFill>
                    <a:srgbClr val="336699"/>
                  </a:solidFill>
                  <a:latin typeface="Symbol"/>
                  <a:ea typeface="Symbol"/>
                </a:rPr>
                <a:t>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|-- </a:t>
              </a:r>
              <a:r>
                <a:rPr b="0" lang="en-US" sz="2800" spc="-1" strike="noStrike">
                  <a:solidFill>
                    <a:srgbClr val="336699"/>
                  </a:solidFill>
                  <a:latin typeface="Symbol"/>
                  <a:ea typeface="Symbol"/>
                </a:rPr>
                <a:t>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x.e  :  t1 –{S’}</a:t>
              </a:r>
              <a:r>
                <a:rPr b="0" lang="en-US" sz="2800" spc="-1" strike="noStrike">
                  <a:solidFill>
                    <a:srgbClr val="336699"/>
                  </a:solidFill>
                  <a:latin typeface="Wingdings"/>
                  <a:ea typeface="Wingdings"/>
                </a:rPr>
                <a:t>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t2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385360" y="3976560"/>
              <a:ext cx="390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R;S’;</a:t>
              </a:r>
              <a:r>
                <a:rPr b="0" lang="en-US" sz="2800" spc="-1" strike="noStrike">
                  <a:solidFill>
                    <a:srgbClr val="336699"/>
                  </a:solidFill>
                  <a:latin typeface="Symbol"/>
                  <a:ea typeface="Symbol"/>
                </a:rPr>
                <a:t>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,x:t1 |-- e  :  t2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714680" y="4584600"/>
              <a:ext cx="5715000" cy="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1068840" y="3352680"/>
            <a:ext cx="233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Abstra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44080" y="1828800"/>
            <a:ext cx="195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Variab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EE2A-5EAB-4864-869C-08F36970DE2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More Simple Typing Rule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3779280" y="1371600"/>
            <a:ext cx="4336200" cy="1739880"/>
            <a:chOff x="3779280" y="1371600"/>
            <a:chExt cx="4336200" cy="1739880"/>
          </a:xfrm>
        </p:grpSpPr>
        <p:sp>
          <p:nvSpPr>
            <p:cNvPr id="87" name=""/>
            <p:cNvSpPr/>
            <p:nvPr/>
          </p:nvSpPr>
          <p:spPr>
            <a:xfrm>
              <a:off x="3895200" y="2590920"/>
              <a:ext cx="277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R;S;</a:t>
              </a:r>
              <a:r>
                <a:rPr b="0" lang="en-US" sz="2800" spc="-1" strike="noStrike">
                  <a:solidFill>
                    <a:srgbClr val="336699"/>
                  </a:solidFill>
                  <a:latin typeface="Symbol"/>
                  <a:ea typeface="Symbol"/>
                </a:rPr>
                <a:t>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|-- e f : t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779280" y="1371600"/>
              <a:ext cx="4220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R;S;</a:t>
              </a:r>
              <a:r>
                <a:rPr b="0" lang="en-US" sz="2800" spc="-1" strike="noStrike">
                  <a:solidFill>
                    <a:srgbClr val="336699"/>
                  </a:solidFill>
                  <a:latin typeface="Symbol"/>
                  <a:ea typeface="Symbol"/>
                </a:rPr>
                <a:t>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|-- e  :  t –{S}</a:t>
              </a:r>
              <a:r>
                <a:rPr b="0" lang="en-US" sz="2800" spc="-1" strike="noStrike">
                  <a:solidFill>
                    <a:srgbClr val="336699"/>
                  </a:solidFill>
                  <a:latin typeface="Wingdings"/>
                  <a:ea typeface="Wingdings"/>
                </a:rPr>
                <a:t>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t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038480" y="2513160"/>
              <a:ext cx="4077000" cy="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914640" y="1905120"/>
              <a:ext cx="2553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R;S;</a:t>
              </a:r>
              <a:r>
                <a:rPr b="0" lang="en-US" sz="2800" spc="-1" strike="noStrike">
                  <a:solidFill>
                    <a:srgbClr val="336699"/>
                  </a:solidFill>
                  <a:latin typeface="Symbol"/>
                  <a:ea typeface="Symbol"/>
                </a:rPr>
                <a:t>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|-- f  :  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067040" y="2057400"/>
            <a:ext cx="228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Applic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759120" y="3733920"/>
            <a:ext cx="4927680" cy="1739520"/>
            <a:chOff x="3759120" y="3733920"/>
            <a:chExt cx="4927680" cy="1739520"/>
          </a:xfrm>
        </p:grpSpPr>
        <p:sp>
          <p:nvSpPr>
            <p:cNvPr id="93" name=""/>
            <p:cNvSpPr/>
            <p:nvPr/>
          </p:nvSpPr>
          <p:spPr>
            <a:xfrm>
              <a:off x="3759120" y="4952880"/>
              <a:ext cx="439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R;S;</a:t>
              </a:r>
              <a:r>
                <a:rPr b="0" lang="en-US" sz="2800" spc="-1" strike="noStrike">
                  <a:solidFill>
                    <a:srgbClr val="336699"/>
                  </a:solidFill>
                  <a:latin typeface="Symbol"/>
                  <a:ea typeface="Symbol"/>
                </a:rPr>
                <a:t>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|-- let x = e in f : 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939120" y="3733920"/>
              <a:ext cx="2507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R;S;</a:t>
              </a:r>
              <a:r>
                <a:rPr b="0" lang="en-US" sz="2800" spc="-1" strike="noStrike">
                  <a:solidFill>
                    <a:srgbClr val="336699"/>
                  </a:solidFill>
                  <a:latin typeface="Symbol"/>
                  <a:ea typeface="Symbol"/>
                </a:rPr>
                <a:t>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|-- e : u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038480" y="4875120"/>
              <a:ext cx="4648320" cy="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66400" y="4267080"/>
              <a:ext cx="322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R;S;</a:t>
              </a:r>
              <a:r>
                <a:rPr b="0" lang="en-US" sz="2800" spc="-1" strike="noStrike">
                  <a:solidFill>
                    <a:srgbClr val="336699"/>
                  </a:solidFill>
                  <a:latin typeface="Symbol"/>
                  <a:ea typeface="Symbol"/>
                </a:rPr>
                <a:t>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,x:u |-- f  :  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1145160" y="4038480"/>
            <a:ext cx="85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L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8902-C854-4E4F-963A-BBC076C298D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Rule for Check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99" name=""/>
          <p:cNvSpPr/>
          <p:nvPr/>
        </p:nvSpPr>
        <p:spPr>
          <a:xfrm>
            <a:off x="1172880" y="4662360"/>
            <a:ext cx="59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R; S</a:t>
            </a:r>
            <a:r>
              <a:rPr b="1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{p};</a:t>
            </a:r>
            <a:r>
              <a:rPr b="0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|-- check p then e :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378880" y="4052880"/>
            <a:ext cx="360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R; S</a:t>
            </a:r>
            <a:r>
              <a:rPr b="1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{p};</a:t>
            </a:r>
            <a:r>
              <a:rPr b="0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|-- e  :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57360" y="4584600"/>
            <a:ext cx="5881680" cy="1800"/>
          </a:xfrm>
          <a:prstGeom prst="line">
            <a:avLst/>
          </a:prstGeom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57280" y="1676520"/>
            <a:ext cx="622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Note that this typing rule requi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that the permission p is static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known to be avail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4CF5-7B1A-42B7-B9FB-D17734BD04E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Typing Rules for Enabl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04" name=""/>
          <p:cNvSpPr/>
          <p:nvPr/>
        </p:nvSpPr>
        <p:spPr>
          <a:xfrm>
            <a:off x="652680" y="4419720"/>
            <a:ext cx="21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Enable fai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45600" y="4876920"/>
            <a:ext cx="451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R;S;</a:t>
            </a:r>
            <a:r>
              <a:rPr b="0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|-- enable p in e :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90600" y="4191120"/>
            <a:ext cx="427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R;S;</a:t>
            </a:r>
            <a:r>
              <a:rPr b="0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|-- e  : t       p </a:t>
            </a:r>
            <a:r>
              <a:rPr b="1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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4799160"/>
            <a:ext cx="4952880" cy="1440"/>
          </a:xfrm>
          <a:prstGeom prst="line">
            <a:avLst/>
          </a:prstGeom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1880" y="1676520"/>
            <a:ext cx="308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Enable succe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040840" y="3048120"/>
            <a:ext cx="451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R;S;</a:t>
            </a:r>
            <a:r>
              <a:rPr b="0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|-- enable p in e :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61280" y="2362320"/>
            <a:ext cx="523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R;S</a:t>
            </a:r>
            <a:r>
              <a:rPr b="1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{p};</a:t>
            </a:r>
            <a:r>
              <a:rPr b="0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|-- e  : t       p </a:t>
            </a:r>
            <a:r>
              <a:rPr b="1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71600" y="2970360"/>
            <a:ext cx="5881680" cy="1440"/>
          </a:xfrm>
          <a:prstGeom prst="line">
            <a:avLst/>
          </a:prstGeom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01000" y="5715000"/>
            <a:ext cx="771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-- latter should be flagged as useless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6F74-328F-4971-94FA-BC5794E59DE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Rule for Test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4662360"/>
            <a:ext cx="542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R;S;</a:t>
            </a:r>
            <a:r>
              <a:rPr b="0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|-- test p then e else f: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43680" y="4038480"/>
            <a:ext cx="244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R;S;</a:t>
            </a:r>
            <a:r>
              <a:rPr b="0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|-- f  :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90720" y="4572000"/>
            <a:ext cx="7162560" cy="0"/>
          </a:xfrm>
          <a:prstGeom prst="line">
            <a:avLst/>
          </a:prstGeom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05800" y="3429000"/>
            <a:ext cx="360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R; S</a:t>
            </a:r>
            <a:r>
              <a:rPr b="1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{p};</a:t>
            </a:r>
            <a:r>
              <a:rPr b="0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|-- e  :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44560" y="1600200"/>
            <a:ext cx="7454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Check the first branch under assum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that p is present, check the else branch </a:t>
            </a:r>
            <a:br>
              <a:rPr sz="2800"/>
            </a:b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under assumption that p is absen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89B1-3111-4A83-86B0-C08825ACD38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Rule for Protection Domain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20" name=""/>
          <p:cNvSpPr/>
          <p:nvPr/>
        </p:nvSpPr>
        <p:spPr>
          <a:xfrm>
            <a:off x="2764440" y="4052880"/>
            <a:ext cx="30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R;S;</a:t>
            </a:r>
            <a:r>
              <a:rPr b="0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|-- S’{e}: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24920" y="3352680"/>
            <a:ext cx="324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’;S</a:t>
            </a:r>
            <a:r>
              <a:rPr b="1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’;</a:t>
            </a:r>
            <a:r>
              <a:rPr b="0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|-- e  :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14680" y="3962520"/>
            <a:ext cx="3733560" cy="0"/>
          </a:xfrm>
          <a:prstGeom prst="line">
            <a:avLst/>
          </a:prstGeom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67000" y="1523880"/>
            <a:ext cx="6209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Intersect the permissions in the </a:t>
            </a:r>
            <a:br>
              <a:rPr sz="2800"/>
            </a:b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tatic protection domain with the </a:t>
            </a:r>
            <a:br>
              <a:rPr sz="2800"/>
            </a:b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current permission s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BF59-1B4B-43C9-8B57-D2B7209E4A4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ecurity Talks this Week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My Dad's Computer, Microsoft, and the Future of Internet Security.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Bill Cheswick, Lumeta, co-inventor of the Internet firewall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Today at 4PM (We’ll stop class early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xtensible Semantics for XrML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Vicky Weissman, Cornell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Friday at 2:30, CS 402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XrML (the eXtensible rights Markup Language) is a popular language in which to write software licenses.  See what it is all about and how to give it a semantics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7608-8266-433F-8B31-37F85DBD8D6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Weakening (Subsumption)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2209680" y="2666880"/>
            <a:ext cx="4724640" cy="1282680"/>
            <a:chOff x="2209680" y="2666880"/>
            <a:chExt cx="4724640" cy="1282680"/>
          </a:xfrm>
        </p:grpSpPr>
        <p:sp>
          <p:nvSpPr>
            <p:cNvPr id="126" name=""/>
            <p:cNvSpPr/>
            <p:nvPr/>
          </p:nvSpPr>
          <p:spPr>
            <a:xfrm>
              <a:off x="3248280" y="3429000"/>
              <a:ext cx="242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R;S;</a:t>
              </a:r>
              <a:r>
                <a:rPr b="0" lang="en-US" sz="2800" spc="-1" strike="noStrike">
                  <a:solidFill>
                    <a:srgbClr val="336699"/>
                  </a:solidFill>
                  <a:latin typeface="Symbol"/>
                  <a:ea typeface="Symbol"/>
                </a:rPr>
                <a:t>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|-- e : 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2455200" y="2666880"/>
              <a:ext cx="4066200" cy="520560"/>
              <a:chOff x="2455200" y="2666880"/>
              <a:chExt cx="4066200" cy="520560"/>
            </a:xfrm>
          </p:grpSpPr>
          <p:sp>
            <p:nvSpPr>
              <p:cNvPr id="128" name=""/>
              <p:cNvSpPr/>
              <p:nvPr/>
            </p:nvSpPr>
            <p:spPr>
              <a:xfrm>
                <a:off x="2455200" y="2666880"/>
                <a:ext cx="2533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336699"/>
                    </a:solidFill>
                    <a:latin typeface="Bitstream Vera Sans"/>
                  </a:rPr>
                  <a:t>R;S’;</a:t>
                </a:r>
                <a:r>
                  <a:rPr b="0" lang="en-US" sz="2800" spc="-1" strike="noStrike">
                    <a:solidFill>
                      <a:srgbClr val="336699"/>
                    </a:solidFill>
                    <a:latin typeface="Symbol"/>
                    <a:ea typeface="Symbol"/>
                  </a:rPr>
                  <a:t></a:t>
                </a:r>
                <a:r>
                  <a:rPr b="0" lang="en-US" sz="2800" spc="-1" strike="noStrike">
                    <a:solidFill>
                      <a:srgbClr val="336699"/>
                    </a:solidFill>
                    <a:latin typeface="Bitstream Vera Sans"/>
                  </a:rPr>
                  <a:t> |-- e : t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382000" y="2666880"/>
                <a:ext cx="1139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336699"/>
                    </a:solidFill>
                    <a:latin typeface="Bitstream Vera Sans"/>
                  </a:rPr>
                  <a:t>S’</a:t>
                </a:r>
                <a:r>
                  <a:rPr b="1" lang="en-US" sz="2800" spc="-1" strike="noStrike">
                    <a:solidFill>
                      <a:srgbClr val="336699"/>
                    </a:solidFill>
                    <a:latin typeface="Symbol"/>
                    <a:ea typeface="Symbol"/>
                  </a:rPr>
                  <a:t></a:t>
                </a:r>
                <a:r>
                  <a:rPr b="0" lang="en-US" sz="2800" spc="-1" strike="noStrike">
                    <a:solidFill>
                      <a:srgbClr val="336699"/>
                    </a:solidFill>
                    <a:latin typeface="Bitstream Vera Sans"/>
                  </a:rPr>
                  <a:t> 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209680" y="3276360"/>
              <a:ext cx="4724640" cy="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875880" y="1600200"/>
            <a:ext cx="73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It is always safe to “forget” permiss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F244-F16E-422D-9DD8-CC48296C9F4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Type Safety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Theorem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If 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P;P;</a:t>
            </a:r>
            <a:r>
              <a:rPr b="1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|-- e : t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then either 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* v or 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iverges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In particular: e never fails.  (i.e. check always succeeds)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oof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eservation &amp; Progress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52FA-6B9A-4995-9FF7-D01E3FA7B9E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: Good Cod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35" name=""/>
          <p:cNvSpPr/>
          <p:nvPr/>
        </p:nvSpPr>
        <p:spPr>
          <a:xfrm>
            <a:off x="255960" y="1523880"/>
            <a:ext cx="7454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h = System{enable “f1” in </a:t>
            </a:r>
            <a:br>
              <a:rPr sz="2800"/>
            </a:b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      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Applet{(</a:t>
            </a:r>
            <a:r>
              <a:rPr b="0" lang="en-US" sz="2800" spc="-1" strike="noStrike">
                <a:solidFill>
                  <a:srgbClr val="cc66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x.</a:t>
            </a:r>
            <a:br>
              <a:rPr sz="2800"/>
            </a:b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         System{check “f1” then write x}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)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     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“kwijibo”}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Then   P;S;</a:t>
            </a:r>
            <a:r>
              <a:rPr b="1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|-- h : unit    for any 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2368-610C-4698-9BFF-6FC2D43DF6C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: Bad Cod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37" name=""/>
          <p:cNvSpPr/>
          <p:nvPr/>
        </p:nvSpPr>
        <p:spPr>
          <a:xfrm>
            <a:off x="255960" y="1523880"/>
            <a:ext cx="7454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g = System{enable “f1” in </a:t>
            </a:r>
            <a:br>
              <a:rPr sz="2800"/>
            </a:b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      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Applet{(</a:t>
            </a:r>
            <a:r>
              <a:rPr b="0" lang="en-US" sz="2800" spc="-1" strike="noStrike">
                <a:solidFill>
                  <a:srgbClr val="cc66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x.</a:t>
            </a:r>
            <a:br>
              <a:rPr sz="2800"/>
            </a:b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         System{check “f2” then write x}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)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     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“kwijibo”}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Then   R;S;</a:t>
            </a:r>
            <a:r>
              <a:rPr b="1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|-- g : t   is not derivable</a:t>
            </a:r>
            <a:br>
              <a:rPr sz="2800"/>
            </a:b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for any R,S, and 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91120" y="2286000"/>
            <a:ext cx="685800" cy="609480"/>
          </a:xfrm>
          <a:prstGeom prst="ellipse">
            <a:avLst/>
          </a:prstGeom>
          <a:noFill/>
          <a:ln w="1908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6B9F-8518-4E89-A95B-ED96C60A707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tic vs. Dynamic Check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40" name=""/>
          <p:cNvSpPr/>
          <p:nvPr/>
        </p:nvSpPr>
        <p:spPr>
          <a:xfrm>
            <a:off x="464040" y="2590920"/>
            <a:ext cx="741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;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;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|-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x.check p in x  :  int –{p}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5000" y="1371600"/>
            <a:ext cx="610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Calling this function requires the </a:t>
            </a:r>
            <a:br>
              <a:rPr sz="2800"/>
            </a:br>
            <a:r>
              <a:rPr b="0" i="1" lang="en-US" sz="2800" spc="-1" strike="noStrike">
                <a:solidFill>
                  <a:srgbClr val="336699"/>
                </a:solidFill>
                <a:latin typeface="Bitstream Vera Sans"/>
              </a:rPr>
              <a:t>static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permission p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89120" y="3505320"/>
            <a:ext cx="7767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Only way to call it (assuming initial perms.</a:t>
            </a:r>
            <a:br>
              <a:rPr sz="2800"/>
            </a:b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are empty) is to put it in the scope of a</a:t>
            </a:r>
            <a:br>
              <a:rPr sz="2800"/>
            </a:br>
            <a:r>
              <a:rPr b="0" i="1" lang="en-US" sz="2800" spc="-1" strike="noStrike">
                <a:solidFill>
                  <a:srgbClr val="336699"/>
                </a:solidFill>
                <a:latin typeface="Bitstream Vera Sans"/>
              </a:rPr>
              <a:t>dynamic 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te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test p then 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…can call it here…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lse  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…may not call it her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FEE7-5AF2-4232-B96A-74080153186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pressivenes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This type system is very simpl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No subtyping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No polymorphism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Not algorithmic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Hard to do inferenc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Can add all of these features…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See François Pottier’s paper for a nice example.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Uses Didier Rémy’s row types to describe the sets of permission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Uses HM(X) – Hindley Milner with constraint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Also shows how to derive a type system for the source language from the translation!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58D2-B065-4D2E-BDCB-293A966058D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Conclusion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tack inspection is a complex security mechanism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In practice, useful for preventing some attack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ormal reasoning useful for understanding what optimizations preserve semantic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Type systems or program analysis have the potential to catch “obvious” security violations at compile time where they can easily be fixed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29C0-F346-4470-9576-91AB8F6011A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Types for Stack Inspection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Want to do static checking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Bitstream Vera Sans"/>
              </a:rPr>
              <a:t>sec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code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Statically detect security failures.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liminate redundant checks.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xample of nonstandard type system for enforcing security properties.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Type system based on work by Pottier, Skalka, and Smith: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A Systematic Approach to Static Access Control”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xplain the type system by taking a detour through “security-passing” style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Wallach’s &amp; Felten’s “Understanding Stack Inspection”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BBF6-CD8E-43EE-AF98-2176CF86500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ecurity-passing Styl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Basic idea: Convert the “stack-crawling” form of stack inspection into a “permission-set passing style”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Compute the set of current permissions at any point in the code.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Make the set of permissions explicit as an extra parameter to functions (hence “security-passing style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Target language is a lambda calculus with a primitive datatype of sets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EA6C-1CDB-432A-AA34-EC3B2B42F41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Target Language: </a:t>
            </a:r>
            <a:r>
              <a:rPr b="1" lang="en-US" sz="54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et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Language syntax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,f ::=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xpressi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x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variab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x.e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fun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e f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applic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fail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failu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let x = e in f            local dec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if p</a:t>
            </a:r>
            <a:r>
              <a:rPr b="1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se then e else f             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member test</a:t>
            </a: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   se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set expr.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se ::=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  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S                         perm. set</a:t>
            </a: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  se </a:t>
            </a:r>
            <a:r>
              <a:rPr b="1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 se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union</a:t>
            </a: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   se  </a:t>
            </a:r>
            <a:r>
              <a:rPr b="1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 se                                  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intersection</a:t>
            </a: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   x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EE86-66BC-425F-97F5-CE9C41FFB0B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Translation: </a:t>
            </a:r>
            <a:r>
              <a:rPr b="1" lang="en-US" sz="54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ec to </a:t>
            </a:r>
            <a:r>
              <a:rPr b="1" lang="en-US" sz="54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et 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52" name=""/>
          <p:cNvSpPr/>
          <p:nvPr/>
        </p:nvSpPr>
        <p:spPr>
          <a:xfrm>
            <a:off x="-513720" y="1371600"/>
            <a:ext cx="9739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[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]]R 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  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= “translation of e in domain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 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with s = current permission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[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]]R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  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=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[[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x.e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]]R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  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x.</a:t>
            </a:r>
            <a:r>
              <a:rPr b="0" lang="en-US" sz="2400" spc="-1" strike="noStrike">
                <a:solidFill>
                  <a:srgbClr val="cc66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s.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[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]]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[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 f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]]R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  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= [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]]R  [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f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]]R  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s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[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let x = e in f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]]R  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let x =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[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]]R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in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[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f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]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[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nable p in e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]]R 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= 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let s = s </a:t>
            </a:r>
            <a:r>
              <a:rPr b="1" lang="en-US" sz="2400" spc="-1" strike="noStrike">
                <a:solidFill>
                  <a:srgbClr val="cc66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 ({p} </a:t>
            </a:r>
            <a:r>
              <a:rPr b="1" lang="en-US" sz="2400" spc="-1" strike="noStrike">
                <a:solidFill>
                  <a:srgbClr val="cc66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 R) in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[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]]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[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R’{e}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]]R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  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= 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let s = s </a:t>
            </a:r>
            <a:r>
              <a:rPr b="1" lang="en-US" sz="2400" spc="-1" strike="noStrike">
                <a:solidFill>
                  <a:srgbClr val="cc66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 R’ in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[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]]R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[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check p e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]]R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= 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if p </a:t>
            </a:r>
            <a:r>
              <a:rPr b="1" lang="en-US" sz="2400" spc="-1" strike="noStrike">
                <a:solidFill>
                  <a:srgbClr val="cc66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cc66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s then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[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]]R 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else f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[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test p then e1 else e2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]]R= 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if p </a:t>
            </a:r>
            <a:r>
              <a:rPr b="1" lang="en-US" sz="2400" spc="-1" strike="noStrike">
                <a:solidFill>
                  <a:srgbClr val="cc66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cc66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s then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[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1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]]R 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else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[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2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]]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Top level translation:   [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]]   =  [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]]P{P/s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70DB-138D-4343-B434-BA2290E1CCB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 Translation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54" name=""/>
          <p:cNvSpPr/>
          <p:nvPr/>
        </p:nvSpPr>
        <p:spPr>
          <a:xfrm>
            <a:off x="407880" y="1447920"/>
            <a:ext cx="7454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ystem 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= {“f1, “f2”, “f3”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Applet  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= {“f1”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h = System{enable “f1” in </a:t>
            </a:r>
            <a:br>
              <a:rPr sz="2800"/>
            </a:b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      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Applet{(</a:t>
            </a:r>
            <a:r>
              <a:rPr b="0" lang="en-US" sz="2800" spc="-1" strike="noStrike">
                <a:solidFill>
                  <a:srgbClr val="cc66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x.</a:t>
            </a:r>
            <a:br>
              <a:rPr sz="2800"/>
            </a:b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         System{check “f1” then write x}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)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     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“kwijibo”}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47E4-B902-48E6-A616-7A24BFB3DC7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 Translation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1295280"/>
            <a:ext cx="153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[[h]]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73040" y="1371600"/>
            <a:ext cx="65599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8080"/>
                </a:solidFill>
                <a:latin typeface="Bitstream Vera Sans"/>
              </a:rPr>
              <a:t>(* System 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let s = P </a:t>
            </a:r>
            <a:r>
              <a:rPr b="1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</a:t>
            </a:r>
            <a:r>
              <a:rPr b="1" lang="en-US" sz="2400" spc="-1" strike="noStrike">
                <a:solidFill>
                  <a:srgbClr val="336699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{“f1”, “f2”, “f3”}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8080"/>
                </a:solidFill>
                <a:latin typeface="Bitstream Vera Sans"/>
              </a:rPr>
              <a:t>(* enable “f1” 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let s = s </a:t>
            </a:r>
            <a:r>
              <a:rPr b="1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({“f1”} </a:t>
            </a:r>
            <a:r>
              <a:rPr b="1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{“f1”, “f2”, “f3”})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8080"/>
                </a:solidFill>
                <a:latin typeface="Bitstream Vera Sans"/>
              </a:rPr>
              <a:t>(* Applet  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let s = s  </a:t>
            </a:r>
            <a:r>
              <a:rPr b="1" lang="en-US" sz="2400" spc="-1" strike="noStrike">
                <a:solidFill>
                  <a:srgbClr val="cc6600"/>
                </a:solidFill>
                <a:latin typeface="Symbol"/>
                <a:ea typeface="Symbol"/>
              </a:rPr>
              <a:t></a:t>
            </a:r>
            <a:r>
              <a:rPr b="1" lang="en-US" sz="2400" spc="-1" strike="noStrike">
                <a:solidFill>
                  <a:srgbClr val="cc66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{“f1”}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  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(</a:t>
            </a:r>
            <a:r>
              <a:rPr b="0" lang="en-US" sz="2400" spc="-1" strike="noStrike">
                <a:solidFill>
                  <a:srgbClr val="cc66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x.</a:t>
            </a:r>
            <a:r>
              <a:rPr b="0" lang="en-US" sz="2400" spc="-1" strike="noStrike">
                <a:solidFill>
                  <a:srgbClr val="cc66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s.</a:t>
            </a: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   </a:t>
            </a:r>
            <a:r>
              <a:rPr b="0" i="1" lang="en-US" sz="2400" spc="-1" strike="noStrike">
                <a:solidFill>
                  <a:srgbClr val="808080"/>
                </a:solidFill>
                <a:latin typeface="Bitstream Vera Sans"/>
              </a:rPr>
              <a:t>(* System  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 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let s = s </a:t>
            </a:r>
            <a:r>
              <a:rPr b="1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</a:t>
            </a:r>
            <a:r>
              <a:rPr b="1" lang="en-US" sz="2400" spc="-1" strike="noStrike">
                <a:solidFill>
                  <a:srgbClr val="336699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{“f1”, “f2”, “f3”} in</a:t>
            </a: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   if “f1” </a:t>
            </a:r>
            <a:r>
              <a:rPr b="1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336699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s then write x else fail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  “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kwijibo”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6BC7-EFDA-42F7-AA9A-2AD67A64FB4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 Translation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1295280"/>
            <a:ext cx="153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[[h]]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78600" y="1371600"/>
            <a:ext cx="65599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8080"/>
                </a:solidFill>
                <a:latin typeface="Bitstream Vera Sans"/>
              </a:rPr>
              <a:t>(* System 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let s = P </a:t>
            </a:r>
            <a:r>
              <a:rPr b="1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</a:t>
            </a:r>
            <a:r>
              <a:rPr b="1" lang="en-US" sz="2400" spc="-1" strike="noStrike">
                <a:solidFill>
                  <a:srgbClr val="336699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{“f1”, “f2”, “f3”}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8080"/>
                </a:solidFill>
                <a:latin typeface="Bitstream Vera Sans"/>
              </a:rPr>
              <a:t>(* enable “f1” 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let s = s </a:t>
            </a:r>
            <a:r>
              <a:rPr b="1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({“f1”} </a:t>
            </a:r>
            <a:r>
              <a:rPr b="1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{“f1”, “f2”, “f3”})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8080"/>
                </a:solidFill>
                <a:latin typeface="Bitstream Vera Sans"/>
              </a:rPr>
              <a:t>(* Applet  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let s = s  </a:t>
            </a:r>
            <a:r>
              <a:rPr b="1" lang="en-US" sz="2400" spc="-1" strike="noStrike">
                <a:solidFill>
                  <a:srgbClr val="cc6600"/>
                </a:solidFill>
                <a:latin typeface="Symbol"/>
                <a:ea typeface="Symbol"/>
              </a:rPr>
              <a:t></a:t>
            </a:r>
            <a:r>
              <a:rPr b="1" lang="en-US" sz="2400" spc="-1" strike="noStrike">
                <a:solidFill>
                  <a:srgbClr val="cc66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{“f1”}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  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(</a:t>
            </a:r>
            <a:r>
              <a:rPr b="0" lang="en-US" sz="2400" spc="-1" strike="noStrike">
                <a:solidFill>
                  <a:srgbClr val="cc66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x.</a:t>
            </a:r>
            <a:r>
              <a:rPr b="0" lang="en-US" sz="2400" spc="-1" strike="noStrike">
                <a:solidFill>
                  <a:srgbClr val="cc66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s.</a:t>
            </a: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   </a:t>
            </a:r>
            <a:r>
              <a:rPr b="0" i="1" lang="en-US" sz="2400" spc="-1" strike="noStrike">
                <a:solidFill>
                  <a:srgbClr val="808080"/>
                </a:solidFill>
                <a:latin typeface="Bitstream Vera Sans"/>
              </a:rPr>
              <a:t>(* System  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 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let s = s </a:t>
            </a:r>
            <a:r>
              <a:rPr b="1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</a:t>
            </a:r>
            <a:r>
              <a:rPr b="1" lang="en-US" sz="2400" spc="-1" strike="noStrike">
                <a:solidFill>
                  <a:srgbClr val="336699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{“f1”, “f2”, “f3”} in</a:t>
            </a: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   if </a:t>
            </a:r>
            <a:r>
              <a:rPr b="0" lang="en-US" sz="2400" spc="-1" strike="noStrike">
                <a:solidFill>
                  <a:srgbClr val="ff0000"/>
                </a:solidFill>
                <a:latin typeface="Bitstream Vera Sans"/>
              </a:rPr>
              <a:t>“f3”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</a:t>
            </a:r>
            <a:r>
              <a:rPr b="1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336699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s then write x else fail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  “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kwijibo”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219320" y="5028840"/>
            <a:ext cx="1752480" cy="6858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2560" y="5715000"/>
            <a:ext cx="34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Bitstream Vera Sans"/>
              </a:rPr>
              <a:t>Change permission che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C196-5BCC-48B6-820F-A8BF9D4B990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0T19:38:53Z</dcterms:created>
  <dc:creator>Steve Zdancewic</dc:creator>
  <dc:description/>
  <dc:language>en-US</dc:language>
  <cp:lastModifiedBy>CS</cp:lastModifiedBy>
  <dcterms:modified xsi:type="dcterms:W3CDTF">2004-10-20T18:33:42Z</dcterms:modified>
  <cp:revision>71</cp:revision>
  <dc:subject/>
  <dc:title>Observational Determinism for  Concurrent Program Security</dc:title>
</cp:coreProperties>
</file>