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BCA-9324-4158-A39F-CA85733E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BED-3712-406E-9B8C-2BE5F1BA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435E-888B-41D2-B4AC-6C56FEBB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B8B-2E8E-4577-8FC7-E86781CE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0DC-E133-45B9-9C6D-8EC5CF56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B09-B127-475D-8214-81C5624D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2A15-5C35-4784-ACF6-4CEF093B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475-14A5-40A8-BDEA-094C8281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AB6-503C-4405-B972-47F291C3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436-76F7-4D04-95F3-2C6886F0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9D5-6692-4024-BF4F-F55D6FFD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B2E-02D7-48F9-9974-0DFA577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6460-241E-4E3F-A4C0-F5B71BE486B9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EE62-34D3-40ED-A5D3-11B25F056B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4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642-8CE5-4BFE-8774-BDAD7AC971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7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374-044C-4685-B5BC-B9DD33F008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9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E8B-06D6-453B-A522-41D8E3B447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2" name=""/>
          <p:cNvSpPr/>
          <p:nvPr/>
        </p:nvSpPr>
        <p:spPr>
          <a:xfrm>
            <a:off x="-45036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364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4FB-0188-42D0-AE54-AF3323DF36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5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C29-79B9-4AC9-B420-EE8E7C462F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25360" y="2508120"/>
            <a:ext cx="2624400" cy="947160"/>
            <a:chOff x="1125360" y="2508120"/>
            <a:chExt cx="2624400" cy="947160"/>
          </a:xfrm>
        </p:grpSpPr>
        <p:sp>
          <p:nvSpPr>
            <p:cNvPr id="80" name=""/>
            <p:cNvSpPr/>
            <p:nvPr/>
          </p:nvSpPr>
          <p:spPr>
            <a:xfrm>
              <a:off x="1125360" y="2508120"/>
              <a:ext cx="2620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83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88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8AD-A14A-42B5-9956-EE2BE6F7A2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94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576320" y="274320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98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240" y="556272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* Enables should occur only in trus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0B0-3C47-4322-BAB1-AD98844099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212040" y="175248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6E0-397B-4879-A5B5-5AAE8DFEE5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5" name=""/>
          <p:cNvSpPr/>
          <p:nvPr/>
        </p:nvSpPr>
        <p:spPr>
          <a:xfrm>
            <a:off x="212040" y="1757520"/>
            <a:ext cx="7762680" cy="22269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Question:  Why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’  and o = 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1A4-6ADB-47E3-8330-DE9DB8795D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212040" y="1757520"/>
            <a:ext cx="7762680" cy="22269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Question:  Why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’  and o = 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480" y="4419720"/>
            <a:ext cx="810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easoning is cyclic if o and o’ ar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x.e’’ and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x.e’’’: we suddenly need to ask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’’ = e’’’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3EF-3E9D-4F14-B2A7-9BC6DBC3BA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rincipals (sets of  permissions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D48-6FCC-4C95-A554-D04747231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212040" y="1757520"/>
            <a:ext cx="7762680" cy="22269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Question:  Why no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’  and o = 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3440" y="4038480"/>
            <a:ext cx="7711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f we want to test whether e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v and e’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v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nd v = v’ we can always do it us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ropriate contex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 = if [ ] then loop () else 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383-FCBF-47AA-BE9D-069490378F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-72000" y="1447920"/>
            <a:ext cx="8223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≠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162560" y="1981080"/>
            <a:ext cx="261720" cy="31932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854-A7F0-4C5E-8330-CB0C566A4F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6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5D4-9929-4A40-A522-E496A37489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70812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364-3383-4934-B1A3-7ADBEFC343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438560" y="17524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0320" y="4260960"/>
            <a:ext cx="6723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9D2-FDBC-4F81-82EA-A6DFEE56E7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3" name=""/>
          <p:cNvSpPr/>
          <p:nvPr/>
        </p:nvSpPr>
        <p:spPr>
          <a:xfrm>
            <a:off x="22500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=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" y="2286000"/>
            <a:ext cx="8944920" cy="38124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s a congruence (preserved by contex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73F-E404-46B5-BFCC-33F257DB94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dinary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266688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il-call eliminated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6920" y="4494240"/>
            <a:ext cx="44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 sound in gene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But OK in special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33E-AC6A-4D22-8B81-4B1547D66F6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2502360" y="1447920"/>
            <a:ext cx="413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uppose R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.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{v/x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76240" y="4724280"/>
            <a:ext cx="739152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 particular, code within a protection domain can safely make tail calls to other code in tha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A46-B446-4ECA-83A7-FA437A1CE4A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51408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[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E5E-09DA-4CA7-88E6-6A1BD6DD614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1C8-FE0B-439D-823F-1FC04AA290F3}" type="slidenum">
              <a:t>29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 els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D04-6B5E-4F16-84F9-09D7CE56C7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Discuss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blem: Applets returning closures that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181-B8AF-43E5-A709-A0F94E0BC78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inciples does the Java model obey?  To what extent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pen design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conomy of mechanism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inimal trusted computing bas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curity as proces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ast privileg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ail-safe default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sychological acceptabil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DA3-6CB1-4909-B306-A199E54FC0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R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f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] = enable p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p then e else f]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els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] =  fai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6CF-B04B-4391-A21A-5C7B55F1EF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0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9400" y="4495680"/>
            <a:ext cx="80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B61-E464-4D43-A060-23D8491EF5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Ho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Ar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Tagged fr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147-CFB1-4F4F-9D24-720187C7C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)   v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{v/x}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enable p in v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R{v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fail]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f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]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 Stack(E) |-- p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f]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Stack(E) |-- p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  iff   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267080"/>
            <a:ext cx="2666880" cy="1143000"/>
          </a:xfrm>
          <a:prstGeom prst="wedgeRoundRectCallout">
            <a:avLst>
              <a:gd name="adj1" fmla="val -68037"/>
              <a:gd name="adj2" fmla="val -28194"/>
              <a:gd name="adj3" fmla="val 16667"/>
            </a:avLst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t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D01-5906-4C1F-AB62-5CB3321B97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8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5392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CD0-0F3E-490B-A869-C6AAF64F42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9FA-7DB0-4453-9BEC-16D8204356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CS</cp:lastModifiedBy>
  <dcterms:modified xsi:type="dcterms:W3CDTF">2004-10-18T17:59:41Z</dcterms:modified>
  <cp:revision>64</cp:revision>
  <dc:subject/>
  <dc:title>Observational Determinism for  Concurrent Program Security</dc:title>
</cp:coreProperties>
</file>