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AD3-FC05-4859-8CD0-02DC789B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FC4-877F-4758-8E74-455753E7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120-70F7-468F-8F03-713E47C8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BF2-18F9-4DC9-A16A-5D904EC1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533-40FC-455D-8351-1ECFE2A2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A06-8424-43C2-A858-D7784E88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E2F-7A01-4F1C-B993-CFB20D3C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58F-F027-4447-B430-24E6112E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99C-6784-4FB5-BE08-07C8E64F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3AD-07E9-4EDF-86E0-6FA0ABFC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855-69B0-49F2-8C4D-7144CE3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673-90F9-4F2E-8C73-6FDD294C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C640-2079-4ED7-8D6F-3B9EC93B1A89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341-7C74-4058-B747-19E0535521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4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3C4-1793-42F6-976E-E40E7DA075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7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B27-787A-4B75-916E-BADE5EC7F8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400" y="38862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D86-1DB3-467A-BCA9-CFC14158F5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2" name=""/>
          <p:cNvSpPr/>
          <p:nvPr/>
        </p:nvSpPr>
        <p:spPr>
          <a:xfrm>
            <a:off x="-450360" y="13716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3640" y="4038480"/>
            <a:ext cx="675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 E’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871-D293-4A83-8338-45DC476931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5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28D-DB39-452B-A726-76FF7B6CE4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25360" y="2508120"/>
            <a:ext cx="2624400" cy="947160"/>
            <a:chOff x="1125360" y="2508120"/>
            <a:chExt cx="2624400" cy="947160"/>
          </a:xfrm>
        </p:grpSpPr>
        <p:sp>
          <p:nvSpPr>
            <p:cNvPr id="80" name=""/>
            <p:cNvSpPr/>
            <p:nvPr/>
          </p:nvSpPr>
          <p:spPr>
            <a:xfrm>
              <a:off x="1125360" y="2508120"/>
              <a:ext cx="2620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83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88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41A-C580-469B-93F4-08EC03CBCC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2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94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576320" y="274320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98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240" y="556272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* Enables should occur only in trust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C0D-80D1-4305-8903-64B6112AFD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212040" y="1752480"/>
            <a:ext cx="7762680" cy="3080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iff  there exists o such that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ay that   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C7F-6554-48A6-9370-E8D98F808D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212040" y="1757520"/>
            <a:ext cx="7762680" cy="22269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Question:  Why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’  and o = o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773-20A8-45D9-9B4B-C8F2D17B00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212040" y="1757520"/>
            <a:ext cx="7762680" cy="22269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Question:  Why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’  and o = o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480" y="4419720"/>
            <a:ext cx="810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easoning is cyclic if o and o’ ar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x.e’’ and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x.e’’’: we suddenly need to ask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’’ = e’’’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BBC-E218-4B17-916D-8B270C5F8A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rincipals (sets of  permissions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ide the details of classloading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4A0-8477-4959-AD4A-07951F76D3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212040" y="1757520"/>
            <a:ext cx="7762680" cy="22269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Question:  Why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’  and o = o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3440" y="4038480"/>
            <a:ext cx="7711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f we want to test whether e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v and e’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v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nd v = v’ we can always do it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ropriate contex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 = if [ ] then loop () else 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B1A-019A-4EB0-8AFC-333990A069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Inequal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-72000" y="1447920"/>
            <a:ext cx="8223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note:   loop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(x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aim: f ≠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=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162560" y="1981080"/>
            <a:ext cx="261720" cy="31932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ADA-DD9E-4694-8E43-93E9EBF313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6" name=""/>
          <p:cNvSpPr/>
          <p:nvPr/>
        </p:nvSpPr>
        <p:spPr>
          <a:xfrm>
            <a:off x="732240" y="1214280"/>
            <a:ext cx="8130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f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7E2-FB31-4796-A01A-3A9E2936CA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708120" y="1263600"/>
            <a:ext cx="823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[g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loop els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55B-B2A1-4D52-8875-13B500DB80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Applic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438560" y="1752480"/>
            <a:ext cx="6264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iminate redundant  anno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0320" y="4260960"/>
            <a:ext cx="6723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rease stack inspection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test p then (enable p in e) els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8E2-D446-4D95-A017-C866812182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xiomatic Equival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225000" y="128916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give a sound set of equ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aracterize =.     Exampl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1960" y="2286000"/>
            <a:ext cx="8944920" cy="38124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s a congruence (preserved by contex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)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{v/x}     (beta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(enable q in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nable q in (enable p in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p}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F61-AF90-46C8-934B-CFF06E1B98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dinary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266688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il-call eliminated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6920" y="4494240"/>
            <a:ext cx="44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 sound in gener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But OK in special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057-0D06-4892-9AD9-F098AB3DA1F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2502360" y="1447920"/>
            <a:ext cx="413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uppose R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.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{v/x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76240" y="4724280"/>
            <a:ext cx="739152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 particular, code within a protection domain can safely make tail calls to other code in tha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2FD-EDF6-42AD-B630-ADDEBE50846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514080" y="1295280"/>
            <a:ext cx="827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main = 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.(h ok ok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=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System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c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c (readFile s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leak = Applet[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s.output 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99E-94C2-4F8E-8921-1E20484BB0B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1376280"/>
            <a:ext cx="92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System{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}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&lt;f2 contents&gt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output &lt;f2 contents&gt;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A05-80E9-490E-8CCC-814356BF406F}" type="slidenum">
              <a:t>29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 els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877-74F8-4BA6-ABED-629538FE46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Discuss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blem: Applets returning closures that circumvent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ssible solution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alues of the form: R{v}  (i.e. keep track of the protection domain of the sourc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ly, one could have closures capture their current security contex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tegrity analysis (i.e. where data comes from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net &amp; Gordon prove some properties of strengthened versions of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F8B-DD53-45EE-9F8B-6CD63F3D329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inciples does the Java model obey?  To what extent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pen design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conomy of mechanism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inimal trusted computing bas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curity as proces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ast privileg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ail-safe default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sychological acceptabil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817-872B-48B2-AF81-5A238BC5DD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raming a Ter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R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f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] = enable p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p then e else f]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els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] =  fai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38F-9456-4C9F-AB5A-F3932C9D6E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0" name=""/>
          <p:cNvSpPr/>
          <p:nvPr/>
        </p:nvSpPr>
        <p:spPr>
          <a:xfrm>
            <a:off x="73260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ad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9400" y="4495680"/>
            <a:ext cx="80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&lt;f2 content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340-57A0-4C93-85C7-55CC60ED40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Ho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Ar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Tagged fr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9D9-2C04-4570-B8B5-B0D7D4A37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)   v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{v/x}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enable p in v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R{v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fail]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f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]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 Stack(E) |-- p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f]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Stack(E) |-- p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  iff   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267080"/>
            <a:ext cx="2666880" cy="1143000"/>
          </a:xfrm>
          <a:prstGeom prst="wedgeRoundRectCallout">
            <a:avLst>
              <a:gd name="adj1" fmla="val -68037"/>
              <a:gd name="adj2" fmla="val -28194"/>
              <a:gd name="adj3" fmla="val 16667"/>
            </a:avLst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t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4B6-C71C-4940-8075-A33B6175F5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8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53920" y="32004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readFile “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0A6-38FD-42E0-8B38-8632219B84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A51-F057-43EB-844E-7FDA3B4921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CS</cp:lastModifiedBy>
  <dcterms:modified xsi:type="dcterms:W3CDTF">2004-10-18T17:59:41Z</dcterms:modified>
  <cp:revision>64</cp:revision>
  <dc:subject/>
  <dc:title>Observational Determinism for  Concurrent Program Security</dc:title>
</cp:coreProperties>
</file>