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3E1-2261-441C-82E2-38C86F9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99B-0B6B-44F3-86B4-E1C894E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DEE-C621-47E0-BEAD-647F93E8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518-2DE3-460A-AB1F-C156295B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0C4-8184-441C-817F-EC77138D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CDD-35D1-4397-B638-91B43448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3CE-A081-4EC1-89EA-AA78F17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F93-F9CA-4352-9FFF-25BA2FD9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B7B-3301-4E0C-8959-E6627896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E03-7392-4ADB-A9D6-C27784F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2FC-BF3E-4FE5-A7CD-202604C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D3A-2BA4-4D1B-8F41-EA98B73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237-7D62-410F-ADCC-761FAEDF4103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77-3335-4569-9ED4-A6895847A1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23A-CC49-4533-96A6-798F577B5B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C56-03C9-4E38-9DD9-0FA250D8B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DE3-BE78-4456-BCAF-F373DCCD4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371-D53D-47B2-9762-0170A0F785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ECB-61C9-4DFF-B77E-D4007F652A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80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83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88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FA4-1C58-4B24-B410-9F00B4099E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94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98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654-6A6D-4954-81CC-DB05F15CB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48D-DAB2-4B82-BD5F-E0299AB62C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C24-EFB0-4B18-866E-0CBC92B6B8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480" y="4419720"/>
            <a:ext cx="810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easoning is cyclic if o and o’ ar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 and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’: we suddenly need to ask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’’ = e’’’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552-0CAD-4840-AE62-BAFFB82C54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DC6-37F7-4EA3-8C50-A1463E5F73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3440" y="4038480"/>
            <a:ext cx="771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f we want to test whether e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 and e’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nd v = v’ we can always do it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ropriate con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 = if [ ] then loop () else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756-7A88-4C98-8880-317F7611D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162560" y="1981080"/>
            <a:ext cx="261720" cy="31932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5FE-D600-4B4E-BD9D-DAFFDA054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874-2485-4E6C-8EA3-B0C50622D1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18C-55DC-49E7-BE34-46471DFBDE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10E-4D79-4950-9016-50A429130D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" y="2286000"/>
            <a:ext cx="89449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CBE-C44E-451D-870A-0F76D9CE89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0EF-2772-4847-A1ED-F262DAAA32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08F-3462-445C-939B-57FBC08A1A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F2D-45C3-4D03-A962-512993C8C18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E10-11DD-460E-AB70-6D66D8697D1A}" type="slidenum">
              <a:t>29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771-A65E-47D3-B2E2-1440ACE2F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D31-208F-4166-9959-D8990D71D52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8D2-1ED9-4D46-B221-15091662B9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9C2-4C2B-4CA3-A182-DB3653FB6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12F-F750-4CAB-B349-3EA4E58F3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598-FBC1-40DA-81CB-CB951B755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1C6-C514-433E-A5EA-E517563AAB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392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C50-BCC4-4339-A7E2-FF6C5500B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74A-A19E-4526-813A-CD38B0F6E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8T17:59:41Z</dcterms:modified>
  <cp:revision>64</cp:revision>
  <dc:subject/>
  <dc:title>Observational Determinism for  Concurrent Program Security</dc:title>
</cp:coreProperties>
</file>