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C54-C0E7-4E92-8DFB-818B1F64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D87-C882-4D61-8984-EED14372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B25-5F32-403C-B9F1-0C72C1FF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A7E-74E0-41DC-A9D4-CF9C2E54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1EA-D213-40A0-8CBA-8BE4A26F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4CF7-7A41-4873-9126-1258C08D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478-9EA0-4835-810A-EB1925A2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F18-7D5C-4014-AC11-EA67F584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608-C73F-496D-996A-6BEB2116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3595-A989-454F-AD6D-74B83EB5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106-D55C-4986-9E2C-8A25E0B9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B8C-912F-4C45-987B-757D6C37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COS 597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2D0C-29C0-4FD1-AA7F-3834E530351F}" type="slidenum"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urrent Techniques in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Language-based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00120" y="3886200"/>
            <a:ext cx="4343400" cy="9907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S 597B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ith slides stolen from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eve Zdancew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University of Pennsylvani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E2B0-22C3-4EF5-AAD8-2DD137D7B2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assloader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n order to pull new code into the virtual machine, we use an object from the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ClassLoader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 class loader will look in the file system, or across the network for a class file, or possibly dynamically generate the class 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hen loading the first class of an application, a new instance of the 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URLClassLoader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is used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hen loading the first class of an applet, a new instance of the 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is used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lass loaders are responsible for placing classes into their security domain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ClassLoader places classes in domains depending on where they are fr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Other ClassLoaders places classes in domains based on digital signatures, or origin (such as local file system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2A6A-9D2B-4ABF-BEBC-BAC21C8A90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assloader Hierarchy 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5" name=""/>
          <p:cNvSpPr/>
          <p:nvPr/>
        </p:nvSpPr>
        <p:spPr>
          <a:xfrm>
            <a:off x="3326400" y="2973240"/>
            <a:ext cx="23385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200" y="4038480"/>
            <a:ext cx="356688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ecure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3280" y="4038480"/>
            <a:ext cx="30441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RL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9960" y="5105520"/>
            <a:ext cx="348768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124080" y="3505320"/>
            <a:ext cx="1371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3505320"/>
            <a:ext cx="1828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1447920"/>
            <a:ext cx="2590920" cy="1295280"/>
          </a:xfrm>
          <a:prstGeom prst="cloudCallout">
            <a:avLst>
              <a:gd name="adj1" fmla="val -14217"/>
              <a:gd name="adj2" fmla="val 19731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Primordial ClassLo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C2A-8530-4786-B28D-B869B5E2A4E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Associating Privileges with Domains</a:t>
            </a:r>
            <a:endParaRPr b="1" lang="en-US" sz="32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4" name=""/>
          <p:cNvSpPr/>
          <p:nvPr/>
        </p:nvSpPr>
        <p:spPr>
          <a:xfrm>
            <a:off x="687240" y="1523880"/>
            <a:ext cx="7767720" cy="325764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codeBase “http://www.l33t-hax0rz.com/*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io.FilePermission(“/tmp/*”, “read,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codeBase “file://$JAVA_HOME/lib/ext/*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security.AllPermiss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signedBy “trusted-company.com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net.SocketPermission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io.FilePermission(“/tmp/*”, “read,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75600" y="4800600"/>
            <a:ext cx="5392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Policy information stored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$JAVA_HOME/lib/security/java.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$USER_HOME/.java.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"/>
              </a:rPr>
              <a:t>(or passed on command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BBC-6F91-40F0-A08A-E2F71AE1B2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Trusted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7" name=""/>
          <p:cNvSpPr/>
          <p:nvPr/>
        </p:nvSpPr>
        <p:spPr>
          <a:xfrm>
            <a:off x="687240" y="1676520"/>
            <a:ext cx="7767720" cy="2527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String filename, String 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ecurityManager sm = System.getSecurityManag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if (sm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ilePermission fp = new FilePermission(filename,“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(native code)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throw new SecurityExcept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240" y="4419720"/>
            <a:ext cx="7767720" cy="155412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ublic static void main(…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ecurityManager sm = System.getSecurityManag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ilePermission fp = new FilePermission(“/tmp/*”,“write,…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6960" y="1219320"/>
            <a:ext cx="70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ode in the System protection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DC4D-C251-4BFE-9D1B-8B11F29A1E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lien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1" name=""/>
          <p:cNvSpPr/>
          <p:nvPr/>
        </p:nvSpPr>
        <p:spPr>
          <a:xfrm>
            <a:off x="687240" y="2438280"/>
            <a:ext cx="7767720" cy="228420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class UntrustedApple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home/stevez/important.tex”, “kwijibo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2480" y="1371600"/>
            <a:ext cx="527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et code obtained fr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ttp://www.l33t-hax0rz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715-C7FD-4D4A-A531-12353012DC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 frames are annotated with their protection domains and any enabled privileg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uring inspection, stack frames are searched from most to least recent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itstream Vera Sans"/>
              </a:rPr>
              <a:t>fai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f a frame belonging to someone not authorized for privilege is encounter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Bitstream Vera Sans"/>
              </a:rPr>
              <a:t>succeed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f activated privilege is found in fra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7526-CFD6-4F7B-A19B-4C309E56CF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51814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8F71-D5B8-4CB6-9F1F-C40B2443CC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B0EA-7E05-4AEE-A324-6A0739BBFD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EC76-1BA6-458B-9565-CABF2EBE49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447920"/>
            <a:ext cx="6095880" cy="131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/tmp/foo.txt”, “Hello!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foo.txt”,“write”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49A-1442-4694-BBC6-0EBFB2ECE1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Mobile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odern languages like Java and C# have been designed for Internet applications and extensible system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DAs, Cell Phones, Smart Cards, …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5" name=""/>
          <p:cNvSpPr/>
          <p:nvPr/>
        </p:nvSpPr>
        <p:spPr>
          <a:xfrm>
            <a:off x="2905200" y="4649760"/>
            <a:ext cx="33321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05200" y="3963960"/>
            <a:ext cx="3332160" cy="5205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web browser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312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0744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5984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 rot="16200000">
            <a:off x="4332240" y="1258920"/>
            <a:ext cx="457200" cy="4648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74D0-C506-40FE-83E6-1AA28AA3FA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447920"/>
            <a:ext cx="6095880" cy="131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/tmp/foo.txt”, “Hello!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foo.txt”,“write”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182880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358128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9810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342900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29640" y="4921200"/>
            <a:ext cx="1825200" cy="520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Bitstream Vera Sans"/>
              </a:rPr>
              <a:t>Succe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A426-8275-4FA3-983B-AFFAA26388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home/stevez/important.tex”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kwijibo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832F-3E31-4142-B174-CC0B4D21E3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447920"/>
            <a:ext cx="6095880" cy="106740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…/important.txt”, “kwijibo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important.tx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write”)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home/stevez/important.tex”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kwijibo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182880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19810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81680" y="342900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84320" y="3581280"/>
            <a:ext cx="801000" cy="520560"/>
          </a:xfrm>
          <a:prstGeom prst="rect">
            <a:avLst/>
          </a:prstGeom>
          <a:solidFill>
            <a:srgbClr val="ff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itstream Vera Sans"/>
              </a:rPr>
              <a:t>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0C72-E4CA-4098-99AA-B8F4D6C388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ther Possibiliti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fileWrit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method could enable the write permission itself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otentially dangerous, should not base the file to write on data from the applet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ut no enforcement in Java (information flow would help her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trusted piece of code could </a:t>
            </a: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disabl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 previously granted permiss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rminate the stack inspection earl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4E1-A0BF-4757-89F0-657C59BCDB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Algorithm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1" name=""/>
          <p:cNvSpPr/>
          <p:nvPr/>
        </p:nvSpPr>
        <p:spPr>
          <a:xfrm>
            <a:off x="1443960" y="1295280"/>
            <a:ext cx="675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checkPermission(T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// loop newest to oldest stack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reach stackFram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local policy forbids access to T by class executing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tack frame) 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stackFrame has enabled privilege for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return;  // allow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stackFrame has disabled privilege for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// end of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Netscape || …) 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MS IE4.0 || JDK 1.2 || …) 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C398-CA9D-411C-8DC1-852F952AE1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wo Implementat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n demand 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n a checkPermission invocation, actually crawl down the stack, checking on the wa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Used in practic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agerly 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Keep track of the current set of available permissions during execution (security-passing style Wallach &amp; Felten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+ more apparent (could print current perms.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Bitstream Ver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ore expensive (checkPermission occurs infrequently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F0C-A8FE-493D-ABA5-ADDB179916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ck inspection seems appealing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ine grained, flexible, configurable polici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Distinguishes between code of varying degrees of tru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do we understand what the policy is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mantics tied to the operational behavior of the program (defined in terms of stacks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do we compare implementation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hanging the program (e.g. optimizing it) may change the security polic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Policy is distributed throughout the software, and is not apparent from the program interface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s it any good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984C-7544-4AA9-8970-E1FB82127D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Literatur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tack Inspection: Theory and Variant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édric Fournet and Andrew D. Gord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nderstanding Java Stack Inspec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an S. Wallach and Edward W. Felte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ormalize Java Stack Inspection using ABLP log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d many more..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394-F1E5-4492-8AAC-E82A8769E0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izing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2DC-154C-4AD8-A291-C3CD26ABA4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bstract permiss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p,q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Permission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,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Principals (sets of  permissions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ide the details of classloading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xamples: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ystem = {fileWrite(“f1”), fileWrite(“f2”),…}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Applet  = {fileWrite(“f1”)}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A15-B9D6-4EF6-B36A-DCFF287421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pplet Security Problem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 OS &amp; other valuable resourc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should not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rash browser or O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xecute “rm –rf /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able to exhaust resourc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should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able to access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system resources (e.g. to display a pictur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isolated from each othe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nciples of least privileges and complete mediation appl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367A-97DE-4207-8D64-3E3098FA89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Syntax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nguage syntax: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,f ::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xpre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x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ri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 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R{e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ramed exp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nable p in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est p then e else 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check per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fail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 ::= x  |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l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 ::= v  |  fai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B22-B400-4F20-9217-075D4D6ACBE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raming a Term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odels the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ssloader that marks the (unframed) code with its protection domain: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]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=  x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]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R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f]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=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]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 p in e] = enable p in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p then e else f]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est p then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 else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]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] =  fail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E05-C0C7-491F-82F6-5570CF8F08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6" name=""/>
          <p:cNvSpPr/>
          <p:nvPr/>
        </p:nvSpPr>
        <p:spPr>
          <a:xfrm>
            <a:off x="732600" y="1447920"/>
            <a:ext cx="767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eadFile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9400" y="4495680"/>
            <a:ext cx="804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fail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&lt;f2 content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F53F-202F-4AD7-B515-355A35123F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valuation context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::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Ho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val. Fun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v 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val. Ar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nable p in 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Tagged fra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{E}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models the control st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89FE-5B53-420F-BC61-CD37F86864C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e)   v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e{v/x}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</a:t>
            </a:r>
            <a:r>
              <a:rPr b="1" lang="en-US" sz="2800" spc="-1" strike="noStrike">
                <a:solidFill>
                  <a:srgbClr val="000000"/>
                </a:solidFill>
                <a:latin typeface="Bitstream Vera Sans Mono"/>
              </a:rPr>
              <a:t>enable p in v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v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</a:t>
            </a:r>
            <a:r>
              <a:rPr b="1" lang="en-US" sz="2800" spc="-1" strike="noStrike">
                <a:solidFill>
                  <a:srgbClr val="000000"/>
                </a:solidFill>
                <a:latin typeface="Bitstream Vera Sans Mono"/>
              </a:rPr>
              <a:t>R{v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v]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fail]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fai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test p then e else f]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e]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f  Stack(E) |-- p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test p then e else f]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f]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Stack(E) |-- p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    iff   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* o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4267080"/>
            <a:ext cx="2666880" cy="1143000"/>
          </a:xfrm>
          <a:prstGeom prst="wedgeRoundRectCallout">
            <a:avLst>
              <a:gd name="adj1" fmla="val -68037"/>
              <a:gd name="adj2" fmla="val -28194"/>
              <a:gd name="adj3" fmla="val 16667"/>
            </a:avLst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St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Insp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68A-5B27-42A3-B66D-5EC9CA2CC73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4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7240" y="320040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readfile “f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27C-2065-41B6-B147-0AD08DCD85E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7" name=""/>
          <p:cNvSpPr/>
          <p:nvPr/>
        </p:nvSpPr>
        <p:spPr>
          <a:xfrm>
            <a:off x="733680" y="2819520"/>
            <a:ext cx="804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f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4C8-7563-4434-84BB-A85DFDB0465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0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3680" y="2819520"/>
            <a:ext cx="804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A3C6-973A-4BA9-9348-7D8B81B84D9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3" name=""/>
          <p:cNvSpPr/>
          <p:nvPr/>
        </p:nvSpPr>
        <p:spPr>
          <a:xfrm>
            <a:off x="549720" y="1447920"/>
            <a:ext cx="8044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3FA8-BC13-45AC-BC26-CF3CAEA259B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5" name=""/>
          <p:cNvSpPr/>
          <p:nvPr/>
        </p:nvSpPr>
        <p:spPr>
          <a:xfrm>
            <a:off x="549720" y="1447920"/>
            <a:ext cx="8044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5400" y="3886200"/>
            <a:ext cx="8044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’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’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F113-68AF-4F9E-A045-92C3A1D4624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and C#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tic Type System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Memory safety and jump safet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un-time checks fo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rray index bound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Downcas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ccess control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Virtual Machine / JIT compila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Bytecode verific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nforces encapsulation boundaries (e.g. private field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Garbage Collect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liminates memory management erro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ibrary suppor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ryptography, authentication, …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2209680"/>
            <a:ext cx="1981080" cy="990720"/>
          </a:xfrm>
          <a:prstGeom prst="wedgeRoundRectCallout">
            <a:avLst>
              <a:gd name="adj1" fmla="val -135337"/>
              <a:gd name="adj2" fmla="val 49837"/>
              <a:gd name="adj3" fmla="val 16667"/>
            </a:avLst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These l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CE1-E01B-4ECF-AE20-420F52A233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8" name=""/>
          <p:cNvSpPr/>
          <p:nvPr/>
        </p:nvSpPr>
        <p:spPr>
          <a:xfrm>
            <a:off x="-450360" y="1371600"/>
            <a:ext cx="8044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’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’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3640" y="4038480"/>
            <a:ext cx="675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en does stack E’ allow per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leWrite(“f2”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 |-- fileWrite(“f2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2E0-3E83-48F5-815C-DF9CDCF73AD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of an Eval.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01" name=""/>
          <p:cNvSpPr/>
          <p:nvPr/>
        </p:nvSpPr>
        <p:spPr>
          <a:xfrm>
            <a:off x="695520" y="1419120"/>
            <a:ext cx="841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[])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v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nable p in E) = enable(p).Stack(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R{E}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R.Stack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9160" y="3733920"/>
            <a:ext cx="561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Stack(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4DA6-3926-4F30-99FC-D7F94F7D523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04" name=""/>
          <p:cNvSpPr/>
          <p:nvPr/>
        </p:nvSpPr>
        <p:spPr>
          <a:xfrm>
            <a:off x="1349640" y="1676520"/>
            <a:ext cx="64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-- p                 empty stack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125360" y="2508120"/>
            <a:ext cx="2624400" cy="947160"/>
            <a:chOff x="1125360" y="2508120"/>
            <a:chExt cx="2624400" cy="947160"/>
          </a:xfrm>
        </p:grpSpPr>
        <p:sp>
          <p:nvSpPr>
            <p:cNvPr id="206" name=""/>
            <p:cNvSpPr/>
            <p:nvPr/>
          </p:nvSpPr>
          <p:spPr>
            <a:xfrm>
              <a:off x="1125360" y="2508120"/>
              <a:ext cx="2620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    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58840" y="29764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066680" y="3657600"/>
            <a:ext cx="3200400" cy="947160"/>
            <a:chOff x="1066680" y="3657600"/>
            <a:chExt cx="3200400" cy="947160"/>
          </a:xfrm>
        </p:grpSpPr>
        <p:sp>
          <p:nvSpPr>
            <p:cNvPr id="209" name=""/>
            <p:cNvSpPr/>
            <p:nvPr/>
          </p:nvSpPr>
          <p:spPr>
            <a:xfrm>
              <a:off x="1122480" y="365760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66680" y="411480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541040" y="27432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ion domain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39520" y="387504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q   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066680" y="4952880"/>
            <a:ext cx="3200400" cy="947160"/>
            <a:chOff x="1066680" y="4952880"/>
            <a:chExt cx="3200400" cy="947160"/>
          </a:xfrm>
        </p:grpSpPr>
        <p:sp>
          <p:nvSpPr>
            <p:cNvPr id="214" name=""/>
            <p:cNvSpPr/>
            <p:nvPr/>
          </p:nvSpPr>
          <p:spPr>
            <a:xfrm>
              <a:off x="1122480" y="495288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p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66680" y="541008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483080" y="510048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eck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6A3-8BE1-4BAA-8D8A-2121C61CA7D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18" name=""/>
          <p:cNvSpPr/>
          <p:nvPr/>
        </p:nvSpPr>
        <p:spPr>
          <a:xfrm>
            <a:off x="1270800" y="1676520"/>
            <a:ext cx="74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= p                  empty stack enables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447920" y="2514600"/>
            <a:ext cx="1903320" cy="947160"/>
            <a:chOff x="1447920" y="2514600"/>
            <a:chExt cx="1903320" cy="947160"/>
          </a:xfrm>
        </p:grpSpPr>
        <p:sp>
          <p:nvSpPr>
            <p:cNvPr id="220" name=""/>
            <p:cNvSpPr/>
            <p:nvPr/>
          </p:nvSpPr>
          <p:spPr>
            <a:xfrm>
              <a:off x="1581480" y="2514600"/>
              <a:ext cx="1619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47920" y="298296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576320" y="2743200"/>
            <a:ext cx="33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able succeed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66680" y="3808440"/>
            <a:ext cx="3124440" cy="1373760"/>
            <a:chOff x="1066680" y="3808440"/>
            <a:chExt cx="3124440" cy="1373760"/>
          </a:xfrm>
        </p:grpSpPr>
        <p:sp>
          <p:nvSpPr>
            <p:cNvPr id="224" name=""/>
            <p:cNvSpPr/>
            <p:nvPr/>
          </p:nvSpPr>
          <p:spPr>
            <a:xfrm>
              <a:off x="1122480" y="3808440"/>
              <a:ext cx="3007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66680" y="426564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574880" y="403848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5240" y="5562720"/>
            <a:ext cx="79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* Enables should occur only in truste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FB9-3D18-46A9-A132-5F0E065DA2A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quational Reasoning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29" name=""/>
          <p:cNvSpPr/>
          <p:nvPr/>
        </p:nvSpPr>
        <p:spPr>
          <a:xfrm>
            <a:off x="212040" y="1752480"/>
            <a:ext cx="7762680" cy="3080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iff  there exists o such that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C[] be an arbitrary program con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ay that   e = e’  i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 all C[], if C[e] and C[e’] are close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e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iff  C[e’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EE7-E0B2-4A4E-B4DA-BFF0326EE89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Inequal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1" name=""/>
          <p:cNvSpPr/>
          <p:nvPr/>
        </p:nvSpPr>
        <p:spPr>
          <a:xfrm>
            <a:off x="-72000" y="1447920"/>
            <a:ext cx="8223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x = e in e’  =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e’)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oop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 x)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 x)        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(note:   loop 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 let z = x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g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 let z = x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(x o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aim: f ≠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C[] =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103120" y="4176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162560" y="2362320"/>
            <a:ext cx="261720" cy="3189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3DED-6C43-4F5E-A964-E35719644AD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ontinued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5" name=""/>
          <p:cNvSpPr/>
          <p:nvPr/>
        </p:nvSpPr>
        <p:spPr>
          <a:xfrm>
            <a:off x="732240" y="1214280"/>
            <a:ext cx="8130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f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) ok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test p then loop else o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ok)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254-AD1D-460E-BBCC-A20C640AF06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ontinued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7" name=""/>
          <p:cNvSpPr/>
          <p:nvPr/>
        </p:nvSpPr>
        <p:spPr>
          <a:xfrm>
            <a:off x="708120" y="1263600"/>
            <a:ext cx="8231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[g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=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test p then loop else o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st p then loop else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A4B-4A24-45ED-8EC0-F5AC55C6339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Applicat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9" name=""/>
          <p:cNvSpPr/>
          <p:nvPr/>
        </p:nvSpPr>
        <p:spPr>
          <a:xfrm>
            <a:off x="1438560" y="1752480"/>
            <a:ext cx="626436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liminate redundant  anno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0320" y="4260960"/>
            <a:ext cx="672336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rease stack inspection co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test p then (enable p in e) els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FCB-C045-4593-AD8E-7FCDACA2DC9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xiomatic Equivalenc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42" name=""/>
          <p:cNvSpPr/>
          <p:nvPr/>
        </p:nvSpPr>
        <p:spPr>
          <a:xfrm>
            <a:off x="225000" y="1289160"/>
            <a:ext cx="75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n give a sound set of equatio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aracterize =.     Example axi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26360" y="2286000"/>
            <a:ext cx="7015320" cy="381240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s a congruence (preserved by contex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e) 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e{v/x}     (beta equival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fv(v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(enable q in e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enable q in (enable p in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p}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any, many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5715000"/>
            <a:ext cx="2225520" cy="9471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mplies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061D-97BF-4E29-AB7A-E3FEE7EAD96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ccess Control for Applet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hat level of granularity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s can touch some parts of the file system but not oth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s can make network connections to some locations but not oth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ifferent code has different levels of trustworthines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ww.l33t-hax0rs.com vs. www.java.sun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rusted code can call untrusted co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.g. to ask an applet to repaint its window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Untrusted code can call trusted co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.g. the paint routine may load a fon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How is the access control policy specified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EBD-93E3-49AA-AA4E-8C8B68F9D3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Tail Call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46" name=""/>
          <p:cNvSpPr/>
          <p:nvPr/>
        </p:nvSpPr>
        <p:spPr>
          <a:xfrm>
            <a:off x="1219320" y="1447920"/>
            <a:ext cx="6629400" cy="947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dinary eval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R{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2666880"/>
            <a:ext cx="6629400" cy="947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ail-call eliminated eval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56920" y="4494240"/>
            <a:ext cx="44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Not sound in gener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But OK in special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2234-915F-484A-BC95-C7419FA3EF9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Tail Call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0" name=""/>
          <p:cNvSpPr/>
          <p:nvPr/>
        </p:nvSpPr>
        <p:spPr>
          <a:xfrm>
            <a:off x="2502360" y="1447920"/>
            <a:ext cx="413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uppose R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. 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{v/x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76240" y="4724280"/>
            <a:ext cx="739152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In particular, code within a protection domain can safely make tail calls to other code in that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2FBA-B4C7-46F4-879C-000B3E8ACE6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Higher-order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3" name=""/>
          <p:cNvSpPr/>
          <p:nvPr/>
        </p:nvSpPr>
        <p:spPr>
          <a:xfrm>
            <a:off x="514080" y="1295280"/>
            <a:ext cx="8270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main = System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[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.(h ok ok)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fileHandler =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  System[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.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c.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_.c (readFile s)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leak = Applet[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s.output 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main(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_.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837-8964-435F-B69A-99EDA0E6B84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Higher-order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5" name=""/>
          <p:cNvSpPr/>
          <p:nvPr/>
        </p:nvSpPr>
        <p:spPr>
          <a:xfrm>
            <a:off x="-31680" y="1376280"/>
            <a:ext cx="920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main(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fileHanle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System{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(readFile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}}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(readFile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}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&lt;f2 contents&gt;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output &lt;f2 contents&gt;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ok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BA3A-2D44-4B40-A706-1B176600D1E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Discuss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blem: Applets returning closures that circumvent stack inspect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ssible solution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Values of the form: R{v}  (i.e. keep track of the protection domain of the sourc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imilarly, one could have closures capture their current security contex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ntegrity analysis (i.e. where data comes from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net &amp; Gordon prove some properties of strengthened versions of stack inspect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5ED-6E49-401C-ADA4-7DD9D709B33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nclu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at security principles does the Java model obey?  To what extent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pen design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conomy of mechanism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inimal trusted computing base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ecurity as process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ast privilege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ail-safe defaults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sychological acceptability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EAC-E541-4140-97A1-0D404760454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utlin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va Security Model   </a:t>
            </a:r>
            <a:r>
              <a:rPr b="0" lang="en-US" sz="1800" spc="-1" strike="noStrike">
                <a:solidFill>
                  <a:srgbClr val="808080"/>
                </a:solidFill>
                <a:latin typeface="Bitstream Vera Sans"/>
              </a:rPr>
              <a:t>(C# similar)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ncrete exampl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o discuss: what security principles does the Java security model obey or not obey?   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mantics from a PL perspectiv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ormalizing 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easoning about programs that use 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C6E-B861-471C-BE27-8356D3ED89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Security Model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133360"/>
            <a:ext cx="2057400" cy="28551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855160"/>
              <a:gd name="textAreaBottom" fmla="*/ 2754720 h 2855160"/>
            </a:gdLst>
            <a:ahLst/>
            <a:rect l="textAreaLeft" t="textAreaTop" r="textAreaRight" b="textAreaBottom"/>
            <a:pathLst>
              <a:path w="21600" h="29974">
                <a:moveTo>
                  <a:pt x="3600" y="0"/>
                </a:moveTo>
                <a:arcTo wR="3600" hR="3600" stAng="16200000" swAng="-5400000"/>
                <a:lnTo>
                  <a:pt x="0" y="26374"/>
                </a:lnTo>
                <a:arcTo wR="3600" hR="3600" stAng="10800000" swAng="-5400000"/>
                <a:lnTo>
                  <a:pt x="18000" y="299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a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b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c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d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e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50120" y="2552760"/>
            <a:ext cx="1643760" cy="45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Doma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50120" y="3691080"/>
            <a:ext cx="1643760" cy="45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Domai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2506320"/>
            <a:ext cx="2674800" cy="563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3643920"/>
            <a:ext cx="2674800" cy="563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925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2787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362320" y="274320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86000" y="289512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3581280"/>
            <a:ext cx="1447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86000" y="3048120"/>
            <a:ext cx="144792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286000" y="39625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981080"/>
            <a:ext cx="5333760" cy="3048120"/>
          </a:xfrm>
          <a:prstGeom prst="rect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83160" y="15238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ecurit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720" y="1523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V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6440" y="5867280"/>
            <a:ext cx="85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Bitstream Vera Sans"/>
              </a:rPr>
              <a:t>http://java.sun.com/j2se/1.4.2/docs/guide/security/spec/security-specTOC.fm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0800" y="4648320"/>
            <a:ext cx="2341800" cy="7038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lassloa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curity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18F5-0FAD-4B43-B1A7-953E02C6B6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Kinds of Permis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va.security.Permission  Clas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perm = new java.io.FilePermission("/tmp/abc","read")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security.AllPermission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security.Security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security.Unresolved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awt.AW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io.File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io.Serializable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lang.reflect.Reflec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lang.RuntimePermissi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net.Ne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net.Socke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95A1-AEE0-40A2-9E7E-02CC5AB500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de Trustworthines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does one decide what protection domain the code is in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ource (e.g. local or applet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igital signatur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# calls this “evidence based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does one decide what permissions a protection domain has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nfigurable – administrator file or command li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forced by the classload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4901-8EEE-49B6-B306-56E737D658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19:38:53Z</dcterms:created>
  <dc:creator>Steve Zdancewic</dc:creator>
  <dc:description/>
  <dc:language>en-US</dc:language>
  <cp:lastModifiedBy>CS</cp:lastModifiedBy>
  <dcterms:modified xsi:type="dcterms:W3CDTF">2004-10-13T16:01:12Z</dcterms:modified>
  <cp:revision>60</cp:revision>
  <dc:subject/>
  <dc:title>Observational Determinism for  Concurrent Program Security</dc:title>
</cp:coreProperties>
</file>