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929-82AD-4CE9-8281-F4346F5F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B30-3001-426E-8D70-3C7F3143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F12-F5BC-40A0-A9C2-D2B45F1F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624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8BA8-01A8-41BA-B645-9BD75881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A44-F0F0-4EEC-92C0-47B32EDB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7E1-6C69-4134-B4E8-A3A33541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8F9-E8A4-442E-8FD5-36D605F1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087-C8FE-433D-94A2-E0EFD9CD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3B7-A737-4ECF-814F-ABF3345B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B77-1B6B-4475-BC5D-77771BFC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624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5C5A-957F-4055-B4F4-AE2312BC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624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76A-3F8F-420D-BEF6-B2721FBA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Bitstream Ver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A0B-BC72-4141-AE62-C2294F308547}" type="slidenum">
              <a:rPr b="0" lang="en-US" sz="14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urrent Techniques in </a:t>
            </a: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Language-based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00120" y="3886200"/>
            <a:ext cx="4343400" cy="99072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avid Walk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OS 597B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ith slides stolen from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eve Zdancew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"/>
              </a:rPr>
              <a:t>University of Pennsylvania</a:t>
            </a:r>
            <a:endParaRPr b="0" lang="en-US" sz="16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F75-A080-43CD-9936-32CE927865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 order to pull new code into the virtual machine, we use an object from th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ClassLoader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A class loader will look in the file system, or across the network for a class file, or possibly dynamically generate the class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ication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hen loading the first class of an applet, a new instance of the </a:t>
            </a: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 is used.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lass loaders are responsible for placing classes into their security domai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ClassLoader places classes in domains depending on where they are fr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Other ClassLoaders places classes in domains based on digital signatures, or origin (such as local file system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2C0-536A-4270-B657-62523AC1BE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lassloader Hierarchy 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3326400" y="2973240"/>
            <a:ext cx="23385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200" y="4038480"/>
            <a:ext cx="35668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ecure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3280" y="4038480"/>
            <a:ext cx="3044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RL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09960" y="5105520"/>
            <a:ext cx="348768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ClassLo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124080" y="3505320"/>
            <a:ext cx="1371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505320"/>
            <a:ext cx="1828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47920"/>
            <a:ext cx="2590920" cy="1295280"/>
          </a:xfrm>
          <a:prstGeom prst="cloudCallout">
            <a:avLst>
              <a:gd name="adj1" fmla="val -14217"/>
              <a:gd name="adj2" fmla="val 19731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Bitstream Vera Sans"/>
              </a:rPr>
              <a:t>Primordial ClassLo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F45-BB33-486E-914D-7722D90CD9F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Associating Privileges with Domains</a:t>
            </a:r>
            <a:endParaRPr b="1" lang="en-US" sz="32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1523880"/>
            <a:ext cx="7767720" cy="325764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http://www.l33t-hax0rz.com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codeBase “file://$JAVA_HOME/lib/ext/*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security.AllPermi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grant signedBy “trusted-company.com”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net.SocketPermission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ermission java.io.FilePermission(“/tmp/*”, “read,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5600" y="4800600"/>
            <a:ext cx="5392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Policy information stored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JAVA_HOME/lib/security/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 Mono"/>
              </a:rPr>
              <a:t>$USER_HOME/.java.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336699"/>
                </a:solidFill>
                <a:latin typeface="Bitstream Vera Sans"/>
              </a:rPr>
              <a:t>(or passed on command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758-8C25-4732-B76A-4FB78FDD0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Trusted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97" name=""/>
          <p:cNvSpPr/>
          <p:nvPr/>
        </p:nvSpPr>
        <p:spPr>
          <a:xfrm>
            <a:off x="687240" y="1676520"/>
            <a:ext cx="7767720" cy="252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String filename, String s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if (sm != nul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filename,“write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(native code)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throw new SecurityExceptio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7240" y="4419720"/>
            <a:ext cx="7767720" cy="155412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public static void main(…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ecurityManager sm = System.getSecurityManag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ilePermission fp = new FilePermission(“/tmp/*”,“write,…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6960" y="121932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Code in the System protection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59E6-547F-4A45-A972-6E36257FF7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lien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438280"/>
            <a:ext cx="7767720" cy="228420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class UntrustedApple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“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2480" y="1371600"/>
            <a:ext cx="527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Applet code obtained fr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ttp://www.l33t-hax0rz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2D1-E00A-4D81-A358-B01A8B690E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 frames are annotated with their protection domains and any enabled privileg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uring inspection, stack frames are searched from most to least recen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 frame belonging to someone not authorized for privilege is encounter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Bitstream Vera Sans"/>
              </a:rPr>
              <a:t>succeed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if activated privilege is found in fra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34C-E91C-4D3B-9EED-24DC62E83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51814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D99-1C0C-44EC-8A2C-168AB6533E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0CE-9A14-4FDF-B58C-AADA65949D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D74-9D2F-40ED-AAF9-143650DF50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E60-0175-4C10-978E-A9DC54F6AC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Mobile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rn languages like Java and C# have been designed for Internet applications and extensible system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DAs, Cell Phones, Smart Cards, …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5" name=""/>
          <p:cNvSpPr/>
          <p:nvPr/>
        </p:nvSpPr>
        <p:spPr>
          <a:xfrm>
            <a:off x="2905200" y="4649760"/>
            <a:ext cx="3332160" cy="52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05200" y="3963960"/>
            <a:ext cx="3332160" cy="5205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web browser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312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074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59840" y="2744640"/>
            <a:ext cx="1305360" cy="52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6200000">
            <a:off x="4332240" y="1258920"/>
            <a:ext cx="457200" cy="4648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C40-6AB7-4876-B876-1DB708E6D0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tmp/foo.txt”, “Hello!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447920"/>
            <a:ext cx="6095880" cy="13107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/tmp/foo.txt”, “Hello!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foo.txt”,“write”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/* … write s to file filename …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58128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9640" y="4921200"/>
            <a:ext cx="1825200" cy="520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Bitstream Vera Sans"/>
              </a:rPr>
              <a:t>Succe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5AD-EF44-43B9-A8B8-208393E449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759-5A11-445F-916A-84A28F1099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648320"/>
            <a:ext cx="6095880" cy="14655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main(…)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/tmp/*”,“write,…”);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m.enablePrivileg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UntrustedApplet.ru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6095880" cy="106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fileWrite(“…/important.txt”, “kwijibo”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fp = new FilePermission(“important.txt”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write”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m.checkPermission(f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648320"/>
            <a:ext cx="685800" cy="146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6207840" y="3473640"/>
            <a:ext cx="41148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Policy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895480"/>
            <a:ext cx="6095880" cy="131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void ru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s.FileWrite(“/home/stevez/important.tex”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              “</a:t>
            </a: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kwijibo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9960" y="2438280"/>
            <a:ext cx="1447920" cy="60984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9960" y="4114800"/>
            <a:ext cx="1447920" cy="609480"/>
          </a:xfrm>
          <a:prstGeom prst="upArrow">
            <a:avLst>
              <a:gd name="adj1" fmla="val 54167"/>
              <a:gd name="adj2" fmla="val 55417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1680" y="182880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198108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3429000"/>
            <a:ext cx="1219320" cy="304920"/>
          </a:xfrm>
          <a:prstGeom prst="leftRightArrow">
            <a:avLst>
              <a:gd name="adj1" fmla="val 50000"/>
              <a:gd name="adj2" fmla="val 79606"/>
            </a:avLst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84320" y="3581280"/>
            <a:ext cx="801000" cy="520560"/>
          </a:xfrm>
          <a:prstGeom prst="rect">
            <a:avLst/>
          </a:prstGeom>
          <a:solidFill>
            <a:srgbClr val="ff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itstream Vera Sans"/>
              </a:rPr>
              <a:t>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391-DD0B-41B6-B13C-BCA8ABB99E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ther Possibilitie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ileWrit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method could enable the write permission itself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otentially dangerous, should not base the file to write on data from the applet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 no enforcement in Java (information flow would help he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 trusted piece of code could </a:t>
            </a:r>
            <a:r>
              <a:rPr b="0" i="1" lang="en-US" sz="2800" spc="-1" strike="noStrike">
                <a:solidFill>
                  <a:srgbClr val="000000"/>
                </a:solidFill>
                <a:latin typeface="Bitstream Vera Sans"/>
              </a:rPr>
              <a:t>disabl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a previously granted permission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rminate the stack inspection earl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3F3-A3BA-4DE4-AB23-0BAEC139E0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Algorith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1443960" y="1295280"/>
            <a:ext cx="6758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checkPermission(T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loop newest to oldest stack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foreach stackFram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local policy forbids access to T by class executin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stack frame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en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return;  // allow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stackFrame has disabled privilege for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// end of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Netscape || …) throw ForbiddenExcep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if (MS IE4.0 || JDK 1.2 || …) 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191-CC0D-4B21-A162-CFF460B9E7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Two Implement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n demand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n a checkPermission invocation, actually crawl down the stack, checking on the way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sed in practic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agerly –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Keep track of the current set of available permissions during execution (security-passing style Wallach &amp; Felten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+ more apparent (could print current perms.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Bitstream Ver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ore expensive (checkPermission occurs infrequently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224-7905-4811-89B2-A1DE5EE44C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 seems appealing: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Fine grained, flexible, configurable policie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istinguishes between code of varying degrees of trus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understand what the policy is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mantics tied to the operational behavior of the program (defined in terms of stacks!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How do we compare implementation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hanging the program (e.g. optimizing it) may change the security polic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Policy is distributed throughout the software, and is not apparent from the program interfaces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Is it any good?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C37-D49A-47BB-AFE7-1BFB2F452A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Inspection Literatur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tack Inspection: Theory and Variant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édric Fournet and Andrew D. Gord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Understanding Java Stack Inspec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an S. Wallach and Edward W. Felte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e Java Stack Inspection using ABLP logic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nd many more..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A0F2-64AD-4F1A-8ECE-35F8BE8D2A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izing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1F1-FF11-4E06-8735-E35D48C0CB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bstract permiss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p,q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ermission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,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Principals (sets of  permissions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ide the details of classloading, etc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xamples: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ystem = {fileWrite(“f1”), fileWrite(“f2”),…}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Applet  = {fileWrite(“f1”)}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823-3C88-41C2-A870-52BFEC2FC4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pplet Security Problem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 OS &amp; other valuable resources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 not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rash browser or O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xecute “rm –rf /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exhaust resourc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pplets should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able to access </a:t>
            </a:r>
            <a:r>
              <a:rPr b="0" i="1" lang="en-US" sz="2400" spc="-1" strike="noStrike">
                <a:solidFill>
                  <a:srgbClr val="000000"/>
                </a:solidFill>
                <a:latin typeface="Bitstream Vera Sans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system resources (e.g. to display a pictur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be isolated from each othe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inciples of least privileges and complete mediation apply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E3C-36B9-4B6B-B5CA-8C334517BB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Syntax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anguage syntax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,f ::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xpre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x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ri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un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R{e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ramed exp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enable p in 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e else f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check pe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fail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 ::= x  |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val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 ::= v  |  fail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outcom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392-B4E5-412F-9362-B3A3917AB2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raming a Term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Models the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assloader that marks the (unframed) code with its protection domain: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x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e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x.R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 f]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=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nable p in e] = enable p i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p then e else f]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test p then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] else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]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R[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ail] =  fail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386-9BE9-4F5A-847E-00917B60DB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732600" y="1447920"/>
            <a:ext cx="76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readFile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400" y="4495680"/>
            <a:ext cx="804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fail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&lt;f2 content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757-95C2-42CA-BF69-329C3D6F17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valuation context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::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Ho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Fun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v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val. Ar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nable p in E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Tagged fr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{E}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models the control stac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AB2-0EDB-4DAA-A112-5821AF4B07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336699"/>
                </a:solidFill>
                <a:latin typeface="Bitstream Vera Sans"/>
              </a:rPr>
              <a:t>sec</a:t>
            </a: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 Operational Semantic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)   v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{v/x}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enable p in v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</a:t>
            </a:r>
            <a:r>
              <a:rPr b="1" lang="en-US" sz="2800" spc="-1" strike="noStrike">
                <a:solidFill>
                  <a:srgbClr val="000000"/>
                </a:solidFill>
                <a:latin typeface="Bitstream Vera Sans Mono"/>
              </a:rPr>
              <a:t>R{v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v]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fail]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fai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e]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 Stack(E) |-- p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[test p then e else f]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E[f]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Stack(E) |-- p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    iff   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* o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4267080"/>
            <a:ext cx="2666880" cy="1143000"/>
          </a:xfrm>
          <a:prstGeom prst="wedgeRoundRectCallout">
            <a:avLst>
              <a:gd name="adj1" fmla="val -68037"/>
              <a:gd name="adj2" fmla="val -28194"/>
              <a:gd name="adj3" fmla="val 16667"/>
            </a:avLst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St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Insp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583-6EC9-4BD6-8F79-FA007743D6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4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7240" y="32004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readfile “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B05-9612-4F29-A184-2A60F50E7AA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87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fileName.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fileName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f2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3A7-A80D-4FFA-AA5B-B83F99E0E7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0" name=""/>
          <p:cNvSpPr/>
          <p:nvPr/>
        </p:nvSpPr>
        <p:spPr>
          <a:xfrm>
            <a:off x="2240280" y="1828800"/>
            <a:ext cx="46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eadFile “f2”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680" y="2819520"/>
            <a:ext cx="804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E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[]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r =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5F3-A262-4A0B-832C-56F41A8CCC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3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7CCB-8BC6-429D-AE58-ED797681E8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Evaluation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5" name=""/>
          <p:cNvSpPr/>
          <p:nvPr/>
        </p:nvSpPr>
        <p:spPr>
          <a:xfrm>
            <a:off x="549720" y="1447920"/>
            <a:ext cx="8044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 Mono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400" y="38862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3E1-790A-467A-A08E-B5EFCC93412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and C# Secur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tic Type System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Memory safety and jump safety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un-time checks for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rray index bound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Downcast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ccess control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irtual Machine / JIT compila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Bytecode verification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nforces encapsulation boundaries (e.g. private field)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arbage Collected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liminates memory management erro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ibrary suppor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ryptography, authentication, …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209680"/>
            <a:ext cx="1981080" cy="990720"/>
          </a:xfrm>
          <a:prstGeom prst="wedgeRoundRectCallout">
            <a:avLst>
              <a:gd name="adj1" fmla="val -135337"/>
              <a:gd name="adj2" fmla="val 49837"/>
              <a:gd name="adj3" fmla="val 16667"/>
            </a:avLst>
          </a:prstGeom>
          <a:solidFill>
            <a:srgbClr val="ffcc99"/>
          </a:soli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These l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70C-9CAB-46FD-907B-F41604B138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Formal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198" name=""/>
          <p:cNvSpPr/>
          <p:nvPr/>
        </p:nvSpPr>
        <p:spPr>
          <a:xfrm>
            <a:off x="-450360" y="1371600"/>
            <a:ext cx="80445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’ 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r’ =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test fileWrite(“f2”) t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… // primitive file IO (nativ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else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3640" y="4038480"/>
            <a:ext cx="675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en does stack E’ allow per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ileWrite(“f2”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 |-- fileWrite(“f2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654-006C-485B-8DBA-639A9C48094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Stack of an Eval. Context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695520" y="1419120"/>
            <a:ext cx="841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[])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v 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Stack(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enable p in E) = enable(p).Stack(E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Stack(R{E})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 = R.Stack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9160" y="3733920"/>
            <a:ext cx="561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tack(E’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Stack(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Stack([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Applet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7D0-157F-462E-8705-B7FA77F118E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1349640" y="1676520"/>
            <a:ext cx="64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-- p                 empty stack axi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25360" y="2508120"/>
            <a:ext cx="2624400" cy="947160"/>
            <a:chOff x="1125360" y="2508120"/>
            <a:chExt cx="2624400" cy="947160"/>
          </a:xfrm>
        </p:grpSpPr>
        <p:sp>
          <p:nvSpPr>
            <p:cNvPr id="206" name=""/>
            <p:cNvSpPr/>
            <p:nvPr/>
          </p:nvSpPr>
          <p:spPr>
            <a:xfrm>
              <a:off x="1125360" y="2508120"/>
              <a:ext cx="2620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    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8840" y="29764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066680" y="3657600"/>
            <a:ext cx="3200400" cy="947160"/>
            <a:chOff x="1066680" y="3657600"/>
            <a:chExt cx="3200400" cy="947160"/>
          </a:xfrm>
        </p:grpSpPr>
        <p:sp>
          <p:nvSpPr>
            <p:cNvPr id="209" name=""/>
            <p:cNvSpPr/>
            <p:nvPr/>
          </p:nvSpPr>
          <p:spPr>
            <a:xfrm>
              <a:off x="1122480" y="365760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66680" y="411480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541040" y="27432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tection domain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39520" y="387504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q   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66680" y="4952880"/>
            <a:ext cx="3200400" cy="947160"/>
            <a:chOff x="1066680" y="4952880"/>
            <a:chExt cx="3200400" cy="947160"/>
          </a:xfrm>
        </p:grpSpPr>
        <p:sp>
          <p:nvSpPr>
            <p:cNvPr id="214" name=""/>
            <p:cNvSpPr/>
            <p:nvPr/>
          </p:nvSpPr>
          <p:spPr>
            <a:xfrm>
              <a:off x="1122480" y="4952880"/>
              <a:ext cx="3082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p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-- p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6680" y="5410080"/>
              <a:ext cx="320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483080" y="51004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eck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DB9-4173-41C3-A630-402D88042A0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bstract Stack Inspect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18" name=""/>
          <p:cNvSpPr/>
          <p:nvPr/>
        </p:nvSpPr>
        <p:spPr>
          <a:xfrm>
            <a:off x="1270800" y="1676520"/>
            <a:ext cx="74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itstream Vera Sans"/>
              </a:rPr>
              <a:t>. |= p                  empty stack enables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447920" y="2514600"/>
            <a:ext cx="1903320" cy="947160"/>
            <a:chOff x="1447920" y="2514600"/>
            <a:chExt cx="1903320" cy="947160"/>
          </a:xfrm>
        </p:grpSpPr>
        <p:sp>
          <p:nvSpPr>
            <p:cNvPr id="220" name=""/>
            <p:cNvSpPr/>
            <p:nvPr/>
          </p:nvSpPr>
          <p:spPr>
            <a:xfrm>
              <a:off x="1581480" y="2514600"/>
              <a:ext cx="161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p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 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R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47920" y="298296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6320" y="2743200"/>
            <a:ext cx="33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able succeeds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66680" y="3808440"/>
            <a:ext cx="3124440" cy="1373760"/>
            <a:chOff x="1066680" y="3808440"/>
            <a:chExt cx="3124440" cy="1373760"/>
          </a:xfrm>
        </p:grpSpPr>
        <p:sp>
          <p:nvSpPr>
            <p:cNvPr id="224" name=""/>
            <p:cNvSpPr/>
            <p:nvPr/>
          </p:nvSpPr>
          <p:spPr>
            <a:xfrm>
              <a:off x="1122480" y="3808440"/>
              <a:ext cx="300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x.enable(q)</a:t>
              </a:r>
              <a:r>
                <a:rPr b="0" lang="en-US" sz="2800" spc="-1" strike="noStrike">
                  <a:solidFill>
                    <a:srgbClr val="336699"/>
                  </a:solidFill>
                  <a:latin typeface="Bitstream Vera Sans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Bitstream Vera Sans"/>
                </a:rPr>
                <a:t>|=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6680" y="426564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574880" y="403848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rrelevant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240" y="5562720"/>
            <a:ext cx="79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* Enables should occur only in trusted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1C0-B8B2-4BDC-9DF8-B8523EF072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quational Reasoning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29" name=""/>
          <p:cNvSpPr/>
          <p:nvPr/>
        </p:nvSpPr>
        <p:spPr>
          <a:xfrm>
            <a:off x="212040" y="1752480"/>
            <a:ext cx="7762680" cy="3080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iff  there exists o such that 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be an arbitrary program con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ay that   e = e’  i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r all C[], if C[e] and C[e’] are close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e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iff  C[e’]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F34-7329-42D2-BE4C-6A86B129899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Inequality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1" name=""/>
          <p:cNvSpPr/>
          <p:nvPr/>
        </p:nvSpPr>
        <p:spPr>
          <a:xfrm>
            <a:off x="-72000" y="1447920"/>
            <a:ext cx="8223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x = e in e’  =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e’)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oop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x x)          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(note:   loop 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 let z = x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(x o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laim: f ≠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C[] =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[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103120" y="4176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162560" y="2362320"/>
            <a:ext cx="261720" cy="3189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90C-A314-42AF-803D-F345C3B2D9D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5" name=""/>
          <p:cNvSpPr/>
          <p:nvPr/>
        </p:nvSpPr>
        <p:spPr>
          <a:xfrm>
            <a:off x="732240" y="1214280"/>
            <a:ext cx="8130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[f]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let z = ok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z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_.ok)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A78-3C5F-46AB-9DA2-6879E360799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Continued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7" name=""/>
          <p:cNvSpPr/>
          <p:nvPr/>
        </p:nvSpPr>
        <p:spPr>
          <a:xfrm>
            <a:off x="708120" y="1263600"/>
            <a:ext cx="8231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[g]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test p then loop else 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t z = 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            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 (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))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_.test p then loop else ok)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est p then loop else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loo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171-4D40-4A47-A134-3029DB941B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 Applicat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39" name=""/>
          <p:cNvSpPr/>
          <p:nvPr/>
        </p:nvSpPr>
        <p:spPr>
          <a:xfrm>
            <a:off x="1438560" y="1752480"/>
            <a:ext cx="6264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liminate redundant  annot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y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10320" y="4260960"/>
            <a:ext cx="672336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Decrease stack inspection co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 = test p then (enable p in e) else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79A-B17C-4EFB-BF10-F23DE50BD5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xiomatic Equivalenc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2" name=""/>
          <p:cNvSpPr/>
          <p:nvPr/>
        </p:nvSpPr>
        <p:spPr>
          <a:xfrm>
            <a:off x="225000" y="128916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an give a sound set of equation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characterize =.     Example axio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26360" y="2286000"/>
            <a:ext cx="7015320" cy="381240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s a congruence (preserved by contex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e) 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e{v/x}     (beta equival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fv(v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x.v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(enable q in e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enable q in (enable p in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R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{p}{S{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nable p in e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any,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5715000"/>
            <a:ext cx="2225520" cy="947160"/>
          </a:xfrm>
          <a:prstGeom prst="rect">
            <a:avLst/>
          </a:pr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Implies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DFB-D71C-4C76-A116-DD2AD510D29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Access Control for Applet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What level of granular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touch some parts of the file system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Applets can make network connections to some locations but not others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fferent code has different levels of trustworthines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www.l33t-hax0rs.com vs. www.java.sun.com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rusted code can call un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o ask an applet to repaint its window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Untrusted code can call trusted cod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e.g. the paint routine may load a font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How is the access control policy specified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32B-2579-40C5-8222-022F33A4EE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46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Ordinary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2666880"/>
            <a:ext cx="6629400" cy="94716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Tail-call eliminated eval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56920" y="4494240"/>
            <a:ext cx="44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Not sound in gener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But OK in special c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608-B7E1-4D93-BA0D-58CDAE1900A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Tail Call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0" name=""/>
          <p:cNvSpPr/>
          <p:nvPr/>
        </p:nvSpPr>
        <p:spPr>
          <a:xfrm>
            <a:off x="2502360" y="1447920"/>
            <a:ext cx="413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uppose R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.  T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R{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{v/x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{v/x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x.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S{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)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76240" y="4724280"/>
            <a:ext cx="7391520" cy="13737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In particular, code within a protection domain can safely make tail calls to other code in that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BA9-85C9-4867-9CD0-4DDEA3FEB87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3" name=""/>
          <p:cNvSpPr/>
          <p:nvPr/>
        </p:nvSpPr>
        <p:spPr>
          <a:xfrm>
            <a:off x="514080" y="1295280"/>
            <a:ext cx="8270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main = System 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"/>
              </a:rPr>
              <a:t>h.(h ok ok)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= </a:t>
            </a:r>
            <a:br>
              <a:rPr sz="2800"/>
            </a:b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  System[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s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c.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c (readFile s)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leak = Applet[</a:t>
            </a:r>
            <a:r>
              <a:rPr b="0" lang="en-US" sz="2800" spc="-1" strike="noStrike">
                <a:solidFill>
                  <a:srgbClr val="cc66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s.output 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8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8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8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658-A8D0-4F10-9346-32CB15B5298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Example: Higher-order Cod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5" name=""/>
          <p:cNvSpPr/>
          <p:nvPr/>
        </p:nvSpPr>
        <p:spPr>
          <a:xfrm>
            <a:off x="-31680" y="1376280"/>
            <a:ext cx="92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main(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fileHandler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 leak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System{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   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}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ystem{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_.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(readFile 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“f2”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)} ok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leak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 &lt;f2 contents&gt;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output &lt;f2 contents&gt;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System{System{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Applet{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ok</a:t>
            </a:r>
            <a:r>
              <a:rPr b="0" lang="en-US" sz="2400" spc="-1" strike="noStrike">
                <a:solidFill>
                  <a:srgbClr val="cc6600"/>
                </a:solidFill>
                <a:latin typeface="Bitstream Vera Sans Mono"/>
              </a:rPr>
              <a:t>}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Vera Sans Mo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tstream Vera Sans Mono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*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690-77E0-419B-9BAE-ECDA403DCB3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Discussion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roblem: Applets returning closures that circumvent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Possible solution: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Values of the form: R{v}  (i.e. keep track of the protection domain of the source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imilarly, one could have closures capture their current security context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Integrity analysis (i.e. where data comes from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Fournet &amp; Gordon prove some properties of strengthened versions of stack inspection.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CB4-D52B-490B-A2E8-B66101AC413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nclu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What security principles does the Java model obey?  To what extent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Open design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Economy of mechanism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Minimal trusted computing bas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ecurity as proces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Least privilege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ail-safe defaults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Psychological acceptability?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33E-D9D3-411B-A624-2D4A3DA3BBC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Outline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 Security Model   </a:t>
            </a:r>
            <a:r>
              <a:rPr b="0" lang="en-US" sz="1800" spc="-1" strike="noStrike">
                <a:solidFill>
                  <a:srgbClr val="808080"/>
                </a:solidFill>
                <a:latin typeface="Bitstream Vera Sans"/>
              </a:rPr>
              <a:t>(C# similar)</a:t>
            </a: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crete exampl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To discuss: what security principles does the Java security model obey or not obey?    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Semantics from a PL perspective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Formalizing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Reasoning about programs that use stack inspection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5B2-499A-4885-B0C7-4EC142B57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Java Security Model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133360"/>
            <a:ext cx="2057400" cy="28551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855160"/>
              <a:gd name="textAreaBottom" fmla="*/ 2754720 h 2855160"/>
            </a:gdLst>
            <a:ahLst/>
            <a:rect l="textAreaLeft" t="textAreaTop" r="textAreaRight" b="textAreaBottom"/>
            <a:pathLst>
              <a:path w="21600" h="29974">
                <a:moveTo>
                  <a:pt x="3600" y="0"/>
                </a:moveTo>
                <a:arcTo wR="3600" hR="3600" stAng="16200000" swAng="-5400000"/>
                <a:lnTo>
                  <a:pt x="0" y="26374"/>
                </a:lnTo>
                <a:arcTo wR="3600" hR="3600" stAng="10800000" swAng="-5400000"/>
                <a:lnTo>
                  <a:pt x="18000" y="29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a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b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c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e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50120" y="255276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50120" y="3691080"/>
            <a:ext cx="1643760" cy="459720"/>
          </a:xfrm>
          <a:prstGeom prst="rect">
            <a:avLst/>
          </a:prstGeom>
          <a:solidFill>
            <a:srgbClr val="dddddd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 Mono"/>
              </a:rPr>
              <a:t>Domai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25063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3643920"/>
            <a:ext cx="2674800" cy="5637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 Mono"/>
              </a:rPr>
              <a:t>Per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925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2787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362320" y="2743200"/>
            <a:ext cx="137160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286000" y="289512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358128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286000" y="3048120"/>
            <a:ext cx="144792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9625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981080"/>
            <a:ext cx="5333760" cy="3048120"/>
          </a:xfrm>
          <a:prstGeom prst="rect">
            <a:avLst/>
          </a:prstGeom>
          <a:noFill/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83160" y="15238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Securit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3720" y="15238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Bitstream Vera Sans Mono"/>
              </a:rPr>
              <a:t>VM Ru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440" y="5867280"/>
            <a:ext cx="851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Bitstream Vera Sans"/>
              </a:rPr>
              <a:t>http://java.sun.com/j2se/1.4.2/docs/guide/security/spec/security-specTOC.fm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800" y="4648320"/>
            <a:ext cx="2341800" cy="7038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Classloa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Security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E1F-DDAA-43D7-9DF8-73FA7295CE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Kinds of Permission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java.security.Permission  Class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perm = new java.io.FilePermission("/tmp/abc","read");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AllPermission 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Security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security.Unresolved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awt.AW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Fi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io.Serializable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eflect.Reflec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lang.RuntimePermission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N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java.net.SocketPermission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0B3-79CD-4915-955B-FF14DD172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itstream Vera Sans"/>
              </a:rPr>
              <a:t>Code Trustworthiness</a:t>
            </a:r>
            <a:endParaRPr b="1" lang="en-US" sz="3600" spc="-1" strike="noStrike">
              <a:solidFill>
                <a:srgbClr val="336699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solidFill>
            <a:srgbClr val="eaeaea"/>
          </a:solidFill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rotection domain the code is in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Source (e.g. local or applet)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# calls this “evidence based”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How does one decide what permissions a protection domain has?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ans"/>
              </a:rPr>
              <a:t>Configurable – administrator file or command line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tstream Vera Sans"/>
              </a:rPr>
              <a:t>Enforced by the classloader</a:t>
            </a:r>
            <a:endParaRPr b="0" lang="en-US" sz="2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dancewic - CSFW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409-6EB0-4C16-A6D9-F5EB003C1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19:38:53Z</dcterms:created>
  <dc:creator>Steve Zdancewic</dc:creator>
  <dc:description/>
  <dc:language>en-US</dc:language>
  <cp:lastModifiedBy>CS</cp:lastModifiedBy>
  <dcterms:modified xsi:type="dcterms:W3CDTF">2004-10-13T16:01:12Z</dcterms:modified>
  <cp:revision>60</cp:revision>
  <dc:subject/>
  <dc:title>Observational Determinism for  Concurrent Program Security</dc:title>
</cp:coreProperties>
</file>