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6B9-9932-49BA-9DEA-565F4B52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1A1-0E68-4C73-87AC-33FB543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0CF-D151-4623-B04E-CC51A13B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7AC-DC60-441A-9509-DDC4D392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43E-0D2F-4730-AB51-695279A4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0AD-5647-4121-9EF4-7771140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7ED-B701-4124-9EF4-89647143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940-4961-4760-9B2B-FC8006F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5F5-0AC6-40F8-915B-59DFA19C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0E0-81DF-4F00-AD41-D71CA69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720-0361-44A2-9FCA-570740E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40A-C0D9-410E-8A58-63ABB10B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091-DC79-4F23-B6D2-1108128BCCCD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410-EE6B-4BFD-AF18-18305ED677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567-9BF5-46CB-9299-082E5A13D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CE9-6DF5-4604-93D5-8DE3271D92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D60-06D2-464A-8CD0-128011C6DE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A46-A790-420A-8E2F-47E06AE79A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“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EB5-3346-4D1E-9012-BE19856D56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BE3-3976-4D37-B2A1-4F06073F4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9F6-39F3-45B3-B4AB-01AEB9CD04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5CE-5C05-4F61-A203-238051AA2C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0B6-86A6-40EF-968C-B76AEE9EA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65F-3E86-4C0C-B58A-1B28A9360B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0F1-3F41-461A-BD19-6E36C7FEB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F1F-407D-41A0-996E-4BE555BE2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BCF-9692-4D87-83ED-8C8D5132B6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0F1-C722-4810-9A76-9A0DE20C0B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 (information flow would help he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F71-1E32-441D-A225-E77EC55F94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390-BC14-4759-A4D7-3216D2303E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7AA-5BE8-434D-8AE3-B83BE2BF0C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C61-222B-4E9A-A407-90C71E778D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e Java Stack Inspection using ABLP log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d many more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E5B-085B-43DF-9F72-E1616A1A29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376-6276-406F-8CE0-E733BBBB01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BAB-2A86-444E-8CD6-3445D388A1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D88-4C75-4C67-92F4-EC4BEDF4C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612-11C4-4703-BF1B-04ABDE5949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CAE-0AC7-4546-80E6-560DE873FF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363-5BA7-4622-BD52-433F190F45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011-B45A-481E-8443-84D14FDF0A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228-BFEA-479C-B0A7-61305C63B5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BE4-EF3D-4E60-A8BB-F6D7B08747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A24-45FB-465C-B040-E891B076A3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0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E58-6EA8-424A-8187-52756AF1C8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68A-2B5D-4D86-BDCE-1A877A9B09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C3E-B09D-4D80-B703-08CA930588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FE2-D0EE-460F-A4E5-E2EFF18A1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8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39B-FB9A-4FB1-8B27-1516B5F94F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183-08FA-4B11-B933-CBD63C2A34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206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0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CDD-6A5D-4283-BBEF-82F874EC91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66E-0914-4A26-BF87-5EF4C1A525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FDD-21E2-499E-BE7E-4E6DBCEA7F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x = e in e’  =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’)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03120" y="4176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720-D6C1-460D-AC97-2905469310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5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441-0549-4989-9374-AB299B3F985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696-2589-46D8-9E90-74EE6F6AFE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9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48C-00A9-4470-A312-073C406533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26360" y="2286000"/>
            <a:ext cx="70153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57150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8A4-7619-44E8-A5F8-FEB74588C0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8B2-792A-4134-834C-9EC8966F2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011-9BE1-478B-A090-BF9684BF7C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3BB-623D-4E58-9747-836F870AC65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509-9D5C-4A7C-99C2-9369893A29C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5" name=""/>
          <p:cNvSpPr/>
          <p:nvPr/>
        </p:nvSpPr>
        <p:spPr>
          <a:xfrm>
            <a:off x="-3168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D54-7F79-4C6C-A0F6-1FFD9A4292F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D6E-62DA-4785-BF2A-1572D07562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C6F-9245-46AB-9677-891DAD62B2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43B-920C-42EC-9815-69E3C5E51B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821-4202-44A6-8074-C9087E8D79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388-630A-408A-A4AA-0E42EA2E9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AD9-C315-4216-BB50-40870C263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3T16:01:12Z</dcterms:modified>
  <cp:revision>60</cp:revision>
  <dc:subject/>
  <dc:title>Observational Determinism for  Concurrent Program Security</dc:title>
</cp:coreProperties>
</file>